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52DD-369F-48D6-A099-1E03728177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ч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жилище, убежище, р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учение,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упомянуто Э. Геккелем – наука об отношениях организмов с окружающей 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246C-82AC-45DF-AED5-03658E1471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област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ая экология (изучает воздействие предприятий на окружающую сред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E41E-933A-4821-8F7D-7D06C5B6B7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рмины подчеткивают связь химии и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FEEE-A821-4C6A-AAB5-5EC44FB99C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химические основы экологических явлений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9521-81CD-4055-8224-7078D23C0D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0ECA-E804-479B-9836-8EFA979B2D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F4C3-91AE-4A7A-BB79-682726EFAD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843A-EC6B-4551-BBBE-861EBF52E6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и разнообразные воздействия , которые разрушают естественн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2617-8778-4820-971F-54C983DB68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ы естественных загрязн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тря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иче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пож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ое самозагрязнение водоемов (цвет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о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362D-907E-4BCA-A758-AAB630C2B7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ткосрочное изменение состава окружающей среды в результате деятельности вулка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азообразных веществ %о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7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1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+HCl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r 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5065-6750-4942-8AF7-65F02415AC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ыбросы –пыль, д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а, сажа, оксиды серы, азота,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, 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g, Cd, Pb, Cu, Z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A26B-298D-4D55-B395-D92C6E637C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Аг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2991-F239-4CAC-B543-16DB8EF58E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1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4010-FA5D-4A9D-87F7-A8DAF71FD1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ассификация элементов в живых организмах по системе В.И. Вернадск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держанию % м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лементы – более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- 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, S, Cl, Na, Mg – 0,23-0,0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0183-9BFE-44EC-96DA-FA22E2C52D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акро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, H, O, N, P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основу биомолекулы клетки: белкиб нуклеиновые кислоты, липиды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иогенные эле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2F8E-9D3D-4848-9A02-916CB2310F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екоторыхэлементов в органах, тканях и биожидкостя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, Mg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ная жидкост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Са,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сы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, As,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, Li, Na, Ca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Se, Mo, Zn, Ca, Mg, K,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E6FD-DF5F-4ACA-A916-6EA8751386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способы защиты от загряз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ы серы и азота – кисл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ейтрализуют веществами основного характера – известь Са(ОН)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ксид маг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O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×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NO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2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окис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=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=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F4E9-3EA8-46CA-9AA8-8E5C33370B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«полиэтиленовой пле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ают темпы сжигания топлива, растет количество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ызывает повышение средней температуры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7906-6CBC-4891-8AEB-77369BE255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которой степени аэрозоли снижают 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 необходимо снижать поступление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 приемлемых путей решения этой проблемы пока не найд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398B-3FB0-4588-82F4-B4BAB5AE04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BAAA-33FE-411B-BAB6-3B3FFF884A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53E9-6C99-4ECC-A81B-01F5721FB9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экологии в естествозн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21F3-6453-4F4D-B3B2-C1EC970AAD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FCEF-95BE-422D-B543-AA46D78428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эта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Н. Сукачев-1942г понятие биогеоцен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 учение о би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4 г. Им введено понятие но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0-1950 гг экология превращается в точную нау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7877-68C6-42DC-8A46-6B91C590A2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4 г. Г. Гаага (Нидерлан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онгресс экологов, основано Международное общество экологов (ИНТ-ЭКО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 В России принят Закон об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ABAC-9795-415A-B4B8-37B90B1B12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ь основных исторических эта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г.г.-термин экология применяется к исследованию сообществ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0 г.г. – объект пристального изучения глобальная экосистема – би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стоящее время – этап признания ответственности общества за судьбу всей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0BB9-7FFD-468B-A531-DE60972415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4EC-7B52-4A8C-8718-F52CB45C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B34-31B1-4C2A-A959-36B36C25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137-15CF-4C1C-ACDB-BF996085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344-42B4-464A-8B7E-BB0A0C2F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F76-726C-4B65-BE1C-AA381C23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489-2A62-41CA-9416-0AE2AB6E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7EF-648D-431D-8F63-D01BE5A2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97A-6420-4718-99BA-4D110B09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2CA-920F-408A-B968-FC1FFC3D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50E-90A1-45DE-8892-9D45AC08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BE0-F860-46DD-BAF8-4554C0C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95E-B3B2-44AA-8571-AADC7F6E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8E8C-6647-4D52-B803-B7EBF372C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, жилище, убежище,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учение, 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упомянуто Э. Геккелем – наука об отношениях организмов с окружающей 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област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ая экология (изучает воздействие предприятий на окружающую сре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термины подчеткивают связь химии и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, изучающая химические основы экологических явлений и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численные и разнообразные воздействия , которые разрушают естествен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естественных загряз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лкан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ое самозагрязнение водоемов (цвет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рочное изменение состава окружающей среды в результате деятельности вул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азообразных веществ %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ной пар – 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+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+HCl+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r 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виды загряз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ные выбросы –пыль, д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, сажа, оксиды серы, азота,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,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g, Cd, Pb, Cu, 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ьер Аг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1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ехногенное влияние на литосферу"/>
          <p:cNvPicPr/>
          <p:nvPr/>
        </p:nvPicPr>
        <p:blipFill>
          <a:blip r:embed="rId1"/>
          <a:stretch/>
        </p:blipFill>
        <p:spPr>
          <a:xfrm>
            <a:off x="2038320" y="1517760"/>
            <a:ext cx="5067360" cy="382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элементов в живых организмах по системе В.И. Верна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одержанию %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роэлементы – более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-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S, Cl, Na, Mg – 0,23-0,0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акро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 H, O, N, P, 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ют основу биомолекулы клетки: белкиб нуклеиновые кислоты, липиды, угле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огенные элемен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некоторыхэлементов в органах, тканях и биожидкостях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ная жидк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– Са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, As,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, Li, Na, Ca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Se, Mo, Zn, Ca, Mg, K,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которые способы защиты от загрязн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ы серы и азота – кисл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нейтрализуют веществами основного характера – известь Са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ксид маг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O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NO+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=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 «полиэтиленовой пле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т темпы сжигания топлива, растет количество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тм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ызывает повышение средней температур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екоторой степени аэрозоли снижают парниковый 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не менее необходимо снижать поступление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 приемлемых путей решения этой проблемы пока не найд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элементы менее 1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, Cu, As, F, Br, Sr, Ba, C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экологии в естествозн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12"/>
          <p:cNvPicPr/>
          <p:nvPr/>
        </p:nvPicPr>
        <p:blipFill>
          <a:blip r:embed="rId1"/>
          <a:stretch/>
        </p:blipFill>
        <p:spPr>
          <a:xfrm>
            <a:off x="539640" y="1685880"/>
            <a:ext cx="8136000" cy="462276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эта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Н. Сукачев-1942г понятие биогеоце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учение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4 г. Им введено понятие но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0-1950 гг экология превращается в точную на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4 г. Г. Гаага (Нидерлан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конгресс экологов, основано Международное общество экологов (ИНТ-ЭК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2 г. В России принят Закон об охране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основных историчес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0 г.г.-термин экология применяется к исследованию сообществ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0 г.г. – объект пристального изучения глобальная экосистема –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стоящее время – этап признания ответственности общества за судьбу всей би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40:03Z</dcterms:created>
  <dc:creator>Маргарита</dc:creator>
  <dc:description/>
  <dc:language>en-US</dc:language>
  <cp:lastModifiedBy>LEGION</cp:lastModifiedBy>
  <dcterms:modified xsi:type="dcterms:W3CDTF">2015-05-06T08:10:25Z</dcterms:modified>
  <cp:revision>4</cp:revision>
  <dc:subject/>
  <dc:title>Экология</dc:title>
</cp:coreProperties>
</file>