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B96A-E8E9-4EC9-BE47-F1642DDB61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ч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жилище, убежище, р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учение,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упомянуто Э. Геккелем – наука об отношениях организмов с окружающей 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08B6-05A2-47FA-949B-4C50CF934B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област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ая экология (изучает воздействие предприятий на окружающую сред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725B-2AAE-42A5-99CB-F6D32538DB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рмины подчеткивают связь химии и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C081-03A7-4BAF-BAF3-7CD1C1732B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химические основы экологических явлений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EB16-5631-4E92-ADB0-99433591C6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17D7-D013-4817-AA2B-8DEDE328E0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C2A3-747E-477B-AE9E-94589A25F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6DBF-A194-48F4-8B46-9E4687F339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и разнообразные воздействия , которые разрушают естественн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25A-7311-4C83-8DA9-CF6946DF06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ы естественных загрязн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тря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иче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пож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ое самозагрязнение водоемов (цвет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о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B8E0-3B68-4442-A126-9279BE89E4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ткосрочное изменение состава окружающей среды в результате деятельности вулка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азообразных веществ %о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7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1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+HCl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r 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FCA7-357B-4652-A7E0-10230BFA55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ыбросы –пыль, д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а, сажа, оксиды серы, азота,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, 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g, Cd, Pb, Cu, Z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C88C-3C5E-4AB9-B522-EA7115412A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Аг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7242-A99C-45A7-A472-18044180EF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1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12DC-035F-4204-B985-A93C81E384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ассификация элементов в живых организмах по системе В.И. Вернадск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держанию % м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лементы – более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- 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, S, Cl, Na, Mg – 0,23-0,0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2FC7-1D1F-4758-B269-8520057187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акро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, H, O, N, P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основу биомолекулы клетки: белкиб нуклеиновые кислоты, липиды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иогенные эле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61D5-0B78-4995-A3D7-F15EC86CF8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екоторыхэлементов в органах, тканях и биожидкостя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, Mg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ная жидкост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Са,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сы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, As,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, Li, Na, Ca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Se, Mo, Zn, Ca, Mg, K,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8E8A-D2B4-492D-95D2-76A6324FFB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способы защиты от загряз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ы серы и азота – кисл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ейтрализуют веществами основного характера – известь Са(ОН)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ксид маг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O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×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NO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2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окис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=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=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3917-3C51-47CE-BB9E-CA495919C4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«полиэтиленовой пле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ают темпы сжигания топлива, растет количество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ызывает повышение средней температуры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31DD-F7F9-46E2-80B0-BD8E251AFB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которой степени аэрозоли снижают 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 необходимо снижать поступление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 приемлемых путей решения этой проблемы пока не найд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EDD4-A63F-42F5-B3A5-4B20348896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3ED6-458A-4200-A6B8-CB0CC76963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0EE8-8DC5-49EA-81B0-5C8E9F4606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экологии в естествозн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D07D-5710-44CE-96B6-A0D3A43B74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A860-CCE8-433E-A10C-2BD98DC73D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эта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Н. Сукачев-1942г понятие биогеоцен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 учение о би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4 г. Им введено понятие но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0-1950 гг экология превращается в точную нау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CC5B-0FBA-4671-ACF9-D19E53A36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4 г. Г. Гаага (Нидерлан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онгресс экологов, основано Международное общество экологов (ИНТ-ЭКО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 В России принят Закон об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C05D-A487-490C-A844-4D1E0022A3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ь основных исторических эта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г.г.-термин экология применяется к исследованию сообществ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0 г.г. – объект пристального изучения глобальная экосистема – би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стоящее время – этап признания ответственности общества за судьбу всей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DB80-43CB-4936-AB96-2AABF4549E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E63-5B2F-41CC-9B79-523AE71B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6B4-AEC6-412E-AD3E-1F3F033D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474-3675-4C4B-98D9-14DB784F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8BF-806D-4816-A692-2F424E41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7D5-53F4-4494-A0A1-15108127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A35-2748-4F3C-B63C-79BD21F5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490-618C-49F1-86D8-7E534695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45F-815B-4816-8642-9D81A249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B1F-2B15-4A6A-BD88-9BEFC80D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997-B558-41C4-A24B-2653291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E20-94B6-4719-B812-D1BC85B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1BA-A3FB-4C47-A073-5EF21D4A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9DE2-7F56-4809-9AE6-D4A1612BF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, жилище, убежище,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учение, 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упомянуто Э. Геккелем – наука об отношениях организмов с окружающей 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област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ая экология (изучает воздействие предприятий на окружающую сре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термины подчеткивают связь химии и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, изучающая химические основы экологических явлений и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численные и разнообразные воздействия , которые разрушают естествен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естественных загряз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лкан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ое самозагрязнение водоемов (цвет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рочное изменение состава окружающей среды в результате деятельности вул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азообразных веществ %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ной пар – 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+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+HCl+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r 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виды загряз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ные выбросы –пыль, д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, сажа, оксиды серы, азота,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,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g, Cd, Pb, Cu, 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ьер Аг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1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ехногенное влияние на литосферу"/>
          <p:cNvPicPr/>
          <p:nvPr/>
        </p:nvPicPr>
        <p:blipFill>
          <a:blip r:embed="rId1"/>
          <a:stretch/>
        </p:blipFill>
        <p:spPr>
          <a:xfrm>
            <a:off x="2038320" y="1517760"/>
            <a:ext cx="5067360" cy="382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элементов в живых организмах по системе В.И. Верна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одержанию %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роэлементы – более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-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S, Cl, Na, Mg – 0,23-0,0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акро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 H, O, N, P, 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ют основу биомолекулы клетки: белкиб нуклеиновые кислоты, липиды, угле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огенные элемен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некоторыхэлементов в органах, тканях и биожидкостях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ная жидк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– Са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, As,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, Li, Na, Ca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Se, Mo, Zn, Ca, Mg, K,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которые способы защиты от загрязн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ы серы и азота – кисл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нейтрализуют веществами основного характера – известь Са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ксид маг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O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NO+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=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 «полиэтиленовой пле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т темпы сжигания топлива, растет количество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тм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ызывает повышение средней температур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екоторой степени аэрозоли снижают парниковый 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не менее необходимо снижать поступление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 приемлемых путей решения этой проблемы пока не найд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элементы менее 1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, Cu, As, F, Br, Sr, Ba, C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экологии в естествозн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12"/>
          <p:cNvPicPr/>
          <p:nvPr/>
        </p:nvPicPr>
        <p:blipFill>
          <a:blip r:embed="rId1"/>
          <a:stretch/>
        </p:blipFill>
        <p:spPr>
          <a:xfrm>
            <a:off x="539640" y="1685880"/>
            <a:ext cx="8136000" cy="462276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эта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Н. Сукачев-1942г понятие биогеоце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учение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4 г. Им введено понятие но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0-1950 гг экология превращается в точную на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4 г. Г. Гаага (Нидерлан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конгресс экологов, основано Международное общество экологов (ИНТ-ЭК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2 г. В России принят Закон об охране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основных историчес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0 г.г.-термин экология применяется к исследованию сообществ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0 г.г. – объект пристального изучения глобальная экосистема –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стоящее время – этап признания ответственности общества за судьбу всей би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40:03Z</dcterms:created>
  <dc:creator>Маргарита</dc:creator>
  <dc:description/>
  <dc:language>en-US</dc:language>
  <cp:lastModifiedBy>LEGION</cp:lastModifiedBy>
  <dcterms:modified xsi:type="dcterms:W3CDTF">2015-05-06T08:10:25Z</dcterms:modified>
  <cp:revision>4</cp:revision>
  <dc:subject/>
  <dc:title>Экология</dc:title>
</cp:coreProperties>
</file>