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037F-47E4-48C5-8D9F-A0C4D0F795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ч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жилище, убежище, р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учение,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упомянуто Э. Геккелем – наука об отношениях организмов с окружающей 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3E3B-35A6-49AD-9A61-C99A144038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област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ая экология (изучает воздействие предприятий на окружающую сред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334E-0765-4D2B-B6A5-F2C7C8F23D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рмины подчеткивают связь химии и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6D4B-13CB-4372-B8EB-AA756B4CD6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химические основы экологических явлений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6DE5-8EEB-4BF2-B4E6-F99CC2F445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5DD0-7247-49E0-92D7-2B7C434A7D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7C92-18E7-481A-9BFC-356FD7F1BE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0C6-354B-4EC1-BD6F-42D18DD249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и разнообразные воздействия , которые разрушают естественн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0A37-C992-4044-BB49-4C01904F94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ы естественных загрязн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тря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иче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пож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ое самозагрязнение водоемов (цвет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о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A211-B1BC-4193-96B1-043D1B62FD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ткосрочное изменение состава окружающей среды в результате деятельности вулка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азообразных веществ %о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7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1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+HCl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r 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FB3E-7E58-4198-8F2F-D42DA4BF29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ыбросы –пыль, д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а, сажа, оксиды серы, азота,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, 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g, Cd, Pb, Cu, Z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66CB-5EA8-4F1F-8889-47BF1C404A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Аг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C150-B67F-4150-93C3-5D9F79A773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1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0F3E-4B73-4E2E-A42B-50CE1F9D2E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ассификация элементов в живых организмах по системе В.И. Вернадск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держанию % м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лементы – более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- 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, S, Cl, Na, Mg – 0,23-0,0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6EAE-325C-4A34-829F-43569987B9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акро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, H, O, N, P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основу биомолекулы клетки: белкиб нуклеиновые кислоты, липиды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иогенные эле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B9CC-0531-4038-9269-627D2CEB89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екоторыхэлементов в органах, тканях и биожидкостя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, Mg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ная жидкост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Са,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сы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, As,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, Li, Na, Ca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Se, Mo, Zn, Ca, Mg, K,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2262-2AEC-4E2F-B0B1-CA759E4BDC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способы защиты от загряз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ы серы и азота – кисл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ейтрализуют веществами основного характера – известь Са(ОН)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ксид маг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O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×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NO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2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окис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=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=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D0AF-C918-475E-9FBD-6BA6A0ECDA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«полиэтиленовой пле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ают темпы сжигания топлива, растет количество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ызывает повышение средней температуры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11A1-337E-49F8-A1BE-9F598A195C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которой степени аэрозоли снижают 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 необходимо снижать поступление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 приемлемых путей решения этой проблемы пока не найд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9401-C637-496C-896D-9098389D78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65C3-AAE9-4219-BCBB-466BF098DD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3EB4-5D48-431F-AC3C-2A11ABB33B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экологии в естествозн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38B1-BC59-4137-8E7C-BEDF87EF4B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B0D9-3ABD-4481-829C-06A5C553A8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эта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Н. Сукачев-1942г понятие биогеоцен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 учение о би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4 г. Им введено понятие но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0-1950 гг экология превращается в точную нау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1EA4-ACB3-4A1D-B8C1-73B4997A5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4 г. Г. Гаага (Нидерлан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онгресс экологов, основано Международное общество экологов (ИНТ-ЭКО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 В России принят Закон об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B6F5-226F-4BAA-AF0D-B256E6C613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ь основных исторических эта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г.г.-термин экология применяется к исследованию сообществ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0 г.г. – объект пристального изучения глобальная экосистема – би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стоящее время – этап признания ответственности общества за судьбу всей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2BA7-44AD-4466-B1A9-3ED3C85A5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DDC-8EA9-4AD7-8F74-A86766DA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760-33B1-46E4-A8C7-DD363148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7F7-44E7-4AAF-8F9F-17987DAD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8C7-5B4B-402F-A702-23805D25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842-E1BF-48F9-968F-7CCA49AF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7F1-44A5-446C-922C-F2F48ABA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62E-7277-4CE3-86E9-F28FBDFC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8DD-9FC3-46C3-9394-76CFBF28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E2C-E57D-4EF3-AD57-61702E97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E34-201A-4D86-8A6F-A6091BDC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91E-DA0F-454A-803E-CF4DFBA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0E8-2203-4A3C-BEF5-60AD46E8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91A9-939A-4818-A174-9A1E0FAD1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, жилище, убежище,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учение, 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упомянуто Э. Геккелем – наука об отношениях организмов с окружающей 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област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ая экология (изучает воздействие предприятий на окружающую сре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термины подчеткивают связь химии и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, изучающая химические основы экологических явлений и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численные и разнообразные воздействия , которые разрушают естествен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естественных загряз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лкан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ое самозагрязнение водоемов (цвет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рочное изменение состава окружающей среды в результате деятельности вул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азообразных веществ %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ной пар – 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+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+HCl+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r 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виды загряз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ные выбросы –пыль, д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, сажа, оксиды серы, азота,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,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g, Cd, Pb, Cu, 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ьер Аг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1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ехногенное влияние на литосферу"/>
          <p:cNvPicPr/>
          <p:nvPr/>
        </p:nvPicPr>
        <p:blipFill>
          <a:blip r:embed="rId1"/>
          <a:stretch/>
        </p:blipFill>
        <p:spPr>
          <a:xfrm>
            <a:off x="2038320" y="1517760"/>
            <a:ext cx="5067360" cy="382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элементов в живых организмах по системе В.И. Верна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одержанию %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роэлементы – более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-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S, Cl, Na, Mg – 0,23-0,0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акро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 H, O, N, P, 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ют основу биомолекулы клетки: белкиб нуклеиновые кислоты, липиды, угле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огенные элемен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некоторыхэлементов в органах, тканях и биожидкостях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ная жидк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– Са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, As,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, Li, Na, Ca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Se, Mo, Zn, Ca, Mg, K,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которые способы защиты от загрязн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ы серы и азота – кисл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нейтрализуют веществами основного характера – известь Са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ксид маг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O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NO+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=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 «полиэтиленовой пле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т темпы сжигания топлива, растет количество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тм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ызывает повышение средней температур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екоторой степени аэрозоли снижают парниковый 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не менее необходимо снижать поступление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 приемлемых путей решения этой проблемы пока не найд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элементы менее 1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, Cu, As, F, Br, Sr, Ba, C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экологии в естествозн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12"/>
          <p:cNvPicPr/>
          <p:nvPr/>
        </p:nvPicPr>
        <p:blipFill>
          <a:blip r:embed="rId1"/>
          <a:stretch/>
        </p:blipFill>
        <p:spPr>
          <a:xfrm>
            <a:off x="539640" y="1685880"/>
            <a:ext cx="8136000" cy="462276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эта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Н. Сукачев-1942г понятие биогеоце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учение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4 г. Им введено понятие но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0-1950 гг экология превращается в точную на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4 г. Г. Гаага (Нидерлан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конгресс экологов, основано Международное общество экологов (ИНТ-ЭК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2 г. В России принят Закон об охране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основных историчес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0 г.г.-термин экология применяется к исследованию сообществ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0 г.г. – объект пристального изучения глобальная экосистема –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стоящее время – этап признания ответственности общества за судьбу всей би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40:03Z</dcterms:created>
  <dc:creator>Маргарита</dc:creator>
  <dc:description/>
  <dc:language>en-US</dc:language>
  <cp:lastModifiedBy>LEGION</cp:lastModifiedBy>
  <dcterms:modified xsi:type="dcterms:W3CDTF">2015-05-06T08:10:25Z</dcterms:modified>
  <cp:revision>4</cp:revision>
  <dc:subject/>
  <dc:title>Экология</dc:title>
</cp:coreProperties>
</file>