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30B5-9F6D-4707-ADE4-3ECD7D4179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ч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, жилище, убежище, род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учение,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упомянуто Э. Геккелем – наука об отношениях организмов с окружающей 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F526-B733-4154-970F-6B2B664A24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област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ая экология (изучает воздействие предприятий на окружающую сред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74FE-1DFF-43DC-BDF8-46661CE408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рмины подчеткивают связь химии и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A58B-FA28-4063-8EF9-4D001A0AB4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химические основы экологических явлений 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4B51-4FC9-4D44-B26E-B335F13C63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D98E-365C-4E19-A3AA-B16833EE22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D8ED-3002-46BF-A74D-5508F5EF41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93A5-9E51-45BC-B856-BDEF1B1957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и разнообразные воздействия , которые разрушают естественн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52FB-E09B-42BE-8F4B-46E2A9C3F6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меры естественных загрязн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тря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улканиче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пож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ое самозагрязнение водоемов (цвет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о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1D69-0572-404C-90C3-409B9E44EE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раткосрочное изменение состава окружающей среды в результате деятельности вулка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азообразных веществ %о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7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1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+HCl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r 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E524-6BEC-43C9-A20E-4C51C7AFB8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ыбросы –пыль, ды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а, сажа, оксиды серы, азота,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, 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g, Cd, Pb, Cu, Z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2222-C531-42AA-BBBC-A0B37A84B0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Аг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11EF-766D-478D-8E3F-8DD5A37169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1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6082-FD49-41D9-83F5-302216D5F8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лассификация элементов в живых организмах по системе В.И. Вернадск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держанию % м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лементы – более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- 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, S, Cl, Na, Mg – 0,23-0,0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96AA-7A0A-4E94-AD99-AD060F58C0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акро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, H, O, N, P,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основу биомолекулы клетки: белкиб нуклеиновые кислоты, липиды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иогенные эле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A347-10CA-479C-A130-07F8D5A162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екоторыхэлементов в органах, тканях и биожидкостя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, Mg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ная жидкост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Са,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сы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, As,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, Li, Na, Ca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Se, Mo, Zn, Ca, Mg, K,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23DC-5F38-45F6-8A94-4559A0A64C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ые способы защиты от загряз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ы серы и азота – кисл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ейтрализуют веществами основного характера – известь Са(ОН)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ксид маг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O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×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4NO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2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окис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=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=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735D-0CF9-46EB-87A1-4D11DB0207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«полиэтиленовой пле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ают темпы сжигания топлива, растет количество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ызывает повышение средней температуры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04BB-EB16-41DD-95ED-1B17C3AC5D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которой степени аэрозоли снижают 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 необходимо снижать поступление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 приемлемых путей решения этой проблемы пока не найд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D46D-8E9E-428E-B44C-CF2A4683C0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127A-B6CA-4921-AF86-D59594766A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C452-E605-45FA-854A-05761E672F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экологии в естествозн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37A4-CE2A-424B-A3E0-E5AAE40EA0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C43B-E19F-42F4-91FD-3EAE8E71A9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эта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Н. Сукачев-1942г понятие биогеоцен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 учение о би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4 г. Им введено понятие но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0-1950 гг экология превращается в точную нау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E89A-094A-4538-8147-0F7E538FB8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4 г. Г. Гаага (Нидерлан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онгресс экологов, основано Международное общество экологов (ИНТ-ЭКО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 В России принят Закон об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C45E-6179-4F42-8DCB-3AF3575C53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ь основных исторических этап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г.г.-термин экология применяется к исследованию сообществ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0 г.г. – объект пристального изучения глобальная экосистема – би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стоящее время – этап признания ответственности общества за судьбу всей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2650-8D23-408F-BAFE-23997E39CE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BF2-FE8B-4991-9171-B7B99F56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B4B-A2B1-49D5-8867-70733FC8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E50-8654-4B04-97B2-5AC94C72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0B9-341B-4C01-8C91-B7825206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151-EB00-40D4-849B-C77C3341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D50-EAD7-4B8D-8F6E-5478AC87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D5B-EA65-421E-8782-D4C30646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DA9-3100-4676-93E1-A9AD3F37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93C-4251-4D17-9EBB-B45A7E86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452-E5D0-467E-B8B3-97B6FCBF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625-B3FF-4CF3-9230-BE7F703A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6CA-0BC8-479B-BB7B-46478161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B4D3-BE0A-47EB-A5A0-5B6109A80C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, жилище, убежище, 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, учение, на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ервые упомянуто Э. Геккелем – наука об отношениях организмов с окружающей 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области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шленная экология (изучает воздействие предприятий на окружающую сред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термины подчеткивают связь химии и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ая хи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, изучающая химические основы экологических явлений и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численные и разнообразные воздействия , которые разрушают естественн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естественных загряз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лкан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ческое самозагрязнение водоемов (цвет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срочное изменение состава окружающей среды в результате деятельности вул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азообразных веществ %о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яной пар – 7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+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+HCl+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r 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виды загряз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дные выбросы –пыль, д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, сажа, оксиды серы, азота,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,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g, Cd, Pb, Cu, 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П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ьер Аг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ь 1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техногенное влияние на литосферу"/>
          <p:cNvPicPr/>
          <p:nvPr/>
        </p:nvPicPr>
        <p:blipFill>
          <a:blip r:embed="rId1"/>
          <a:stretch/>
        </p:blipFill>
        <p:spPr>
          <a:xfrm>
            <a:off x="2038320" y="1517760"/>
            <a:ext cx="5067360" cy="382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элементов в живых организмах по системе В.И. Верна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одержанию % м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роэлементы – более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-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-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, S, Cl, Na, Mg – 0,23-0,0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акро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, H, O, N, P, 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ляют основу биомолекулы клетки: белкиб нуклеиновые кислоты, липиды, угле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иогенные элемент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некоторыхэлементов в органах, тканях и биожидкостях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зг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ная жидкост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 – Са,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к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осы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, As,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в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, Li, Na, Ca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Se, Mo, Zn, Ca, Mg, K,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которые способы защиты от загрязне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сиды серы и азота – кисл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нейтрализуют веществами основного характера – известь Са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ксид маг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O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NO+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2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ок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=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никовый эфф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 «полиэтиленовой пле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ают темпы сжигания топлива, растет количество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тмосф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вызывает повышение средней температуры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некоторой степени аэрозоли снижают парниковый эфф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 не менее необходимо снижать поступление 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тмосф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и приемлемых путей решения этой проблемы пока не найд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элементы менее 10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, Cu, As, F, Br, Sr, Ba, C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то экологии в естествозн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mage12"/>
          <p:cNvPicPr/>
          <p:nvPr/>
        </p:nvPicPr>
        <p:blipFill>
          <a:blip r:embed="rId1"/>
          <a:stretch/>
        </p:blipFill>
        <p:spPr>
          <a:xfrm>
            <a:off x="539640" y="1685880"/>
            <a:ext cx="8136000" cy="462276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эта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Н. Сукачев-1942г понятие биогеоце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 Вернадский учение о био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4 г. Им введено понятие но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0-1950 гг экология превращается в точную на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74 г. Г. Гаага (Нидерланд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й конгресс экологов, основано Международное общество экологов (ИНТ-ЭК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92 г. В России принят Закон об охране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ять основных исторических этап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20 г.г.-термин экология применяется к исследованию сообществ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70 г.г. – объект пристального изучения глобальная экосистема – 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астоящее время – этап признания ответственности общества за судьбу всей би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9:40:03Z</dcterms:created>
  <dc:creator>Маргарита</dc:creator>
  <dc:description/>
  <dc:language>en-US</dc:language>
  <cp:lastModifiedBy>LEGION</cp:lastModifiedBy>
  <dcterms:modified xsi:type="dcterms:W3CDTF">2015-05-06T08:10:25Z</dcterms:modified>
  <cp:revision>4</cp:revision>
  <dc:subject/>
  <dc:title>Экология</dc:title>
</cp:coreProperties>
</file>