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4.jpeg" ContentType="image/jpeg"/>
  <Override PartName="/ppt/media/image53.jpeg" ContentType="image/jpeg"/>
  <Override PartName="/ppt/media/image48.jpeg" ContentType="image/jpeg"/>
  <Override PartName="/ppt/media/image46.wmf" ContentType="image/x-wmf"/>
  <Override PartName="/ppt/media/image6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62.wmf" ContentType="image/x-wmf"/>
  <Override PartName="/ppt/media/image24.jpeg" ContentType="image/jpeg"/>
  <Override PartName="/ppt/media/image22.png" ContentType="image/png"/>
  <Override PartName="/ppt/media/image3.png" ContentType="image/png"/>
  <Override PartName="/ppt/media/image17.jpeg" ContentType="image/jpeg"/>
  <Override PartName="/ppt/media/image49.jpeg" ContentType="image/jpeg"/>
  <Override PartName="/ppt/media/image47.png" ContentType="image/pn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67.jpeg" ContentType="image/jpeg"/>
  <Override PartName="/ppt/media/image1.jpeg" ContentType="image/jpeg"/>
  <Override PartName="/ppt/media/image21.png" ContentType="image/png"/>
  <Override PartName="/ppt/media/image65.jpeg" ContentType="image/jpeg"/>
  <Override PartName="/ppt/media/image23.gif" ContentType="image/gif"/>
  <Override PartName="/ppt/media/image8.jpeg" ContentType="image/jpeg"/>
  <Override PartName="/ppt/media/image63.jpeg" ContentType="image/jpeg"/>
  <Override PartName="/ppt/media/image6.jpeg" ContentType="image/jpeg"/>
  <Override PartName="/ppt/media/image16.jpeg" ContentType="image/jpeg"/>
  <Override PartName="/ppt/media/image60.jpeg" ContentType="image/jpeg"/>
  <Override PartName="/ppt/media/image26.jpeg" ContentType="image/jpeg"/>
  <Override PartName="/ppt/media/image61.wmf" ContentType="image/x-wmf"/>
  <Override PartName="/ppt/media/image64.jpeg" ContentType="image/jpeg"/>
  <Override PartName="/ppt/media/image7.jpeg" ContentType="image/jpeg"/>
  <Override PartName="/ppt/media/image38.jpeg" ContentType="image/jpeg"/>
  <Override PartName="/ppt/media/image19.png" ContentType="image/png"/>
  <Override PartName="/ppt/media/image55.png" ContentType="image/png"/>
  <Override PartName="/ppt/media/image20.jpeg" ContentType="image/jpeg"/>
  <Override PartName="/ppt/media/image59.png" ContentType="image/png"/>
  <Override PartName="/ppt/media/image66.jpeg" ContentType="image/jpeg"/>
  <Override PartName="/ppt/media/image9.jpeg" ContentType="image/jpeg"/>
  <Override PartName="/ppt/media/image68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3.jpeg" ContentType="image/jpeg"/>
  <Override PartName="/ppt/media/image4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42.jpeg" ContentType="image/jpeg"/>
  <Override PartName="/ppt/media/image4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3EB9-420B-441F-9869-68D40E487ADC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938A-30CF-4163-8ECE-8BAD1F24D6BB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ЧТОЖЕНИЕ ЛЕ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годно с лица Земли исчезает 11 млн га тропических лесов, что в десятки раз превышает масштабы лесовос-становления. Идет быстрое уничтожение двух главных ми-ровых массивов тропических лесов – Амазо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ОПУСТЫ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Юго-ВОдновременно с уничтожением лесов идет процесс опустынивания, особенно сильно он проявляется в странах Африки на границе Сахары и саван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очной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опустынивание и на территории СНГ – в Приаралье. Катастрофическое понижение уровня Аральского моря привело к образованию новой пустыни Аралкумы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ы рек, впадающих в Аральское море, используются для орошения хлопковых полей. В результате море практически высох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B804-322A-4C82-A2D2-5ED2C623A6C2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траны сталкиваются с серьезными водоре-сурсными проблемами, которые заключаются не только в количественной нехватке воды, но и в дефиците чистых пресных вод. Ежегодно в водоемы попадает огромное количество неочищенных сточных вод. Среди наиболее загрязненных рек и озер мира Дунай, Рейн, Сена, Миссисипи, Волга, Днепр, Ладожское озеро, Балхаш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5A34-C01D-4417-AAB0-B73A1D16BB01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нсивная хозяйственная деятельность привела к растущему загрязнению Мирового океана. В него ежегодно попадает более 1 млн т нефти (катастрофы танкеров и буровых платформ и др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3657-1AE8-4E51-977D-2917F08B495A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</a:rPr>
              <a:t>ВЫВОД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Сущность проблем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ос отходов в окружающую сред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к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к контроля за технолог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ричины возникнов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окружающе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нтролируемое изменение климата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кризис, возникновение экологически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строф в различных районах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ути реш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и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 очистных сооруж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е размещение грязных производ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безотходн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2254-D1D9-4392-8591-657A99CDECC1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 связана с падением прироста населения – демографическим кризисом в развитых странах или резким увеличением этого прироста – демографическим взрывом в развивающихся странах. В целом наблюдается неконтролируемый рост населения мира н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,6 %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ЗАД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анализируйте карту и ответьте на вопрос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 каких регионах мира четко выраж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кризи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каких регионах мира четко выраж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взры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едположите, как будет меня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политическая обстановка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ово положение России на данной кар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взрыв, с одной стороны, способствует омоложению населения Земли, увеличивает трудовые ресурсы стран мира, с другой – порождает целый ряд как глобальных, так и региональных проблем – усугубляет нищету, обостряет проблему охраны природы, порождает нехватку продуктов питан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D505-C2C2-4EAE-837D-18DDC965DCF7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17FC-7C02-4BFB-B2B8-6A721CB2E685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в таблицу и график, мы видим как на наших глазах изменяется геополитическая картина мира: соотношение населения Севера и Юга. Если в 1990 г население Африки составляло всего 9% мирового, то к 2020 г оно достигнет 20% . Грядет перемещение в верхних строках таблицы стран - лидеров по численно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существуют серьезные выводы, подкрепленные специалистами в том, что биосфера Земли не сможет выдержать демографическую нагрузку и обеспечить устойчивые условия жизни для шестимиллиардного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85E4-5BA7-482E-8B36-F39F75969B62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несмотря на остроту мировой демографической ситуации, пик демографического взрыва, как видно на диаграмме А,  остался позади, он достиг максимальной отметки во всей истории человечества в 1970 году. Что же произошло? Ответ на этот вопрос да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ория демографического перех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едложенная в 1945 году западным демографом Ф. Ноутстойном. Демографический переход означает процесс последовательных изменений рождаемости, смертности и естественного прироста населения по мере социально-экономического развития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переход включает четыре отдельные фазы (смотри график-схему Б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Высокие показатели рождаемости и смертнос-ти, что  делает  численность  населения практически стабильной.  Подобная  ситуация возможна  при очень слабом развитии медиц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Общество  научилось контролировать заболева-ния, приводившие к слишком высокой смертности. Смертность  резко  снизилась,   но   рождаемость  осталась высокой, что вызвало быстрый рост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Социально - экономические  преобразования   в мире приводят к общему снижению рождаемости. Числен-ность населения вновь стабилизиру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Низкие  коэффициенты  рождаемости  и   смерт-ности  обуславливают  практически  неизменный  уровень населения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EA6C-6556-4F46-9E1B-2DDBFA2AE431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целью решения демографической проблемы Организация Объединенных Наций приняла «Всемирный план действий в области народонаселения». При этом прогрессивные силы исходят из того, что программы планирования семьи могут содействовать улучшению воспроизводства населения. Для этого все страны мира должны проводить соответствующую демографическ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B6B3-2B96-4D70-9CCA-686AD7AC1CFB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довольственная проблем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ысл глобальной продовольственной проблемы заключается в опережающем росте численности населения по сравнению с ростом производства продуктов питания. В результате чего в мире происходит увеличение численности недоедающих и голодающих (ежегодно от голода, недоедания и связанных с ними болезней умирает 40 млн чел.), растет антропогенная нагрузка на сельскохозяйственные ландшафты, ухудшается качество продуктов питания, возрастает роль генной инженерии в решении продовольственно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Земле существует </a:t>
            </a:r>
            <a:r>
              <a:rPr b="0" lang="ru-RU" sz="1200" spc="-1" strike="noStrike" u="sng">
                <a:solidFill>
                  <a:srgbClr val="ff121e"/>
                </a:solidFill>
                <a:uFillTx/>
                <a:latin typeface="Calibri"/>
              </a:rPr>
              <a:t>по-яс гол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н протянулся вдоль экватора. В Тропи-ческой Африке находится  эпицентр этого пояса. Страны с высоким пока-зателем голодающих: Чад - 50%, Мозамбик – 47%, Сомали - 45%, Уганда - 40%, Эфиопия - 39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же время на Земле можно выделит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яс переед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н протянулся через США и Зарубежную Европу. Например граждане США в год потребляют мясных продуктов в 80 раз больше, чем граждане Ин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ff"/>
                </a:solidFill>
                <a:latin typeface="Arial Black"/>
              </a:rPr>
              <a:t>Пути реш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</a:t>
            </a: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экстенсивный п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расширение пахотных и пастбищных угод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</a:t>
            </a: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интенсивный п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повышение продуктивности угодий, выведение высокоурожайных сортов, производство искусственных проду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A759-0DBE-4355-9476-78D8C0EB60A3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CY"/>
              </a:rPr>
              <a:t>СТРУКТУРА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взаимодействия общества с природой на совре-менном этапе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о глобальных пробле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обострения глобальных проблем, суть их возник-нов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особенно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Цели урока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. Выявить географические аспекты глобальных проблем чело-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. Совершенствовать навыки работы со статистическими ма-териа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62C7-CE1B-4BBC-B9E8-49CFD5FEA818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ЭНЕРГЕТИЧЕСКАЯ И СЫРЬЕВАЯ ПРОБЛЕМ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0504d"/>
                </a:solidFill>
                <a:uFillTx/>
                <a:latin typeface="Calibri"/>
              </a:rPr>
              <a:t>Энергетическая и сырьевая пробле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объясняется взрывным ростом потребления топлива и сырья. Только за ХХ век в мире было добыто и потреблено топлива и сырья больше, чем за всю предыдущую историю человечества. Из Земли уже извлечено: 40% угля, 50% меди, 55% железной руды, 60% алмазов, 75% нефти, 80% газа. Наука предупреждает, что при современных объемах энергопотребления разведанных запасов органического топлива хватит примерно на 150 лет, в том числе нефти - на 35 лет, газа - на 45 лет, угля - на 400 лет (точка отсчета 2005 го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вышение коэффициента полезного использования уже добытого сырья и топли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Увеличение выработки энергии на альтернативных источниках (солнечная энергия, ветровая, геотермальна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F6BA-66BA-4ACE-82F8-A2BF5401C8F6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. Проверь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то такое глобальные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чему именно во второй половине ХХ  века обострились глобальные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овы особенности глобальных проблем? Приведите примеры взаимосвязи между различными глобальными пробл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жно ли сказать, что глобальные проблемы актуальны лишь для стран с низким уровнем развит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еречислите основные глобальные проблемы современно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акие глобальные проблемы актуальны для современной Росс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В чём состоят главные особенности географического подхода к анализу глобальных пробл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Почему проблема терроризма стала глобальной? Что такое «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уга нестаби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Почему проблема разоружения стала глобальной? В чём состоит концепция ядерной зи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очему экологические проблемы стали наиболее актуаль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Какие из социальных проблем современности вы считаете наиболее актуальными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Какая социальная проблема в современной России наиболее ост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36DB-88B3-4DA8-B82D-BCE7E577F37A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общества с природой на современном этапе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ОСНОВНЫЕ ОСОБЕННОСТИ СОВРЕ-МЕННОГО ЭТАПА ВЗАИМОДЕЙСТ-ВИЯ ПРИРОДЫ И ОБЩЕСТВ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езкое возрастание практичес-кого применения физических, хи-мических и биологических свойств материи (химизация и биохими-зац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актическое применение мощ-нейшего источника энергии – ядер-ной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Интенсификация использования природы, возрастание «давления» на прир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зменение среды обитания че-ловека (в настоящее время изме-нено человеческой деятельностью 60% земной суши, более 20% этих ландшафтов поменяли свой лик коренным обр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B192-C106-4135-B621-EF79144DA007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CY"/>
              </a:rPr>
              <a:t>Понятие о глобальных проблемах. Причины их обост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CY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CY"/>
              </a:rPr>
              <a:t>Определение понят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CY"/>
              </a:rPr>
              <a:t>ГЛОБАЛЬНЫЕ ПРОБЛЕМЫ ЧЕЛОВЕЧ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блемы и ситуации, которые затрагивают условия жизни и деятельности людей, содержат угрозу для настоящего и будущего. Эти проблемы не могут быть решены силами одной страны, требуют совместно выработанн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ходу развития цивилизации перед человечеством неоднократ-но возникали сложные проблемы. Но всё же это была далекая пре-дыстория современных глобаль-ных проблем. В полной мере они проявил Какие же причины привели к обостре-нию глобальных про-блем? В некоторых источниках эти при-чины называют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«Пять никогд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ь во второй половине ХХ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жде человечество не возрастало коли-чественно в 2,5 раза при жизни только одного поколения, наращивая демографический груз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еловечество не вступало в период НТР, не доходило до постиндустриальной стадии развития, не открывало дороги в косм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жде для жизнеобеспечения не требовалось такого количества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е возникало такой глобальной мировой экономики, такой единой мировой информацион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жде «холодная война» не подводила человечество так близко к рубежу самоуничт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93D9-D76F-4090-ABAB-2DC220606FE2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особенности глобальных проблем. Классификац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КЛАССИФИКАЦ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отвращение ядерной вой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устойчивого разви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я  мирового со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хранение мир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национальные отно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зис культуры, нрав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демокра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здоровь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О-ЭКОНОМИЧЕСК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;                  - Сырьева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ая;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го океана;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енна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ШАН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конфлик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ор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авари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ение косм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глобальные проблемы теснейшим образом связаны между собой (смотри рисунок). Демографическая и продовольственная проблемы связаны как между собой, так и с охраной среды. Планирование семьи в некоторых странах поз-волит быстрее освободиться от голода и недое-дания, а прогресс сельского хозяйства ослабят дав-ление на окружающую среду. Продовольственная и ресурсная проблемы ассоциируются с преодо-лением отсталости развивающихся стран. Улучшение питания и более разумное использо-вание ресурсного потенциала ведут к повышению уровня жизн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81A9-0825-496B-B39B-7057D2826EEB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Региональные конфликты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проблема терро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блемы связанные со столкновением куль-тур, этносов, религий. В конце ХХ века пришелся всплеск национализма и сепаратизма (стремление к отделению), который дестабилизировал обстановку, но прежде всего на Балканах, Кавказе, Ближнем Вос-токе, Южной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м фактором нестабильности для современ-ного мира стал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лигиозный (исламский) фундамен-тал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ламские фундаменталисты ставят своей целью силой закрепить веру в священные догмы этой рели-гии, привести нормы общественной и личной жизни в соответствие с заповедями ислама. Для экстре-мистских течений характерно агрессивное неприя-тие  европейских  и  либеральных  ценностей,   готов-ность прибегнуть к насильственным методам борьбы, включая террористические. Проблема терроризма усугубляется тем, что террористические акты проводятся за тысячи километров от мест этнических и религиозных конфликтов. Террористические акты 11 сентября 2001 г в Нью-Йорке, события в Москве в октябре 2002 г и Бислане в сентябре 2004 г свидетельствуют, что современный мир стал слишком мал, и ни один человек, где бы он ни жил, не может чувствовать себя полностью исключенным из войны идеологи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9CE5-3072-4B6E-BBDC-DB08FE4292DC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Региональные конфликты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проблема терро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РЕГИОНАЛЬНЫЕ КОНФЛИК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я географическое расположение очагов крупнейших конфликтов, можно выявить определен-ную закономерность их расположения. «Дуга неста-бильности» - проходящая от Британских островов че-рез Среднюю Европу, Балканы, Кавказ, Памир, Гима-лаи к Индонезии и островам Зондского архипел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, в связи с ослаблением роли Рос-сии и претензии США на то, чтобы стать единственной супердержавой современного мира, число конфликтов в регионе существенно увеличи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DA92-CCFA-4577-AB6B-FBF3E263A15D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лема мира и разоружения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3939"/>
                </a:solidFill>
                <a:latin typeface="Arial"/>
                <a:ea typeface="Arial"/>
              </a:rPr>
              <a:t>Проблема мира и разору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ущность пробл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мире накоплены чудовищные средства массового уничт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чины возникнов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онка воору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ая нестабильность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ути реш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ору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разоруже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ные догов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3939"/>
                </a:solidFill>
                <a:uFillTx/>
                <a:latin typeface="Calibri"/>
              </a:rPr>
              <a:t>ЗАДА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ссмотрите карту и ответьте на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страны мира обладают ядерным оружие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страна лидирует по количеству боеголов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шло осознание того, что ядерная война бы-ла бы концом жизни на Земле. Следствием такой войны, как установлено учеными, была бы «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ядер-ная зи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«ядерной зимы» состоит в следую-щем. В результате ядерных взрывов возникают массовые пожары, сопровождающиеся выде-лением в атмосферу огромного количества продуктов горения. Облака, состоящие из мельчайших частиц сажи, поглощают и рассеивают солнечный свет, вызывая затемнение поверхности Земли - «ядерную ночь». В результате нарушится радиационный баланс планеты, температура ее поверхности понизится на 15-20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, что повлечет гибель всего жив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е накоплены чудовищные средства массового уничтожения. На каждого жителя Земли прихо-дится столько оружия, которого достаточно, чтобы уничтожить все живое 20 раз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F769-9237-480E-BBD4-F3BC66206911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щаяся в атмосфере двуокись углерода (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грает большую роль в жизни человека, растений и животных, предохраняя землю от перегрева и выхолаживания. Но хозяйственная деятельность человека – сжигание огромных масс топлива – нарушила баланс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роде, что создает угрозу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арникового эффек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заметного потепления климата, таяния льдов, повышения уровня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парникового эффекта происходит глобальное потепление, которое оборачивается засухами. Выгорают колоссаль-ные площади лесов, а выделяющаяся при по-жарах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иливает парниковый эффект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59BB-171D-406C-8C48-0C7F1D852A96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3ACE-055B-4A3D-AD66-7E3762B4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6216-6FEC-426B-84FE-0AD59374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441B-71AE-41D1-A522-3A0BAD39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C23A-FBC5-4458-B727-75D9D37B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C455-3FFF-47FC-99C4-92656FAF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6F0A-B31E-4289-B0C8-C4543C5A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2DFE-59FF-4412-82E2-4FB38EC8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2197-9A30-462F-94DA-7D2BFCA5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109D-C7BC-4014-9F96-9A4243DC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938F-1E08-4B5E-9E35-69A0B39C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87A0-1CBB-4BA9-BF81-AC6E4ED4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9F45-665E-439A-A3BC-8DE90867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0342-5A35-406F-B41B-CAEAC7BA07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55.png"/><Relationship Id="rId3" Type="http://schemas.openxmlformats.org/officeDocument/2006/relationships/image" Target="../media/image49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9.jpe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60.jpeg"/><Relationship Id="rId3" Type="http://schemas.openxmlformats.org/officeDocument/2006/relationships/image" Target="../media/image3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7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5.jpeg"/><Relationship Id="rId4" Type="http://schemas.openxmlformats.org/officeDocument/2006/relationships/image" Target="../media/image23.gif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image" Target="../media/image6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17.jpeg"/><Relationship Id="rId3" Type="http://schemas.openxmlformats.org/officeDocument/2006/relationships/image" Target="../media/image11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image" Target="../media/image16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png"/><Relationship Id="rId8" Type="http://schemas.openxmlformats.org/officeDocument/2006/relationships/image" Target="../media/image23.gif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3.gif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6.wmf"/><Relationship Id="rId6" Type="http://schemas.openxmlformats.org/officeDocument/2006/relationships/image" Target="../media/image22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5200"/>
          <p:cNvPicPr/>
          <p:nvPr/>
        </p:nvPicPr>
        <p:blipFill>
          <a:blip r:embed="rId1"/>
          <a:stretch/>
        </p:blipFill>
        <p:spPr>
          <a:xfrm>
            <a:off x="0" y="0"/>
            <a:ext cx="2473200" cy="23115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2700360" y="208080"/>
            <a:ext cx="630540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Picture 7" descr="terror"/>
          <p:cNvPicPr/>
          <p:nvPr/>
        </p:nvPicPr>
        <p:blipFill>
          <a:blip r:embed="rId2"/>
          <a:stretch/>
        </p:blipFill>
        <p:spPr>
          <a:xfrm>
            <a:off x="1979640" y="2346480"/>
            <a:ext cx="1344600" cy="1003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new1"/>
          <p:cNvPicPr/>
          <p:nvPr/>
        </p:nvPicPr>
        <p:blipFill>
          <a:blip r:embed="rId3"/>
          <a:stretch/>
        </p:blipFill>
        <p:spPr>
          <a:xfrm>
            <a:off x="3503520" y="3578400"/>
            <a:ext cx="1344600" cy="1614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9012"/>
          <p:cNvPicPr/>
          <p:nvPr/>
        </p:nvPicPr>
        <p:blipFill>
          <a:blip r:embed="rId4"/>
          <a:stretch/>
        </p:blipFill>
        <p:spPr>
          <a:xfrm>
            <a:off x="0" y="4514760"/>
            <a:ext cx="1422360" cy="1003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010"/>
          <p:cNvPicPr/>
          <p:nvPr/>
        </p:nvPicPr>
        <p:blipFill>
          <a:blip r:embed="rId5"/>
          <a:stretch/>
        </p:blipFill>
        <p:spPr>
          <a:xfrm>
            <a:off x="7596360" y="923760"/>
            <a:ext cx="1355400" cy="1073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w_mxc_hlopok_1"/>
          <p:cNvPicPr/>
          <p:nvPr/>
        </p:nvPicPr>
        <p:blipFill>
          <a:blip r:embed="rId6"/>
          <a:stretch/>
        </p:blipFill>
        <p:spPr>
          <a:xfrm>
            <a:off x="4067280" y="1871640"/>
            <a:ext cx="1790640" cy="17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aa08a"/>
          <p:cNvPicPr/>
          <p:nvPr/>
        </p:nvPicPr>
        <p:blipFill>
          <a:blip r:embed="rId7"/>
          <a:stretch/>
        </p:blipFill>
        <p:spPr>
          <a:xfrm>
            <a:off x="5076720" y="3905280"/>
            <a:ext cx="1623960" cy="1535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br_032"/>
          <p:cNvPicPr/>
          <p:nvPr/>
        </p:nvPicPr>
        <p:blipFill>
          <a:blip r:embed="rId8"/>
          <a:stretch/>
        </p:blipFill>
        <p:spPr>
          <a:xfrm>
            <a:off x="6300720" y="5057640"/>
            <a:ext cx="936720" cy="1355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1085156957-1"/>
          <p:cNvPicPr/>
          <p:nvPr/>
        </p:nvPicPr>
        <p:blipFill>
          <a:blip r:embed="rId9"/>
          <a:stretch/>
        </p:blipFill>
        <p:spPr>
          <a:xfrm>
            <a:off x="1069920" y="5124600"/>
            <a:ext cx="1805040" cy="128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810"/>
          <p:cNvPicPr/>
          <p:nvPr/>
        </p:nvPicPr>
        <p:blipFill>
          <a:blip r:embed="rId10"/>
          <a:stretch/>
        </p:blipFill>
        <p:spPr>
          <a:xfrm>
            <a:off x="7334280" y="4776840"/>
            <a:ext cx="1703520" cy="1703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174mir"/>
          <p:cNvPicPr/>
          <p:nvPr/>
        </p:nvPicPr>
        <p:blipFill>
          <a:blip r:embed="rId11"/>
          <a:stretch/>
        </p:blipFill>
        <p:spPr>
          <a:xfrm>
            <a:off x="6588000" y="2008080"/>
            <a:ext cx="2248200" cy="168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tungus"/>
          <p:cNvPicPr/>
          <p:nvPr/>
        </p:nvPicPr>
        <p:blipFill>
          <a:blip r:embed="rId12"/>
          <a:stretch/>
        </p:blipFill>
        <p:spPr>
          <a:xfrm>
            <a:off x="1258920" y="34513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" descr="100988"/>
          <p:cNvPicPr/>
          <p:nvPr/>
        </p:nvPicPr>
        <p:blipFill>
          <a:blip r:embed="rId13"/>
          <a:stretch/>
        </p:blipFill>
        <p:spPr>
          <a:xfrm>
            <a:off x="179280" y="2414520"/>
            <a:ext cx="1654200" cy="1165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4" descr="katastrofa"/>
          <p:cNvPicPr/>
          <p:nvPr/>
        </p:nvPicPr>
        <p:blipFill>
          <a:blip r:embed="rId14"/>
          <a:stretch/>
        </p:blipFill>
        <p:spPr>
          <a:xfrm>
            <a:off x="3059280" y="5192640"/>
            <a:ext cx="1761840" cy="1192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5" descr="katastrofy"/>
          <p:cNvPicPr/>
          <p:nvPr/>
        </p:nvPicPr>
        <p:blipFill>
          <a:blip r:embed="rId15"/>
          <a:stretch/>
        </p:blipFill>
        <p:spPr>
          <a:xfrm>
            <a:off x="2700360" y="990720"/>
            <a:ext cx="1073160" cy="1233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m"/>
          <p:cNvPicPr/>
          <p:nvPr/>
        </p:nvPicPr>
        <p:blipFill>
          <a:blip r:embed="rId16"/>
          <a:stretch/>
        </p:blipFill>
        <p:spPr>
          <a:xfrm>
            <a:off x="76320" y="3716280"/>
            <a:ext cx="977760" cy="730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york"/>
          <p:cNvPicPr/>
          <p:nvPr/>
        </p:nvPicPr>
        <p:blipFill>
          <a:blip r:embed="rId17"/>
          <a:stretch/>
        </p:blipFill>
        <p:spPr>
          <a:xfrm>
            <a:off x="5003640" y="5479920"/>
            <a:ext cx="1195560" cy="974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Бедный юг богатый север"/>
          <p:cNvPicPr/>
          <p:nvPr/>
        </p:nvPicPr>
        <p:blipFill>
          <a:blip r:embed="rId18"/>
          <a:stretch/>
        </p:blipFill>
        <p:spPr>
          <a:xfrm>
            <a:off x="6950160" y="3714840"/>
            <a:ext cx="1692360" cy="981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Logo"/>
          <p:cNvPicPr/>
          <p:nvPr/>
        </p:nvPicPr>
        <p:blipFill>
          <a:blip r:embed="rId19"/>
          <a:stretch/>
        </p:blipFill>
        <p:spPr>
          <a:xfrm>
            <a:off x="0" y="5600880"/>
            <a:ext cx="1015920" cy="704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usa_world_war"/>
          <p:cNvPicPr/>
          <p:nvPr/>
        </p:nvPicPr>
        <p:blipFill>
          <a:blip r:embed="rId20"/>
          <a:stretch/>
        </p:blipFill>
        <p:spPr>
          <a:xfrm>
            <a:off x="6012000" y="1465200"/>
            <a:ext cx="880920" cy="8827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6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7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WordArt 13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5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4"/>
          <p:cNvSpPr/>
          <p:nvPr/>
        </p:nvSpPr>
        <p:spPr>
          <a:xfrm>
            <a:off x="611280" y="1743120"/>
            <a:ext cx="342900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6"/>
          <p:cNvSpPr/>
          <p:nvPr/>
        </p:nvSpPr>
        <p:spPr>
          <a:xfrm>
            <a:off x="4311720" y="765000"/>
            <a:ext cx="4653000" cy="3988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30" descr="карта мира"/>
          <p:cNvPicPr/>
          <p:nvPr/>
        </p:nvPicPr>
        <p:blipFill>
          <a:blip r:embed="rId2"/>
          <a:srcRect l="0" t="11966" r="12538" b="16225"/>
          <a:stretch/>
        </p:blipFill>
        <p:spPr>
          <a:xfrm>
            <a:off x="179280" y="2565360"/>
            <a:ext cx="5040360" cy="25923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28"/>
          <p:cNvSpPr/>
          <p:nvPr/>
        </p:nvSpPr>
        <p:spPr>
          <a:xfrm>
            <a:off x="4119480" y="1192320"/>
            <a:ext cx="50245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жегодно с лица Земли исчезает 11 млн га тропических лесов, что в десятки раз превышает масштабы лесовос-становления. Идет быстрое уничтожение двух главных ми-ровых массивов тропических лесов – Амазонии и Юго-Восточной Азии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37"/>
          <p:cNvSpPr/>
          <p:nvPr/>
        </p:nvSpPr>
        <p:spPr>
          <a:xfrm>
            <a:off x="4094280" y="3495600"/>
            <a:ext cx="1066680" cy="7239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672" h="456">
                <a:moveTo>
                  <a:pt x="295" y="60"/>
                </a:moveTo>
                <a:cubicBezTo>
                  <a:pt x="254" y="55"/>
                  <a:pt x="225" y="49"/>
                  <a:pt x="187" y="36"/>
                </a:cubicBezTo>
                <a:cubicBezTo>
                  <a:pt x="173" y="31"/>
                  <a:pt x="165" y="17"/>
                  <a:pt x="151" y="12"/>
                </a:cubicBezTo>
                <a:cubicBezTo>
                  <a:pt x="139" y="8"/>
                  <a:pt x="115" y="0"/>
                  <a:pt x="115" y="0"/>
                </a:cubicBezTo>
                <a:cubicBezTo>
                  <a:pt x="87" y="2"/>
                  <a:pt x="59" y="1"/>
                  <a:pt x="31" y="6"/>
                </a:cubicBezTo>
                <a:cubicBezTo>
                  <a:pt x="12" y="9"/>
                  <a:pt x="1" y="54"/>
                  <a:pt x="1" y="54"/>
                </a:cubicBezTo>
                <a:cubicBezTo>
                  <a:pt x="6" y="93"/>
                  <a:pt x="0" y="111"/>
                  <a:pt x="31" y="132"/>
                </a:cubicBezTo>
                <a:cubicBezTo>
                  <a:pt x="56" y="170"/>
                  <a:pt x="59" y="192"/>
                  <a:pt x="73" y="234"/>
                </a:cubicBezTo>
                <a:cubicBezTo>
                  <a:pt x="75" y="264"/>
                  <a:pt x="74" y="294"/>
                  <a:pt x="79" y="324"/>
                </a:cubicBezTo>
                <a:cubicBezTo>
                  <a:pt x="80" y="331"/>
                  <a:pt x="88" y="336"/>
                  <a:pt x="91" y="342"/>
                </a:cubicBezTo>
                <a:cubicBezTo>
                  <a:pt x="116" y="393"/>
                  <a:pt x="167" y="399"/>
                  <a:pt x="217" y="414"/>
                </a:cubicBezTo>
                <a:cubicBezTo>
                  <a:pt x="251" y="424"/>
                  <a:pt x="285" y="435"/>
                  <a:pt x="319" y="444"/>
                </a:cubicBezTo>
                <a:cubicBezTo>
                  <a:pt x="331" y="447"/>
                  <a:pt x="355" y="456"/>
                  <a:pt x="355" y="456"/>
                </a:cubicBezTo>
                <a:cubicBezTo>
                  <a:pt x="454" y="448"/>
                  <a:pt x="549" y="437"/>
                  <a:pt x="649" y="432"/>
                </a:cubicBezTo>
                <a:cubicBezTo>
                  <a:pt x="672" y="364"/>
                  <a:pt x="569" y="365"/>
                  <a:pt x="529" y="360"/>
                </a:cubicBezTo>
                <a:cubicBezTo>
                  <a:pt x="478" y="343"/>
                  <a:pt x="425" y="331"/>
                  <a:pt x="373" y="318"/>
                </a:cubicBezTo>
                <a:cubicBezTo>
                  <a:pt x="342" y="297"/>
                  <a:pt x="349" y="310"/>
                  <a:pt x="361" y="252"/>
                </a:cubicBezTo>
                <a:cubicBezTo>
                  <a:pt x="363" y="240"/>
                  <a:pt x="373" y="216"/>
                  <a:pt x="373" y="216"/>
                </a:cubicBezTo>
                <a:cubicBezTo>
                  <a:pt x="368" y="175"/>
                  <a:pt x="376" y="151"/>
                  <a:pt x="337" y="138"/>
                </a:cubicBezTo>
                <a:cubicBezTo>
                  <a:pt x="284" y="144"/>
                  <a:pt x="280" y="136"/>
                  <a:pt x="265" y="180"/>
                </a:cubicBezTo>
                <a:cubicBezTo>
                  <a:pt x="259" y="238"/>
                  <a:pt x="269" y="243"/>
                  <a:pt x="223" y="258"/>
                </a:cubicBezTo>
                <a:cubicBezTo>
                  <a:pt x="217" y="256"/>
                  <a:pt x="209" y="257"/>
                  <a:pt x="205" y="252"/>
                </a:cubicBezTo>
                <a:cubicBezTo>
                  <a:pt x="191" y="232"/>
                  <a:pt x="185" y="186"/>
                  <a:pt x="181" y="162"/>
                </a:cubicBezTo>
                <a:cubicBezTo>
                  <a:pt x="183" y="150"/>
                  <a:pt x="179" y="135"/>
                  <a:pt x="187" y="126"/>
                </a:cubicBezTo>
                <a:cubicBezTo>
                  <a:pt x="199" y="112"/>
                  <a:pt x="278" y="108"/>
                  <a:pt x="283" y="108"/>
                </a:cubicBezTo>
                <a:cubicBezTo>
                  <a:pt x="289" y="104"/>
                  <a:pt x="314" y="92"/>
                  <a:pt x="307" y="78"/>
                </a:cubicBezTo>
                <a:cubicBezTo>
                  <a:pt x="294" y="52"/>
                  <a:pt x="280" y="91"/>
                  <a:pt x="295" y="60"/>
                </a:cubicBezTo>
                <a:close/>
              </a:path>
            </a:pathLst>
          </a:custGeom>
          <a:noFill/>
          <a:ln w="2844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8"/>
          <p:cNvSpPr/>
          <p:nvPr/>
        </p:nvSpPr>
        <p:spPr>
          <a:xfrm>
            <a:off x="158760" y="4513320"/>
            <a:ext cx="31179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Условные знаки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зона вырубки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ропических лесов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40"/>
          <p:cNvSpPr/>
          <p:nvPr/>
        </p:nvSpPr>
        <p:spPr>
          <a:xfrm>
            <a:off x="235080" y="4836960"/>
            <a:ext cx="253800" cy="158760"/>
          </a:xfrm>
          <a:custGeom>
            <a:avLst/>
            <a:gdLst>
              <a:gd name="textAreaLeft" fmla="*/ 0 w 253800"/>
              <a:gd name="textAreaRight" fmla="*/ 254160 w 2538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60" h="100">
                <a:moveTo>
                  <a:pt x="4" y="33"/>
                </a:moveTo>
                <a:cubicBezTo>
                  <a:pt x="23" y="90"/>
                  <a:pt x="6" y="72"/>
                  <a:pt x="44" y="97"/>
                </a:cubicBezTo>
                <a:cubicBezTo>
                  <a:pt x="79" y="92"/>
                  <a:pt x="160" y="100"/>
                  <a:pt x="92" y="17"/>
                </a:cubicBezTo>
                <a:cubicBezTo>
                  <a:pt x="78" y="0"/>
                  <a:pt x="28" y="1"/>
                  <a:pt x="28" y="1"/>
                </a:cubicBezTo>
                <a:cubicBezTo>
                  <a:pt x="0" y="20"/>
                  <a:pt x="4" y="7"/>
                  <a:pt x="4" y="33"/>
                </a:cubicBezTo>
                <a:close/>
              </a:path>
            </a:pathLst>
          </a:custGeom>
          <a:noFill/>
          <a:ln w="2844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41"/>
          <p:cNvSpPr/>
          <p:nvPr/>
        </p:nvSpPr>
        <p:spPr>
          <a:xfrm>
            <a:off x="179280" y="2708280"/>
            <a:ext cx="1871640" cy="720720"/>
          </a:xfrm>
          <a:prstGeom prst="wedgeRectCallout">
            <a:avLst>
              <a:gd name="adj1" fmla="val 31847"/>
              <a:gd name="adj2" fmla="val 148898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Амазония. Массовые вырубки под пастбища, развивается целлюлозно-бумажное производство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42"/>
          <p:cNvSpPr/>
          <p:nvPr/>
        </p:nvSpPr>
        <p:spPr>
          <a:xfrm>
            <a:off x="1620720" y="5084640"/>
            <a:ext cx="2446560" cy="576360"/>
          </a:xfrm>
          <a:prstGeom prst="wedgeRectCallout">
            <a:avLst>
              <a:gd name="adj1" fmla="val -3472"/>
              <a:gd name="adj2" fmla="val -235675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Тропические леса Африки. Заготовка леса для экспорта. Нарушение водного режима огромных территорий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31"/>
          <p:cNvSpPr/>
          <p:nvPr/>
        </p:nvSpPr>
        <p:spPr>
          <a:xfrm>
            <a:off x="2457360" y="3860640"/>
            <a:ext cx="755640" cy="365400"/>
          </a:xfrm>
          <a:custGeom>
            <a:avLst/>
            <a:gdLst>
              <a:gd name="textAreaLeft" fmla="*/ 0 w 755640"/>
              <a:gd name="textAreaRight" fmla="*/ 756000 w 75564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476" h="230">
                <a:moveTo>
                  <a:pt x="0" y="30"/>
                </a:moveTo>
                <a:cubicBezTo>
                  <a:pt x="55" y="12"/>
                  <a:pt x="96" y="5"/>
                  <a:pt x="156" y="0"/>
                </a:cubicBezTo>
                <a:cubicBezTo>
                  <a:pt x="203" y="5"/>
                  <a:pt x="243" y="19"/>
                  <a:pt x="288" y="30"/>
                </a:cubicBezTo>
                <a:cubicBezTo>
                  <a:pt x="322" y="52"/>
                  <a:pt x="363" y="54"/>
                  <a:pt x="402" y="60"/>
                </a:cubicBezTo>
                <a:cubicBezTo>
                  <a:pt x="476" y="109"/>
                  <a:pt x="400" y="207"/>
                  <a:pt x="336" y="222"/>
                </a:cubicBezTo>
                <a:cubicBezTo>
                  <a:pt x="301" y="230"/>
                  <a:pt x="251" y="228"/>
                  <a:pt x="216" y="228"/>
                </a:cubicBezTo>
              </a:path>
            </a:pathLst>
          </a:custGeom>
          <a:noFill/>
          <a:ln w="3168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33"/>
          <p:cNvSpPr/>
          <p:nvPr/>
        </p:nvSpPr>
        <p:spPr>
          <a:xfrm>
            <a:off x="1371600" y="3927600"/>
            <a:ext cx="619200" cy="542880"/>
          </a:xfrm>
          <a:custGeom>
            <a:avLst/>
            <a:gdLst>
              <a:gd name="textAreaLeft" fmla="*/ 0 w 619200"/>
              <a:gd name="textAreaRight" fmla="*/ 619560 w 6192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390" h="342">
                <a:moveTo>
                  <a:pt x="234" y="0"/>
                </a:moveTo>
                <a:cubicBezTo>
                  <a:pt x="187" y="16"/>
                  <a:pt x="232" y="51"/>
                  <a:pt x="186" y="66"/>
                </a:cubicBezTo>
                <a:cubicBezTo>
                  <a:pt x="174" y="62"/>
                  <a:pt x="162" y="58"/>
                  <a:pt x="150" y="54"/>
                </a:cubicBezTo>
                <a:cubicBezTo>
                  <a:pt x="136" y="49"/>
                  <a:pt x="114" y="30"/>
                  <a:pt x="114" y="30"/>
                </a:cubicBezTo>
                <a:cubicBezTo>
                  <a:pt x="42" y="37"/>
                  <a:pt x="23" y="32"/>
                  <a:pt x="0" y="102"/>
                </a:cubicBezTo>
                <a:cubicBezTo>
                  <a:pt x="2" y="118"/>
                  <a:pt x="0" y="135"/>
                  <a:pt x="6" y="150"/>
                </a:cubicBezTo>
                <a:cubicBezTo>
                  <a:pt x="9" y="157"/>
                  <a:pt x="19" y="157"/>
                  <a:pt x="24" y="162"/>
                </a:cubicBezTo>
                <a:cubicBezTo>
                  <a:pt x="29" y="167"/>
                  <a:pt x="30" y="176"/>
                  <a:pt x="36" y="180"/>
                </a:cubicBezTo>
                <a:cubicBezTo>
                  <a:pt x="60" y="195"/>
                  <a:pt x="89" y="199"/>
                  <a:pt x="114" y="216"/>
                </a:cubicBezTo>
                <a:cubicBezTo>
                  <a:pt x="118" y="228"/>
                  <a:pt x="125" y="239"/>
                  <a:pt x="126" y="252"/>
                </a:cubicBezTo>
                <a:cubicBezTo>
                  <a:pt x="128" y="280"/>
                  <a:pt x="125" y="309"/>
                  <a:pt x="132" y="336"/>
                </a:cubicBezTo>
                <a:cubicBezTo>
                  <a:pt x="134" y="342"/>
                  <a:pt x="144" y="340"/>
                  <a:pt x="150" y="342"/>
                </a:cubicBezTo>
                <a:cubicBezTo>
                  <a:pt x="197" y="330"/>
                  <a:pt x="192" y="297"/>
                  <a:pt x="204" y="258"/>
                </a:cubicBezTo>
                <a:cubicBezTo>
                  <a:pt x="208" y="246"/>
                  <a:pt x="205" y="229"/>
                  <a:pt x="216" y="222"/>
                </a:cubicBezTo>
                <a:cubicBezTo>
                  <a:pt x="234" y="210"/>
                  <a:pt x="254" y="206"/>
                  <a:pt x="270" y="192"/>
                </a:cubicBezTo>
                <a:cubicBezTo>
                  <a:pt x="286" y="179"/>
                  <a:pt x="287" y="171"/>
                  <a:pt x="306" y="162"/>
                </a:cubicBezTo>
                <a:cubicBezTo>
                  <a:pt x="333" y="150"/>
                  <a:pt x="363" y="145"/>
                  <a:pt x="390" y="132"/>
                </a:cubicBezTo>
              </a:path>
            </a:pathLst>
          </a:custGeom>
          <a:noFill/>
          <a:ln w="3168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43"/>
          <p:cNvSpPr/>
          <p:nvPr/>
        </p:nvSpPr>
        <p:spPr>
          <a:xfrm>
            <a:off x="3203640" y="2565360"/>
            <a:ext cx="2016000" cy="792360"/>
          </a:xfrm>
          <a:prstGeom prst="wedgeRectCallout">
            <a:avLst>
              <a:gd name="adj1" fmla="val 11259"/>
              <a:gd name="adj2" fmla="val 135773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Ценная древесина тропических лесов Юго-Восточной Азии заготавливается для экспорта. Уничтожается уникальный генофонд тропических лесов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44"/>
          <p:cNvSpPr/>
          <p:nvPr/>
        </p:nvSpPr>
        <p:spPr>
          <a:xfrm>
            <a:off x="611280" y="2205000"/>
            <a:ext cx="345924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5"/>
          <p:cNvSpPr/>
          <p:nvPr/>
        </p:nvSpPr>
        <p:spPr>
          <a:xfrm>
            <a:off x="5291280" y="2565360"/>
            <a:ext cx="3744720" cy="368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6"/>
          <p:cNvSpPr/>
          <p:nvPr/>
        </p:nvSpPr>
        <p:spPr>
          <a:xfrm>
            <a:off x="5200560" y="2917800"/>
            <a:ext cx="394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дновременно с уничтожением лесов идет процесс опустынивания, особенно сильно он проявляется в странах Африки на границе Сахары и саванн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47" descr="опустынивание"/>
          <p:cNvPicPr/>
          <p:nvPr/>
        </p:nvPicPr>
        <p:blipFill>
          <a:blip r:embed="rId3"/>
          <a:srcRect l="0" t="0" r="0" b="20107"/>
          <a:stretch/>
        </p:blipFill>
        <p:spPr>
          <a:xfrm>
            <a:off x="5291280" y="3870360"/>
            <a:ext cx="3744720" cy="2006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8" descr="земля высыхает"/>
          <p:cNvPicPr/>
          <p:nvPr/>
        </p:nvPicPr>
        <p:blipFill>
          <a:blip r:embed="rId4"/>
          <a:stretch/>
        </p:blipFill>
        <p:spPr>
          <a:xfrm>
            <a:off x="179280" y="5257800"/>
            <a:ext cx="1078200" cy="14842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1332000" y="5799240"/>
            <a:ext cx="770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исходит опустынивание и на территории СНГ – в Приаралье. Катастрофическое понижение уровня Аральского моря привело к образованию новой пустыни Аралкумы. 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ды рек, впадающих в Аральское море, используются для орошения хлопковых полей. В результате море практически высохло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9"/>
          <p:cNvSpPr/>
          <p:nvPr/>
        </p:nvSpPr>
        <p:spPr>
          <a:xfrm>
            <a:off x="6741360" y="3860640"/>
            <a:ext cx="229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Когда-то здесь было море</a:t>
            </a:r>
            <a:r>
              <a:rPr b="1" lang="ru-RU" sz="1400" spc="-1" strike="noStrike">
                <a:solidFill>
                  <a:srgbClr val="bcf0ef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4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WordArt 9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1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2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3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4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5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6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7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26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27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28"/>
          <p:cNvSpPr/>
          <p:nvPr/>
        </p:nvSpPr>
        <p:spPr>
          <a:xfrm>
            <a:off x="611280" y="2679840"/>
            <a:ext cx="3429000" cy="3070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30"/>
          <p:cNvSpPr/>
          <p:nvPr/>
        </p:nvSpPr>
        <p:spPr>
          <a:xfrm>
            <a:off x="4249800" y="765000"/>
            <a:ext cx="4859280" cy="3988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31" descr="Последствия водного дефицита доставка пресной воды по солёной В этом мешке Waterbag 30 тысяч тонн воды"/>
          <p:cNvPicPr/>
          <p:nvPr/>
        </p:nvPicPr>
        <p:blipFill>
          <a:blip r:embed="rId2"/>
          <a:stretch/>
        </p:blipFill>
        <p:spPr>
          <a:xfrm>
            <a:off x="611280" y="1284120"/>
            <a:ext cx="3456000" cy="13528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32"/>
          <p:cNvSpPr/>
          <p:nvPr/>
        </p:nvSpPr>
        <p:spPr>
          <a:xfrm>
            <a:off x="592200" y="2276640"/>
            <a:ext cx="347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Доставка пресной воды по океану. В мешке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Waterbag</a:t>
            </a: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30 тыс. т воды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3"/>
          <p:cNvSpPr/>
          <p:nvPr/>
        </p:nvSpPr>
        <p:spPr>
          <a:xfrm>
            <a:off x="4119480" y="1266840"/>
            <a:ext cx="502452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ногие страны сталкиваются с серьезными водоре-сурсными проблемами, которые заключаются не только в количественной нехватке воды, но и в дефиците чистых пресных вод. Ежегодно в водоемы попадает огромное количество неочищенных сточных вод. Среди наиболее загрязненных рек и озер мира Дунай, Рейн, Сена, Миссисипи, Волга, Днепр, Ладожское озеро, Балхаш и др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34" descr="clean"/>
          <p:cNvPicPr/>
          <p:nvPr/>
        </p:nvPicPr>
        <p:blipFill>
          <a:blip r:embed="rId3"/>
          <a:srcRect l="0" t="0" r="4992" b="609"/>
          <a:stretch/>
        </p:blipFill>
        <p:spPr>
          <a:xfrm>
            <a:off x="250920" y="3068640"/>
            <a:ext cx="4105080" cy="36003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6"/>
          <p:cNvSpPr/>
          <p:nvPr/>
        </p:nvSpPr>
        <p:spPr>
          <a:xfrm>
            <a:off x="327960" y="3141720"/>
            <a:ext cx="231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анция по очистке вод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7"/>
          <p:cNvSpPr/>
          <p:nvPr/>
        </p:nvSpPr>
        <p:spPr>
          <a:xfrm>
            <a:off x="4427640" y="3021120"/>
            <a:ext cx="471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блица. Страны мира, испытывающие дефицит чистой воды (где менее 50% населения имеет доступ к чистой питьевой воде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500720" y="3500280"/>
          <a:ext cx="4464000" cy="3303720"/>
        </p:xfrm>
        <a:graphic>
          <a:graphicData uri="http://schemas.openxmlformats.org/drawingml/2006/table">
            <a:tbl>
              <a:tblPr/>
              <a:tblGrid>
                <a:gridCol w="2233440"/>
                <a:gridCol w="2230560"/>
              </a:tblGrid>
              <a:tr h="49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селение, имеющее доступ к чистой воде, в 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3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фганиста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фиопия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ьерра-Леон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мбодж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врита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ол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ма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анд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пуа - Новая Гвин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ваториальная Гвин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 Конго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ритр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и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4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5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6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12"/>
          <p:cNvSpPr txBox="1"/>
          <p:nvPr/>
        </p:nvSpPr>
        <p:spPr>
          <a:xfrm>
            <a:off x="393840" y="841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5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6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7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8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9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0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5"/>
          <p:cNvSpPr/>
          <p:nvPr/>
        </p:nvSpPr>
        <p:spPr>
          <a:xfrm>
            <a:off x="628200" y="3141720"/>
            <a:ext cx="3432960" cy="3070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6"/>
          <p:cNvSpPr/>
          <p:nvPr/>
        </p:nvSpPr>
        <p:spPr>
          <a:xfrm>
            <a:off x="4273920" y="765000"/>
            <a:ext cx="4833360" cy="3988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27" descr="катастрофа танкер PRESTIGE"/>
          <p:cNvPicPr/>
          <p:nvPr/>
        </p:nvPicPr>
        <p:blipFill>
          <a:blip r:embed="rId2"/>
          <a:stretch/>
        </p:blipFill>
        <p:spPr>
          <a:xfrm>
            <a:off x="4284720" y="1268280"/>
            <a:ext cx="4788000" cy="3284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8" descr="нефтяная пленка в мо"/>
          <p:cNvPicPr/>
          <p:nvPr/>
        </p:nvPicPr>
        <p:blipFill>
          <a:blip r:embed="rId3"/>
          <a:stretch/>
        </p:blipFill>
        <p:spPr>
          <a:xfrm>
            <a:off x="34920" y="3524400"/>
            <a:ext cx="4249800" cy="2712960"/>
          </a:xfrm>
          <a:prstGeom prst="rect">
            <a:avLst/>
          </a:prstGeom>
          <a:ln w="3240">
            <a:solidFill>
              <a:srgbClr val="333333"/>
            </a:solidFill>
            <a:miter/>
          </a:ln>
        </p:spPr>
      </p:pic>
      <p:pic>
        <p:nvPicPr>
          <p:cNvPr id="335" name="Picture 29" descr="tanker"/>
          <p:cNvPicPr/>
          <p:nvPr/>
        </p:nvPicPr>
        <p:blipFill>
          <a:blip r:embed="rId4"/>
          <a:stretch/>
        </p:blipFill>
        <p:spPr>
          <a:xfrm>
            <a:off x="4284720" y="4581360"/>
            <a:ext cx="2448000" cy="16560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0" descr="танкер для перевозки нефтепродуктов"/>
          <p:cNvPicPr/>
          <p:nvPr/>
        </p:nvPicPr>
        <p:blipFill>
          <a:blip r:embed="rId5"/>
          <a:stretch/>
        </p:blipFill>
        <p:spPr>
          <a:xfrm>
            <a:off x="6769080" y="4581360"/>
            <a:ext cx="2340000" cy="16560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1"/>
          <p:cNvSpPr/>
          <p:nvPr/>
        </p:nvSpPr>
        <p:spPr>
          <a:xfrm>
            <a:off x="-34920" y="3500280"/>
            <a:ext cx="4135680" cy="30708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рта. Нефтяная пленка на поверхности океан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2"/>
          <p:cNvSpPr/>
          <p:nvPr/>
        </p:nvSpPr>
        <p:spPr>
          <a:xfrm>
            <a:off x="15840" y="6235560"/>
            <a:ext cx="912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нтенсивная хозяйственная деятельность привела к растущему загрязнению Мирового океана. В него ежегодно попадает более 1 млн т нефти (катастрофы танкеров и буровых платформ и др.)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5" descr="парниковый эффект глобальное потепление оборачивается засухами выгорают колоссальные площади лесов, а выдеяющ"/>
          <p:cNvPicPr/>
          <p:nvPr/>
        </p:nvPicPr>
        <p:blipFill>
          <a:blip r:embed="rId1"/>
          <a:stretch/>
        </p:blipFill>
        <p:spPr>
          <a:xfrm>
            <a:off x="4535640" y="0"/>
            <a:ext cx="4608360" cy="2349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tanker"/>
          <p:cNvPicPr/>
          <p:nvPr/>
        </p:nvPicPr>
        <p:blipFill>
          <a:blip r:embed="rId2"/>
          <a:stretch/>
        </p:blipFill>
        <p:spPr>
          <a:xfrm>
            <a:off x="2987640" y="2276640"/>
            <a:ext cx="3168720" cy="1801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опустынивание"/>
          <p:cNvPicPr/>
          <p:nvPr/>
        </p:nvPicPr>
        <p:blipFill>
          <a:blip r:embed="rId3"/>
          <a:srcRect l="0" t="0" r="0" b="20107"/>
          <a:stretch/>
        </p:blipFill>
        <p:spPr>
          <a:xfrm>
            <a:off x="3995640" y="4076640"/>
            <a:ext cx="5148360" cy="27590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9" descr="4489"/>
          <p:cNvPicPr/>
          <p:nvPr/>
        </p:nvPicPr>
        <p:blipFill>
          <a:blip r:embed="rId4"/>
          <a:stretch/>
        </p:blipFill>
        <p:spPr>
          <a:xfrm>
            <a:off x="0" y="2205000"/>
            <a:ext cx="2987640" cy="20192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city2"/>
          <p:cNvPicPr/>
          <p:nvPr/>
        </p:nvPicPr>
        <p:blipFill>
          <a:blip r:embed="rId5"/>
          <a:srcRect l="0" t="25320" r="0" b="0"/>
          <a:stretch/>
        </p:blipFill>
        <p:spPr>
          <a:xfrm>
            <a:off x="0" y="0"/>
            <a:ext cx="4537080" cy="22766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1" descr="1085156957-1"/>
          <p:cNvPicPr/>
          <p:nvPr/>
        </p:nvPicPr>
        <p:blipFill>
          <a:blip r:embed="rId6"/>
          <a:stretch/>
        </p:blipFill>
        <p:spPr>
          <a:xfrm>
            <a:off x="6146640" y="2205000"/>
            <a:ext cx="2997360" cy="188136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4"/>
          <p:cNvSpPr/>
          <p:nvPr/>
        </p:nvSpPr>
        <p:spPr>
          <a:xfrm>
            <a:off x="108000" y="44280"/>
            <a:ext cx="439272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7" descr="clean"/>
          <p:cNvPicPr/>
          <p:nvPr/>
        </p:nvPicPr>
        <p:blipFill>
          <a:blip r:embed="rId7"/>
          <a:srcRect l="0" t="19400" r="4992" b="609"/>
          <a:stretch/>
        </p:blipFill>
        <p:spPr>
          <a:xfrm>
            <a:off x="-36360" y="4076640"/>
            <a:ext cx="3960720" cy="2795760"/>
          </a:xfrm>
          <a:prstGeom prst="rect">
            <a:avLst/>
          </a:prstGeom>
          <a:ln w="0">
            <a:noFill/>
          </a:ln>
        </p:spPr>
      </p:pic>
      <p:sp>
        <p:nvSpPr>
          <p:cNvPr id="348" name="WordArt 12"/>
          <p:cNvSpPr txBox="1"/>
          <p:nvPr/>
        </p:nvSpPr>
        <p:spPr>
          <a:xfrm>
            <a:off x="419040" y="120600"/>
            <a:ext cx="37213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349" name="Rectangle 14"/>
          <p:cNvSpPr/>
          <p:nvPr/>
        </p:nvSpPr>
        <p:spPr>
          <a:xfrm>
            <a:off x="1042920" y="981000"/>
            <a:ext cx="7201080" cy="518472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1403280" y="1197000"/>
            <a:ext cx="6481800" cy="4392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ВЫВОД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Сущность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брос отходов в окружающую среду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достаток технологий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достаток контроля за технологиям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ричины возникнов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грязнение окружающей среды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контролируемое изменение климата Земли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кологический кризис, возникновение экологических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тастроф в различных районах мир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ути реш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щество и контроль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ительство очистных сооружений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циональное размещение грязных производств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здание безотходных технологий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WordArt 16"/>
          <p:cNvSpPr txBox="1"/>
          <p:nvPr/>
        </p:nvSpPr>
        <p:spPr>
          <a:xfrm>
            <a:off x="1979640" y="5632560"/>
            <a:ext cx="4943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Земля только одна!"</a:t>
            </a:r>
            <a:endParaRPr b="1" lang="en-US" sz="1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77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770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4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WordArt 7"/>
          <p:cNvSpPr txBox="1"/>
          <p:nvPr/>
        </p:nvSpPr>
        <p:spPr>
          <a:xfrm>
            <a:off x="684360" y="620640"/>
            <a:ext cx="8208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231840" y="1557360"/>
            <a:ext cx="8732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мографическая проблема связана с падением прироста населения – демографическим кризисом в развитых странах или резким увеличением этого прироста – демографическим взрывом в развивающихся странах. В целом наблюдается неконтролируемый рост населения мира 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6 %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в год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9" descr=""/>
          <p:cNvPicPr/>
          <p:nvPr/>
        </p:nvPicPr>
        <p:blipFill>
          <a:blip r:embed="rId2"/>
          <a:srcRect l="0" t="0" r="2132" b="0"/>
          <a:stretch/>
        </p:blipFill>
        <p:spPr>
          <a:xfrm>
            <a:off x="-36360" y="3062160"/>
            <a:ext cx="5760720" cy="367992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10"/>
          <p:cNvSpPr/>
          <p:nvPr/>
        </p:nvSpPr>
        <p:spPr>
          <a:xfrm>
            <a:off x="1306080" y="2708280"/>
            <a:ext cx="3085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СРЕДНЕГОДОВЫЕ ТЕМПЫ РОСТА НАСЕЛЕНИЯ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с 1995 по 2000 год (в %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46"/>
          <p:cNvSpPr/>
          <p:nvPr/>
        </p:nvSpPr>
        <p:spPr>
          <a:xfrm>
            <a:off x="5219640" y="2421000"/>
            <a:ext cx="3851280" cy="1875600"/>
          </a:xfrm>
          <a:prstGeom prst="rect">
            <a:avLst/>
          </a:prstGeom>
          <a:solidFill>
            <a:srgbClr val="ffcc99">
              <a:alpha val="63000"/>
            </a:srgbClr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анализируйте карту и ответьте на вопросы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1. В каких регионах мира четко выражен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демографический кризис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2. В каких регионах мира четко выражен 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демографический взрыв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3. Предположите, как будет меняться 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геополитическая обстановка в мире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4. Каково положение России на данной карте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7"/>
          <p:cNvSpPr/>
          <p:nvPr/>
        </p:nvSpPr>
        <p:spPr>
          <a:xfrm>
            <a:off x="5724360" y="4435560"/>
            <a:ext cx="33339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мографический взрыв, с одной стороны, способствует омоложению населения Земли, увеличивает трудовые ресурсы стран мира, с другой – порождает целый ряд как глобальных, так и региональных проблем – усугубляет нищету, обостряет проблему охраны природы, порождает нехватку продуктов питания и др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4"/>
          <p:cNvSpPr/>
          <p:nvPr/>
        </p:nvSpPr>
        <p:spPr>
          <a:xfrm>
            <a:off x="-142920" y="981000"/>
            <a:ext cx="946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Динамика изменений десятки крупнейших по численности стран мира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(1990 – 2050 гг.),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 млн чел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6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7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WordArt 8"/>
          <p:cNvSpPr txBox="1"/>
          <p:nvPr/>
        </p:nvSpPr>
        <p:spPr>
          <a:xfrm>
            <a:off x="684360" y="331920"/>
            <a:ext cx="8208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cf0ef"/>
                    </a:gs>
                    <a:gs pos="50000">
                      <a:srgbClr val="c1ff45"/>
                    </a:gs>
                    <a:gs pos="100000">
                      <a:srgbClr val="bcf0ef"/>
                    </a:gs>
                  </a:gsLst>
                  <a:lin ang="27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cf0ef"/>
                  </a:gs>
                  <a:gs pos="50000">
                    <a:srgbClr val="c1ff45"/>
                  </a:gs>
                  <a:gs pos="100000">
                    <a:srgbClr val="bcf0e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250920" y="1268280"/>
          <a:ext cx="8642160" cy="4246560"/>
        </p:xfrm>
        <a:graphic>
          <a:graphicData uri="http://schemas.openxmlformats.org/drawingml/2006/table">
            <a:tbl>
              <a:tblPr/>
              <a:tblGrid>
                <a:gridCol w="1182600"/>
                <a:gridCol w="517680"/>
                <a:gridCol w="1180800"/>
                <a:gridCol w="517680"/>
                <a:gridCol w="1182600"/>
                <a:gridCol w="590760"/>
                <a:gridCol w="1180800"/>
                <a:gridCol w="590760"/>
                <a:gridCol w="1122480"/>
                <a:gridCol w="576000"/>
              </a:tblGrid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0 г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рогноз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стро-Венг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-т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ранц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-т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фиоп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а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369" name="Rectangle 435"/>
          <p:cNvSpPr/>
          <p:nvPr/>
        </p:nvSpPr>
        <p:spPr>
          <a:xfrm>
            <a:off x="250920" y="5516640"/>
            <a:ext cx="1873080" cy="2160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вающиеся стран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436"/>
          <p:cNvSpPr/>
          <p:nvPr/>
        </p:nvSpPr>
        <p:spPr>
          <a:xfrm>
            <a:off x="250920" y="5734080"/>
            <a:ext cx="1873080" cy="216000"/>
          </a:xfrm>
          <a:prstGeom prst="rect">
            <a:avLst/>
          </a:prstGeom>
          <a:solidFill>
            <a:srgbClr val="ff9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тые стран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438"/>
          <p:cNvSpPr/>
          <p:nvPr/>
        </p:nvSpPr>
        <p:spPr>
          <a:xfrm>
            <a:off x="250920" y="2349360"/>
            <a:ext cx="6408720" cy="3167280"/>
          </a:xfrm>
          <a:custGeom>
            <a:avLst/>
            <a:gdLst>
              <a:gd name="textAreaLeft" fmla="*/ 0 w 6408720"/>
              <a:gd name="textAreaRight" fmla="*/ 6409080 w 6408720"/>
              <a:gd name="textAreaTop" fmla="*/ 0 h 3167280"/>
              <a:gd name="textAreaBottom" fmla="*/ 3167640 h 3167280"/>
            </a:gdLst>
            <a:ahLst/>
            <a:rect l="textAreaLeft" t="textAreaTop" r="textAreaRight" b="textAreaBottom"/>
            <a:pathLst>
              <a:path w="4037" h="1995">
                <a:moveTo>
                  <a:pt x="0" y="0"/>
                </a:moveTo>
                <a:cubicBezTo>
                  <a:pt x="344" y="41"/>
                  <a:pt x="689" y="83"/>
                  <a:pt x="1044" y="181"/>
                </a:cubicBezTo>
                <a:cubicBezTo>
                  <a:pt x="1399" y="279"/>
                  <a:pt x="1762" y="468"/>
                  <a:pt x="2132" y="589"/>
                </a:cubicBezTo>
                <a:cubicBezTo>
                  <a:pt x="2502" y="710"/>
                  <a:pt x="2948" y="673"/>
                  <a:pt x="3266" y="907"/>
                </a:cubicBezTo>
                <a:cubicBezTo>
                  <a:pt x="3584" y="1141"/>
                  <a:pt x="3909" y="1814"/>
                  <a:pt x="4037" y="1995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439"/>
          <p:cNvSpPr/>
          <p:nvPr/>
        </p:nvSpPr>
        <p:spPr>
          <a:xfrm>
            <a:off x="250920" y="6154560"/>
            <a:ext cx="649080" cy="0"/>
          </a:xfrm>
          <a:prstGeom prst="line">
            <a:avLst/>
          </a:prstGeom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440"/>
          <p:cNvSpPr/>
          <p:nvPr/>
        </p:nvSpPr>
        <p:spPr>
          <a:xfrm>
            <a:off x="900000" y="5938920"/>
            <a:ext cx="28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зменение места России в числе стран – лидеров по численности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441"/>
          <p:cNvSpPr/>
          <p:nvPr/>
        </p:nvSpPr>
        <p:spPr>
          <a:xfrm>
            <a:off x="3780000" y="5589720"/>
            <a:ext cx="536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1. Сравните первую десятку стран – лидеров по численности населения с 1900 по 2003 гг. Как изменяли свое место развитые страны, как – развивающиеся? Почему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Как изменялось место России в числе этих стран? Каковы прогноз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684360" y="2700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380" name="Picture 6" descr=""/>
          <p:cNvPicPr/>
          <p:nvPr/>
        </p:nvPicPr>
        <p:blipFill>
          <a:blip r:embed="rId2"/>
          <a:srcRect l="0" t="0" r="2406" b="15275"/>
          <a:stretch/>
        </p:blipFill>
        <p:spPr>
          <a:xfrm>
            <a:off x="228600" y="1371600"/>
            <a:ext cx="7848720" cy="368136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7"/>
          <p:cNvSpPr/>
          <p:nvPr/>
        </p:nvSpPr>
        <p:spPr>
          <a:xfrm>
            <a:off x="380880" y="1393920"/>
            <a:ext cx="41148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афик: «Мировые демографические тенденции и расп-ределение соотношения населения Севера (развитых стран) и Юга (развивающихся стран)»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111240" y="5048280"/>
            <a:ext cx="8804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анализировав таблицу и график, мы видим как на наших глазах изменяется геополитическая картина мира: соотношение населения Севера и Юга. Если в 1990 г население Африки составляло всего 9% мирового, то к 2020 г оно достигнет 20% . Грядет перемещение в верхних строках таблицы стран - лидеров по численности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оме того, существуют серьезные выводы, подкрепленные специалистами в том, что биосфера Земли не сможет выдержать демографическую нагрузку и обеспечить устойчивые условия жизни для шестимиллиардного населения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9" descr=""/>
          <p:cNvPicPr/>
          <p:nvPr/>
        </p:nvPicPr>
        <p:blipFill>
          <a:blip r:embed="rId3"/>
          <a:stretch/>
        </p:blipFill>
        <p:spPr>
          <a:xfrm>
            <a:off x="8001000" y="1523880"/>
            <a:ext cx="1117440" cy="1339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0" descr=""/>
          <p:cNvPicPr/>
          <p:nvPr/>
        </p:nvPicPr>
        <p:blipFill>
          <a:blip r:embed="rId4"/>
          <a:stretch/>
        </p:blipFill>
        <p:spPr>
          <a:xfrm>
            <a:off x="3835440" y="1905120"/>
            <a:ext cx="1879560" cy="153180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684360" y="2700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aphicFrame>
        <p:nvGraphicFramePr>
          <p:cNvPr id="390" name="Object 6"/>
          <p:cNvGraphicFramePr/>
          <p:nvPr/>
        </p:nvGraphicFramePr>
        <p:xfrm>
          <a:off x="-76320" y="1542960"/>
          <a:ext cx="4343400" cy="257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6320" y="1542960"/>
                    <a:ext cx="434340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Rectangle 7"/>
          <p:cNvSpPr/>
          <p:nvPr/>
        </p:nvSpPr>
        <p:spPr>
          <a:xfrm>
            <a:off x="76320" y="1219320"/>
            <a:ext cx="421956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иаграмм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«Изменение роста численности населения мира по сравнению с предыдущим годом, в %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4191120" y="1311120"/>
            <a:ext cx="495288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днако несмотря на остроту мировой демографической ситуации, пик демографического взрыва, как видно на диаграмме А,  остался позади, он достиг максимальной отметки во всей истории человечества в 1970 году. Что же произошло? Ответ на этот вопрос дает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теория демографического перехо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предложенная в 1945 году западным демографом Ф. Ноутстойном. Демографический переход означает процесс последовательных изменений рождаемости, смертности и естественного прироста населения по мере социально-экономического развития стран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мографический переход включает четыре отдельные фазы (смотри график-схему Б)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1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Высокие показатели рождаемости и смертнос-ти, что  делает  численность  населения практически стабильной.  Подобная  ситуация возможна  при очень слабом развитии медицин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Общество  научилось контролировать заболева-ния, приводившие к слишком высокой смертности. Смертность  резко  снизилась,   но   рождаемость  осталась высокой, что вызвало быстрый рост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Социально - экономические  преобразования   в мире приводят к общему снижению рождаемости. Числен-ность населения вновь стабилизируетс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Низкие  коэффициенты  рождаемости  и   смерт-ности  обуславливают  практически  неизменный  уровень населения планет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Object 9"/>
          <p:cNvGraphicFramePr/>
          <p:nvPr/>
        </p:nvGraphicFramePr>
        <p:xfrm>
          <a:off x="76320" y="4419720"/>
          <a:ext cx="4114800" cy="243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4419720"/>
                    <a:ext cx="41148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Rectangle 10"/>
          <p:cNvSpPr/>
          <p:nvPr/>
        </p:nvSpPr>
        <p:spPr>
          <a:xfrm>
            <a:off x="154440" y="4114800"/>
            <a:ext cx="316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афик-схема демографического переход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1"/>
          <p:cNvSpPr/>
          <p:nvPr/>
        </p:nvSpPr>
        <p:spPr>
          <a:xfrm>
            <a:off x="915840" y="61722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1753920" y="617220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"/>
          <p:cNvSpPr/>
          <p:nvPr/>
        </p:nvSpPr>
        <p:spPr>
          <a:xfrm>
            <a:off x="2668320" y="617220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4"/>
          <p:cNvSpPr/>
          <p:nvPr/>
        </p:nvSpPr>
        <p:spPr>
          <a:xfrm>
            <a:off x="3507120" y="6172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5"/>
          <p:cNvSpPr/>
          <p:nvPr/>
        </p:nvSpPr>
        <p:spPr>
          <a:xfrm>
            <a:off x="916560" y="5791320"/>
            <a:ext cx="10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МЕРТ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2364480" y="4952880"/>
            <a:ext cx="112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РОЖДАЕМ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7"/>
          <p:cNvSpPr/>
          <p:nvPr/>
        </p:nvSpPr>
        <p:spPr>
          <a:xfrm>
            <a:off x="285480" y="487692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ПРИМИТИВНАЯ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ТАБИЛЬ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8"/>
          <p:cNvSpPr/>
          <p:nvPr/>
        </p:nvSpPr>
        <p:spPr>
          <a:xfrm>
            <a:off x="2876400" y="58071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ОВРЕМЕННАЯ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ТАБИЛЬ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9"/>
          <p:cNvSpPr/>
          <p:nvPr/>
        </p:nvSpPr>
        <p:spPr>
          <a:xfrm rot="16225200">
            <a:off x="1580040" y="5247360"/>
            <a:ext cx="101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рос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684360" y="27000"/>
            <a:ext cx="784836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216000" y="1293840"/>
            <a:ext cx="869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целью решения демографической проблемы Организация Объединенных Наций приняла «Всемирный план действий в области народонаселения». При этом прогрессивные силы исходят из того, что программы планирования семьи могут содействовать улучшению воспроизводства населения. Для этого все страны мира должны проводить соответствующую демографическую политику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28600" y="2362320"/>
          <a:ext cx="8763120" cy="2636640"/>
        </p:xfrm>
        <a:graphic>
          <a:graphicData uri="http://schemas.openxmlformats.org/drawingml/2006/table">
            <a:tbl>
              <a:tblPr/>
              <a:tblGrid>
                <a:gridCol w="4422600"/>
                <a:gridCol w="4340520"/>
              </a:tblGrid>
              <a:tr h="8380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я демографической политики в странах, где наблюдается депопуляция населения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я демографической политики в странах с высоким естественным приростом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ы экономического стимулирования рождаемости - семейные пособия, поощрительные выплаты, льготы многодетным семьям и молодоженам при распределении жилья, расширение сети детских учреждений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ширение производства сравнительно простых в употреблении, дешевых и повсеместно доступных контрацептивных средств. Административные штрафы за многодетность, поощрения и стимулиро-вание поздних браков, более позднее появление на свет потомства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AutoShape 18"/>
          <p:cNvSpPr/>
          <p:nvPr/>
        </p:nvSpPr>
        <p:spPr>
          <a:xfrm>
            <a:off x="-181080" y="2781360"/>
            <a:ext cx="9290160" cy="4032360"/>
          </a:xfrm>
          <a:prstGeom prst="leftArrowCallout">
            <a:avLst>
              <a:gd name="adj1" fmla="val 23993"/>
              <a:gd name="adj2" fmla="val 50000"/>
              <a:gd name="adj3" fmla="val -46795"/>
              <a:gd name="adj4" fmla="val 66673"/>
            </a:avLst>
          </a:prstGeom>
          <a:solidFill>
            <a:srgbClr val="ffff99"/>
          </a:solidFill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ЫВОД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Сущность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еренаселение, неравномерность расселения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Демографический взрыв в развивающихся странах, демографический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изис в развитых странах мира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Региональные конфликт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ричины возникнов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Различный уровень экономик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Несовершенство демографической политик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Ухудшение социальных условий жизн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Наличие горячих точек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ути решения этой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овышение экономического и социального уровней развития развиваю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щихся стран, улучшение условий жизни людей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Активная демографическая политик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довольственная пробле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5"/>
          <p:cNvSpPr/>
          <p:nvPr/>
        </p:nvSpPr>
        <p:spPr>
          <a:xfrm>
            <a:off x="76320" y="685800"/>
            <a:ext cx="3200400" cy="87156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оценкам ВОЗ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орма пита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для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человека составляе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5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6"/>
          <p:cNvSpPr/>
          <p:nvPr/>
        </p:nvSpPr>
        <p:spPr>
          <a:xfrm>
            <a:off x="2971800" y="685800"/>
            <a:ext cx="3124080" cy="871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едоедани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аступает, когда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рма питания опускается ниж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9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7"/>
          <p:cNvSpPr/>
          <p:nvPr/>
        </p:nvSpPr>
        <p:spPr>
          <a:xfrm>
            <a:off x="5943600" y="685800"/>
            <a:ext cx="3124080" cy="8715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вственный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голод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аступает, когд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рма питания опускается ниж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0" y="1604880"/>
            <a:ext cx="9102600" cy="1325160"/>
          </a:xfrm>
          <a:prstGeom prst="rect">
            <a:avLst/>
          </a:prstGeom>
          <a:gradFill rotWithShape="0">
            <a:gsLst>
              <a:gs pos="0">
                <a:srgbClr val="cc525a">
                  <a:alpha val="38039"/>
                </a:srgbClr>
              </a:gs>
              <a:gs pos="100000">
                <a:srgbClr val="ffff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Смысл глобальной продовольственной проблемы заключается в опережающем росте численности населения по сравнению с ростом производства продуктов питания. В результате чего в мире происходит увеличение численности недоедающих и голодающих (ежегодно от голода, недоедания и связанных с ними болезней умирает 40 млн чел.), растет антропогенная нагрузка на сельскохозяйственные ландшафты, ухудшается качество продуктов питания, возрастает роль генной инженерии в решении продовольственной проблемы.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5803920" y="2708280"/>
            <a:ext cx="189216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 Земле существует </a:t>
            </a:r>
            <a:r>
              <a:rPr b="1" lang="ru-RU" sz="1100" spc="-1" strike="noStrike" u="sng">
                <a:solidFill>
                  <a:srgbClr val="ff121e"/>
                </a:solidFill>
                <a:uFillTx/>
                <a:latin typeface="Times New Roman"/>
              </a:rPr>
              <a:t>по-яс голода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, он протянулся вдоль экватора. В Тропи-ческой Африке находится  эпицентр этого пояса. Страны с высоким пока-зателем голодающих: Чад - 50%, Мозамбик – 47%, Сомали - 45%, Уганда - 40%, Эфиопия - 39%.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WordArt 10"/>
          <p:cNvSpPr txBox="1"/>
          <p:nvPr/>
        </p:nvSpPr>
        <p:spPr>
          <a:xfrm>
            <a:off x="6227640" y="5445000"/>
            <a:ext cx="23623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0033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Пути решения:</a:t>
            </a:r>
            <a:endParaRPr b="1" lang="en-US" sz="1600" spc="1" strike="noStrike">
              <a:ln w="15840">
                <a:solidFill>
                  <a:srgbClr val="0033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pic>
        <p:nvPicPr>
          <p:cNvPr id="424" name="Picture 11" descr=""/>
          <p:cNvPicPr/>
          <p:nvPr/>
        </p:nvPicPr>
        <p:blipFill>
          <a:blip r:embed="rId2"/>
          <a:stretch/>
        </p:blipFill>
        <p:spPr>
          <a:xfrm>
            <a:off x="7696080" y="2751120"/>
            <a:ext cx="1524240" cy="144000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12"/>
          <p:cNvSpPr/>
          <p:nvPr/>
        </p:nvSpPr>
        <p:spPr>
          <a:xfrm>
            <a:off x="5791320" y="4440240"/>
            <a:ext cx="3276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В тоже время на Земле можно выделить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пояс переедания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, он протянулся через США и Зарубежную Европу. Например граждане США в год потребляют мясных продуктов в 80 раз больше, чем граждане Индии.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"/>
          <p:cNvSpPr/>
          <p:nvPr/>
        </p:nvSpPr>
        <p:spPr>
          <a:xfrm>
            <a:off x="7705800" y="3809880"/>
            <a:ext cx="1514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На руках у матери умирающий от голода сын.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4"/>
          <p:cNvSpPr/>
          <p:nvPr/>
        </p:nvSpPr>
        <p:spPr>
          <a:xfrm>
            <a:off x="5838840" y="5661000"/>
            <a:ext cx="33051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1" lang="ru-RU" sz="1300" spc="-1" strike="noStrike" u="sng">
                <a:solidFill>
                  <a:srgbClr val="3333cc"/>
                </a:solidFill>
                <a:uFillTx/>
                <a:latin typeface="Times New Roman"/>
              </a:rPr>
              <a:t>экстенсивный путь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- расширение пахотных и пастбищных угодий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2 - </a:t>
            </a:r>
            <a:r>
              <a:rPr b="1" lang="ru-RU" sz="1300" spc="-1" strike="noStrike" u="sng">
                <a:solidFill>
                  <a:srgbClr val="3333cc"/>
                </a:solidFill>
                <a:uFillTx/>
                <a:latin typeface="Times New Roman"/>
              </a:rPr>
              <a:t>интенсивный путь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- повышение продуктивности угодий, выведение высокоурожайных сортов, производство искусственных продуктов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15" descr="Продовольственная проблема"/>
          <p:cNvPicPr/>
          <p:nvPr/>
        </p:nvPicPr>
        <p:blipFill>
          <a:blip r:embed="rId3"/>
          <a:stretch/>
        </p:blipFill>
        <p:spPr>
          <a:xfrm>
            <a:off x="71280" y="2997360"/>
            <a:ext cx="5724720" cy="3824280"/>
          </a:xfrm>
          <a:prstGeom prst="rect">
            <a:avLst/>
          </a:prstGeom>
          <a:ln w="0">
            <a:noFill/>
          </a:ln>
        </p:spPr>
      </p:pic>
      <p:sp>
        <p:nvSpPr>
          <p:cNvPr id="429" name="AutoShape 16"/>
          <p:cNvSpPr/>
          <p:nvPr/>
        </p:nvSpPr>
        <p:spPr>
          <a:xfrm>
            <a:off x="2482920" y="6165720"/>
            <a:ext cx="3313080" cy="692280"/>
          </a:xfrm>
          <a:prstGeom prst="wedgeRoundRectCallout">
            <a:avLst>
              <a:gd name="adj1" fmla="val 43625"/>
              <a:gd name="adj2" fmla="val -221328"/>
              <a:gd name="adj3" fmla="val 16667"/>
            </a:avLst>
          </a:prstGeom>
          <a:solidFill>
            <a:srgbClr val="ffff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будьте, что это среднестатистические пока-затели. То есть если один человек съел две курицы, а второй ни одной, то по статистике каждый из них съел по курице!!!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7"/>
          <p:cNvSpPr/>
          <p:nvPr/>
        </p:nvSpPr>
        <p:spPr>
          <a:xfrm>
            <a:off x="0" y="6062760"/>
            <a:ext cx="2411280" cy="82404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121e"/>
                </a:solidFill>
                <a:uFillTx/>
                <a:latin typeface="Times New Roman"/>
              </a:rPr>
              <a:t>ЗАДАНИ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Рассмотрите карту. В каких регионах мира суточный рацион питания ниже нормы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33"/>
          <p:cNvSpPr/>
          <p:nvPr/>
        </p:nvSpPr>
        <p:spPr>
          <a:xfrm rot="14085000">
            <a:off x="277920" y="2735640"/>
            <a:ext cx="1899000" cy="1807920"/>
          </a:xfrm>
          <a:custGeom>
            <a:avLst/>
            <a:gdLst>
              <a:gd name="textAreaLeft" fmla="*/ 474840 w 1899000"/>
              <a:gd name="textAreaRight" fmla="*/ 1424520 w 1899000"/>
              <a:gd name="textAreaTop" fmla="*/ 451800 h 1807920"/>
              <a:gd name="textAreaBottom" fmla="*/ 1754640 h 18079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Сегодня на уроке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м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рассмотрим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979640" y="1484280"/>
            <a:ext cx="7093080" cy="642600"/>
          </a:xfrm>
          <a:prstGeom prst="rect">
            <a:avLst/>
          </a:prstGeom>
          <a:solidFill>
            <a:srgbClr val="ccffcc"/>
          </a:solidFill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CY"/>
              </a:rPr>
              <a:t>СТРУКТУРА УРОК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002"/>
          <p:cNvPicPr/>
          <p:nvPr/>
        </p:nvPicPr>
        <p:blipFill>
          <a:blip r:embed="rId1"/>
          <a:stretch/>
        </p:blipFill>
        <p:spPr>
          <a:xfrm>
            <a:off x="-36360" y="-57240"/>
            <a:ext cx="1974600" cy="2190960"/>
          </a:xfrm>
          <a:prstGeom prst="rect">
            <a:avLst/>
          </a:prstGeom>
          <a:ln w="0">
            <a:noFill/>
          </a:ln>
        </p:spPr>
      </p:pic>
      <p:sp>
        <p:nvSpPr>
          <p:cNvPr id="73" name="WordArt 5"/>
          <p:cNvSpPr txBox="1"/>
          <p:nvPr/>
        </p:nvSpPr>
        <p:spPr>
          <a:xfrm>
            <a:off x="2195640" y="220680"/>
            <a:ext cx="6697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142920" y="0"/>
            <a:ext cx="1260360" cy="576360"/>
          </a:xfrm>
          <a:prstGeom prst="cloudCallout">
            <a:avLst>
              <a:gd name="adj1" fmla="val -46097"/>
              <a:gd name="adj2" fmla="val 8884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CY"/>
              </a:rPr>
              <a:t>Один не справлюсь</a:t>
            </a:r>
            <a:r>
              <a:rPr b="0" lang="ru-RU" sz="900" spc="-1" strike="noStrike">
                <a:solidFill>
                  <a:srgbClr val="000000"/>
                </a:solidFill>
                <a:latin typeface="Times CY"/>
              </a:rPr>
              <a:t>!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2340000" y="2270160"/>
            <a:ext cx="671652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общества с природой на совре-менном этапе развития человечеств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2340000" y="299088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нятие о глобальных проблемах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2340000" y="3409920"/>
            <a:ext cx="671652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чины обострения глобальных проблем, суть их возник-новения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2340000" y="412920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ые особенности глобальных пробле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2340000" y="456264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ссификация глобальных пробле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2340000" y="501336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7"/>
          <p:cNvSpPr/>
          <p:nvPr/>
        </p:nvSpPr>
        <p:spPr>
          <a:xfrm>
            <a:off x="2124000" y="2133720"/>
            <a:ext cx="0" cy="64764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8"/>
          <p:cNvSpPr/>
          <p:nvPr/>
        </p:nvSpPr>
        <p:spPr>
          <a:xfrm>
            <a:off x="2124000" y="2781360"/>
            <a:ext cx="0" cy="107928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9"/>
          <p:cNvSpPr/>
          <p:nvPr/>
        </p:nvSpPr>
        <p:spPr>
          <a:xfrm>
            <a:off x="2124000" y="3716280"/>
            <a:ext cx="0" cy="93672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0"/>
          <p:cNvSpPr/>
          <p:nvPr/>
        </p:nvSpPr>
        <p:spPr>
          <a:xfrm>
            <a:off x="2124000" y="4437000"/>
            <a:ext cx="0" cy="79236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1"/>
          <p:cNvSpPr/>
          <p:nvPr/>
        </p:nvSpPr>
        <p:spPr>
          <a:xfrm>
            <a:off x="2124000" y="5229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3"/>
          <p:cNvSpPr/>
          <p:nvPr/>
        </p:nvSpPr>
        <p:spPr>
          <a:xfrm>
            <a:off x="2124000" y="4797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5"/>
          <p:cNvSpPr/>
          <p:nvPr/>
        </p:nvSpPr>
        <p:spPr>
          <a:xfrm>
            <a:off x="2124000" y="436572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7"/>
          <p:cNvSpPr/>
          <p:nvPr/>
        </p:nvSpPr>
        <p:spPr>
          <a:xfrm>
            <a:off x="2124000" y="3789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9"/>
          <p:cNvSpPr/>
          <p:nvPr/>
        </p:nvSpPr>
        <p:spPr>
          <a:xfrm>
            <a:off x="2124000" y="321300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0"/>
          <p:cNvSpPr/>
          <p:nvPr/>
        </p:nvSpPr>
        <p:spPr>
          <a:xfrm>
            <a:off x="2124000" y="263700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1" descr="globus3"/>
          <p:cNvPicPr/>
          <p:nvPr/>
        </p:nvPicPr>
        <p:blipFill>
          <a:blip r:embed="rId2"/>
          <a:stretch/>
        </p:blipFill>
        <p:spPr>
          <a:xfrm>
            <a:off x="0" y="5369040"/>
            <a:ext cx="1692360" cy="13730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2"/>
          <p:cNvSpPr/>
          <p:nvPr/>
        </p:nvSpPr>
        <p:spPr>
          <a:xfrm>
            <a:off x="1600200" y="5445000"/>
            <a:ext cx="69325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ели урока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. Выявить географические аспекты глобальных проблем чело-вечеств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. Совершенствовать навыки работы со статистическими ма-териалам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7.40741E-007 C 0.0243 -0.00648 0.0092 -0.00394 0.04583 -0.00185 C 0.04861 -0.0007 0.05139 0.00069 0.05416 0.00185 C 0.05555 0.00255 0.05833 0.0037 0.05833 0.0037 C 0.06337 0.01389 0.06458 0.01643 0.06666 0.02778 C 0.06614 0.03588 0.06597 0.04375 0.06528 0.05185 C 0.06354 0.0706 0.05156 0.07824 0.04166 0.08704 C 0.03941 0.0868 0.02899 0.08634 0.025 0.08333 C 0.0118 0.07361 0.00625 0.05949 0.00278 0.04074 C 0.00121 0.00856 0.00243 0.02222 4.72222E-006 -7.40741E-007 Z">
                                      <p:cBhvr>
                                        <p:cTn id="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потребление энергии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4360" y="4076640"/>
            <a:ext cx="3490920" cy="2843280"/>
          </a:xfrm>
          <a:prstGeom prst="rect">
            <a:avLst/>
          </a:prstGeom>
          <a:ln w="0">
            <a:noFill/>
          </a:ln>
        </p:spPr>
      </p:pic>
      <p:sp>
        <p:nvSpPr>
          <p:cNvPr id="433" name="WordArt 3"/>
          <p:cNvSpPr txBox="1"/>
          <p:nvPr/>
        </p:nvSpPr>
        <p:spPr>
          <a:xfrm>
            <a:off x="4572000" y="2971800"/>
            <a:ext cx="3886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Пути решения: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684360" y="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НЕРГЕТИЧЕСКАЯ И СЫРЬЕВАЯ ПРОБЛЕ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5" descr="globe2"/>
          <p:cNvPicPr/>
          <p:nvPr/>
        </p:nvPicPr>
        <p:blipFill>
          <a:blip r:embed="rId4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6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Group 7"/>
          <p:cNvGrpSpPr/>
          <p:nvPr/>
        </p:nvGrpSpPr>
        <p:grpSpPr>
          <a:xfrm>
            <a:off x="0" y="685800"/>
            <a:ext cx="3886200" cy="3390840"/>
            <a:chOff x="0" y="685800"/>
            <a:chExt cx="3886200" cy="3390840"/>
          </a:xfrm>
        </p:grpSpPr>
        <p:pic>
          <p:nvPicPr>
            <p:cNvPr id="438" name="Picture 8" descr="Буровая платформа для добычи нефти"/>
            <p:cNvPicPr/>
            <p:nvPr/>
          </p:nvPicPr>
          <p:blipFill>
            <a:blip r:embed="rId5"/>
            <a:stretch/>
          </p:blipFill>
          <p:spPr>
            <a:xfrm>
              <a:off x="0" y="685800"/>
              <a:ext cx="3886200" cy="2593800"/>
            </a:xfrm>
            <a:prstGeom prst="rect">
              <a:avLst/>
            </a:prstGeom>
            <a:ln w="9360">
              <a:solidFill>
                <a:srgbClr val="000080"/>
              </a:solidFill>
              <a:miter/>
            </a:ln>
          </p:spPr>
        </p:pic>
        <p:sp>
          <p:nvSpPr>
            <p:cNvPr id="439" name="Rectangle 9"/>
            <p:cNvSpPr/>
            <p:nvPr/>
          </p:nvSpPr>
          <p:spPr>
            <a:xfrm>
              <a:off x="0" y="3298680"/>
              <a:ext cx="3886200" cy="77796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Морская буровая платформа в Северном море, считая от основания ее стальных ног и до верхушки буровой вышки, достигает высоты небоскреба. Обслуживаются персоналом до 300 человек, имеют одну - две буровые вышки, жилые поме-щения, резервуары, площадку для вертолетов.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Rectangle 10"/>
          <p:cNvSpPr/>
          <p:nvPr/>
        </p:nvSpPr>
        <p:spPr>
          <a:xfrm>
            <a:off x="3895560" y="685800"/>
            <a:ext cx="524844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Times New Roman"/>
              </a:rPr>
              <a:t>Энергетическая и сырьев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- объясняется взрывным ростом потребления топлива и сырья. Только за ХХ век в мире было добыто и потреблено топлива и сырья больше, чем за всю предыдущую историю человечества. Из Земли уже извлечено: 40% угля, 50% меди, 55% железной руды, 60% алмазов, 75% нефти, 80% газа. Наука предупреждает, что при современных объемах энергопотребления разведанных запасов органического топлива хватит примерно на 150 лет, в том числе нефти - на 35 лет, газа - на 45 лет, угля - на 400 лет (точка отсчета 2005 год)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3352680" y="589608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121e"/>
                </a:solidFill>
                <a:uFillTx/>
                <a:latin typeface="Times New Roman"/>
              </a:rPr>
              <a:t>ЗАДАНИЕ.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Проанализируйте диаграммы. Какие регионы мира являются лидерами в потреблении топлива? Что используется в качестве главных энергоносителей 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Picture 12" descr=""/>
          <p:cNvPicPr/>
          <p:nvPr/>
        </p:nvPicPr>
        <p:blipFill>
          <a:blip r:embed="rId6"/>
          <a:stretch/>
        </p:blipFill>
        <p:spPr>
          <a:xfrm>
            <a:off x="3886200" y="411480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13"/>
          <p:cNvSpPr/>
          <p:nvPr/>
        </p:nvSpPr>
        <p:spPr>
          <a:xfrm>
            <a:off x="4010040" y="3198960"/>
            <a:ext cx="5133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овышение коэффициента полезного использования уже добытого сырья и топлив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Увеличение выработки энергии на альтернативных источниках (солнечная энергия, ветровая, геотермальная)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14" descr=""/>
          <p:cNvPicPr/>
          <p:nvPr/>
        </p:nvPicPr>
        <p:blipFill>
          <a:blip r:embed="rId7"/>
          <a:stretch/>
        </p:blipFill>
        <p:spPr>
          <a:xfrm>
            <a:off x="6553080" y="4114800"/>
            <a:ext cx="2514600" cy="16462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5"/>
          <p:cNvSpPr/>
          <p:nvPr/>
        </p:nvSpPr>
        <p:spPr>
          <a:xfrm>
            <a:off x="3808440" y="5562720"/>
            <a:ext cx="17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етровой парк. Дани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6477120" y="5410080"/>
            <a:ext cx="25956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ом с использованием солнечной энергии. Египет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17" descr=""/>
          <p:cNvPicPr/>
          <p:nvPr/>
        </p:nvPicPr>
        <p:blipFill>
          <a:blip r:embed="rId8"/>
          <a:stretch/>
        </p:blipFill>
        <p:spPr>
          <a:xfrm>
            <a:off x="6858000" y="5791320"/>
            <a:ext cx="2209680" cy="10047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8"/>
          <p:cNvSpPr/>
          <p:nvPr/>
        </p:nvSpPr>
        <p:spPr>
          <a:xfrm>
            <a:off x="7588440" y="6553080"/>
            <a:ext cx="155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олнечная батаре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WordArt 2"/>
          <p:cNvSpPr txBox="1"/>
          <p:nvPr/>
        </p:nvSpPr>
        <p:spPr>
          <a:xfrm>
            <a:off x="250920" y="220680"/>
            <a:ext cx="875484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1" name="WordArt 3"/>
          <p:cNvSpPr txBox="1"/>
          <p:nvPr/>
        </p:nvSpPr>
        <p:spPr>
          <a:xfrm>
            <a:off x="395280" y="1484280"/>
            <a:ext cx="72010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бобщение. Проверь себя.</a:t>
            </a:r>
            <a:endParaRPr b="1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31840" y="1916280"/>
            <a:ext cx="87328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Что такое глобальные пробле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Почему именно во второй половине ХХ  века обострились глобальные пробле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Каковы особенности глобальных проблем? Приведите примеры взаимосвязи между различными глобальными проблемами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Можно ли сказать, что глобальные проблемы актуальны лишь для стран с низким уровнем развития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. Перечислите основные глобальные проблемы современного мир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. Какие глобальные проблемы актуальны для современной России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. В чём состоят главные особенности географического подхода к анализу глобальных проблем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. Почему проблема терроризма стала глобальной? Что такое «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уга нестабильност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»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. Почему проблема разоружения стала глобальной? В чём состоит концепция ядерной зи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. Почему экологические проблемы стали наиболее актуальн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1. Какие из социальных проблем современности вы считаете наиболее актуальными? Почему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2. Какая социальная проблема в современной России наиболее остра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WordArt 5"/>
          <p:cNvSpPr txBox="1"/>
          <p:nvPr/>
        </p:nvSpPr>
        <p:spPr>
          <a:xfrm rot="20295000">
            <a:off x="107640" y="5183280"/>
            <a:ext cx="223848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96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ворческое задание.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96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1476360" y="56610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одготовить сообщение о любой глобальной проблеме не рассмотренной в данной презентации, выявить суть проблемы, причины возникновения и пути решения, какие меры уже принимаются для решения данной проблемы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84360" y="-22320"/>
            <a:ext cx="7775280" cy="703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общества с природой на современном этапе развития человечества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8" descr="общество и природа"/>
          <p:cNvPicPr/>
          <p:nvPr/>
        </p:nvPicPr>
        <p:blipFill>
          <a:blip r:embed="rId2"/>
          <a:stretch/>
        </p:blipFill>
        <p:spPr>
          <a:xfrm>
            <a:off x="108000" y="765000"/>
            <a:ext cx="5472000" cy="3584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8" name="Line 11"/>
          <p:cNvSpPr/>
          <p:nvPr/>
        </p:nvSpPr>
        <p:spPr>
          <a:xfrm>
            <a:off x="4427640" y="907920"/>
            <a:ext cx="108108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5508720" y="907920"/>
            <a:ext cx="0" cy="316872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4"/>
          <p:cNvSpPr/>
          <p:nvPr/>
        </p:nvSpPr>
        <p:spPr>
          <a:xfrm flipH="1">
            <a:off x="4859280" y="4076640"/>
            <a:ext cx="64944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250920" y="907920"/>
            <a:ext cx="0" cy="316872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250920" y="907920"/>
            <a:ext cx="108108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8"/>
          <p:cNvSpPr/>
          <p:nvPr/>
        </p:nvSpPr>
        <p:spPr>
          <a:xfrm>
            <a:off x="250920" y="4076640"/>
            <a:ext cx="57600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4"/>
          <p:cNvSpPr/>
          <p:nvPr/>
        </p:nvSpPr>
        <p:spPr>
          <a:xfrm>
            <a:off x="5559480" y="735120"/>
            <a:ext cx="3584520" cy="44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современной эпохи развития человечества характерно качествен-но новое состояние взаимодействий общества и природы. Это связано с развитием научно - технического прогресса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к никогда достигнут планетар-ный масштаб производственно-хо-зяйственной деятельности общества. Постепенно очаги человеческой деятельности расширялись, усложнялись связи между ними. И вот, когда практически весь земной шар стал ареной человеческой деятельности, началось освоение космического пространств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108000" y="4365720"/>
            <a:ext cx="5472000" cy="52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исунок демонстрирует современное состояние взаимодействия общества и природ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ordArt 26"/>
          <p:cNvSpPr txBox="1"/>
          <p:nvPr/>
        </p:nvSpPr>
        <p:spPr>
          <a:xfrm>
            <a:off x="271440" y="5013360"/>
            <a:ext cx="2571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мы для рефератов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230040" y="5346720"/>
            <a:ext cx="8734680" cy="131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обенности взаимоотношения человека и географической среды от древности до наших дней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следствия резких изменений во взаимоотношениях человека с природной средой во второй половине ХХ век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воение человеком труднодоступных территорий планеты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2963880" y="5033880"/>
            <a:ext cx="390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Это можно выполнить как дополнительное задание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5651640" y="692280"/>
            <a:ext cx="3492360" cy="4870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ОСНОВНЫЕ ОСОБЕННОСТИ СОВРЕ-МЕННОГО ЭТАПА ВЗАИМОДЕЙСТ-ВИЯ ПРИРОДЫ И ОБЩЕСТВА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Резкое возрастание практичес-кого применения физических, хи-мических и биологических свойств материи (химизация и биохими-зация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Практическое применение мощ-нейшего источника энергии – ядер-ной энерги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Интенсификация использования природы, возрастание «давления» на природу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Изменение среды обитания че-ловека (в настоящее время изме-нено человеческой деятельностью 60% земной суши, более 20% этих ландшафтов поменяли свой лик коренным образом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684360" y="0"/>
            <a:ext cx="7848360" cy="7520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CY"/>
              </a:rPr>
              <a:t>Понятие о глобальных проблемах. Причины их обострени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34920" y="1413000"/>
            <a:ext cx="9109080" cy="863640"/>
          </a:xfrm>
          <a:prstGeom prst="wedgeRectCallout">
            <a:avLst>
              <a:gd name="adj1" fmla="val -42976"/>
              <a:gd name="adj2" fmla="val -7849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роблемы и ситуации, которые затрагивают условия жизни и деятельности людей, содержат угрозу для настоящего и будущего. Эти проблемы не могут быть решены силами одной страны, требуют совместно выработанных действий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83240" y="754200"/>
            <a:ext cx="5087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CY"/>
              </a:rPr>
              <a:t>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CY"/>
              </a:rPr>
              <a:t>Определение понят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CY"/>
              </a:rPr>
              <a:t>ГЛОБАЛЬНЫЕ ПРОБЛЕМЫ ЧЕЛОВЕЧЕСТВ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34920" y="2421000"/>
            <a:ext cx="2987640" cy="1798920"/>
          </a:xfrm>
          <a:prstGeom prst="rect">
            <a:avLst/>
          </a:prstGeom>
          <a:noFill/>
          <a:ln w="22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ходу развития цивилизации перед человечеством неоднократ-но возникали сложные проблемы. Но всё же это была далекая пре-дыстория современных глобаль-ных проблем. В полной мере они проявились во второй половине ХХ век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4920" y="4437000"/>
            <a:ext cx="2016000" cy="1643760"/>
          </a:xfrm>
          <a:prstGeom prst="rect">
            <a:avLst/>
          </a:prstGeom>
          <a:noFill/>
          <a:ln w="22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ие же причины привели к обостре-нию глобальных про-блем? В некоторых источниках эти при-чины называют –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«Пять никогда»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2" descr="york"/>
          <p:cNvPicPr/>
          <p:nvPr/>
        </p:nvPicPr>
        <p:blipFill>
          <a:blip r:embed="rId2"/>
          <a:srcRect l="0" t="7322" r="0" b="0"/>
          <a:stretch/>
        </p:blipFill>
        <p:spPr>
          <a:xfrm>
            <a:off x="7956720" y="2421000"/>
            <a:ext cx="1198440" cy="833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174mir"/>
          <p:cNvPicPr/>
          <p:nvPr/>
        </p:nvPicPr>
        <p:blipFill>
          <a:blip r:embed="rId3"/>
          <a:stretch/>
        </p:blipFill>
        <p:spPr>
          <a:xfrm>
            <a:off x="7956720" y="3333600"/>
            <a:ext cx="1187280" cy="816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Буровая платформа для добычи нефти"/>
          <p:cNvPicPr/>
          <p:nvPr/>
        </p:nvPicPr>
        <p:blipFill>
          <a:blip r:embed="rId4"/>
          <a:stretch/>
        </p:blipFill>
        <p:spPr>
          <a:xfrm>
            <a:off x="7956720" y="4221000"/>
            <a:ext cx="1187280" cy="79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Господин Доллар США"/>
          <p:cNvPicPr/>
          <p:nvPr/>
        </p:nvPicPr>
        <p:blipFill>
          <a:blip r:embed="rId5"/>
          <a:srcRect l="0" t="0" r="0" b="18090"/>
          <a:stretch/>
        </p:blipFill>
        <p:spPr>
          <a:xfrm>
            <a:off x="7956720" y="5084640"/>
            <a:ext cx="1187280" cy="719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810"/>
          <p:cNvPicPr/>
          <p:nvPr/>
        </p:nvPicPr>
        <p:blipFill>
          <a:blip r:embed="rId6"/>
          <a:stretch/>
        </p:blipFill>
        <p:spPr>
          <a:xfrm>
            <a:off x="7956720" y="5908680"/>
            <a:ext cx="1187280" cy="76032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1"/>
          <p:cNvSpPr/>
          <p:nvPr/>
        </p:nvSpPr>
        <p:spPr>
          <a:xfrm>
            <a:off x="3059280" y="2421000"/>
            <a:ext cx="4897440" cy="4248000"/>
          </a:xfrm>
          <a:prstGeom prst="wedgeRectCallout">
            <a:avLst>
              <a:gd name="adj1" fmla="val -69254"/>
              <a:gd name="adj2" fmla="val 18574"/>
            </a:avLst>
          </a:prstGeom>
          <a:solidFill>
            <a:srgbClr val="cc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человечество не возрастало коли-чественно в 2,5 раза при жизни только одного поколения, наращивая демографический груз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человечество не вступало в период НТР, не доходило до постиндустриальной стадии развития, не открывало дороги в космос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для жизнеобеспечения не требовалось такого количества ресурсов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е возникало такой глобальной мировой экономики, такой единой мировой информационной систем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«холодная война» не подводила человечество так близко к рубежу самоуничто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Oval 10"/>
          <p:cNvSpPr/>
          <p:nvPr/>
        </p:nvSpPr>
        <p:spPr>
          <a:xfrm>
            <a:off x="179280" y="2419200"/>
            <a:ext cx="2735280" cy="50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буют объединение всех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ан и народо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179280" y="1916280"/>
            <a:ext cx="2735280" cy="502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ют угрозу для настоящего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будущег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179280" y="1484280"/>
            <a:ext cx="2735280" cy="4320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хватывают весь мир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84360" y="0"/>
            <a:ext cx="7775280" cy="678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е особенности глобальных проблем. Классификация глобальных пробле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754200" y="765000"/>
            <a:ext cx="1441440" cy="6480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лобальных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9" descr="взаимосязь глобальных проблем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2997360"/>
            <a:ext cx="3995640" cy="3884400"/>
          </a:xfrm>
          <a:prstGeom prst="rect">
            <a:avLst/>
          </a:prstGeom>
          <a:ln w="0">
            <a:noFill/>
          </a:ln>
        </p:spPr>
      </p:pic>
      <p:sp>
        <p:nvSpPr>
          <p:cNvPr id="133" name="Line 72"/>
          <p:cNvSpPr/>
          <p:nvPr/>
        </p:nvSpPr>
        <p:spPr>
          <a:xfrm flipH="1">
            <a:off x="394920" y="112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73"/>
          <p:cNvSpPr/>
          <p:nvPr/>
        </p:nvSpPr>
        <p:spPr>
          <a:xfrm flipH="1">
            <a:off x="34560" y="112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4"/>
          <p:cNvSpPr/>
          <p:nvPr/>
        </p:nvSpPr>
        <p:spPr>
          <a:xfrm>
            <a:off x="34920" y="112536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5"/>
          <p:cNvSpPr/>
          <p:nvPr/>
        </p:nvSpPr>
        <p:spPr>
          <a:xfrm>
            <a:off x="34920" y="17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6"/>
          <p:cNvSpPr/>
          <p:nvPr/>
        </p:nvSpPr>
        <p:spPr>
          <a:xfrm>
            <a:off x="349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77"/>
          <p:cNvSpPr/>
          <p:nvPr/>
        </p:nvSpPr>
        <p:spPr>
          <a:xfrm>
            <a:off x="34920" y="26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79"/>
          <p:cNvSpPr/>
          <p:nvPr/>
        </p:nvSpPr>
        <p:spPr>
          <a:xfrm>
            <a:off x="34920" y="21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80"/>
          <p:cNvSpPr/>
          <p:nvPr/>
        </p:nvSpPr>
        <p:spPr>
          <a:xfrm>
            <a:off x="34920" y="1700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1"/>
          <p:cNvSpPr/>
          <p:nvPr/>
        </p:nvSpPr>
        <p:spPr>
          <a:xfrm>
            <a:off x="3059280" y="765000"/>
            <a:ext cx="5905440" cy="307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КЛАССИФИКАЦИЯ ГЛОБАЛЬНЫХ ПРОБЛЕ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2"/>
          <p:cNvSpPr/>
          <p:nvPr/>
        </p:nvSpPr>
        <p:spPr>
          <a:xfrm>
            <a:off x="3059280" y="1127160"/>
            <a:ext cx="2376360" cy="246240"/>
          </a:xfrm>
          <a:prstGeom prst="rect">
            <a:avLst/>
          </a:prstGeom>
          <a:solidFill>
            <a:srgbClr val="ffff99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ОЛИТИЧЕСКОГО ХАРАКТЕР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3"/>
          <p:cNvSpPr/>
          <p:nvPr/>
        </p:nvSpPr>
        <p:spPr>
          <a:xfrm>
            <a:off x="3059280" y="1355760"/>
            <a:ext cx="2376360" cy="703080"/>
          </a:xfrm>
          <a:prstGeom prst="rect">
            <a:avLst/>
          </a:prstGeom>
          <a:solidFill>
            <a:srgbClr val="ffe887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Предотвращение ядерной войны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беспечение устойчивого разви-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ия  мирового сообщества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Сохранение мира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85"/>
          <p:cNvSpPr/>
          <p:nvPr/>
        </p:nvSpPr>
        <p:spPr>
          <a:xfrm>
            <a:off x="3059280" y="2421000"/>
            <a:ext cx="2376360" cy="855360"/>
          </a:xfrm>
          <a:prstGeom prst="rect">
            <a:avLst/>
          </a:prstGeom>
          <a:solidFill>
            <a:srgbClr val="bcf0ef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Демографическая проблема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Межнациональные отношения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ризис культуры, нравственности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Дефицит демократии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храна здоровья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6"/>
          <p:cNvSpPr/>
          <p:nvPr/>
        </p:nvSpPr>
        <p:spPr>
          <a:xfrm>
            <a:off x="3059280" y="2205000"/>
            <a:ext cx="2376360" cy="261360"/>
          </a:xfrm>
          <a:prstGeom prst="rect">
            <a:avLst/>
          </a:prstGeom>
          <a:solidFill>
            <a:srgbClr val="8ae4e2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СОЦИАЛЬНОГО ХАРАКТЕРА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7"/>
          <p:cNvSpPr/>
          <p:nvPr/>
        </p:nvSpPr>
        <p:spPr>
          <a:xfrm>
            <a:off x="5651640" y="1125360"/>
            <a:ext cx="3313080" cy="246240"/>
          </a:xfrm>
          <a:prstGeom prst="rect">
            <a:avLst/>
          </a:prstGeom>
          <a:solidFill>
            <a:srgbClr val="00ff00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ИРОДНО-ЭКОНОМИЧЕСКОГО ХАРАКТЕР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8"/>
          <p:cNvSpPr/>
          <p:nvPr/>
        </p:nvSpPr>
        <p:spPr>
          <a:xfrm>
            <a:off x="5651640" y="1341360"/>
            <a:ext cx="3313080" cy="668520"/>
          </a:xfrm>
          <a:prstGeom prst="rect">
            <a:avLst/>
          </a:prstGeom>
          <a:solidFill>
            <a:srgbClr val="83ff83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Экологическая;                  - Сырьевая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Энергетическая;       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Мирового океана;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одовольственная;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93"/>
          <p:cNvGrpSpPr/>
          <p:nvPr/>
        </p:nvGrpSpPr>
        <p:grpSpPr>
          <a:xfrm>
            <a:off x="5651640" y="1989000"/>
            <a:ext cx="3313080" cy="814320"/>
            <a:chOff x="5651640" y="1989000"/>
            <a:chExt cx="3313080" cy="814320"/>
          </a:xfrm>
        </p:grpSpPr>
        <p:sp>
          <p:nvSpPr>
            <p:cNvPr id="149" name="Text Box 89"/>
            <p:cNvSpPr/>
            <p:nvPr/>
          </p:nvSpPr>
          <p:spPr>
            <a:xfrm>
              <a:off x="5651640" y="1989000"/>
              <a:ext cx="3313080" cy="261360"/>
            </a:xfrm>
            <a:prstGeom prst="rect">
              <a:avLst/>
            </a:prstGeom>
            <a:solidFill>
              <a:srgbClr val="ff66ff"/>
            </a:solidFill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</a:rPr>
                <a:t>СМЕШАННОГО ХАРАКТЕРА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90"/>
            <p:cNvSpPr/>
            <p:nvPr/>
          </p:nvSpPr>
          <p:spPr>
            <a:xfrm>
              <a:off x="5653080" y="2252520"/>
              <a:ext cx="3311640" cy="550800"/>
            </a:xfrm>
            <a:prstGeom prst="rect">
              <a:avLst/>
            </a:prstGeom>
            <a:solidFill>
              <a:srgbClr val="ff97ff"/>
            </a:solidFill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егиональные конфликты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Терроризм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Технологические аварии и др.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91"/>
          <p:cNvSpPr/>
          <p:nvPr/>
        </p:nvSpPr>
        <p:spPr>
          <a:xfrm>
            <a:off x="5651640" y="2781360"/>
            <a:ext cx="3313080" cy="261360"/>
          </a:xfrm>
          <a:prstGeom prst="rect">
            <a:avLst/>
          </a:prstGeom>
          <a:solidFill>
            <a:srgbClr val="669900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УЧНОГО ХАРАКТЕРА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92"/>
          <p:cNvSpPr/>
          <p:nvPr/>
        </p:nvSpPr>
        <p:spPr>
          <a:xfrm>
            <a:off x="5651640" y="3036960"/>
            <a:ext cx="3313080" cy="246240"/>
          </a:xfrm>
          <a:prstGeom prst="rect">
            <a:avLst/>
          </a:prstGeom>
          <a:solidFill>
            <a:srgbClr val="c1ff45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Освоение космос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6"/>
          <p:cNvSpPr/>
          <p:nvPr/>
        </p:nvSpPr>
        <p:spPr>
          <a:xfrm>
            <a:off x="3975120" y="3524400"/>
            <a:ext cx="49896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 глобальные проблемы теснейшим образом связаны между собой (смотри рисунок). Демографическая и продовольственная проблемы связаны как между собой, так и с охраной среды. Планирование семьи в некоторых странах поз-волит быстрее освободиться от голода и недое-дания, а прогресс сельского хозяйства ослабят дав-ление на окружающую среду. Продовольственная и ресурсная проблемы ассоциируются с преодо-лением отсталости развивающихся стран. Улучшение питания и более разумное использо-вание ресурсного потенциала ведут к повышению уровня жизни и т.д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97"/>
          <p:cNvSpPr/>
          <p:nvPr/>
        </p:nvSpPr>
        <p:spPr>
          <a:xfrm>
            <a:off x="1476360" y="4437000"/>
            <a:ext cx="914400" cy="914400"/>
          </a:xfrm>
          <a:prstGeom prst="ellipse">
            <a:avLst/>
          </a:prstGeom>
          <a:solidFill>
            <a:srgbClr val="ff9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заимосвязь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глобальных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облем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7" descr="terror"/>
          <p:cNvPicPr/>
          <p:nvPr/>
        </p:nvPicPr>
        <p:blipFill>
          <a:blip r:embed="rId2"/>
          <a:stretch/>
        </p:blipFill>
        <p:spPr>
          <a:xfrm>
            <a:off x="4500720" y="836640"/>
            <a:ext cx="1787400" cy="1335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100988"/>
          <p:cNvPicPr/>
          <p:nvPr/>
        </p:nvPicPr>
        <p:blipFill>
          <a:blip r:embed="rId3"/>
          <a:stretch/>
        </p:blipFill>
        <p:spPr>
          <a:xfrm>
            <a:off x="6350040" y="476280"/>
            <a:ext cx="2793960" cy="1968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m"/>
          <p:cNvPicPr/>
          <p:nvPr/>
        </p:nvPicPr>
        <p:blipFill>
          <a:blip r:embed="rId4"/>
          <a:srcRect l="12871" t="0" r="0" b="12940"/>
          <a:stretch/>
        </p:blipFill>
        <p:spPr>
          <a:xfrm>
            <a:off x="5219640" y="2479680"/>
            <a:ext cx="1946160" cy="1452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m_1860"/>
          <p:cNvPicPr/>
          <p:nvPr/>
        </p:nvPicPr>
        <p:blipFill>
          <a:blip r:embed="rId5"/>
          <a:stretch/>
        </p:blipFill>
        <p:spPr>
          <a:xfrm>
            <a:off x="7184880" y="2492280"/>
            <a:ext cx="1959120" cy="1440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1095071866_e69335eda7c5e714bbbc685143c00080"/>
          <p:cNvPicPr/>
          <p:nvPr/>
        </p:nvPicPr>
        <p:blipFill>
          <a:blip r:embed="rId6"/>
          <a:srcRect l="0" t="0" r="0" b="11278"/>
          <a:stretch/>
        </p:blipFill>
        <p:spPr>
          <a:xfrm>
            <a:off x="5219640" y="4005360"/>
            <a:ext cx="1944720" cy="1380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14"/>
          <p:cNvPicPr/>
          <p:nvPr/>
        </p:nvPicPr>
        <p:blipFill>
          <a:blip r:embed="rId7"/>
          <a:stretch/>
        </p:blipFill>
        <p:spPr>
          <a:xfrm>
            <a:off x="7199280" y="4005360"/>
            <a:ext cx="1944720" cy="1382760"/>
          </a:xfrm>
          <a:prstGeom prst="rect">
            <a:avLst/>
          </a:prstGeom>
          <a:ln w="0">
            <a:noFill/>
          </a:ln>
        </p:spPr>
      </p:pic>
      <p:sp>
        <p:nvSpPr>
          <p:cNvPr id="165" name="WordArt 13"/>
          <p:cNvSpPr txBox="1"/>
          <p:nvPr/>
        </p:nvSpPr>
        <p:spPr>
          <a:xfrm>
            <a:off x="108000" y="836640"/>
            <a:ext cx="460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Региональные конфликты 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терроризм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7752600" y="547560"/>
            <a:ext cx="143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США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11 сентября 2001 год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5149080" y="2428920"/>
            <a:ext cx="174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Бен Ладен – террорист №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5148360" y="3932280"/>
            <a:ext cx="189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Бислане  сентябрь 2004 год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7161120" y="3940200"/>
            <a:ext cx="187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рагедия  в Москве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«Норд-Ост» октябрь 2002 год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0" y="1989000"/>
            <a:ext cx="5148360" cy="33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то проблемы связанные со столкновением куль-тур, этносов, религий. В конце ХХ века пришелся всплеск национализма и сепаратизма (стремление к отделению), который дестабилизировал обстановку, но прежде всего на Балканах, Кавказе, Ближнем Вос-токе, Южной Ази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ажным фактором нестабильности для современ-ного мира стал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елигиозный (исламский) фундамен-тализ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сламские фундаменталисты ставят своей целью силой закрепить веру в священные догмы этой рели-гии, привести нормы общественной и личной жизни в соответствие с заповедями ислама. Для экстре-мистских течений характерно агрессивное неприя-тие  европейских  и  либеральных  ценностей,   готов-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7104240" y="2428920"/>
            <a:ext cx="143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США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11 сентября 2001 год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-12600" y="5300640"/>
            <a:ext cx="9121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ость прибегнуть к насильственным методам борьбы, включая террористические. Проблема терроризма усугубляется тем, что террористические акты проводятся за тысячи километров от мест этнических и религиозных конфликтов. Террористические акты 11 сентября 2001 г в Нью-Йорке, события в Москве в октябре 2002 г и Бислане в сентябре 2004 г свидетельствуют, что современный мир стал слишком мал, и ни один человек, где бы он ни жил, не может чувствовать себя полностью исключенным из войны идеологий.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971640" y="115920"/>
            <a:ext cx="633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Региональные конфликты 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терроризм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pic>
        <p:nvPicPr>
          <p:cNvPr id="175" name="Picture 5" descr="11698"/>
          <p:cNvPicPr/>
          <p:nvPr/>
        </p:nvPicPr>
        <p:blipFill>
          <a:blip r:embed="rId1"/>
          <a:stretch/>
        </p:blipFill>
        <p:spPr>
          <a:xfrm>
            <a:off x="7545240" y="0"/>
            <a:ext cx="1563840" cy="1916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Израиль палестина"/>
          <p:cNvPicPr/>
          <p:nvPr/>
        </p:nvPicPr>
        <p:blipFill>
          <a:blip r:embed="rId2"/>
          <a:srcRect l="2756" t="0" r="0" b="0"/>
          <a:stretch/>
        </p:blipFill>
        <p:spPr>
          <a:xfrm>
            <a:off x="4932360" y="1106640"/>
            <a:ext cx="2575080" cy="1890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ShowImage1"/>
          <p:cNvPicPr/>
          <p:nvPr/>
        </p:nvPicPr>
        <p:blipFill>
          <a:blip r:embed="rId3"/>
          <a:stretch/>
        </p:blipFill>
        <p:spPr>
          <a:xfrm>
            <a:off x="7567560" y="1989000"/>
            <a:ext cx="1576440" cy="1871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Американцы в ираке"/>
          <p:cNvPicPr/>
          <p:nvPr/>
        </p:nvPicPr>
        <p:blipFill>
          <a:blip r:embed="rId4"/>
          <a:stretch/>
        </p:blipFill>
        <p:spPr>
          <a:xfrm>
            <a:off x="4932360" y="3056040"/>
            <a:ext cx="2592360" cy="188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m_23126"/>
          <p:cNvPicPr/>
          <p:nvPr/>
        </p:nvPicPr>
        <p:blipFill>
          <a:blip r:embed="rId5"/>
          <a:stretch/>
        </p:blipFill>
        <p:spPr>
          <a:xfrm>
            <a:off x="4932360" y="4962600"/>
            <a:ext cx="2592360" cy="1851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Афганистан"/>
          <p:cNvPicPr/>
          <p:nvPr/>
        </p:nvPicPr>
        <p:blipFill>
          <a:blip r:embed="rId6"/>
          <a:stretch/>
        </p:blipFill>
        <p:spPr>
          <a:xfrm>
            <a:off x="7572240" y="5570640"/>
            <a:ext cx="1571760" cy="1171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216"/>
          <p:cNvPicPr/>
          <p:nvPr/>
        </p:nvPicPr>
        <p:blipFill>
          <a:blip r:embed="rId7"/>
          <a:stretch/>
        </p:blipFill>
        <p:spPr>
          <a:xfrm>
            <a:off x="7596360" y="3860640"/>
            <a:ext cx="1547640" cy="1700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1" descr="globe2"/>
          <p:cNvPicPr/>
          <p:nvPr/>
        </p:nvPicPr>
        <p:blipFill>
          <a:blip r:embed="rId8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Конфликты в современном мире"/>
          <p:cNvPicPr/>
          <p:nvPr/>
        </p:nvPicPr>
        <p:blipFill>
          <a:blip r:embed="rId9"/>
          <a:srcRect l="6763" t="9342" r="0" b="29776"/>
          <a:stretch/>
        </p:blipFill>
        <p:spPr>
          <a:xfrm>
            <a:off x="252360" y="1773360"/>
            <a:ext cx="4464000" cy="18730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8"/>
          <p:cNvSpPr/>
          <p:nvPr/>
        </p:nvSpPr>
        <p:spPr>
          <a:xfrm>
            <a:off x="7524720" y="1557360"/>
            <a:ext cx="187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Ясир Арафат – лидер палестинской автономии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9"/>
          <p:cNvSpPr/>
          <p:nvPr/>
        </p:nvSpPr>
        <p:spPr>
          <a:xfrm>
            <a:off x="4914720" y="2781360"/>
            <a:ext cx="271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Израиль и Палестина. До мира еще далеко.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0"/>
          <p:cNvSpPr/>
          <p:nvPr/>
        </p:nvSpPr>
        <p:spPr>
          <a:xfrm>
            <a:off x="4911840" y="3040200"/>
            <a:ext cx="198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мериканские войска а Ираке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1"/>
          <p:cNvSpPr/>
          <p:nvPr/>
        </p:nvSpPr>
        <p:spPr>
          <a:xfrm>
            <a:off x="4860000" y="6597720"/>
            <a:ext cx="268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Генеральный секретарь ООН Кофи Аннан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2"/>
          <p:cNvSpPr/>
          <p:nvPr/>
        </p:nvSpPr>
        <p:spPr>
          <a:xfrm>
            <a:off x="108000" y="4292640"/>
            <a:ext cx="473544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нализируя географическое расположение очагов крупнейших конфликтов, можно выявить определен-ную закономерность их расположения. «Дуга неста-бильности» - проходящая от Британских островов че-рез Среднюю Европу, Балканы, Кавказ, Памир, Гима-лаи к Индонезии и островам Зондского архипелаг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настоящее время, в связи с ослаблением роли Рос-сии и претензии США на то, чтобы стать единственной супердержавой современного мира, число конфликтов в регионе существенно увеличилось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33"/>
          <p:cNvSpPr/>
          <p:nvPr/>
        </p:nvSpPr>
        <p:spPr>
          <a:xfrm>
            <a:off x="179280" y="3571920"/>
            <a:ext cx="1584360" cy="793800"/>
          </a:xfrm>
          <a:prstGeom prst="wedgeRectCallout">
            <a:avLst>
              <a:gd name="adj1" fmla="val 93685"/>
              <a:gd name="adj2" fmla="val -106398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нутринациональные конфликты в странах Тропической Африки (Бурунди, Конго, Сома-ли и др.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4"/>
          <p:cNvSpPr/>
          <p:nvPr/>
        </p:nvSpPr>
        <p:spPr>
          <a:xfrm>
            <a:off x="474480" y="981000"/>
            <a:ext cx="424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РЕГИОНАЛЬНЫЕ КОНФЛИКТЫ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35"/>
          <p:cNvSpPr/>
          <p:nvPr/>
        </p:nvSpPr>
        <p:spPr>
          <a:xfrm>
            <a:off x="179280" y="2565360"/>
            <a:ext cx="1152720" cy="503280"/>
          </a:xfrm>
          <a:prstGeom prst="wedgeRectCallout">
            <a:avLst>
              <a:gd name="adj1" fmla="val 150962"/>
              <a:gd name="adj2" fmla="val -58833"/>
            </a:avLst>
          </a:prstGeom>
          <a:solidFill>
            <a:srgbClr val="ffff99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рабо-израильская борьба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38"/>
          <p:cNvSpPr/>
          <p:nvPr/>
        </p:nvSpPr>
        <p:spPr>
          <a:xfrm>
            <a:off x="2771640" y="4005360"/>
            <a:ext cx="1079640" cy="215640"/>
          </a:xfrm>
          <a:prstGeom prst="wedgeRectCallout">
            <a:avLst>
              <a:gd name="adj1" fmla="val -47351"/>
              <a:gd name="adj2" fmla="val -739703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ойна в Ираке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39"/>
          <p:cNvSpPr/>
          <p:nvPr/>
        </p:nvSpPr>
        <p:spPr>
          <a:xfrm>
            <a:off x="4140360" y="2349360"/>
            <a:ext cx="863280" cy="358920"/>
          </a:xfrm>
          <a:prstGeom prst="wedgeRectCallout">
            <a:avLst>
              <a:gd name="adj1" fmla="val -185476"/>
              <a:gd name="adj2" fmla="val -19027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фганский кризис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3"/>
          <p:cNvSpPr/>
          <p:nvPr/>
        </p:nvSpPr>
        <p:spPr>
          <a:xfrm>
            <a:off x="2013120" y="1841400"/>
            <a:ext cx="2673360" cy="17463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1746360"/>
              <a:gd name="textAreaBottom" fmla="*/ 1746720 h 1746360"/>
            </a:gdLst>
            <a:ahLst/>
            <a:rect l="textAreaLeft" t="textAreaTop" r="textAreaRight" b="textAreaBottom"/>
            <a:pathLst>
              <a:path w="1684" h="1100">
                <a:moveTo>
                  <a:pt x="1628" y="1100"/>
                </a:moveTo>
                <a:cubicBezTo>
                  <a:pt x="1636" y="1069"/>
                  <a:pt x="1646" y="1051"/>
                  <a:pt x="1664" y="1024"/>
                </a:cubicBezTo>
                <a:cubicBezTo>
                  <a:pt x="1674" y="1010"/>
                  <a:pt x="1674" y="991"/>
                  <a:pt x="1684" y="976"/>
                </a:cubicBezTo>
                <a:cubicBezTo>
                  <a:pt x="1666" y="949"/>
                  <a:pt x="1620" y="935"/>
                  <a:pt x="1592" y="916"/>
                </a:cubicBezTo>
                <a:cubicBezTo>
                  <a:pt x="1587" y="913"/>
                  <a:pt x="1585" y="907"/>
                  <a:pt x="1580" y="904"/>
                </a:cubicBezTo>
                <a:cubicBezTo>
                  <a:pt x="1573" y="900"/>
                  <a:pt x="1556" y="896"/>
                  <a:pt x="1556" y="896"/>
                </a:cubicBezTo>
                <a:cubicBezTo>
                  <a:pt x="1555" y="892"/>
                  <a:pt x="1555" y="887"/>
                  <a:pt x="1552" y="884"/>
                </a:cubicBezTo>
                <a:cubicBezTo>
                  <a:pt x="1545" y="877"/>
                  <a:pt x="1525" y="873"/>
                  <a:pt x="1516" y="868"/>
                </a:cubicBezTo>
                <a:cubicBezTo>
                  <a:pt x="1490" y="855"/>
                  <a:pt x="1519" y="866"/>
                  <a:pt x="1492" y="848"/>
                </a:cubicBezTo>
                <a:cubicBezTo>
                  <a:pt x="1481" y="840"/>
                  <a:pt x="1456" y="828"/>
                  <a:pt x="1456" y="828"/>
                </a:cubicBezTo>
                <a:cubicBezTo>
                  <a:pt x="1445" y="811"/>
                  <a:pt x="1428" y="811"/>
                  <a:pt x="1412" y="800"/>
                </a:cubicBezTo>
                <a:cubicBezTo>
                  <a:pt x="1401" y="784"/>
                  <a:pt x="1384" y="771"/>
                  <a:pt x="1368" y="760"/>
                </a:cubicBezTo>
                <a:cubicBezTo>
                  <a:pt x="1359" y="732"/>
                  <a:pt x="1337" y="734"/>
                  <a:pt x="1316" y="720"/>
                </a:cubicBezTo>
                <a:cubicBezTo>
                  <a:pt x="1298" y="708"/>
                  <a:pt x="1283" y="697"/>
                  <a:pt x="1264" y="688"/>
                </a:cubicBezTo>
                <a:cubicBezTo>
                  <a:pt x="1241" y="654"/>
                  <a:pt x="1272" y="694"/>
                  <a:pt x="1244" y="672"/>
                </a:cubicBezTo>
                <a:cubicBezTo>
                  <a:pt x="1240" y="669"/>
                  <a:pt x="1239" y="663"/>
                  <a:pt x="1236" y="660"/>
                </a:cubicBezTo>
                <a:cubicBezTo>
                  <a:pt x="1233" y="657"/>
                  <a:pt x="1228" y="655"/>
                  <a:pt x="1224" y="652"/>
                </a:cubicBezTo>
                <a:cubicBezTo>
                  <a:pt x="1208" y="627"/>
                  <a:pt x="1180" y="618"/>
                  <a:pt x="1156" y="604"/>
                </a:cubicBezTo>
                <a:cubicBezTo>
                  <a:pt x="1119" y="584"/>
                  <a:pt x="1073" y="536"/>
                  <a:pt x="1036" y="524"/>
                </a:cubicBezTo>
                <a:cubicBezTo>
                  <a:pt x="1024" y="512"/>
                  <a:pt x="1020" y="501"/>
                  <a:pt x="1004" y="496"/>
                </a:cubicBezTo>
                <a:cubicBezTo>
                  <a:pt x="978" y="470"/>
                  <a:pt x="904" y="432"/>
                  <a:pt x="868" y="420"/>
                </a:cubicBezTo>
                <a:cubicBezTo>
                  <a:pt x="847" y="399"/>
                  <a:pt x="816" y="387"/>
                  <a:pt x="788" y="380"/>
                </a:cubicBezTo>
                <a:cubicBezTo>
                  <a:pt x="759" y="361"/>
                  <a:pt x="721" y="355"/>
                  <a:pt x="688" y="344"/>
                </a:cubicBezTo>
                <a:cubicBezTo>
                  <a:pt x="632" y="325"/>
                  <a:pt x="574" y="306"/>
                  <a:pt x="516" y="300"/>
                </a:cubicBezTo>
                <a:cubicBezTo>
                  <a:pt x="445" y="276"/>
                  <a:pt x="372" y="254"/>
                  <a:pt x="300" y="236"/>
                </a:cubicBezTo>
                <a:cubicBezTo>
                  <a:pt x="289" y="229"/>
                  <a:pt x="275" y="227"/>
                  <a:pt x="264" y="220"/>
                </a:cubicBezTo>
                <a:cubicBezTo>
                  <a:pt x="248" y="209"/>
                  <a:pt x="232" y="199"/>
                  <a:pt x="216" y="188"/>
                </a:cubicBezTo>
                <a:cubicBezTo>
                  <a:pt x="198" y="176"/>
                  <a:pt x="181" y="177"/>
                  <a:pt x="164" y="160"/>
                </a:cubicBezTo>
                <a:cubicBezTo>
                  <a:pt x="150" y="146"/>
                  <a:pt x="130" y="138"/>
                  <a:pt x="116" y="124"/>
                </a:cubicBezTo>
                <a:cubicBezTo>
                  <a:pt x="103" y="111"/>
                  <a:pt x="88" y="90"/>
                  <a:pt x="72" y="80"/>
                </a:cubicBezTo>
                <a:cubicBezTo>
                  <a:pt x="62" y="65"/>
                  <a:pt x="47" y="50"/>
                  <a:pt x="32" y="40"/>
                </a:cubicBezTo>
                <a:cubicBezTo>
                  <a:pt x="20" y="22"/>
                  <a:pt x="14" y="14"/>
                  <a:pt x="0" y="0"/>
                </a:cubicBezTo>
              </a:path>
            </a:pathLst>
          </a:custGeom>
          <a:noFill/>
          <a:ln w="2232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25"/>
          <p:cNvSpPr/>
          <p:nvPr/>
        </p:nvSpPr>
        <p:spPr>
          <a:xfrm>
            <a:off x="1860480" y="1855800"/>
            <a:ext cx="2724120" cy="1725480"/>
          </a:xfrm>
          <a:custGeom>
            <a:avLst/>
            <a:gdLst>
              <a:gd name="textAreaLeft" fmla="*/ 0 w 2724120"/>
              <a:gd name="textAreaRight" fmla="*/ 2724480 w 2724120"/>
              <a:gd name="textAreaTop" fmla="*/ 0 h 1725480"/>
              <a:gd name="textAreaBottom" fmla="*/ 1725840 h 1725480"/>
            </a:gdLst>
            <a:ahLst/>
            <a:rect l="textAreaLeft" t="textAreaTop" r="textAreaRight" b="textAreaBottom"/>
            <a:pathLst>
              <a:path w="1716" h="1087">
                <a:moveTo>
                  <a:pt x="1716" y="1087"/>
                </a:moveTo>
                <a:cubicBezTo>
                  <a:pt x="1705" y="1071"/>
                  <a:pt x="1689" y="1068"/>
                  <a:pt x="1672" y="1059"/>
                </a:cubicBezTo>
                <a:cubicBezTo>
                  <a:pt x="1639" y="1042"/>
                  <a:pt x="1607" y="1024"/>
                  <a:pt x="1576" y="1003"/>
                </a:cubicBezTo>
                <a:cubicBezTo>
                  <a:pt x="1563" y="994"/>
                  <a:pt x="1543" y="986"/>
                  <a:pt x="1528" y="979"/>
                </a:cubicBezTo>
                <a:cubicBezTo>
                  <a:pt x="1520" y="976"/>
                  <a:pt x="1504" y="971"/>
                  <a:pt x="1504" y="971"/>
                </a:cubicBezTo>
                <a:cubicBezTo>
                  <a:pt x="1470" y="974"/>
                  <a:pt x="1442" y="980"/>
                  <a:pt x="1408" y="983"/>
                </a:cubicBezTo>
                <a:cubicBezTo>
                  <a:pt x="1355" y="1018"/>
                  <a:pt x="1394" y="999"/>
                  <a:pt x="1280" y="995"/>
                </a:cubicBezTo>
                <a:cubicBezTo>
                  <a:pt x="1245" y="983"/>
                  <a:pt x="1201" y="979"/>
                  <a:pt x="1164" y="975"/>
                </a:cubicBezTo>
                <a:cubicBezTo>
                  <a:pt x="1127" y="963"/>
                  <a:pt x="1097" y="939"/>
                  <a:pt x="1060" y="927"/>
                </a:cubicBezTo>
                <a:cubicBezTo>
                  <a:pt x="1029" y="896"/>
                  <a:pt x="967" y="854"/>
                  <a:pt x="928" y="835"/>
                </a:cubicBezTo>
                <a:cubicBezTo>
                  <a:pt x="911" y="826"/>
                  <a:pt x="900" y="803"/>
                  <a:pt x="880" y="799"/>
                </a:cubicBezTo>
                <a:cubicBezTo>
                  <a:pt x="853" y="794"/>
                  <a:pt x="827" y="785"/>
                  <a:pt x="800" y="779"/>
                </a:cubicBezTo>
                <a:cubicBezTo>
                  <a:pt x="792" y="777"/>
                  <a:pt x="784" y="777"/>
                  <a:pt x="776" y="775"/>
                </a:cubicBezTo>
                <a:cubicBezTo>
                  <a:pt x="768" y="773"/>
                  <a:pt x="752" y="767"/>
                  <a:pt x="752" y="767"/>
                </a:cubicBezTo>
                <a:cubicBezTo>
                  <a:pt x="680" y="773"/>
                  <a:pt x="647" y="776"/>
                  <a:pt x="564" y="779"/>
                </a:cubicBezTo>
                <a:cubicBezTo>
                  <a:pt x="536" y="775"/>
                  <a:pt x="524" y="766"/>
                  <a:pt x="500" y="755"/>
                </a:cubicBezTo>
                <a:cubicBezTo>
                  <a:pt x="492" y="752"/>
                  <a:pt x="476" y="747"/>
                  <a:pt x="476" y="747"/>
                </a:cubicBezTo>
                <a:cubicBezTo>
                  <a:pt x="471" y="731"/>
                  <a:pt x="446" y="705"/>
                  <a:pt x="432" y="691"/>
                </a:cubicBezTo>
                <a:cubicBezTo>
                  <a:pt x="428" y="678"/>
                  <a:pt x="419" y="668"/>
                  <a:pt x="416" y="655"/>
                </a:cubicBezTo>
                <a:cubicBezTo>
                  <a:pt x="403" y="604"/>
                  <a:pt x="393" y="553"/>
                  <a:pt x="376" y="503"/>
                </a:cubicBezTo>
                <a:cubicBezTo>
                  <a:pt x="370" y="486"/>
                  <a:pt x="358" y="472"/>
                  <a:pt x="352" y="455"/>
                </a:cubicBezTo>
                <a:cubicBezTo>
                  <a:pt x="351" y="451"/>
                  <a:pt x="344" y="452"/>
                  <a:pt x="340" y="451"/>
                </a:cubicBezTo>
                <a:cubicBezTo>
                  <a:pt x="315" y="426"/>
                  <a:pt x="309" y="426"/>
                  <a:pt x="280" y="407"/>
                </a:cubicBezTo>
                <a:cubicBezTo>
                  <a:pt x="260" y="393"/>
                  <a:pt x="244" y="375"/>
                  <a:pt x="220" y="367"/>
                </a:cubicBezTo>
                <a:cubicBezTo>
                  <a:pt x="209" y="351"/>
                  <a:pt x="183" y="343"/>
                  <a:pt x="164" y="335"/>
                </a:cubicBezTo>
                <a:cubicBezTo>
                  <a:pt x="156" y="332"/>
                  <a:pt x="140" y="327"/>
                  <a:pt x="140" y="327"/>
                </a:cubicBezTo>
                <a:cubicBezTo>
                  <a:pt x="130" y="313"/>
                  <a:pt x="122" y="312"/>
                  <a:pt x="108" y="303"/>
                </a:cubicBezTo>
                <a:cubicBezTo>
                  <a:pt x="96" y="285"/>
                  <a:pt x="87" y="270"/>
                  <a:pt x="72" y="255"/>
                </a:cubicBezTo>
                <a:cubicBezTo>
                  <a:pt x="63" y="219"/>
                  <a:pt x="46" y="181"/>
                  <a:pt x="20" y="155"/>
                </a:cubicBezTo>
                <a:cubicBezTo>
                  <a:pt x="15" y="140"/>
                  <a:pt x="5" y="134"/>
                  <a:pt x="0" y="119"/>
                </a:cubicBezTo>
                <a:cubicBezTo>
                  <a:pt x="5" y="82"/>
                  <a:pt x="3" y="95"/>
                  <a:pt x="28" y="79"/>
                </a:cubicBezTo>
                <a:cubicBezTo>
                  <a:pt x="47" y="51"/>
                  <a:pt x="36" y="60"/>
                  <a:pt x="56" y="47"/>
                </a:cubicBezTo>
                <a:cubicBezTo>
                  <a:pt x="67" y="30"/>
                  <a:pt x="64" y="25"/>
                  <a:pt x="84" y="15"/>
                </a:cubicBezTo>
                <a:cubicBezTo>
                  <a:pt x="89" y="0"/>
                  <a:pt x="84" y="3"/>
                  <a:pt x="96" y="3"/>
                </a:cubicBezTo>
              </a:path>
            </a:pathLst>
          </a:custGeom>
          <a:noFill/>
          <a:ln w="2232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250920" y="1773360"/>
            <a:ext cx="144144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Условные обозначения: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-----------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  - дуга нестабильности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939"/>
                </a:solidFill>
                <a:latin typeface="Times New Roman"/>
                <a:ea typeface="Times New Roman"/>
              </a:rPr>
              <a:t>•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чаги конфликтов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0"/>
          <p:cNvSpPr/>
          <p:nvPr/>
        </p:nvSpPr>
        <p:spPr>
          <a:xfrm>
            <a:off x="108000" y="1268280"/>
            <a:ext cx="1944720" cy="503280"/>
          </a:xfrm>
          <a:prstGeom prst="wedgeRectCallout">
            <a:avLst>
              <a:gd name="adj1" fmla="val 61592"/>
              <a:gd name="adj2" fmla="val 154731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нфликты на территории бывшей Югославии (Косово, Босния и Герцеговина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41"/>
          <p:cNvSpPr/>
          <p:nvPr/>
        </p:nvSpPr>
        <p:spPr>
          <a:xfrm>
            <a:off x="2843280" y="1341360"/>
            <a:ext cx="2089080" cy="358920"/>
          </a:xfrm>
          <a:prstGeom prst="wedgeRectCallout">
            <a:avLst>
              <a:gd name="adj1" fmla="val -60032"/>
              <a:gd name="adj2" fmla="val 215930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ризисы на территории СНГ (Чечня, Грузия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3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4520" y="990720"/>
            <a:ext cx="5792760" cy="2438280"/>
          </a:xfrm>
          <a:prstGeom prst="rect">
            <a:avLst/>
          </a:prstGeom>
          <a:ln w="9360">
            <a:solidFill>
              <a:srgbClr val="808080"/>
            </a:solidFill>
            <a:prstDash val="sysDot"/>
            <a:miter/>
          </a:ln>
        </p:spPr>
      </p:pic>
      <p:sp>
        <p:nvSpPr>
          <p:cNvPr id="201" name="Text Box 4"/>
          <p:cNvSpPr/>
          <p:nvPr/>
        </p:nvSpPr>
        <p:spPr>
          <a:xfrm>
            <a:off x="684360" y="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блема мира и разору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5" descr="globe2"/>
          <p:cNvPicPr/>
          <p:nvPr/>
        </p:nvPicPr>
        <p:blipFill>
          <a:blip r:embed="rId2"/>
          <a:stretch/>
        </p:blipFill>
        <p:spPr>
          <a:xfrm>
            <a:off x="0" y="-2700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76320" y="609480"/>
            <a:ext cx="5715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мира и разоружения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pic>
        <p:nvPicPr>
          <p:cNvPr id="205" name="Picture 10" descr=""/>
          <p:cNvPicPr/>
          <p:nvPr/>
        </p:nvPicPr>
        <p:blipFill>
          <a:blip r:embed="rId3"/>
          <a:stretch/>
        </p:blipFill>
        <p:spPr>
          <a:xfrm>
            <a:off x="4800600" y="2666880"/>
            <a:ext cx="1066680" cy="750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"/>
          <p:cNvPicPr/>
          <p:nvPr/>
        </p:nvPicPr>
        <p:blipFill>
          <a:blip r:embed="rId4"/>
          <a:stretch/>
        </p:blipFill>
        <p:spPr>
          <a:xfrm>
            <a:off x="6858000" y="5562720"/>
            <a:ext cx="2133720" cy="12189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4"/>
          <p:cNvSpPr/>
          <p:nvPr/>
        </p:nvSpPr>
        <p:spPr>
          <a:xfrm>
            <a:off x="5889600" y="760320"/>
            <a:ext cx="3102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мире накоплены чудовищные средства массового уничтожения. На каждого жителя Земли прихо-дится столько оружия, которого достаточно, чтобы уничтожить все живое 20 раз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5927760" y="2174760"/>
            <a:ext cx="3063960" cy="1243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939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Рассмотрите карту и ответьте на вопрос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ие страны мира обладают ядерным оружием?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ая страна лидирует по количеству боеголовок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84600" y="1676520"/>
            <a:ext cx="236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рт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«Ядерные державы мира»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7" descr=""/>
          <p:cNvPicPr/>
          <p:nvPr/>
        </p:nvPicPr>
        <p:blipFill>
          <a:blip r:embed="rId5"/>
          <a:srcRect l="0" t="23811" r="0" b="0"/>
          <a:stretch/>
        </p:blipFill>
        <p:spPr>
          <a:xfrm>
            <a:off x="6858000" y="4038480"/>
            <a:ext cx="2133720" cy="1219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8" descr=""/>
          <p:cNvPicPr/>
          <p:nvPr/>
        </p:nvPicPr>
        <p:blipFill>
          <a:blip r:embed="rId6"/>
          <a:stretch/>
        </p:blipFill>
        <p:spPr>
          <a:xfrm>
            <a:off x="4395960" y="3505320"/>
            <a:ext cx="2309760" cy="32004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9"/>
          <p:cNvSpPr/>
          <p:nvPr/>
        </p:nvSpPr>
        <p:spPr>
          <a:xfrm>
            <a:off x="6858000" y="3429000"/>
            <a:ext cx="2174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Лидер Пакистана Наваз Шараф объявляет о том, что Пакистан стал первой ядерной державой в исламском мире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0"/>
          <p:cNvSpPr/>
          <p:nvPr/>
        </p:nvSpPr>
        <p:spPr>
          <a:xfrm>
            <a:off x="6781680" y="5241960"/>
            <a:ext cx="236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еверная Корея (КНДР) готовится стать ядерной державой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434448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дерная зи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2"/>
          <p:cNvSpPr/>
          <p:nvPr/>
        </p:nvSpPr>
        <p:spPr>
          <a:xfrm>
            <a:off x="4724280" y="3214800"/>
            <a:ext cx="125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Ядерный гриб (взрыв)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60480" y="3414600"/>
            <a:ext cx="42829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шло осознание того, что ядерная война бы-ла бы концом жизни на Земле. Следствием такой войны, как установлено учеными, была бы «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ядер-ная зи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цепция «ядерной зимы» состоит в следую-щем. В результате ядерных взрывов возникают массовые пожары, сопровождающиеся выде-лением в атмосферу огромного количества продуктов горения. Облака, состоящие из мельчайших частиц сажи, поглощают и рассеивают солнечный свет, вызывая затемнение поверхности Земли - «ядерную ночь». В результате нарушится радиационный баланс планеты, температура ее поверхности понизится на 15-20 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, что повлечет гибель всего живого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152280" y="1143000"/>
            <a:ext cx="5715000" cy="243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ВОД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ущность проблемы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в мире накоплены чудовищные средства массового уничто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ричины возникнове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гонка вооружения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литическая нестабильность в мире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ути реше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оружение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троль за разоружением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рные договор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WordArt 5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4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5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7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1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22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3"/>
          <p:cNvSpPr/>
          <p:nvPr/>
        </p:nvSpPr>
        <p:spPr>
          <a:xfrm>
            <a:off x="4356000" y="765000"/>
            <a:ext cx="4608720" cy="429120"/>
          </a:xfrm>
          <a:prstGeom prst="rect">
            <a:avLst/>
          </a:prstGeom>
          <a:solidFill>
            <a:srgbClr val="bcf0ef">
              <a:alpha val="56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4"/>
          <p:cNvSpPr/>
          <p:nvPr/>
        </p:nvSpPr>
        <p:spPr>
          <a:xfrm>
            <a:off x="611280" y="1311120"/>
            <a:ext cx="342900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5" descr="парниковй эффект"/>
          <p:cNvPicPr/>
          <p:nvPr/>
        </p:nvPicPr>
        <p:blipFill>
          <a:blip r:embed="rId2"/>
          <a:stretch/>
        </p:blipFill>
        <p:spPr>
          <a:xfrm>
            <a:off x="71280" y="1700280"/>
            <a:ext cx="4284720" cy="1873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6" descr="парниковый эффект глобальное потепление оборачивается засухами выгорают колоссальные площади лесов, а выдеяющ"/>
          <p:cNvPicPr/>
          <p:nvPr/>
        </p:nvPicPr>
        <p:blipFill>
          <a:blip r:embed="rId3"/>
          <a:stretch/>
        </p:blipFill>
        <p:spPr>
          <a:xfrm>
            <a:off x="4356000" y="1268280"/>
            <a:ext cx="4608720" cy="21528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27"/>
          <p:cNvSpPr/>
          <p:nvPr/>
        </p:nvSpPr>
        <p:spPr>
          <a:xfrm>
            <a:off x="108000" y="3429000"/>
            <a:ext cx="88567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держащаяся в атмосфере двуокись углерода (СО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 играет большую роль в жизни человека, растений и животных, предохраняя землю от перегрева и выхолаживания. Но хозяйственная деятельность человека – сжигание огромных масс топлива – нарушила баланс СО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природе, что создает угрозу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арникового эффект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- заметного потепления климата, таяния льдов, повышения уровня Мирового океан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Object 30"/>
          <p:cNvGraphicFramePr/>
          <p:nvPr/>
        </p:nvGraphicFramePr>
        <p:xfrm>
          <a:off x="61920" y="4343400"/>
          <a:ext cx="4890960" cy="3333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Object 3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920" y="4343400"/>
                    <a:ext cx="48909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31"/>
          <p:cNvSpPr/>
          <p:nvPr/>
        </p:nvSpPr>
        <p:spPr>
          <a:xfrm>
            <a:off x="3411360" y="4794120"/>
            <a:ext cx="2303640" cy="19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анализируйте диаграмму.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кие отрасли являются самыми «грязными»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ложите основные нап-равления действий по сокра-щению загрязнения атмос-феры этими отраслям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2"/>
          <p:cNvSpPr/>
          <p:nvPr/>
        </p:nvSpPr>
        <p:spPr>
          <a:xfrm>
            <a:off x="176400" y="4508640"/>
            <a:ext cx="547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Загрязнение атмосферы планеты различными отраслями промышленност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3"/>
          <p:cNvSpPr/>
          <p:nvPr/>
        </p:nvSpPr>
        <p:spPr>
          <a:xfrm>
            <a:off x="5508720" y="1268280"/>
            <a:ext cx="3457440" cy="76644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результате парникового эффекта происходит глобальное потепление, которое оборачивается засухами. Выгорают колоссаль-ные площади лесов, а выделяющаяся при по-жарах СО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усиливает парниковый эффек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34" descr="GLOBUS3"/>
          <p:cNvPicPr/>
          <p:nvPr/>
        </p:nvPicPr>
        <p:blipFill>
          <a:blip r:embed="rId6"/>
          <a:stretch/>
        </p:blipFill>
        <p:spPr>
          <a:xfrm>
            <a:off x="6781680" y="4267080"/>
            <a:ext cx="997200" cy="6667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5"/>
          <p:cNvSpPr/>
          <p:nvPr/>
        </p:nvSpPr>
        <p:spPr>
          <a:xfrm>
            <a:off x="6746760" y="4797360"/>
            <a:ext cx="23972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атмосферы двуокисью серы и окислами азота породило такое явления, как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ислотные дожд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Ими уничтожено почти полови-на лесной растительности Европ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6" descr=""/>
          <p:cNvPicPr/>
          <p:nvPr/>
        </p:nvPicPr>
        <p:blipFill>
          <a:blip r:embed="rId7"/>
          <a:stretch/>
        </p:blipFill>
        <p:spPr>
          <a:xfrm>
            <a:off x="5638680" y="4495680"/>
            <a:ext cx="1175040" cy="21067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LEGION</cp:lastModifiedBy>
  <dcterms:modified xsi:type="dcterms:W3CDTF">2015-05-06T08:14:56Z</dcterms:modified>
  <cp:revision>83</cp:revision>
  <dc:subject/>
  <dc:title>PowerPoint Presentation</dc:title>
</cp:coreProperties>
</file>