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07C4-2E88-4558-AEFA-F8D9496DA8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2DA6-BF8A-4173-88C7-FCD38068A1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нрав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9998-B329-479F-A46E-A6E5AD36AA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й стране также растёт число тех, кто активно выступает за оздоровление экологической обстановки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были многочисленные выступления в защиту озера Байкал, когда люди протестовали против строительства на нем целлюлозно-бумажного комбин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B273-627F-44A5-A5CB-826E20C971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ошения всё новых земель под хлопчатник стали забирать воду из рек Сырдарьи и Амударьи. Реки обмелели, засолилось Аральское море. Начались соляные бури. И тут пришли к мысли о переброске сибирских р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озерске был закрыт мебельный комбинат, приостановлено осуществление проекта переброски р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FCEE-AE1A-471D-A917-46604AA0A4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егодня каждому из нас стоит задуматься, какие нравственные требования предъявляет сложившаяся экологическая ситуация к людям, какой собственный вклад мы могли бы внести в дело защиты окружающ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5F34-477F-4EDB-97B7-D372C50C66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нравств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неразумного отношения к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од для оптим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AF78-C9E8-494A-88ED-30836F5FC5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ной из публикаций в журнале «Знание – сила», содержащей размышления о причинах, порождающих экологический кризис, приведён следующий пример: «Несколько десятилетий тому назад подняли целинные земли. Сделали это не задумываясь о роли почвы в биосфер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распахивают степь сплошь в то время как можно лишь полосами. Лесопосадки тоже оказались лиш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40FE-6534-4751-86B8-635BC79E13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уничтожили уникальные сообщества трав, животных, насекомых. В большом количестве исчезли овцы, лошади, коровы. Нет прежнего режима почв. Нет скотоводства. Происходят страшные пыльные бур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BA18-9728-4ED2-A876-6ADFF5AA84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худшение экологической обстановки в данной местности происходит не из-за отсутствия современной техники, а из-за неумелого ведения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9F64-2E08-44B6-B4BD-389E897CC1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логическая катастрофа                                                                                           наступ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люди в отношении с экологией строят свое поведение в соответствии с эгоистическими принципами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ш век хвати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, 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нас хоть пото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, недооценивающие опасность экологического кризиса, говорят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, в городах вода и воздух, конечно, неважные, а стоит отъехать на пару десятков километров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ACBC-DE52-4B95-A141-F891969F90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 и геологи говорят о наступившей беде с конкретными цифрами в руках. Писатели-фантасты изображают будущее человечества: безжизненная, изгаженная, обезображенная земля и человек, превратившийся из властелина в изгоя, вынужденный отыскивать для жизни клочки, оазисы еще не окончательно отравленно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C3F1-2189-4C53-9E51-1F5DDE8FAF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 наступ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C1C4-F0E0-4803-9F43-ACFC3DAE1C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людей, все больше проникаясь чувством ответственности перед грядущим поколением, перед всем живущим на Земле, понимают, что сейчас уже недостаточно произносить пылкие слова в защиту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яде зарубежных стран отдельные группы людей объединились в защиту окружающей среды, образовали парт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3356-2B90-4CB0-BE35-8E93DA9F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F84-D288-4163-819E-7672FE4D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205C-B9D9-4A6D-BDA7-93A8DC90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D21-27ED-4FA8-960D-4D340404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F6B4D-67B0-4C39-8C3B-217F8076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0BE34-A1CC-41CA-B710-B9B067EF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B625A-0384-444E-A2D9-F1CE3B74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87E83-91BB-4931-BA90-079E062F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C4A84-5825-4FD2-9997-3F9C6B23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AD548-A063-4394-8EEE-73C10E76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6328C-E157-459C-9530-6AF8ACB2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9902-D1E8-42FC-9004-94B20285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813F3-65B4-4A8A-9443-D9BF74A8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6C53A-11D0-4DB0-BFFE-D99C2566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E273E-70C5-45D3-84AB-A39B014A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727FD-4A5D-42BA-8D53-1B1B07E4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90867-F284-4DBB-BE4B-4E95682D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32F-BBAF-4E7E-91B7-32BE5065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796-165B-40B3-BA06-96471A3F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7131-04E5-412A-A994-AA7FB53B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E06-EBF0-4039-BA06-F25B5BD8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8CA-4312-4BF4-BBE0-39DDE63D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BD21-EC9A-44B9-896B-7438FA8A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86F6-C9D9-4C89-A190-106F0E06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E7D4-4103-41B0-A815-528CAB5DF5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EE2A-6F78-4FFA-880A-D50B3ECAE4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я и нравствен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шей стране также растёт число тех, кто активно выступает за оздоровление экологической обстановки.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России были многочисленные выступления в защиту озера Байкал, когда люди протестовали против строительства на нем целлюлозно-бумажного комбинат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рошения всё новых земель под хлопчатник стали забирать воду из рек Сырдарьи и Амударьи. Реки обмелели, засолилось Аральское море. Начались соляные бури. И тут пришли к мысли о переброске сибирских ре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озерске был закрыт мебельный комбинат, приостановлено осуществление проекта переброски 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сегодня каждому из нас стоит задуматься, какие нравственные требования предъявляет сложившаяся экологическая ситуация к людям, какой собственный вклад мы могли бы внести в дело защиты окруж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я и нравственност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дствия неразумного отношения к прир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од для оптимиз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дной из публикаций в журнале «Знание – сила», содержащей размышления о причинах, порождающих экологический кризис, приведён следующий пример: «Несколько десятилетий тому назад подняли целинные земли. Сделали это не задумываясь о роли почвы в биосфер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и распахивают степь сплошь в то время как можно лишь полосами. Лесопосадки тоже оказались лишни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ди уничтожили уникальные сообщества трав, животных, насекомых. В большом количестве исчезли овцы, лошади, коровы. Нет прежнего режима почв. Нет скотоводства. Происходят страшные пыльные бур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худшение экологической обстановки в данной местности происходит не из-за отсутствия современной техники, а из-за неумелого ведения хозя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кологическая катастрофа                                                                                           наступа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ие люди в отношении с экологией строят свое поведение в соответствии с эгоистическими принципами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наш век хвати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, 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ле нас хоть потоп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и, недооценивающие опасность экологического кризиса, говорят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у, в городах вода и воздух, конечно, неважные, а стоит отъехать на пару десятков километров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ологи и геологи говорят о наступившей беде с конкретными цифрами в руках. Писатели-фантасты изображают будущее человечества: безжизненная, изгаженная, обезображенная земля и человек, превратившийся из властелина в изгоя, вынужденный отыскивать для жизни клочки, оазисы еще не окончательно отравленной план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кологическая катастрофа наступи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9" descr="8"/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1981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6"/>
          <p:cNvPicPr/>
          <p:nvPr/>
        </p:nvPicPr>
        <p:blipFill>
          <a:blip r:embed="rId3"/>
          <a:stretch/>
        </p:blipFill>
        <p:spPr>
          <a:xfrm>
            <a:off x="457200" y="411480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12"/>
          <p:cNvPicPr/>
          <p:nvPr/>
        </p:nvPicPr>
        <p:blipFill>
          <a:blip r:embed="rId4"/>
          <a:stretch/>
        </p:blipFill>
        <p:spPr>
          <a:xfrm>
            <a:off x="4648320" y="1981080"/>
            <a:ext cx="4114800" cy="1981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2"/>
          <p:cNvPicPr/>
          <p:nvPr/>
        </p:nvPicPr>
        <p:blipFill>
          <a:blip r:embed="rId5"/>
          <a:stretch/>
        </p:blipFill>
        <p:spPr>
          <a:xfrm>
            <a:off x="4648320" y="4114800"/>
            <a:ext cx="4114800" cy="22096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ьшинство людей, все больше проникаясь чувством ответственности перед грядущим поколением, перед всем живущим на Земле, понимают, что сейчас уже недостаточно произносить пылкие слова в защиту прир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яде зарубежных стран отдельные группы людей объединились в защиту окружающей среды, образовали парти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елены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1:58:51Z</dcterms:created>
  <dc:creator>Ирина Николаевна</dc:creator>
  <dc:description/>
  <dc:language>en-US</dc:language>
  <cp:lastModifiedBy>LEGION</cp:lastModifiedBy>
  <dcterms:modified xsi:type="dcterms:W3CDTF">2015-05-06T08:15:19Z</dcterms:modified>
  <cp:revision>25</cp:revision>
  <dc:subject/>
  <dc:title>Экология и нравственность</dc:title>
</cp:coreProperties>
</file>