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A4A1-80D4-41FD-A25C-FC8ADA41E9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821A-9467-4894-815D-3D3C8AEECB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нрав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1D25-C94A-4ACB-B916-8077B7F96F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й стране также растёт число тех, кто активно выступает за оздоровление экологической обстановки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были многочисленные выступления в защиту озера Байкал, когда люди протестовали против строительства на нем целлюлозно-бумажного комбин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85F0-9403-4893-91A0-ADDABE458A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ошения всё новых земель под хлопчатник стали забирать воду из рек Сырдарьи и Амударьи. Реки обмелели, засолилось Аральское море. Начались соляные бури. И тут пришли к мысли о переброске сибирских р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озерске был закрыт мебельный комбинат, приостановлено осуществление проекта переброски р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2807-27D3-4D11-B3E6-30F9603951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егодня каждому из нас стоит задуматься, какие нравственные требования предъявляет сложившаяся экологическая ситуация к людям, какой собственный вклад мы могли бы внести в дело защиты окружающ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7967-011B-4D56-BDA5-9701D2536A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нравств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неразумного отношения к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од для оптим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1E94-E852-47F8-8430-E027E35921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ной из публикаций в журнале «Знание – сила», содержащей размышления о причинах, порождающих экологический кризис, приведён следующий пример: «Несколько десятилетий тому назад подняли целинные земли. Сделали это не задумываясь о роли почвы в биосфер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распахивают степь сплошь в то время как можно лишь полосами. Лесопосадки тоже оказались лиш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C778-9EA4-4FF6-B58B-177E90022E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уничтожили уникальные сообщества трав, животных, насекомых. В большом количестве исчезли овцы, лошади, коровы. Нет прежнего режима почв. Нет скотоводства. Происходят страшные пыльные бур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1753-D6DC-4344-9BDB-05ACDDA9BC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худшение экологической обстановки в данной местности происходит не из-за отсутствия современной техники, а из-за неумелого ведения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CBD9-E49F-4D59-89E4-BE55BF8940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логическая катастрофа                                                                                           наступ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люди в отношении с экологией строят свое поведение в соответствии с эгоистическими принципами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ш век хвати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, 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нас хоть пото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, недооценивающие опасность экологического кризиса, говорят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, в городах вода и воздух, конечно, неважные, а стоит отъехать на пару десятков километров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4C4A-4B84-4D13-9D7C-CB59F31108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 и геологи говорят о наступившей беде с конкретными цифрами в руках. Писатели-фантасты изображают будущее человечества: безжизненная, изгаженная, обезображенная земля и человек, превратившийся из властелина в изгоя, вынужденный отыскивать для жизни клочки, оазисы еще не окончательно отравленно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FA3B-E8B7-4155-B831-DD06A025BB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 наступ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E15A-176E-444C-9D57-188F57CA32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людей, все больше проникаясь чувством ответственности перед грядущим поколением, перед всем живущим на Земле, понимают, что сейчас уже недостаточно произносить пылкие слова в защиту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яде зарубежных стран отдельные группы людей объединились в защиту окружающей среды, образовали парт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AA6-F91A-4B80-BAF5-2511AA40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F141-52EC-457C-B946-F0AE235A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561-647C-42F1-B2BA-7FECB1DB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D67-6B22-4FF4-8771-4201B694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F6354-FD44-4468-80C2-8C62B0FC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19C18-5AED-41DC-B289-C7EC75BA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D3378-9208-4616-AF6B-F32C9F9F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787B3-4D4F-467D-9ECA-6BC44E32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9A327-F650-4092-83D2-51A4690C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DAAAB-88FA-4FFE-98A4-EFA2AD88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F3108-30C9-402A-9AE3-57D1EE0B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C37-951B-45D8-A779-2C4AADF4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5E215-145F-456B-A9DF-8C78FABA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95C7B-5CB3-41D5-A4E2-5BB8C960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F01F9-09F0-46AC-BA33-2EB1700B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F87B8-1359-4F1F-93B4-9E3E0ECB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1ED57-5147-401E-9018-C2C129F0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B7B8-2AFA-45FF-BE49-4A4FA695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332-4CC1-46A9-A6D4-0496FE2A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4F3-FAF1-4397-BA17-2D292AE3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CF2-4B81-42F9-AB90-038DDDA4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5A1-A15F-4C64-AF21-9327FC6A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1FD-B4AB-4D4F-9C4C-5AE8C811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FE2-4A90-4863-820D-4F427922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81E3-E6BF-4551-8577-903832E87F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78EE-548B-49C0-A136-310ACFDE50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я и нравствен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шей стране также растёт число тех, кто активно выступает за оздоровление экологической обстановки.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России были многочисленные выступления в защиту озера Байкал, когда люди протестовали против строительства на нем целлюлозно-бумажного комбинат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рошения всё новых земель под хлопчатник стали забирать воду из рек Сырдарьи и Амударьи. Реки обмелели, засолилось Аральское море. Начались соляные бури. И тут пришли к мысли о переброске сибирских ре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озерске был закрыт мебельный комбинат, приостановлено осуществление проекта переброски 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сегодня каждому из нас стоит задуматься, какие нравственные требования предъявляет сложившаяся экологическая ситуация к людям, какой собственный вклад мы могли бы внести в дело защиты окруж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я и нравственност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дствия неразумного отношения к прир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од для оптимиз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дной из публикаций в журнале «Знание – сила», содержащей размышления о причинах, порождающих экологический кризис, приведён следующий пример: «Несколько десятилетий тому назад подняли целинные земли. Сделали это не задумываясь о роли почвы в биосфер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и распахивают степь сплошь в то время как можно лишь полосами. Лесопосадки тоже оказались лишни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ди уничтожили уникальные сообщества трав, животных, насекомых. В большом количестве исчезли овцы, лошади, коровы. Нет прежнего режима почв. Нет скотоводства. Происходят страшные пыльные бур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худшение экологической обстановки в данной местности происходит не из-за отсутствия современной техники, а из-за неумелого ведения хозя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ологическая катастрофа                                                                                           наступа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ие люди в отношении с экологией строят свое поведение в соответствии с эгоистическими принципами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наш век хвати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, 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е нас хоть потоп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и, недооценивающие опасность экологического кризиса, говорят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у, в городах вода и воздух, конечно, неважные, а стоит отъехать на пару десятков километров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ологи и геологи говорят о наступившей беде с конкретными цифрами в руках. Писатели-фантасты изображают будущее человечества: безжизненная, изгаженная, обезображенная земля и человек, превратившийся из властелина в изгоя, вынужденный отыскивать для жизни клочки, оазисы еще не окончательно отравленной план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ологическая катастрофа наступи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9" descr="8"/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1981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6"/>
          <p:cNvPicPr/>
          <p:nvPr/>
        </p:nvPicPr>
        <p:blipFill>
          <a:blip r:embed="rId3"/>
          <a:stretch/>
        </p:blipFill>
        <p:spPr>
          <a:xfrm>
            <a:off x="457200" y="411480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12"/>
          <p:cNvPicPr/>
          <p:nvPr/>
        </p:nvPicPr>
        <p:blipFill>
          <a:blip r:embed="rId4"/>
          <a:stretch/>
        </p:blipFill>
        <p:spPr>
          <a:xfrm>
            <a:off x="4648320" y="1981080"/>
            <a:ext cx="4114800" cy="1981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2"/>
          <p:cNvPicPr/>
          <p:nvPr/>
        </p:nvPicPr>
        <p:blipFill>
          <a:blip r:embed="rId5"/>
          <a:stretch/>
        </p:blipFill>
        <p:spPr>
          <a:xfrm>
            <a:off x="4648320" y="4114800"/>
            <a:ext cx="4114800" cy="22096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ьшинство людей, все больше проникаясь чувством ответственности перед грядущим поколением, перед всем живущим на Земле, понимают, что сейчас уже недостаточно произносить пылкие слова в защиту прир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яде зарубежных стран отдельные группы людей объединились в защиту окружающей среды, образовали парти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лены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1:58:51Z</dcterms:created>
  <dc:creator>Ирина Николаевна</dc:creator>
  <dc:description/>
  <dc:language>en-US</dc:language>
  <cp:lastModifiedBy>LEGION</cp:lastModifiedBy>
  <dcterms:modified xsi:type="dcterms:W3CDTF">2015-05-06T08:15:19Z</dcterms:modified>
  <cp:revision>25</cp:revision>
  <dc:subject/>
  <dc:title>Экология и нравственность</dc:title>
</cp:coreProperties>
</file>