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80A1-3F9F-485B-92D6-D6C1950A0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F474-C562-4E59-8200-E0A72D9B39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EA8D-40C1-411D-BFB7-83BFA7827D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98E-CB32-4D40-A180-603A151A0C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F22F-F849-41E8-B524-41848624F3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24D-AB50-4B52-A026-BBB98A75DE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неразумного отношения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д для оптим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36B6-0421-4B1A-99FE-A271B15862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C48B-1356-4F7B-B354-A9D85C36F2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6162-2814-4D9E-B564-E390433B47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4CA9-68E9-4837-BC69-85870340EE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ая катастрофа                                                                                          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ш век хват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ас хоть пото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недооценивающие опасность экологического кризиса, говоря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7E34-F963-48D3-891E-0F33627672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2683-78E9-4161-B658-6924B9034C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 наступ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17A3-E816-4A8D-81FD-5B64744122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CC1-CF90-47A4-9DAC-B6BD2A48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C38-318A-4D54-9CA3-1F5FCEDF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252-BED5-4DF8-96CE-35791022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E95-F6E6-43DC-AA47-8C5021E1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83E9-8446-4A7E-8F5A-3C40490D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886F2-E1B1-4CD3-BB74-1ACF0262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25733-07CB-4B02-B16E-EA765293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193C8-0B80-499D-B6DE-BE2E9AED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FD78D-AB9C-49D4-9133-0CAD435B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06719-F996-41A9-ACC4-D9BBA2BC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33C61-C15C-4F64-B5F4-F3BC4E71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421-7A01-41D9-BFE1-58732ACE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252D4-C1E8-4B67-AD5F-DFDE9901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61F92-08E8-4CA7-B574-089805F0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420E8-91E4-417F-BA93-FE9E2A39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1C9A4-0372-4B10-B4D2-BB9B9EF1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B7718-FDF6-4576-95FA-56758B27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156-EB16-473E-8F35-A14539F7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EAF-DDB6-41AF-9915-6A281B9D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DE9-07A9-44BB-AFD2-957B06D5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C03-E9A4-4502-BF50-1796707D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061-33BA-4398-B099-3F0B3D22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BAA-8420-4929-81E3-BA0FAC1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E07-428D-449E-B46A-C659C80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2D58-EBDF-4E37-BE16-8E8D75BC0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30AC-B2B4-46C2-A7BA-B4DF91CFE5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ствия неразумного отношения к прир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д для оптим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                                                                                          наступ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наш век хват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,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нас хоть пото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, недооценивающие опасность экологического кризиса, говорят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наступ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8"/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6"/>
          <p:cNvPicPr/>
          <p:nvPr/>
        </p:nvPicPr>
        <p:blipFill>
          <a:blip r:embed="rId3"/>
          <a:stretch/>
        </p:blipFill>
        <p:spPr>
          <a:xfrm>
            <a:off x="457200" y="41148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2"/>
          <p:cNvPicPr/>
          <p:nvPr/>
        </p:nvPicPr>
        <p:blipFill>
          <a:blip r:embed="rId4"/>
          <a:stretch/>
        </p:blipFill>
        <p:spPr>
          <a:xfrm>
            <a:off x="4648320" y="1981080"/>
            <a:ext cx="4114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2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лены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58:51Z</dcterms:created>
  <dc:creator>Ирина Николаевна</dc:creator>
  <dc:description/>
  <dc:language>en-US</dc:language>
  <cp:lastModifiedBy>LEGION</cp:lastModifiedBy>
  <dcterms:modified xsi:type="dcterms:W3CDTF">2015-05-06T08:15:19Z</dcterms:modified>
  <cp:revision>25</cp:revision>
  <dc:subject/>
  <dc:title>Экология и нравственность</dc:title>
</cp:coreProperties>
</file>