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C9BD-D714-4A6D-AB13-FBA8873C43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9E2C-41D0-4607-AB57-0C28D9DCEE0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 и нрав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7C93-486C-4DA1-A506-D02EF3B662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й стране также растёт число тех, кто активно выступает за оздоровление экологической обстановки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были многочисленные выступления в защиту озера Байкал, когда люди протестовали против строительства на нем целлюлозно-бумажного комбин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DA61-F108-4EBA-B177-BC7473F0B2B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рошения всё новых земель под хлопчатник стали забирать воду из рек Сырдарьи и Амударьи. Реки обмелели, засолилось Аральское море. Начались соляные бури. И тут пришли к мысли о переброске сибирских ре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иозерске был закрыт мебельный комбинат, приостановлено осуществление проекта переброски р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C4FC-1D4D-4F1A-8E74-569D1ED66BE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егодня каждому из нас стоит задуматься, какие нравственные требования предъявляет сложившаяся экологическая ситуация к людям, какой собственный вклад мы могли бы внести в дело защиты окружающей сре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FB40-C4DB-4D8B-B439-F1BC084987A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 и нравств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ствия неразумного отношения к прир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од для оптим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70FA-069D-4BAA-9EAE-995EF56F09D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дной из публикаций в журнале «Знание – сила», содержащей размышления о причинах, порождающих экологический кризис, приведён следующий пример: «Несколько десятилетий тому назад подняли целинные земли. Сделали это не задумываясь о роли почвы в биосфер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 распахивают степь сплошь в то время как можно лишь полосами. Лесопосадки тоже оказались лишн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EDD2-9D54-41CD-B515-1117B91C1AA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br>
              <a:rPr sz="16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 уничтожили уникальные сообщества трав, животных, насекомых. В большом количестве исчезли овцы, лошади, коровы. Нет прежнего режима почв. Нет скотоводства. Происходят страшные пыльные бур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525A-9C49-4D3B-9029-B8819F1F70E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худшение экологической обстановки в данной местности происходит не из-за отсутствия современной техники, а из-за неумелого ведения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ACAA-1C13-4C8B-B029-1B574C091E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логическая катастрофа                                                                                           наступ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люди в отношении с экологией строят свое поведение в соответствии с эгоистическими принципами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наш век хвати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, &l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нас хоть пото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, недооценивающие опасность экологического кризиса, говорят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, в городах вода и воздух, конечно, неважные, а стоит отъехать на пару десятков километров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4BE6-4F3E-48E1-9B5C-2DBB4F3E122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и и геологи говорят о наступившей беде с конкретными цифрами в руках. Писатели-фантасты изображают будущее человечества: безжизненная, изгаженная, обезображенная земля и человек, превратившийся из властелина в изгоя, вынужденный отыскивать для жизни клочки, оазисы еще не окончательно отравленной план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C090-F524-4242-A8F3-C1F8E2967D8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 наступи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311C-1E47-42E6-8D92-68F0EA22F2C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инство людей, все больше проникаясь чувством ответственности перед грядущим поколением, перед всем живущим на Земле, понимают, что сейчас уже недостаточно произносить пылкие слова в защиту прир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яде зарубежных стран отдельные группы людей объединились в защиту окружающей среды, образовали парти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лены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D062-0652-4C3F-8443-B49165C77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D00C-4624-4783-81E1-4A08FF13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BE1D-B799-4661-A1A0-E51D8A023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9E86-0C03-4BE6-A27F-C95BE73AD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2BCBD-694F-4B38-AFC6-249E3E518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64F3F-A8C8-43C5-9154-FDFD53F3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34443-6F3E-4FFB-953C-9FE7C011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25F82-BE5F-4B34-B0B2-504D3732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3587E-605E-43F7-98A0-ED352225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2DB36-429E-47E2-B89B-EF985813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96D9E-D761-401C-B9D4-40EA28C6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11A2-F530-482B-8EEF-7C940405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5BB3C-D3D2-407F-9B7A-7E9A6998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DCCA1-A307-4384-8FCC-76F354B3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AB129-AA70-4EC1-96A0-7A0B47C7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E6BBC-C288-453F-88D0-B80CAD2AC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17408-1AB3-4B51-ABC6-2878C085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9F0E-797F-45AB-BCC4-6D48BCC4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EAE3-EE5E-4823-84D5-D5922386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135F-A169-45BB-8DB6-3C4BC7BF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6611-2312-4C72-B6C8-460FBC8A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A95D-CE3B-4F6C-9C0D-1476C25B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BFFC-449D-4BD6-AD95-F08FC23D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732C-CE54-4DC7-80B6-F23B7178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F393-9ABA-4C4D-B1DB-DB564BFAD4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0766-228A-466B-BA79-36C62775B1B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я и нравствен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ашей стране также растёт число тех, кто активно выступает за оздоровление экологической обстановки.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России были многочисленные выступления в защиту озера Байкал, когда люди протестовали против строительства на нем целлюлозно-бумажного комбинат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орошения всё новых земель под хлопчатник стали забирать воду из рек Сырдарьи и Амударьи. Реки обмелели, засолилось Аральское море. Начались соляные бури. И тут пришли к мысли о переброске сибирских рек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риозерске был закрыт мебельный комбинат, приостановлено осуществление проекта переброски ре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сегодня каждому из нас стоит задуматься, какие нравственные требования предъявляет сложившаяся экологическая ситуация к людям, какой собственный вклад мы могли бы внести в дело защиты окружающей сре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я и нравственность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ледствия неразумного отношения к природ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од для оптимиз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дной из публикаций в журнале «Знание – сила», содержащей размышления о причинах, порождающих экологический кризис, приведён следующий пример: «Несколько десятилетий тому назад подняли целинные земли. Сделали это не задумываясь о роли почвы в биосфере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юди распахивают степь сплошь в то время как можно лишь полосами. Лесопосадки тоже оказались лишни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br>
              <a:rPr sz="40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юди уничтожили уникальные сообщества трав, животных, насекомых. В большом количестве исчезли овцы, лошади, коровы. Нет прежнего режима почв. Нет скотоводства. Происходят страшные пыльные бур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худшение экологической обстановки в данной местности происходит не из-за отсутствия современной техники, а из-за неумелого ведения хозяй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кологическая катастрофа                                                                                           наступае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ногие люди в отношении с экологией строят свое поведение в соответствии с эгоистическими принципами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наш век хватит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, &l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ле нас хоть потоп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юди, недооценивающие опасность экологического кризиса, говорят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&l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у, в городах вода и воздух, конечно, неважные, а стоит отъехать на пару десятков километров…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иологи и геологи говорят о наступившей беде с конкретными цифрами в руках. Писатели-фантасты изображают будущее человечества: безжизненная, изгаженная, обезображенная земля и человек, превратившийся из властелина в изгоя, вынужденный отыскивать для жизни клочки, оазисы еще не окончательно отравленной плане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кологическая катастрофа наступил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9" descr="8"/>
          <p:cNvPicPr/>
          <p:nvPr/>
        </p:nvPicPr>
        <p:blipFill>
          <a:blip r:embed="rId2"/>
          <a:stretch/>
        </p:blipFill>
        <p:spPr>
          <a:xfrm>
            <a:off x="457200" y="1981080"/>
            <a:ext cx="3962520" cy="1981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6"/>
          <p:cNvPicPr/>
          <p:nvPr/>
        </p:nvPicPr>
        <p:blipFill>
          <a:blip r:embed="rId3"/>
          <a:stretch/>
        </p:blipFill>
        <p:spPr>
          <a:xfrm>
            <a:off x="457200" y="4114800"/>
            <a:ext cx="3962520" cy="2209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12"/>
          <p:cNvPicPr/>
          <p:nvPr/>
        </p:nvPicPr>
        <p:blipFill>
          <a:blip r:embed="rId4"/>
          <a:stretch/>
        </p:blipFill>
        <p:spPr>
          <a:xfrm>
            <a:off x="4648320" y="1981080"/>
            <a:ext cx="4114800" cy="1981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2"/>
          <p:cNvPicPr/>
          <p:nvPr/>
        </p:nvPicPr>
        <p:blipFill>
          <a:blip r:embed="rId5"/>
          <a:stretch/>
        </p:blipFill>
        <p:spPr>
          <a:xfrm>
            <a:off x="4648320" y="4114800"/>
            <a:ext cx="4114800" cy="22096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ольшинство людей, все больше проникаясь чувством ответственности перед грядущим поколением, перед всем живущим на Земле, понимают, что сейчас уже недостаточно произносить пылкие слова в защиту прир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ряде зарубежных стран отдельные группы людей объединились в защиту окружающей среды, образовали парти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еленых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1:58:51Z</dcterms:created>
  <dc:creator>Ирина Николаевна</dc:creator>
  <dc:description/>
  <dc:language>en-US</dc:language>
  <cp:lastModifiedBy>LEGION</cp:lastModifiedBy>
  <dcterms:modified xsi:type="dcterms:W3CDTF">2015-05-06T08:15:19Z</dcterms:modified>
  <cp:revision>25</cp:revision>
  <dc:subject/>
  <dc:title>Экология и нравственность</dc:title>
</cp:coreProperties>
</file>