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9BE9-F498-4F32-A6AB-CB922F9C7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57D1-AA46-4486-A08E-0DB0A82249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733F-65B5-4FEE-9842-359FF1C5E3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9402-F316-4003-A86E-1613AE12CD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6DFD-414E-47E9-AE41-9ACF59EE39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2400-CEF9-4D12-9B01-007889BCF8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неразумного отношения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д для оптим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A0B7-CB13-49DD-8DFB-E5B0670F01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C5C2-C2A2-4E40-B9BD-637CCE1569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08E8-817F-4577-88DD-F009E45A9E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B4E1-C594-4542-B1D8-793BC4DCDD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ая катастрофа                                                                                          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ш век хват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ас хоть пото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недооценивающие опасность экологического кризиса, говорят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B2F9-1E9E-492A-853D-A83EB7687B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3F0B-063F-4D7F-9963-C6DC89CB98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 наступ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4570-72EF-4F9B-B2C4-A3D27E1306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4DF-2C53-441D-9C2C-CC2395C6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445-3888-41D9-9680-7CFCA026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8AD-3FB2-4664-803C-3DBD9A41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A6A-5007-40F8-831C-9A5D2C47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AE4D2-8F54-4527-BBBF-BECAAD98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F84C5-D697-4FB8-B68D-1FDEFD19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AADE2-AEEF-4DA2-9B07-DD4FC9F0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99FEB-8871-4943-A82B-36A257A0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980AB-0D0E-459D-BF30-4A965634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22E7B-B6D1-4F49-A507-7A67C1EC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EFA35-210A-4214-AE36-8678F56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4A3-1A81-4667-8837-CF4800D6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E8638-3B00-44FD-AD97-E076DE2C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346B7-1B52-443F-ACE5-24EA35C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14219-737D-406B-996D-816FD5CB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F6A86-6D05-4953-9C9C-8A6F8ECC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A809B-AC20-4AA1-8F87-922DBC24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ECB-8FC7-4162-A36B-5F472578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404-E53E-4991-B6BC-76523FD0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C2B-E7F5-45C6-8F8E-7CE724AD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AD0-099B-4D98-8F94-420B0C8F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660-FCBF-412B-86DC-EC2C9918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A1C-E564-4D5B-A3D6-74A1244C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8E7-53EB-4570-8449-9160325A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BF12-2DC1-4263-A5FF-86613990D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83C8-74F9-4430-9457-8F664124FA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дствия неразумного отношения к прир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д для оптим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                                                                                          наступ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наш век хвати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,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 нас хоть пото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, недооценивающие опасность экологического кризиса, говорят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наступи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8"/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6"/>
          <p:cNvPicPr/>
          <p:nvPr/>
        </p:nvPicPr>
        <p:blipFill>
          <a:blip r:embed="rId3"/>
          <a:stretch/>
        </p:blipFill>
        <p:spPr>
          <a:xfrm>
            <a:off x="457200" y="411480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2"/>
          <p:cNvPicPr/>
          <p:nvPr/>
        </p:nvPicPr>
        <p:blipFill>
          <a:blip r:embed="rId4"/>
          <a:stretch/>
        </p:blipFill>
        <p:spPr>
          <a:xfrm>
            <a:off x="4648320" y="1981080"/>
            <a:ext cx="4114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2"/>
          <p:cNvPicPr/>
          <p:nvPr/>
        </p:nvPicPr>
        <p:blipFill>
          <a:blip r:embed="rId5"/>
          <a:stretch/>
        </p:blipFill>
        <p:spPr>
          <a:xfrm>
            <a:off x="4648320" y="41148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лены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58:51Z</dcterms:created>
  <dc:creator>Ирина Николаевна</dc:creator>
  <dc:description/>
  <dc:language>en-US</dc:language>
  <cp:lastModifiedBy>LEGION</cp:lastModifiedBy>
  <dcterms:modified xsi:type="dcterms:W3CDTF">2015-05-06T08:15:19Z</dcterms:modified>
  <cp:revision>25</cp:revision>
  <dc:subject/>
  <dc:title>Экология и нравственность</dc:title>
</cp:coreProperties>
</file>