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74F49-390F-4F70-AA1A-0D8158BBE02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обальные проблемы человечества:</a:t>
            </a:r>
            <a:br>
              <a:rPr sz="1200"/>
            </a:br>
            <a:r>
              <a:rPr b="0" lang="ru-RU" sz="1200" spc="-1" strike="noStrike">
                <a:solidFill>
                  <a:srgbClr val="f5f4ed"/>
                </a:solidFill>
                <a:latin typeface="Calibri"/>
              </a:rPr>
              <a:t>Разрушение природной сре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34E26-AA90-4550-83AB-4F7B4B9047C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и вида загрязнения вод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39DBB-73D2-43A1-868B-34500B14BF1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грязнение океанов и морей происходит вследствие поступления загрязняющих веществ с речными стоками, их выпадения из атмосферы и, наконец, благодаря деятельности человека.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собое место в загрязнении океанов занимает загрязнение нефтью и нефтепродуктами. Естественное загрязнение происходит в результате просачивания нефти из нефтеносных слоев, главным образом, на шельфе.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ибольший вклад в нефтяное загрязнение океана вносят морские перевозки нефти, а также внезапные разливы больших количеств нефти при авариях танкеров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91580-3FEE-435C-8087-EDDC66436FB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среднем в атмосфере Земли ежесекундно образуется и исчезает около 100 т. озона. Даже при небольшом повышении дозы у человека появляется ожоги на кожи. Заболевания раком кожи, а также болезни глаз, приводит к слепоте, связано с ростом интенсивности УФ - радиации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DAD7C-2503-4CC4-8CFA-3D0EC9A8412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иологическое действие УФ радиации обусловлено высокой чувствительностью нуклеиновых кислот, которые могут разрушаться, что приводит к гибели клеток или возникновению мутаций. Мир узнал о глобальной экологической проблеме “озоновых дыр”. В первую очередь разрушение озонового слоя является все более развивающиеся гражданская авиация и химические производства. Применения азотных удобрений в сельском хозяйстве; хлорирование питьевой воды, широкое использование фреонов холодильных установках, для тушения пожаров, в качестве растворителей и в аэрозолях привело к тому, что миллионы тонн хлорфторметанов поступают в нижний слой атмосферы в виде бесцветного нейтрального газа. Распространяясь вверх, хлорфторменторметаны под действием УФ – излучения разрушаются, выделяя фтор и хлор, которые активно вступают в процессы разрушения озона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4EB2E-0428-4C0C-8A95-417053542E4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облема кислотных дождей. При изучении кислотных дождей нужно, прежде всего, ответить на два основных вопроса: что является причиной кислотных дождей и, как они воздействуют на окружающую среду. Ежегодно в атмосферу Земли выбрасывается около 200 мил. твердых частиц (пыль, сажа, и др.) 200 мил. т. сернистого газа (SO2), 700.мил. т. оксида углерода , 150.мил. т. оксидов азота (Noх), что в сумме составляет более 1 млрд. т. вредных веществ. Кислотные дожди (или, более правильно), кислотные осадки, так как выпадение вредных веществ может происходить как в виде дождя, так и в виде снега, града, наносят экологический, экономический и эстетический ущерб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03E61-7DED-46AB-9763-1A50AB5025C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ти ре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се глобальные проблемы современности тесно связаны друг с другом и взаимно обусловлены, так что изолированное решение их практически невозможно. Так, обеспечение дальнейшего экономического развития человечества природными ресурсами заведомо предполагает предотвращение нарастающего загрязнения окружающей среды, иначе это уже в обозримом будущем приведет к экологической катастрофе в планетарных масштабах. Именно поэтому обе эти глобальные проблемы справедливо называют экологическими и даже с определенным основанием рассматривают как две стороны единой экологической проблемы. В свою очередь, эту экологическую проблему может решить лишь на пути нового типа экологического развития, плодотворно используя потенциал научно- технической революции, одновременно предотвращая ее отрицательные последств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33BE0-81BE-4F02-9397-F5F0BFCD15B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хотя темпы экологического роста за истекшие четыре десятилетия в целом в развивающихся времени этот разрыв увеличился.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тистические расчеты показывают: если бы ежегодный прирост населения в развивающихся стран был таким же, как в развитых, то контраст между ними по уровню дохода на душу населения сократился бы к настоящему времени. До 1:8 и мог бы оказаться в сопоставимых размерах на душу населения вдвое выше, чем сейчас. Однако сам этот “демографический взрыв” в развивающиеся странах, как считают ученые, обусловлен их сохраняющейся экономической, социальной и культурной отсталостью. Неспособность человечества развить хотя бы одну из глобальных проблем самым отрицательным образом повлияет на возможность решения всем остальных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6C083-5DBB-41A9-8692-22A90CC3817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едставлении некоторых западных ученых взаимосвязь и взаимообуслоленость глобальных проблем образуют некий “порочный круг” неразрешимых для человечества бедствий, из которого либо вообще нет выхода, либо единственное спасение состоит в немедленном прекращении экологического роста и роста населения. Такой подход к глобальным проблемам сопровождается различными алармистскими, пессимистическими прогнозами будущего человечества.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63C3D-0C66-4D24-8EFA-0C37D8617FE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люч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современном этапе развития человечества столкнулось, быть может, с наиболее горячей проблемой – как сохранить природу, поскольку никто не знает, когда и в каком виде можно подвинуться экологической катастрофе. А человечество еще даже близко не подошло к созданию общемирового механизма регулирования природопользователя, но продолжает уничтожать колоссальные дары природы. Нет сомнения, что изобретательный человеческий ум в конце, концов все же найдет им замену. Но вот человеческий организм, выдержит ли он, сможет ли он приспособится к ненормальным условиям жизни?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BCA5C-D1CA-4A37-B733-73BCA27432E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ибельно это не только для природы, но и для человека и его культуры, которая во все времена придавала гармонию отношениям человека с природой. Поэтому создать новую искусственную среду означало бы уничтожить и культуру.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еловек не может существовать без природы не только физически (телесно), что само собой разумеется, но и духовно.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мысл современности экологической этики заключается в том, чтобы поставить над ценностью природопреобразовательной деятельности высшие нравственные ценности человека. При этом принцип ценностного равноправия всего живого (равноценности) предстает как основа экологической этики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EADBE-DD73-46F4-9479-CA2660BC4AA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ве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сегодняшний день самой большой и опасной проблемой является истощение и разрушение природной среды, нарушение внутри нее экологического равновесия в результате растущей и плохо контролируемой деятельностью людей. Исключительный вред приносят производственные и транспортные катастрофы, которые ведут к массовой гибели живых организмов, заражению и загрязнению мирового океана, атмосферы, почвы. Но еще большее негативное воздействие оказывают непрерывные выбросы вредных веществ в окружающую сред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BF535-51F4-47D4-9F70-0D52B42BE01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асибо за внимание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AD818-0547-4981-A41D-AAB0E0AA79E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чи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о- первых, сильное влияние людей. Люди порой очень расточительно используют природные богатства, в следствие чего начинается дефицит сырья и топли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DA2CF-F2ED-4D9A-A7AC-5921AB37B0F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- вторых, исчезают многие виды животных и растений, что ведёт к появлению опасных микроорганизмов, нарушается природный баланс, радиоактивные выбросы ведут к мутации особ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99965-7B25-4978-ABDD-92F958F2AE9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- третьих, люди населяют землю  городами, и природные ландшафты, реки, озёра, леса превращаются в бетонные своды. Также большое влияние оказывает парниковый эффек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26A9E-19D9-40A9-9F0C-C245D00C629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иболее распространенные загрязнители атмосферы поступают в нее в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сновном в двух видах: либо в виде взвешенных частиц, либо в виде газ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глекислый газ. В результате сжигания топлива, а также производства цемента в атмосферу поступает огромное количество этого газа. Сам этот газ не ядови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гарный газ. Сжигание топлива, которое создает большую часть газообразных, да и аэрозольных загрязнений атмосферы, служит источником другого углеродного соединения – угарного газ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37A28-BE25-4798-B1CD-2ECBB168064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глеводороды, поступающие в атмосферу в результате деятельности человека, составляют небольшую долю от углеводородов естественного происхождения, но загрязнение ими имеет весьма важное значение. Их поступление в атмосферу может происходить на любой стадии производства, обработки, хранения, перевозки и использования веществ и материалов, содержащих углеводород.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ернистый газ. Загрязнение атмосферы соединениями серы имеет важные экологические последствия. Главные источники сернистого газа – вулканическая деятельность, а также процессы окисления сероводорода и других соединений серы. .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эрозолевые частицы, поступают в атмосферу из естественных источников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C4616-7347-405F-B69E-1D0A3FE0062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ти все загрязняющие вещества, которые первоначально попали в атмосферу, в конечном итоге оказываются на поверхности суши и воды. Оседающие аэрозоли могут содержать ядовитые тяжелые металлы – свинец, ртуть, медь, ванадий, кобальт, никель. Обычно они малоподвижны и накапливаются в почве. Но в почву попадают с дождями также кислоты. Соединяясь с ним, металлы могут переходить в растворимые соединения, доступные растениям. В растворимые формы переходят также вещества, постоянно присутствующие в почве, что иногда приводит к гибели растений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3ED42-0140-4FD4-8CE6-A9BEA192C51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спользованная человеком вода в конечном счете возвращается в природную среду. Но, кроме испарившейся, это уже не чистая вода, а бытовая, промышленные и сельскохозяйственные сточные воды, обычно не очищенные или очищенные недостаточно. Таким образом, происходит загрязнение пресноводных водоемов – рек, озер, суши и прибрежных участков морей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57B3A-084C-459E-8E9E-6D89A2EC659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55F3-F3C9-4CFF-A0F5-BDBBEE516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ABAD-ED0D-4815-A80E-E117A39E2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EC66-FE04-496B-9C54-0FD84234D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72A8-7545-495D-A3F0-ED267B220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43404-EF8F-40D0-A0FD-ED9076106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799A6-4F45-4A4C-BF81-E40B7669F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45C3A-78B5-46A4-B00B-DA1F4516E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F8B46-C2E2-4C9E-B1B0-14C830905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74D41-AA8B-4149-A145-4CBF7FCFB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2EEA0-FB5B-41A6-B9A9-241E47D06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4F924-183B-47D4-AF69-15B9CFC3E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5C04-453C-4020-9DBA-F2AC7EE91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A0DCA-DDC5-4061-8A59-4D6F4FE73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C1754-843A-42AB-AAAD-456E7346A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AD207-3964-4A28-BF0D-5FA648327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179E3-343A-451E-9142-80E01FC50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B692F-07E3-4612-BEBD-3F8B86142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1F1A-4F0B-4AC1-AB58-38F672693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73EF-2B07-4E48-95E2-D157C6CF8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FA89-85BB-47AF-8E98-5D910A854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D902-71C8-405E-BB49-81A6B6BB9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AD91-FBB4-4336-A288-B0595DFF1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39A6-71D9-4F43-9796-71ABDDFA3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7724-A1C1-4C59-A8D8-6EF4741C3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50000">
                  <a:srgbClr val="008000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3300"/>
                </a:gs>
                <a:gs pos="100000">
                  <a:srgbClr val="008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50000">
                  <a:srgbClr val="008000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50000">
                  <a:srgbClr val="008000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0033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0033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0c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27c3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1ff8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4A122-52A1-48F0-B878-2B40B9D3BA5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50000">
                  <a:srgbClr val="008000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3300"/>
                </a:gs>
                <a:gs pos="100000">
                  <a:srgbClr val="008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50000">
                  <a:srgbClr val="008000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50000">
                  <a:srgbClr val="008000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0033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0033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0c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27c3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1ff8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5FBE2-FB13-4D2D-9242-D392B0999BE4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9144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c0c0"/>
                </a:solidFill>
                <a:latin typeface="Arial"/>
              </a:rPr>
              <a:t>Глобальные проблемы человечества:</a:t>
            </a:r>
            <a:br>
              <a:rPr sz="4000"/>
            </a:br>
            <a:r>
              <a:rPr b="0" lang="ru-RU" sz="4000" spc="-1" strike="noStrike">
                <a:solidFill>
                  <a:srgbClr val="1aff1a"/>
                </a:solidFill>
                <a:latin typeface="Arial"/>
              </a:rPr>
              <a:t>Разрушение природной среды</a:t>
            </a:r>
            <a:endParaRPr b="0" lang="en-US" sz="4000" spc="-1" strike="noStrike">
              <a:solidFill>
                <a:srgbClr val="c0c0c0"/>
              </a:solidFill>
              <a:latin typeface="Arial"/>
            </a:endParaRPr>
          </a:p>
        </p:txBody>
      </p:sp>
      <p:pic>
        <p:nvPicPr>
          <p:cNvPr id="106" name="Picture 5" descr="fon%20lend%20"/>
          <p:cNvPicPr/>
          <p:nvPr/>
        </p:nvPicPr>
        <p:blipFill>
          <a:blip r:embed="rId1"/>
          <a:stretch/>
        </p:blipFill>
        <p:spPr>
          <a:xfrm>
            <a:off x="838080" y="2590920"/>
            <a:ext cx="7467840" cy="380988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c0c0"/>
                </a:solidFill>
                <a:latin typeface="Arial"/>
              </a:rPr>
              <a:t>Три вида загрязнения вод: 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457200" y="2209680"/>
            <a:ext cx="4114800" cy="1524240"/>
          </a:xfrm>
          <a:prstGeom prst="ellipse">
            <a:avLst/>
          </a:prstGeom>
          <a:solidFill>
            <a:srgbClr val="008000"/>
          </a:solidFill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иологическо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Oval 5"/>
          <p:cNvSpPr/>
          <p:nvPr/>
        </p:nvSpPr>
        <p:spPr>
          <a:xfrm>
            <a:off x="2590920" y="4419720"/>
            <a:ext cx="4495680" cy="1523880"/>
          </a:xfrm>
          <a:prstGeom prst="ellipse">
            <a:avLst/>
          </a:prstGeom>
          <a:solidFill>
            <a:srgbClr val="008000"/>
          </a:solidFill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физическо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Oval 6"/>
          <p:cNvSpPr/>
          <p:nvPr/>
        </p:nvSpPr>
        <p:spPr>
          <a:xfrm>
            <a:off x="4876920" y="2133720"/>
            <a:ext cx="4267080" cy="1676160"/>
          </a:xfrm>
          <a:prstGeom prst="ellipse">
            <a:avLst/>
          </a:prstGeom>
          <a:solidFill>
            <a:srgbClr val="008000"/>
          </a:solidFill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химическо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9"/>
          <p:cNvSpPr/>
          <p:nvPr/>
        </p:nvSpPr>
        <p:spPr>
          <a:xfrm>
            <a:off x="380880" y="2057400"/>
            <a:ext cx="4114800" cy="1523880"/>
          </a:xfrm>
          <a:prstGeom prst="ellipse">
            <a:avLst/>
          </a:prstGeom>
          <a:solidFill>
            <a:srgbClr val="008000"/>
          </a:solidFill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биологическо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Oval 10"/>
          <p:cNvSpPr/>
          <p:nvPr/>
        </p:nvSpPr>
        <p:spPr>
          <a:xfrm>
            <a:off x="2362320" y="4343400"/>
            <a:ext cx="4495680" cy="1523880"/>
          </a:xfrm>
          <a:prstGeom prst="ellipse">
            <a:avLst/>
          </a:prstGeom>
          <a:solidFill>
            <a:srgbClr val="008000"/>
          </a:solidFill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изическо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360" y="277560"/>
            <a:ext cx="9448920" cy="3989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c0c0"/>
                </a:solidFill>
                <a:latin typeface="Arial"/>
              </a:rPr>
              <a:t>Загрязнение океанов и морей происходит вследствие поступления загрязняющих веществ с речными стоками, их выпадения из атмосферы и, наконец, благодаря деятельности человека. </a:t>
            </a:r>
            <a:br>
              <a:rPr sz="2000"/>
            </a:br>
            <a:r>
              <a:rPr b="1" lang="ru-RU" sz="2000" spc="-1" strike="noStrike">
                <a:solidFill>
                  <a:srgbClr val="c0c0c0"/>
                </a:solidFill>
                <a:latin typeface="Arial"/>
              </a:rPr>
              <a:t>Особое место в загрязнении океанов занимает загрязнение нефтью и нефтепродуктами. Естественное загрязнение происходит в результате просачивания нефти из нефтеносных слоев, главным образом, на шельфе. </a:t>
            </a:r>
            <a:br>
              <a:rPr sz="2000"/>
            </a:br>
            <a:r>
              <a:rPr b="1" lang="ru-RU" sz="2000" spc="-1" strike="noStrike">
                <a:solidFill>
                  <a:srgbClr val="c0c0c0"/>
                </a:solidFill>
                <a:latin typeface="Arial"/>
              </a:rPr>
              <a:t>Наибольший вклад в нефтяное загрязнение океана вносят морские перевозки нефти, а также внезапные разливы больших количеств нефти при авариях танкеров. </a:t>
            </a:r>
            <a:br>
              <a:rPr sz="2000"/>
            </a:br>
            <a:endParaRPr b="0" lang="en-US" sz="2000" spc="-1" strike="noStrike">
              <a:solidFill>
                <a:srgbClr val="c0c0c0"/>
              </a:solidFill>
              <a:latin typeface="Arial"/>
            </a:endParaRPr>
          </a:p>
        </p:txBody>
      </p:sp>
      <p:pic>
        <p:nvPicPr>
          <p:cNvPr id="143" name="Picture 8" descr="microsoil"/>
          <p:cNvPicPr/>
          <p:nvPr/>
        </p:nvPicPr>
        <p:blipFill>
          <a:blip r:embed="rId1"/>
          <a:stretch/>
        </p:blipFill>
        <p:spPr>
          <a:xfrm>
            <a:off x="1676520" y="3809880"/>
            <a:ext cx="5715000" cy="2819520"/>
          </a:xfrm>
          <a:prstGeom prst="rect">
            <a:avLst/>
          </a:prstGeom>
          <a:ln w="76320">
            <a:solidFill>
              <a:srgbClr val="c1ff83"/>
            </a:solidFill>
            <a:miter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231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c0c0"/>
                </a:solidFill>
                <a:latin typeface="Arial"/>
              </a:rPr>
              <a:t>В среднем в атмосфере Земли ежесекундно образуется и исчезает около 100 т. озона. Даже при небольшом повышении дозы у человека появляется ожоги на кожи. Заболевания раком кожи, а также болезни глаз, приводит к слепоте, связано с ростом интенсивности УФ - радиации. </a:t>
            </a:r>
            <a:br>
              <a:rPr sz="2000"/>
            </a:br>
            <a:endParaRPr b="0" lang="en-US" sz="2000" spc="-1" strike="noStrike">
              <a:solidFill>
                <a:srgbClr val="c0c0c0"/>
              </a:solidFill>
              <a:latin typeface="Arial"/>
            </a:endParaRPr>
          </a:p>
        </p:txBody>
      </p:sp>
      <p:pic>
        <p:nvPicPr>
          <p:cNvPr id="146" name="Picture 6" descr="uv_rays"/>
          <p:cNvPicPr/>
          <p:nvPr/>
        </p:nvPicPr>
        <p:blipFill>
          <a:blip r:embed="rId1"/>
          <a:stretch/>
        </p:blipFill>
        <p:spPr>
          <a:xfrm>
            <a:off x="2382840" y="2286000"/>
            <a:ext cx="4210200" cy="4362480"/>
          </a:xfrm>
          <a:prstGeom prst="rect">
            <a:avLst/>
          </a:prstGeom>
          <a:ln w="76320">
            <a:solidFill>
              <a:srgbClr val="c1ff83"/>
            </a:solidFill>
            <a:miter/>
          </a:ln>
        </p:spPr>
      </p:pic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c0c0"/>
                </a:solidFill>
                <a:latin typeface="Arial"/>
              </a:rPr>
              <a:t>Биологическое действие УФ радиации обусловлено высокой чувствительностью нуклеиновых кислот, которые могут разрушаться, что приводит к гибели клеток или возникновению мутаций. Мир узнал о глобальной экологической проблеме “озоновых дыр”. В первую очередь разрушение озонового слоя является все более развивающиеся гражданская авиация и химические производства. Применения азотных удобрений в сельском хозяйстве; хлорирование питьевой воды, широкое использование фреонов холодильных установках, для тушения пожаров, в качестве растворителей и в аэрозолях привело к тому, что миллионы тонн хлорфторметанов поступают в нижний слой атмосферы в виде бесцветного нейтрального газа. Распространяясь вверх, хлорфторменторметаны под действием УФ – излучения разрушаются, выделяя фтор и хлор, которые активно вступают в процессы разрушения озона. </a:t>
            </a:r>
            <a:br>
              <a:rPr sz="2000"/>
            </a:br>
            <a:endParaRPr b="0" lang="en-US" sz="20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227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c0c0"/>
                </a:solidFill>
                <a:latin typeface="Arial"/>
              </a:rPr>
              <a:t>Проблема кислотных дождей. При изучении кислотных дождей нужно, прежде всего, ответить на два основных вопроса: что является причиной кислотных дождей и, как они воздействуют на окружающую среду. Ежегодно в атмосферу Земли выбрасывается около 200 мил. твердых частиц (пыль, сажа, и др.) 200 мил. т. сернистого газа (SO2), 700.мил. т. оксида углерода , 150.мил. т. оксидов азота (Noх), что в сумме составляет более 1 млрд. т. вредных веществ. Кислотные дожди (или, более правильно), кислотные осадки, так как выпадение вредных веществ может происходить как в виде дождя, так и в виде снега, града, наносят экологический, экономический и эстетический ущерб. </a:t>
            </a:r>
            <a:br>
              <a:rPr sz="1800"/>
            </a:br>
            <a:endParaRPr b="0" lang="en-US" sz="1800" spc="-1" strike="noStrike">
              <a:solidFill>
                <a:srgbClr val="c0c0c0"/>
              </a:solidFill>
              <a:latin typeface="Arial"/>
            </a:endParaRPr>
          </a:p>
        </p:txBody>
      </p:sp>
      <p:pic>
        <p:nvPicPr>
          <p:cNvPr id="151" name="Picture 6" descr="rain3"/>
          <p:cNvPicPr/>
          <p:nvPr/>
        </p:nvPicPr>
        <p:blipFill>
          <a:blip r:embed="rId1"/>
          <a:stretch/>
        </p:blipFill>
        <p:spPr>
          <a:xfrm>
            <a:off x="1143000" y="3581280"/>
            <a:ext cx="6705720" cy="3276720"/>
          </a:xfrm>
          <a:prstGeom prst="rect">
            <a:avLst/>
          </a:prstGeom>
          <a:ln w="76320">
            <a:solidFill>
              <a:srgbClr val="008000"/>
            </a:solidFill>
            <a:miter/>
          </a:ln>
        </p:spPr>
      </p:pic>
      <p:sp>
        <p:nvSpPr>
          <p:cNvPr id="1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c0c0"/>
                </a:solidFill>
                <a:latin typeface="Arial"/>
              </a:rPr>
              <a:t>Пути решения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се глобальные проблемы современности тесно связаны друг с другом и взаимно обусловлены, так что изолированное решение их практически невозможно. Так, обеспечение дальнейшего экономического развития человечества природными ресурсами заведомо предполагает предотвращение нарастающего загрязнения окружающей среды, иначе это уже в обозримом будущем приведет к экологической катастрофе в планетарных масштабах. Именно поэтому обе эти глобальные проблемы справедливо называют экологическими и даже с определенным основанием рассматривают как две стороны единой экологической проблемы. В свою очередь, эту экологическую проблему может решить лишь на пути нового типа экологического развития, плодотворно используя потенциал научно- технической революции, одновременно предотвращая ее отрицательные последствия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066680"/>
            <a:ext cx="8381880" cy="4523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c0c0"/>
                </a:solidFill>
                <a:latin typeface="Arial"/>
              </a:rPr>
              <a:t>И хотя темпы экологического роста за истекшие четыре десятилетия в целом в развивающихся времени этот разрыв увеличился.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c0c0c0"/>
                </a:solidFill>
                <a:latin typeface="Arial"/>
              </a:rPr>
              <a:t>Статистические расчеты показывают: если бы ежегодный прирост населения в развивающихся стран был таким же, как в развитых, то контраст между ними по уровню дохода на душу населения сократился бы к настоящему времени. До 1:8 и мог бы оказаться в сопоставимых размерах на душу населения вдвое выше, чем сейчас. Однако сам этот “демографический взрыв” в развивающиеся странах, как считают ученые, обусловлен их сохраняющейся экономической, социальной и культурной отсталостью. Неспособность человечества развить хотя бы одну из глобальных проблем самым отрицательным образом повлияет на возможность решения всем остальных. </a:t>
            </a:r>
            <a:br>
              <a:rPr sz="2000"/>
            </a:br>
            <a:endParaRPr b="0" lang="en-US" sz="20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31237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c0c0"/>
                </a:solidFill>
                <a:latin typeface="Arial"/>
              </a:rPr>
              <a:t>В представлении некоторых западных ученых взаимосвязь и взаимообуслоленость глобальных проблем образуют некий “порочный круг” неразрешимых для человечества бедствий, из которого либо вообще нет выхода, либо единственное спасение состоит в немедленном прекращении экологического роста и роста населения. Такой подход к глобальным проблемам сопровождается различными алармистскими, пессимистическими прогнозами будущего человечества. 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c0c0c0"/>
                </a:solidFill>
                <a:latin typeface="Arial"/>
              </a:rPr>
              <a:t>. </a:t>
            </a:r>
            <a:br>
              <a:rPr sz="2800"/>
            </a:br>
            <a:endParaRPr b="0" lang="en-US" sz="28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c0c0"/>
                </a:solidFill>
                <a:latin typeface="Arial"/>
              </a:rPr>
              <a:t>Заключение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 современном этапе развития человечества столкнулось, быть может, с наиболее горячей проблемой – как сохранить природу, поскольку никто не знает, когда и в каком виде можно подвинуться экологической катастрофе. А человечество еще даже близко не подошло к созданию общемирового механизма регулирования природопользователя, но продолжает уничтожать колоссальные дары природы. Нет сомнения, что изобретательный человеческий ум в конце, концов все же найдет им замену. Но вот человеческий организм, выдержит ли он, сможет ли он приспособится к ненормальным условиям жизни?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61760" y="1371240"/>
            <a:ext cx="7848360" cy="9428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c0c0"/>
                </a:solidFill>
                <a:latin typeface="Arial"/>
              </a:rPr>
              <a:t>Гибельно это не только для природы, но и для человека и его культуры, которая во все времена придавала гармонию отношениям человека с природой. Поэтому создать новую искусственную среду означало бы уничтожить и культуру. </a:t>
            </a:r>
            <a:br>
              <a:rPr sz="1800"/>
            </a:br>
            <a:r>
              <a:rPr b="1" lang="ru-RU" sz="1800" spc="-1" strike="noStrike">
                <a:solidFill>
                  <a:srgbClr val="c0c0c0"/>
                </a:solidFill>
                <a:latin typeface="Arial"/>
              </a:rPr>
              <a:t>Человек не может существовать без природы не только физически (телесно), что само собой разумеется, но и духовно. </a:t>
            </a:r>
            <a:br>
              <a:rPr sz="1800"/>
            </a:br>
            <a:r>
              <a:rPr b="1" lang="ru-RU" sz="1800" spc="-1" strike="noStrike">
                <a:solidFill>
                  <a:srgbClr val="c0c0c0"/>
                </a:solidFill>
                <a:latin typeface="Arial"/>
              </a:rPr>
              <a:t>Смысл современности экологической этики заключается в том, чтобы поставить над ценностью природопреобразовательной деятельности высшие нравственные ценности человека. При этом принцип ценностного равноправия всего живого (равноценности) предстает как основа экологической этики.</a:t>
            </a:r>
            <a:br>
              <a:rPr sz="1800"/>
            </a:br>
            <a:endParaRPr b="0" lang="en-US" sz="1800" spc="-1" strike="noStrike">
              <a:solidFill>
                <a:srgbClr val="c0c0c0"/>
              </a:solidFill>
              <a:latin typeface="Arial"/>
            </a:endParaRPr>
          </a:p>
        </p:txBody>
      </p:sp>
      <p:pic>
        <p:nvPicPr>
          <p:cNvPr id="164" name="Picture 6" descr="%D0%9F%D1%80%D0%B8%D1%80%D0%BE%D0%B4%D0%B0%20%D0%9A%D0%B0%D1%80%D0%B5%D0%BB%D0%B8%D0%B8%201"/>
          <p:cNvPicPr/>
          <p:nvPr/>
        </p:nvPicPr>
        <p:blipFill>
          <a:blip r:embed="rId1"/>
          <a:stretch/>
        </p:blipFill>
        <p:spPr>
          <a:xfrm>
            <a:off x="1066680" y="3338640"/>
            <a:ext cx="7010640" cy="3519360"/>
          </a:xfrm>
          <a:prstGeom prst="rect">
            <a:avLst/>
          </a:prstGeom>
          <a:ln w="76320">
            <a:solidFill>
              <a:srgbClr val="33cc33"/>
            </a:solidFill>
            <a:miter/>
          </a:ln>
        </p:spPr>
      </p:pic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c0c0"/>
                </a:solidFill>
                <a:latin typeface="Arial"/>
              </a:rPr>
              <a:t>Введение</a:t>
            </a:r>
            <a:endParaRPr b="0" lang="en-US" sz="48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80880" y="1676520"/>
            <a:ext cx="83822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 сегодняшний день самой большой и опасной проблемой является истощение и разрушение природной среды, нарушение внутри нее экологического равновесия в результате растущей и плохо контролируемой деятельностью людей. Исключительный вред приносят производственные и транспортные катастрофы, которые ведут к массовой гибели живых организмов, заражению и загрязнению мирового океана, атмосферы, почвы. Но еще большее негативное воздействие оказывают непрерывные выбросы вредных веществ в окружающую сред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5" descr="40671641c5cf"/>
          <p:cNvPicPr/>
          <p:nvPr/>
        </p:nvPicPr>
        <p:blipFill>
          <a:blip r:embed="rId1"/>
          <a:stretch/>
        </p:blipFill>
        <p:spPr>
          <a:xfrm>
            <a:off x="762120" y="304920"/>
            <a:ext cx="7619760" cy="6172200"/>
          </a:xfrm>
          <a:prstGeom prst="rect">
            <a:avLst/>
          </a:prstGeom>
          <a:ln w="76320">
            <a:solidFill>
              <a:srgbClr val="008000"/>
            </a:solidFill>
            <a:miter/>
          </a:ln>
        </p:spPr>
      </p:pic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438280" y="2285640"/>
            <a:ext cx="510552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пасибо за внимание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c0c0"/>
                </a:solidFill>
                <a:latin typeface="Arial"/>
              </a:rPr>
              <a:t>Причины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о- первых, сильное влияние людей. Люди порой очень расточительно используют природные богатства, в следствие чего начинается дефицит сырья и топли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5" descr="ecologiy_zagryznenie1"/>
          <p:cNvPicPr/>
          <p:nvPr/>
        </p:nvPicPr>
        <p:blipFill>
          <a:blip r:embed="rId1"/>
          <a:stretch/>
        </p:blipFill>
        <p:spPr>
          <a:xfrm>
            <a:off x="1143000" y="3429000"/>
            <a:ext cx="7086600" cy="3143160"/>
          </a:xfrm>
          <a:prstGeom prst="rect">
            <a:avLst/>
          </a:prstGeom>
          <a:ln w="0">
            <a:noFill/>
          </a:ln>
        </p:spPr>
      </p:pic>
      <p:sp>
        <p:nvSpPr>
          <p:cNvPr id="1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520" y="277560"/>
            <a:ext cx="8153280" cy="2770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о- вторых, исчезают многие виды животных и растений, что ведёт к появлению опасных микроорганизмов, нарушается природный баланс, радиоактивные выбросы ведут к мутации особей</a:t>
            </a:r>
            <a:endParaRPr b="0" lang="en-US" sz="2800" spc="-1" strike="noStrike">
              <a:solidFill>
                <a:srgbClr val="c0c0c0"/>
              </a:solidFill>
              <a:latin typeface="Arial"/>
            </a:endParaRPr>
          </a:p>
        </p:txBody>
      </p:sp>
      <p:pic>
        <p:nvPicPr>
          <p:cNvPr id="116" name="Picture 8" descr="bacillus_anthracis"/>
          <p:cNvPicPr/>
          <p:nvPr/>
        </p:nvPicPr>
        <p:blipFill>
          <a:blip r:embed="rId1"/>
          <a:stretch/>
        </p:blipFill>
        <p:spPr>
          <a:xfrm>
            <a:off x="4876920" y="3276720"/>
            <a:ext cx="3619440" cy="3114720"/>
          </a:xfrm>
          <a:prstGeom prst="rect">
            <a:avLst/>
          </a:prstGeom>
          <a:ln w="76320">
            <a:solidFill>
              <a:srgbClr val="008000"/>
            </a:solidFill>
            <a:miter/>
          </a:ln>
        </p:spPr>
      </p:pic>
      <p:pic>
        <p:nvPicPr>
          <p:cNvPr id="117" name="Picture 10" descr="1236711893_bakr"/>
          <p:cNvPicPr/>
          <p:nvPr/>
        </p:nvPicPr>
        <p:blipFill>
          <a:blip r:embed="rId2"/>
          <a:stretch/>
        </p:blipFill>
        <p:spPr>
          <a:xfrm>
            <a:off x="608040" y="3273480"/>
            <a:ext cx="3621240" cy="3125880"/>
          </a:xfrm>
          <a:prstGeom prst="rect">
            <a:avLst/>
          </a:prstGeom>
          <a:ln w="76320">
            <a:solidFill>
              <a:srgbClr val="008000"/>
            </a:solidFill>
            <a:miter/>
          </a:ln>
        </p:spPr>
      </p:pic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305920" cy="2465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- третьих, люди населяют землю  городами, и природные ландшафты, реки, озёра, леса превращаются в бетонные своды. Также большое влияние оказывает парниковый эффект.</a:t>
            </a:r>
            <a:endParaRPr b="0" lang="en-US" sz="2400" spc="-1" strike="noStrike">
              <a:solidFill>
                <a:srgbClr val="c0c0c0"/>
              </a:solidFill>
              <a:latin typeface="Arial"/>
            </a:endParaRPr>
          </a:p>
        </p:txBody>
      </p:sp>
      <p:pic>
        <p:nvPicPr>
          <p:cNvPr id="120" name="Picture 8" descr="08-1"/>
          <p:cNvPicPr/>
          <p:nvPr/>
        </p:nvPicPr>
        <p:blipFill>
          <a:blip r:embed="rId1"/>
          <a:stretch/>
        </p:blipFill>
        <p:spPr>
          <a:xfrm>
            <a:off x="1905120" y="2286000"/>
            <a:ext cx="5715000" cy="4295880"/>
          </a:xfrm>
          <a:prstGeom prst="rect">
            <a:avLst/>
          </a:prstGeom>
          <a:ln w="76320">
            <a:solidFill>
              <a:srgbClr val="008000"/>
            </a:solidFill>
            <a:miter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c0c0"/>
                </a:solidFill>
                <a:latin typeface="Arial"/>
              </a:rPr>
              <a:t>Суть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аиболее распространенные загрязнители атмосферы поступают в нее в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сновном в двух видах: либо в виде взвешенных частиц, либо в виде газов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Углекислый газ. В результате сжигания топлива, а также производства цемента в атмосферу поступает огромное количество этого газа. Сам этот газ не ядовит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Угарный газ. Сжигание топлива, которое создает большую часть газообразных, да и аэрозольных загрязнений атмосферы, служит источником другого углеродного соединения – угарного газа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4" descr="2"/>
          <p:cNvPicPr/>
          <p:nvPr/>
        </p:nvPicPr>
        <p:blipFill>
          <a:blip r:embed="rId1"/>
          <a:stretch/>
        </p:blipFill>
        <p:spPr>
          <a:xfrm>
            <a:off x="1600200" y="3733920"/>
            <a:ext cx="5867280" cy="2971800"/>
          </a:xfrm>
          <a:prstGeom prst="rect">
            <a:avLst/>
          </a:prstGeom>
          <a:ln w="76320">
            <a:solidFill>
              <a:srgbClr val="008000"/>
            </a:solidFill>
            <a:miter/>
          </a:ln>
        </p:spPr>
      </p:pic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240" y="1143000"/>
            <a:ext cx="8534520" cy="1905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c0c0c0"/>
                </a:solidFill>
                <a:latin typeface="Arial"/>
              </a:rPr>
              <a:t>Углеводороды, поступающие в атмосферу в результате деятельности человека, составляют небольшую долю от углеводородов естественного происхождения, но загрязнение ими имеет весьма важное значение. Их поступление в атмосферу может происходить на любой стадии производства, обработки, хранения, перевозки и использования веществ и материалов, содержащих углеводород. </a:t>
            </a:r>
            <a:br>
              <a:rPr sz="1700"/>
            </a:br>
            <a:r>
              <a:rPr b="1" lang="ru-RU" sz="1700" spc="-1" strike="noStrike">
                <a:solidFill>
                  <a:srgbClr val="c0c0c0"/>
                </a:solidFill>
                <a:latin typeface="Arial"/>
              </a:rPr>
              <a:t>Сернистый газ. Загрязнение атмосферы соединениями серы имеет важные экологические последствия. Главные источники сернистого газа – вулканическая деятельность, а также процессы окисления сероводорода и других соединений серы. . </a:t>
            </a:r>
            <a:br>
              <a:rPr sz="1700"/>
            </a:br>
            <a:r>
              <a:rPr b="1" lang="ru-RU" sz="1700" spc="-1" strike="noStrike">
                <a:solidFill>
                  <a:srgbClr val="c0c0c0"/>
                </a:solidFill>
                <a:latin typeface="Arial"/>
              </a:rPr>
              <a:t>Аэрозолевые частицы, поступают в атмосферу из естественных источников. </a:t>
            </a:r>
            <a:br>
              <a:rPr sz="1700"/>
            </a:br>
            <a:endParaRPr b="0" lang="en-US" sz="1700" spc="-1" strike="noStrike">
              <a:solidFill>
                <a:srgbClr val="c0c0c0"/>
              </a:solidFill>
              <a:latin typeface="Arial"/>
            </a:endParaRPr>
          </a:p>
        </p:txBody>
      </p:sp>
      <p:pic>
        <p:nvPicPr>
          <p:cNvPr id="127" name="Picture 6" descr="acec59f97e964f232fb03afb17f6e83a_full1"/>
          <p:cNvPicPr/>
          <p:nvPr/>
        </p:nvPicPr>
        <p:blipFill>
          <a:blip r:embed="rId1"/>
          <a:stretch/>
        </p:blipFill>
        <p:spPr>
          <a:xfrm>
            <a:off x="1371600" y="3581280"/>
            <a:ext cx="6248520" cy="3276720"/>
          </a:xfrm>
          <a:prstGeom prst="rect">
            <a:avLst/>
          </a:prstGeom>
          <a:ln w="76320">
            <a:solidFill>
              <a:srgbClr val="008000"/>
            </a:solidFill>
            <a:miter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8195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c0c0"/>
                </a:solidFill>
                <a:latin typeface="Arial"/>
              </a:rPr>
              <a:t>Почти все загрязняющие вещества, которые первоначально попали в атмосферу, в конечном итоге оказываются на поверхности суши и воды. Оседающие аэрозоли могут содержать ядовитые тяжелые металлы – свинец, ртуть, медь, ванадий, кобальт, никель. Обычно они малоподвижны и накапливаются в почве. Но в почву попадают с дождями также кислоты. Соединяясь с ним, металлы могут переходить в растворимые соединения, доступные растениям. В растворимые формы переходят также вещества, постоянно присутствующие в почве, что иногда приводит к гибели растений. </a:t>
            </a:r>
            <a:br>
              <a:rPr sz="2800"/>
            </a:br>
            <a:endParaRPr b="0" lang="en-US" sz="28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153280" cy="2160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c0c0"/>
                </a:solidFill>
                <a:latin typeface="Arial"/>
              </a:rPr>
              <a:t>Использованная человеком вода в конечном счете возвращается в природную среду. Но, кроме испарившейся, это уже не чистая вода, а бытовая, промышленные и сельскохозяйственные сточные воды, обычно не очищенные или очищенные недостаточно. Таким образом, происходит загрязнение пресноводных водоемов – рек, озер, суши и прибрежных участков морей. </a:t>
            </a:r>
            <a:br>
              <a:rPr sz="1800"/>
            </a:br>
            <a:endParaRPr b="0" lang="en-US" sz="1800" spc="-1" strike="noStrike">
              <a:solidFill>
                <a:srgbClr val="c0c0c0"/>
              </a:solidFill>
              <a:latin typeface="Arial"/>
            </a:endParaRPr>
          </a:p>
        </p:txBody>
      </p:sp>
      <p:pic>
        <p:nvPicPr>
          <p:cNvPr id="132" name="Picture 6" descr="m_1198587561"/>
          <p:cNvPicPr/>
          <p:nvPr/>
        </p:nvPicPr>
        <p:blipFill>
          <a:blip r:embed="rId1"/>
          <a:stretch/>
        </p:blipFill>
        <p:spPr>
          <a:xfrm>
            <a:off x="1371600" y="2743200"/>
            <a:ext cx="6172200" cy="3505320"/>
          </a:xfrm>
          <a:prstGeom prst="rect">
            <a:avLst/>
          </a:prstGeom>
          <a:ln w="76320">
            <a:solidFill>
              <a:srgbClr val="33cc33"/>
            </a:solidFill>
            <a:miter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5-06T08:15:56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