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9FC0-C6BA-4683-9A9A-FF1F1645FF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 человечества:</a:t>
            </a:r>
            <a:br>
              <a:rPr sz="1200"/>
            </a:b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Разрушение природн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095F-5E25-4E16-B535-B4F87C994E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загрязнения вод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94E-FC18-431F-8F7C-9F5DE178D7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BEF9-7020-4770-B2E2-737982BFA8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5A2D-967E-463C-AC44-791205E2AD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84A7-3B8A-401E-8D5C-3A57A8C0D3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0D61-AFBE-47F8-9CBB-7C90B514B4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90D-2EB9-4FFA-99AA-854FF128F4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7DE-1C62-4371-A426-455C56B913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B719-92BF-441A-9094-B12B6D6CDF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5555-7A26-4AC5-9CD2-5CA31E18C7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FBC-A33F-4968-AB53-C853110B82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4F2-EF1A-4373-AB55-4954DBEAE4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FE46-A2F3-4BDD-86C4-A4DE8E73F1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987-C4E9-42CA-8AC6-5AACBB4A18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3B1-892D-4CA5-8BEC-DFA1348336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0B4-7843-471C-B4B7-D81965C12C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распространенные загрязнители атмосферы поступают в нее 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м в двух видах: либо в виде взвешенных частиц, либо в виде газ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EF4-6976-45BB-9E06-29ABEEE573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эрозолевые частицы, поступают в атмосферу из естественных источ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32BF-0DD5-4523-A976-FD4E1EC9AF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B1C-D407-4B80-A65F-8AF648969A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6EE-7AD0-4DA3-9DB9-5D361D0BD1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4E0-042F-4EB8-B566-FD75BFFC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31E-4BCD-41B0-B1ED-088CE1D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984-C0B5-4DA8-A407-B10229A8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FF1-1C9B-4902-A457-4C91A818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DD38-209F-449D-9BBE-742B4A85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6AC8-A99B-48B0-8308-C5BE89B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281-83F2-4296-AC2B-A62FD4A8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4802-7AA8-469B-8B6F-7EB031E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66FD-6F39-4237-B0D2-03A5034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1C5-3906-47EE-8F79-1F24BAF0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8CB5-444E-461F-83C5-AA1193F0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A57-B70B-4633-8755-5D5FBF58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46B1-B04F-4E24-AC85-018A14D0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CD2D-0C59-4A45-A367-5EAFFAC6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4DD8-C794-4246-8C4D-49964C6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8A2E-B27E-42E0-8683-A7DD59FC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86B4-6782-4CD5-BCD6-F9370C9B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5FB-4370-4777-B6D8-5DE887C7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75C-062C-45EA-9B16-79F4EF7A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BEA-A57A-41D8-8BEC-5978BC41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36A-1F7D-4F95-BD56-C3B120EA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D9C-C2C9-4459-9F72-482241E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3E0-856C-4086-A7B8-CB05888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A28-BB9F-4C12-A4F7-EBFBE752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B79-029D-4E25-A2D8-E3681BD61C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5829-5848-41E2-A00B-42AB3E67E0E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Глобальные проблемы человечества:</a:t>
            </a:r>
            <a:br>
              <a:rPr sz="4000"/>
            </a:br>
            <a:r>
              <a:rPr b="0" lang="ru-RU" sz="4000" spc="-1" strike="noStrike">
                <a:solidFill>
                  <a:srgbClr val="1aff1a"/>
                </a:solidFill>
                <a:latin typeface="Arial"/>
              </a:rPr>
              <a:t>Разрушение природной среды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06" name="Picture 5" descr="fon%20lend%20"/>
          <p:cNvPicPr/>
          <p:nvPr/>
        </p:nvPicPr>
        <p:blipFill>
          <a:blip r:embed="rId1"/>
          <a:stretch/>
        </p:blipFill>
        <p:spPr>
          <a:xfrm>
            <a:off x="838080" y="2590920"/>
            <a:ext cx="746784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Три вида загрязнения вод: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" y="2209680"/>
            <a:ext cx="4114800" cy="152424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590920" y="441972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876920" y="2133720"/>
            <a:ext cx="4267080" cy="167616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80880" y="2057400"/>
            <a:ext cx="411480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иологическ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362320" y="4343400"/>
            <a:ext cx="4495680" cy="1523880"/>
          </a:xfrm>
          <a:prstGeom prst="ellipse">
            <a:avLst/>
          </a:prstGeom>
          <a:solidFill>
            <a:srgbClr val="00800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9448920" cy="398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Загрязнение океанов и морей происходит вследствие поступления загрязняющих веществ с речными стоками, их выпадения из атмосферы и, наконец, благодаря деятельности человека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Особое место в загрязнении океанов занимает загрязнение нефтью и нефтепродуктами. Естественное загрязнение происходит в результате просачивания нефти из нефтеносных слоев, главным образом, на шельфе. </a:t>
            </a:r>
            <a:br>
              <a:rPr sz="2000"/>
            </a:b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Наибольший вклад в нефтяное загрязнение океана вносят морские перевозки нефти, а также внезапные разливы больших количеств нефти при авариях танкеров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3" name="Picture 8" descr="microsoil"/>
          <p:cNvPicPr/>
          <p:nvPr/>
        </p:nvPicPr>
        <p:blipFill>
          <a:blip r:embed="rId1"/>
          <a:stretch/>
        </p:blipFill>
        <p:spPr>
          <a:xfrm>
            <a:off x="1676520" y="3809880"/>
            <a:ext cx="5715000" cy="281952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В среднем в атмосфере Земли ежесекундно образуется и исчезает около 100 т. озона. Даже при небольшом повышении дозы у человека появляется ожоги на кожи. Заболевания раком кожи, а также болезни глаз, приводит к слепоте, связано с ростом интенсивности УФ - радиации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46" name="Picture 6" descr="uv_rays"/>
          <p:cNvPicPr/>
          <p:nvPr/>
        </p:nvPicPr>
        <p:blipFill>
          <a:blip r:embed="rId1"/>
          <a:stretch/>
        </p:blipFill>
        <p:spPr>
          <a:xfrm>
            <a:off x="2382840" y="2286000"/>
            <a:ext cx="4210200" cy="4362480"/>
          </a:xfrm>
          <a:prstGeom prst="rect">
            <a:avLst/>
          </a:prstGeom>
          <a:ln w="76320">
            <a:solidFill>
              <a:srgbClr val="c1ff83"/>
            </a:solidFill>
            <a:miter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c0c0"/>
                </a:solidFill>
                <a:latin typeface="Arial"/>
              </a:rPr>
              <a:t>Биологическое действие УФ радиации обусловлено высокой чувствительностью нуклеиновых кислот, которые могут разрушаться, что приводит к гибели клеток или возникновению мутаций. Мир узнал о глобальной экологической проблеме “озоновых дыр”. В первую очередь разрушение озонового слоя является все более развивающиеся гражданская авиация и химические производства. Применения азотных удобрений в сельском хозяйстве; хлорирование питьевой воды, широкое использование фреонов холодильных установках, для тушения пожаров, в качестве растворителей и в аэрозолях привело к тому, что миллионы тонн хлорфторметанов поступают в нижний слой атмосферы в виде бесцветного нейтрального газа. Распространяясь вверх, хлорфторменторметаны под действием УФ – излучения разрушаются, выделяя фтор и хлор, которые активно вступают в процессы разрушения озона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22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Проблема кислотных дождей. При изучении кислотных дождей нужно, прежде всего, ответить на два основных вопроса: что является причиной кислотных дождей и, как они воздействуют на окружающую среду. Ежегодно в атмосферу Земли выбрасывается около 200 мил. твердых частиц (пыль, сажа, и др.) 200 мил. т. сернистого газа (SO2), 700.мил. т. оксида углерода , 150.мил. т. оксидов азота (Noх), что в сумме составляет более 1 млрд. т. вредных веществ. Кислотные дожди (или, более правильно), кислотные осадки, так как выпадение вредных веществ может происходить как в виде дождя, так и в виде снега, града, наносят экологический, экономический и эстетический ущерб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51" name="Picture 6" descr="rain3"/>
          <p:cNvPicPr/>
          <p:nvPr/>
        </p:nvPicPr>
        <p:blipFill>
          <a:blip r:embed="rId1"/>
          <a:stretch/>
        </p:blipFill>
        <p:spPr>
          <a:xfrm>
            <a:off x="1143000" y="3581280"/>
            <a:ext cx="67057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глобальные проблемы современности тесно связаны друг с другом и взаимно обусловлены, так что изолированное решение их практически невозможно. Так, обеспечение дальнейшего экономического развития человечества природными ресурсами заведомо предполагает предотвращение нарастающего загрязнения окружающей среды, иначе это уже в обозримом будущем приведет к экологической катастрофе в планетарных масштабах. Именно поэтому обе эти глобальные проблемы справедливо называют экологическими и даже с определенным основанием рассматривают как две стороны единой экологической проблемы. В свою очередь, эту экологическую проблему может решить лишь на пути нового типа экологического развития, плодотворно используя потенциал научно- технической революции, одновременно предотвращая ее отрицательные послед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81880" cy="452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И хотя темпы экологического роста за истекшие четыре десятилетия в целом в развивающихся времени этот разрыв увеличился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c0c0"/>
                </a:solidFill>
                <a:latin typeface="Arial"/>
              </a:rPr>
              <a:t>Статистические расчеты показывают: если бы ежегодный прирост населения в развивающихся стран был таким же, как в развитых, то контраст между ними по уровню дохода на душу населения сократился бы к настоящему времени. До 1:8 и мог бы оказаться в сопоставимых размерах на душу населения вдвое выше, чем сейчас. Однако сам этот “демографический взрыв” в развивающиеся странах, как считают ученые, обусловлен их сохраняющейся экономической, социальной и культурной отсталостью. Неспособность человечества развить хотя бы одну из глобальных проблем самым отрицательным образом повлияет на возможность решения всем остальных. </a:t>
            </a:r>
            <a:br>
              <a:rPr sz="2000"/>
            </a:br>
            <a:endParaRPr b="0" lang="en-US" sz="2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В представлении некоторых западных ученых взаимосвязь и взаимообуслоленость глобальных проблем образуют некий “порочный круг” неразрешимых для человечества бедствий, из которого либо вообще нет выхода, либо единственное спасение состоит в немедленном прекращении экологического роста и роста населения. Такой подход к глобальным проблемам сопровождается различными алармистскими, пессимистическими прогнозами будущего человечества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овременном этапе развития человечества столкнулось, быть может, с наиболее горячей проблемой – как сохранить природу, поскольку никто не знает, когда и в каком виде можно подвинуться экологической катастрофе. А человечество еще даже близко не подошло к созданию общемирового механизма регулирования природопользователя, но продолжает уничтожать колоссальные дары природы. Нет сомнения, что изобретательный человеческий ум в конце, концов все же найдет им замену. Но вот человеческий организм, выдержит ли он, сможет ли он приспособится к ненормальным условиям жизни?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371240"/>
            <a:ext cx="7848360" cy="94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Гибельно это не только для природы, но и для человека и его культуры, которая во все времена придавала гармонию отношениям человека с природой. Поэтому создать новую искусственную среду означало бы уничтожить и культуру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Человек не может существовать без природы не только физически (телесно), что само собой разумеется, но и духовно. </a:t>
            </a:r>
            <a:br>
              <a:rPr sz="1800"/>
            </a:b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Смысл современности экологической этики заключается в том, чтобы поставить над ценностью природопреобразовательной деятельности высшие нравственные ценности человека. При этом принцип ценностного равноправия всего живого (равноценности) предстает как основа экологической этики.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64" name="Picture 6" descr="%D0%9F%D1%80%D0%B8%D1%80%D0%BE%D0%B4%D0%B0%20%D0%9A%D0%B0%D1%80%D0%B5%D0%BB%D0%B8%D0%B8%201"/>
          <p:cNvPicPr/>
          <p:nvPr/>
        </p:nvPicPr>
        <p:blipFill>
          <a:blip r:embed="rId1"/>
          <a:stretch/>
        </p:blipFill>
        <p:spPr>
          <a:xfrm>
            <a:off x="1066680" y="3338640"/>
            <a:ext cx="7010640" cy="35193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Введение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сегодняшний день самой большой и опасной проблемой является истощение и разрушение природной среды, нарушение внутри нее экологического равновесия в результате растущей и плохо контролируемой деятельностью людей. Исключительный вред приносят производственные и транспортные катастрофы, которые ведут к массовой гибели живых организмов, заражению и загрязнению мирового океана, атмосферы, почвы. Но еще большее негативное воздействие оказывают непрерывные выбросы вредных веществ в окружающую сре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40671641c5cf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722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22856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Причин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 первых, сильное влияние людей. Люди порой очень расточительно используют природные богатства, в следствие чего начинается дефицит сырья и топл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ecologiy_zagryznenie1"/>
          <p:cNvPicPr/>
          <p:nvPr/>
        </p:nvPicPr>
        <p:blipFill>
          <a:blip r:embed="rId1"/>
          <a:stretch/>
        </p:blipFill>
        <p:spPr>
          <a:xfrm>
            <a:off x="1143000" y="3429000"/>
            <a:ext cx="7086600" cy="3143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2770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- вторых, исчезают многие виды животных и растений, что ведёт к появлению опасных микроорганизмов, нарушается природный баланс, радиоактивные выбросы ведут к мутации особей</a:t>
            </a: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6" name="Picture 8" descr="bacillus_anthracis"/>
          <p:cNvPicPr/>
          <p:nvPr/>
        </p:nvPicPr>
        <p:blipFill>
          <a:blip r:embed="rId1"/>
          <a:stretch/>
        </p:blipFill>
        <p:spPr>
          <a:xfrm>
            <a:off x="4876920" y="3276720"/>
            <a:ext cx="3619440" cy="3114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pic>
        <p:nvPicPr>
          <p:cNvPr id="117" name="Picture 10" descr="1236711893_bakr"/>
          <p:cNvPicPr/>
          <p:nvPr/>
        </p:nvPicPr>
        <p:blipFill>
          <a:blip r:embed="rId2"/>
          <a:stretch/>
        </p:blipFill>
        <p:spPr>
          <a:xfrm>
            <a:off x="608040" y="3273480"/>
            <a:ext cx="3621240" cy="312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46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- третьих, люди населяют землю  городами, и природные ландшафты, реки, озёра, леса превращаются в бетонные своды. Также большое влияние оказывает парниковый эффект.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0" name="Picture 8" descr="08-1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429588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Сут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иболее распространенные загрязнители атмосферы поступают в нее в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ном в двух видах: либо в виде взвешенных частиц, либо в виде газ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лекислый газ. В результате сжигания топлива, а также производства цемента в атмосферу поступает огромное количество этого газа. Сам этот газ не ядови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гарный газ. Сжигание топлива, которое создает большую часть газообразных, да и аэрозольных загрязнений атмосферы, служит источником другого углеродного соединения – угарного га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2"/>
          <p:cNvPicPr/>
          <p:nvPr/>
        </p:nvPicPr>
        <p:blipFill>
          <a:blip r:embed="rId1"/>
          <a:stretch/>
        </p:blipFill>
        <p:spPr>
          <a:xfrm>
            <a:off x="1600200" y="3733920"/>
            <a:ext cx="5867280" cy="297180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Углеводороды, поступающие в атмосферу в результате деятельности человека, составляют небольшую долю от углеводородов естественного происхождения, но загрязнение ими имеет весьма важное значение. Их поступление в атмосферу может происходить на любой стадии производства, обработки, хранения, перевозки и использования веществ и материалов, содержащих углеводород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Сернистый газ. Загрязнение атмосферы соединениями серы имеет важные экологические последствия. Главные источники сернистого газа – вулканическая деятельность, а также процессы окисления сероводорода и других соединений серы. . </a:t>
            </a:r>
            <a:br>
              <a:rPr sz="1700"/>
            </a:br>
            <a:r>
              <a:rPr b="1" lang="ru-RU" sz="1700" spc="-1" strike="noStrike">
                <a:solidFill>
                  <a:srgbClr val="c0c0c0"/>
                </a:solidFill>
                <a:latin typeface="Arial"/>
              </a:rPr>
              <a:t>Аэрозолевые частицы, поступают в атмосферу из естественных источников. </a:t>
            </a:r>
            <a:br>
              <a:rPr sz="1700"/>
            </a:br>
            <a:endParaRPr b="0" lang="en-US" sz="17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7" name="Picture 6" descr="acec59f97e964f232fb03afb17f6e83a_full1"/>
          <p:cNvPicPr/>
          <p:nvPr/>
        </p:nvPicPr>
        <p:blipFill>
          <a:blip r:embed="rId1"/>
          <a:stretch/>
        </p:blipFill>
        <p:spPr>
          <a:xfrm>
            <a:off x="1371600" y="3581280"/>
            <a:ext cx="6248520" cy="327672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819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c0c0"/>
                </a:solidFill>
                <a:latin typeface="Arial"/>
              </a:rPr>
              <a:t>Почти все загрязняющие вещества, которые первоначально попали в атмосферу, в конечном итоге оказываются на поверхности суши и воды. Оседающие аэрозоли могут содержать ядовитые тяжелые металлы – свинец, ртуть, медь, ванадий, кобальт, никель. Обычно они малоподвижны и накапливаются в почве. Но в почву попадают с дождями также кислоты. Соединяясь с ним, металлы могут переходить в растворимые соединения, доступные растениям. В растворимые формы переходят также вещества, постоянно присутствующие в почве, что иногда приводит к гибели растений. 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21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c0c0"/>
                </a:solidFill>
                <a:latin typeface="Arial"/>
              </a:rPr>
              <a:t>Использованная человеком вода в конечном счете возвращается в природную среду. Но, кроме испарившейся, это уже не чистая вода, а бытовая, промышленные и сельскохозяйственные сточные воды, обычно не очищенные или очищенные недостаточно. Таким образом, происходит загрязнение пресноводных водоемов – рек, озер, суши и прибрежных участков морей. </a:t>
            </a:r>
            <a:br>
              <a:rPr sz="1800"/>
            </a:br>
            <a:endParaRPr b="0" lang="en-US" sz="18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32" name="Picture 6" descr="m_1198587561"/>
          <p:cNvPicPr/>
          <p:nvPr/>
        </p:nvPicPr>
        <p:blipFill>
          <a:blip r:embed="rId1"/>
          <a:stretch/>
        </p:blipFill>
        <p:spPr>
          <a:xfrm>
            <a:off x="1371600" y="2743200"/>
            <a:ext cx="6172200" cy="35053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5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