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0245-1AAB-41B9-A104-127EEA80C6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6C16-2FC9-432F-B00D-4A3487C1F9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 экологической проблеме относятся: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опустынивание территорий в результате нерациональной хозяйственной деятельности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F254-9F3E-457C-AB84-E5AC9341A9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уничтожены и продолжают уничтожаться тысячи видов растений и животн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в значительной мере истреблен лесной покр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стремительно сокращается имеющийся запас полезных ископаем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3C4B-728E-4432-92DB-4935572C19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8E17-556B-40F4-943B-BF3A2565D5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99E-9584-40CD-ACA4-91D146FA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68F-F5BC-4E11-AC4C-6DA3D2E7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6FB-3D2D-40CB-88B7-D6D83C62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9D4-24FE-4DFA-A29A-981A090A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500E-65D1-4968-B9F2-92A25EC4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A3C4-FBE7-4C6C-96BE-63DB297C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31F7-C36C-46C6-8B4B-7A56DE78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85C1-33FF-47E6-88EB-1AF804AC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A4CD-71A4-430C-ADFD-7100DB22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58B0-AD21-47E8-8536-BFA2D2C5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7A03-2AEA-4EE5-8F68-DD2619D0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D39-B133-4266-856C-B08B70CF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797C-802D-4F6B-842B-88EC1BAF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5626-7BC4-42BF-BEDD-0D77FD88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90B1-B3D3-4F79-9F9E-BA2E7667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49CF-7139-4C6E-A0E3-AC868407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AAD5-8D71-413E-BD1E-E614BF6D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C50D-D6B5-4EC3-98DA-26F5F72A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9A02-4A0A-4DB7-83A4-DC9B870A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C19D-2213-46C5-A471-ED2BBCD1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EAA7A-E744-41AA-B81B-5FD39283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1763-C49B-483D-BFB7-46726D14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6A7-0DAE-4CAA-B9B1-A096B703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1FD17-6426-42E0-8B7B-BDADA9B7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6E07-256E-4F76-8A2D-520B7F4A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CAD6-4F3A-4200-851F-E494918A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9B22-EF38-4BDE-B233-830990FD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2903-E4E4-4662-8761-83AADCEC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210F-638C-47E5-9D9C-C95F7166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7A31-A481-471D-BAF0-48A4FA90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6D02-1AAF-4CBB-ABC6-FFA3E376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EEAC-C39A-4D0D-9948-B9DD2812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98BA-A0F5-4021-9438-FA46427A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FC0-7403-4F31-91FC-7F671CEB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5CEC1-E383-4CF9-8346-565E1A63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9A02-C8AB-44B0-9111-E4C20E0E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2879-FD4E-445B-82E9-27203FAD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A8E3-E5B7-4BD2-BEB8-18312BF1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E0883-AAC3-4408-BD53-C8E80DB3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C340-2CB9-412B-AB2A-7B64623F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D7D0F-AF61-40D6-9AF5-8953F52B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240A-6A04-4E4A-94AA-3511F32A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FC88-7871-4B44-ACA7-C786DAC2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D8534-DEFA-4EAB-A014-64BF82C4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2AF-4288-4DDC-932D-538035AE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D4610-12C7-450B-8534-39C5A940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FC6E2-8A9B-4727-BBBC-E0E43C80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B9EB9-049C-4AD5-94B2-2578F882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4F7F6-F817-4763-84AB-D821F114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A999C-4C06-42D6-AA8A-82249CE8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C3903-07DA-40E5-B424-3063B13A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60BAD-37C0-4B31-8E64-3FC52650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14164-2883-486B-86BE-4280DC66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73CE-363B-4F2F-B94D-1C87B78C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0D533-6692-41D2-A1ED-C2EE8DAC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5096-591D-4E62-9C28-7A80CE5F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76D9D-BBF1-4FB1-B5F8-2BA5436F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A0E8E-6B6B-4EE9-BCD2-11C0EC55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1F56B-413C-4367-9820-2FFF0EF2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57736-56F0-4588-AE9E-477D0CC9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B32F3-BB42-4503-BB8C-0491A4E2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66739-F041-46CB-8BE2-CBCB1804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04DF3-C762-43FB-9551-2F35EC7F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829E2-C9C5-44BE-9F46-758A0E5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7C0B5-D9EE-4B61-8A3E-9EBB984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C3A8C-8447-4BBA-A1DA-871EFE43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1D6-49A4-4127-B234-6C30A850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EB541-2187-4345-BF09-A42906AF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91567-9E65-4A14-ACFC-DDB1DA3B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442DE-86E8-45A5-BB7D-73AADBC4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A260F-EF19-4432-8962-CF10E260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5D948-3C17-4630-B803-6C82FAB9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61261-B3D0-4DE9-89E9-D55C2AAD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D6854-C02E-4CB5-BE0F-1B57856E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60B5-2778-4038-B0A8-7FAB84D8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9128A-8FAC-4AC9-8D72-2886123B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4CC83-4526-4455-BE3B-06901179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596-C314-42B9-94C9-2DCF50CA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695EA-AE31-4B03-B5CB-1626D1D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89C5D-BE09-490C-8068-E2B2E756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B149C-02BD-4FEC-A55B-B243F749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20EA8-88FF-4973-B504-9A9E857E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F3234-A181-4246-991D-2CE1F521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45F-A9C8-450C-A58F-04200B21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33B9-DE38-43AA-8816-706E8A2CD80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35CE-3F9E-4E1F-880B-2BBC9AFB956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44B9-A040-4F57-99CF-18F5C223416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CB33-BBD8-4009-8541-D0EE60AEF63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6174-08F5-4B1A-B8D8-A8FC27720B1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59E2-5397-46E5-B854-B7498522D9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2131-D0E0-4E86-9279-2F9FF854B9A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C7DA-6487-43BC-8195-0F48485858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5D3F-0A44-4885-BEEE-C79799F5CAD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5579-DCF3-4FEA-A936-F37FA9D7F9C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1018-F193-48EA-B3BB-33DF05F73B8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5670-80BD-4371-8CDC-E685CCDAEE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0B9E-74DC-4C79-86FF-FD824CC7489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4F88-F6CD-41DB-9FD3-DCFBC0DBA38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C:\Documents and Settings\Новая Тараба\Рабочий стол\г3.gif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1571760" y="785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3"/>
          <p:cNvSpPr/>
          <p:nvPr/>
        </p:nvSpPr>
        <p:spPr>
          <a:xfrm>
            <a:off x="2357280" y="214200"/>
            <a:ext cx="442944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К экологической проблеме относятся: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опустынивание территорий в результате нерациональной хозяйственной деятельности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C:\Documents and Settings\Новая Тараба\Рабочий стол\г2.jpeg"/>
          <p:cNvPicPr/>
          <p:nvPr/>
        </p:nvPicPr>
        <p:blipFill>
          <a:blip r:embed="rId1"/>
          <a:stretch/>
        </p:blipFill>
        <p:spPr>
          <a:xfrm>
            <a:off x="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4"/>
          <p:cNvSpPr/>
          <p:nvPr/>
        </p:nvSpPr>
        <p:spPr>
          <a:xfrm>
            <a:off x="500040" y="3366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уничтожены и продолжают уничтожаться тысячи видов растений и животн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в значительной мере истреблен лесной покр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стремительно сокращается имеющийся запас полезных ископаем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Documents and Settings\Новая Тараба\Рабочий стол\г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35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2"/>
          <p:cNvSpPr/>
          <p:nvPr/>
        </p:nvSpPr>
        <p:spPr>
          <a:xfrm>
            <a:off x="1357200" y="1779480"/>
            <a:ext cx="7786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11:21Z</dcterms:created>
  <dc:creator>Новая Тараба</dc:creator>
  <dc:description/>
  <dc:language>en-US</dc:language>
  <cp:lastModifiedBy>LEGION</cp:lastModifiedBy>
  <dcterms:modified xsi:type="dcterms:W3CDTF">2015-05-06T08:16:21Z</dcterms:modified>
  <cp:revision>19</cp:revision>
  <dc:subject/>
  <dc:title>Загрязнение окружающей среды</dc:title>
</cp:coreProperties>
</file>