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5FA2-4E65-4751-B962-C8A17E7CD3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4843-0E11-431B-AE40-64731C6FF9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 экологической проблеме относятся: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опустынивание территорий в результате нерациональной хозяйственной деятельности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174-E976-4856-959C-2EB0B16EA0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уничтожены и продолжают уничтожаться тысячи видов растений и животн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в значительной мере истреблен лесной покр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стремительно сокращается имеющийся запас полезных ископаем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1319-B6F0-4AA4-AE38-ED706C4C5F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C8A5-82BA-45CB-8CB2-4C5C38D0C9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D9A-110E-4CFA-B9F7-D6CF6A17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C2E-9FC9-44FC-801F-0DEABF1D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911-1AED-4B27-921B-DF28417D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6F7-4826-40EF-902A-3671F0E8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777E-0664-47FA-B6B9-7D1714E5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505B-9FA0-4FBC-8D4D-713C3CD4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0DA1-9B31-4F37-8CDA-A40B5C22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EE8E-501D-4281-ADF9-175A1234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1B30-7A37-407A-8613-91020E9E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3DC9-95BD-4407-8634-757DBC14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71A8-03C7-4650-B9A3-CCCFB5DF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524-D045-4A58-A458-D974FE08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46AF-6E4F-4944-9747-1FFC240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3703-9D60-4CAE-B643-BB726F1A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7360-4E34-4356-AEFE-954B261C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F934-90EE-4A4E-8398-89BBF50D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AE78-382B-4E13-9D34-2FE59B8D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C47B-B3DF-4839-A7CE-C3ACA184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4BCE-6D2A-4609-B196-CA6FB222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4A33-B082-4A0A-9F7F-C68C9374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102F-EB1D-40C7-A6B6-07A64973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9F719-8B8D-490F-BC16-194F20BB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FDF-CA3E-47D7-A10C-A8FBC9D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7263-1A83-4DF1-90B5-981E6207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D955-A76B-475F-9D80-B09DAD1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1481-F681-41F2-9E7A-180F7275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6622-F016-40F1-884A-B95F2A18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FE14-1F9D-4BA6-8675-F80D6F9C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8DAB-D68A-4743-A06D-BFE12836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30BA-8816-411B-959E-422AD1D5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D45F-D4F1-4F46-84D8-EA659740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FAE32-181E-433B-92B6-34CBB6B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FD752-1EDA-4B34-BA4C-6D6096E7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1DD-2EB2-45BF-A502-99A54354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4D84-1700-499E-9110-36E8150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DD505-D7F9-44FF-8DF5-29D7E1E2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DC17-A803-47CF-8BBC-D9CC394A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FC3A-45BE-4E68-8989-42BAD6EE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DBC01-0D58-4CBB-A3EE-AC5F0ADA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52FC-F75A-4E17-9D6A-EA8F1EFC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AF3A3-8D94-4AE6-B0BE-AF90575B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7EC2-4177-49AF-8863-B6F3E3F1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BE64-5143-4F9B-9097-60B1E559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D2316-9E40-4EE3-8D21-E7467D01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CF9-B5E0-4E09-9B14-20061395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F8C4-3B4A-4032-B199-E42447B5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B084-BE11-47CE-91B0-D1AC3C8F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656F-17B3-459D-9B43-5428E2A0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587D-3ED5-4417-A4A8-6A689BC0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6228-BBF5-4603-BB76-4B9641C7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EAB1F-2CD3-487B-9C09-3D934D8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61715-B5AA-4308-B294-2AF9ED62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BA76D-1170-4631-BD82-6EC0745A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F62D-AC6A-4F84-B179-B8E3DC81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E7637-0AD9-45A2-8704-C4134F85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754-F7FA-412B-85A3-B5408B33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1267-C836-43B1-AAD3-F13D9E9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F7336-F775-4565-828A-D0094E68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5712E-5CD2-4282-9B55-2DD02534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9E1A8-C45D-47B0-9DC4-2141F544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E288D-65F5-4194-84AA-88C5919F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ABA7-4C55-4D68-B985-D1329FFF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103C8-2317-4159-8508-A951221F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B57D-EE89-480F-B589-2F299262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77A9B-0661-43E1-9441-9C0A6B3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0DFC7-6DBB-4D7E-9B6C-76C57B58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69E-CD6C-4CAE-9F98-60D635A7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36852-F01A-43FA-85B1-59E8C35B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47C2D-D2B3-4CFF-9592-6A3D1579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FFA49-A7A8-47A7-BE7B-80B4A6F7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A2FCA-8850-4705-9B2F-D712C38F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9178F-CE2F-4F2B-AD3A-53B4F359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CBA7-1DCA-4EC1-83DC-968A52BB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8DE02-B27E-404A-9604-0FBBF344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F2FD4-E8BC-44BC-80B7-A37BE4A1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3AAF4-4769-478B-83A1-C6BAD6E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12AE9-F8AA-42E4-8FFC-0E52A57E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431-9C1A-4409-98AA-DB88429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450BC-E2A6-402B-ADF4-AB6414EC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E9C0B-D109-4F7A-A74D-C73D6000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C4A0-9F5B-41B1-B55B-250F5C87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B70B8-065F-46E8-8EE7-D9906E3E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A402C-DBA4-466F-828E-A211102B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6BA-5DE5-4D95-BC11-9FB2C43F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4F13-0679-4300-9698-82C3AC19C64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238C-6C28-46A0-AB8E-E0C0BE4619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94B3-C2C0-42B0-8AF4-8B4C2BF2E8D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388A-3496-4432-B359-47ABF0AD2B9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35C-4297-4D8B-AA5D-3726D315922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7B09-3253-4A37-ADAB-684CD70566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BA87-B51E-48EC-B819-97FC86BA2E7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4E4A-9E69-4B92-9D33-B5CDACAA5FD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D73E-67F6-45E5-A61B-725D889F58B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0279-1033-47CA-8971-07E4640E528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68FE-A381-43AB-A380-E42BEDDF26D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F448-C11F-4F09-BBB7-9EC77828E8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A84E-0C4A-474A-8F16-55171EA8A61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363E-96F7-495B-B0DD-8180F30F8B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C:\Documents and Settings\Новая Тараба\Рабочий стол\г3.gif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1571760" y="785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3"/>
          <p:cNvSpPr/>
          <p:nvPr/>
        </p:nvSpPr>
        <p:spPr>
          <a:xfrm>
            <a:off x="2357280" y="214200"/>
            <a:ext cx="442944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К экологической проблеме относятся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опустынивание территорий в результате нерациональной хозяйственной деятельности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Documents and Settings\Новая Тараба\Рабочий стол\г2.jpeg"/>
          <p:cNvPicPr/>
          <p:nvPr/>
        </p:nvPicPr>
        <p:blipFill>
          <a:blip r:embed="rId1"/>
          <a:stretch/>
        </p:blipFill>
        <p:spPr>
          <a:xfrm>
            <a:off x="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4"/>
          <p:cNvSpPr/>
          <p:nvPr/>
        </p:nvSpPr>
        <p:spPr>
          <a:xfrm>
            <a:off x="500040" y="3366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уничтожены и продолжают уничтожаться тысячи видов растений и животн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в значительной мере истреблен лесной покр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стремительно сокращается имеющийся запас полезных ископаем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Documents and Settings\Новая Тараба\Рабочий стол\г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35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2"/>
          <p:cNvSpPr/>
          <p:nvPr/>
        </p:nvSpPr>
        <p:spPr>
          <a:xfrm>
            <a:off x="1357200" y="1779480"/>
            <a:ext cx="77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11:21Z</dcterms:created>
  <dc:creator>Новая Тараба</dc:creator>
  <dc:description/>
  <dc:language>en-US</dc:language>
  <cp:lastModifiedBy>LEGION</cp:lastModifiedBy>
  <dcterms:modified xsi:type="dcterms:W3CDTF">2015-05-06T08:16:21Z</dcterms:modified>
  <cp:revision>19</cp:revision>
  <dc:subject/>
  <dc:title>Загрязнение окружающей среды</dc:title>
</cp:coreProperties>
</file>