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0474-FEF9-4786-9777-7DE6FBD317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5092-E2F7-417E-BC11-BAE01DE09C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 экологической проблеме относятся: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опустынивание территорий в результате нерациональной хозяйственной деятельности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8697-9C6B-418E-B1E7-62B5E8330F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уничтожены и продолжают уничтожаться тысячи видов растений и животн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в значительной мере истреблен лесной покр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стремительно сокращается имеющийся запас полезных ископаем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7C6B-37BC-4232-9F1A-5D68168FE2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9A5F-3368-46CC-9989-4FA7AC6C1D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6A1-4638-4868-BA77-FF1F150C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7E4-3BDC-4BCD-9CAB-1B526DF2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08D-E0A6-42F0-9AC4-967B8278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32E-118E-4B0B-A603-94D99B91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B6F1-9F6D-41C2-9AE5-81407BDE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E22A-4255-4845-8DFA-ECB0BB9E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3BD-9190-4674-8EB2-A7A6944E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11A5-8058-4716-92E0-B80174B6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C08C-FEDF-48B1-80A6-77B48FB7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BFC0-F419-4393-A57F-7DDE6814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EDDC-9F61-45CA-A0C8-F22B0AAE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134-31FD-4185-984C-71C04B45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DC29-0BE2-45B8-839F-85E65E8E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FAED-6038-4C68-B7B3-647022D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9CC0-A628-4596-8099-96502D06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CD78-DA98-42D4-A9A0-55559F42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2BB0-1AF0-4FB8-81A0-3230E402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D083-D20B-40AD-B891-7D83FA98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DE55-9AF4-4654-8550-6925FD3F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2A3B-A33D-4729-80A0-0D8AA9EB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90FB-2512-4E53-92A4-FAF68120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66B1-E12E-4184-8EBF-2C5331F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59D-0D81-4F68-B0BC-81232BC0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DB53-96C4-4EB1-9AF1-F80434BF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E6AC6-71E9-4281-A3B9-2FB5779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1832-9B4C-456A-B5B0-5ADEE4F8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C6A3-4063-4CE3-91B9-2F06A0F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7010-9250-42C0-8243-0B21020E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5DE1-B9AD-4FAA-B9D0-4AF1875E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4489-9887-4F1E-89E6-A6CA3667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6DA36-833C-40D5-B74F-C4711A12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0477-D661-4AE6-B82E-6495CF38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86D99-E66D-427C-9AD7-2A5D2B92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726-4770-4435-B895-E13D06F2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B4468-718B-42D2-BD43-96FC1E0C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8B1FD-3436-48E5-B66E-53A23B33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547E-031A-4D8D-95A5-C3681529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3022-154E-4D1F-8ECA-A8108733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A67D2-FC05-44EA-BED1-9F0ECC4A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598C0-64A2-45E6-9934-D5C0C288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1AF9D-896D-4480-B28C-0EF09B6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763A-8B83-4E81-A325-0782A563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8F20-3561-47F7-BB93-CC2D803A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BA347-F1A7-4872-B37A-BB0D1386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336-D6D1-4B99-8FE3-0FF194D9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1A04D-B4DE-4DE5-971C-504FDF9E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A2E83-4C2F-48CB-9CFD-87CFD3D3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F0E7-75E5-4114-99F4-A7FA23C0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88E4F-605E-4D83-866A-9D13B303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FFC1-6EA0-47BA-B3D8-7F99A178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8E34-83A7-4043-B23C-7D1997B1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53A5-8E58-45D1-96F3-39BE34BF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4B7F6-91AB-4105-A6F4-C87ED4F2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E024A-7687-4269-B506-0D60673E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699C-6628-41E9-8A7A-6549B783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652-5D7F-4E10-92DF-C823290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1489F-1E50-4CCE-BC90-6C960E9A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119DA-499A-4D8C-85D0-51538EB2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A073D-1886-494A-B151-352C1841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37375-36C3-48D5-9E69-F1B3B3CE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501E7-13AF-48AB-B0DC-47487754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1439E-1570-4112-B078-6F599837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85EE4-DBFE-461D-A7AB-570D1D63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FE9C5-26A3-47F3-B1D8-9212E01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54EE-170F-4DCB-BA69-55F8B5B6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E622E-EF12-48B8-BBAF-F60538B5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9D2-0C70-46B1-BF81-752C746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FE2C-F013-435E-AD93-D1F98792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50D8B-A529-4718-97FE-A5FE9055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F7122-2B7C-468A-98CD-489F24E0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47A9A-3DDB-47D7-A61D-00C996CA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CC16C-2594-4D88-9D15-A941B0C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03412-2AB9-4A07-BA96-BFFE928E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56B93-270D-449A-81D2-F5A1822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72E7-233E-4EDB-A3FA-7A131B71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2592C-385B-4002-B31A-F0DF7FF2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35CAC-45DB-4D99-8589-7C4A1863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08F-3CF3-426D-BEF8-42565406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5D003-4213-4B71-9A5B-1983C7F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6CEFC-E217-4313-AA1C-13C97947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CDD01-24ED-44C4-B245-2DBC5DDA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564CF-EA81-4B81-98F0-5403D25A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D7103-0FCD-4604-9AC2-DCC6EE1A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B5C-8746-4270-BEA1-7F78423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1162-630F-46F7-BD20-17A8BFB42B7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DC50-1368-423C-9559-C08CD7D1C6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79DA-E2EA-438C-AEDA-2886EF029C8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245F-9B0E-40CD-84B2-B0282C800F5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9837-E0AE-4D94-A563-056A6CFA753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4518-5838-41C7-BB6F-E2648E8E48D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0ECB-FED2-4B9D-A14B-B30A81FD485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1449-B2C0-47FF-9630-CC802BEA16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75DD-8001-4B35-BA27-FBB1D1984C9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F425-57C1-4BB9-9D42-3BE074145E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8AFB-40C5-451A-81F9-4E9B1F3C327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19FE-0D79-4C93-AE78-F793562C3E8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4942-DDA9-4B3D-9C98-04E78E43C62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308D-3720-4E74-B412-C52259D5F6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C:\Documents and Settings\Новая Тараба\Рабочий стол\г3.gif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1571760" y="785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3"/>
          <p:cNvSpPr/>
          <p:nvPr/>
        </p:nvSpPr>
        <p:spPr>
          <a:xfrm>
            <a:off x="2357280" y="214200"/>
            <a:ext cx="442944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К экологической проблеме относятся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опустынивание территорий в результате нерациональной хозяйственной деятельности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Documents and Settings\Новая Тараба\Рабочий стол\г2.jpeg"/>
          <p:cNvPicPr/>
          <p:nvPr/>
        </p:nvPicPr>
        <p:blipFill>
          <a:blip r:embed="rId1"/>
          <a:stretch/>
        </p:blipFill>
        <p:spPr>
          <a:xfrm>
            <a:off x="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4"/>
          <p:cNvSpPr/>
          <p:nvPr/>
        </p:nvSpPr>
        <p:spPr>
          <a:xfrm>
            <a:off x="500040" y="3366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уничтожены и продолжают уничтожаться тысячи видов растений и животн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в значительной мере истреблен лесной покр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стремительно сокращается имеющийся запас полезных ископаем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Documents and Settings\Новая Тараба\Рабочий стол\г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35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2"/>
          <p:cNvSpPr/>
          <p:nvPr/>
        </p:nvSpPr>
        <p:spPr>
          <a:xfrm>
            <a:off x="1357200" y="1779480"/>
            <a:ext cx="77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11:21Z</dcterms:created>
  <dc:creator>Новая Тараба</dc:creator>
  <dc:description/>
  <dc:language>en-US</dc:language>
  <cp:lastModifiedBy>LEGION</cp:lastModifiedBy>
  <dcterms:modified xsi:type="dcterms:W3CDTF">2015-05-06T08:16:21Z</dcterms:modified>
  <cp:revision>19</cp:revision>
  <dc:subject/>
  <dc:title>Загрязнение окружающей среды</dc:title>
</cp:coreProperties>
</file>