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DB47-3F69-4D62-9D55-C0FF262A0E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FDB-CDC9-4185-B5B4-4D6EA21B4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 экологической проблеме относятся: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опустынивание территорий в результате нерациональной хозяйственной деятельности; 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D02-DBB3-46C6-B72D-C018544DD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уничтожены и продолжают уничтожаться тысячи видов растений и животн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в значительной мере истреблен лесной покр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стремительно сокращается имеющийся запас полезных ископаемых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200"/>
            </a:b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FFC-E2A3-4159-885D-CFA7E15D83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DA25-A46F-4AC8-9E73-5E895F91BE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9E8-F39B-4D36-A8A4-A1E6FF21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05D-90BC-4EC9-B87E-DE712748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0F6F-DF74-42C3-825B-55F7DDB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931F-ECF4-4067-B427-EBE9ECE9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E081-5295-4191-A094-332B7013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7F7E-B264-4C98-8ECB-8D9E6CE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BA1-2A75-4FA3-A4BE-E77D7AD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0ED2-7226-4F9B-828E-A2CCB005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72FD-207B-4ADB-BE7D-616DF467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B09D-51B8-45FA-8774-C2C2E97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E5A-F2AC-4AF7-A7A6-8305B73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A70-780C-4D21-9D34-B3DEEC3F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14F-E91D-47A7-BD82-1F10C6A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8B95-53D1-49A8-9079-39625FC3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772-AC7F-4E5A-B58A-AF61D6CB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51EF-1820-49E9-8991-C40D6196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8399-4437-42BF-9AEB-1A2923CD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F895-D4B9-4856-9E29-B83029D7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8BCE3-DDD3-4F49-999A-964C72E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3172F-535E-4E91-9A78-AD19D9CA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340C-A182-4784-8313-38B70564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765D-69D7-4AB5-ACA1-3C9FBD0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013-4349-4064-A7C4-FE077D5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0091-3884-4685-8C01-D0EC359F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2202-9CF4-4B44-A39E-8927CF2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6382-7A84-403E-A819-A1AF7049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49B49-96E7-4A81-9484-5B528D6A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657F-58DD-4AF7-8912-EF4A724D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DBA2-7BFF-450E-B475-59878013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67B0-DFEA-4798-B0C3-99552F9A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F2A3-F962-499D-98BC-6C0B7399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40E91-E340-4831-9F0A-D1FADA2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BC826-0588-4C9F-8B1D-424814E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411-64F6-4A1A-BE46-01BB5172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3BC9-47B9-4CBE-BCA4-C0513762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EF7F-719A-412C-9B8A-DA80CA03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8C1EA-E894-41FC-B16F-821563DD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AF69A-81DE-4518-A935-5F3E94B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C3FBF-6640-426D-AB85-6C0A0BB9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0136-616F-4E0F-B32A-4395FAB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3E1C-72D8-4502-884E-3415B251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D60A5-94F1-4856-BACD-49DE60FD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4D68-5E79-43A6-8422-13CCD001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0EAC-44F3-4F14-AA9A-181A6BE2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415-0D90-406B-9E87-0CA9BFF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1AAE8-5FE8-45D4-B5CB-2FC09846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BBE97-473B-429A-8756-797A7283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BCB0-1B74-43EA-A7B6-DCF92BB0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746A6-AA85-4F06-B50E-D47600BD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79BF8-1EA6-413A-A475-41FE5434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5E8C4-76CF-4C06-9C79-29CB637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F0FB4-716D-49CA-9E62-0E9CE42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26D28-3CEA-4A0A-8A65-403B407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F988-54AB-4A69-9665-32F137E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B89C-56C0-4DC8-84CA-EB234424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AD3-3386-49BD-AD8B-D884BFA7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A80D5-95D0-4560-A3A9-209DC0A7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2770-EF67-4B35-AAEF-D5075D98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2E40-97AF-4BB0-858F-5B87779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DF2FB-2920-4DE2-8AA8-2B5E9075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9A384-94A4-4F9C-A0C5-250FC84E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71917-CCBB-40EC-BED9-2BB4B1BC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82539-BA13-419E-872C-F97BF06C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172F-A4D5-4B48-B595-0F1431AB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954EF-BD24-44BD-A575-20C8305A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EE04-AB87-4707-BEEC-34F6846A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CF4-E5D2-48DA-B7DD-6555AFC6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934C6-D92E-4138-9CCA-3C3561E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859CC-68D2-4887-968F-8656423E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C0843-EE58-419F-8415-C9033960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D933A-2033-4F03-98C7-B0E446A9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2BB5-6D52-4053-BAB8-DE0ACDA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59036-77BE-481A-AE59-217978E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00AA-29D6-4A1A-9F3D-296FF5AA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4ACE-9942-468B-AA52-646C8F2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0B60B-C62D-4EA2-9198-57D6206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0808A-C9C4-41B9-937E-CEE14C5D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C98-5E39-4B85-978D-3F2FC5D5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B2D51-62B9-4BD3-9DC2-10C5909E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65D6D-BF31-47D6-B478-68AFB9E2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2BEA-BB26-4D77-B300-83F7FE67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90F3-5795-4750-B1F6-E10202B0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B6F7-7003-45CD-9075-4B831596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33D-A841-4F23-ACD9-184B0F8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5C47-D4CD-4FAD-A729-C4DA1CB8E22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ED10-2E25-4782-BA04-32AC3AEC5C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068F-B5D0-490D-B670-8401EB6290F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3B30-4E5C-466F-89D5-C5F2A0FAFA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6DB6-E339-43A0-8819-9144A647F4A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19B1-6CA9-489C-87AE-2CDCB06502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BF70-DA96-4455-A21F-F653BD24478B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D353-8E94-4F91-AC52-249A98B387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C378-4332-42F7-97DC-F5CD81429E9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53AE-61BA-4806-BD70-EF6270A892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35C-16D9-433B-B3DC-DB15581D66B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F981-B551-411A-9EAC-FF71A871BA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093E-3803-406F-BD2E-FA4DF119BF3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8CA-611C-459F-95EE-6DBDE0630EC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5" descr="C:\Documents and Settings\Новая Тараба\Рабочий стол\г3.gif"/>
          <p:cNvPicPr/>
          <p:nvPr/>
        </p:nvPicPr>
        <p:blipFill>
          <a:blip r:embed="rId1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2"/>
          <p:cNvSpPr/>
          <p:nvPr/>
        </p:nvSpPr>
        <p:spPr>
          <a:xfrm>
            <a:off x="1571760" y="785880"/>
            <a:ext cx="5286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 целый ряд целенаправленных мер по экологизации производства: природосберегающие технологии, обязательная экологическая экспертиза новых проектов, создание безотходных технологий замкнутого цик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ругой мерой, направленной на улучшение взаимоотношений человека и природы, является разумное самоограничение в расходовании природных ресурсов, особенно — энергетических источников (нефть, уголь), имеющих для жизни человечества важнейш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Прямоугольник 3"/>
          <p:cNvSpPr/>
          <p:nvPr/>
        </p:nvSpPr>
        <p:spPr>
          <a:xfrm>
            <a:off x="2357280" y="214200"/>
            <a:ext cx="442944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Экологическая проблема - глобальная проблема человечества, возникшая с началом индустриальной деятельности человечества и особенно обострившаяся во второй половине 20 века. Кроме индустриализации, углублению экологической проблемы способствовали ядерные испытания, проводимые в трех средах географической оболочки Зем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К экологической проблеме относятся: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сокращение площади лесов в умеренном и в тропическом поясах, следствием чего является сокращение источников поступления кислорода в атмосферу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опустынивание территорий в результате нерациональной хозяйственной деятельности;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rbel"/>
              </a:rPr>
              <a:t>- уменьшение биологического разнообразия растений и животных Земли из-за разрушения среды их обитания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C:\Documents and Settings\Новая Тараба\Рабочий стол\г2.jpeg"/>
          <p:cNvPicPr/>
          <p:nvPr/>
        </p:nvPicPr>
        <p:blipFill>
          <a:blip r:embed="rId1"/>
          <a:stretch/>
        </p:blipFill>
        <p:spPr>
          <a:xfrm>
            <a:off x="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4"/>
          <p:cNvSpPr/>
          <p:nvPr/>
        </p:nvSpPr>
        <p:spPr>
          <a:xfrm>
            <a:off x="500040" y="336600"/>
            <a:ext cx="8143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Сегодня экологическую ситуацию в мире можно охарактеризовать как близкую к критической. Среди глобальных экологических проблем можно отметить следующие: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уничтожены и продолжают уничтожаться тысячи видов растений и животн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в значительной мере истреблен лесной покр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стремительно сокращается имеющийся запас полезных ископаемых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мировой океан не только истощается в результате уничтожения живых организмов, но и перестает быть регулятором природных процессов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атмосфера во многих местах загрязнена до предельно допустимых размеров, а чистый воздух становится дефицитом;</a:t>
            </a:r>
            <a:br>
              <a:rPr sz="1800"/>
            </a:br>
            <a:r>
              <a:rPr b="0" lang="ru-RU" sz="1800" spc="-1" strike="noStrike">
                <a:solidFill>
                  <a:srgbClr val="7030a0"/>
                </a:solidFill>
                <a:latin typeface="Corbel"/>
              </a:rPr>
              <a:t>- частично нарушен озоновый слой, защищающий от губительного для всего живого космического излуч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Documents and Settings\Новая Тараба\Рабочий стол\г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985080"/>
          </a:xfrm>
          <a:prstGeom prst="rect">
            <a:avLst/>
          </a:prstGeom>
          <a:ln w="0">
            <a:noFill/>
          </a:ln>
        </p:spPr>
      </p:pic>
      <p:sp>
        <p:nvSpPr>
          <p:cNvPr id="35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2"/>
          <p:cNvSpPr/>
          <p:nvPr/>
        </p:nvSpPr>
        <p:spPr>
          <a:xfrm>
            <a:off x="1357200" y="1779480"/>
            <a:ext cx="7786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Ныне межгосударственные формы сотрудничества выходят на качественно новый уровень. Заключаются международные конвенции по охране окружающей среды (квоты по вылову рыб, запрет на промысел китов и др.), осуществляются самые различные совместные разработки и программы. Активизировалась деятельность общественных организаций по защите окружающей среды — «зеленые» («Гринпис»). Экологический интернационал Зеленого Креста и Зеленого Полумесяца в настоящее время разрабатывает программу по решению проблемы «озоновых дыр» в атмосфере Земли. Однако следует признать, что при весьма различном уровне социально-политического развития государств мира международное сотрудничество в экологической сфере еще весьма далеко от своего совершенства.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Corbel"/>
              </a:rPr>
              <a:t>Еще одним направлением для решения экологической проблемы, и может быть в перспективе — самым важным из всех, является формирование в обществе экологического сознания, понимания людьми природы как другого живого существа, над которым нельзя властвовать без ущерба для него и себя. Экологическое обучение и воспитание в обществе должны быть поставлены на государственный уровень, проводиться с раннего дет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5:11:21Z</dcterms:created>
  <dc:creator>Новая Тараба</dc:creator>
  <dc:description/>
  <dc:language>en-US</dc:language>
  <cp:lastModifiedBy>LEGION</cp:lastModifiedBy>
  <dcterms:modified xsi:type="dcterms:W3CDTF">2015-05-06T08:16:21Z</dcterms:modified>
  <cp:revision>19</cp:revision>
  <dc:subject/>
  <dc:title>Загрязнение окружающей среды</dc:title>
</cp:coreProperties>
</file>