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4202-9E19-48D8-B35C-51F40CD65E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3027-CCA6-4EA9-9296-CC02C35496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 экологической проблеме относятся: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опустынивание территорий в результате нерациональной хозяйственной деятельности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D90F-5D07-40B7-8B8F-593F3F48EA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уничтожены и продолжают уничтожаться тысячи видов растений и животн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в значительной мере истреблен лесной покр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стремительно сокращается имеющийся запас полезных ископаем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8CC6-891E-4011-9A39-BFF8087B0C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3D3D-593F-4C7D-B79A-2C741ADE3C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7BB-D3E4-48E0-8B2C-F1975FBA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4CD-ED5E-49AE-9A1C-A86B2D8D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7BF-59DC-47C7-92C6-1CDF22CC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2DE-1195-44BC-97D7-1941EFEF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0607-6488-490D-988C-F6ECE309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ACBB-11FA-4BAC-BFC6-332C0E55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3003-A141-44CB-8EF5-6004FC65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A1F5-39DC-4EB1-BEC6-7B13F78C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8A9C-8DEC-490F-9240-25831E38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9758-39DE-491F-B001-CD000228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BFD8-1451-4205-B8E7-A229252C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83D-F9C0-4ED2-AFFF-E2EC0392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C737-9D92-4CF3-8A8F-79E35ED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7B29-DFA7-41C2-B42A-AB5DB20D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CAF5-501C-4F19-8261-46F08910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BBE2-AA04-4341-8BF5-0EB07EBE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695C-D05D-4BB9-80B6-4BF9DDB0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69EE-1CAA-4BC3-8A48-DB8C7DED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62E2-4A45-472F-8DAC-22773F1E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AFD0-8245-426E-A0C7-D0EEFF9F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26B2-6645-46A5-A059-A3DE055E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E769-C792-4DB1-9486-4961DD4B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F10-C52C-4D48-B9EE-88C13E01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979A-AD21-4DC9-8E4E-3F971D8D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F704-E8E4-4076-9EE0-4948231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F418-DC14-449F-87B3-7451B23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1625-3208-4113-99AC-600F98D2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EDF3-2C85-4E76-BDE5-1C11EFE8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5810-9235-4017-8CA6-2598E825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27B2-256E-4899-8818-C013A119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3651-E9DC-48F4-B5AE-59995FD3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DCFE-5A0B-42F8-9FCC-D2926F47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4D5A9-BE04-4D28-A4CE-ACE13D54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656-D093-45FE-9619-9593F28D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B024F-D3BC-407E-AAD5-BDEF1816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E1D27-1B5D-4225-ADD7-A752B16C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2FEE-4C69-4E19-86FD-E18711AC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9A0A-F6B4-41A6-BB5D-E1C7ED61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3801D-0D7D-4B26-AE86-D25769D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8CEE-82B3-499D-B491-C6D29C6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F296-DA26-4538-B628-D272E918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EB56-891F-4DBD-BBAA-27F7ED02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5444A-E012-49B2-B689-4657C513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83F88-5D7F-47F8-A884-78E8191F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771-122E-4A4C-BD5A-0A59AD05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9B6B2-E3A8-49BA-92E1-EE12B694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CE6AD-6DE2-4FEB-AB65-9F2B381C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6905-3F17-4FFE-9A82-44844A5B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751CA-81ED-489A-A5C8-0E39BC9C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B0B49-B5CA-4289-98E8-73CCDDA8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0351B-DB23-41B0-9EF3-AE66ABE6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C25CA-986D-44B8-A99F-7B25B791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F9364-3463-4E1F-B58C-E52C7618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4421-AA34-4D12-8030-BC8DD3CE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6CB4-0218-4486-B423-8FAE19FE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490-4B50-4056-8457-7AD49CAF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CBBE3-E16E-4E80-B7EE-6423C394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009B2-26E2-45BF-94B5-E209D436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4E83A-C9AF-426A-83C8-1F52A93D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6CCB3-7142-401A-A816-624E1F3D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F079-6978-43C6-AF89-609CF110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BC73F-FF48-4F33-A5C9-A775255A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33704-ED40-4314-8A42-627B084E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4882B-5789-49CB-AF16-35A5E83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EB5EB-5A01-4D15-86B7-B329290C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ABDA8-A767-4F0B-A5A0-442D902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998-E41C-438E-9129-0453A272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23A4C-DB5B-4710-9E1B-E85309A0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95AD5-E674-4648-B4D0-3C30AD38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8A837-50E8-40BE-8590-B738A93C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85B82-D949-4CB0-ABEE-2BC27A9C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A9CAB-0169-4B80-9FC5-5FCE8817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7D745-D966-4E41-ABDE-22A3A101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59EDD-25CF-45BD-AEA0-D6F18C67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1DE2B-310A-4EE9-9794-F728FC7A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F2778-CC28-47BB-9021-978F2D3B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040D8-C386-49F5-8E62-10C434DD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0E2-0107-49DF-8E2B-07968663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8294-035D-404E-BE39-A8B1607C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AC338-DE0F-4AC3-A1AD-5B747E80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17D12-6601-46E3-AEF6-E62A0AE0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A369B-E185-4011-A23D-40C264D7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0CA69-C928-4F79-BFFC-47092D47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A14-082D-4576-9364-7482D870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C069-CAE9-4088-A471-1F990AC52BB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379C-26BB-4478-BFEE-922746B7AF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DEC1-C631-4F34-BFA0-132192AF8D4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365C-A25B-4A9F-94D8-DA5C367F66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827F-67E0-4BB5-AEB4-5155FB258B6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2E8D-11BD-40EE-80B2-405ED67BCA4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B213-A3CC-4775-A0C6-702C64D51C2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0EE9-4877-4457-BE86-878E5711477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9C4A-40C0-46D5-B941-81F8D600717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7BC0-0C36-49CA-8E7D-5053B2AAAE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F611-AAA9-4B6B-9C19-14DD2A85DD4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C560-A085-4E42-A132-76773A0EAD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BDB7-4ABA-476E-B9C8-976D5D115B7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4F45-F1C0-4B81-B727-78892F364D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C:\Documents and Settings\Новая Тараба\Рабочий стол\г3.gif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1571760" y="785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3"/>
          <p:cNvSpPr/>
          <p:nvPr/>
        </p:nvSpPr>
        <p:spPr>
          <a:xfrm>
            <a:off x="2357280" y="214200"/>
            <a:ext cx="442944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К экологической проблеме относятся: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опустынивание территорий в результате нерациональной хозяйственной деятельности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C:\Documents and Settings\Новая Тараба\Рабочий стол\г2.jpeg"/>
          <p:cNvPicPr/>
          <p:nvPr/>
        </p:nvPicPr>
        <p:blipFill>
          <a:blip r:embed="rId1"/>
          <a:stretch/>
        </p:blipFill>
        <p:spPr>
          <a:xfrm>
            <a:off x="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4"/>
          <p:cNvSpPr/>
          <p:nvPr/>
        </p:nvSpPr>
        <p:spPr>
          <a:xfrm>
            <a:off x="500040" y="3366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уничтожены и продолжают уничтожаться тысячи видов растений и животн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в значительной мере истреблен лесной покр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стремительно сокращается имеющийся запас полезных ископаем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Documents and Settings\Новая Тараба\Рабочий стол\г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35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2"/>
          <p:cNvSpPr/>
          <p:nvPr/>
        </p:nvSpPr>
        <p:spPr>
          <a:xfrm>
            <a:off x="1357200" y="1779480"/>
            <a:ext cx="7786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11:21Z</dcterms:created>
  <dc:creator>Новая Тараба</dc:creator>
  <dc:description/>
  <dc:language>en-US</dc:language>
  <cp:lastModifiedBy>LEGION</cp:lastModifiedBy>
  <dcterms:modified xsi:type="dcterms:W3CDTF">2015-05-06T08:16:21Z</dcterms:modified>
  <cp:revision>19</cp:revision>
  <dc:subject/>
  <dc:title>Загрязнение окружающей среды</dc:title>
</cp:coreProperties>
</file>