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863E8-CBDC-4998-B516-2B83043A720D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заимосвязь глобальных проблем. Преодоление отсталости развивающихся стран – крупнейшая общемировая проблем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Выполнила: Шаповалова Дарья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FA7DC-F2A3-479B-8888-8F6596160EEA}" type="slidenum">
              <a:rPr b="0" lang="uk-UA" sz="1200" spc="-1" strike="noStrike">
                <a:solidFill>
                  <a:srgbClr val="ebf5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bf5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шение пробл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авные пути решения заключаются в проведение коренных социально – экономических преобразований во всех сферах жизни и деятельности этих стран, в развитии научно – технического  прогресса, международного сотрудничества, в демилитариз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9FD8D-B36D-465F-B7CC-CE0804B2D06A}" type="slidenum">
              <a:rPr b="0" lang="uk-UA" sz="1200" spc="-1" strike="noStrike">
                <a:solidFill>
                  <a:srgbClr val="ebf5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bf5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такое глобальны проблемы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но из определений  относит  к  глобальным  "проблемы,  возникающие  в результате  объективного   развития   общества,   создающие   угрозы   всему человечеству и  требующие  для  своего  решения  объединенных  усилий  всего мирового сообщества"1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36811-8C82-40F0-81C8-686FBEAFBE40}" type="slidenum">
              <a:rPr b="0" lang="uk-UA" sz="1200" spc="-1" strike="noStrike">
                <a:solidFill>
                  <a:srgbClr val="ebf5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bf5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ильность этого определения зависит от того, какие проблемы относить к глобальным. Если это  узкий  круг  высших,  планетарных  проблем,  то  оно вполне соответствует истине. Если  же  добавить  сюда  такие  проблемы,  как стихийные бедствия (она глобальна лишь в  смысле  возможности  проявления  в регионе), тогда это определение оказывается узким, ограничивающим, в  чем  и состоит его смыс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3DD18-4FC8-4EBE-AFEF-3E2EFFC3A477}" type="slidenum">
              <a:rPr b="0" lang="uk-UA" sz="1200" spc="-1" strike="noStrike">
                <a:solidFill>
                  <a:srgbClr val="ebf5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bf5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заимосвязь глобальных пробл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вы видели, каждая из глобальных проблем человечества имеет свое конкретное содержание. Но все они тесно взаимосвязаны: энергетическая и сырьевая с экологической, экологическая с демографической, демографическая с продовольственной и т. д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06387-8C36-4FCE-A25E-2A66ED92B70F}" type="slidenum">
              <a:rPr b="0" lang="uk-UA" sz="1200" spc="-1" strike="noStrike">
                <a:solidFill>
                  <a:srgbClr val="ebf5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bf5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блема предотвращения новой мировой войны непосредственно затрагивает и все остальные проблемы. Однако теперь, когда начался переход от экономики вооружения к экономике разоружения, центр тяжести большинства глобальных проблем все больше перемещается в страны развивающегося мир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39C6E-9F31-447C-AC4D-7C41DE5932D6}" type="slidenum">
              <a:rPr b="0" lang="uk-UA" sz="1200" spc="-1" strike="noStrike">
                <a:solidFill>
                  <a:srgbClr val="ebf5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bf5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Масштабы их отсталости поистине огромны. Главное проявление и одновременно причина этой отсталости — бедность, нищета. В странах Азии, Африки и Латинской Америки в условиях абсолютной нищеты обитает 40% населения. Жители городских трущоб и сельской глубинки вынуждены довольствоваться жизненным уровнем, составляющим 5—10% от уровня жизни в наиболее богатых странах. Да и в целом разрыв в уровнях жизни между Севером и Югом составляет примерно 20: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6C6B6-9482-4DA8-992A-8179A1EBFFDB}" type="slidenum">
              <a:rPr b="0" lang="uk-UA" sz="1200" spc="-1" strike="noStrike">
                <a:solidFill>
                  <a:srgbClr val="ebf5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bf5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жалуй, наиболее драматический, даже катастрофический, характер приобрела в развивающихся странах продовольственная проблема. Конечно, голод и недоедание существуют в мире начиная с самых истоков развития человечества. Уже в 19-20 вв. многие миллионы жизней унесли вспышки голода в Китае, Индии, Ирландии, во многих странах Африки и в Советском Союзе. Но существование голода в эпоху НТР и перепроизводства продовольствия в экономически развитых странах Запада — это поистине один из парадоксов нашего времен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38708-FFD3-4B91-8C73-4CA2DDB0C04E}" type="slidenum">
              <a:rPr b="0" lang="uk-UA" sz="1200" spc="-1" strike="noStrike">
                <a:solidFill>
                  <a:srgbClr val="ebf5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bf5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заимосвязь глобальных пробл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2D89C-A64D-478A-A6A3-8125467FFE9B}" type="slidenum">
              <a:rPr b="0" lang="uk-UA" sz="1200" spc="-1" strike="noStrike">
                <a:solidFill>
                  <a:srgbClr val="ebf5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bf5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ы не задумываемся каждый день о мировых проблем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68279-41C8-4BC2-BFF4-5185EB53E7F4}" type="slidenum">
              <a:rPr b="0" lang="uk-UA" sz="1200" spc="-1" strike="noStrike">
                <a:solidFill>
                  <a:srgbClr val="ebf5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bf5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BF9A1-EEE5-4E74-A23A-73E7C490A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00200" y="30492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00200" y="1371240"/>
            <a:ext cx="7238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00200" y="3839040"/>
            <a:ext cx="7238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B8BEF-2456-42A9-A454-1B9BCE126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00200" y="30492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00200" y="1371240"/>
            <a:ext cx="3532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09640" y="1371240"/>
            <a:ext cx="3532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00200" y="3839040"/>
            <a:ext cx="3532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09640" y="3839040"/>
            <a:ext cx="3532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120DD-D08F-4D47-A6E2-71EDC3BDD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00200" y="30492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00200" y="1371240"/>
            <a:ext cx="2330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047840" y="1371240"/>
            <a:ext cx="2330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5480" y="1371240"/>
            <a:ext cx="2330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00200" y="3839040"/>
            <a:ext cx="2330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047840" y="3839040"/>
            <a:ext cx="2330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5480" y="3839040"/>
            <a:ext cx="2330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1771E-C617-442C-98A7-F4C78E2D7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62E5A-0C06-4269-B8AF-D6097F72E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600200" y="30492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600200" y="1371240"/>
            <a:ext cx="723888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CCB6B-EF67-4F4B-B254-8141E1DB1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600200" y="30492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600200" y="1371240"/>
            <a:ext cx="72388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D3DB5-D0E2-4B44-8238-CD2A37C3B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00200" y="30492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00200" y="1371240"/>
            <a:ext cx="3532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309640" y="1371240"/>
            <a:ext cx="3532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1171D-4BF0-4422-A0B8-38867E2BE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30492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338EF-CF19-415F-BE38-B6C4816D9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600200" y="304920"/>
            <a:ext cx="72388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16B87-F829-400C-8403-C742BCAA6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00200" y="30492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600200" y="1371240"/>
            <a:ext cx="3532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309640" y="1371240"/>
            <a:ext cx="3532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600200" y="3839040"/>
            <a:ext cx="3532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136A2-C095-4BBF-990D-144C7E2F3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00200" y="30492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00200" y="1371240"/>
            <a:ext cx="723888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5AC71-4D8D-416C-B001-3B7D7D9B5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600200" y="30492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600200" y="1371240"/>
            <a:ext cx="3532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09640" y="1371240"/>
            <a:ext cx="3532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09640" y="3839040"/>
            <a:ext cx="3532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1537F-04A3-4D12-94A7-AE38FB705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600200" y="30492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600200" y="1371240"/>
            <a:ext cx="3532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09640" y="1371240"/>
            <a:ext cx="3532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600200" y="3839040"/>
            <a:ext cx="7238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161F3-89F1-42FA-B20A-BC2B31D27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600200" y="30492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600200" y="1371240"/>
            <a:ext cx="7238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600200" y="3839040"/>
            <a:ext cx="7238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2766F-341A-4D0F-870E-AE1BDAB93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00200" y="30492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600200" y="1371240"/>
            <a:ext cx="3532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09640" y="1371240"/>
            <a:ext cx="3532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600200" y="3839040"/>
            <a:ext cx="3532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309640" y="3839040"/>
            <a:ext cx="3532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6033E-3B1E-4C80-97A4-44A059304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600200" y="30492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600200" y="1371240"/>
            <a:ext cx="2330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047840" y="1371240"/>
            <a:ext cx="2330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495480" y="1371240"/>
            <a:ext cx="2330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600200" y="3839040"/>
            <a:ext cx="2330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047840" y="3839040"/>
            <a:ext cx="2330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495480" y="3839040"/>
            <a:ext cx="2330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A4AED-3356-45D9-8238-77AB40147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00200" y="30492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00200" y="1371240"/>
            <a:ext cx="72388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CCC7A-26A0-45C1-94AE-4B1252309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00200" y="30492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00200" y="1371240"/>
            <a:ext cx="3532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09640" y="1371240"/>
            <a:ext cx="3532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39B9A-7314-4CC0-92FB-919B38E66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00200" y="30492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B9AEC-CC7E-455C-8D64-673C80206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00200" y="304920"/>
            <a:ext cx="72388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BB355-409A-410A-8BF0-E9235CA55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00200" y="30492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00200" y="1371240"/>
            <a:ext cx="3532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09640" y="1371240"/>
            <a:ext cx="3532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00200" y="3839040"/>
            <a:ext cx="3532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C0DB0-254E-4D8B-8B73-8984A502B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00200" y="30492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00200" y="1371240"/>
            <a:ext cx="3532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09640" y="1371240"/>
            <a:ext cx="3532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09640" y="3839040"/>
            <a:ext cx="3532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268A0-BAD7-4BB8-B90F-0985465C6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00200" y="30492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00200" y="1371240"/>
            <a:ext cx="3532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09640" y="1371240"/>
            <a:ext cx="3532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00200" y="3839040"/>
            <a:ext cx="7238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DEC75-3CDB-4ED2-B0A0-BBE42CA34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00200" y="30492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00200" y="1371240"/>
            <a:ext cx="72388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5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f5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bf5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f5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bf5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f5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bf5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f5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bf5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f5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bf5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f5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bf5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f5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8120" y="6248520"/>
            <a:ext cx="1295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495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543800" y="6248520"/>
            <a:ext cx="1295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7E750-4710-4B51-866F-4D91372B6247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00200" y="30492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600200" y="1371240"/>
            <a:ext cx="72388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5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f5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bf5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f5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bf5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f5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bf5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f5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bf5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f5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bf5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f5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bf5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f5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228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236196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ebf5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bf5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ebf5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8B538-9090-4A14-81CA-227BE2515F8A}" type="slidenum">
              <a:rPr b="0" lang="ru-RU" sz="1000" spc="-1" strike="noStrike">
                <a:solidFill>
                  <a:srgbClr val="ebf5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11280" y="549000"/>
            <a:ext cx="8208720" cy="36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ecff"/>
                </a:solidFill>
                <a:latin typeface="Arial Black"/>
              </a:rPr>
              <a:t>Взаимосвязь глобальных проблем. Преодоление отсталости развивающихся стран – крупнейшая общемировая проблема.</a:t>
            </a:r>
            <a:endParaRPr b="0" lang="en-US" sz="36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5580000" y="5661000"/>
            <a:ext cx="3353040" cy="94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bf5ff"/>
                </a:solidFill>
                <a:latin typeface="Arial"/>
              </a:rPr>
              <a:t>Выполнила: Шаповалова Дарья.</a:t>
            </a:r>
            <a:endParaRPr b="0" lang="en-US" sz="24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236232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bf5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bf5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4" descr="Рассмотрим модель взаимосвязи глобальных проблем"/>
          <p:cNvPicPr/>
          <p:nvPr/>
        </p:nvPicPr>
        <p:blipFill>
          <a:blip r:embed="rId1"/>
          <a:stretch/>
        </p:blipFill>
        <p:spPr>
          <a:xfrm>
            <a:off x="1476360" y="620640"/>
            <a:ext cx="7345440" cy="5259600"/>
          </a:xfrm>
          <a:prstGeom prst="rect">
            <a:avLst/>
          </a:prstGeom>
          <a:ln w="0">
            <a:noFill/>
          </a:ln>
        </p:spPr>
      </p:pic>
      <p:sp>
        <p:nvSpPr>
          <p:cNvPr id="113" name="Місце для нижнього колонтитула 1"/>
          <p:cNvSpPr/>
          <p:nvPr/>
        </p:nvSpPr>
        <p:spPr>
          <a:xfrm>
            <a:off x="4495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bf5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bf5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600200" y="30492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 Black"/>
              </a:rPr>
              <a:t>Решение проблем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600200" y="1371240"/>
            <a:ext cx="72388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5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bf5ff"/>
                </a:solidFill>
                <a:latin typeface="Arial"/>
              </a:rPr>
              <a:t>Главные пути решения заключаются в проведение коренных социально – экономических преобразований во всех сферах жизни и деятельности этих стран, в развитии научно – технического  прогресса, международного сотрудничества, в демилитаризации.</a:t>
            </a: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4495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bf5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bf5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00200" y="30492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ecff"/>
                </a:solidFill>
                <a:latin typeface="Arial Black"/>
              </a:rPr>
              <a:t>Что такое глобальны проблемы?</a:t>
            </a:r>
            <a:endParaRPr b="0" lang="en-US" sz="32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600200" y="1371240"/>
            <a:ext cx="72388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5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bf5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ebf5ff"/>
                </a:solidFill>
                <a:latin typeface="Arial"/>
              </a:rPr>
              <a:t>Одно из определений  относит  к  глобальным  "проблемы,  возникающие  в результате  объективного   развития   общества,   создающие   угрозы   всему человечеству и  требующие  для  своего  решения  объединенных  усилий  всего мирового сообщества"1. </a:t>
            </a: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94" name="Місце для нижнього колонтитула 1"/>
          <p:cNvSpPr/>
          <p:nvPr/>
        </p:nvSpPr>
        <p:spPr>
          <a:xfrm>
            <a:off x="4495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bf5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bf5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1258920" y="404280"/>
            <a:ext cx="7580160" cy="56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bf5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bf5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ebf5ff"/>
                </a:solidFill>
                <a:latin typeface="Arial"/>
              </a:rPr>
              <a:t>Правильность этого определения зависит от того, какие проблемы относить к глобальным. Если это  узкий  круг  высших,  планетарных  проблем,  то  оно вполне соответствует истине. Если  же  добавить  сюда  такие  проблемы,  как стихийные бедствия (она глобальна лишь в  смысле  возможности  проявления  в регионе), тогда это определение оказывается узким, ограничивающим, в  чем  и состоит его смысл. </a:t>
            </a:r>
            <a:endParaRPr b="0" lang="en-US" sz="28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96" name="Місце для нижнього колонтитула 1"/>
          <p:cNvSpPr/>
          <p:nvPr/>
        </p:nvSpPr>
        <p:spPr>
          <a:xfrm>
            <a:off x="4495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bf5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bf5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600200" y="30492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ecff"/>
                </a:solidFill>
                <a:latin typeface="Arial Black"/>
              </a:rPr>
              <a:t>Взаимосвязь глобальных проблем</a:t>
            </a:r>
            <a:endParaRPr b="0" lang="en-US" sz="32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600200" y="1371240"/>
            <a:ext cx="72388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bf5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bf5ff"/>
                </a:solidFill>
                <a:latin typeface="Arial"/>
              </a:rPr>
              <a:t>Как вы видели, каждая из глобальных проблем человечества имеет свое конкретное содержание. Но все они тесно взаимосвязаны: энергетическая и сырьевая с экологической, экологическая с демографической, демографическая с продовольственной и т. д. </a:t>
            </a: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4495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bf5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bf5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1547280" y="475920"/>
            <a:ext cx="72392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bf5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bf5ff"/>
                </a:solidFill>
                <a:latin typeface="Arial"/>
              </a:rPr>
              <a:t>Проблема предотвращения новой мировой войны непосредственно затрагивает и все остальные проблемы. Однако теперь, когда начался переход от экономики вооружения к экономике разоружения, центр тяжести большинства глобальных проблем все больше перемещается в страны развивающегося мира. </a:t>
            </a: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4495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bf5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bf5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1600200" y="476280"/>
            <a:ext cx="7238880" cy="56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f5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bf5ff"/>
                </a:solidFill>
                <a:latin typeface="Arial"/>
              </a:rPr>
              <a:t>. Масштабы их отсталости поистине огромны. Главное проявление и одновременно причина этой отсталости — бедность, нищета. В странах Азии, Африки и Латинской Америки в условиях абсолютной нищеты обитает 40% населения. Жители городских трущоб и сельской глубинки вынуждены довольствоваться жизненным уровнем, составляющим 5—10% от уровня жизни в наиболее богатых странах. Да и в целом разрыв в уровнях жизни между Севером и Югом составляет примерно 20:1.</a:t>
            </a:r>
            <a:endParaRPr b="0" lang="en-US" sz="28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103" name="Місце для нижнього колонтитула 1"/>
          <p:cNvSpPr/>
          <p:nvPr/>
        </p:nvSpPr>
        <p:spPr>
          <a:xfrm>
            <a:off x="4495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bf5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bf5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1600200" y="692280"/>
            <a:ext cx="7238880" cy="54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f5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bf5ff"/>
                </a:solidFill>
                <a:latin typeface="Arial"/>
              </a:rPr>
              <a:t>Пожалуй, наиболее драматический, даже катастрофический, характер приобрела в развивающихся странах продовольственная проблема. Конечно, голод и недоедание существуют в мире начиная с самых истоков развития человечества. Уже в 19-20 вв. многие миллионы жизней унесли вспышки голода в Китае, Индии, Ирландии, во многих странах Африки и в Советском Союзе. Но существование голода в эпоху НТР и перепроизводства продовольствия в экономически развитых странах Запада — это поистине один из парадоксов нашего времени. </a:t>
            </a:r>
            <a:endParaRPr b="0" lang="en-US" sz="24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4495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bf5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bf5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2268000" y="6237360"/>
            <a:ext cx="4535640" cy="43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bf5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bf5ff"/>
                </a:solidFill>
                <a:latin typeface="Arial"/>
              </a:rPr>
              <a:t>Взаимосвязь глобальных проблем</a:t>
            </a:r>
            <a:endParaRPr b="0" lang="en-US" sz="1800" spc="-1" strike="noStrike">
              <a:solidFill>
                <a:srgbClr val="ebf5ff"/>
              </a:solidFill>
              <a:latin typeface="Arial"/>
            </a:endParaRPr>
          </a:p>
        </p:txBody>
      </p:sp>
      <p:pic>
        <p:nvPicPr>
          <p:cNvPr id="107" name="Picture 4" descr="взаимосвязь глобальных проблем"/>
          <p:cNvPicPr/>
          <p:nvPr/>
        </p:nvPicPr>
        <p:blipFill>
          <a:blip r:embed="rId1"/>
          <a:stretch/>
        </p:blipFill>
        <p:spPr>
          <a:xfrm>
            <a:off x="684360" y="404640"/>
            <a:ext cx="7943760" cy="5810400"/>
          </a:xfrm>
          <a:prstGeom prst="rect">
            <a:avLst/>
          </a:prstGeom>
          <a:ln w="0">
            <a:noFill/>
          </a:ln>
        </p:spPr>
      </p:pic>
      <p:sp>
        <p:nvSpPr>
          <p:cNvPr id="108" name="Місце для нижнього колонтитула 1"/>
          <p:cNvSpPr/>
          <p:nvPr/>
        </p:nvSpPr>
        <p:spPr>
          <a:xfrm>
            <a:off x="4495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bf5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bf5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600200" y="30492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ecff"/>
                </a:solidFill>
                <a:latin typeface="Arial Black"/>
              </a:rPr>
              <a:t>Мы не задумываемся каждый день о мировых проблемах</a:t>
            </a:r>
            <a:endParaRPr b="0" lang="en-US" sz="1800" spc="-1" strike="noStrike">
              <a:solidFill>
                <a:srgbClr val="ccecff"/>
              </a:solidFill>
              <a:latin typeface="Arial Black"/>
            </a:endParaRPr>
          </a:p>
        </p:txBody>
      </p:sp>
      <p:pic>
        <p:nvPicPr>
          <p:cNvPr id="110" name="Picture 4" descr="Мы не задумываемся каждый день о мировых проблемах"/>
          <p:cNvPicPr/>
          <p:nvPr/>
        </p:nvPicPr>
        <p:blipFill>
          <a:blip r:embed="rId1"/>
          <a:stretch/>
        </p:blipFill>
        <p:spPr>
          <a:xfrm>
            <a:off x="2843280" y="1557360"/>
            <a:ext cx="3970440" cy="4824360"/>
          </a:xfrm>
          <a:prstGeom prst="rect">
            <a:avLst/>
          </a:prstGeom>
          <a:ln w="0">
            <a:noFill/>
          </a:ln>
        </p:spPr>
      </p:pic>
      <p:sp>
        <p:nvSpPr>
          <p:cNvPr id="111" name="Місце для нижнього колонтитула 1"/>
          <p:cNvSpPr/>
          <p:nvPr/>
        </p:nvSpPr>
        <p:spPr>
          <a:xfrm>
            <a:off x="4495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bf5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bf5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0T10:01:27Z</dcterms:created>
  <dc:creator>USER</dc:creator>
  <dc:description/>
  <dc:language>en-US</dc:language>
  <cp:lastModifiedBy>LEGION</cp:lastModifiedBy>
  <dcterms:modified xsi:type="dcterms:W3CDTF">2015-05-06T08:16:42Z</dcterms:modified>
  <cp:revision>4</cp:revision>
  <dc:subject/>
  <dc:title>Взаимосвязь глобальных проблем. Преодоление отсталости развивающихся стран – крупнейшая общемировая проблема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PAuthor">
    <vt:lpwstr>241</vt:lpwstr>
  </property>
  <property fmtid="{D5CDD505-2E9C-101B-9397-08002B2CF9AE}" pid="3" name="APEditor">
    <vt:lpwstr>103</vt:lpwstr>
  </property>
  <property fmtid="{D5CDD505-2E9C-101B-9397-08002B2CF9AE}" pid="4" name="APTrustLevel">
    <vt:lpwstr>1.00000000000000</vt:lpwstr>
  </property>
  <property fmtid="{D5CDD505-2E9C-101B-9397-08002B2CF9AE}" pid="5" name="Applications">
    <vt:lpwstr>172;#Office 2000;#-1;#TBD;#-1;#TBD;#-1;#TBD;#-1;#TBD;#-1;#TBD;#-1;#TBD</vt:lpwstr>
  </property>
  <property fmtid="{D5CDD505-2E9C-101B-9397-08002B2CF9AE}" pid="6" name="AssetId">
    <vt:lpwstr>TS001072120</vt:lpwstr>
  </property>
  <property fmtid="{D5CDD505-2E9C-101B-9397-08002B2CF9AE}" pid="7" name="AssetType">
    <vt:lpwstr>TP</vt:lpwstr>
  </property>
  <property fmtid="{D5CDD505-2E9C-101B-9397-08002B2CF9AE}" pid="8" name="AuthoringAssetId">
    <vt:lpwstr>TP001072120</vt:lpwstr>
  </property>
  <property fmtid="{D5CDD505-2E9C-101B-9397-08002B2CF9AE}" pid="9" name="CHMName">
    <vt:lpwstr/>
  </property>
  <property fmtid="{D5CDD505-2E9C-101B-9397-08002B2CF9AE}" pid="10" name="Content Type">
    <vt:lpwstr>OOFile</vt:lpwstr>
  </property>
  <property fmtid="{D5CDD505-2E9C-101B-9397-08002B2CF9AE}" pid="11" name="ContentTypeId">
    <vt:lpwstr>0x0101006025706CF4CD034688BEBAE97A2E701D0202001F9DE411C1B38343BE78B0080F632418</vt:lpwstr>
  </property>
  <property fmtid="{D5CDD505-2E9C-101B-9397-08002B2CF9AE}" pid="12" name="DirectSourceMarket">
    <vt:lpwstr>english</vt:lpwstr>
  </property>
  <property fmtid="{D5CDD505-2E9C-101B-9397-08002B2CF9AE}" pid="13" name="EditorialStatus">
    <vt:lpwstr/>
  </property>
  <property fmtid="{D5CDD505-2E9C-101B-9397-08002B2CF9AE}" pid="14" name="IsDeleted">
    <vt:lpwstr>false</vt:lpwstr>
  </property>
  <property fmtid="{D5CDD505-2E9C-101B-9397-08002B2CF9AE}" pid="15" name="IsSearchable">
    <vt:lpwstr>false</vt:lpwstr>
  </property>
  <property fmtid="{D5CDD505-2E9C-101B-9397-08002B2CF9AE}" pid="16" name="LCID">
    <vt:lpwstr>1049</vt:lpwstr>
  </property>
  <property fmtid="{D5CDD505-2E9C-101B-9397-08002B2CF9AE}" pid="17" name="Markets">
    <vt:lpwstr/>
  </property>
  <property fmtid="{D5CDD505-2E9C-101B-9397-08002B2CF9AE}" pid="18" name="Milestone">
    <vt:lpwstr>Continuous</vt:lpwstr>
  </property>
  <property fmtid="{D5CDD505-2E9C-101B-9397-08002B2CF9AE}" pid="19" name="NumericId">
    <vt:lpwstr>-1</vt:lpwstr>
  </property>
  <property fmtid="{D5CDD505-2E9C-101B-9397-08002B2CF9AE}" pid="20" name="OriginalSourceMarket">
    <vt:lpwstr>english</vt:lpwstr>
  </property>
  <property fmtid="{D5CDD505-2E9C-101B-9397-08002B2CF9AE}" pid="21" name="ParentAssetId">
    <vt:lpwstr/>
  </property>
  <property fmtid="{D5CDD505-2E9C-101B-9397-08002B2CF9AE}" pid="22" name="PrimaryImageGen">
    <vt:lpwstr>true</vt:lpwstr>
  </property>
  <property fmtid="{D5CDD505-2E9C-101B-9397-08002B2CF9AE}" pid="23" name="Provider">
    <vt:lpwstr>EY006220130</vt:lpwstr>
  </property>
  <property fmtid="{D5CDD505-2E9C-101B-9397-08002B2CF9AE}" pid="24" name="PublishTargets">
    <vt:lpwstr>OfficeOnline</vt:lpwstr>
  </property>
  <property fmtid="{D5CDD505-2E9C-101B-9397-08002B2CF9AE}" pid="25" name="ShowIn">
    <vt:lpwstr>Show everywhere</vt:lpwstr>
  </property>
  <property fmtid="{D5CDD505-2E9C-101B-9397-08002B2CF9AE}" pid="26" name="SourceTitle">
    <vt:lpwstr>Blue and green balls design template</vt:lpwstr>
  </property>
  <property fmtid="{D5CDD505-2E9C-101B-9397-08002B2CF9AE}" pid="27" name="TPAppVersion">
    <vt:lpwstr>11</vt:lpwstr>
  </property>
  <property fmtid="{D5CDD505-2E9C-101B-9397-08002B2CF9AE}" pid="28" name="TPApplication">
    <vt:lpwstr>PowerPoint</vt:lpwstr>
  </property>
  <property fmtid="{D5CDD505-2E9C-101B-9397-08002B2CF9AE}" pid="29" name="TPClientViewer">
    <vt:lpwstr>Microsoft Office PowerPoint</vt:lpwstr>
  </property>
  <property fmtid="{D5CDD505-2E9C-101B-9397-08002B2CF9AE}" pid="30" name="TPCommandLine">
    <vt:lpwstr>{PP} /n {FilePath}</vt:lpwstr>
  </property>
  <property fmtid="{D5CDD505-2E9C-101B-9397-08002B2CF9AE}" pid="31" name="TPComponent">
    <vt:lpwstr>PPTFiles</vt:lpwstr>
  </property>
  <property fmtid="{D5CDD505-2E9C-101B-9397-08002B2CF9AE}" pid="32" name="TPFriendlyName">
    <vt:lpwstr>Slide 1</vt:lpwstr>
  </property>
  <property fmtid="{D5CDD505-2E9C-101B-9397-08002B2CF9AE}" pid="33" name="TPInstallLocation">
    <vt:lpwstr>{My Templates}</vt:lpwstr>
  </property>
  <property fmtid="{D5CDD505-2E9C-101B-9397-08002B2CF9AE}" pid="34" name="TPNamespace">
    <vt:lpwstr>POWERPNT</vt:lpwstr>
  </property>
  <property fmtid="{D5CDD505-2E9C-101B-9397-08002B2CF9AE}" pid="35" name="Title">
    <vt:lpwstr>Blue and green balls design template</vt:lpwstr>
  </property>
  <property fmtid="{D5CDD505-2E9C-101B-9397-08002B2CF9AE}" pid="36" name="TrustLevel">
    <vt:lpwstr>Microsoft Managed Content</vt:lpwstr>
  </property>
  <property fmtid="{D5CDD505-2E9C-101B-9397-08002B2CF9AE}" pid="37" name="UACurrentWords">
    <vt:lpwstr>0</vt:lpwstr>
  </property>
  <property fmtid="{D5CDD505-2E9C-101B-9397-08002B2CF9AE}" pid="38" name="UALocComments">
    <vt:lpwstr/>
  </property>
  <property fmtid="{D5CDD505-2E9C-101B-9397-08002B2CF9AE}" pid="39" name="UALocRecommendation">
    <vt:lpwstr>Localize</vt:lpwstr>
  </property>
  <property fmtid="{D5CDD505-2E9C-101B-9397-08002B2CF9AE}" pid="40" name="UANotes">
    <vt:lpwstr>429034L. June 2003 retrofit</vt:lpwstr>
  </property>
  <property fmtid="{D5CDD505-2E9C-101B-9397-08002B2CF9AE}" pid="41" name="Version">
    <vt:r8>2</vt:r8>
  </property>
</Properties>
</file>