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8B25-F8DB-4B15-BE92-59525FAF52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полнила: Шаповалова Дарь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BA77-7B46-472B-A9F1-F225B09DF506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F08E-EB8E-4373-86B3-DCB94DD9D90D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глобальны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FAD2-FA80-440A-8E1A-F1D7A35234E6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091C-477F-45C5-811B-0B9DA442FECF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9FFC-6755-4209-96D4-678ADF0A2F5D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F446-EDE2-492E-8E28-A90F62FE5FA6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8938-C359-4C4A-90E0-288355EC906C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6719-F898-4B8B-B47E-6AEF272CEC21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9FD1-0AA9-48F0-9096-0ECBD0081278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е задумываемся каждый день о мировых пробл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91EE-B1C6-41AE-9F1D-AAA561CC50C6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FBE-687D-44CD-BF05-1F6B344C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601-F38B-4C6C-8098-87229851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E52-5E6C-44AB-8D64-36D7EA58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A30-163B-4235-B366-BD9900C4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18AC-50DC-4B9B-BCB8-7FDDB998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40B8-9B94-493A-A943-82A2F91C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BB23-64B0-44A9-8B5A-484703B6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2CE0-7C2F-4E0D-A87E-69428A7A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F4A7-BCEF-4144-BEFB-C81FF00C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EEB8-57F3-423E-84BC-08667D90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D194-45A9-43C1-B32F-6E4A8B86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C97-3C22-49CF-844E-9209F038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B373-4279-4C73-8B25-19425384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055A-EC22-47A4-BDF8-3C675CD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6FD8-95B7-47F7-B16B-B257FE9F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AEE2-4F93-4E52-80E1-5B21749C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7097-22AA-4D60-B15B-AD53CE33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668-979D-453C-9E69-B09362F4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410-9754-4D54-8740-6221C254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163-1DB6-478B-B8D5-943852B7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ACD-A612-4A83-AA9D-792E9147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6B7-3E2F-4281-9733-84E7DE6E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C71-8CB3-4AC2-BE17-0A3369BE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BD6-2CB9-4384-A9AE-DCF0F3A6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8B97-F53A-4786-9EC2-F93B83B1B0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B19C-AA7F-4EF6-AAD1-9EA38464624E}" type="slidenum">
              <a:rPr b="0" lang="ru-RU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0000" y="5661000"/>
            <a:ext cx="335304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Выполнила: Шаповалова Дарья.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ассмотрим модель взаимосвязи глобальных проблем"/>
          <p:cNvPicPr/>
          <p:nvPr/>
        </p:nvPicPr>
        <p:blipFill>
          <a:blip r:embed="rId1"/>
          <a:stretch/>
        </p:blipFill>
        <p:spPr>
          <a:xfrm>
            <a:off x="1476360" y="620640"/>
            <a:ext cx="7345440" cy="5259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ешение проблем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Что такое глобальны проблемы?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404280"/>
            <a:ext cx="75801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47280" y="47592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00200" y="47628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00200" y="69228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6237360"/>
            <a:ext cx="45356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5ff"/>
                </a:solidFill>
                <a:latin typeface="Arial"/>
              </a:rPr>
              <a:t>Взаимосвязь глобальных проблем</a:t>
            </a: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pic>
        <p:nvPicPr>
          <p:cNvPr id="107" name="Picture 4" descr="взаимосвязь глобальных проблем"/>
          <p:cNvPicPr/>
          <p:nvPr/>
        </p:nvPicPr>
        <p:blipFill>
          <a:blip r:embed="rId1"/>
          <a:stretch/>
        </p:blipFill>
        <p:spPr>
          <a:xfrm>
            <a:off x="684360" y="404640"/>
            <a:ext cx="7943760" cy="5810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Мы не задумываемся каждый день о мировых проблемах</a:t>
            </a:r>
            <a:endParaRPr b="0" lang="en-US" sz="1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0" name="Picture 4" descr="Мы не задумываемся каждый день о мировых проблемах"/>
          <p:cNvPicPr/>
          <p:nvPr/>
        </p:nvPicPr>
        <p:blipFill>
          <a:blip r:embed="rId1"/>
          <a:stretch/>
        </p:blipFill>
        <p:spPr>
          <a:xfrm>
            <a:off x="2843280" y="1557360"/>
            <a:ext cx="3970440" cy="482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0:01:27Z</dcterms:created>
  <dc:creator>USER</dc:creator>
  <dc:description/>
  <dc:language>en-US</dc:language>
  <cp:lastModifiedBy>LEGION</cp:lastModifiedBy>
  <dcterms:modified xsi:type="dcterms:W3CDTF">2015-05-06T08:16:42Z</dcterms:modified>
  <cp:revision>4</cp:revision>
  <dc:subject/>
  <dc:title>Взаимосвязь глобальных проблем. Преодоление отсталости развивающихся стран – крупнейшая общемировая проблем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72120</vt:lpwstr>
  </property>
  <property fmtid="{D5CDD505-2E9C-101B-9397-08002B2CF9AE}" pid="7" name="AssetType">
    <vt:lpwstr>TP</vt:lpwstr>
  </property>
  <property fmtid="{D5CDD505-2E9C-101B-9397-08002B2CF9AE}" pid="8" name="AuthoringAssetId">
    <vt:lpwstr>TP00107212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false</vt:lpwstr>
  </property>
  <property fmtid="{D5CDD505-2E9C-101B-9397-08002B2CF9AE}" pid="15" name="IsSearchable">
    <vt:lpwstr>false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true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Blue and green ball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Slide 1</vt:lpwstr>
  </property>
  <property fmtid="{D5CDD505-2E9C-101B-9397-08002B2CF9AE}" pid="33" name="TPInstallLocation">
    <vt:lpwstr>{My Templates}</vt:lpwstr>
  </property>
  <property fmtid="{D5CDD505-2E9C-101B-9397-08002B2CF9AE}" pid="34" name="TPNamespace">
    <vt:lpwstr>POWERPNT</vt:lpwstr>
  </property>
  <property fmtid="{D5CDD505-2E9C-101B-9397-08002B2CF9AE}" pid="35" name="Title">
    <vt:lpwstr>Blue and green balls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Comments">
    <vt:lpwstr/>
  </property>
  <property fmtid="{D5CDD505-2E9C-101B-9397-08002B2CF9AE}" pid="39" name="UALocRecommendation">
    <vt:lpwstr>Localize</vt:lpwstr>
  </property>
  <property fmtid="{D5CDD505-2E9C-101B-9397-08002B2CF9AE}" pid="40" name="UANotes">
    <vt:lpwstr>429034L. June 2003 retrofit</vt:lpwstr>
  </property>
  <property fmtid="{D5CDD505-2E9C-101B-9397-08002B2CF9AE}" pid="41" name="Version">
    <vt:r8>2</vt:r8>
  </property>
</Properties>
</file>