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D19B-6A9B-409A-A7E4-25583C72645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полнила: Шаповалова Дарь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5032-0128-4D40-9CA6-C03A669DF0EA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F471-7402-468D-A1FC-04D615C4BE09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глобальны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C40A-764F-4E33-9F33-89960C760ABA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0A88-DB78-45FB-A2A4-10E97553FB7B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23C4-68BC-40E8-8F5B-8AF98ACB2212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9A3-575D-4BEE-B63A-774ACA191D46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734D-51EB-4AC8-9B65-9383C765466C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BB0A-678F-497D-9C2E-12DD43F25A4E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ь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7168-590C-437E-9B51-ABA2E781D9B9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е задумываемся каждый день о мировых пробл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E096-3D24-4A31-BAE0-A5A6A99697D4}" type="slidenum">
              <a:rPr b="0" lang="uk-UA" sz="1200" spc="-1" strike="noStrike">
                <a:solidFill>
                  <a:srgbClr val="ebf5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1C8-F4DA-4599-AD8E-AE1BC90C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D53-7D74-4BCF-A2AB-0FFEAE2E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DE7-538B-4D34-9858-4351E528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E0F-D5FF-4BB0-8753-7E3BFC50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2357-B288-4696-8E83-B3664CA0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0B4-E1C9-427D-BD1C-57767499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D755-1613-4F15-83AE-871402BB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26ED-1818-4845-892A-BFF798B9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AA5C-9F56-4ABB-BD3E-8E528D62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369E-769F-434D-B44D-6DC377F7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F162-3345-4A8D-B8B9-C950ABD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BD7-08B6-406E-B39C-3971E163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4454-55E0-4DA4-A69C-6BB68CFB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25E0-D715-446B-A5B1-85A7C2FE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B9F7-231F-49DA-8B8C-39CD1148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4B78-D407-486A-8A07-FE90FA15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784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480" y="13712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784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480" y="3839040"/>
            <a:ext cx="233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8609-CE1B-4AC7-A40C-34265CE1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C8F-422E-489B-BBAA-62FBE962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001-3742-400C-8A7E-BEA467AF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0C0-EEDF-4F38-A2CA-27453E93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30492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BB4-DBF0-4673-9E79-211DACAE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65F-5A75-41AB-8C42-2B2D1C7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9640" y="38390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645-1427-49C1-B672-BFA5EBF5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9640" y="1371240"/>
            <a:ext cx="3532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839040"/>
            <a:ext cx="7238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894-EC86-4A12-82AD-0D1F0D3D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E294-34FE-4F1F-BE5D-4F51FC9121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bf5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892-43C2-4D1A-8DAA-49939B9D1794}" type="slidenum">
              <a:rPr b="0" lang="ru-RU" sz="1000" spc="-1" strike="noStrike">
                <a:solidFill>
                  <a:srgbClr val="ebf5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08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. Преодоление отсталости развивающихся стран – крупнейшая общемировая проблема.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0000" y="5661000"/>
            <a:ext cx="335304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Выполнила: Шаповалова Дарья.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236232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Рассмотрим модель взаимосвязи глобальных проблем"/>
          <p:cNvPicPr/>
          <p:nvPr/>
        </p:nvPicPr>
        <p:blipFill>
          <a:blip r:embed="rId1"/>
          <a:stretch/>
        </p:blipFill>
        <p:spPr>
          <a:xfrm>
            <a:off x="1476360" y="620640"/>
            <a:ext cx="7345440" cy="52596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ешение проблем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Главные пути решения заключаются в проведение коренных социально – экономических преобразований во всех сферах жизни и деятельности этих стран, в развитии научно – технического  прогресса, международного сотрудничества, в демилитаризации.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Что такое глобальны проблемы?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Одно из определений  относит  к  глобальным  "проблемы,  возникающие  в результате  объективного   развития   общества,   создающие   угрозы   всему человечеству и  требующие  для  своего  решения  объединенных  усилий  всего мирового сообщества"1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58920" y="404280"/>
            <a:ext cx="75801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Правильность этого определения зависит от того, какие проблемы относить к глобальным. Если это  узкий  круг  высших,  планетарных  проблем,  то  оно вполне соответствует истине. Если  же  добавить  сюда  такие  проблемы,  как стихийные бедствия (она глобальна лишь в  смысле  возможности  проявления  в регионе), тогда это определение оказывается узким, ограничивающим, в  чем  и состоит его смысл. 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Взаимосвязь глобальных проблем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Как вы видели, каждая из глобальных проблем человечества имеет свое конкретное содержание. Но все они тесно взаимосвязаны: энергетическая и сырьевая с экологической, экологическая с демографической, демографическая с продовольственной и т. д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47280" y="475920"/>
            <a:ext cx="7239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5ff"/>
                </a:solidFill>
                <a:latin typeface="Arial"/>
              </a:rPr>
              <a:t>Проблема предотвращения новой мировой войны непосредственно затрагивает и все остальные проблемы. Однако теперь, когда начался переход от экономики вооружения к экономике разоружения, центр тяжести большинства глобальных проблем все больше перемещается в страны развивающегося мира. </a:t>
            </a:r>
            <a:endParaRPr b="0" lang="en-US" sz="32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00200" y="47628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5ff"/>
                </a:solidFill>
                <a:latin typeface="Arial"/>
              </a:rPr>
              <a:t>. Масштабы их отсталости поистине огромны. Главное проявление и одновременно причина этой отсталости — бедность, нищета. В странах Азии, Африки и Латинской Америки в условиях абсолютной нищеты обитает 40% населения. Жители городских трущоб и сельской глубинки вынуждены довольствоваться жизненным уровнем, составляющим 5—10% от уровня жизни в наиболее богатых странах. Да и в целом разрыв в уровнях жизни между Севером и Югом составляет примерно 20:1.</a:t>
            </a:r>
            <a:endParaRPr b="0" lang="en-US" sz="28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00200" y="692280"/>
            <a:ext cx="7238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5ff"/>
                </a:solidFill>
                <a:latin typeface="Arial"/>
              </a:rPr>
              <a:t>Пожалуй, наиболее драматический, даже катастрофический, характер приобрела в развивающихся странах продовольственная проблема. Конечно, голод и недоедание существуют в мире начиная с самых истоков развития человечества. Уже в 19-20 вв. многие миллионы жизней унесли вспышки голода в Китае, Индии, Ирландии, во многих странах Африки и в Советском Союзе. Но существование голода в эпоху НТР и перепроизводства продовольствия в экономически развитых странах Запада — это поистине один из парадоксов нашего времени. </a:t>
            </a:r>
            <a:endParaRPr b="0" lang="en-US" sz="2400" spc="-1" strike="noStrike">
              <a:solidFill>
                <a:srgbClr val="ebf5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6237360"/>
            <a:ext cx="453564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f5ff"/>
                </a:solidFill>
                <a:latin typeface="Arial"/>
              </a:rPr>
              <a:t>Взаимосвязь глобальных проблем</a:t>
            </a:r>
            <a:endParaRPr b="0" lang="en-US" sz="1800" spc="-1" strike="noStrike">
              <a:solidFill>
                <a:srgbClr val="ebf5ff"/>
              </a:solidFill>
              <a:latin typeface="Arial"/>
            </a:endParaRPr>
          </a:p>
        </p:txBody>
      </p:sp>
      <p:pic>
        <p:nvPicPr>
          <p:cNvPr id="107" name="Picture 4" descr="взаимосвязь глобальных проблем"/>
          <p:cNvPicPr/>
          <p:nvPr/>
        </p:nvPicPr>
        <p:blipFill>
          <a:blip r:embed="rId1"/>
          <a:stretch/>
        </p:blipFill>
        <p:spPr>
          <a:xfrm>
            <a:off x="684360" y="404640"/>
            <a:ext cx="7943760" cy="5810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 Black"/>
              </a:rPr>
              <a:t>Мы не задумываемся каждый день о мировых проблемах</a:t>
            </a: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0" name="Picture 4" descr="Мы не задумываемся каждый день о мировых проблемах"/>
          <p:cNvPicPr/>
          <p:nvPr/>
        </p:nvPicPr>
        <p:blipFill>
          <a:blip r:embed="rId1"/>
          <a:stretch/>
        </p:blipFill>
        <p:spPr>
          <a:xfrm>
            <a:off x="2843280" y="1557360"/>
            <a:ext cx="3970440" cy="482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bf5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bf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0:01:27Z</dcterms:created>
  <dc:creator>USER</dc:creator>
  <dc:description/>
  <dc:language>en-US</dc:language>
  <cp:lastModifiedBy>LEGION</cp:lastModifiedBy>
  <dcterms:modified xsi:type="dcterms:W3CDTF">2015-05-06T08:16:42Z</dcterms:modified>
  <cp:revision>4</cp:revision>
  <dc:subject/>
  <dc:title>Взаимосвязь глобальных проблем. Преодоление отсталости развивающихся стран – крупнейшая общемировая проблем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72120</vt:lpwstr>
  </property>
  <property fmtid="{D5CDD505-2E9C-101B-9397-08002B2CF9AE}" pid="7" name="AssetType">
    <vt:lpwstr>TP</vt:lpwstr>
  </property>
  <property fmtid="{D5CDD505-2E9C-101B-9397-08002B2CF9AE}" pid="8" name="AuthoringAssetId">
    <vt:lpwstr>TP00107212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false</vt:lpwstr>
  </property>
  <property fmtid="{D5CDD505-2E9C-101B-9397-08002B2CF9AE}" pid="15" name="IsSearchable">
    <vt:lpwstr>false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true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Blue and green ball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Namespace">
    <vt:lpwstr>POWERPNT</vt:lpwstr>
  </property>
  <property fmtid="{D5CDD505-2E9C-101B-9397-08002B2CF9AE}" pid="35" name="Title">
    <vt:lpwstr>Blue and green balls design template</vt:lpwstr>
  </property>
  <property fmtid="{D5CDD505-2E9C-101B-9397-08002B2CF9AE}" pid="36" name="TrustLevel">
    <vt:lpwstr>Microsoft Managed Content</vt:lpwstr>
  </property>
  <property fmtid="{D5CDD505-2E9C-101B-9397-08002B2CF9AE}" pid="37" name="UACurrentWords">
    <vt:lpwstr>0</vt:lpwstr>
  </property>
  <property fmtid="{D5CDD505-2E9C-101B-9397-08002B2CF9AE}" pid="38" name="UALocComments">
    <vt:lpwstr/>
  </property>
  <property fmtid="{D5CDD505-2E9C-101B-9397-08002B2CF9AE}" pid="39" name="UALocRecommendation">
    <vt:lpwstr>Localize</vt:lpwstr>
  </property>
  <property fmtid="{D5CDD505-2E9C-101B-9397-08002B2CF9AE}" pid="40" name="UANotes">
    <vt:lpwstr>429034L. June 2003 retrofit</vt:lpwstr>
  </property>
  <property fmtid="{D5CDD505-2E9C-101B-9397-08002B2CF9AE}" pid="41" name="Version">
    <vt:r8>2</vt:r8>
  </property>
</Properties>
</file>