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989F-BB6B-41F4-9BE0-190FB0F1E2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полнила: Шаповалова Дарь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FE33-A8E1-41ED-A97A-4D2C59F0582E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C7C2-05A0-4496-A58F-32252FAAF45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глобальны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87CE-1004-43CC-8C84-A7BB8D51CD52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2605-260F-42EC-A3BC-C7B8BB9DBC2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E1F7-DDCA-4212-9C99-A5A798A1A373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E4E6-36FD-4D45-9532-598ADE14247A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C258-70BF-48C3-A7E3-AE765ED8D218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A768-F6A6-4761-A6B0-CE4F76320B05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7790-4054-45AB-9420-3A02A93624D5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е задумываемся каждый день о мировых пробл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EE42-1EB1-4943-945D-E2BF136D746E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977-ED33-4465-8535-72397ED5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920-1CE4-48CD-BBC1-F9E2CF84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DD2-1A61-45EA-B319-D4EE9637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E2A-9B08-4789-8F97-150BA6AB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8C49-9594-4427-937C-C99B428B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CD4A-4A04-479D-93B4-2C88EA7D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72AF-42F0-4615-97D1-5B9F42AD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608D-00F5-4461-9D33-153F0032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4381-904C-4E7B-8BA3-0A9BBDEC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CDA5-8798-41FF-85E2-28D3CDB1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3953-F9F1-47A1-A4A6-D5BB59A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3F7-0E9C-4650-BEBE-1EB52648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3D9A-0A07-4F76-9A96-48517C0F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9A5E-7224-463D-B597-868F7B04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59E2-7690-4DCA-8DBF-F86B6AB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7610-5FFB-4353-9123-23B059DB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1D8B-5AE3-4479-A187-869486A0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603-849F-4B51-ADF5-516055C7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FAD-2F7F-42EA-B053-3352C29D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E8B-D69A-4081-8FA7-56A9AA6D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2D6-AC29-4E1F-8EAA-A89B5BD8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0D9-D55C-484E-ADD9-17DA893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180-D73F-4E7D-878B-7BF0EFBE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B79-5C1C-4A3D-9E90-A479408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CE44-AEF2-441B-A603-C30C3561BD4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FF15-9E83-47B5-81E7-E5490EC88121}" type="slidenum">
              <a:rPr b="0" lang="ru-RU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530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Выполнила: Шаповалова Дарья.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ассмотрим модель взаимосвязи глобальных проблем"/>
          <p:cNvPicPr/>
          <p:nvPr/>
        </p:nvPicPr>
        <p:blipFill>
          <a:blip r:embed="rId1"/>
          <a:stretch/>
        </p:blipFill>
        <p:spPr>
          <a:xfrm>
            <a:off x="1476360" y="620640"/>
            <a:ext cx="7345440" cy="5259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ешение проблем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Что такое глобальны проблемы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404280"/>
            <a:ext cx="75801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47280" y="47592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00200" y="47628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00200" y="69228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6237360"/>
            <a:ext cx="45356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5ff"/>
                </a:solidFill>
                <a:latin typeface="Arial"/>
              </a:rPr>
              <a:t>Взаимосвязь глобальных проблем</a:t>
            </a: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107" name="Picture 4" descr="взаимосвязь глобальных проблем"/>
          <p:cNvPicPr/>
          <p:nvPr/>
        </p:nvPicPr>
        <p:blipFill>
          <a:blip r:embed="rId1"/>
          <a:stretch/>
        </p:blipFill>
        <p:spPr>
          <a:xfrm>
            <a:off x="684360" y="404640"/>
            <a:ext cx="7943760" cy="5810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Мы не задумываемся каждый день о мировых проблемах</a:t>
            </a: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0" name="Picture 4" descr="Мы не задумываемся каждый день о мировых проблемах"/>
          <p:cNvPicPr/>
          <p:nvPr/>
        </p:nvPicPr>
        <p:blipFill>
          <a:blip r:embed="rId1"/>
          <a:stretch/>
        </p:blipFill>
        <p:spPr>
          <a:xfrm>
            <a:off x="2843280" y="1557360"/>
            <a:ext cx="397044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01:27Z</dcterms:created>
  <dc:creator>USER</dc:creator>
  <dc:description/>
  <dc:language>en-US</dc:language>
  <cp:lastModifiedBy>LEGION</cp:lastModifiedBy>
  <dcterms:modified xsi:type="dcterms:W3CDTF">2015-05-06T08:16:42Z</dcterms:modified>
  <cp:revision>4</cp:revision>
  <dc:subject/>
  <dc:title>Взаимосвязь глобальных проблем. Преодоление отсталости развивающихся стран – крупнейшая общемировая пробл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72120</vt:lpwstr>
  </property>
  <property fmtid="{D5CDD505-2E9C-101B-9397-08002B2CF9AE}" pid="7" name="AssetType">
    <vt:lpwstr>TP</vt:lpwstr>
  </property>
  <property fmtid="{D5CDD505-2E9C-101B-9397-08002B2CF9AE}" pid="8" name="AuthoringAssetId">
    <vt:lpwstr>TP00107212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false</vt:lpwstr>
  </property>
  <property fmtid="{D5CDD505-2E9C-101B-9397-08002B2CF9AE}" pid="15" name="IsSearchable">
    <vt:lpwstr>false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true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Blue and green ball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itle">
    <vt:lpwstr>Blue and green balls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Comments">
    <vt:lpwstr/>
  </property>
  <property fmtid="{D5CDD505-2E9C-101B-9397-08002B2CF9AE}" pid="39" name="UALocRecommendation">
    <vt:lpwstr>Localize</vt:lpwstr>
  </property>
  <property fmtid="{D5CDD505-2E9C-101B-9397-08002B2CF9AE}" pid="40" name="UANotes">
    <vt:lpwstr>429034L. June 2003 retrofit</vt:lpwstr>
  </property>
  <property fmtid="{D5CDD505-2E9C-101B-9397-08002B2CF9AE}" pid="41" name="Version">
    <vt:r8>2</vt:r8>
  </property>
</Properties>
</file>