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11AA4-4C56-458F-B862-2EBF6E125FB4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заимосвязь глобальных проблем. Преодоление отсталости развивающихся стран – крупнейшая общемировая проблем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Выполнила: Шаповалова Дарья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6AB1A-DFF4-447F-9F9A-C5A4C143EABB}" type="slidenum">
              <a:rPr b="0" lang="uk-UA" sz="1200" spc="-1" strike="noStrike">
                <a:solidFill>
                  <a:srgbClr val="ebf5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bf5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шение пробл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авные пути решения заключаются в проведение коренных социально – экономических преобразований во всех сферах жизни и деятельности этих стран, в развитии научно – технического  прогресса, международного сотрудничества, в демилитариз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D1633-E662-4D36-91A2-EC2488E57189}" type="slidenum">
              <a:rPr b="0" lang="uk-UA" sz="1200" spc="-1" strike="noStrike">
                <a:solidFill>
                  <a:srgbClr val="ebf5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bf5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такое глобальны проблемы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но из определений  относит  к  глобальным  "проблемы,  возникающие  в результате  объективного   развития   общества,   создающие   угрозы   всему человечеству и  требующие  для  своего  решения  объединенных  усилий  всего мирового сообщества"1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F3C45-FD5B-4FDA-8F91-05516B630765}" type="slidenum">
              <a:rPr b="0" lang="uk-UA" sz="1200" spc="-1" strike="noStrike">
                <a:solidFill>
                  <a:srgbClr val="ebf5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bf5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ильность этого определения зависит от того, какие проблемы относить к глобальным. Если это  узкий  круг  высших,  планетарных  проблем,  то  оно вполне соответствует истине. Если  же  добавить  сюда  такие  проблемы,  как стихийные бедствия (она глобальна лишь в  смысле  возможности  проявления  в регионе), тогда это определение оказывается узким, ограничивающим, в  чем  и состоит его смыс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E2AED-DDFE-427D-84B4-27DD34A7E64E}" type="slidenum">
              <a:rPr b="0" lang="uk-UA" sz="1200" spc="-1" strike="noStrike">
                <a:solidFill>
                  <a:srgbClr val="ebf5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bf5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заимосвязь глобальных пробл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вы видели, каждая из глобальных проблем человечества имеет свое конкретное содержание. Но все они тесно взаимосвязаны: энергетическая и сырьевая с экологической, экологическая с демографической, демографическая с продовольственной и т. д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16EAE-38D9-47FA-ABFA-F96A5B8649C8}" type="slidenum">
              <a:rPr b="0" lang="uk-UA" sz="1200" spc="-1" strike="noStrike">
                <a:solidFill>
                  <a:srgbClr val="ebf5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bf5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блема предотвращения новой мировой войны непосредственно затрагивает и все остальные проблемы. Однако теперь, когда начался переход от экономики вооружения к экономике разоружения, центр тяжести большинства глобальных проблем все больше перемещается в страны развивающегося мир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AB5CD-3B0A-432F-AEB8-FA22D49E0F56}" type="slidenum">
              <a:rPr b="0" lang="uk-UA" sz="1200" spc="-1" strike="noStrike">
                <a:solidFill>
                  <a:srgbClr val="ebf5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bf5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Масштабы их отсталости поистине огромны. Главное проявление и одновременно причина этой отсталости — бедность, нищета. В странах Азии, Африки и Латинской Америки в условиях абсолютной нищеты обитает 40% населения. Жители городских трущоб и сельской глубинки вынуждены довольствоваться жизненным уровнем, составляющим 5—10% от уровня жизни в наиболее богатых странах. Да и в целом разрыв в уровнях жизни между Севером и Югом составляет примерно 20: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8711D-C843-49AE-AA93-46D9F8A1DBBD}" type="slidenum">
              <a:rPr b="0" lang="uk-UA" sz="1200" spc="-1" strike="noStrike">
                <a:solidFill>
                  <a:srgbClr val="ebf5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bf5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жалуй, наиболее драматический, даже катастрофический, характер приобрела в развивающихся странах продовольственная проблема. Конечно, голод и недоедание существуют в мире начиная с самых истоков развития человечества. Уже в 19-20 вв. многие миллионы жизней унесли вспышки голода в Китае, Индии, Ирландии, во многих странах Африки и в Советском Союзе. Но существование голода в эпоху НТР и перепроизводства продовольствия в экономически развитых странах Запада — это поистине один из парадоксов нашего времен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AC56B-7654-4CF4-89DE-C4F7F9E3673F}" type="slidenum">
              <a:rPr b="0" lang="uk-UA" sz="1200" spc="-1" strike="noStrike">
                <a:solidFill>
                  <a:srgbClr val="ebf5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bf5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заимосвязь глобальных пробл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07297-C268-4FB0-815B-3DAFFDB57513}" type="slidenum">
              <a:rPr b="0" lang="uk-UA" sz="1200" spc="-1" strike="noStrike">
                <a:solidFill>
                  <a:srgbClr val="ebf5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bf5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ы не задумываемся каждый день о мировых проблем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6B312-E901-4691-9C05-E68792DD8867}" type="slidenum">
              <a:rPr b="0" lang="uk-UA" sz="1200" spc="-1" strike="noStrike">
                <a:solidFill>
                  <a:srgbClr val="ebf5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bf5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A54DB-B6B1-412A-B00D-1B2D9B810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00200" y="30492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00200" y="1371240"/>
            <a:ext cx="7238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00200" y="3839040"/>
            <a:ext cx="7238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12957-4B40-4405-A989-62F7D3A93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00200" y="30492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00200" y="1371240"/>
            <a:ext cx="3532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09640" y="1371240"/>
            <a:ext cx="3532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00200" y="3839040"/>
            <a:ext cx="3532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09640" y="3839040"/>
            <a:ext cx="3532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0A1C6-EEBF-4DB2-A1DA-72F8184D1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00200" y="30492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00200" y="1371240"/>
            <a:ext cx="2330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047840" y="1371240"/>
            <a:ext cx="2330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5480" y="1371240"/>
            <a:ext cx="2330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00200" y="3839040"/>
            <a:ext cx="2330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047840" y="3839040"/>
            <a:ext cx="2330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5480" y="3839040"/>
            <a:ext cx="2330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7D271-D1B4-4F54-92F3-635CC1F12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61BAE-7C1A-49D9-B570-7075600AC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600200" y="30492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600200" y="1371240"/>
            <a:ext cx="723888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4DA1E-8423-4C9E-84C1-7FEAA50A1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600200" y="30492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600200" y="1371240"/>
            <a:ext cx="72388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3FA56-E104-4387-A46F-1FB5BB4F0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00200" y="30492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00200" y="1371240"/>
            <a:ext cx="3532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309640" y="1371240"/>
            <a:ext cx="3532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67330-C344-452C-B629-FA9552D84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30492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A6EBA-65FC-49CC-9ABE-4508C6745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600200" y="304920"/>
            <a:ext cx="72388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0027A-FD85-4012-B1FE-C07860DA7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00200" y="30492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600200" y="1371240"/>
            <a:ext cx="3532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309640" y="1371240"/>
            <a:ext cx="3532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600200" y="3839040"/>
            <a:ext cx="3532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8B1DE-EFDC-4A25-9709-BEC57E692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00200" y="30492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00200" y="1371240"/>
            <a:ext cx="723888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5FFCD-6090-46F0-9AA1-8E4AF26CA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600200" y="30492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600200" y="1371240"/>
            <a:ext cx="3532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09640" y="1371240"/>
            <a:ext cx="3532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09640" y="3839040"/>
            <a:ext cx="3532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23165-7615-44AE-B995-8161DAF9C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600200" y="30492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600200" y="1371240"/>
            <a:ext cx="3532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09640" y="1371240"/>
            <a:ext cx="3532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600200" y="3839040"/>
            <a:ext cx="7238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FBC15-987A-420A-978D-25916D8AC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600200" y="30492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600200" y="1371240"/>
            <a:ext cx="7238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600200" y="3839040"/>
            <a:ext cx="7238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CFEDB-0DDC-4AB4-A37C-6DF54C039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00200" y="30492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600200" y="1371240"/>
            <a:ext cx="3532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09640" y="1371240"/>
            <a:ext cx="3532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600200" y="3839040"/>
            <a:ext cx="3532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309640" y="3839040"/>
            <a:ext cx="3532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82EE1-CD38-4D69-AFEC-10F4FFC0E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600200" y="30492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600200" y="1371240"/>
            <a:ext cx="2330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047840" y="1371240"/>
            <a:ext cx="2330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495480" y="1371240"/>
            <a:ext cx="2330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600200" y="3839040"/>
            <a:ext cx="2330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047840" y="3839040"/>
            <a:ext cx="2330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495480" y="3839040"/>
            <a:ext cx="2330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DC02E-8E7C-493A-A57C-DF0AACAB1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00200" y="30492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00200" y="1371240"/>
            <a:ext cx="72388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DDACD-A802-47A0-AC6B-FC2FA18B0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00200" y="30492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00200" y="1371240"/>
            <a:ext cx="3532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09640" y="1371240"/>
            <a:ext cx="3532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0D1E9-288A-4893-83CA-D7406D531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00200" y="30492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AE5E0-C070-4548-95AF-8142A47BA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00200" y="304920"/>
            <a:ext cx="72388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1ACEE-CC98-4C15-A141-7A78CCA3C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00200" y="30492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00200" y="1371240"/>
            <a:ext cx="3532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09640" y="1371240"/>
            <a:ext cx="3532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00200" y="3839040"/>
            <a:ext cx="3532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E0705-37FE-4C78-9B59-CF5EE8585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00200" y="30492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00200" y="1371240"/>
            <a:ext cx="3532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09640" y="1371240"/>
            <a:ext cx="3532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09640" y="3839040"/>
            <a:ext cx="3532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268FE-F62D-465C-ACA1-6085F1C3D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00200" y="30492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00200" y="1371240"/>
            <a:ext cx="3532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09640" y="1371240"/>
            <a:ext cx="3532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00200" y="3839040"/>
            <a:ext cx="7238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0C2A3-5103-4E99-9A79-08DB67B95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00200" y="30492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00200" y="1371240"/>
            <a:ext cx="72388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5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f5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bf5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f5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bf5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f5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bf5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f5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bf5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f5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bf5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f5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bf5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f5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8120" y="6248520"/>
            <a:ext cx="1295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495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543800" y="6248520"/>
            <a:ext cx="1295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FA298-F583-4A13-AC4F-705A99EB06C1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00200" y="30492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600200" y="1371240"/>
            <a:ext cx="72388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5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f5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bf5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f5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bf5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f5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bf5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f5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bf5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f5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bf5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f5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bf5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f5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228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236196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ebf5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bf5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ebf5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B3E59-2FA3-4D84-A594-0D52DADEF74F}" type="slidenum">
              <a:rPr b="0" lang="ru-RU" sz="1000" spc="-1" strike="noStrike">
                <a:solidFill>
                  <a:srgbClr val="ebf5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11280" y="549000"/>
            <a:ext cx="8208720" cy="36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ecff"/>
                </a:solidFill>
                <a:latin typeface="Arial Black"/>
              </a:rPr>
              <a:t>Взаимосвязь глобальных проблем. Преодоление отсталости развивающихся стран – крупнейшая общемировая проблема.</a:t>
            </a:r>
            <a:endParaRPr b="0" lang="en-US" sz="36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5580000" y="5661000"/>
            <a:ext cx="3353040" cy="94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bf5ff"/>
                </a:solidFill>
                <a:latin typeface="Arial"/>
              </a:rPr>
              <a:t>Выполнила: Шаповалова Дарья.</a:t>
            </a:r>
            <a:endParaRPr b="0" lang="en-US" sz="24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236232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bf5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bf5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4" descr="Рассмотрим модель взаимосвязи глобальных проблем"/>
          <p:cNvPicPr/>
          <p:nvPr/>
        </p:nvPicPr>
        <p:blipFill>
          <a:blip r:embed="rId1"/>
          <a:stretch/>
        </p:blipFill>
        <p:spPr>
          <a:xfrm>
            <a:off x="1476360" y="620640"/>
            <a:ext cx="7345440" cy="5259600"/>
          </a:xfrm>
          <a:prstGeom prst="rect">
            <a:avLst/>
          </a:prstGeom>
          <a:ln w="0">
            <a:noFill/>
          </a:ln>
        </p:spPr>
      </p:pic>
      <p:sp>
        <p:nvSpPr>
          <p:cNvPr id="113" name="Місце для нижнього колонтитула 1"/>
          <p:cNvSpPr/>
          <p:nvPr/>
        </p:nvSpPr>
        <p:spPr>
          <a:xfrm>
            <a:off x="4495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bf5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bf5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600200" y="30492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 Black"/>
              </a:rPr>
              <a:t>Решение проблем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600200" y="1371240"/>
            <a:ext cx="72388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5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bf5ff"/>
                </a:solidFill>
                <a:latin typeface="Arial"/>
              </a:rPr>
              <a:t>Главные пути решения заключаются в проведение коренных социально – экономических преобразований во всех сферах жизни и деятельности этих стран, в развитии научно – технического  прогресса, международного сотрудничества, в демилитаризации.</a:t>
            </a: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4495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bf5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bf5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00200" y="30492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ecff"/>
                </a:solidFill>
                <a:latin typeface="Arial Black"/>
              </a:rPr>
              <a:t>Что такое глобальны проблемы?</a:t>
            </a:r>
            <a:endParaRPr b="0" lang="en-US" sz="32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600200" y="1371240"/>
            <a:ext cx="72388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5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bf5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ebf5ff"/>
                </a:solidFill>
                <a:latin typeface="Arial"/>
              </a:rPr>
              <a:t>Одно из определений  относит  к  глобальным  "проблемы,  возникающие  в результате  объективного   развития   общества,   создающие   угрозы   всему человечеству и  требующие  для  своего  решения  объединенных  усилий  всего мирового сообщества"1. </a:t>
            </a: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94" name="Місце для нижнього колонтитула 1"/>
          <p:cNvSpPr/>
          <p:nvPr/>
        </p:nvSpPr>
        <p:spPr>
          <a:xfrm>
            <a:off x="4495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bf5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bf5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1258920" y="404280"/>
            <a:ext cx="7580160" cy="56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bf5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bf5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ebf5ff"/>
                </a:solidFill>
                <a:latin typeface="Arial"/>
              </a:rPr>
              <a:t>Правильность этого определения зависит от того, какие проблемы относить к глобальным. Если это  узкий  круг  высших,  планетарных  проблем,  то  оно вполне соответствует истине. Если  же  добавить  сюда  такие  проблемы,  как стихийные бедствия (она глобальна лишь в  смысле  возможности  проявления  в регионе), тогда это определение оказывается узким, ограничивающим, в  чем  и состоит его смысл. </a:t>
            </a:r>
            <a:endParaRPr b="0" lang="en-US" sz="28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96" name="Місце для нижнього колонтитула 1"/>
          <p:cNvSpPr/>
          <p:nvPr/>
        </p:nvSpPr>
        <p:spPr>
          <a:xfrm>
            <a:off x="4495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bf5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bf5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600200" y="30492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ecff"/>
                </a:solidFill>
                <a:latin typeface="Arial Black"/>
              </a:rPr>
              <a:t>Взаимосвязь глобальных проблем</a:t>
            </a:r>
            <a:endParaRPr b="0" lang="en-US" sz="32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600200" y="1371240"/>
            <a:ext cx="72388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bf5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bf5ff"/>
                </a:solidFill>
                <a:latin typeface="Arial"/>
              </a:rPr>
              <a:t>Как вы видели, каждая из глобальных проблем человечества имеет свое конкретное содержание. Но все они тесно взаимосвязаны: энергетическая и сырьевая с экологической, экологическая с демографической, демографическая с продовольственной и т. д. </a:t>
            </a: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4495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bf5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bf5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1547280" y="475920"/>
            <a:ext cx="72392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bf5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bf5ff"/>
                </a:solidFill>
                <a:latin typeface="Arial"/>
              </a:rPr>
              <a:t>Проблема предотвращения новой мировой войны непосредственно затрагивает и все остальные проблемы. Однако теперь, когда начался переход от экономики вооружения к экономике разоружения, центр тяжести большинства глобальных проблем все больше перемещается в страны развивающегося мира. </a:t>
            </a: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4495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bf5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bf5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1600200" y="476280"/>
            <a:ext cx="7238880" cy="56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f5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bf5ff"/>
                </a:solidFill>
                <a:latin typeface="Arial"/>
              </a:rPr>
              <a:t>. Масштабы их отсталости поистине огромны. Главное проявление и одновременно причина этой отсталости — бедность, нищета. В странах Азии, Африки и Латинской Америки в условиях абсолютной нищеты обитает 40% населения. Жители городских трущоб и сельской глубинки вынуждены довольствоваться жизненным уровнем, составляющим 5—10% от уровня жизни в наиболее богатых странах. Да и в целом разрыв в уровнях жизни между Севером и Югом составляет примерно 20:1.</a:t>
            </a:r>
            <a:endParaRPr b="0" lang="en-US" sz="28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103" name="Місце для нижнього колонтитула 1"/>
          <p:cNvSpPr/>
          <p:nvPr/>
        </p:nvSpPr>
        <p:spPr>
          <a:xfrm>
            <a:off x="4495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bf5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bf5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1600200" y="692280"/>
            <a:ext cx="7238880" cy="54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f5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bf5ff"/>
                </a:solidFill>
                <a:latin typeface="Arial"/>
              </a:rPr>
              <a:t>Пожалуй, наиболее драматический, даже катастрофический, характер приобрела в развивающихся странах продовольственная проблема. Конечно, голод и недоедание существуют в мире начиная с самых истоков развития человечества. Уже в 19-20 вв. многие миллионы жизней унесли вспышки голода в Китае, Индии, Ирландии, во многих странах Африки и в Советском Союзе. Но существование голода в эпоху НТР и перепроизводства продовольствия в экономически развитых странах Запада — это поистине один из парадоксов нашего времени. </a:t>
            </a:r>
            <a:endParaRPr b="0" lang="en-US" sz="24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4495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bf5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bf5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2268000" y="6237360"/>
            <a:ext cx="4535640" cy="43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bf5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bf5ff"/>
                </a:solidFill>
                <a:latin typeface="Arial"/>
              </a:rPr>
              <a:t>Взаимосвязь глобальных проблем</a:t>
            </a:r>
            <a:endParaRPr b="0" lang="en-US" sz="1800" spc="-1" strike="noStrike">
              <a:solidFill>
                <a:srgbClr val="ebf5ff"/>
              </a:solidFill>
              <a:latin typeface="Arial"/>
            </a:endParaRPr>
          </a:p>
        </p:txBody>
      </p:sp>
      <p:pic>
        <p:nvPicPr>
          <p:cNvPr id="107" name="Picture 4" descr="взаимосвязь глобальных проблем"/>
          <p:cNvPicPr/>
          <p:nvPr/>
        </p:nvPicPr>
        <p:blipFill>
          <a:blip r:embed="rId1"/>
          <a:stretch/>
        </p:blipFill>
        <p:spPr>
          <a:xfrm>
            <a:off x="684360" y="404640"/>
            <a:ext cx="7943760" cy="5810400"/>
          </a:xfrm>
          <a:prstGeom prst="rect">
            <a:avLst/>
          </a:prstGeom>
          <a:ln w="0">
            <a:noFill/>
          </a:ln>
        </p:spPr>
      </p:pic>
      <p:sp>
        <p:nvSpPr>
          <p:cNvPr id="108" name="Місце для нижнього колонтитула 1"/>
          <p:cNvSpPr/>
          <p:nvPr/>
        </p:nvSpPr>
        <p:spPr>
          <a:xfrm>
            <a:off x="4495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bf5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bf5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600200" y="30492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ecff"/>
                </a:solidFill>
                <a:latin typeface="Arial Black"/>
              </a:rPr>
              <a:t>Мы не задумываемся каждый день о мировых проблемах</a:t>
            </a:r>
            <a:endParaRPr b="0" lang="en-US" sz="1800" spc="-1" strike="noStrike">
              <a:solidFill>
                <a:srgbClr val="ccecff"/>
              </a:solidFill>
              <a:latin typeface="Arial Black"/>
            </a:endParaRPr>
          </a:p>
        </p:txBody>
      </p:sp>
      <p:pic>
        <p:nvPicPr>
          <p:cNvPr id="110" name="Picture 4" descr="Мы не задумываемся каждый день о мировых проблемах"/>
          <p:cNvPicPr/>
          <p:nvPr/>
        </p:nvPicPr>
        <p:blipFill>
          <a:blip r:embed="rId1"/>
          <a:stretch/>
        </p:blipFill>
        <p:spPr>
          <a:xfrm>
            <a:off x="2843280" y="1557360"/>
            <a:ext cx="3970440" cy="4824360"/>
          </a:xfrm>
          <a:prstGeom prst="rect">
            <a:avLst/>
          </a:prstGeom>
          <a:ln w="0">
            <a:noFill/>
          </a:ln>
        </p:spPr>
      </p:pic>
      <p:sp>
        <p:nvSpPr>
          <p:cNvPr id="111" name="Місце для нижнього колонтитула 1"/>
          <p:cNvSpPr/>
          <p:nvPr/>
        </p:nvSpPr>
        <p:spPr>
          <a:xfrm>
            <a:off x="4495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bf5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bf5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0T10:01:27Z</dcterms:created>
  <dc:creator>USER</dc:creator>
  <dc:description/>
  <dc:language>en-US</dc:language>
  <cp:lastModifiedBy>LEGION</cp:lastModifiedBy>
  <dcterms:modified xsi:type="dcterms:W3CDTF">2015-05-06T08:16:42Z</dcterms:modified>
  <cp:revision>4</cp:revision>
  <dc:subject/>
  <dc:title>Взаимосвязь глобальных проблем. Преодоление отсталости развивающихся стран – крупнейшая общемировая проблема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PAuthor">
    <vt:lpwstr>241</vt:lpwstr>
  </property>
  <property fmtid="{D5CDD505-2E9C-101B-9397-08002B2CF9AE}" pid="3" name="APEditor">
    <vt:lpwstr>103</vt:lpwstr>
  </property>
  <property fmtid="{D5CDD505-2E9C-101B-9397-08002B2CF9AE}" pid="4" name="APTrustLevel">
    <vt:lpwstr>1.00000000000000</vt:lpwstr>
  </property>
  <property fmtid="{D5CDD505-2E9C-101B-9397-08002B2CF9AE}" pid="5" name="Applications">
    <vt:lpwstr>172;#Office 2000;#-1;#TBD;#-1;#TBD;#-1;#TBD;#-1;#TBD;#-1;#TBD;#-1;#TBD</vt:lpwstr>
  </property>
  <property fmtid="{D5CDD505-2E9C-101B-9397-08002B2CF9AE}" pid="6" name="AssetId">
    <vt:lpwstr>TS001072120</vt:lpwstr>
  </property>
  <property fmtid="{D5CDD505-2E9C-101B-9397-08002B2CF9AE}" pid="7" name="AssetType">
    <vt:lpwstr>TP</vt:lpwstr>
  </property>
  <property fmtid="{D5CDD505-2E9C-101B-9397-08002B2CF9AE}" pid="8" name="AuthoringAssetId">
    <vt:lpwstr>TP001072120</vt:lpwstr>
  </property>
  <property fmtid="{D5CDD505-2E9C-101B-9397-08002B2CF9AE}" pid="9" name="CHMName">
    <vt:lpwstr/>
  </property>
  <property fmtid="{D5CDD505-2E9C-101B-9397-08002B2CF9AE}" pid="10" name="Content Type">
    <vt:lpwstr>OOFile</vt:lpwstr>
  </property>
  <property fmtid="{D5CDD505-2E9C-101B-9397-08002B2CF9AE}" pid="11" name="ContentTypeId">
    <vt:lpwstr>0x0101006025706CF4CD034688BEBAE97A2E701D0202001F9DE411C1B38343BE78B0080F632418</vt:lpwstr>
  </property>
  <property fmtid="{D5CDD505-2E9C-101B-9397-08002B2CF9AE}" pid="12" name="DirectSourceMarket">
    <vt:lpwstr>english</vt:lpwstr>
  </property>
  <property fmtid="{D5CDD505-2E9C-101B-9397-08002B2CF9AE}" pid="13" name="EditorialStatus">
    <vt:lpwstr/>
  </property>
  <property fmtid="{D5CDD505-2E9C-101B-9397-08002B2CF9AE}" pid="14" name="IsDeleted">
    <vt:lpwstr>false</vt:lpwstr>
  </property>
  <property fmtid="{D5CDD505-2E9C-101B-9397-08002B2CF9AE}" pid="15" name="IsSearchable">
    <vt:lpwstr>false</vt:lpwstr>
  </property>
  <property fmtid="{D5CDD505-2E9C-101B-9397-08002B2CF9AE}" pid="16" name="LCID">
    <vt:lpwstr>1049</vt:lpwstr>
  </property>
  <property fmtid="{D5CDD505-2E9C-101B-9397-08002B2CF9AE}" pid="17" name="Markets">
    <vt:lpwstr/>
  </property>
  <property fmtid="{D5CDD505-2E9C-101B-9397-08002B2CF9AE}" pid="18" name="Milestone">
    <vt:lpwstr>Continuous</vt:lpwstr>
  </property>
  <property fmtid="{D5CDD505-2E9C-101B-9397-08002B2CF9AE}" pid="19" name="NumericId">
    <vt:lpwstr>-1</vt:lpwstr>
  </property>
  <property fmtid="{D5CDD505-2E9C-101B-9397-08002B2CF9AE}" pid="20" name="OriginalSourceMarket">
    <vt:lpwstr>english</vt:lpwstr>
  </property>
  <property fmtid="{D5CDD505-2E9C-101B-9397-08002B2CF9AE}" pid="21" name="ParentAssetId">
    <vt:lpwstr/>
  </property>
  <property fmtid="{D5CDD505-2E9C-101B-9397-08002B2CF9AE}" pid="22" name="PrimaryImageGen">
    <vt:lpwstr>true</vt:lpwstr>
  </property>
  <property fmtid="{D5CDD505-2E9C-101B-9397-08002B2CF9AE}" pid="23" name="Provider">
    <vt:lpwstr>EY006220130</vt:lpwstr>
  </property>
  <property fmtid="{D5CDD505-2E9C-101B-9397-08002B2CF9AE}" pid="24" name="PublishTargets">
    <vt:lpwstr>OfficeOnline</vt:lpwstr>
  </property>
  <property fmtid="{D5CDD505-2E9C-101B-9397-08002B2CF9AE}" pid="25" name="ShowIn">
    <vt:lpwstr>Show everywhere</vt:lpwstr>
  </property>
  <property fmtid="{D5CDD505-2E9C-101B-9397-08002B2CF9AE}" pid="26" name="SourceTitle">
    <vt:lpwstr>Blue and green balls design template</vt:lpwstr>
  </property>
  <property fmtid="{D5CDD505-2E9C-101B-9397-08002B2CF9AE}" pid="27" name="TPAppVersion">
    <vt:lpwstr>11</vt:lpwstr>
  </property>
  <property fmtid="{D5CDD505-2E9C-101B-9397-08002B2CF9AE}" pid="28" name="TPApplication">
    <vt:lpwstr>PowerPoint</vt:lpwstr>
  </property>
  <property fmtid="{D5CDD505-2E9C-101B-9397-08002B2CF9AE}" pid="29" name="TPClientViewer">
    <vt:lpwstr>Microsoft Office PowerPoint</vt:lpwstr>
  </property>
  <property fmtid="{D5CDD505-2E9C-101B-9397-08002B2CF9AE}" pid="30" name="TPCommandLine">
    <vt:lpwstr>{PP} /n {FilePath}</vt:lpwstr>
  </property>
  <property fmtid="{D5CDD505-2E9C-101B-9397-08002B2CF9AE}" pid="31" name="TPComponent">
    <vt:lpwstr>PPTFiles</vt:lpwstr>
  </property>
  <property fmtid="{D5CDD505-2E9C-101B-9397-08002B2CF9AE}" pid="32" name="TPFriendlyName">
    <vt:lpwstr>Slide 1</vt:lpwstr>
  </property>
  <property fmtid="{D5CDD505-2E9C-101B-9397-08002B2CF9AE}" pid="33" name="TPInstallLocation">
    <vt:lpwstr>{My Templates}</vt:lpwstr>
  </property>
  <property fmtid="{D5CDD505-2E9C-101B-9397-08002B2CF9AE}" pid="34" name="TPNamespace">
    <vt:lpwstr>POWERPNT</vt:lpwstr>
  </property>
  <property fmtid="{D5CDD505-2E9C-101B-9397-08002B2CF9AE}" pid="35" name="Title">
    <vt:lpwstr>Blue and green balls design template</vt:lpwstr>
  </property>
  <property fmtid="{D5CDD505-2E9C-101B-9397-08002B2CF9AE}" pid="36" name="TrustLevel">
    <vt:lpwstr>Microsoft Managed Content</vt:lpwstr>
  </property>
  <property fmtid="{D5CDD505-2E9C-101B-9397-08002B2CF9AE}" pid="37" name="UACurrentWords">
    <vt:lpwstr>0</vt:lpwstr>
  </property>
  <property fmtid="{D5CDD505-2E9C-101B-9397-08002B2CF9AE}" pid="38" name="UALocComments">
    <vt:lpwstr/>
  </property>
  <property fmtid="{D5CDD505-2E9C-101B-9397-08002B2CF9AE}" pid="39" name="UALocRecommendation">
    <vt:lpwstr>Localize</vt:lpwstr>
  </property>
  <property fmtid="{D5CDD505-2E9C-101B-9397-08002B2CF9AE}" pid="40" name="UANotes">
    <vt:lpwstr>429034L. June 2003 retrofit</vt:lpwstr>
  </property>
  <property fmtid="{D5CDD505-2E9C-101B-9397-08002B2CF9AE}" pid="41" name="Version">
    <vt:r8>2</vt:r8>
  </property>
</Properties>
</file>