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41F3-D7D2-43B8-95BC-0E19E2220F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5fa16"/>
                </a:solidFill>
                <a:latin typeface="Arial"/>
                <a:ea typeface="Arial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BE8A-6C42-47EE-914A-FA86E35AA9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сновные мо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 окружающая сре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 современности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уго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B662-1642-42C1-BB21-116866A4C0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еловек и окружающая среда</a:t>
            </a: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история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                                      взаимодейств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стороны ни смотри, но говорить о том, что в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ьезные изменения, произошедшие в природной ср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ремя существования планеты, - дело рук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бы верхом самоуверенности. Никто сегодня не бу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ить с тем, что воздействие человека на прир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на фоне естественных изменений, масшта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порой бывают очень значи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за последние десятки тысячелетий одним из глав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одобных фоновых перестроек ландшафтов бы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существование гигантских ледников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ах Северной Евразии и Северной Амер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кло за собой серьезные климатическ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по всей Земле. Исследователи также отме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определенных циклов для этих самых перестро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546A-35F4-47A8-BFD2-3C18E23661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Природа парникового эфф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F844-AED0-4B56-9D9A-3BD3FDAABD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парникового эфф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щё в </a:t>
            </a:r>
            <a:r>
              <a:rPr b="0" lang="ru-RU" sz="1200" spc="-1" strike="noStrike">
                <a:solidFill>
                  <a:srgbClr val="800000"/>
                </a:solidFill>
                <a:latin typeface="Verdana"/>
              </a:rPr>
              <a:t>1827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году французский физик Жозеф Фур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ожил, что атмосфера земли выпол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ариться обратно в космос. Этот эффек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сходило, Земля была бы примерно на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ктически за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62DE-C847-43D9-9728-3E18CECB18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нтрации парниковых газов в атм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х океанов и нарушит устойчивые т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ркуляции и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лабление озонового слоя усиливает пото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числа раковых образований кож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тения и живот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EFE-6A61-45AF-9F1D-4ABAC67104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и экологических пробл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выз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аяние ль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днятие уровня Мирового океана на 1 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топление многих прибрежных райо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ущественное изменение влагообмена на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и, количества осадков и направления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тметил В.Вернадский, обрело такую мощ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EF75-09DA-4A59-B27D-8228DB9391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F80-A44C-44FE-A066-5F036838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D86-6655-4315-ADBF-5C64E09D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B75-9B8A-418C-9C24-A5B36C6F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FCD-3F0F-43A8-AD84-C0BC9E58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F739-2818-42D5-A202-E68995B7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5673-C49B-41D2-80FA-50F94245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E5A6-CF6A-4E8C-8490-B868AB0D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60E7-2972-4764-869F-9AC09B3C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65E7-C04C-41EC-9426-C24ED113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FFB5-2FEC-440F-8757-245AD188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38B8-983F-45FD-82A9-A67A175D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F5B-6CC5-4A8A-A815-BA675264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C5D5-7452-4BB6-89FC-77A2E27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FCFA-3006-4F16-B088-7B66E4A2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DF16-E5AB-4940-A23E-94040B32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6DD1-5541-42B7-89CC-39758F73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A6D3-B936-41A4-802B-6F8261F5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387-C133-458F-827C-9AED2210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E50-D29F-4C5A-A087-60F16E8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68E-A0D2-4B45-9483-C45098B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3A8-22CB-4357-96F5-B8D0CD3B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59C-94DE-44D9-9079-463AE15B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E3D-93FC-44A7-9E0F-640257AD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7BD-B1AF-4C78-B975-A89F57AF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46CB-50E0-4ECD-A406-2633D6A607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55FE-E784-452D-BCCD-079139FBABD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R_Earth_Radian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2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71600" y="1371600"/>
            <a:ext cx="624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5fa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ческие проблемы</a:t>
            </a:r>
            <a:endParaRPr b="0" lang="en-US" sz="1800" spc="1" strike="noStrike">
              <a:ln w="0">
                <a:noFill/>
              </a:ln>
              <a:solidFill>
                <a:srgbClr val="f5fa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0574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андеев Юрий (11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сновные моме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и окружающая сре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ые экологические проблемы современности такие к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уг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еловек и окружающая сред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рия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взаимодействия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акой стороны ни смотри, но говорить о том, что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ьезные изменения, произошедшие в природной сре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существования планеты, - дело рук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бы верхом самоуверенности. Никто сегодня не буд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ить с тем, что воздействие человека на прир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на фоне естественных изменений, масшта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х порой бывают очень значите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за последние десятки тысячелетий одним из гла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кторов подобных фоновых перестроек ландшафтов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существование гигантских ледников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ранствах Северной Евразии и Северной Амер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екло за собой серьезные климатически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по всей Земле. Исследователи также отме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ределенных циклов для этих самых перестро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ирода парникового эфф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4" descr="Рис. 1. Тепловое излучение поверхности Земли и атмосферное поглощение в ИК-диапазон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523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479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пловое излучение поверхности Земли и атмосферное поглощение в ИК - диапаз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рода парникового эфф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04440" y="1484280"/>
            <a:ext cx="64414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82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году французский физик Жозеф Фур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ил, что атмосфера земли выполн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ариться обратно в космос. Этот эффе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исходило, Земля была бы примерно на 3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и замер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8600" y="304920"/>
            <a:ext cx="6324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центрации парниковых газов в атмосфер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овых океанов и нарушит устойчивые ти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циркуляции и пог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40120" y="2590920"/>
            <a:ext cx="4403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3498000">
            <a:off x="5714280" y="114264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3048120"/>
            <a:ext cx="354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лабление озонового слоя усиливает по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т числа раковых образований к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тения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11228400">
            <a:off x="3903840" y="38862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выз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Таяние ль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однятие уровня Мирового океана на 1 ме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Затопление многих прибрежных район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ущественное изменение влагообмена на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, количества осадков и направления в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10640" y="4419720"/>
            <a:ext cx="6419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тметил В.Вернадский, обрело такую 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цел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Итоги экологических пробле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8" descr="i?id=40540036-01"/>
          <p:cNvPicPr/>
          <p:nvPr/>
        </p:nvPicPr>
        <p:blipFill>
          <a:blip r:embed="rId1"/>
          <a:stretch/>
        </p:blipFill>
        <p:spPr>
          <a:xfrm>
            <a:off x="380880" y="3886200"/>
            <a:ext cx="171000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