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30AE-E6A9-4524-9A8E-6D3D402DDA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5fa16"/>
                </a:solidFill>
                <a:latin typeface="Arial"/>
                <a:ea typeface="Arial"/>
              </a:rPr>
              <a:t>Экологически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72EA-DB2D-4026-8972-FD12F889CEE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Основные мо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и окружающая сред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стор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действ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ые экологические проблемы современности такие ка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никовый эффек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оновые ды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другое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4DEA-BF28-4BA8-8D80-B5B87157813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Calibri"/>
              </a:rPr>
              <a:t>Человек и окружающая среда</a:t>
            </a:r>
            <a:r>
              <a:rPr b="1" lang="en-US" sz="1400" spc="-1" strike="noStrike">
                <a:solidFill>
                  <a:srgbClr val="800000"/>
                </a:solidFill>
                <a:latin typeface="Calibri"/>
              </a:rPr>
              <a:t>,</a:t>
            </a:r>
            <a:r>
              <a:rPr b="1" lang="ru-RU" sz="1400" spc="-1" strike="noStrike">
                <a:solidFill>
                  <a:srgbClr val="800000"/>
                </a:solidFill>
                <a:latin typeface="Calibri"/>
              </a:rPr>
              <a:t> история 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Calibri"/>
              </a:rPr>
              <a:t>                                       взаимодейств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какой стороны ни смотри, но говорить о том, что вс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ьезные изменения, произошедшие в природной сред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время существования планеты, - дело рук челове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о бы верхом самоуверенности. Никто сегодня не буд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рить с тем, что воздействие человека на природ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на фоне естественных изменений, масштаб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х порой бывают очень значитель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 за последние десятки тысячелетий одним из глав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ов подобных фоновых перестроек ландшафтов бы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 существование гигантских ледников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ранствах Северной Евразии и Северной Амер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екло за собой серьезные климатические изме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и по всей Земле. Исследователи также отмеч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определенных циклов для этих самых перестро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FA97-74B6-49CC-AF6C-059955D6845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Природа парникового эфф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4DFA-27CC-44EE-B38F-DDF019B6F85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а парникового эфф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щё в </a:t>
            </a:r>
            <a:r>
              <a:rPr b="0" lang="ru-RU" sz="1200" spc="-1" strike="noStrike">
                <a:solidFill>
                  <a:srgbClr val="800000"/>
                </a:solidFill>
                <a:latin typeface="Verdana"/>
              </a:rPr>
              <a:t>1827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году французский физик Жозеф Фурь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положил, что атмосфера земли выполня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ункцию своего рода стекла в теплице: возду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пускает солнечное тепло, не давая ему при эт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спариться обратно в космос. Этот эффек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стигается благодаря некоторым атмосферным газ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торостепенного значения, каковыми являютс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пример, водяные испарения и углекислый газ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ни пропускают видимый и «ближний» инфракрас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вет, излучаемый солнцем, но поглощают «далекое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фракрасное излучение, имеющее более низку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астоту и образующееся при нагревании зем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верхности солнечными лучами. Если бы этого 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исходило, Земля была бы примерно на 3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радусов холоднее, чем сейчас, и жизнь бы на н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актически замер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9727-564E-4A2A-80AD-9F12E874BA1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еятельность человека приводит к повыше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нцентрации парниковых газов в атмосф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величение концентрации парниковых газов привед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 разогреву нижних слоев атмосферы и поверх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емли. Любое изменение в способности Земли отраж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 поглощать тепло, в том числе вызванное увеличени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держания в атмосфере тепличных газов и аэрозол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ведет к изменению температуры атмосферы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ировых океанов и нарушит устойчивые тип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иркуляции и пог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слабление озонового слоя усиливает поток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лнечной радиации на землю и вызывает у людей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ост числа раковых образований кож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акже от повышенного уровня излучения страдаю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стения и животны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сли сохранится тенденция глобального потепления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это приведет к изменению погоды и увеличению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личества осадков, что, в свою очередь, приведе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 подъему уровня мирового океана. Количество осадков над экватором сократилась на  те же десять процентов. Дальнейшее изменение в системе выпадения осадков окажет огромное воздействие на сельское хозяйство, смещая зоны возделывания культур в северные районы Северной Америки и Еврази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64D6-2AB1-4C8B-87EB-18CC847611E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тоги экологических проблем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о вызов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Таяние ль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однятие уровня Мирового океана на 1 ме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Затопление многих прибрежных район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Существенное изменение влагообмена на поверх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и, количества осадков и направления вет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итоге сегодня человечество, как справедли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тметил В.Вернадский, обрело такую мощь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еобразовании окружающего мира, что оно начин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существенно влиять на эволюцию биосферы ка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цел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22C1-93F4-441A-B540-1186E238E9C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532E-0C18-4A1B-82D2-5688C4A8E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85CA-EFF1-4D28-B520-9250D4BA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3F7D-3C3C-4F1D-89AA-B1ECA8177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9CA6-5205-4863-918C-04E7B3F6C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02650-214F-4590-9AFF-F7FC3A58C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28E3-48CF-4D8B-9501-BAB2E4B8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2760A-18D0-482B-923D-90B8C264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634B-68E1-4D32-AB7B-F05C2CC8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46F0-CB45-4B3B-A3C1-E7AFF2DAC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D5B9-2093-447D-97C7-25058F79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F7E24-2BC3-41FC-BC4F-A3DF6C85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7A9A-A825-4988-9899-436D291D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8AC70-6604-4B6A-BAEC-B2E2CBC7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813D-BC6D-4BC0-8263-A4D541A6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12EC-DB93-491E-9EA9-9E8D4C78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EB952-202C-42BB-A67E-4570B94DD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F6A2-A015-4A47-AD30-141FA2C01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10C6-3B9C-4128-92DC-6729E015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FBA6-D3A8-4FB4-8296-6067ADA5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B463-4ADC-4B07-879D-C9CFE578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7F8E-D28C-4890-81B9-CDF9A54D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101E-AEEF-4628-97A6-152B3BCB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6293-D07D-4D28-A155-90A38D0E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69AD-F7AD-4C9B-BE48-42CC98B0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37F9-ABDE-41F3-AEC5-0929B178565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188E-2DDA-4438-96F9-83C3FBEBFDC8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IR_Earth_Radiance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827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1371600" y="1371600"/>
            <a:ext cx="62485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5fa16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Экологические проблемы</a:t>
            </a:r>
            <a:endParaRPr b="0" lang="en-US" sz="1800" spc="1" strike="noStrike">
              <a:ln w="0">
                <a:noFill/>
              </a:ln>
              <a:solidFill>
                <a:srgbClr val="f5fa16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057400" y="4572000"/>
            <a:ext cx="556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зентацию подготовил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сандеев Юрий (11 класс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Основные момент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ловек и окружающая сред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истор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заимодейств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лобальные экологические проблемы современности такие ка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рниковый эффек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зоновые ды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I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другое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Человек и окружающая среда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история 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                                      взаимодействия: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какой стороны ни смотри, но говорить о том, что вс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рьезные изменения, произошедшие в природной сред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 время существования планеты, - дело рук человек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ыло бы верхом самоуверенности. Никто сегодня не буде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орить с тем, что воздействие человека на природ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исходит на фоне естественных изменений, масштаб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торых порой бывают очень значитель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к за последние десятки тысячелетий одним из главны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акторов подобных фоновых перестроек ландшафтов бы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лимат существование гигантских ледников 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странствах Северной Евразии и Северной Америк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лекло за собой серьезные климатические измен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актически по всей Земле. Исследователи также отмечаю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личие определенных циклов для этих самых перестрое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Природа парникового эффекта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5" name="Picture 4" descr="Рис. 1. Тепловое излучение поверхности Земли и атмосферное поглощение в ИК-диапазоне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1523880"/>
            <a:ext cx="5562720" cy="41720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1447920" y="59436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ис. 1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Тепловое излучение поверхности Земли и атмосферное поглощение в ИК - диапазон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Природа парникового эффект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504440" y="1484280"/>
            <a:ext cx="6441480" cy="50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щё в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1827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году французский физик Жозеф Фурь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едположил, что атмосфера земли выполня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функцию своего рода стекла в теплице: возду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опускает солнечное тепло, не давая ему при это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спариться обратно в космос. Этот эффек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остигается благодаря некоторым атмосферным газ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торостепенного значения, каковыми являютс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пример, водяные испарения и углекислый газ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ни пропускают видимый и «ближний» инфракрас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вет, излучаемый солнцем, но поглощают «далекое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нфракрасное излучение, имеющее более низкую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частоту и образующееся при нагревании зем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верхности солнечными лучами. Если бы этого н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оисходило, Земля была бы примерно на 3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радусов холоднее, чем сейчас, и жизнь бы на н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актически замер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228600" y="304920"/>
            <a:ext cx="63244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Деятельность человека приводит к повышению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онцентрации парниковых газов в атмосфере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Увеличение концентрации парниковых газов приведет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 разогреву нижних слоев атмосферы и поверхно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земли. Любое изменение в способности Земли отражат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и поглощать тепло, в том числе вызванное увеличение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одержания в атмосфере тепличных газов и аэрозолей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риведет к изменению температуры атмосферы 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мировых океанов и нарушит устойчивые типы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циркуляции и погод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4740120" y="2590920"/>
            <a:ext cx="4403880" cy="37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Если сохранится тенденция глобального потепления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это приведет к изменению погоды и увеличению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количества осадков, что, в свою очередь, приведе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к подъему уровня мирового океана. Количество осадков над экватором сократилась на  те же десять процентов. Дальнейшее изменение в системе выпадения осадков окажет огромное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воздействие на сельское хозяйство, смещая зоны возделывания культур в северные районы Северной Америки и Еврази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6"/>
          <p:cNvSpPr/>
          <p:nvPr/>
        </p:nvSpPr>
        <p:spPr>
          <a:xfrm rot="3498000">
            <a:off x="5714280" y="1142640"/>
            <a:ext cx="2057400" cy="1143000"/>
          </a:xfrm>
          <a:custGeom>
            <a:avLst/>
            <a:gdLst>
              <a:gd name="textAreaLeft" fmla="*/ 360000 w 2057400"/>
              <a:gd name="textAreaRight" fmla="*/ 1491840 w 20574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380880" y="3048120"/>
            <a:ext cx="3540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слабление озонового слоя усиливает пото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лнечной радиации на землю и вызывает у люд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ост числа раковых образований кож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акже от повышенного уровня излучения страдаю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астения и животны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9"/>
          <p:cNvSpPr/>
          <p:nvPr/>
        </p:nvSpPr>
        <p:spPr>
          <a:xfrm rot="11228400">
            <a:off x="3903840" y="3886200"/>
            <a:ext cx="761760" cy="457200"/>
          </a:xfrm>
          <a:custGeom>
            <a:avLst/>
            <a:gdLst>
              <a:gd name="textAreaLeft" fmla="*/ 118800 w 761760"/>
              <a:gd name="textAreaRight" fmla="*/ 666720 w 7617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II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Это вызо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) Таяние льд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) Поднятие уровня Мирового океана на 1 мет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) Затопление многих прибрежных район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) Существенное изменение влагообмена на поверх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емли, количества осадков и направления ветр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510640" y="4419720"/>
            <a:ext cx="641988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В итоге сегодня человечество, как справедлив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отметил В.Вернадский, обрело такую мощь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преобразовании окружающего мира, что оно начина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существенно влиять на эволюцию биосферы ка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цело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2b2b2"/>
                </a:solidFill>
                <a:latin typeface="Arial"/>
              </a:rPr>
              <a:t>Итоги экологических проблем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0" name="Picture 8" descr="i?id=40540036-01"/>
          <p:cNvPicPr/>
          <p:nvPr/>
        </p:nvPicPr>
        <p:blipFill>
          <a:blip r:embed="rId1"/>
          <a:stretch/>
        </p:blipFill>
        <p:spPr>
          <a:xfrm>
            <a:off x="380880" y="3886200"/>
            <a:ext cx="1710000" cy="24192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06T08:17:1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