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7336-D28F-41B8-A6D5-A3BD528395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5fa16"/>
                </a:solidFill>
                <a:latin typeface="Arial"/>
                <a:ea typeface="Arial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2830-D10F-40E5-A05D-E17E4A909A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сновные мо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 окружающая сре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 современности такие ка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оновые ды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руго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018B-BD65-4CAF-A1E5-12396959AE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еловек и окружающая среда</a:t>
            </a: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,</a:t>
            </a: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 история 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                                       взаимодейств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стороны ни смотри, но говорить о том, что в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ьезные изменения, произошедшие в природной ср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время существования планеты, - дело рук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бы верхом самоуверенности. Никто сегодня не буд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ить с тем, что воздействие человека на прир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на фоне естественных изменений, масшта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порой бывают очень значитель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за последние десятки тысячелетий одним из глав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одобных фоновых перестроек ландшафтов бы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существование гигантских ледников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ах Северной Евразии и Северной Амер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екло за собой серьезные климатические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по всей Земле. Исследователи также отме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определенных циклов для этих самых перестро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7B59-3F0E-4456-95E8-BA74616177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Природа парникового эфф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016C-ED2D-422C-A7AB-EA236EE4BC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парникового эфф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щё в </a:t>
            </a:r>
            <a:r>
              <a:rPr b="0" lang="ru-RU" sz="1200" spc="-1" strike="noStrike">
                <a:solidFill>
                  <a:srgbClr val="800000"/>
                </a:solidFill>
                <a:latin typeface="Verdana"/>
              </a:rPr>
              <a:t>1827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году французский физик Жозеф Фур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ожил, что атмосфера земли выпол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нкцию своего рода стекла в теплице: возду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пускает солнечное тепло, не давая ему при э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ариться обратно в космос. Этот эффек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стигается благодаря некоторым атмосферным газ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торостепенного значения, каковыми являю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одяные испарения и углекислый г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пропускают видимый и «ближний» инфракра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ет, излучаемый солнцем, но поглощают «далеко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ракрасное излучение, имеющее более низк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стоту и образующееся при нагревании зем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верхности солнечными лучами. Если бы этого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сходило, Земля была бы примерно на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дусов холоднее, чем сейчас, и жизнь бы на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ктически за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7893-4B08-420C-9812-57F999E588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человека приводит к повыш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центрации парниковых газов в атм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величение концентрации парниковых газов привед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разогреву нижних слоев атмосферы и поверх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емли. Любое изменение в способности Земли отраж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поглощать тепло, в том числе вызванное увелич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держания в атмосфере тепличных газов и аэрозо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ведет к изменению температуры атмосфер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х океанов и нарушит устойчивые т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иркуляции и по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лабление озонового слоя усиливает пото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лнечной радиации на землю и вызывает у люде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т числа раковых образований кож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же от повышенного уровня излучения страдаю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тения и животн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сохранится тенденция глобального потепл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приведет к изменению погоды и увеличени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личества осадков, что, в свою очередь, привед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 подъему уровня мирового океана. Количество осадков над экватором сократилась на  те же десять процентов. 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6B81-BB9D-4BB1-9426-987DE67BF9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тоги экологических пробл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вызо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Таяние ль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днятие уровня Мирового океана на 1 ме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топление многих прибрежных райо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ущественное изменение влагообмена на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и, количества осадков и направления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итоге сегодня человечество, как справед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тметил В.Вернадский, обрело такую мощ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еобразовании окружающего мира, что оно начин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ущественно влиять на эволюцию биосферы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B221-C998-458B-8939-1047EC2A89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0F7-02DA-40ED-BDA6-691E264D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C8F-54ED-4FB3-BDEE-C9FF7EF8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93A-85D6-48D8-87E5-180FEC5A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194-CB31-46B1-9F1B-9804192E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7884-A708-47F8-84A4-B95EA959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A98E-3676-442C-A600-AD6A7064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A45C-7C95-4264-9375-58A719C9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CD56-4A1C-4D89-9493-CC463C44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9FCD-3454-42B2-9529-1E25DC6A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7E4F-39C7-4D8D-875B-A4E58046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4C47-CE5F-4862-BAAC-7B7DB369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F7D-E9E3-4AAC-BF6C-6D1BDABC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F7A5-3F77-4439-A381-A74CAECD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4A97-BC8E-421E-91A7-452875D2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5994-D77B-413F-A3B9-F5BD9A63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7FDD-2FEB-4277-93B3-ABD6F295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25A0-820D-467D-B22B-AB981AAE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14E-34F9-47A4-BBB0-7ABB6712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41A-1D6F-466D-8688-2D45FE07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BD9-C052-4EF1-B0BB-BA6C03A5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D6C-FB94-42CD-83B0-79CCBF1F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64C-CC9B-41C1-AE47-E4F405EC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BE5-1B3A-41B3-B8A7-2EB48A3C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DDF-0FA5-45E2-BFAB-4BDCDDD7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7205-8898-408C-B745-D3B21BBE3A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FD98-0422-48A5-94F3-311B308CC57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IR_Earth_Radianc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2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371600" y="1371600"/>
            <a:ext cx="6248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5fa1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ческие проблемы</a:t>
            </a:r>
            <a:endParaRPr b="0" lang="en-US" sz="1800" spc="1" strike="noStrike">
              <a:ln w="0">
                <a:noFill/>
              </a:ln>
              <a:solidFill>
                <a:srgbClr val="f5fa1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057400" y="4572000"/>
            <a:ext cx="556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андеев Юрий (11 клас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Основные момен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и окружающая сре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сто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дей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ьные экологические проблемы современности такие к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никовый эффе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оновые ды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уго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Человек и окружающая среда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стория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взаимодействия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какой стороны ни смотри, но говорить о том, что вс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ьезные изменения, произошедшие в природной сре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время существования планеты, - дело рук челове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о бы верхом самоуверенности. Никто сегодня не буд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рить с тем, что воздействие человека на приро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сходит на фоне естественных изменений, масшта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ых порой бывают очень значитель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за последние десятки тысячелетий одним из глав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кторов подобных фоновых перестроек ландшафтов бы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мат существование гигантских ледников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ранствах Северной Евразии и Северной Амер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екло за собой серьезные климатические измен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и по всей Земле. Исследователи также отмеч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личие определенных циклов для этих самых перестро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ирода парникового эффект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4" descr="Рис. 1. Тепловое излучение поверхности Земли и атмосферное поглощение в ИК-диапазон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5238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447920" y="5943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ис. 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епловое излучение поверхности Земли и атмосферное поглощение в ИК - диапазо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рирода парникового эффек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04440" y="1484280"/>
            <a:ext cx="644148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щё в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1827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году французский физик Жозеф Фурь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положил, что атмосфера земли выполня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ункцию своего рода стекла в теплице: возду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пускает солнечное тепло, не давая ему при эт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ариться обратно в космос. Этот эффе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стигается благодаря некоторым атмосферным газ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торостепенного значения, каковыми являют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, водяные испарения и углекислый г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ни пропускают видимый и «ближний» инфра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вет, излучаемый солнцем, но поглощают «далекое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ракрасное излучение, имеющее более низку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астоту и образующееся при нагревании зем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ерхности солнечными лучами. Если бы этого 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исходило, Земля была бы примерно на 3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радусов холоднее, чем сейчас, и жизнь бы на н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ктически замер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28600" y="304920"/>
            <a:ext cx="63244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ятельность человека приводит к повышени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нцентрации парниковых газов в атмосфер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величение концентрации парниковых газов приведе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 разогреву нижних слоев атмосферы и поверх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емли. Любое изменение в способности Земли отража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поглощать тепло, в том числе вызванное увелич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держания в атмосфере тепличных газов и аэрозоле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ведет к изменению температуры атмосферы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ировых океанов и нарушит устойчивые ти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циркуляции и пого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740120" y="2590920"/>
            <a:ext cx="440388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сохранится тенденция глобального потеплени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то приведет к изменению погоды и увеличени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оличества осадков, что, в свою очередь, привед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 подъему уровня мирового океана. Количество осадков над экватором сократилась на  те же десять процентов. Дальнейшее изменение в системе выпадения осадков окажет огромно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оздействие на сельское хозяйство, смещая зоны возделывания культур в северные районы Северной Америки и Евраз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 rot="3498000">
            <a:off x="5714280" y="1142640"/>
            <a:ext cx="2057400" cy="11430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0880" y="3048120"/>
            <a:ext cx="354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лабление озонового слоя усиливает по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лнечной радиации на землю и вызывает у люд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ст числа раковых образований кож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акже от повышенного уровня излучения страд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тения и живот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 rot="11228400">
            <a:off x="3903840" y="3886200"/>
            <a:ext cx="761760" cy="457200"/>
          </a:xfrm>
          <a:custGeom>
            <a:avLst/>
            <a:gdLst>
              <a:gd name="textAreaLeft" fmla="*/ 11880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 вызо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Таяние ль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Поднятие уровня Мирового океана на 1 ме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Затопление многих прибрежных район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Существенное изменение влагообмена на 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и, количества осадков и направления вет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510640" y="4419720"/>
            <a:ext cx="64198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В итоге сегодня человечество, как справедли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отметил В.Вернадский, обрело такую мощь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преобразовании окружающего мира, что оно начин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ущественно влиять на эволюцию биосферы к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цел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Итоги экологических пробле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8" descr="i?id=40540036-01"/>
          <p:cNvPicPr/>
          <p:nvPr/>
        </p:nvPicPr>
        <p:blipFill>
          <a:blip r:embed="rId1"/>
          <a:stretch/>
        </p:blipFill>
        <p:spPr>
          <a:xfrm>
            <a:off x="380880" y="3886200"/>
            <a:ext cx="1710000" cy="2419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7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