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4181-4F28-4B83-839A-85E4104AFB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5fa16"/>
                </a:solidFill>
                <a:latin typeface="Arial"/>
                <a:ea typeface="Arial"/>
              </a:rPr>
              <a:t>Эколог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9C8F-B64B-4C58-979B-835F7F789DF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Основные мо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и окружающая сред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тор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дейст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ые экологические проблемы современности такие ка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никовый эффек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оновые ды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друго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8AD7-693A-4696-8F85-834A0D9E99E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Calibri"/>
              </a:rPr>
              <a:t>Человек и окружающая среда</a:t>
            </a:r>
            <a:r>
              <a:rPr b="1" lang="en-US" sz="1400" spc="-1" strike="noStrike">
                <a:solidFill>
                  <a:srgbClr val="800000"/>
                </a:solidFill>
                <a:latin typeface="Calibri"/>
              </a:rPr>
              <a:t>,</a:t>
            </a:r>
            <a:r>
              <a:rPr b="1" lang="ru-RU" sz="1400" spc="-1" strike="noStrike">
                <a:solidFill>
                  <a:srgbClr val="800000"/>
                </a:solidFill>
                <a:latin typeface="Calibri"/>
              </a:rPr>
              <a:t> история 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Calibri"/>
              </a:rPr>
              <a:t>                                       взаимодейств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какой стороны ни смотри, но говорить о том, что вс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ьезные изменения, произошедшие в природной сред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время существования планеты, - дело рук челове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о бы верхом самоуверенности. Никто сегодня не буд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рить с тем, что воздействие человека на приро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на фоне естественных изменений, масштаб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х порой бывают очень значитель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за последние десятки тысячелетий одним из глав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ов подобных фоновых перестроек ландшафтов бы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 существование гигантских ледников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ранствах Северной Евразии и Северной Амер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екло за собой серьезные климатические изме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 по всей Земле. Исследователи также отмеч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определенных циклов для этих самых перестро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C945-C601-43E0-B7D6-253825CC532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Природа парникового эфф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8535-AFDB-434D-9008-6E577C97C16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 парникового эфф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щё в </a:t>
            </a:r>
            <a:r>
              <a:rPr b="0" lang="ru-RU" sz="1200" spc="-1" strike="noStrike">
                <a:solidFill>
                  <a:srgbClr val="800000"/>
                </a:solidFill>
                <a:latin typeface="Verdana"/>
              </a:rPr>
              <a:t>1827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году французский физик Жозеф Фурь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положил, что атмосфера земли выполня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ункцию своего рода стекла в теплице: возду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пускает солнечное тепло, не давая ему при эт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спариться обратно в космос. Этот эффек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стигается благодаря некоторым атмосферным газ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торостепенного значения, каковыми являют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имер, водяные испарения и углекислый газ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ни пропускают видимый и «ближний» инфракрас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вет, излучаемый солнцем, но поглощают «далекое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фракрасное излучение, имеющее более низку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астоту и образующееся при нагревании зем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верхности солнечными лучами. Если бы этого 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исходило, Земля была бы примерно на 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радусов холоднее, чем сейчас, и жизнь бы на н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актически замер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7F69-7170-468F-BE76-41073FB3BF1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еятельность человека приводит к повыше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центрации парниковых газов в атмосф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величение концентрации парниковых газов привед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 разогреву нижних слоев атмосферы и поверх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емли. Любое изменение в способности Земли отраж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поглощать тепло, в том числе вызванное увеличен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держания в атмосфере тепличных газов и аэрозол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ведет к изменению температуры атмосферы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ировых океанов и нарушит устойчивые тип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иркуляции и пог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слабление озонового слоя усиливает поток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лнечной радиации на землю и вызывает у люде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ост числа раковых образований кож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акже от повышенного уровня излучения страдаю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стения и животны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сохранится тенденция глобального потепления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то приведет к изменению погоды и увеличению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личества осадков, что, в свою очередь, приведе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 подъему уровня мирового океана. Количество осадков над экватором сократилась на  те же десять процентов. Дальнейшее изменение в системе выпадения осадков окажет огромное воздействие на сельское хозяйство, смещая зоны возделывания культур в северные районы Северной Америки и Еврази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A8D6-D6B5-42F6-B322-95D0938FF45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тоги экологических пробле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о вызо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Таяние ль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однятие уровня Мирового океана на 1 ме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Затопление многих прибрежных район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Существенное изменение влагообмена на поверх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и, количества осадков и направления вет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итоге сегодня человечество, как справедли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тметил В.Вернадский, обрело такую мощь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еобразовании окружающего мира, что оно начин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ущественно влиять на эволюцию биосферы к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л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AAEF-D178-41C5-A9B9-31B2CB957CB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3F7A-E17F-44A6-B0FD-AA74C799C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79E0-BC63-41BF-B645-9973377B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766C-E646-4EFC-B252-74252C848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0DA0-7702-4C0B-B659-C98E8811C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BF4A-14B7-4BED-AAC9-661CB3ECA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72BE-9905-4DDF-861C-33BEFDCE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84F0-86A9-4B9B-86D8-48E98211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BEBF-A735-4077-825C-7D0D5F90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2639-1312-40EF-B3EB-02C6DFB3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C9B0-8425-4F06-8B48-E51CD986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8214-8F11-4991-8FB1-E232D71A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6998-3FB0-4FDF-8956-16558CD7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476F-DC8F-4E28-9618-3ECFEBB8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ACEE-C112-478A-A5FE-324A4C1D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4D86-8021-4136-808D-0A09EC88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7AE0-7B8B-45EE-BFC6-4190A6303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C790-6808-4AFF-9245-D4249ED09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12C6-3D30-4C07-8B30-217CC22C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39F2-1755-4A38-B52C-57042D49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7261-87F2-4D06-AAB1-8F10079C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BB3A-A0BB-4A4B-866F-A615B8E3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DE9D-2438-4C4B-91DD-18BE0971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4729-111E-4905-8B17-90612765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5E50-DBC3-486A-B17D-62E7F94F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98AA-A758-4FC0-8584-23A720003CA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6A17-DDB9-43F9-850D-8E0919798BB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IR_Earth_Radiance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827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1371600" y="1371600"/>
            <a:ext cx="62485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5fa16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Экологические проблемы</a:t>
            </a:r>
            <a:endParaRPr b="0" lang="en-US" sz="1800" spc="1" strike="noStrike">
              <a:ln w="0">
                <a:noFill/>
              </a:ln>
              <a:solidFill>
                <a:srgbClr val="f5fa16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057400" y="4572000"/>
            <a:ext cx="556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ентацию подготовил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сандеев Юрий (11 класс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Основные момент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ловек и окружающая сред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истор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заимодейств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лобальные экологические проблемы современности такие ка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рниковый эффек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зоновые ды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I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другое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Человек и окружающая среда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история 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                                      взаимодействия: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какой стороны ни смотри, но говорить о том, что вс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рьезные изменения, произошедшие в природной сред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время существования планеты, - дело рук человек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ыло бы верхом самоуверенности. Никто сегодня не буде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орить с тем, что воздействие человека на природ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исходит на фоне естественных изменений, масштаб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торых порой бывают очень значитель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к за последние десятки тысячелетий одним из главн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акторов подобных фоновых перестроек ландшафтов бы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имат существование гигантских ледников 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странствах Северной Евразии и Северной Америк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лекло за собой серьезные климатические измен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ктически по всей Земле. Исследователи также отмеч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личие определенных циклов для этих самых перестрое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Природа парникового эффекта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5" name="Picture 4" descr="Рис. 1. Тепловое излучение поверхности Земли и атмосферное поглощение в ИК-диапазоне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1523880"/>
            <a:ext cx="5562720" cy="41720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1447920" y="59436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ис. 1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Тепловое излучение поверхности Земли и атмосферное поглощение в ИК - диапазо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Природа парникового эффект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504440" y="1484280"/>
            <a:ext cx="6441480" cy="50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щё в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1827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году французский физик Жозеф Фурь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едположил, что атмосфера земли выполня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функцию своего рода стекла в теплице: возду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пускает солнечное тепло, не давая ему при эт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спариться обратно в космос. Этот эффек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остигается благодаря некоторым атмосферным газ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торостепенного значения, каковыми являютс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пример, водяные испарения и углекислый газ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ни пропускают видимый и «ближний» инфракрас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вет, излучаемый солнцем, но поглощают «далекое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нфракрасное излучение, имеющее более низкую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частоту и образующееся при нагревании зем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верхности солнечными лучами. Если бы этого н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исходило, Земля была бы примерно на 3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радусов холоднее, чем сейчас, и жизнь бы на н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актически замер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228600" y="304920"/>
            <a:ext cx="63244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Деятельность человека приводит к повышению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онцентрации парниковых газов в атмосфер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Увеличение концентрации парниковых газов приведет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 разогреву нижних слоев атмосферы и поверх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земли. Любое изменение в способности Земли отражат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и поглощать тепло, в том числе вызванное увеличение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одержания в атмосфере тепличных газов и аэрозолей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иведет к изменению температуры атмосферы 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мировых океанов и нарушит устойчивые тип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циркуляции и погод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4740120" y="2590920"/>
            <a:ext cx="4403880" cy="37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Если сохранится тенденция глобального потепления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это приведет к изменению погоды и увеличению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количества осадков, что, в свою очередь, привед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к подъему уровня мирового океана. Количество осадков над экватором сократилась на  те же десять процентов. Дальнейшее изменение в системе выпадения осадков окажет огромное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оздействие на сельское хозяйство, смещая зоны возделывания культур в северные районы Северной Америки и Еврази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6"/>
          <p:cNvSpPr/>
          <p:nvPr/>
        </p:nvSpPr>
        <p:spPr>
          <a:xfrm rot="3498000">
            <a:off x="5714280" y="1142640"/>
            <a:ext cx="2057400" cy="1143000"/>
          </a:xfrm>
          <a:custGeom>
            <a:avLst/>
            <a:gdLst>
              <a:gd name="textAreaLeft" fmla="*/ 360000 w 2057400"/>
              <a:gd name="textAreaRight" fmla="*/ 1491840 w 20574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80880" y="3048120"/>
            <a:ext cx="3540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слабление озонового слоя усиливает пото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лнечной радиации на землю и вызывает у люд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ост числа раковых образований кож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акже от повышенного уровня излучения страдаю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стения и животн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9"/>
          <p:cNvSpPr/>
          <p:nvPr/>
        </p:nvSpPr>
        <p:spPr>
          <a:xfrm rot="11228400">
            <a:off x="3903840" y="3886200"/>
            <a:ext cx="761760" cy="457200"/>
          </a:xfrm>
          <a:custGeom>
            <a:avLst/>
            <a:gdLst>
              <a:gd name="textAreaLeft" fmla="*/ 118800 w 761760"/>
              <a:gd name="textAreaRight" fmla="*/ 666720 w 7617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I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Это вызо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 Таяние льд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 Поднятие уровня Мирового океана на 1 мет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 Затопление многих прибрежных район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) Существенное изменение влагообмена на поверх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емли, количества осадков и направления ветр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510640" y="4419720"/>
            <a:ext cx="641988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В итоге сегодня человечество, как справедлив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отметил В.Вернадский, обрело такую мощь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преобразовании окружающего мира, что оно начина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существенно влиять на эволюцию биосферы ка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цело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2b2b2"/>
                </a:solidFill>
                <a:latin typeface="Arial"/>
              </a:rPr>
              <a:t>Итоги экологических проблем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0" name="Picture 8" descr="i?id=40540036-01"/>
          <p:cNvPicPr/>
          <p:nvPr/>
        </p:nvPicPr>
        <p:blipFill>
          <a:blip r:embed="rId1"/>
          <a:stretch/>
        </p:blipFill>
        <p:spPr>
          <a:xfrm>
            <a:off x="380880" y="3886200"/>
            <a:ext cx="1710000" cy="24192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6T08:17:1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