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whoosh.wav" ContentType="audio/x-wav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type.wav" ContentType="audio/x-wav"/>
  <Override PartName="/ppt/media/image15.jpeg" ContentType="image/jpeg"/>
  <Override PartName="/ppt/media/image17.jpeg" ContentType="image/jpeg"/>
  <Override PartName="/ppt/media/camera.wav" ContentType="audio/x-wav"/>
  <Override PartName="/ppt/media/image16.jpeg" ContentType="image/jpeg"/>
  <Override PartName="/ppt/media/image1.png" ContentType="image/png"/>
  <Override PartName="/ppt/media/carbrake.wav" ContentType="audio/x-wav"/>
  <Override PartName="/ppt/media/image14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45B8-2FB2-44DC-9A0B-C599948406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ЧУЛКОВ НИКОЛАЙ АЛЕКСАНДРОВИ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т.н, доцент кафед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и и безопасности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БЖ) ЭЛТИ ТПУ    137 ауд. 8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9881-142F-4366-B629-EBB3FAC7484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C3CE-59B1-4B42-9F4C-28AAB08D676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экология – изучает взаимодействие со средой отдельных особей или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онная экология (демоэкология) – изучает структуру и динамику популя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2CFB-BA37-4183-AE4F-0AED9003D87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реды, местообитания организмов: экология суши, моря, оз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– взаимодействие антропосистемы и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8241-013C-43FE-B95C-AB0FCD1AD35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заимоотношений человека и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69A-E406-49BA-921C-50D0B57EE49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ап охотничества-со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человека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у незнач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ог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гона и ловли д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ы, раз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х сооб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днение видов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а крупных позвон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49F-7062-4A54-813F-74AD210DC93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Этап аграр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ство и земле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ый результ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реме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орудий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ждение процесса урб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58E0-E05A-4E71-969C-075235DEFB3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 развивалось по схем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тб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→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 сельскохозяйственных культ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2088-AFC4-4A52-BB2B-A107A91378D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3B2-64A0-43C9-A76A-3A56994AD58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ап индустриальной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в. Зарождение и 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ятся города, повышается уровень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AF0E-0979-4072-A5B4-C8E7740AF810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ий рост населения – 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руговорота веществ (отходы не минерализуютс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отребления энергии – 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0BB8-D5F2-4BB7-96BF-9A2410BD058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, 186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= наука о до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7C7-B966-4010-B384-5CF5B8C0D012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социального обмена веществ и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FB11-ABEE-43F1-BDDC-08E9B6587737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 человека добывается 20 т сырья, перерабатывается в продукты 2 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0 % сырья идет в от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ружающую среду выбрасываются продукты, чуждые природе, РАВ, теп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A5A-BFCD-4A7B-81CC-BBEB33AB9291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адия взаимодействия между обществом и природой, на ко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555-1CA2-49CF-8348-E3AA4A6535DF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энерг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озонового сл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е дожд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4BD8-924F-4D8E-BC4C-BEC8C9339BF4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удет сопровождать человека все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A30C-C2CF-4AF2-A66D-B89FBE705678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тановить стихийное развитие событий помогут лишь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1DCD-C03F-46F0-9469-3C87040FB353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EEDE-8B72-4A46-839A-FFCC08F6306E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эта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Зарождение и становление экологии как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0-х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4F5-7338-4895-AD99-EC8B69FF642A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истотель (384–322 г.г. до н.э.). «История животных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офраст (372–287 г.г.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История растени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инней (1707–1778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Ламарк (1744–1829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. Мальтус (1766–1834 г.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AB0-BCDA-437A-8110-CDD35FD7361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формление экологии в самостоятельную отрасль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-е г.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. Дарви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1809–188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л основные факторы эволюции органического ми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59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видов путем естественного отбора…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87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исхождение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1693-DDA5-4A72-9132-E176007E921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. Докуча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(1846–190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новоположник почв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Гекк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Шелфорд, Ч. Адам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Тенсли, 1935 г. – эко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 Сукачев, 1940 г. - биогеоцено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07C-B075-482F-96CB-EC3FF6B7D036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50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г.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X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– до настояще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Одум, Б. Небел, Н.Н. Моисеев, Н.Ф. Реймер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09C-631E-4E15-B823-BC429EB6801B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ценоз – совокупность живых организмов (растения, животные, микроорганиз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8C26-45C6-4481-8A8E-77A614A9CC9C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вязанные между собой обменом веществ и 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еоценоз – природные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169D-8AF7-4612-A6B3-9A9869437225}" type="slidenum">
              <a:rPr b="0" lang="uk-UA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C4D-2C19-4CCE-A862-D3D684C9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4BB-8AB0-42A4-8F7A-582E325E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256-2E64-46B7-BB92-A9688908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3DD-AF49-4DB8-BDEB-3F38B087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12FB-1729-4864-B963-0F8B0DEF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1430-54E3-4596-9566-C379FB9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C71-3937-45D0-8BB7-C7AE209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D14-F45A-4C0C-82FD-93356AF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E28D-F9B9-4D91-A7FA-3639DFCB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3C64-959E-48BA-8BCA-98EADF2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301-C969-45D7-8989-2776EEA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0E7-720C-4127-ABD5-7B94950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D05C-618C-4173-829C-B48A1985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BDA-9159-418D-8638-955F2B2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F096-4C2A-47C4-A2BB-9C550361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AF18-560A-47BD-BACF-FABAE995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7822-FBB9-4B05-B09E-9A5BB425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DD3-2E77-46DE-BC43-CEEDF91B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A96-B41E-40CD-8928-D1DB8AB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FF4-13BE-4910-A746-C0868073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D22-8A56-44C7-8D31-E4A3203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AC2-6307-4311-BBFE-FBDB2633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731-445E-480F-A627-7DA9F37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8E-6C58-49FF-9F49-F3BC9BE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226-9DEA-47AA-BC20-BDA4FEA532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01EB-AA9D-409E-ACFA-6B1845BA27D2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11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ЭКОЛОГИЯ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051000"/>
            <a:ext cx="73152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ЧУЛКОВ НИКОЛАЙ АЛЕКСАНДРОВИЧ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.т.н, доцент кафедры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и и безопасности жизнедеятельности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(ЭБЖ) ЭЛТИ ТПУ    137 ауд. 8 к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earthspin"/>
          <p:cNvPicPr/>
          <p:nvPr/>
        </p:nvPicPr>
        <p:blipFill>
          <a:blip r:embed="rId1"/>
          <a:stretch/>
        </p:blipFill>
        <p:spPr>
          <a:xfrm>
            <a:off x="7086600" y="446040"/>
            <a:ext cx="1562040" cy="15638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труктура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сновная часть экологии – общая экология, которая изучает наиболее общие закономерности взаимоотношений организмов и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уровня организации в составе общей экологии выделяют следующие основные раздел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утэкология – изучает взаимодействие со средой отдельных особей или видо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;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пуляционная экология (демоэкология) – изучает структуру и динамику популяций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инэкология – изучает взаимоотношения популяций, сообществ и экосистем со сред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лассификац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конкретным объектам и средам исследования: экология растений, животных, микроорганизм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зависимости от среды, местообитания организмов: экология суши, моря, озер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стыке экологии с другими отраслями знаний: инженерная экология, математическая, медицинская, космическа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я человека – взаимодействие антропосистемы и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тапы взаимоотношений человека и природ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челове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4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6" name="Picture 4" descr="1_34"/>
          <p:cNvPicPr/>
          <p:nvPr/>
        </p:nvPicPr>
        <p:blipFill>
          <a:blip r:embed="rId3"/>
          <a:stretch/>
        </p:blipFill>
        <p:spPr>
          <a:xfrm>
            <a:off x="1523880" y="3276720"/>
            <a:ext cx="5562720" cy="3033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. Этап охотничества-собиратель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лияние человека на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реду незначительно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пользование огн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я загона и ловли дич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жары, разрушение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стительных сообществ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еднение видового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а крупных позвоночны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Picture 4" descr="1_36_1"/>
          <p:cNvPicPr/>
          <p:nvPr/>
        </p:nvPicPr>
        <p:blipFill>
          <a:blip r:embed="rId4"/>
          <a:stretch/>
        </p:blipFill>
        <p:spPr>
          <a:xfrm>
            <a:off x="5343480" y="762120"/>
            <a:ext cx="3513240" cy="48765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. Этап аграр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0 тыс. лет назад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товодство и земледел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ожительный результат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величение численности насе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озникновение ремесе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овершенствование орудий тру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рождение процесса урбанизац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Picture 4" descr="1_37"/>
          <p:cNvPicPr/>
          <p:nvPr/>
        </p:nvPicPr>
        <p:blipFill>
          <a:blip r:embed="rId4"/>
          <a:stretch/>
        </p:blipFill>
        <p:spPr>
          <a:xfrm>
            <a:off x="5334120" y="1297080"/>
            <a:ext cx="3306600" cy="217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Ris8"/>
          <p:cNvPicPr/>
          <p:nvPr/>
        </p:nvPicPr>
        <p:blipFill>
          <a:blip r:embed="rId5"/>
          <a:stretch/>
        </p:blipFill>
        <p:spPr>
          <a:xfrm>
            <a:off x="457200" y="1295280"/>
            <a:ext cx="4038480" cy="164808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ельское хозяйство развивалось по схеме: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ле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астбищ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→ 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ля сельскохозяйственных культур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усты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рушение экосистем: уничтожение лесов, засоление почв и опустынивание, вымирание крупных представителей фауны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4" descr="fon07"/>
          <p:cNvPicPr/>
          <p:nvPr/>
        </p:nvPicPr>
        <p:blipFill>
          <a:blip r:embed="rId3"/>
          <a:stretch/>
        </p:blipFill>
        <p:spPr>
          <a:xfrm>
            <a:off x="6629400" y="497196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есмотря на изменение экосистем в локальном масштабе, деятельность человека вписывалась в биогеохимический круговорот веществ и не изменяла притока энергии в биосфере. Использовались в основном растительные материалы (биодеградирующие) и металлы, полностью осуществлялось самоочищение вод и земе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3. Этап индустриальной цивилизац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 в. Зарождение и развитие промышленн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оятся города, повышается уровень жизни люде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Picture 5" descr="D10"/>
          <p:cNvPicPr/>
          <p:nvPr/>
        </p:nvPicPr>
        <p:blipFill>
          <a:blip r:embed="rId3"/>
          <a:stretch/>
        </p:blipFill>
        <p:spPr>
          <a:xfrm>
            <a:off x="4952880" y="39625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D01"/>
          <p:cNvPicPr/>
          <p:nvPr/>
        </p:nvPicPr>
        <p:blipFill>
          <a:blip r:embed="rId4"/>
          <a:stretch/>
        </p:blipFill>
        <p:spPr>
          <a:xfrm>
            <a:off x="838080" y="39625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гативные последств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зкий рост населения – демографический взры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меньшение разнообразия естественной среды (уничтожаются леса и болота, вытесняются дикие животные из развитых районов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рушение круговорота веществ (отходы не минерализуются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ост потребления энергии – нехватка энерго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– это наука о взаимоотношениях живых организмов и сообществ  между собой и с окружающей средой обитания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. Геккель, 1866 г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Экология = наука о доме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хема социального обмена веществ и энер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914400" y="1981080"/>
            <a:ext cx="7238880" cy="4178160"/>
            <a:chOff x="914400" y="1981080"/>
            <a:chExt cx="7238880" cy="4178160"/>
          </a:xfrm>
        </p:grpSpPr>
        <p:sp>
          <p:nvSpPr>
            <p:cNvPr id="284" name="Rectangle 4"/>
            <p:cNvSpPr/>
            <p:nvPr/>
          </p:nvSpPr>
          <p:spPr>
            <a:xfrm>
              <a:off x="3156120" y="1981080"/>
              <a:ext cx="237456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3287880" y="2168640"/>
              <a:ext cx="21110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58c"/>
                  </a:solidFill>
                  <a:latin typeface="Times New Roman"/>
                </a:rPr>
                <a:t>общество</a:t>
              </a:r>
              <a:endParaRPr b="0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914400" y="3478320"/>
              <a:ext cx="14508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захват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2438280" y="35053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переработк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4648320" y="3478320"/>
              <a:ext cx="160020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усво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6321600" y="3478320"/>
              <a:ext cx="1831680" cy="74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40458c"/>
                  </a:solidFill>
                  <a:latin typeface="Times New Roman"/>
                </a:rPr>
                <a:t>выделение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4343400" y="27288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573200" y="3103560"/>
              <a:ext cx="540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57320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34196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539892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6981840" y="31035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1046160" y="4973760"/>
              <a:ext cx="6726240" cy="112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 flipV="1">
              <a:off x="11779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 flipV="1">
              <a:off x="14414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21016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Line 20"/>
            <p:cNvSpPr/>
            <p:nvPr/>
          </p:nvSpPr>
          <p:spPr>
            <a:xfrm flipV="1">
              <a:off x="28926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Line 21"/>
            <p:cNvSpPr/>
            <p:nvPr/>
          </p:nvSpPr>
          <p:spPr>
            <a:xfrm flipV="1">
              <a:off x="3156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2" name="Line 22"/>
            <p:cNvSpPr/>
            <p:nvPr/>
          </p:nvSpPr>
          <p:spPr>
            <a:xfrm flipV="1">
              <a:off x="500220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6716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4" name="Line 24"/>
            <p:cNvSpPr/>
            <p:nvPr/>
          </p:nvSpPr>
          <p:spPr>
            <a:xfrm flipV="1">
              <a:off x="658512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 flipV="1">
              <a:off x="6848640" y="4225680"/>
              <a:ext cx="0" cy="74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6" name="Line 26"/>
            <p:cNvSpPr/>
            <p:nvPr/>
          </p:nvSpPr>
          <p:spPr>
            <a:xfrm>
              <a:off x="407988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7" name="Line 27"/>
            <p:cNvSpPr/>
            <p:nvPr/>
          </p:nvSpPr>
          <p:spPr>
            <a:xfrm>
              <a:off x="592596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8" name="Line 28"/>
            <p:cNvSpPr/>
            <p:nvPr/>
          </p:nvSpPr>
          <p:spPr>
            <a:xfrm>
              <a:off x="7377120" y="4226040"/>
              <a:ext cx="0" cy="747720"/>
            </a:xfrm>
            <a:prstGeom prst="line">
              <a:avLst/>
            </a:prstGeom>
            <a:ln w="95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9" name="AutoShape 29"/>
            <p:cNvSpPr/>
            <p:nvPr/>
          </p:nvSpPr>
          <p:spPr>
            <a:xfrm rot="5400000">
              <a:off x="172476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0" name="AutoShape 30"/>
            <p:cNvSpPr/>
            <p:nvPr/>
          </p:nvSpPr>
          <p:spPr>
            <a:xfrm rot="5400000">
              <a:off x="370584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1" name="AutoShape 31"/>
            <p:cNvSpPr/>
            <p:nvPr/>
          </p:nvSpPr>
          <p:spPr>
            <a:xfrm rot="5400000">
              <a:off x="5551920" y="5083920"/>
              <a:ext cx="747720" cy="52740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400"/>
                <a:gd name="textAreaBottom" fmla="*/ 395640 h 5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5400000">
              <a:off x="7003080" y="5083920"/>
              <a:ext cx="747720" cy="527040"/>
            </a:xfrm>
            <a:custGeom>
              <a:avLst/>
              <a:gdLst>
                <a:gd name="textAreaLeft" fmla="*/ 117360 w 747720"/>
                <a:gd name="textAreaRight" fmla="*/ 654120 w 747720"/>
                <a:gd name="textAreaTop" fmla="*/ 131760 h 527040"/>
                <a:gd name="textAreaBottom" fmla="*/ 395280 h 52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13" name="Rectangle 33"/>
            <p:cNvSpPr/>
            <p:nvPr/>
          </p:nvSpPr>
          <p:spPr>
            <a:xfrm>
              <a:off x="2971800" y="5638680"/>
              <a:ext cx="26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П р и р о д а</a:t>
              </a:r>
              <a:endParaRPr b="0" lang="en-US" sz="2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всех этапах взаимодействия общества и природы происходит загрязнение окружающей природной среды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1 человека добывается 20 т сырья, перерабатывается в продукты 2 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коло 90 % сырья идет в отход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окружающую среду выбрасываются продукты, чуждые природе, РАВ, тепл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18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Экологический криз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о стадия взаимодействия между обществом и природой, на которой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предела обостряются противоречия между экономикой и экологией, а способности саморегулирования экосистем в условиях антропогенного воздействия существенно подорван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кологическая катастрофа характеризуется невозможностью восстановления нарушенных характеристик систем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временные проблемы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мографическая пробл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стощение природных ресурсов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энергети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грязнение биосфер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азрушение озонового сло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ислотные дожди и др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блемы здоровья чело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экологических позиций экономический рост представляет собой постоянное и все ускоряющееся увеличение потребления природных ресурсов. Стремление человека к материальному обогащению и безграничному потреблению ресурсов является естественной чертой человека. При этом прогресс нельзя запрети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н будет сопровождать человека всегда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02"/>
          <p:cNvPicPr/>
          <p:nvPr/>
        </p:nvPicPr>
        <p:blipFill>
          <a:blip r:embed="rId1"/>
          <a:stretch/>
        </p:blipFill>
        <p:spPr>
          <a:xfrm>
            <a:off x="228600" y="228600"/>
            <a:ext cx="3987720" cy="2990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D08"/>
          <p:cNvPicPr/>
          <p:nvPr/>
        </p:nvPicPr>
        <p:blipFill>
          <a:blip r:embed="rId2"/>
          <a:stretch/>
        </p:blipFill>
        <p:spPr>
          <a:xfrm>
            <a:off x="4648320" y="8380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1720_03"/>
          <p:cNvPicPr/>
          <p:nvPr/>
        </p:nvPicPr>
        <p:blipFill>
          <a:blip r:embed="rId3"/>
          <a:stretch/>
        </p:blipFill>
        <p:spPr>
          <a:xfrm>
            <a:off x="914400" y="2971800"/>
            <a:ext cx="5334120" cy="35593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rainbow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3"/>
          <p:cNvSpPr/>
          <p:nvPr/>
        </p:nvSpPr>
        <p:spPr>
          <a:xfrm>
            <a:off x="2895480" y="44956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тановить стихийное развитие событий помогут лишь зн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moos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304920" y="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ческие знания позволяют понять, каким образом происходит воздействие человека на окружающую среду, и найти те пределы изменения условий, которые не допустят экологического кризис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spring_plant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0" y="0"/>
            <a:ext cx="5410080" cy="19364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цепция устойчив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ференция ООН по окружающей среде и развитию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ио-де-Жанейро, 1992 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952880" y="5122800"/>
            <a:ext cx="4191120" cy="1746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разрывность эколого-экономических связ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армония между Обществом и природо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рия развития экологи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 эта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1. Зарождение и становление экологии как наук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60-х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е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 этом этапе накапливались данные о взаимосвязи организмов со средой их обитания, делались первые научные обобщен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Аристотель (384–322 г.г. до н.э.). «История животных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еофраст (372–287 г.г. до н.э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«История растений»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инней (1707–1778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Б</a:t>
            </a:r>
            <a:r>
              <a:rPr b="0" lang="ru-RU" sz="32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Ламарк (1744–1829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Т. Мальтус (1766–1834 г.г.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С.П. Крашенинников (1713–1755 г.г.) – «Описание земли Камчатской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2. Оформление экологии в самостоятельную отрасль знан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60-е г.г.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XIX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. Дарвин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1809–1882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пределил основные факторы эволюции органического мир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59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видов путем естественного отбора…»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871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г.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«Происхождение человека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В. Докучаев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(1846–1903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– основоположник почвоведе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. Геккель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Шелфорд, Ч. Адам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И. Вернадски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А.Тенсли, 1935 г. – экосистем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Н. Сукачев, 1940 г. - биогеоценоз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3. Превращение экологии в комплексную науку, включающую в себя науки об охране природной и окружающей человека сред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50-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 г.г.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XX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. – до настоящего времен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временный этап связан с прогрессирующим загрязнением окружающей среды и резким усилением воздействия человека на природ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. Одум, Б. Небел, Н.Н. Моисеев, Н.Ф. Реймерс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Picture 4" descr="1259_02"/>
          <p:cNvPicPr/>
          <p:nvPr/>
        </p:nvPicPr>
        <p:blipFill>
          <a:blip r:embed="rId4"/>
          <a:stretch/>
        </p:blipFill>
        <p:spPr>
          <a:xfrm>
            <a:off x="6629400" y="304920"/>
            <a:ext cx="2209680" cy="1474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7" descr="WFALL"/>
          <p:cNvPicPr/>
          <p:nvPr/>
        </p:nvPicPr>
        <p:blipFill>
          <a:blip r:embed="rId5"/>
          <a:stretch/>
        </p:blipFill>
        <p:spPr>
          <a:xfrm>
            <a:off x="380880" y="0"/>
            <a:ext cx="2971800" cy="15177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логическая система – взаимосвязанная, единая функциональная совокупность живых организмов и среды обит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ценоз – совокупность живых организмов (растения, животные, микроорганизмы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топ – участок биосферы с однородными условиями существования, населенный этими организма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система = биоценоз + биотоп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связанные между собой обменом веществ и энергии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Биогеоценоз – природные экосистем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8:04Z</dcterms:modified>
  <cp:revision>12</cp:revision>
  <dc:subject/>
  <dc:title>PowerPoint Presentation</dc:title>
</cp:coreProperties>
</file>