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whoosh.wav" ContentType="audio/x-wav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type.wav" ContentType="audio/x-wav"/>
  <Override PartName="/ppt/media/image15.jpeg" ContentType="image/jpeg"/>
  <Override PartName="/ppt/media/image17.jpeg" ContentType="image/jpeg"/>
  <Override PartName="/ppt/media/camera.wav" ContentType="audio/x-wav"/>
  <Override PartName="/ppt/media/image16.jpeg" ContentType="image/jpeg"/>
  <Override PartName="/ppt/media/image1.png" ContentType="image/png"/>
  <Override PartName="/ppt/media/carbrake.wav" ContentType="audio/x-wav"/>
  <Override PartName="/ppt/media/image14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DBB6-C2B2-4292-8A13-AA9165ACEE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ЧУЛКОВ НИКОЛАЙ АЛЕКСАНДРО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т.н, доцент кафе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и и безопасности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БЖ) ЭЛТИ ТПУ    137 ауд. 8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0BC3-78B4-40B8-A5F1-AF07E2B99FD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A934-3C89-4444-A9E6-3E7585D82CC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экология – изучает взаимодействие со средой отдельных особей или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ционная экология (демоэкология) – изучает структуру и динамику популя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03F7-38BE-4758-9CD5-243DEEE96719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реды, местообитания организмов: экология суши, моря, оз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 – взаимодействие антропосистемы и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15D6-312B-456C-915C-D1DB0AEB234D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заимоотношений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4F5C-4E82-452A-A461-FC0163D972F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ап охотничества-собир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человека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у незнач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г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гона и ловли д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ы, разру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х сооб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днение видов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а крупных позвон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CF6E-E454-4E34-9B5A-C2498A8771A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тап аграр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ство и земле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результа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реме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орудий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ождение процесса урб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E77E-E1F8-44AF-ACD4-6F717D1585D1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 развивалось по схем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б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 сельскохозяйственных культу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ы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8285-77E1-4403-9899-433F948C352D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4A92-FAAA-4716-B989-AF79C2BDADC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ап индустриаль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в. Зарождение и 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ятся города, повышается уровень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45B0-596E-40EA-B6E6-C4D811FDD09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ий рост населения – 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руговорота веществ (отходы не минерализуютс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отребления энергии – 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6DED-BAFA-4647-A7BE-0421D142F3E4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, 186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= наука о д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5247-7A1B-439A-9ADE-F654862AE79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социального обмена веществ и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FE4F-9B40-4021-BA4C-A12A5D8F2CA1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1 человека добывается 20 т сырья, перерабатывается в продукты 2 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0 % сырья идет в от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ружающую среду выбрасываются продукты, чуждые природе, РАВ, теп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92CE-56B9-4D6E-8A36-532F6857C06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адия взаимодействия между обществом и природой, на ко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9F0C-D3FC-4D12-A742-6527FABF7432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энерг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озонового сл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D981-85C2-42A8-BAF1-DE2AC784246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удет сопровождать человека все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162D-A8B2-4F98-ADDE-B019C152C8E1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тановить стихийное развитие событий помогут лишь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FBAB-F583-417C-80E4-E30A7CDD0B8D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C065-DBD1-41FC-B758-AAAE1A8EF0B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Зарождение и становление экологии как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60-х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9DC1-D250-4B52-BC1D-6955C28BB84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истотель (384–322 г.г. до н.э.). «История животных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офраст (372–287 г.г. до н.э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История растени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инней (1707–1778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амарк (1744–1829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. Мальтус (1766–1834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27AA-4744-4CF3-B56B-4CEFD4E9B86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формление экологии в самостоятельную отрасль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-е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. Дарви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1809–188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 основные факторы эволюции органического ми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59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видов путем естественного отбора…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7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32F3-7100-46F0-80B4-0C8A5E7DCFA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. Докуча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(1846–190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новоположник почв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Шелфорд, Ч. Ада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Тенсли, 1935 г. – эко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 Сукачев, 1940 г. - биогеоцено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ABCB-3E57-451B-A561-E3B5CD93BA7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– до настояще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Одум, Б. Небел, Н.Н. Моисеев, Н.Ф. Рейме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0CFC-66CD-4E69-8798-E17B4766190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ценоз – совокупность живых организмов (растения, животные, микроорганиз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CAD5-F6C6-459D-A638-2BC4066AAFF0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вязанные между собой обменом веществ и 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еоценоз – природные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CF51-BF4C-4C9B-BB8B-B5F3DBC9E8E0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0CC-AD75-4099-8307-A44A5B6D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5A9-D84F-4310-963D-31B14C3C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CC9-8162-4017-9A5D-0B542FD4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3B4-791D-4135-B8E0-7BD103A6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C44D-E56C-4E3C-84BA-B4431F0F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468D-ABBC-4631-8D78-652883EF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D9B2-76E4-4DB4-9065-B925B337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2E75-CC7A-4F9D-B707-0CD0F636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EF8E-A8CB-4E8D-8A75-703F9E3D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1E44-2B23-454E-B71D-6A305111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A2D9-4462-417B-A260-8EA180FC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D05-9F95-4D8E-9509-9ED5A2EF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CACB-4EA3-43E6-876C-9D61CABF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6F8A-B3CF-431B-8FD0-10274056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37A7-6E93-43FF-BC77-CED9DCD6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837C-3078-4F14-B354-3C55EB91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47DC-6D3F-4905-A2DD-1062AD81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29F-B5B4-474A-BA93-AFF917B9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836-8599-4F71-9445-CC41022B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2A0-3EA8-497F-A18B-CFDA57A2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CFC-6855-41CC-8E26-57A1648D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A865-65E4-4CF5-A6A2-A493799E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94CE-D76A-4C98-AB75-B7DF2289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0CA-424B-40B0-B9CB-50096186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7802-CEBC-443F-AC9E-A3CE9B092A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22FC-761F-47E3-846E-BD96917DBF41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11440"/>
            <a:ext cx="64008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ahoma"/>
              </a:rPr>
              <a:t>ЭКОЛОГИЯ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051000"/>
            <a:ext cx="73152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ЧУЛКОВ НИКОЛАЙ АЛЕКСАНДРОВИ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к.т.н, доцент кафедры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и и безопасности жизнедеятельности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(ЭБЖ) ЭЛТИ ТПУ    137 ауд. 8 к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Picture 4" descr="earthspin"/>
          <p:cNvPicPr/>
          <p:nvPr/>
        </p:nvPicPr>
        <p:blipFill>
          <a:blip r:embed="rId1"/>
          <a:stretch/>
        </p:blipFill>
        <p:spPr>
          <a:xfrm>
            <a:off x="7086600" y="446040"/>
            <a:ext cx="1562040" cy="15638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труктура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утэкология – изучает взаимодействие со средой отдельных особей или видо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пуляционная экология (демоэкология) – изучает структуру и динамику популяций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лассификац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среды, местообитания организмов: экология суши, моря, озер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я человека – взаимодействие антропосистемы и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тапы взаимоотношений человека и природ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челове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4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Picture 4" descr="1_34"/>
          <p:cNvPicPr/>
          <p:nvPr/>
        </p:nvPicPr>
        <p:blipFill>
          <a:blip r:embed="rId3"/>
          <a:stretch/>
        </p:blipFill>
        <p:spPr>
          <a:xfrm>
            <a:off x="1523880" y="3276720"/>
            <a:ext cx="5562720" cy="3033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1. Этап охотничества-собиратель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лияние человека н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реду незначительно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пользование огн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ля загона и ловли дич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жары, разрушение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стительных сообществ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еднение видового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става крупных позвоночны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Picture 4" descr="1_36_1"/>
          <p:cNvPicPr/>
          <p:nvPr/>
        </p:nvPicPr>
        <p:blipFill>
          <a:blip r:embed="rId4"/>
          <a:stretch/>
        </p:blipFill>
        <p:spPr>
          <a:xfrm>
            <a:off x="5343480" y="762120"/>
            <a:ext cx="3513240" cy="48765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. Этап аграр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товодство и земледели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ожительный результат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Увеличение численности населе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озникновение ремесе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овершенствование орудий труд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рождение процесса урбанизаци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4" name="Picture 4" descr="1_37"/>
          <p:cNvPicPr/>
          <p:nvPr/>
        </p:nvPicPr>
        <p:blipFill>
          <a:blip r:embed="rId4"/>
          <a:stretch/>
        </p:blipFill>
        <p:spPr>
          <a:xfrm>
            <a:off x="5334120" y="1297080"/>
            <a:ext cx="3306600" cy="217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Ris8"/>
          <p:cNvPicPr/>
          <p:nvPr/>
        </p:nvPicPr>
        <p:blipFill>
          <a:blip r:embed="rId5"/>
          <a:stretch/>
        </p:blipFill>
        <p:spPr>
          <a:xfrm>
            <a:off x="457200" y="1295280"/>
            <a:ext cx="4038480" cy="164808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ельское хозяйство развивалось по схеме: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ле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астбище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я сельскохозяйственных культур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→ 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пусты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Picture 4" descr="fon07"/>
          <p:cNvPicPr/>
          <p:nvPr/>
        </p:nvPicPr>
        <p:blipFill>
          <a:blip r:embed="rId3"/>
          <a:stretch/>
        </p:blipFill>
        <p:spPr>
          <a:xfrm>
            <a:off x="6629400" y="497196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3. Этап индустриаль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 в. Зарождение и развитие промышленност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троятся города, повышается уровень жизни люде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Picture 5" descr="D10"/>
          <p:cNvPicPr/>
          <p:nvPr/>
        </p:nvPicPr>
        <p:blipFill>
          <a:blip r:embed="rId3"/>
          <a:stretch/>
        </p:blipFill>
        <p:spPr>
          <a:xfrm>
            <a:off x="4952880" y="3962520"/>
            <a:ext cx="3454560" cy="2590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D01"/>
          <p:cNvPicPr/>
          <p:nvPr/>
        </p:nvPicPr>
        <p:blipFill>
          <a:blip r:embed="rId4"/>
          <a:stretch/>
        </p:blipFill>
        <p:spPr>
          <a:xfrm>
            <a:off x="838080" y="39625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зкий рост населения – демографический взры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рушение круговорота веществ (отходы не минерализуются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ост потребления энергии – нехватка энерго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. Геккель, 1866 г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= наука о доме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хема социального обмена веществ и энер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914400" y="1981080"/>
            <a:ext cx="7238880" cy="4178160"/>
            <a:chOff x="914400" y="1981080"/>
            <a:chExt cx="7238880" cy="4178160"/>
          </a:xfrm>
        </p:grpSpPr>
        <p:sp>
          <p:nvSpPr>
            <p:cNvPr id="284" name="Rectangle 4"/>
            <p:cNvSpPr/>
            <p:nvPr/>
          </p:nvSpPr>
          <p:spPr>
            <a:xfrm>
              <a:off x="3156120" y="1981080"/>
              <a:ext cx="237456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5" name="Text Box 5"/>
            <p:cNvSpPr/>
            <p:nvPr/>
          </p:nvSpPr>
          <p:spPr>
            <a:xfrm>
              <a:off x="3287880" y="2168640"/>
              <a:ext cx="21110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58c"/>
                  </a:solidFill>
                  <a:latin typeface="Times New Roman"/>
                </a:rPr>
                <a:t>общество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Text Box 6"/>
            <p:cNvSpPr/>
            <p:nvPr/>
          </p:nvSpPr>
          <p:spPr>
            <a:xfrm>
              <a:off x="914400" y="3478320"/>
              <a:ext cx="14508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захват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7" name="Text Box 7"/>
            <p:cNvSpPr/>
            <p:nvPr/>
          </p:nvSpPr>
          <p:spPr>
            <a:xfrm>
              <a:off x="2438280" y="3505320"/>
              <a:ext cx="2057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переработк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4648320" y="3478320"/>
              <a:ext cx="16002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усво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Text Box 9"/>
            <p:cNvSpPr/>
            <p:nvPr/>
          </p:nvSpPr>
          <p:spPr>
            <a:xfrm>
              <a:off x="6321600" y="3478320"/>
              <a:ext cx="183168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выдел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4343400" y="27288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1573200" y="3103560"/>
              <a:ext cx="540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57320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34196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539892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69818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1046160" y="4973760"/>
              <a:ext cx="6726240" cy="112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 flipV="1">
              <a:off x="11779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Line 18"/>
            <p:cNvSpPr/>
            <p:nvPr/>
          </p:nvSpPr>
          <p:spPr>
            <a:xfrm flipV="1">
              <a:off x="14414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9" name="Line 19"/>
            <p:cNvSpPr/>
            <p:nvPr/>
          </p:nvSpPr>
          <p:spPr>
            <a:xfrm>
              <a:off x="21016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0" name="Line 20"/>
            <p:cNvSpPr/>
            <p:nvPr/>
          </p:nvSpPr>
          <p:spPr>
            <a:xfrm flipV="1">
              <a:off x="28926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1" name="Line 21"/>
            <p:cNvSpPr/>
            <p:nvPr/>
          </p:nvSpPr>
          <p:spPr>
            <a:xfrm flipV="1">
              <a:off x="3156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2" name="Line 22"/>
            <p:cNvSpPr/>
            <p:nvPr/>
          </p:nvSpPr>
          <p:spPr>
            <a:xfrm flipV="1">
              <a:off x="50022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 flipV="1">
              <a:off x="526716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4" name="Line 24"/>
            <p:cNvSpPr/>
            <p:nvPr/>
          </p:nvSpPr>
          <p:spPr>
            <a:xfrm flipV="1">
              <a:off x="6585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 flipV="1">
              <a:off x="68486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6" name="Line 26"/>
            <p:cNvSpPr/>
            <p:nvPr/>
          </p:nvSpPr>
          <p:spPr>
            <a:xfrm>
              <a:off x="40798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7" name="Line 27"/>
            <p:cNvSpPr/>
            <p:nvPr/>
          </p:nvSpPr>
          <p:spPr>
            <a:xfrm>
              <a:off x="592596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8" name="Line 28"/>
            <p:cNvSpPr/>
            <p:nvPr/>
          </p:nvSpPr>
          <p:spPr>
            <a:xfrm>
              <a:off x="737712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9" name="AutoShape 29"/>
            <p:cNvSpPr/>
            <p:nvPr/>
          </p:nvSpPr>
          <p:spPr>
            <a:xfrm rot="5400000">
              <a:off x="172476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0" name="AutoShape 30"/>
            <p:cNvSpPr/>
            <p:nvPr/>
          </p:nvSpPr>
          <p:spPr>
            <a:xfrm rot="5400000">
              <a:off x="370584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1" name="AutoShape 31"/>
            <p:cNvSpPr/>
            <p:nvPr/>
          </p:nvSpPr>
          <p:spPr>
            <a:xfrm rot="5400000">
              <a:off x="5551920" y="5083920"/>
              <a:ext cx="747720" cy="52740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400"/>
                <a:gd name="textAreaBottom" fmla="*/ 395640 h 5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2" name="AutoShape 32"/>
            <p:cNvSpPr/>
            <p:nvPr/>
          </p:nvSpPr>
          <p:spPr>
            <a:xfrm rot="5400000">
              <a:off x="700308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2971800" y="563868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00"/>
                  </a:solidFill>
                  <a:latin typeface="Times New Roman"/>
                </a:rPr>
                <a:t>П р и р о д 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1 человека добывается 20 т сырья, перерабатывается в продукты 2 т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коло 90 % сырья идет в отход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окружающую среду выбрасываются продукты, чуждые природе, РАВ, тепл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18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кологический кризис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о стадия взаимодействия между обществом и природой, на котор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временные проблемы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емографическая пробл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тощение природных 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энергети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грязнение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зрушение озонового сло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 и др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здоровья чело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н будет сопровождать человека всегда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E02"/>
          <p:cNvPicPr/>
          <p:nvPr/>
        </p:nvPicPr>
        <p:blipFill>
          <a:blip r:embed="rId1"/>
          <a:stretch/>
        </p:blipFill>
        <p:spPr>
          <a:xfrm>
            <a:off x="228600" y="228600"/>
            <a:ext cx="3987720" cy="2990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D08"/>
          <p:cNvPicPr/>
          <p:nvPr/>
        </p:nvPicPr>
        <p:blipFill>
          <a:blip r:embed="rId2"/>
          <a:stretch/>
        </p:blipFill>
        <p:spPr>
          <a:xfrm>
            <a:off x="4648320" y="8380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1720_03"/>
          <p:cNvPicPr/>
          <p:nvPr/>
        </p:nvPicPr>
        <p:blipFill>
          <a:blip r:embed="rId3"/>
          <a:stretch/>
        </p:blipFill>
        <p:spPr>
          <a:xfrm>
            <a:off x="914400" y="2971800"/>
            <a:ext cx="5334120" cy="35593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rainbow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2895480" y="449568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тановить стихийное развитие событий помогут лишь зн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moos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304920" y="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spring_plant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0" y="0"/>
            <a:ext cx="5410080" cy="19364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цепция устойчивого развит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ференция ООН по окружающей среде и развити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ио-де-Жанейро, 1992 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952880" y="5122800"/>
            <a:ext cx="4191120" cy="17460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разрывность эколого-экономических связе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армония между Обществом и природо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рия развит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 этап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1. Зарождение и становление экологии как нау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60-х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Аристотель (384–322 г.г. до н.э.). «История животных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еофраст (372–287 г.г. до н.э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«История растений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инней (1707–1778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Ж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Б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амарк (1744–1829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. Мальтус (1766–1834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2. Оформление экологии в самостоятельную отрасль знан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60-е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. Дарвин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1809–1882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пределил основные факторы эволюции органического мир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59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видов путем естественного отбора…»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71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человека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В. Докучае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(1846–1903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– основоположник почвоведе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. Геккел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Шелфорд, Ч. Адам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И. Вернадск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.Тенсли, 1935 г. – экосист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Н. Сукачев, 1940 г. - биогеоценоз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– до настоящего време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. Одум, Б. Небел, Н.Н. Моисеев, Н.Ф. Реймер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Picture 4" descr="1259_02"/>
          <p:cNvPicPr/>
          <p:nvPr/>
        </p:nvPicPr>
        <p:blipFill>
          <a:blip r:embed="rId4"/>
          <a:stretch/>
        </p:blipFill>
        <p:spPr>
          <a:xfrm>
            <a:off x="6629400" y="304920"/>
            <a:ext cx="2209680" cy="1474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Picture 7" descr="WFALL"/>
          <p:cNvPicPr/>
          <p:nvPr/>
        </p:nvPicPr>
        <p:blipFill>
          <a:blip r:embed="rId5"/>
          <a:stretch/>
        </p:blipFill>
        <p:spPr>
          <a:xfrm>
            <a:off x="380880" y="0"/>
            <a:ext cx="2971800" cy="15177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предел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ценоз – совокупность живых организмов (растения, животные, микроорганизмы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система = биоценоз + биотоп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(связанные между собой обменом веществ и энергии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геоценоз – природные экосистем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8:04Z</dcterms:modified>
  <cp:revision>12</cp:revision>
  <dc:subject/>
  <dc:title>PowerPoint Presentation</dc:title>
</cp:coreProperties>
</file>