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1230-FE89-4FBA-8AB2-5D15ECFE80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Georgia"/>
              </a:rPr>
              <a:t>Экологические кризисы и экологические катастроф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тудентка 41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идоркина Васил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B07E-7735-48A4-B8D3-9F84073E845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Georgia"/>
              </a:rPr>
              <a:t>Неисчерпаемые полезные ископаем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Климатически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атмосферный воздух, энергия вет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Космически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солнечная радиация и энергия морских приливов и отл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Водны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воды Мирового океан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A735-7A2A-4FB2-B7A6-68B72CA121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99"/>
                </a:solidFill>
                <a:latin typeface="Georgia"/>
              </a:rPr>
              <a:t>Аспекты охраны прир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Хозяйственно-экономически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важнейшая сторона охраны природы, т.к. любые продукты, употребляемые людьми, создаются за счет расходования природных ресурс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115A-E448-4BFE-BD1D-3159954A30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Социально-политически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результаты воздействия человека на природу зависят не только от развития технического прогресса и роста населения, но и от социальных условий, в которых они проявляются. Развивающиеся страны служат важным источником сырья для развитых стран, стремящихся размещать в них добывающую промышленность, использ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минерально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ельскохозяйствен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ырь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7E1A-3133-4AE0-A36D-74FE7E3885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Здравоохрани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загрязнение окружающей среды вредными веществами наносит большой ущерб здоровью людей, в связи с этим оздоровительный аспект охраны природы приобретает исключительно важное знач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AAB6-9AA6-4111-B1EB-D426C4C9BC6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Эстетический аспект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природа – источник не только материальных благ, но и удовлетворения эстетических потребностей человека, которые не менее важны первых. Поэтому особое внимание необходимо уделять и охране эстетических ценных мест Зем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351A-D50A-4FDA-9DFA-CC4FA24D17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Воспита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любовь к природе развивает в человеке положительные черты характера: доброту, бережное отношение, патриотизм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777D-B609-4D01-BAD4-3E160F2C73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Научно-познава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связан с необходимостью сохранения для исследований естественных, ненарушенных человеком территорий; изучение природы позволяет выяснять закономерности изменений, вносимых в природу человеческой деятельностью, делать прогнозы этих изменений, разрабатывать практические меры по охране прир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B047-97BA-4D58-8EEB-C80C236BCF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Georgia"/>
              </a:rPr>
              <a:t>Принципы и правила охраны прир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99ff"/>
                </a:solidFill>
                <a:latin typeface="Georgia"/>
              </a:rPr>
              <a:t>В</a:t>
            </a: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се природные явления имеют для человека множественное значение и должны оцениваться со всех точек зрен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т.е. к каждому явлению следует подходить с учетом интересов разных отраслей хозяйства и сохранения восстановительных сил самой прир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73B1-B580-4C19-9D55-638487EBD3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При использовании природных ресурсов необходимо руководствоваться правилом региональности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необходимо учитывать при использовании недр, водных ресурсов, лесов и животного ми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охрана одного природного объекта может означать одновременно охрану и других объектов, тесно с ним связанных</a:t>
            </a:r>
            <a:r>
              <a:rPr b="0" lang="ru-RU" sz="1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напр., охрана водоема от загрязнения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=&gt;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охрана животных, обитающих в не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AB30-4639-4A67-BA20-A5D89FA338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писок использованной лит-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http://ru.wikipedia.org/wiki/%DD%EA%EE%EB%EE%E3%E8%F7%E5%F1%EA%E8%E9_%EA%F0%E8%E7%E8%F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http://ru.wikipedia.org/wiki/%D0%AD%D0%BA%D0%BE%D0%BB%D0%BE%D0%B3%D0%B8%D1%87%D0%B5%D1%81%D0%BA%D0%B0%D1%8F_%D0%BA%D0%B0%D1%82%D0%B0%D1%81%D1%82%D1%80%D0%BE%D1%84%D0%B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Georgia"/>
              </a:rPr>
              <a:t>В.М. Константинов, Ю.Б. Челидзе уч.пособие «Экологические основы природопольз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5B01-F8C8-454B-9D30-F1E32349D2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Экологический кризис –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критическое состояние окружающей среды, угрожающее существованию человека и отражающее несоответствие развития производительных сил и производ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9FF0-34DA-49B1-8B27-E8CB5DABDF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Экологический кризис може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глобальны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напряженное состояние взаимоотношений между человечеством и природой, характеризующееся несоответствием развития производительных сил и производственных отношений в человеческом обществе ресурсно-экологическим возможностям биосфер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локальны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44AB-A25C-40D4-8FB7-F19EE79B78F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Georgia"/>
              </a:rPr>
              <a:t>Виды экологических кризис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 присваивающего хозяйства: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собирательства и примитивной охоты (возник в связи с истощением естественных запасов плодов и съедобных растений, с истреблением небольших животных в местах обитания древних люд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B5F2-E4FB-4ABB-B49F-F6C9B473B4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, связанный с перепромыслом крупных зверей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возник в конце ледникового периода, когда стали исчезать крупные животные – шерстистый носорог, пещерный медведь, мамон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D9FF-63D9-4F2A-880A-CA3B44A58B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, возникший в местах древнего орошаемого земледел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возник из-за полного сведения лесов, чрезмерной нагрузки животноводства и примитивного земледелия на почвы, вызвавшие их ускоренную эрозию и засол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8EED-DC72-45BA-AA7A-FD6E983E06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66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ff9966"/>
                </a:solidFill>
                <a:latin typeface="Georgia"/>
              </a:rPr>
              <a:t>Экологическая катастрофа -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необратимое изменение природных комплексов, связанное с массовой гибелью живых организмов. (Чернобыльская катастрофа, авария на АЭС Фукусима, взрыв нефтяной платформы в Мексиканском залив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A5B3-D38F-45BF-ADF5-9588472702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cc"/>
                </a:solidFill>
                <a:latin typeface="Georgia"/>
              </a:rPr>
              <a:t>Природные ресурсы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компоненты и свойства природной среды, которые используются или могут быть использованы для удовлетворения разнообразных физических и духовных потребностей человече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3FDC-AFA5-4212-90CB-EDAA7F01AC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Georgia"/>
              </a:rPr>
              <a:t>Исчерпаемые полезные ископаем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cc"/>
                </a:solidFill>
                <a:uFillTx/>
                <a:latin typeface="Georgia"/>
              </a:rPr>
              <a:t>Возобновимые природны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почва, пресные подземные воды, зоны активного водообмена, растительность и животный ми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cc"/>
                </a:solidFill>
                <a:uFillTx/>
                <a:latin typeface="Georgia"/>
              </a:rPr>
              <a:t>Невозобновимые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каменный уголь, нефть, - т.е. ресурсы, которые не возрождаются или восстанавливаются в сотни раз медленнее, чем расходуютс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CD74-BC90-42F6-AD29-52EA2F9D62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387-58CE-4383-89E0-E97E56E3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DA3-B6D4-48C3-8CD5-351AF9D3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445B-85D8-45C0-81D6-7483A4D1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163-12E9-4E16-B7BD-CBDA3748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E83E5-C69D-4B45-92F5-BAC6EEFD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A62E9-6C51-43F8-9815-E99F5E5D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CFDD3-EB17-4E5B-9720-6E6F0B57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3F54B-5F0F-4BDC-A29D-C840D9AB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B42FB-002B-43ED-868C-9FD468DC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030B7-8CC9-4279-B927-BCAF88FC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B32BA-7B2A-4343-8398-2936A2AF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F14-6BA5-4856-A140-47523880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68743-81B6-4713-B792-1E1AE2C5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0AEA6-E488-4CED-931D-0DC60577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94F3E-27A6-4B8F-9389-DFAFAFA4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DBD99-3436-4FC4-A17E-E3F02833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5CCD0-7EE2-4ED1-8060-DD5B9100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AE1-45A9-4B71-BFF9-DDB04697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87B-723B-444D-BBC0-166633EF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1F4-D836-4A50-8F69-F5CD2B74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EDB-5E34-4E7A-BD38-98BD72B9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5DD-961E-4164-B082-8820D94D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775-AD33-495F-947E-14AC2B56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D3B-CCD7-465D-8EB0-C2280813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F3B4-A2A9-4277-B285-E8471AF2B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A842-1129-4428-AFF1-6AE8799A2E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DD%EA%EE%EB%EE%E3%E8%F7%E5%F1%EA%E8%E9_%EA%F0%E8%E7%E8%F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Georgia"/>
              </a:rPr>
              <a:t>Экологические кризисы и экологические катастроф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14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тудентка 41 груп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идоркина Васил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z_"/>
          <p:cNvPicPr/>
          <p:nvPr/>
        </p:nvPicPr>
        <p:blipFill>
          <a:blip r:embed="rId1"/>
          <a:stretch/>
        </p:blipFill>
        <p:spPr>
          <a:xfrm>
            <a:off x="990720" y="1447920"/>
            <a:ext cx="4952880" cy="3711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cc66"/>
                </a:solidFill>
                <a:latin typeface="Georgia"/>
              </a:rPr>
              <a:t>Неисчерпаемые полезные ископаемые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Климатически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атмосферный воздух, энергия ветр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Космически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солнечная радиация и энергия морских приливов и отлив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Вод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воды Мирового океан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l24"/>
          <p:cNvPicPr/>
          <p:nvPr/>
        </p:nvPicPr>
        <p:blipFill>
          <a:blip r:embed="rId1"/>
          <a:stretch/>
        </p:blipFill>
        <p:spPr>
          <a:xfrm>
            <a:off x="2666880" y="388620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99"/>
                </a:solidFill>
                <a:latin typeface="Georgia"/>
              </a:rPr>
              <a:t>Аспекты охраны природ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72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Хозяйственно-экономически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важнейшая сторона охраны природы, т.к. любые продукты, употребляемые людьми, создаются за счет расходования природных ресурс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pic1_1"/>
          <p:cNvPicPr/>
          <p:nvPr/>
        </p:nvPicPr>
        <p:blipFill>
          <a:blip r:embed="rId1"/>
          <a:stretch/>
        </p:blipFill>
        <p:spPr>
          <a:xfrm>
            <a:off x="228600" y="1905120"/>
            <a:ext cx="4038480" cy="3554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Социально-политически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результаты воздействия человека на природу зависят не только от развития технического прогресса и роста населения, но и от социальных условий, в которых они проявляются. Развивающиеся страны служат важным источником сырья для развитых стран, стремящихся размещать в них добывающую промышленность, использ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их минеральное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ельскохозяйствен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ырь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Chelovek-i-priroda"/>
          <p:cNvPicPr/>
          <p:nvPr/>
        </p:nvPicPr>
        <p:blipFill>
          <a:blip r:embed="rId1"/>
          <a:stretch/>
        </p:blipFill>
        <p:spPr>
          <a:xfrm>
            <a:off x="4648320" y="3733920"/>
            <a:ext cx="4238640" cy="28288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3962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Здравоохрани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загрязнение окружающей среды вредными веществами наносит большой ущерб здоровью людей, в связи с этим оздоровительный аспект охраны природы приобретает исключительно важное знач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image053"/>
          <p:cNvPicPr/>
          <p:nvPr/>
        </p:nvPicPr>
        <p:blipFill>
          <a:blip r:embed="rId1"/>
          <a:stretch/>
        </p:blipFill>
        <p:spPr>
          <a:xfrm>
            <a:off x="152280" y="228600"/>
            <a:ext cx="4419720" cy="3162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cture"/>
          <p:cNvPicPr/>
          <p:nvPr/>
        </p:nvPicPr>
        <p:blipFill>
          <a:blip r:embed="rId2"/>
          <a:stretch/>
        </p:blipFill>
        <p:spPr>
          <a:xfrm>
            <a:off x="4724280" y="533520"/>
            <a:ext cx="4241880" cy="3181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Эстетический аспект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природа – источник не только материальных благ, но и удовлетворения эстетических потребностей человека, которые не менее важны первых. Поэтому особое внимание необходимо уделять и охране эстетических ценных мест Земл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nteriery_falls085"/>
          <p:cNvPicPr/>
          <p:nvPr/>
        </p:nvPicPr>
        <p:blipFill>
          <a:blip r:embed="rId1"/>
          <a:stretch/>
        </p:blipFill>
        <p:spPr>
          <a:xfrm>
            <a:off x="3429000" y="300996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4800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Воспита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любовь к природе развивает в человеке положительные черты характера: доброту, бережное отношение, патриотизм и т.д.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skazy5"/>
          <p:cNvPicPr/>
          <p:nvPr/>
        </p:nvPicPr>
        <p:blipFill>
          <a:blip r:embed="rId1"/>
          <a:stretch/>
        </p:blipFill>
        <p:spPr>
          <a:xfrm>
            <a:off x="1828800" y="2286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Научно-познава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связан с необходимостью сохранения для исследований естественных, ненарушенных человеком территорий; изучение природы позволяет выяснять закономерности изменений, вносимых в природу человеческой деятельностью, делать прогнозы этих изменений, разрабатывать практические меры по охране приро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9900"/>
                </a:solidFill>
                <a:latin typeface="Georgia"/>
              </a:rPr>
              <a:t>Принципы и правила охраны природы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Georgia"/>
              </a:rPr>
              <a:t>В</a:t>
            </a:r>
            <a:r>
              <a:rPr b="0" lang="ru-RU" sz="2800" spc="-1" strike="noStrike">
                <a:solidFill>
                  <a:srgbClr val="0099ff"/>
                </a:solidFill>
                <a:latin typeface="Georgia"/>
              </a:rPr>
              <a:t>се природные явления имеют для человека множественное значение и должны оцениваться со всех точек зрени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т.е. к каждому явлению следует подходить с учетом интересов разных отраслей хозяйства и сохранения восстановительных сил самой приро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ff"/>
                </a:solidFill>
                <a:latin typeface="Georgia"/>
              </a:rPr>
              <a:t>При использовании природных ресурсов необходимо руководствоваться правилом региональности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(необходимо учитывать при использовании недр, водных ресурсов, лесов и животного мира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99ff"/>
                </a:solidFill>
                <a:latin typeface="Georgia"/>
              </a:rPr>
              <a:t>охрана одного природного объекта может означать одновременно охрану и других объектов, тесно с ним связанных</a:t>
            </a:r>
            <a:r>
              <a:rPr b="0" lang="ru-RU" sz="2600" spc="-1" strike="noStrike">
                <a:solidFill>
                  <a:srgbClr val="65c8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(напр., охрана водоема от загрязнения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=&gt;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охрана животных, обитающих в нем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water_feature_infinity_pond_lead"/>
          <p:cNvPicPr/>
          <p:nvPr/>
        </p:nvPicPr>
        <p:blipFill>
          <a:blip r:embed="rId1"/>
          <a:stretch/>
        </p:blipFill>
        <p:spPr>
          <a:xfrm>
            <a:off x="2286000" y="152280"/>
            <a:ext cx="453384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Список использованной лит-р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c8ff"/>
                </a:solidFill>
                <a:uFillTx/>
                <a:latin typeface="Georgia"/>
                <a:hlinkClick r:id="rId1"/>
              </a:rPr>
              <a:t>http://ru.wikipedia.org/wiki/%DD%EA%EE%EB%EE%E3%E8%F7%E5%F1%EA%E8%E9_%EA%F0%E8%E7%E8%F1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ru.wikipedia.org/wiki/%D0%AD%D0%BA%D0%BE%D0%BB%D0%BE%D0%B3%D0%B8%D1%87%D0%B5%D1%81%D0%BA%D0%B0%D1%8F_%D0%BA%D0%B0%D1%82%D0%B0%D1%81%D1%82%D1%80%D0%BE%D1%84%D0%B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5c8ff"/>
                </a:solidFill>
                <a:latin typeface="Georgia"/>
              </a:rPr>
              <a:t>В.М. Константинов, Ю.Б. Челидзе уч.пособие «Экологические основы природопользован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724280" y="228600"/>
            <a:ext cx="4267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Экологический кризис –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критическое состояние окружающей среды, угрожающее существованию человека и отражающее несоответствие развития производительных сил и производственных отно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Ekologicheskiy-krizis"/>
          <p:cNvPicPr/>
          <p:nvPr/>
        </p:nvPicPr>
        <p:blipFill>
          <a:blip r:embed="rId1"/>
          <a:stretch/>
        </p:blipFill>
        <p:spPr>
          <a:xfrm>
            <a:off x="228600" y="1143000"/>
            <a:ext cx="4390920" cy="45244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62485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Экологический кризис может бы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глобальным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напряженное состояние взаимоотношений между человечеством и природой, характеризующееся несоответствием развития производительных сил и производственных отношений в человеческом обществе ресурсно-экологическим возможностям биосфер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локальным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Earth2"/>
          <p:cNvPicPr/>
          <p:nvPr/>
        </p:nvPicPr>
        <p:blipFill>
          <a:blip r:embed="rId1"/>
          <a:stretch/>
        </p:blipFill>
        <p:spPr>
          <a:xfrm>
            <a:off x="5867280" y="914400"/>
            <a:ext cx="3124440" cy="28591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99ff"/>
                </a:solidFill>
                <a:latin typeface="Georgia"/>
              </a:rPr>
              <a:t>Виды экологических кризисов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4419360"/>
            <a:ext cx="8991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 присваивающего хозяйства: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собирательства и примитивной охоты (возник в связи с истощением естественных запасов плодов и съедобных растений, с истреблением небольших животных в местах обитания древних людей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kamenniyvek"/>
          <p:cNvPicPr/>
          <p:nvPr/>
        </p:nvPicPr>
        <p:blipFill>
          <a:blip r:embed="rId1"/>
          <a:stretch/>
        </p:blipFill>
        <p:spPr>
          <a:xfrm>
            <a:off x="2209680" y="1143000"/>
            <a:ext cx="4648320" cy="31561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, связанный с перепромыслом крупных зверей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возник в конце ледникового периода, когда стали исчезать крупные животные – шерстистый носорог, пещерный медведь, мамонт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medved"/>
          <p:cNvPicPr/>
          <p:nvPr/>
        </p:nvPicPr>
        <p:blipFill>
          <a:blip r:embed="rId1"/>
          <a:stretch/>
        </p:blipFill>
        <p:spPr>
          <a:xfrm>
            <a:off x="3352680" y="4191120"/>
            <a:ext cx="2590920" cy="246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woollyrb"/>
          <p:cNvPicPr/>
          <p:nvPr/>
        </p:nvPicPr>
        <p:blipFill>
          <a:blip r:embed="rId2"/>
          <a:stretch/>
        </p:blipFill>
        <p:spPr>
          <a:xfrm>
            <a:off x="152280" y="2819520"/>
            <a:ext cx="3124440" cy="20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mage001"/>
          <p:cNvPicPr/>
          <p:nvPr/>
        </p:nvPicPr>
        <p:blipFill>
          <a:blip r:embed="rId3"/>
          <a:stretch/>
        </p:blipFill>
        <p:spPr>
          <a:xfrm>
            <a:off x="6019920" y="2438280"/>
            <a:ext cx="2904840" cy="36766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3962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, возникший в местах древнего орошаемого земледели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возник из-за полного сведения лесов, чрезмерной нагрузки животноводства и примитивного земледелия на почвы, вызвавшие их ускоренную эрозию и засол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virubka_lesa"/>
          <p:cNvPicPr/>
          <p:nvPr/>
        </p:nvPicPr>
        <p:blipFill>
          <a:blip r:embed="rId1"/>
          <a:stretch/>
        </p:blipFill>
        <p:spPr>
          <a:xfrm>
            <a:off x="1828800" y="152280"/>
            <a:ext cx="5486400" cy="36547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9966"/>
                </a:solidFill>
                <a:latin typeface="Georgia"/>
              </a:rPr>
              <a:t>Экологическая катастрофа -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необратимое изменение природных комплексов, связанное с массовой гибелью живых организмов. (Чернобыльская катастрофа, авария на АЭС Фукусима, взрыв нефтяной платформы в Мексиканском залив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151702"/>
          <p:cNvPicPr/>
          <p:nvPr/>
        </p:nvPicPr>
        <p:blipFill>
          <a:blip r:embed="rId1"/>
          <a:stretch/>
        </p:blipFill>
        <p:spPr>
          <a:xfrm>
            <a:off x="2057400" y="2895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ccc"/>
                </a:solidFill>
                <a:latin typeface="Georgia"/>
              </a:rPr>
              <a:t>Природные ресурсы -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омпоненты и свойства природной среды, которые используются или могут быть использованы для удовлетворения разнообразных физических и духовных потребностей человеческого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ugl (1)"/>
          <p:cNvPicPr/>
          <p:nvPr/>
        </p:nvPicPr>
        <p:blipFill>
          <a:blip r:embed="rId1"/>
          <a:stretch/>
        </p:blipFill>
        <p:spPr>
          <a:xfrm>
            <a:off x="457200" y="3581280"/>
            <a:ext cx="3657600" cy="299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5069"/>
          <p:cNvPicPr/>
          <p:nvPr/>
        </p:nvPicPr>
        <p:blipFill>
          <a:blip r:embed="rId2"/>
          <a:stretch/>
        </p:blipFill>
        <p:spPr>
          <a:xfrm>
            <a:off x="4495680" y="3581280"/>
            <a:ext cx="4496040" cy="29671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5050"/>
                </a:solidFill>
                <a:latin typeface="Georgia"/>
              </a:rPr>
              <a:t>Исчерпаемые полезные ископаемые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cc"/>
                </a:solidFill>
                <a:uFillTx/>
                <a:latin typeface="Georgia"/>
              </a:rPr>
              <a:t>Возобновимые природ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почва, пресные подземные воды, зоны активного водообмена, растительность и животный мир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cc"/>
                </a:solidFill>
                <a:uFillTx/>
                <a:latin typeface="Georgia"/>
              </a:rPr>
              <a:t>Невозобновимые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каменный уголь, нефть, - т.е. ресурсы, которые не возрождаются или восстанавливаются в сотни раз медленнее, чем расходуютс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9:0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