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BFBC-BC2A-49D3-BBE7-3D1C33995C0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Georgia"/>
              </a:rPr>
              <a:t>Экологические кризисы и экологические катастроф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тудентка 41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идоркина Васил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AB98-5BBD-428F-81F5-7194BE8EFF1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Georgia"/>
              </a:rPr>
              <a:t>Неисчерпаемые полезные ископаем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</a:rPr>
              <a:t>Климатически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атмосферный воздух, энергия вет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</a:rPr>
              <a:t>Космически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солнечная радиация и энергия морских приливов и отлив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</a:rPr>
              <a:t>Водны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воды Мирового океан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3865-04F9-445D-83DA-154A902A20F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99"/>
                </a:solidFill>
                <a:latin typeface="Georgia"/>
              </a:rPr>
              <a:t>Аспекты охраны приро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Хозяйственно-экономически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важнейшая сторона охраны природы, т.к. любые продукты, употребляемые людьми, создаются за счет расходования природных ресурс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88DF-A9EA-4662-9526-E0339EA1236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Социально-политически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результаты воздействия человека на природу зависят не только от развития технического прогресса и роста населения, но и от социальных условий, в которых они проявляются. Развивающиеся страны служат важным источником сырья для развитых стран, стремящихся размещать в них добывающую промышленность, использ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их минерально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ельскохозяйствен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ырь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F1CA-A665-4E17-AF80-48827038136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Здравоохранительны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загрязнение окружающей среды вредными веществами наносит большой ущерб здоровью людей, в связи с этим оздоровительный аспект охраны природы приобретает исключительно важное знач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1BAA-B114-47CB-ABFE-26110148782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Эстетический аспект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природа – источник не только материальных благ, но и удовлетворения эстетических потребностей человека, которые не менее важны первых. Поэтому особое внимание необходимо уделять и охране эстетических ценных мест Зем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119A-FF1C-431C-896F-11934E68E1B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Воспитательны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любовь к природе развивает в человеке положительные черты характера: доброту, бережное отношение, патриотизм и т.д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2091-C3C7-4428-BDF4-A2DFD6A85CE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Научно-познавательны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связан с необходимостью сохранения для исследований естественных, ненарушенных человеком территорий; изучение природы позволяет выяснять закономерности изменений, вносимых в природу человеческой деятельностью, делать прогнозы этих изменений, разрабатывать практические меры по охране приро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60C1-B7F2-43A3-818C-AAB6557972E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Georgia"/>
              </a:rPr>
              <a:t>Принципы и правила охраны приро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99ff"/>
                </a:solidFill>
                <a:latin typeface="Georgia"/>
              </a:rPr>
              <a:t>В</a:t>
            </a:r>
            <a:r>
              <a:rPr b="0" lang="ru-RU" sz="1200" spc="-1" strike="noStrike">
                <a:solidFill>
                  <a:srgbClr val="0099ff"/>
                </a:solidFill>
                <a:latin typeface="Georgia"/>
              </a:rPr>
              <a:t>се природные явления имеют для человека множественное значение и должны оцениваться со всех точек зрения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т.е. к каждому явлению следует подходить с учетом интересов разных отраслей хозяйства и сохранения восстановительных сил самой приро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F568-6CB6-4699-A7EE-66F6F9F9B09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ff"/>
                </a:solidFill>
                <a:latin typeface="Georgia"/>
              </a:rPr>
              <a:t>При использовании природных ресурсов необходимо руководствоваться правилом региональности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необходимо учитывать при использовании недр, водных ресурсов, лесов и животного ми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99ff"/>
                </a:solidFill>
                <a:latin typeface="Georgia"/>
              </a:rPr>
              <a:t>охрана одного природного объекта может означать одновременно охрану и других объектов, тесно с ним связанных</a:t>
            </a:r>
            <a:r>
              <a:rPr b="0" lang="ru-RU" sz="1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напр., охрана водоема от загрязнения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=&gt;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охрана животных, обитающих в не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CBF4-82B7-49A0-B0A6-71CF7544518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писок использованной лит-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http://ru.wikipedia.org/wiki/%DD%EA%EE%EB%EE%E3%E8%F7%E5%F1%EA%E8%E9_%EA%F0%E8%E7%E8%F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http://ru.wikipedia.org/wiki/%D0%AD%D0%BA%D0%BE%D0%BB%D0%BE%D0%B3%D0%B8%D1%87%D0%B5%D1%81%D0%BA%D0%B0%D1%8F_%D0%BA%D0%B0%D1%82%D0%B0%D1%81%D1%82%D1%80%D0%BE%D1%84%D0%B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Georgia"/>
              </a:rPr>
              <a:t>В.М. Константинов, Ю.Б. Челидзе уч.пособие «Экологические основы природопользов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AB10-1F81-429F-A210-B7171189C45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ff00ff"/>
                </a:solidFill>
                <a:latin typeface="Georgia"/>
              </a:rPr>
              <a:t>Экологический кризис –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критическое состояние окружающей среды, угрожающее существованию человека и отражающее несоответствие развития производительных сил и производ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C5F0-9112-4006-B8B1-836DDF4ED17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Экологический кризис може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ff00ff"/>
                </a:solidFill>
                <a:latin typeface="Georgia"/>
              </a:rPr>
              <a:t>глобальным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напряженное состояние взаимоотношений между человечеством и природой, характеризующееся несоответствием развития производительных сил и производственных отношений в человеческом обществе ресурсно-экологическим возможностям биосфер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ff00ff"/>
                </a:solidFill>
                <a:latin typeface="Georgia"/>
              </a:rPr>
              <a:t>локальным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73B6-80F8-4EE8-9394-B7DEA89F0E7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Georgia"/>
              </a:rPr>
              <a:t>Виды экологических кризис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Georgia"/>
              </a:rPr>
              <a:t>Кризис присваивающего хозяйства: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собирательства и примитивной охоты (возник в связи с истощением естественных запасов плодов и съедобных растений, с истреблением небольших животных в местах обитания древних люд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514C-A34E-4F53-8F35-A7C4E46ECF5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Georgia"/>
              </a:rPr>
              <a:t>Кризис, связанный с перепромыслом крупных зверей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возник в конце ледникового периода, когда стали исчезать крупные животные – шерстистый носорог, пещерный медведь, мамон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4BCF-7206-486E-B00E-9D382D9A3DF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Georgia"/>
              </a:rPr>
              <a:t>Кризис, возникший в местах древнего орошаемого земледелия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возник из-за полного сведения лесов, чрезмерной нагрузки животноводства и примитивного земледелия на почвы, вызвавшие их ускоренную эрозию и засол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1C41-A01A-490A-9B27-657DCCB25CB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66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ff9966"/>
                </a:solidFill>
                <a:latin typeface="Georgia"/>
              </a:rPr>
              <a:t>Экологическая катастрофа -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необратимое изменение природных комплексов, связанное с массовой гибелью живых организмов. (Чернобыльская катастрофа, авария на АЭС Фукусима, взрыв нефтяной платформы в Мексиканском залив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A1C5-ABD9-44A8-A400-586602523D6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cc"/>
                </a:solidFill>
                <a:latin typeface="Georgia"/>
              </a:rPr>
              <a:t>Природные ресурсы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компоненты и свойства природной среды, которые используются или могут быть использованы для удовлетворения разнообразных физических и духовных потребностей человеческ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E077-9FC6-4CBE-B4F4-63FCCF0D884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Georgia"/>
              </a:rPr>
              <a:t>Исчерпаемые полезные ископаем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cc"/>
                </a:solidFill>
                <a:uFillTx/>
                <a:latin typeface="Georgia"/>
              </a:rPr>
              <a:t>Возобновимые природны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почва, пресные подземные воды, зоны активного водообмена, растительность и животный ми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cc"/>
                </a:solidFill>
                <a:uFillTx/>
                <a:latin typeface="Georgia"/>
              </a:rPr>
              <a:t>Невозобновимые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каменный уголь, нефть, - т.е. ресурсы, которые не возрождаются или восстанавливаются в сотни раз медленнее, чем расходуютс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29D6-34E5-4B3D-AAD9-6805D98C7DC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0855-6859-4962-9B15-2E92319C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CA3-A5FF-48BE-9F25-C7892632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F1D-C41E-4BA8-B7F3-7AD700BA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545-2F78-49FD-B625-1A604D47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8ADA1-BB8A-447A-A839-B7D5DC0D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B6261-D2BC-4CD9-B1C2-FC26DE8D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A0D41-F682-427F-ADBC-EBD07472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C6B68-991D-4C5D-88A4-CDEAD954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88C76-DC9A-421C-9D0E-60BD4D0F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53551-4FF8-4870-84EA-F16D7787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B8D3A-101A-42A5-84FF-B122BA69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0CD-DAEC-409F-829C-C8E427DF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83AEF-30C7-4A06-BD6C-93BF46B0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2BE22-482B-47AA-A280-1EE98B37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CC833-C797-49A9-9F56-703E5886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2F6D5-159F-459E-9406-1649CD90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2F5EF-4819-4383-9054-8001A1DF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5C6-27AE-4FA1-BC42-8970A605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B7D-6C78-4868-9B7B-63714178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7496-BB04-4BD1-A7DB-442D8B9A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620-B372-4CCF-BDC2-E9B06626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625-248C-45A8-8B20-655FC28E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3BC4-16BA-4E29-A663-9B290DFA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C3D-6A87-4565-83DD-78415567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22D7-C739-4B98-93FF-99629DFDDC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E4FB-44D8-4F29-AC10-F690D0085D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DD%EA%EE%EB%EE%E3%E8%F7%E5%F1%EA%E8%E9_%EA%F0%E8%E7%E8%F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Georgia"/>
              </a:rPr>
              <a:t>Экологические кризисы и экологические катастроф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14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одготови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тудентка 41 груп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идоркина Васили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z_"/>
          <p:cNvPicPr/>
          <p:nvPr/>
        </p:nvPicPr>
        <p:blipFill>
          <a:blip r:embed="rId1"/>
          <a:stretch/>
        </p:blipFill>
        <p:spPr>
          <a:xfrm>
            <a:off x="990720" y="1447920"/>
            <a:ext cx="4952880" cy="3711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cc66"/>
                </a:solidFill>
                <a:latin typeface="Georgia"/>
              </a:rPr>
              <a:t>Неисчерпаемые полезные ископаемые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</a:rPr>
              <a:t>Климатически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атмосферный воздух, энергия ветр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</a:rPr>
              <a:t>Космически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солнечная радиация и энергия морских приливов и отливо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</a:rPr>
              <a:t>Водны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воды Мирового океан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l24"/>
          <p:cNvPicPr/>
          <p:nvPr/>
        </p:nvPicPr>
        <p:blipFill>
          <a:blip r:embed="rId1"/>
          <a:stretch/>
        </p:blipFill>
        <p:spPr>
          <a:xfrm>
            <a:off x="2666880" y="3886200"/>
            <a:ext cx="4191120" cy="27957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99"/>
                </a:solidFill>
                <a:latin typeface="Georgia"/>
              </a:rPr>
              <a:t>Аспекты охраны природ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724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Хозяйственно-экономически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важнейшая сторона охраны природы, т.к. любые продукты, употребляемые людьми, создаются за счет расходования природных ресурсо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pic1_1"/>
          <p:cNvPicPr/>
          <p:nvPr/>
        </p:nvPicPr>
        <p:blipFill>
          <a:blip r:embed="rId1"/>
          <a:stretch/>
        </p:blipFill>
        <p:spPr>
          <a:xfrm>
            <a:off x="228600" y="1905120"/>
            <a:ext cx="4038480" cy="3554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Социально-политически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результаты воздействия человека на природу зависят не только от развития технического прогресса и роста населения, но и от социальных условий, в которых они проявляются. Развивающиеся страны служат важным источником сырья для развитых стран, стремящихся размещать в них добывающую промышленность, использов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их минеральное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ельскохозяйствен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ырь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Chelovek-i-priroda"/>
          <p:cNvPicPr/>
          <p:nvPr/>
        </p:nvPicPr>
        <p:blipFill>
          <a:blip r:embed="rId1"/>
          <a:stretch/>
        </p:blipFill>
        <p:spPr>
          <a:xfrm>
            <a:off x="4648320" y="3733920"/>
            <a:ext cx="4238640" cy="28288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39625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Здравоохранительны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загрязнение окружающей среды вредными веществами наносит большой ущерб здоровью людей, в связи с этим оздоровительный аспект охраны природы приобретает исключительно важное значени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image053"/>
          <p:cNvPicPr/>
          <p:nvPr/>
        </p:nvPicPr>
        <p:blipFill>
          <a:blip r:embed="rId1"/>
          <a:stretch/>
        </p:blipFill>
        <p:spPr>
          <a:xfrm>
            <a:off x="152280" y="228600"/>
            <a:ext cx="4419720" cy="3162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icture"/>
          <p:cNvPicPr/>
          <p:nvPr/>
        </p:nvPicPr>
        <p:blipFill>
          <a:blip r:embed="rId2"/>
          <a:stretch/>
        </p:blipFill>
        <p:spPr>
          <a:xfrm>
            <a:off x="4724280" y="533520"/>
            <a:ext cx="4241880" cy="3181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Эстетический аспект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природа – источник не только материальных благ, но и удовлетворения эстетических потребностей человека, которые не менее важны первых. Поэтому особое внимание необходимо уделять и охране эстетических ценных мест Земл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nteriery_falls085"/>
          <p:cNvPicPr/>
          <p:nvPr/>
        </p:nvPicPr>
        <p:blipFill>
          <a:blip r:embed="rId1"/>
          <a:stretch/>
        </p:blipFill>
        <p:spPr>
          <a:xfrm>
            <a:off x="3429000" y="300996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4800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Воспитательны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любовь к природе развивает в человеке положительные черты характера: доброту, бережное отношение, патриотизм и т.д.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skazy5"/>
          <p:cNvPicPr/>
          <p:nvPr/>
        </p:nvPicPr>
        <p:blipFill>
          <a:blip r:embed="rId1"/>
          <a:stretch/>
        </p:blipFill>
        <p:spPr>
          <a:xfrm>
            <a:off x="1828800" y="2286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Научно-познавательны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связан с необходимостью сохранения для исследований естественных, ненарушенных человеком территорий; изучение природы позволяет выяснять закономерности изменений, вносимых в природу человеческой деятельностью, делать прогнозы этих изменений, разрабатывать практические меры по охране природ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9900"/>
                </a:solidFill>
                <a:latin typeface="Georgia"/>
              </a:rPr>
              <a:t>Принципы и правила охраны природы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Georgia"/>
              </a:rPr>
              <a:t>В</a:t>
            </a:r>
            <a:r>
              <a:rPr b="0" lang="ru-RU" sz="2800" spc="-1" strike="noStrike">
                <a:solidFill>
                  <a:srgbClr val="0099ff"/>
                </a:solidFill>
                <a:latin typeface="Georgia"/>
              </a:rPr>
              <a:t>се природные явления имеют для человека множественное значение и должны оцениваться со всех точек зрения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т.е. к каждому явлению следует подходить с учетом интересов разных отраслей хозяйства и сохранения восстановительных сил самой природ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36576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9ff"/>
                </a:solidFill>
                <a:latin typeface="Georgia"/>
              </a:rPr>
              <a:t>При использовании природных ресурсов необходимо руководствоваться правилом региональности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(необходимо учитывать при использовании недр, водных ресурсов, лесов и животного мира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99ff"/>
                </a:solidFill>
                <a:latin typeface="Georgia"/>
              </a:rPr>
              <a:t>охрана одного природного объекта может означать одновременно охрану и других объектов, тесно с ним связанных</a:t>
            </a:r>
            <a:r>
              <a:rPr b="0" lang="ru-RU" sz="2600" spc="-1" strike="noStrike">
                <a:solidFill>
                  <a:srgbClr val="65c8ff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(напр., охрана водоема от загрязнения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=&gt;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охрана животных, обитающих в нем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water_feature_infinity_pond_lead"/>
          <p:cNvPicPr/>
          <p:nvPr/>
        </p:nvPicPr>
        <p:blipFill>
          <a:blip r:embed="rId1"/>
          <a:stretch/>
        </p:blipFill>
        <p:spPr>
          <a:xfrm>
            <a:off x="2286000" y="152280"/>
            <a:ext cx="4533840" cy="34005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Список использованной лит-р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c8ff"/>
                </a:solidFill>
                <a:uFillTx/>
                <a:latin typeface="Georgia"/>
                <a:hlinkClick r:id="rId1"/>
              </a:rPr>
              <a:t>http://ru.wikipedia.org/wiki/%DD%EA%EE%EB%EE%E3%E8%F7%E5%F1%EA%E8%E9_%EA%F0%E8%E7%E8%F1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http://ru.wikipedia.org/wiki/%D0%AD%D0%BA%D0%BE%D0%BB%D0%BE%D0%B3%D0%B8%D1%87%D0%B5%D1%81%D0%BA%D0%B0%D1%8F_%D0%BA%D0%B0%D1%82%D0%B0%D1%81%D1%82%D1%80%D0%BE%D1%84%D0%B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5c8ff"/>
                </a:solidFill>
                <a:latin typeface="Georgia"/>
              </a:rPr>
              <a:t>В.М. Константинов, Ю.Б. Челидзе уч.пособие «Экологические основы природопользовани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724280" y="228600"/>
            <a:ext cx="4267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00ff"/>
                </a:solidFill>
                <a:latin typeface="Georgia"/>
              </a:rPr>
              <a:t>Экологический кризис –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критическое состояние окружающей среды, угрожающее существованию человека и отражающее несоответствие развития производительных сил и производственных отнош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Ekologicheskiy-krizis"/>
          <p:cNvPicPr/>
          <p:nvPr/>
        </p:nvPicPr>
        <p:blipFill>
          <a:blip r:embed="rId1"/>
          <a:stretch/>
        </p:blipFill>
        <p:spPr>
          <a:xfrm>
            <a:off x="228600" y="1143000"/>
            <a:ext cx="4390920" cy="45244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62485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Экологический кризис может бы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Georgia"/>
              </a:rPr>
              <a:t>глобальным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напряженное состояние взаимоотношений между человечеством и природой, характеризующееся несоответствием развития производительных сил и производственных отношений в человеческом обществе ресурсно-экологическим возможностям биосфер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Georgia"/>
              </a:rPr>
              <a:t>локальным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Earth2"/>
          <p:cNvPicPr/>
          <p:nvPr/>
        </p:nvPicPr>
        <p:blipFill>
          <a:blip r:embed="rId1"/>
          <a:stretch/>
        </p:blipFill>
        <p:spPr>
          <a:xfrm>
            <a:off x="5867280" y="914400"/>
            <a:ext cx="3124440" cy="28591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99ff"/>
                </a:solidFill>
                <a:latin typeface="Georgia"/>
              </a:rPr>
              <a:t>Виды экологических кризисов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4419360"/>
            <a:ext cx="8991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Georgia"/>
              </a:rPr>
              <a:t>Кризис присваивающего хозяйства: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собирательства и примитивной охоты (возник в связи с истощением естественных запасов плодов и съедобных растений, с истреблением небольших животных в местах обитания древних людей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kamenniyvek"/>
          <p:cNvPicPr/>
          <p:nvPr/>
        </p:nvPicPr>
        <p:blipFill>
          <a:blip r:embed="rId1"/>
          <a:stretch/>
        </p:blipFill>
        <p:spPr>
          <a:xfrm>
            <a:off x="2209680" y="1143000"/>
            <a:ext cx="4648320" cy="31561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Georgia"/>
              </a:rPr>
              <a:t>Кризис, связанный с перепромыслом крупных зверей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возник в конце ледникового периода, когда стали исчезать крупные животные – шерстистый носорог, пещерный медведь, мамонт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medved"/>
          <p:cNvPicPr/>
          <p:nvPr/>
        </p:nvPicPr>
        <p:blipFill>
          <a:blip r:embed="rId1"/>
          <a:stretch/>
        </p:blipFill>
        <p:spPr>
          <a:xfrm>
            <a:off x="3352680" y="4191120"/>
            <a:ext cx="2590920" cy="2460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woollyrb"/>
          <p:cNvPicPr/>
          <p:nvPr/>
        </p:nvPicPr>
        <p:blipFill>
          <a:blip r:embed="rId2"/>
          <a:stretch/>
        </p:blipFill>
        <p:spPr>
          <a:xfrm>
            <a:off x="152280" y="2819520"/>
            <a:ext cx="3124440" cy="203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mage001"/>
          <p:cNvPicPr/>
          <p:nvPr/>
        </p:nvPicPr>
        <p:blipFill>
          <a:blip r:embed="rId3"/>
          <a:stretch/>
        </p:blipFill>
        <p:spPr>
          <a:xfrm>
            <a:off x="6019920" y="2438280"/>
            <a:ext cx="2904840" cy="36766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39625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Georgia"/>
              </a:rPr>
              <a:t>Кризис, возникший в местах древнего орошаемого земледелия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возник из-за полного сведения лесов, чрезмерной нагрузки животноводства и примитивного земледелия на почвы, вызвавшие их ускоренную эрозию и засолени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virubka_lesa"/>
          <p:cNvPicPr/>
          <p:nvPr/>
        </p:nvPicPr>
        <p:blipFill>
          <a:blip r:embed="rId1"/>
          <a:stretch/>
        </p:blipFill>
        <p:spPr>
          <a:xfrm>
            <a:off x="1828800" y="152280"/>
            <a:ext cx="5486400" cy="36547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9966"/>
                </a:solidFill>
                <a:latin typeface="Georgia"/>
              </a:rPr>
              <a:t>Экологическая катастрофа -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необратимое изменение природных комплексов, связанное с массовой гибелью живых организмов. (Чернобыльская катастрофа, авария на АЭС Фукусима, взрыв нефтяной платформы в Мексиканском залив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151702"/>
          <p:cNvPicPr/>
          <p:nvPr/>
        </p:nvPicPr>
        <p:blipFill>
          <a:blip r:embed="rId1"/>
          <a:stretch/>
        </p:blipFill>
        <p:spPr>
          <a:xfrm>
            <a:off x="2057400" y="28954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ccc"/>
                </a:solidFill>
                <a:latin typeface="Georgia"/>
              </a:rPr>
              <a:t>Природные ресурсы -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омпоненты и свойства природной среды, которые используются или могут быть использованы для удовлетворения разнообразных физических и духовных потребностей человеческого об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ugl (1)"/>
          <p:cNvPicPr/>
          <p:nvPr/>
        </p:nvPicPr>
        <p:blipFill>
          <a:blip r:embed="rId1"/>
          <a:stretch/>
        </p:blipFill>
        <p:spPr>
          <a:xfrm>
            <a:off x="457200" y="3581280"/>
            <a:ext cx="3657600" cy="2990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5069"/>
          <p:cNvPicPr/>
          <p:nvPr/>
        </p:nvPicPr>
        <p:blipFill>
          <a:blip r:embed="rId2"/>
          <a:stretch/>
        </p:blipFill>
        <p:spPr>
          <a:xfrm>
            <a:off x="4495680" y="3581280"/>
            <a:ext cx="4496040" cy="29671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5050"/>
                </a:solidFill>
                <a:latin typeface="Georgia"/>
              </a:rPr>
              <a:t>Исчерпаемые полезные ископаемые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cc"/>
                </a:solidFill>
                <a:uFillTx/>
                <a:latin typeface="Georgia"/>
              </a:rPr>
              <a:t>Возобновимые природны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почва, пресные подземные воды, зоны активного водообмена, растительность и животный мир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cc"/>
                </a:solidFill>
                <a:uFillTx/>
                <a:latin typeface="Georgia"/>
              </a:rPr>
              <a:t>Невозобновимые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каменный уголь, нефть, - т.е. ресурсы, которые не возрождаются или восстанавливаются в сотни раз медленнее, чем расходуютс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9:0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