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AF8-4653-4C08-B62E-BBE81A79A4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тудентка 41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идоркина Васил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95C4-176C-46EC-B5B4-1B73DBF860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Georgia"/>
              </a:rPr>
              <a:t>Не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атмосферный воздух, энергия вет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ды Мирового оке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478F-C8D6-4063-BA26-24DAE45458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17A2-4865-4DE3-81C0-25E909D354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минерально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ельскохозяйствен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сырь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3860-8291-4D2F-85FD-0FBC25B66E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381D-B0C7-42CD-AEED-C7BE402FCB8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BDB4-32DB-48C3-8625-E0C553C49F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A34B-C0B9-46AB-BF18-A5C54437F77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267-F0FC-4DEF-B36B-D2A5960A2B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E44-7C89-4E86-8C63-900058C1DD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напр., охрана водоема от загрязнения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=&gt;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охрана животных, обитающих в н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AA8F-169B-44A9-AA57-121A54B96FA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исок использованной лит-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D%EA%EE%EB%EE%E3%E8%F7%E5%F1%EA%E8%E9_%EA%F0%E8%E7%E8%F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EC72-DC1D-4CE3-96E4-E0723A3B1C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C2D-47A4-4894-A60C-7DEE51F40EF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Экологический кризис може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2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E0D5-DE26-4EEF-AED1-68C662BD2FF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C91B-9230-468A-9B35-F573F47CE5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EAA-B206-4930-BF23-9F8E8E9FC2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C1D-B798-490A-BBD0-DAD9DFFF3D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561F-7ADF-479D-87CC-7F3127B9A2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AC2D-1468-4D44-AC6C-D8E87BD5EA0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561-2190-4AF9-AC4B-C824BDF115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F08-6447-4014-BAFB-7B0CB28E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9EA-F678-4CC7-8984-386209E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D9B-8360-4234-B91F-87060C21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AC35-DB29-4740-BA69-0A1B6008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1E42-52C1-479C-84FC-AD4401F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0BF0-C40A-4C28-B8CF-EEE8E263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16A60-8989-4CCB-85D3-9597D7DA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F7012-EAC0-4E3F-9F0B-1C0AA34A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72FC0-319F-4FCB-A5C7-593667F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C2C05-59C4-4CC0-8385-37B56E03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8F164-D2EB-4205-9759-EDE45D8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F9A-DBF4-4E35-8586-9E753F4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4A35-D650-43C4-BC53-6F8B1FD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47164-A207-4BDD-85EA-E9DC36A5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A9E82-71E6-474E-AC3A-D0ECDC0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C06A0-9381-461D-B94D-73BF4681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7480-F350-4582-BE51-E2CB5A25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5F49-D0EE-48A5-BE2D-BBF27083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159-F40C-4A93-B455-C63F120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A06-7DF6-4ACC-8DB4-35CC6A5E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BC1-B731-4E4E-90A3-DF4E3B0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476-CE02-4ABE-8820-BBA30DDB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E4AE-0900-4556-AD54-E6C1387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E55-9BC8-4FD0-B209-79CBC5E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0C88-A3F8-4373-BDFE-71E341E77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0E2-7B69-4340-8416-6152464B46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%DD%EA%EE%EB%EE%E3%E8%F7%E5%F1%EA%E8%E9_%EA%F0%E8%E7%E8%F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Georgia"/>
              </a:rPr>
              <a:t>Экологические кризисы и экологические катастроф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тудентка 41 групп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идоркина Васили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z_"/>
          <p:cNvPicPr/>
          <p:nvPr/>
        </p:nvPicPr>
        <p:blipFill>
          <a:blip r:embed="rId1"/>
          <a:stretch/>
        </p:blipFill>
        <p:spPr>
          <a:xfrm>
            <a:off x="990720" y="1447920"/>
            <a:ext cx="4952880" cy="3711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cc66"/>
                </a:solidFill>
                <a:latin typeface="Georgia"/>
              </a:rPr>
              <a:t>Не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лимат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атмосферный воздух, энергия ветр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Космически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солнечная радиация и энергия морских приливов и отлив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Georgia"/>
              </a:rPr>
              <a:t>В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ды Мирового океана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l24"/>
          <p:cNvPicPr/>
          <p:nvPr/>
        </p:nvPicPr>
        <p:blipFill>
          <a:blip r:embed="rId1"/>
          <a:stretch/>
        </p:blipFill>
        <p:spPr>
          <a:xfrm>
            <a:off x="2666880" y="3886200"/>
            <a:ext cx="4191120" cy="2795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99"/>
                </a:solidFill>
                <a:latin typeface="Georgia"/>
              </a:rPr>
              <a:t>Аспекты охраны природ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Хозяйственно-эконом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ажнейшая сторона охраны природы, т.к. любые продукты, употребляемые людьми, создаются за счет расходования природных ресурсов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4" descr="pic1_1"/>
          <p:cNvPicPr/>
          <p:nvPr/>
        </p:nvPicPr>
        <p:blipFill>
          <a:blip r:embed="rId1"/>
          <a:stretch/>
        </p:blipFill>
        <p:spPr>
          <a:xfrm>
            <a:off x="228600" y="1905120"/>
            <a:ext cx="4038480" cy="3554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Социально-политически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результаты воздействия человека на природу зависят не только от развития технического прогресса и роста населения, но и от социальных условий, в которых они проявляются. Развивающиеся страны служат важным источником сырья для развитых стран, стремящихся размещать в них добывающую промышленность, использ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их минеральное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ельскохозяйств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сырь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helovek-i-priroda"/>
          <p:cNvPicPr/>
          <p:nvPr/>
        </p:nvPicPr>
        <p:blipFill>
          <a:blip r:embed="rId1"/>
          <a:stretch/>
        </p:blipFill>
        <p:spPr>
          <a:xfrm>
            <a:off x="4648320" y="3733920"/>
            <a:ext cx="4238640" cy="28288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Здравоохрани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загрязнение окружающей среды вредными веществами наносит большой ущерб здоровью людей, в связи с этим оздоровительный аспект охраны природы приобретает исключительно важное знач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image053"/>
          <p:cNvPicPr/>
          <p:nvPr/>
        </p:nvPicPr>
        <p:blipFill>
          <a:blip r:embed="rId1"/>
          <a:stretch/>
        </p:blipFill>
        <p:spPr>
          <a:xfrm>
            <a:off x="152280" y="228600"/>
            <a:ext cx="4419720" cy="3162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icture"/>
          <p:cNvPicPr/>
          <p:nvPr/>
        </p:nvPicPr>
        <p:blipFill>
          <a:blip r:embed="rId2"/>
          <a:stretch/>
        </p:blipFill>
        <p:spPr>
          <a:xfrm>
            <a:off x="4724280" y="533520"/>
            <a:ext cx="4241880" cy="3181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Эстетический аспект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рирода – источник не только материальных благ, но и удовлетворения эстетических потребностей человека, которые не менее важны первых. Поэтому особое внимание необходимо уделять и охране эстетических ценных мест Земли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nteriery_falls085"/>
          <p:cNvPicPr/>
          <p:nvPr/>
        </p:nvPicPr>
        <p:blipFill>
          <a:blip r:embed="rId1"/>
          <a:stretch/>
        </p:blipFill>
        <p:spPr>
          <a:xfrm>
            <a:off x="3429000" y="300996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4800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Воспит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любовь к природе развивает в человеке положительные черты характера: доброту, бережное отношение, патриотизм и т.д.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skazy5"/>
          <p:cNvPicPr/>
          <p:nvPr/>
        </p:nvPicPr>
        <p:blipFill>
          <a:blip r:embed="rId1"/>
          <a:stretch/>
        </p:blipFill>
        <p:spPr>
          <a:xfrm>
            <a:off x="182880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Georgia"/>
              </a:rPr>
              <a:t>Научно-познавательный аспект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связан с необходимостью сохранения для исследований естественных, ненарушенных человеком территорий; изучение природы позволяет выяснять закономерности изменений, вносимых в природу человеческой деятельностью, делать прогнозы этих изменений, разрабатывать практические меры по охране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Georgia"/>
              </a:rPr>
              <a:t>Принципы и правила охраны природы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ff"/>
                </a:solidFill>
                <a:latin typeface="Georgia"/>
              </a:rPr>
              <a:t>В</a:t>
            </a:r>
            <a:r>
              <a:rPr b="0" lang="ru-RU" sz="2800" spc="-1" strike="noStrike">
                <a:solidFill>
                  <a:srgbClr val="0099ff"/>
                </a:solidFill>
                <a:latin typeface="Georgia"/>
              </a:rPr>
              <a:t>се природные явления имеют для человека множественное значение и должны оцениваться со всех точек зрен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т.е. к каждому явлению следует подходить с учетом интересов разных отраслей хозяйства и сохранения восстановительных сил самой природ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При использовании природных ресурсов необходимо руководствоваться правилом региональности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(необходимо учитывать при использовании недр, водных ресурсов, лесов и животного мира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99ff"/>
                </a:solidFill>
                <a:latin typeface="Georgia"/>
              </a:rPr>
              <a:t>охрана одного природного объекта может означать одновременно охрану и других объектов, тесно с ним связанных</a:t>
            </a:r>
            <a:r>
              <a:rPr b="0" lang="ru-RU" sz="2600" spc="-1" strike="noStrike">
                <a:solidFill>
                  <a:srgbClr val="65c8ff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(напр., охрана водоема от загрязнения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=&gt;</a:t>
            </a:r>
            <a:r>
              <a:rPr b="0" lang="ru-RU" sz="2600" spc="-1" strike="noStrike">
                <a:solidFill>
                  <a:srgbClr val="ffffff"/>
                </a:solidFill>
                <a:latin typeface="Georgia"/>
              </a:rPr>
              <a:t> охрана животных, обитающих в нем)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water_feature_infinity_pond_lead"/>
          <p:cNvPicPr/>
          <p:nvPr/>
        </p:nvPicPr>
        <p:blipFill>
          <a:blip r:embed="rId1"/>
          <a:stretch/>
        </p:blipFill>
        <p:spPr>
          <a:xfrm>
            <a:off x="2286000" y="152280"/>
            <a:ext cx="4533840" cy="340056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eorgia"/>
              </a:rPr>
              <a:t>Список использованной лит-ры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c8ff"/>
                </a:solidFill>
                <a:uFillTx/>
                <a:latin typeface="Georgia"/>
                <a:hlinkClick r:id="rId1"/>
              </a:rPr>
              <a:t>http://ru.wikipedia.org/wiki/%DD%EA%EE%EB%EE%E3%E8%F7%E5%F1%EA%E8%E9_%EA%F0%E8%E7%E8%F1</a:t>
            </a: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eorgia"/>
              </a:rPr>
              <a:t>http://ru.wikipedia.org/wiki/%D0%AD%D0%BA%D0%BE%D0%BB%D0%BE%D0%B3%D0%B8%D1%87%D0%B5%D1%81%D0%BA%D0%B0%D1%8F_%D0%BA%D0%B0%D1%82%D0%B0%D1%81%D1%82%D1%80%D0%BE%D1%84%D0%B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5c8ff"/>
                </a:solidFill>
                <a:latin typeface="Georgia"/>
              </a:rPr>
              <a:t>В.М. Константинов, Ю.Б. Челидзе уч.пособие «Экологические основы природопользования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724280" y="228600"/>
            <a:ext cx="4267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Экологический кризис –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критическое состояние окружающей среды, угрожающее существованию человека и отражающее несоответствие развития производительных сил и производственных отно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Ekologicheskiy-krizis"/>
          <p:cNvPicPr/>
          <p:nvPr/>
        </p:nvPicPr>
        <p:blipFill>
          <a:blip r:embed="rId1"/>
          <a:stretch/>
        </p:blipFill>
        <p:spPr>
          <a:xfrm>
            <a:off x="228600" y="1143000"/>
            <a:ext cx="4390920" cy="45244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6248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Экологический кризис может бы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глоб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напряженное состояние взаимоотношений между человечеством и природой, характеризующееся несоответствием развития производительных сил и производственных отношений в человеческом обществе ресурсно-экологическим возможностям биосферы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ff00ff"/>
                </a:solidFill>
                <a:latin typeface="Georgia"/>
              </a:rPr>
              <a:t>локальным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Earth2"/>
          <p:cNvPicPr/>
          <p:nvPr/>
        </p:nvPicPr>
        <p:blipFill>
          <a:blip r:embed="rId1"/>
          <a:stretch/>
        </p:blipFill>
        <p:spPr>
          <a:xfrm>
            <a:off x="5867280" y="914400"/>
            <a:ext cx="3124440" cy="28591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99ff"/>
                </a:solidFill>
                <a:latin typeface="Georgia"/>
              </a:rPr>
              <a:t>Виды экологических кризисов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4419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 присваивающего хозяйства: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собирательства и примитивной охоты (возник в связи с истощением естественных запасов плодов и съедобных растений, с истреблением небольших животных в местах обитания древних людей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kamenniyvek"/>
          <p:cNvPicPr/>
          <p:nvPr/>
        </p:nvPicPr>
        <p:blipFill>
          <a:blip r:embed="rId1"/>
          <a:stretch/>
        </p:blipFill>
        <p:spPr>
          <a:xfrm>
            <a:off x="2209680" y="1143000"/>
            <a:ext cx="4648320" cy="31561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связанный с перепромыслом крупных зверей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возник в конце ледникового периода, когда стали исчезать крупные животные – шерстистый носорог, пещерный медведь, мамонт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medved"/>
          <p:cNvPicPr/>
          <p:nvPr/>
        </p:nvPicPr>
        <p:blipFill>
          <a:blip r:embed="rId1"/>
          <a:stretch/>
        </p:blipFill>
        <p:spPr>
          <a:xfrm>
            <a:off x="3352680" y="4191120"/>
            <a:ext cx="2590920" cy="2460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woollyrb"/>
          <p:cNvPicPr/>
          <p:nvPr/>
        </p:nvPicPr>
        <p:blipFill>
          <a:blip r:embed="rId2"/>
          <a:stretch/>
        </p:blipFill>
        <p:spPr>
          <a:xfrm>
            <a:off x="152280" y="2819520"/>
            <a:ext cx="3124440" cy="2039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image001"/>
          <p:cNvPicPr/>
          <p:nvPr/>
        </p:nvPicPr>
        <p:blipFill>
          <a:blip r:embed="rId3"/>
          <a:stretch/>
        </p:blipFill>
        <p:spPr>
          <a:xfrm>
            <a:off x="6019920" y="2438280"/>
            <a:ext cx="2904840" cy="36766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39625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Georgia"/>
              </a:rPr>
              <a:t>Кризис, возникший в местах древнего орошаемого земледелия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возник из-за полного сведения лесов, чрезмерной нагрузки животноводства и примитивного земледелия на почвы, вызвавшие их ускоренную эрозию и засоление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virubka_lesa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3654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9966"/>
                </a:solidFill>
                <a:latin typeface="Georgia"/>
              </a:rPr>
              <a:t>Экологическая катастрофа -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необратимое изменение природных комплексов, связанное с массовой гибелью живых организмов. (Чернобыльская катастрофа, авария на АЭС Фукусима, взрыв нефтяной платформы в Мексиканском залив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151702"/>
          <p:cNvPicPr/>
          <p:nvPr/>
        </p:nvPicPr>
        <p:blipFill>
          <a:blip r:embed="rId1"/>
          <a:stretch/>
        </p:blipFill>
        <p:spPr>
          <a:xfrm>
            <a:off x="2057400" y="2895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ccc"/>
                </a:solidFill>
                <a:latin typeface="Georgia"/>
              </a:rPr>
              <a:t>Природные ресурсы -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компоненты и свойства природной среды, которые используются или могут быть использованы для удовлетворения разнообразных физических и духовных потребностей человеческого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ugl (1)"/>
          <p:cNvPicPr/>
          <p:nvPr/>
        </p:nvPicPr>
        <p:blipFill>
          <a:blip r:embed="rId1"/>
          <a:stretch/>
        </p:blipFill>
        <p:spPr>
          <a:xfrm>
            <a:off x="457200" y="3581280"/>
            <a:ext cx="3657600" cy="2990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5069"/>
          <p:cNvPicPr/>
          <p:nvPr/>
        </p:nvPicPr>
        <p:blipFill>
          <a:blip r:embed="rId2"/>
          <a:stretch/>
        </p:blipFill>
        <p:spPr>
          <a:xfrm>
            <a:off x="4495680" y="3581280"/>
            <a:ext cx="4496040" cy="29671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5050"/>
                </a:solidFill>
                <a:latin typeface="Georgia"/>
              </a:rPr>
              <a:t>Исчерпаемые полезные ископаемые: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Возобновимые природные ресурсы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 (почва, пресные подземные воды, зоны активного водообмена, растительность и животный мир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5c8ff"/>
              </a:buClr>
              <a:buSzPct val="12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cc"/>
                </a:solidFill>
                <a:uFillTx/>
                <a:latin typeface="Georgia"/>
              </a:rPr>
              <a:t>Невозобновимые </a:t>
            </a:r>
            <a:r>
              <a:rPr b="0" lang="ru-RU" sz="2800" spc="-1" strike="noStrike">
                <a:solidFill>
                  <a:srgbClr val="ffffff"/>
                </a:solidFill>
                <a:latin typeface="Georgia"/>
              </a:rPr>
              <a:t>(каменный уголь, нефть, - т.е. ресурсы, которые не возрождаются или восстанавливаются в сотни раз медленнее, чем расходуются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0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