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7C75-FF69-46EA-A91B-8F6B3729937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Georgia"/>
              </a:rPr>
              <a:t>Экологические кризисы и экологические катастроф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тудентка 41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идоркина Васил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8E08-79C3-4C22-A95D-BBECC0549E9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Georgia"/>
              </a:rPr>
              <a:t>Неисчерпаемые полезные ископаемы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</a:rPr>
              <a:t>Климатически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атмосферный воздух, энергия ветр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</a:rPr>
              <a:t>Космически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солнечная радиация и энергия морских приливов и отлив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</a:rPr>
              <a:t>Водны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воды Мирового океан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09D8-6C32-4793-BBED-7C8B64F8E5C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99"/>
                </a:solidFill>
                <a:latin typeface="Georgia"/>
              </a:rPr>
              <a:t>Аспекты охраны приро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Хозяйственно-экономически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важнейшая сторона охраны природы, т.к. любые продукты, употребляемые людьми, создаются за счет расходования природных ресурс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C2AC-1624-49A0-8A0A-32BA3EE00A4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Социально-политически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результаты воздействия человека на природу зависят не только от развития технического прогресса и роста населения, но и от социальных условий, в которых они проявляются. Развивающиеся страны служат важным источником сырья для развитых стран, стремящихся размещать в них добывающую промышленность, использо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их минерально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ельскохозяйствен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ырь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42C9-479A-4A38-B09A-FB28D65EFBA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Здравоохранительны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загрязнение окружающей среды вредными веществами наносит большой ущерб здоровью людей, в связи с этим оздоровительный аспект охраны природы приобретает исключительно важное значе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70BC-CE0E-4246-A24D-5E772095F5F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Эстетический аспект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природа – источник не только материальных благ, но и удовлетворения эстетических потребностей человека, которые не менее важны первых. Поэтому особое внимание необходимо уделять и охране эстетических ценных мест Зем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D0F5-633D-4D86-8CE7-F27F7473B76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Воспитательны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любовь к природе развивает в человеке положительные черты характера: доброту, бережное отношение, патриотизм и т.д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EF69-6397-4EC0-ACEC-E13C095B6EA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Научно-познавательны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связан с необходимостью сохранения для исследований естественных, ненарушенных человеком территорий; изучение природы позволяет выяснять закономерности изменений, вносимых в природу человеческой деятельностью, делать прогнозы этих изменений, разрабатывать практические меры по охране приро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0883-3F9F-48AF-88DE-FDDF17799EE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Georgia"/>
              </a:rPr>
              <a:t>Принципы и правила охраны приро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99ff"/>
                </a:solidFill>
                <a:latin typeface="Georgia"/>
              </a:rPr>
              <a:t>В</a:t>
            </a:r>
            <a:r>
              <a:rPr b="0" lang="ru-RU" sz="1200" spc="-1" strike="noStrike">
                <a:solidFill>
                  <a:srgbClr val="0099ff"/>
                </a:solidFill>
                <a:latin typeface="Georgia"/>
              </a:rPr>
              <a:t>се природные явления имеют для человека множественное значение и должны оцениваться со всех точек зрения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т.е. к каждому явлению следует подходить с учетом интересов разных отраслей хозяйства и сохранения восстановительных сил самой приро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447F-12A3-49C8-9609-B88693A1309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ff"/>
                </a:solidFill>
                <a:latin typeface="Georgia"/>
              </a:rPr>
              <a:t>При использовании природных ресурсов необходимо руководствоваться правилом региональности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необходимо учитывать при использовании недр, водных ресурсов, лесов и животного мир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99ff"/>
                </a:solidFill>
                <a:latin typeface="Georgia"/>
              </a:rPr>
              <a:t>охрана одного природного объекта может означать одновременно охрану и других объектов, тесно с ним связанных</a:t>
            </a:r>
            <a:r>
              <a:rPr b="0" lang="ru-RU" sz="1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напр., охрана водоема от загрязнения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=&gt;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охрана животных, обитающих в не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F9C4-DEDC-480E-965D-DA7E0675F98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писок использованной лит-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http://ru.wikipedia.org/wiki/%DD%EA%EE%EB%EE%E3%E8%F7%E5%F1%EA%E8%E9_%EA%F0%E8%E7%E8%F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http://ru.wikipedia.org/wiki/%D0%AD%D0%BA%D0%BE%D0%BB%D0%BE%D0%B3%D0%B8%D1%87%D0%B5%D1%81%D0%BA%D0%B0%D1%8F_%D0%BA%D0%B0%D1%82%D0%B0%D1%81%D1%82%D1%80%D0%BE%D1%84%D0%B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Georgia"/>
              </a:rPr>
              <a:t>В.М. Константинов, Ю.Б. Челидзе уч.пособие «Экологические основы природопользов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F99F-C4FF-47E8-92CA-2DDEA9F6F43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ff00ff"/>
                </a:solidFill>
                <a:latin typeface="Georgia"/>
              </a:rPr>
              <a:t>Экологический кризис –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критическое состояние окружающей среды, угрожающее существованию человека и отражающее несоответствие развития производительных сил и производствен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5224-B85A-456F-9342-3DCC0C2EAED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Экологический кризис може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ff00ff"/>
                </a:solidFill>
                <a:latin typeface="Georgia"/>
              </a:rPr>
              <a:t>глобальным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напряженное состояние взаимоотношений между человечеством и природой, характеризующееся несоответствием развития производительных сил и производственных отношений в человеческом обществе ресурсно-экологическим возможностям биосфер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ff00ff"/>
                </a:solidFill>
                <a:latin typeface="Georgia"/>
              </a:rPr>
              <a:t>локальным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8B6C-EBA7-464B-9EAF-6E9896D4A37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Georgia"/>
              </a:rPr>
              <a:t>Виды экологических кризис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Georgia"/>
              </a:rPr>
              <a:t>Кризис присваивающего хозяйства: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собирательства и примитивной охоты (возник в связи с истощением естественных запасов плодов и съедобных растений, с истреблением небольших животных в местах обитания древних люд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2448-4453-4B38-896D-E40031F92AB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Georgia"/>
              </a:rPr>
              <a:t>Кризис, связанный с перепромыслом крупных зверей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возник в конце ледникового периода, когда стали исчезать крупные животные – шерстистый носорог, пещерный медведь, мамон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B785-91D4-49BB-BA97-080D30F77C2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Georgia"/>
              </a:rPr>
              <a:t>Кризис, возникший в местах древнего орошаемого земледелия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возник из-за полного сведения лесов, чрезмерной нагрузки животноводства и примитивного земледелия на почвы, вызвавшие их ускоренную эрозию и засоле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ECC7-8022-45D6-8007-88CF695C195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66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ff9966"/>
                </a:solidFill>
                <a:latin typeface="Georgia"/>
              </a:rPr>
              <a:t>Экологическая катастрофа -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необратимое изменение природных комплексов, связанное с массовой гибелью живых организмов. (Чернобыльская катастрофа, авария на АЭС Фукусима, взрыв нефтяной платформы в Мексиканском залив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3B9A-9A40-4F3C-B876-13B671D87C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cc"/>
                </a:solidFill>
                <a:latin typeface="Georgia"/>
              </a:rPr>
              <a:t>Природные ресурсы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компоненты и свойства природной среды, которые используются или могут быть использованы для удовлетворения разнообразных физических и духовных потребностей человеческ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7903-95CE-4ECD-B8FF-8A6C02461A6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Georgia"/>
              </a:rPr>
              <a:t>Исчерпаемые полезные ископаемы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cc"/>
                </a:solidFill>
                <a:uFillTx/>
                <a:latin typeface="Georgia"/>
              </a:rPr>
              <a:t>Возобновимые природны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почва, пресные подземные воды, зоны активного водообмена, растительность и животный ми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cc"/>
                </a:solidFill>
                <a:uFillTx/>
                <a:latin typeface="Georgia"/>
              </a:rPr>
              <a:t>Невозобновимые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каменный уголь, нефть, - т.е. ресурсы, которые не возрождаются или восстанавливаются в сотни раз медленнее, чем расходуютс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5946-DC49-41DD-B81F-65C2794783B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5BB0-22AD-4861-8E1B-3F05B474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F6B-71DA-484B-8360-AB41FE33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332-30FA-4998-A919-FAE53171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AACF-1DA6-4932-8B02-A8214136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1A92B-C413-4902-A491-5655C08A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BA24A-7276-4A1F-BA76-FEC6D7CE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32203-59CF-4DA2-8318-6D352689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D48F4-04F7-495A-8C52-6534EA99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45F95-3DE0-4297-BE9D-E914E564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22F36-8D13-4FF7-8883-F2FBE284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5A5A4-B361-4E20-AE25-C56E9D85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4A81-E5E4-4BFD-B13D-607AF32D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BFCF3-5024-40AD-A969-B07AC2C4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9E89C-BAC2-4A96-970C-F44EBE99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C6B87-87C6-4119-872D-AF0FED37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B65D0-9B5A-4106-9051-ABD160C3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3FBDC-A051-4466-BAF7-48C2CE7C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D9E3-4D35-4FB8-94F5-A614F953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32C8-5B43-4085-ADBB-EB4A814E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DEB5-749B-4DAA-9CF1-673231B2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EAC8-AC4A-403F-B7C8-1472033D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089-A0E1-42CB-9A2D-5D4D977D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9E1-ACF1-4545-9B9D-9EC2A329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8D3-A780-46FE-A84C-29CEC927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28A7-5F3F-4915-8F89-0EA7FAA300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CB79-8DF7-4423-AFEF-999AD91F15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DD%EA%EE%EB%EE%E3%E8%F7%E5%F1%EA%E8%E9_%EA%F0%E8%E7%E8%F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Georgia"/>
              </a:rPr>
              <a:t>Экологические кризисы и экологические катастроф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14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одготови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тудентка 41 груп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идоркина Васили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z_"/>
          <p:cNvPicPr/>
          <p:nvPr/>
        </p:nvPicPr>
        <p:blipFill>
          <a:blip r:embed="rId1"/>
          <a:stretch/>
        </p:blipFill>
        <p:spPr>
          <a:xfrm>
            <a:off x="990720" y="1447920"/>
            <a:ext cx="4952880" cy="3711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cc66"/>
                </a:solidFill>
                <a:latin typeface="Georgia"/>
              </a:rPr>
              <a:t>Неисчерпаемые полезные ископаемые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Georgia"/>
              </a:rPr>
              <a:t>Климатически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атмосферный воздух, энергия ветр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Georgia"/>
              </a:rPr>
              <a:t>Космически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солнечная радиация и энергия морских приливов и отливов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Georgia"/>
              </a:rPr>
              <a:t>Водны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воды Мирового океан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l24"/>
          <p:cNvPicPr/>
          <p:nvPr/>
        </p:nvPicPr>
        <p:blipFill>
          <a:blip r:embed="rId1"/>
          <a:stretch/>
        </p:blipFill>
        <p:spPr>
          <a:xfrm>
            <a:off x="2666880" y="3886200"/>
            <a:ext cx="4191120" cy="27957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99"/>
                </a:solidFill>
                <a:latin typeface="Georgia"/>
              </a:rPr>
              <a:t>Аспекты охраны природ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724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Хозяйственно-экономически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важнейшая сторона охраны природы, т.к. любые продукты, употребляемые людьми, создаются за счет расходования природных ресурсов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pic1_1"/>
          <p:cNvPicPr/>
          <p:nvPr/>
        </p:nvPicPr>
        <p:blipFill>
          <a:blip r:embed="rId1"/>
          <a:stretch/>
        </p:blipFill>
        <p:spPr>
          <a:xfrm>
            <a:off x="228600" y="1905120"/>
            <a:ext cx="4038480" cy="3554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Социально-политически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результаты воздействия человека на природу зависят не только от развития технического прогресса и роста населения, но и от социальных условий, в которых они проявляются. Развивающиеся страны служат важным источником сырья для развитых стран, стремящихся размещать в них добывающую промышленность, использов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их минеральное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ельскохозяйствен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ырь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Chelovek-i-priroda"/>
          <p:cNvPicPr/>
          <p:nvPr/>
        </p:nvPicPr>
        <p:blipFill>
          <a:blip r:embed="rId1"/>
          <a:stretch/>
        </p:blipFill>
        <p:spPr>
          <a:xfrm>
            <a:off x="4648320" y="3733920"/>
            <a:ext cx="4238640" cy="28288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39625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Здравоохранительны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загрязнение окружающей среды вредными веществами наносит большой ущерб здоровью людей, в связи с этим оздоровительный аспект охраны природы приобретает исключительно важное значени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image053"/>
          <p:cNvPicPr/>
          <p:nvPr/>
        </p:nvPicPr>
        <p:blipFill>
          <a:blip r:embed="rId1"/>
          <a:stretch/>
        </p:blipFill>
        <p:spPr>
          <a:xfrm>
            <a:off x="152280" y="228600"/>
            <a:ext cx="4419720" cy="3162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icture"/>
          <p:cNvPicPr/>
          <p:nvPr/>
        </p:nvPicPr>
        <p:blipFill>
          <a:blip r:embed="rId2"/>
          <a:stretch/>
        </p:blipFill>
        <p:spPr>
          <a:xfrm>
            <a:off x="4724280" y="533520"/>
            <a:ext cx="4241880" cy="3181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Эстетический аспект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природа – источник не только материальных благ, но и удовлетворения эстетических потребностей человека, которые не менее важны первых. Поэтому особое внимание необходимо уделять и охране эстетических ценных мест Земл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nteriery_falls085"/>
          <p:cNvPicPr/>
          <p:nvPr/>
        </p:nvPicPr>
        <p:blipFill>
          <a:blip r:embed="rId1"/>
          <a:stretch/>
        </p:blipFill>
        <p:spPr>
          <a:xfrm>
            <a:off x="3429000" y="300996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4800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Воспитательны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любовь к природе развивает в человеке положительные черты характера: доброту, бережное отношение, патриотизм и т.д.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skazy5"/>
          <p:cNvPicPr/>
          <p:nvPr/>
        </p:nvPicPr>
        <p:blipFill>
          <a:blip r:embed="rId1"/>
          <a:stretch/>
        </p:blipFill>
        <p:spPr>
          <a:xfrm>
            <a:off x="1828800" y="2286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Научно-познавательны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связан с необходимостью сохранения для исследований естественных, ненарушенных человеком территорий; изучение природы позволяет выяснять закономерности изменений, вносимых в природу человеческой деятельностью, делать прогнозы этих изменений, разрабатывать практические меры по охране природ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9900"/>
                </a:solidFill>
                <a:latin typeface="Georgia"/>
              </a:rPr>
              <a:t>Принципы и правила охраны природы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Georgia"/>
              </a:rPr>
              <a:t>В</a:t>
            </a:r>
            <a:r>
              <a:rPr b="0" lang="ru-RU" sz="2800" spc="-1" strike="noStrike">
                <a:solidFill>
                  <a:srgbClr val="0099ff"/>
                </a:solidFill>
                <a:latin typeface="Georgia"/>
              </a:rPr>
              <a:t>се природные явления имеют для человека множественное значение и должны оцениваться со всех точек зрения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т.е. к каждому явлению следует подходить с учетом интересов разных отраслей хозяйства и сохранения восстановительных сил самой природ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36576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9ff"/>
                </a:solidFill>
                <a:latin typeface="Georgia"/>
              </a:rPr>
              <a:t>При использовании природных ресурсов необходимо руководствоваться правилом региональности</a:t>
            </a: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 (необходимо учитывать при использовании недр, водных ресурсов, лесов и животного мира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99ff"/>
                </a:solidFill>
                <a:latin typeface="Georgia"/>
              </a:rPr>
              <a:t>охрана одного природного объекта может означать одновременно охрану и других объектов, тесно с ним связанных</a:t>
            </a:r>
            <a:r>
              <a:rPr b="0" lang="ru-RU" sz="2600" spc="-1" strike="noStrike">
                <a:solidFill>
                  <a:srgbClr val="65c8ff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(напр., охрана водоема от загрязнения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=&gt;</a:t>
            </a: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 охрана животных, обитающих в нем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water_feature_infinity_pond_lead"/>
          <p:cNvPicPr/>
          <p:nvPr/>
        </p:nvPicPr>
        <p:blipFill>
          <a:blip r:embed="rId1"/>
          <a:stretch/>
        </p:blipFill>
        <p:spPr>
          <a:xfrm>
            <a:off x="2286000" y="152280"/>
            <a:ext cx="4533840" cy="34005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Список использованной лит-р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5c8ff"/>
                </a:solidFill>
                <a:uFillTx/>
                <a:latin typeface="Georgia"/>
                <a:hlinkClick r:id="rId1"/>
              </a:rPr>
              <a:t>http://ru.wikipedia.org/wiki/%DD%EA%EE%EB%EE%E3%E8%F7%E5%F1%EA%E8%E9_%EA%F0%E8%E7%E8%F1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http://ru.wikipedia.org/wiki/%D0%AD%D0%BA%D0%BE%D0%BB%D0%BE%D0%B3%D0%B8%D1%87%D0%B5%D1%81%D0%BA%D0%B0%D1%8F_%D0%BA%D0%B0%D1%82%D0%B0%D1%81%D1%82%D1%80%D0%BE%D1%84%D0%B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5c8ff"/>
                </a:solidFill>
                <a:latin typeface="Georgia"/>
              </a:rPr>
              <a:t>В.М. Константинов, Ю.Б. Челидзе уч.пособие «Экологические основы природопользовани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724280" y="228600"/>
            <a:ext cx="4267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00ff"/>
                </a:solidFill>
                <a:latin typeface="Georgia"/>
              </a:rPr>
              <a:t>Экологический кризис –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критическое состояние окружающей среды, угрожающее существованию человека и отражающее несоответствие развития производительных сил и производственных отнош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Ekologicheskiy-krizis"/>
          <p:cNvPicPr/>
          <p:nvPr/>
        </p:nvPicPr>
        <p:blipFill>
          <a:blip r:embed="rId1"/>
          <a:stretch/>
        </p:blipFill>
        <p:spPr>
          <a:xfrm>
            <a:off x="228600" y="1143000"/>
            <a:ext cx="4390920" cy="45244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62485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Экологический кризис может бы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Georgia"/>
              </a:rPr>
              <a:t>глобальным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напряженное состояние взаимоотношений между человечеством и природой, характеризующееся несоответствием развития производительных сил и производственных отношений в человеческом обществе ресурсно-экологическим возможностям биосфер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Georgia"/>
              </a:rPr>
              <a:t>локальным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Earth2"/>
          <p:cNvPicPr/>
          <p:nvPr/>
        </p:nvPicPr>
        <p:blipFill>
          <a:blip r:embed="rId1"/>
          <a:stretch/>
        </p:blipFill>
        <p:spPr>
          <a:xfrm>
            <a:off x="5867280" y="914400"/>
            <a:ext cx="3124440" cy="28591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99ff"/>
                </a:solidFill>
                <a:latin typeface="Georgia"/>
              </a:rPr>
              <a:t>Виды экологических кризисов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4419360"/>
            <a:ext cx="8991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Georgia"/>
              </a:rPr>
              <a:t>Кризис присваивающего хозяйства: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собирательства и примитивной охоты (возник в связи с истощением естественных запасов плодов и съедобных растений, с истреблением небольших животных в местах обитания древних людей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kamenniyvek"/>
          <p:cNvPicPr/>
          <p:nvPr/>
        </p:nvPicPr>
        <p:blipFill>
          <a:blip r:embed="rId1"/>
          <a:stretch/>
        </p:blipFill>
        <p:spPr>
          <a:xfrm>
            <a:off x="2209680" y="1143000"/>
            <a:ext cx="4648320" cy="31561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Georgia"/>
              </a:rPr>
              <a:t>Кризис, связанный с перепромыслом крупных зверей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возник в конце ледникового периода, когда стали исчезать крупные животные – шерстистый носорог, пещерный медведь, мамонт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medved"/>
          <p:cNvPicPr/>
          <p:nvPr/>
        </p:nvPicPr>
        <p:blipFill>
          <a:blip r:embed="rId1"/>
          <a:stretch/>
        </p:blipFill>
        <p:spPr>
          <a:xfrm>
            <a:off x="3352680" y="4191120"/>
            <a:ext cx="2590920" cy="2460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woollyrb"/>
          <p:cNvPicPr/>
          <p:nvPr/>
        </p:nvPicPr>
        <p:blipFill>
          <a:blip r:embed="rId2"/>
          <a:stretch/>
        </p:blipFill>
        <p:spPr>
          <a:xfrm>
            <a:off x="152280" y="2819520"/>
            <a:ext cx="3124440" cy="203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image001"/>
          <p:cNvPicPr/>
          <p:nvPr/>
        </p:nvPicPr>
        <p:blipFill>
          <a:blip r:embed="rId3"/>
          <a:stretch/>
        </p:blipFill>
        <p:spPr>
          <a:xfrm>
            <a:off x="6019920" y="2438280"/>
            <a:ext cx="2904840" cy="36766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39625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Georgia"/>
              </a:rPr>
              <a:t>Кризис, возникший в местах древнего орошаемого земледелия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возник из-за полного сведения лесов, чрезмерной нагрузки животноводства и примитивного земледелия на почвы, вызвавшие их ускоренную эрозию и засолени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virubka_lesa"/>
          <p:cNvPicPr/>
          <p:nvPr/>
        </p:nvPicPr>
        <p:blipFill>
          <a:blip r:embed="rId1"/>
          <a:stretch/>
        </p:blipFill>
        <p:spPr>
          <a:xfrm>
            <a:off x="1828800" y="152280"/>
            <a:ext cx="5486400" cy="36547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9966"/>
                </a:solidFill>
                <a:latin typeface="Georgia"/>
              </a:rPr>
              <a:t>Экологическая катастрофа -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необратимое изменение природных комплексов, связанное с массовой гибелью живых организмов. (Чернобыльская катастрофа, авария на АЭС Фукусима, взрыв нефтяной платформы в Мексиканском залив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151702"/>
          <p:cNvPicPr/>
          <p:nvPr/>
        </p:nvPicPr>
        <p:blipFill>
          <a:blip r:embed="rId1"/>
          <a:stretch/>
        </p:blipFill>
        <p:spPr>
          <a:xfrm>
            <a:off x="2057400" y="28954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ccc"/>
                </a:solidFill>
                <a:latin typeface="Georgia"/>
              </a:rPr>
              <a:t>Природные ресурсы -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омпоненты и свойства природной среды, которые используются или могут быть использованы для удовлетворения разнообразных физических и духовных потребностей человеческого об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ugl (1)"/>
          <p:cNvPicPr/>
          <p:nvPr/>
        </p:nvPicPr>
        <p:blipFill>
          <a:blip r:embed="rId1"/>
          <a:stretch/>
        </p:blipFill>
        <p:spPr>
          <a:xfrm>
            <a:off x="457200" y="3581280"/>
            <a:ext cx="3657600" cy="2990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5069"/>
          <p:cNvPicPr/>
          <p:nvPr/>
        </p:nvPicPr>
        <p:blipFill>
          <a:blip r:embed="rId2"/>
          <a:stretch/>
        </p:blipFill>
        <p:spPr>
          <a:xfrm>
            <a:off x="4495680" y="3581280"/>
            <a:ext cx="4496040" cy="29671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5050"/>
                </a:solidFill>
                <a:latin typeface="Georgia"/>
              </a:rPr>
              <a:t>Исчерпаемые полезные ископаемые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cc"/>
                </a:solidFill>
                <a:uFillTx/>
                <a:latin typeface="Georgia"/>
              </a:rPr>
              <a:t>Возобновимые природны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почва, пресные подземные воды, зоны активного водообмена, растительность и животный мир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cc"/>
                </a:solidFill>
                <a:uFillTx/>
                <a:latin typeface="Georgia"/>
              </a:rPr>
              <a:t>Невозобновимые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каменный уголь, нефть, - т.е. ресурсы, которые не возрождаются или восстанавливаются в сотни раз медленнее, чем расходуютс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9:0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