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61D9-8883-4027-BF23-424A37B292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3977-F182-4692-BF9F-48D05999D3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3ED1-4E83-4E65-9480-C492E002E2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B9A4-91C2-4CA6-AC4F-4FDEA58CBB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8BF9-40AA-42D4-A039-C4D8F848F0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BB2E-EB40-4FA0-B55E-974BBD2796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CBB4-C708-4856-8305-335284549D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25B4-CE08-41C2-9FA1-82F59C21A5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9319-EB44-4EF6-8B7C-13E8CDBB2E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60CC-AD6D-4A5D-8B48-6278645D92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05FA-1B3E-4795-B803-E9309F4647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668E-395A-4876-B785-8CA1BE2656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AA79-2ED7-4574-B7CB-B7577A720C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2E90-92AD-4564-BBEE-64D66C3B8F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1BE9-CFD9-4642-B8EC-2491049B0E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8DC4-298F-4BE5-BBB6-435AA4DEEA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99E-9ABA-40CF-8847-7124D361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51B-D253-4E2E-938A-7FEF36D5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0E6-181B-4D84-8870-6BA4D8D4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D9F-A124-413F-8450-B74200F3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7FF-B328-48F9-BC01-C58F2D86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DD3-2382-41B0-BDCF-574C46EA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7F6-5D20-4AAE-8E27-568589CE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EDA-5010-4CFF-BB8E-55C56050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45E-98E7-4489-A76A-A16CA1DD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E3E-8DF3-452A-BC37-760B7266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2BE-8F01-45B7-B65E-AF73907F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123-541E-4A45-9F07-2C1BCD29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1274-1230-4ADA-8514-C332E2A2D3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A88A-B6FE-4D28-98AB-FFC24AE01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24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PL_14.jpg"/>
          <p:cNvPicPr/>
          <p:nvPr/>
        </p:nvPicPr>
        <p:blipFill>
          <a:blip r:embed="rId1"/>
          <a:stretch/>
        </p:blipFill>
        <p:spPr>
          <a:xfrm>
            <a:off x="903240" y="380880"/>
            <a:ext cx="7337520" cy="57452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кологические проблем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gpw-2007.jpg"/>
          <p:cNvPicPr/>
          <p:nvPr/>
        </p:nvPicPr>
        <p:blipFill>
          <a:blip r:embed="rId1"/>
          <a:stretch/>
        </p:blipFill>
        <p:spPr>
          <a:xfrm>
            <a:off x="1714680" y="1954080"/>
            <a:ext cx="5715000" cy="38196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ush_02.jpg"/>
          <p:cNvPicPr/>
          <p:nvPr/>
        </p:nvPicPr>
        <p:blipFill>
          <a:blip r:embed="rId1"/>
          <a:stretch/>
        </p:blipFill>
        <p:spPr>
          <a:xfrm>
            <a:off x="949320" y="154080"/>
            <a:ext cx="7280280" cy="60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proval.jpg"/>
          <p:cNvPicPr/>
          <p:nvPr/>
        </p:nvPicPr>
        <p:blipFill>
          <a:blip r:embed="rId1"/>
          <a:stretch/>
        </p:blipFill>
        <p:spPr>
          <a:xfrm>
            <a:off x="193680" y="304920"/>
            <a:ext cx="8686800" cy="5790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3154214.jpg"/>
          <p:cNvPicPr/>
          <p:nvPr/>
        </p:nvPicPr>
        <p:blipFill>
          <a:blip r:embed="rId1"/>
          <a:stretch/>
        </p:blipFill>
        <p:spPr>
          <a:xfrm>
            <a:off x="1679400" y="1708200"/>
            <a:ext cx="5748480" cy="43117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42972_20001128024257.jpg"/>
          <p:cNvPicPr/>
          <p:nvPr/>
        </p:nvPicPr>
        <p:blipFill>
          <a:blip r:embed="rId1"/>
          <a:stretch/>
        </p:blipFill>
        <p:spPr>
          <a:xfrm>
            <a:off x="685800" y="533520"/>
            <a:ext cx="7462800" cy="5595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42977_20001128040423.jpg"/>
          <p:cNvPicPr/>
          <p:nvPr/>
        </p:nvPicPr>
        <p:blipFill>
          <a:blip r:embed="rId1"/>
          <a:stretch/>
        </p:blipFill>
        <p:spPr>
          <a:xfrm>
            <a:off x="762120" y="533520"/>
            <a:ext cx="7615080" cy="5709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426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x_2096e571.jpg"/>
          <p:cNvPicPr/>
          <p:nvPr/>
        </p:nvPicPr>
        <p:blipFill>
          <a:blip r:embed="rId1"/>
          <a:stretch/>
        </p:blipFill>
        <p:spPr>
          <a:xfrm>
            <a:off x="1074600" y="1905120"/>
            <a:ext cx="6850080" cy="38354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1143532_081.jpg"/>
          <p:cNvPicPr/>
          <p:nvPr/>
        </p:nvPicPr>
        <p:blipFill>
          <a:blip r:embed="rId1"/>
          <a:stretch/>
        </p:blipFill>
        <p:spPr>
          <a:xfrm>
            <a:off x="2743200" y="1957320"/>
            <a:ext cx="3157560" cy="381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1143674_101.jpg"/>
          <p:cNvPicPr/>
          <p:nvPr/>
        </p:nvPicPr>
        <p:blipFill>
          <a:blip r:embed="rId1"/>
          <a:stretch/>
        </p:blipFill>
        <p:spPr>
          <a:xfrm>
            <a:off x="533520" y="304920"/>
            <a:ext cx="7924680" cy="6172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1157587_Kopiya_02.jpg"/>
          <p:cNvPicPr/>
          <p:nvPr/>
        </p:nvPicPr>
        <p:blipFill>
          <a:blip r:embed="rId1"/>
          <a:stretch/>
        </p:blipFill>
        <p:spPr>
          <a:xfrm>
            <a:off x="306360" y="457200"/>
            <a:ext cx="8372520" cy="55627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1146916_331.jpg"/>
          <p:cNvPicPr/>
          <p:nvPr/>
        </p:nvPicPr>
        <p:blipFill>
          <a:blip r:embed="rId1"/>
          <a:stretch/>
        </p:blipFill>
        <p:spPr>
          <a:xfrm>
            <a:off x="488880" y="533520"/>
            <a:ext cx="8350200" cy="5562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3856361cca.jpg"/>
          <p:cNvPicPr/>
          <p:nvPr/>
        </p:nvPicPr>
        <p:blipFill>
          <a:blip r:embed="rId1"/>
          <a:stretch/>
        </p:blipFill>
        <p:spPr>
          <a:xfrm>
            <a:off x="1828800" y="18050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c1708be02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095880" cy="43434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3" descr="7b1ceeb9e4.jpg"/>
          <p:cNvPicPr/>
          <p:nvPr/>
        </p:nvPicPr>
        <p:blipFill>
          <a:blip r:embed="rId1"/>
          <a:stretch/>
        </p:blipFill>
        <p:spPr>
          <a:xfrm>
            <a:off x="1600200" y="685800"/>
            <a:ext cx="5867280" cy="47242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2819520"/>
          <a:ext cx="8458200" cy="274320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88760"/>
                <a:gridCol w="1692360"/>
                <a:gridCol w="169236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ются показателями целостности и взаимосвязи современного ми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иск решения этих проблем способствует становлению единой цивил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cap="rnd"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Глобальные пробл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войны и ми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колог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нергет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«Север-Юг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мографическая пробле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ждународный террориз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79646"/>
          </a:solidFill>
          <a:ln cap="rnd" w="25560">
            <a:solidFill>
              <a:srgbClr val="b66d3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лассификация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752480"/>
          <a:ext cx="8381880" cy="42674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итическ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логи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но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Возникновение локальных конфли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арниковый эффект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Демографическая ситуац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Продовольственная пробле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пасность ядерной вой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Загрязнение атмосферы, вод Мирового океа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еренаселённый «Юг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люса разви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Различие политических сист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«Озоновая дыр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Террориз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стощение ресур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rnd"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414360" y="1511280"/>
            <a:ext cx="8315280" cy="4554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rnd"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облема войны и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Barhem_U-331_11_1941_vzriv_pogreba.jpg"/>
          <p:cNvPicPr/>
          <p:nvPr/>
        </p:nvPicPr>
        <p:blipFill>
          <a:blip r:embed="rId1"/>
          <a:stretch/>
        </p:blipFill>
        <p:spPr>
          <a:xfrm>
            <a:off x="1346040" y="1600200"/>
            <a:ext cx="645192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bron_1.jpg"/>
          <p:cNvPicPr/>
          <p:nvPr/>
        </p:nvPicPr>
        <p:blipFill>
          <a:blip r:embed="rId1"/>
          <a:stretch/>
        </p:blipFill>
        <p:spPr>
          <a:xfrm>
            <a:off x="457200" y="846000"/>
            <a:ext cx="8229600" cy="458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Prin_nagrada.jpg"/>
          <p:cNvPicPr/>
          <p:nvPr/>
        </p:nvPicPr>
        <p:blipFill>
          <a:blip r:embed="rId1"/>
          <a:stretch/>
        </p:blipFill>
        <p:spPr>
          <a:xfrm>
            <a:off x="1535040" y="304920"/>
            <a:ext cx="6073920" cy="58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9:50Z</dcterms:modified>
  <cp:revision>27</cp:revision>
  <dc:subject/>
  <dc:title>Глобальные проблемы современности.</dc:title>
</cp:coreProperties>
</file>