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D34B-4B30-42F7-BCD7-2D7E3F0CCF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no Pro Smbd SmText"/>
              </a:rPr>
              <a:t>Глобальные проблем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no Pro Smbd SmText"/>
              </a:rPr>
              <a:t>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499D-C463-46C6-B906-5169F0DD48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E3B7-BB5B-4D44-9FC5-C919C68EC0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ческая пробл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60F9-8E0A-441D-AF64-A3CD142751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«Север-Юг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CB4D-698E-4BD0-8AF9-BB4E43D8C0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пробл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34A4-1A23-4E9F-8C2C-CB82F7F505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облема охраны здоровья, предотвращение распространения СПИДа, нарком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E1C1-A6A3-483F-8BE1-894FC9B51D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ить знания учащихся о глобальных проблем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 их взаимосвязь и взаимообусловленность, их отличия от любых иных проблем человеч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представление о различных точках зрения на пути и средства разрешения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99E4-2D16-4F76-AD90-ECE82E53C2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3680-28A7-46F2-9BEE-4498D294DF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террор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DDDD-830F-4E21-9B81-38ECBE14A5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no Pro"/>
              </a:rPr>
              <a:t>Рефлек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твете на вопросы (письменно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Самое интересное на уроке было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Мне понравилось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цените по десятибалльной системе всю работу класса на уроке с трёх позиц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 (личный вклад собственного тру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ы (работа всего класс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ело (система новизны)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AE31-2501-49A0-9867-9F4E01DC8D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no Pro"/>
              </a:rPr>
              <a:t>Характерные черты глобальных проблем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4EC6-BBC8-455E-A993-26DC88FDC6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ые пробл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ойны и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пробл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ческие пробл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«Север-Юг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пробле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охраны здоровья, предотвращение распространения СПИДа, нарком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террор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B5C1-2CA6-47C4-A72B-0244309DB3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F637-E382-48D2-845B-B9C8722AFA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246E-0229-43DA-B9F3-D426CC37EE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DA51-050F-40A4-A208-D3CAD6656F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AA14-3166-4441-BF94-BC275AF6E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D6C8-F298-4A03-94B0-3DA36A3D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77E7-1534-4ECA-9F93-23D180999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848C-0579-4E7B-AA4A-E7BCCD681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27A3-80FF-4C43-9AC1-8F63B3D8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9F4D-7851-41B0-B6E0-E994701A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3DB4-466B-4941-BF37-2A4CAD45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6037-2D70-4F64-A173-18BDA17D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6BF3-278F-409A-9247-E1D0E05D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FC26-DF05-4897-88A1-33514F22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0360-E504-41E8-94ED-C47CA4EB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22E3-57F5-4243-85B2-601F6EC9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588B-CAA8-450D-9BF5-880B9D7C18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4286-E782-4E8C-B7C9-675DA1D72E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624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cap="rnd"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no Pro Smbd SmText"/>
              </a:rPr>
              <a:t>Глобальные проблемы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no Pro Smbd SmText"/>
              </a:rPr>
              <a:t>современност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одержимое 3" descr="PL_14.jpg"/>
          <p:cNvPicPr/>
          <p:nvPr/>
        </p:nvPicPr>
        <p:blipFill>
          <a:blip r:embed="rId1"/>
          <a:stretch/>
        </p:blipFill>
        <p:spPr>
          <a:xfrm>
            <a:off x="903240" y="380880"/>
            <a:ext cx="7337520" cy="574524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bbb59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Экологические проблем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3" descr="gpw-2007.jpg"/>
          <p:cNvPicPr/>
          <p:nvPr/>
        </p:nvPicPr>
        <p:blipFill>
          <a:blip r:embed="rId1"/>
          <a:stretch/>
        </p:blipFill>
        <p:spPr>
          <a:xfrm>
            <a:off x="1714680" y="1954080"/>
            <a:ext cx="5715000" cy="38196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Содержимое 3" descr="ush_02.jpg"/>
          <p:cNvPicPr/>
          <p:nvPr/>
        </p:nvPicPr>
        <p:blipFill>
          <a:blip r:embed="rId1"/>
          <a:stretch/>
        </p:blipFill>
        <p:spPr>
          <a:xfrm>
            <a:off x="949320" y="154080"/>
            <a:ext cx="7280280" cy="60181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Содержимое 3" descr="proval.jpg"/>
          <p:cNvPicPr/>
          <p:nvPr/>
        </p:nvPicPr>
        <p:blipFill>
          <a:blip r:embed="rId1"/>
          <a:stretch/>
        </p:blipFill>
        <p:spPr>
          <a:xfrm>
            <a:off x="193680" y="304920"/>
            <a:ext cx="8686800" cy="57909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нергетическая проблем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13154214.jpg"/>
          <p:cNvPicPr/>
          <p:nvPr/>
        </p:nvPicPr>
        <p:blipFill>
          <a:blip r:embed="rId1"/>
          <a:stretch/>
        </p:blipFill>
        <p:spPr>
          <a:xfrm>
            <a:off x="1679400" y="1708200"/>
            <a:ext cx="5748480" cy="43117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Содержимое 3" descr="42972_20001128024257.jpg"/>
          <p:cNvPicPr/>
          <p:nvPr/>
        </p:nvPicPr>
        <p:blipFill>
          <a:blip r:embed="rId1"/>
          <a:stretch/>
        </p:blipFill>
        <p:spPr>
          <a:xfrm>
            <a:off x="685800" y="533520"/>
            <a:ext cx="7462800" cy="55958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одержимое 3" descr="42977_20001128040423.jpg"/>
          <p:cNvPicPr/>
          <p:nvPr/>
        </p:nvPicPr>
        <p:blipFill>
          <a:blip r:embed="rId1"/>
          <a:stretch/>
        </p:blipFill>
        <p:spPr>
          <a:xfrm>
            <a:off x="762120" y="533520"/>
            <a:ext cx="7615080" cy="57099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42670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cap="rnd"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блема «Север-Юг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мографическая проблем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Содержимое 3" descr="x_2096e571.jpg"/>
          <p:cNvPicPr/>
          <p:nvPr/>
        </p:nvPicPr>
        <p:blipFill>
          <a:blip r:embed="rId1"/>
          <a:stretch/>
        </p:blipFill>
        <p:spPr>
          <a:xfrm>
            <a:off x="1074600" y="1905120"/>
            <a:ext cx="6850080" cy="38354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роблема охраны здоровья, предотвращение распространения СПИДа, наркома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3" descr="1143532_081.jpg"/>
          <p:cNvPicPr/>
          <p:nvPr/>
        </p:nvPicPr>
        <p:blipFill>
          <a:blip r:embed="rId1"/>
          <a:stretch/>
        </p:blipFill>
        <p:spPr>
          <a:xfrm>
            <a:off x="2743200" y="1957320"/>
            <a:ext cx="3157560" cy="38102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cap="rnd"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cap="rnd"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бобщить знания учащихся о глобальных проблема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казать их взаимосвязь и взаимообусловленность, их отличия от любых иных проблем человечеств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ать представление о различных точках зрения на пути и средства разрешения глобальных пробл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3" descr="1143674_101.jpg"/>
          <p:cNvPicPr/>
          <p:nvPr/>
        </p:nvPicPr>
        <p:blipFill>
          <a:blip r:embed="rId1"/>
          <a:stretch/>
        </p:blipFill>
        <p:spPr>
          <a:xfrm>
            <a:off x="533520" y="304920"/>
            <a:ext cx="7924680" cy="61722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Содержимое 3" descr="1157587_Kopiya_02.jpg"/>
          <p:cNvPicPr/>
          <p:nvPr/>
        </p:nvPicPr>
        <p:blipFill>
          <a:blip r:embed="rId1"/>
          <a:stretch/>
        </p:blipFill>
        <p:spPr>
          <a:xfrm>
            <a:off x="306360" y="457200"/>
            <a:ext cx="8372520" cy="556272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Содержимое 3" descr="1146916_331.jpg"/>
          <p:cNvPicPr/>
          <p:nvPr/>
        </p:nvPicPr>
        <p:blipFill>
          <a:blip r:embed="rId1"/>
          <a:stretch/>
        </p:blipFill>
        <p:spPr>
          <a:xfrm>
            <a:off x="488880" y="533520"/>
            <a:ext cx="8350200" cy="556236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дународный террориз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Содержимое 3" descr="3856361cca.jpg"/>
          <p:cNvPicPr/>
          <p:nvPr/>
        </p:nvPicPr>
        <p:blipFill>
          <a:blip r:embed="rId1"/>
          <a:stretch/>
        </p:blipFill>
        <p:spPr>
          <a:xfrm>
            <a:off x="1828800" y="180504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Содержимое 3" descr="c1708be028.jpg"/>
          <p:cNvPicPr/>
          <p:nvPr/>
        </p:nvPicPr>
        <p:blipFill>
          <a:blip r:embed="rId1"/>
          <a:stretch/>
        </p:blipFill>
        <p:spPr>
          <a:xfrm>
            <a:off x="1371600" y="1295280"/>
            <a:ext cx="6095880" cy="434340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Содержимое 3" descr="7b1ceeb9e4.jpg"/>
          <p:cNvPicPr/>
          <p:nvPr/>
        </p:nvPicPr>
        <p:blipFill>
          <a:blip r:embed="rId1"/>
          <a:stretch/>
        </p:blipFill>
        <p:spPr>
          <a:xfrm>
            <a:off x="1600200" y="685800"/>
            <a:ext cx="5867280" cy="472428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cap="rnd"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no Pro"/>
              </a:rPr>
              <a:t>Рефлекс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cap="rnd"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Ответе на вопросы (письменно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Самое интересное на уроке было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Мне понравилось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Оцените по десятибалльной системе всю работу класса на уроке с трёх позици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Я (личный вклад собственного труд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Мы (работа всего класс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Дело (система новизны)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solidFill>
            <a:srgbClr val="4f81bd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no Pro"/>
              </a:rPr>
              <a:t>Характерные черты глобальных проблем современ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28600" y="2819520"/>
          <a:ext cx="8458200" cy="274320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88760"/>
                <a:gridCol w="1692360"/>
                <a:gridCol w="169236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32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вляются показателями целостности и взаимосвязи современного мир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иск решения этих проблем способствует становлению единой цивилиз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504d"/>
          </a:solidFill>
          <a:ln cap="rnd"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Глобальные проблем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cap="rnd"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облема войны и мир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Экологические проблем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Энергетические проблем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облема «Север-Юг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емографическая проблем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облемы охраны здоровья, предотвращение распространения СПИДа, наркоман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еждународный террориз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79646"/>
          </a:solidFill>
          <a:ln cap="rnd" w="25560">
            <a:solidFill>
              <a:srgbClr val="b66d3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Классификация глобальных пробле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752480"/>
          <a:ext cx="8381880" cy="426744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  <a:gridCol w="2095560"/>
                <a:gridCol w="2095200"/>
              </a:tblGrid>
              <a:tr h="23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литические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                                                                                               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кологичес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циа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коном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13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Возникновение локальных конфликт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Парниковый эффект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Демографическая ситуац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Продовольственная проблем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Опасность ядерной войн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Загрязнение атмосферы, вод Мирового океан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Перенаселённый «Юг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Полюса развит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Различие политических систе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«Озоновая дыра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Террориз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Истощение ресурс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6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cap="rnd"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енности глобальных пробле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"/>
          <p:cNvPicPr/>
          <p:nvPr/>
        </p:nvPicPr>
        <p:blipFill>
          <a:blip r:embed="rId1"/>
          <a:stretch/>
        </p:blipFill>
        <p:spPr>
          <a:xfrm>
            <a:off x="414360" y="1511280"/>
            <a:ext cx="8315280" cy="4554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cap="rnd"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Проблема войны и ми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Barhem_U-331_11_1941_vzriv_pogreba.jpg"/>
          <p:cNvPicPr/>
          <p:nvPr/>
        </p:nvPicPr>
        <p:blipFill>
          <a:blip r:embed="rId1"/>
          <a:stretch/>
        </p:blipFill>
        <p:spPr>
          <a:xfrm>
            <a:off x="1346040" y="1600200"/>
            <a:ext cx="6451920" cy="452592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Содержимое 3" descr="bron_1.jpg"/>
          <p:cNvPicPr/>
          <p:nvPr/>
        </p:nvPicPr>
        <p:blipFill>
          <a:blip r:embed="rId1"/>
          <a:stretch/>
        </p:blipFill>
        <p:spPr>
          <a:xfrm>
            <a:off x="457200" y="846000"/>
            <a:ext cx="8229600" cy="45864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одержимое 3" descr="Prin_nagrada.jpg"/>
          <p:cNvPicPr/>
          <p:nvPr/>
        </p:nvPicPr>
        <p:blipFill>
          <a:blip r:embed="rId1"/>
          <a:stretch/>
        </p:blipFill>
        <p:spPr>
          <a:xfrm>
            <a:off x="1535040" y="304920"/>
            <a:ext cx="6073920" cy="58212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6T08:19:50Z</dcterms:modified>
  <cp:revision>27</cp:revision>
  <dc:subject/>
  <dc:title>Глобальные проблемы современности.</dc:title>
</cp:coreProperties>
</file>