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55CE-9394-4580-A43C-76352DFA5EA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ые экологические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59C0-3D3C-421E-BE42-2F8A6CA38F4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  поразмышляем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98CE-294D-4B77-B965-F5CE5667248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поступить  с отработанным   полимером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илизировать.  Сж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ая  переработк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74C0-DCBB-4A37-AE15-F330194B63B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авайте  вспомним  о  второй  жизни    автомобильных  покрыш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B02D-7710-4B9B-B26A-5C8D66F391CD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ыть с  полиэтилен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ные изделия из  полиэтилена  можно   переработать в…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ны для кровельного матери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аковочный  материал для строительных  смес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6250-6963-42B6-9E7A-A6FD1B44E0F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блема  для  химиков будуще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87B2-677C-4A7F-82A1-0DEDF1129DD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ние 4-м  творческим  группам (8,9,10,11 кл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Химии  могли  бы  включать  элементы  эколог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темы  курса  обязательно  должны  их  включать.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75A9-0A76-4306-B89E-E36F301092F4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 работ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17D2-0412-4D0C-8BFE-2A9EE24F5080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ью нашего семинара  являетс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взаимосвязи  экологической  науки   с  химической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точек соприкосновения этих  наук в курсе  изучения  Химии в средней 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C171-16EA-4130-BD90-C96F7153A73A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ред  вами  раздаточный  матери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луйста, сформулируйте  определение:  Экология……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умайте,  что  понимает под термином «Экология» рядовой  обыват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 эти  определения  не  совпад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917-61C7-4437-B0F9-1B738CD02557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 к о л о г и 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4A85-4ED5-4041-990B-09D2BFD9954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сти современного экологического кризи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же главнейший фактор глобального  экологического кризиса на Земле –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055D-0C3C-4CCF-8A03-2652EEE5CEC3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 проблемы считают глобальными?  Какие из них породила химическая  индуст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59DA-CB91-4610-B19E-4B9408D1870C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ово место экологии в  системе наук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амостоятельная дисциплина Экология в школе не препод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 рассматривается  как составная часть Биоло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1992-DC05-4207-B99A-71014085B73E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 ли  составление  надпредметных  задач экологической  направленности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F814-5025-470D-BE69-537B91D7C365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  при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 «Полимер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5DC2-DF04-4EB6-A8D9-BFCD4A6D4BB8}" type="slidenum">
              <a:rPr b="0" lang="uk-UA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13B-1970-441D-B1B8-7B621AE9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32C4-729F-47EC-8159-B64B5159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49C9-785F-475A-ABF6-121CE30D3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E335-8723-4387-A88E-A6F782DE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66F6-94D8-4D67-B30A-CB2847BC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96D7-71B6-4DD2-85AA-9A6E2F14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8303-74B2-4BBA-BE50-6B54E3CC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681F-F6AD-48AE-9AF8-005A52AE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1F8E-BBF0-4243-9F1D-DABEE6E1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F0F4-FD42-4DBD-9CB6-99E09F82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5960-1E46-4C46-B11C-D0C8C9BD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0F0-BFFC-4FCA-9E05-4A4A4A50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6496D-C24D-41A0-828F-891EF190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49AE-07F9-46DC-9FE7-20933C41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EE011-2697-4120-8D63-DC56239D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D562-E454-486F-B1EA-578B3CD6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1123-4CD1-4FE5-A9F9-E115427A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0D7-F733-4B14-8AE1-EA81BA23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1C12-F77C-4266-8253-540F13AB2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BA9B-736C-40BA-B58D-4A94D7F8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171B-6B38-48CA-9EC2-AB904B68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10E-0EC8-4D77-A9E1-BA0CC1A6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6EDB-24B7-4A47-9F27-1F20ED65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EC46-CDBB-448F-A5FC-C7B270C5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E789-0963-4098-AAD0-706750F36B6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F2FC-A6D5-4059-9763-47EBB817B4B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экологические проблемы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имия и эколог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Давайте  поразмышляем….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ъемы  производства  полимеров во всем  мире  огромны, например,  мировое производство  одного из наиболее распространенных полимеров – полиэтилена  достигает  десятков миллионов тонн в  год. (Если   его весь переработать в обычной  толщины пленку – можно  покрыть  территорию  всей Франции). Учитывая  многолетнее   производство этого полимера, можно  предположить…….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 поступить  с отработанным   полимером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Утилизировать.  Сжечь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 при этом   в  лучшем  случае  получатся  углекислый газ и  вода (…а что в  худшем?), исходные  мономеры  вернуть  не  удастся.  Углекислый газ  способствует  парниковому эффек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торичная  переработка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днако получаются «грязные»  изделия  товарный вид  которых  и  потребительские  качества  не  смогут  конкурировать с  первичными изделиям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авайте  вспомним  о  второй  жизни    автомобильных  покрышек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ины  не  выбрасывают а  измельчают до частиц в 1 мм  и более.  Эти  частицы  добавляют  в  материалы  для покрытия  доро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тицы размером  около 0,01 мм.  добавляют  в  каучуки  при производстве  новых  шин, причем  качество таких  шин не уступает исходны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быть с  полиэтиленом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грязненные изделия из  полиэтилена  можно   переработать в….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ластины для кровельного материал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дон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Упаковочный  материал для строительных  смесе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блема  для  химиков будущег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тез «экологически чистых  полимеров» и  изделий из них  (речь идет о полимерах и  материалов из них, способных более или менее быстро разлагаться  в  природных  условиях). Должен  соблюдаться  принцип  НУЖНО  ПРОИЗВОДИТЬ ТО, ЧТО   ПРИРОДА  СПОСОБНА  РАЗРУШАТ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Задание 4-м  творческим  группам (8,9,10,11 кл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Химии  могли  бы  включать  элементы  экологии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 темы  курса  обязательно  должны  их  включать. Почему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бсудите в  группе  такую   возможность  (какой  материал надо подобрать, как включить в  систему  уроков по  теме, какое  время  на  уроке  отвести, какова  должна  быть рефлексия  учащихся  на данное  включение), приведите  конкретный  пример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асибо за  работу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апоминаю, что  срок  сдачи  зачетной  работы  по  составлению  надпредметных  ситуационных  задач  истекает  29.01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Целью нашего семинара  являетс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пределение взаимосвязи  экологической  науки   с  химической наук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ыявление точек соприкосновения этих  наук в курсе  изучения  Химии в средней  школ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озможно ли более глубокое взаимопроникновение этих  наук в системе  внеклассной работ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ед  вами  раздаточный  материа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жалуйста, сформулируйте  определение:  Экология……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умайте,  что  понимает под термином «Экология» рядовой  обывател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чему  эти  определения  не  совпадают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 к о л о г и 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– наука об  отношениях  растительных и животных организмов и их сообществ между собой и с окружающей  средой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ю  называют  также  научной  основой рационального природопользования и охраны живых  организм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собенности современного экологического кризис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ременный глобальный экологический кризис уже не первый в длительных геологических эпохах Земл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нее глобальные экологические катастрофы в истории Земли  вызывались разными  естественными планетарными  и космическими причинами (причины их во многом до конца не установлены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Теперь же главнейший фактор глобального  экологического кризиса на Земле – ЧЕЛОВЕ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363160" cy="172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ие  проблемы считают глобальными?  Какие из них породила химическая  индустрия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9" name="Diagram 6"/>
          <p:cNvGrpSpPr/>
          <p:nvPr/>
        </p:nvGrpSpPr>
        <p:grpSpPr>
          <a:xfrm>
            <a:off x="2428920" y="2531160"/>
            <a:ext cx="4238640" cy="4212720"/>
            <a:chOff x="2428920" y="2531160"/>
            <a:chExt cx="4238640" cy="4212720"/>
          </a:xfrm>
        </p:grpSpPr>
        <p:sp>
          <p:nvSpPr>
            <p:cNvPr id="180" name="_s1028"/>
            <p:cNvSpPr/>
            <p:nvPr/>
          </p:nvSpPr>
          <p:spPr>
            <a:xfrm flipH="1" flipV="1">
              <a:off x="3833640" y="3406680"/>
              <a:ext cx="54144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29"/>
            <p:cNvSpPr/>
            <p:nvPr/>
          </p:nvSpPr>
          <p:spPr>
            <a:xfrm>
              <a:off x="3314880" y="27680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охран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идового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знообраз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0"/>
            <p:cNvSpPr/>
            <p:nvPr/>
          </p:nvSpPr>
          <p:spPr>
            <a:xfrm flipH="1" flipV="1">
              <a:off x="3309480" y="3926160"/>
              <a:ext cx="93996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31"/>
            <p:cNvSpPr/>
            <p:nvPr/>
          </p:nvSpPr>
          <p:spPr>
            <a:xfrm>
              <a:off x="2665440" y="3414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меньш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зонового сло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4" name="_s1032"/>
            <p:cNvSpPr/>
            <p:nvPr/>
          </p:nvSpPr>
          <p:spPr>
            <a:xfrm flipH="1">
              <a:off x="3117960" y="4636080"/>
              <a:ext cx="108576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5" name="_s1033"/>
            <p:cNvSpPr/>
            <p:nvPr/>
          </p:nvSpPr>
          <p:spPr>
            <a:xfrm>
              <a:off x="2428920" y="4296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чв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6" name="_s1034"/>
            <p:cNvSpPr/>
            <p:nvPr/>
          </p:nvSpPr>
          <p:spPr>
            <a:xfrm flipH="1">
              <a:off x="3308040" y="4808160"/>
              <a:ext cx="941400" cy="53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7" name="_s1035"/>
            <p:cNvSpPr/>
            <p:nvPr/>
          </p:nvSpPr>
          <p:spPr>
            <a:xfrm>
              <a:off x="2666880" y="517896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здуха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8" name="_s1036"/>
            <p:cNvSpPr/>
            <p:nvPr/>
          </p:nvSpPr>
          <p:spPr>
            <a:xfrm flipH="1">
              <a:off x="3832200" y="4932720"/>
              <a:ext cx="542880" cy="935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_s1037"/>
            <p:cNvSpPr/>
            <p:nvPr/>
          </p:nvSpPr>
          <p:spPr>
            <a:xfrm>
              <a:off x="3317760" y="582408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Отх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_s1038"/>
            <p:cNvSpPr/>
            <p:nvPr/>
          </p:nvSpPr>
          <p:spPr>
            <a:xfrm>
              <a:off x="4546440" y="497844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_s1039"/>
            <p:cNvSpPr/>
            <p:nvPr/>
          </p:nvSpPr>
          <p:spPr>
            <a:xfrm>
              <a:off x="4205160" y="6059520"/>
              <a:ext cx="689040" cy="684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Исчезновени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ов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_s1040"/>
            <p:cNvSpPr/>
            <p:nvPr/>
          </p:nvSpPr>
          <p:spPr>
            <a:xfrm>
              <a:off x="4718160" y="4932720"/>
              <a:ext cx="544320" cy="937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_s1041"/>
            <p:cNvSpPr/>
            <p:nvPr/>
          </p:nvSpPr>
          <p:spPr>
            <a:xfrm>
              <a:off x="5092560" y="582264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Лесны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ожар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_s1042"/>
            <p:cNvSpPr/>
            <p:nvPr/>
          </p:nvSpPr>
          <p:spPr>
            <a:xfrm>
              <a:off x="4843440" y="4808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_s1043"/>
            <p:cNvSpPr/>
            <p:nvPr/>
          </p:nvSpPr>
          <p:spPr>
            <a:xfrm>
              <a:off x="5742000" y="5175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Смог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_s1044"/>
            <p:cNvSpPr/>
            <p:nvPr/>
          </p:nvSpPr>
          <p:spPr>
            <a:xfrm>
              <a:off x="4889520" y="4637520"/>
              <a:ext cx="1089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_s1045"/>
            <p:cNvSpPr/>
            <p:nvPr/>
          </p:nvSpPr>
          <p:spPr>
            <a:xfrm>
              <a:off x="5978520" y="4293720"/>
              <a:ext cx="68904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вод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_s1046"/>
            <p:cNvSpPr/>
            <p:nvPr/>
          </p:nvSpPr>
          <p:spPr>
            <a:xfrm flipV="1">
              <a:off x="4843440" y="3926160"/>
              <a:ext cx="942840" cy="54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_s1047"/>
            <p:cNvSpPr/>
            <p:nvPr/>
          </p:nvSpPr>
          <p:spPr>
            <a:xfrm>
              <a:off x="5740560" y="341172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лектромагнитное 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0" name="_s1048"/>
            <p:cNvSpPr/>
            <p:nvPr/>
          </p:nvSpPr>
          <p:spPr>
            <a:xfrm flipV="1">
              <a:off x="4718160" y="3405240"/>
              <a:ext cx="544320" cy="93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1" name="_s1049"/>
            <p:cNvSpPr/>
            <p:nvPr/>
          </p:nvSpPr>
          <p:spPr>
            <a:xfrm>
              <a:off x="5089680" y="276624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Радиоактивно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загрязнен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2" name="_s1050"/>
            <p:cNvSpPr/>
            <p:nvPr/>
          </p:nvSpPr>
          <p:spPr>
            <a:xfrm flipV="1">
              <a:off x="4546440" y="3215880"/>
              <a:ext cx="0" cy="1080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3" name="_s1051"/>
            <p:cNvSpPr/>
            <p:nvPr/>
          </p:nvSpPr>
          <p:spPr>
            <a:xfrm>
              <a:off x="4202280" y="2531160"/>
              <a:ext cx="688680" cy="6847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Урбанизация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4" name="_s1052"/>
            <p:cNvSpPr/>
            <p:nvPr/>
          </p:nvSpPr>
          <p:spPr>
            <a:xfrm>
              <a:off x="4202280" y="4296960"/>
              <a:ext cx="688680" cy="6847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Глобальны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экологические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проблемы</a:t>
              </a:r>
              <a:endParaRPr b="0" lang="en-US" sz="1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аково место экологии в  системе наук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 самостоятельная дисциплина Экология в школе не преподаетс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я  рассматривается  как составная часть Биолог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трейшие экологические проблемы  при этом сводятся лишь к вопросам  загрязнения атмосферы и гидросферы, причем  виновата всегда Хим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озможно ли  составление  надпредметных  задач экологической  направленности.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00244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мотрим   пример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ассмотрим   пример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Тема  «Полимеры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5:47:11Z</dcterms:created>
  <dc:creator>Ирина</dc:creator>
  <dc:description/>
  <dc:language>en-US</dc:language>
  <cp:lastModifiedBy>LEGION</cp:lastModifiedBy>
  <dcterms:modified xsi:type="dcterms:W3CDTF">2015-05-06T08:20:44Z</dcterms:modified>
  <cp:revision>6</cp:revision>
  <dc:subject/>
  <dc:title>Глобальные экологические проблемы</dc:title>
</cp:coreProperties>
</file>