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FAD7-FD28-495C-8D42-8476A4FFF08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и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52E8-46CC-4C5C-A715-8A1F2EE1F17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 поразмышляем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ы  производства  полимеров во всем  мире  огромны, например,  мировое производство  одного из наиболее распространенных полимеров – полиэтилена  достигает  десятков миллионов тонн в  год. (Если   его весь переработать в обычной  толщины пленку – можно  покрыть  территорию  всей Франции). Учитывая  многолетнее   производство этого полимера, можно  предположить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90E6-E37E-438D-8FC1-5DF7C05FA6F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поступить  с отработанным   полимер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илизировать.  Сж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 при этом   в  лучшем  случае  получатся  углекислый газ и  вода (…а что в  худшем?), исходные  мономеры  вернуть  не  удастся.  Углекислый газ  способствует  парниковому эффек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ая  переработк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получаются «грязные»  изделия  товарный вид  которых  и  потребительские  качества  не  смогут  конкурировать с  первичными издел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8479-75F2-472B-BE7C-893B82CBEBB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вайте  вспомним  о  второй  жизни    автомобильных  покрыше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ны  не  выбрасывают а  измельчают до частиц в 1 мм  и более.  Эти  частицы  добавляют  в  материалы  для покрытия  дор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цы размером  около 0,01 мм.  добавляют  в  каучуки  при производстве  новых  шин, причем  качество таких  шин не уступает исход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8354-B25A-4A6D-BA96-B63009AE639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ыть с  полиэтилен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ные изделия из  полиэтилена  можно   переработать в…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ны для кровельн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аковочный  материал для строительных  смес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5C13-C3F3-44E2-AB05-4B6383B7199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блема  для  химиков будущ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«экологически чистых  полимеров» и  изделий из них  (речь идет о полимерах и  материалов из них, способных более или менее быстро разлагаться  в  природных  условиях). Должен  соблюдаться  принцип  НУЖНО  ПРОИЗВОДИТЬ ТО, ЧТО   ПРИРОДА  СПОСОБНА  РАЗРУШ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6D32-13C5-428F-9FEA-16834CDB70C4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ние 4-м  творческим  группам (8,9,10,11 кл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темы  курса Химии  могли  бы  включать  элементы  эколог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темы  курса  обязательно  должны  их  включать.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е в  группе  такую   возможность  (какой  материал надо подобрать, как включить в  систему  уроков по  теме, какое  время  на  уроке  отвести, какова  должна  быть рефлексия  учащихся  на данное  включение), приведите  конкретный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1EF8-C123-42DD-835B-6E62CF8CBD4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 работ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инаю, что  срок  сдачи  зачетной  работы  по  составлению  надпредметных  ситуационных  задач  истекает  29.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A9E4-B296-4262-B749-6F8C3306118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ью нашего семинара  являет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взаимосвязи  экологической  науки   с  химической нау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точек соприкосновения этих  наук в курсе  изучения  Химии в средней 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ли более глубокое взаимопроникновение этих  наук в системе  внекласс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B7CF-DA86-41C2-8DD3-24ED969875E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ед  вами  раздаточный  материа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ста, сформулируйте  определение:  Экология…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те,  что  понимает под термином «Экология» рядовой  обыват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 эти  определения  не  совпад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3BD0-2BAC-4C93-88CF-258690F5A3E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 к о л о г и 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наука об  отношениях  растительных и животных организмов и их сообществ между собой и с окружающей  сре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ю  называют  также  научной  основой рационального природопользования и охраны живых 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211A-F0C4-4DC2-9BD9-7536B2A5FA1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сти современного экологического кризи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глобальный экологический кризис уже не первый в длительных геологических эпохах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ее глобальные экологические катастрофы в истории Земли  вызывались разными  естественными планетарными  и космическими причинами (причины их во многом до конца не установле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же главнейший фактор глобального  экологического кризиса на Земле –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9FCA-0D32-460B-BB9F-810978C4944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проблемы считают глобальными?  Какие из них породила химическая  индустр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06F5-3C00-4B65-9D22-716CED23B99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ово место экологии в  системе наук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остоятельная дисциплина Экология в школе не препод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 рассматривается  как составная часть Би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ейшие экологические проблемы  при этом сводятся лишь к вопросам  загрязнения атмосферы и гидросферы, причем  виновата всегда Хи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1E32-BE3D-44A4-A232-E00D87C20BC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ли  составление  надпредметных  задач экологической  направленности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601F-D90A-4E9B-87B9-E609675E660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«Полимер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C8A2-32E8-47A5-B865-972D431A865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3454-D2E6-4142-A056-35525A35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EF3-59F1-4A37-A49B-CF7DC405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CE5-0F51-498D-A1C7-138604A2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524-9420-453B-B55A-13DF7BFD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564B-BC4A-483C-AA70-38B91ECD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79DB-02D5-4D89-972B-F71D08A5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23C6-979E-4990-A8E1-D04A4911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9208-813A-4372-A1C0-F98AC0B0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E9DD-1521-4086-8861-5884B51B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1FDC-9EBC-46A2-B9CB-C5BE6CAA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4E0E-5DB2-468F-A070-FD21A924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F94-FBE8-46C5-9B78-D4928AD6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2982-A4C4-44F2-BF1F-775BFE5E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337E-0E7D-4E50-AF5D-59255AA7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96DC-51A2-4BE9-B259-4E2C34D4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E701-32FC-40E5-A8F5-8912FFE3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55A3-FA7E-48B0-B130-A5B0E7DA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2150-F790-4939-955F-9866A280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BB5-EAB4-423F-8571-F3AA9C74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D16-6476-47C5-A685-2F7540F1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9C27-2A2A-4619-9F90-C114ADC7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79F9-9402-48EA-BEBD-5E4B6735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C0B-6384-4065-8D79-5A28F93C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A533-B075-4607-8DAB-9CBB1D51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2404-CB61-4A49-8E5A-B0653CD4E95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3037-2154-4395-86F9-0A647089F36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лобальные экологические проблемы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мия и эколог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авайте  поразмышляем…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ъемы  производства  полимеров во всем  мире  огромны, например,  мировое производство  одного из наиболее распространенных полимеров – полиэтилена  достигает  десятков миллионов тонн в  год. (Если   его весь переработать в обычной  толщины пленку – можно  покрыть  территорию  всей Франции). Учитывая  многолетнее   производство этого полимера, можно  предположить……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поступить  с отработанным   полимером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тилизировать.  Сжеч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ко  при этом   в  лучшем  случае  получатся  углекислый газ и  вода (…а что в  худшем?), исходные  мономеры  вернуть  не  удастся.  Углекислый газ  способствует  парниковому эффект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торичная  переработка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ко получаются «грязные»  изделия  товарный вид  которых  и  потребительские  качества  не  смогут  конкурировать с  первичными изделия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авайте  вспомним  о  второй  жизни    автомобильных  покрыше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ны  не  выбрасывают а  измельчают до частиц в 1 мм  и более.  Эти  частицы  добавляют  в  материалы  для покрытия  доро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ицы размером  около 0,01 мм.  добавляют  в  каучуки  при производстве  новых  шин, причем  качество таких  шин не уступает исходны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быть с  полиэтиленом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рязненные изделия из  полиэтилена  можно   переработать в….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ины для кровельного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о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аковочный  материал для строительных  смес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блема  для  химиков будущег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тез «экологически чистых  полимеров» и  изделий из них  (речь идет о полимерах и  материалов из них, способных более или менее быстро разлагаться  в  природных  условиях). Должен  соблюдаться  принцип  НУЖНО  ПРОИЗВОДИТЬ ТО, ЧТО   ПРИРОДА  СПОСОБНА  РАЗРУША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е 4-м  творческим  группам (8,9,10,11 кл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 темы  курса Химии  могли  бы  включать  элементы  экологи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 темы  курса  обязательно  должны  их  включать. Почему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судите в  группе  такую   возможность  (какой  материал надо подобрать, как включить в  систему  уроков по  теме, какое  время  на  уроке  отвести, какова  должна  быть рефлексия  учащихся  на данное  включение), приведите  конкретный  приме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 работу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минаю, что  срок  сдачи  зачетной  работы  по  составлению  надпредметных  ситуационных  задач  истекает  29.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Целью нашего семинара  являетс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еделение взаимосвязи  экологической  науки   с  химической наук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явление точек соприкосновения этих  наук в курсе  изучения  Химии в средней  школ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можно ли более глубокое взаимопроникновение этих  наук в системе  внеклассной работ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ед  вами  раздаточный  материа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алуйста, сформулируйте  определение:  Экология………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те,  что  понимает под термином «Экология» рядовой  обывател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 эти  определения  не  совпадают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 к о л о г и 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я – наука об  отношениях  растительных и животных организмов и их сообществ между собой и с окружающей  сред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ю  называют  также  научной  основой рационального природопользования и охраны живых  организм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собенности современного экологического кризис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временный глобальный экологический кризис уже не первый в длительных геологических эпохах Земл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нее глобальные экологические катастрофы в истории Земли  вызывались разными  естественными планетарными  и космическими причинами (причины их во многом до конца не установлены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перь же главнейший фактор глобального  экологического кризиса на Земле – ЧЕЛОВЕ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36316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ие  проблемы считают глобальными?  Какие из них породила химическая  индустри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79" name="Diagram 6"/>
          <p:cNvGrpSpPr/>
          <p:nvPr/>
        </p:nvGrpSpPr>
        <p:grpSpPr>
          <a:xfrm>
            <a:off x="2428920" y="2531160"/>
            <a:ext cx="4238640" cy="4212720"/>
            <a:chOff x="2428920" y="2531160"/>
            <a:chExt cx="4238640" cy="4212720"/>
          </a:xfrm>
        </p:grpSpPr>
        <p:sp>
          <p:nvSpPr>
            <p:cNvPr id="180" name="_s1028"/>
            <p:cNvSpPr/>
            <p:nvPr/>
          </p:nvSpPr>
          <p:spPr>
            <a:xfrm flipH="1" flipV="1">
              <a:off x="3833640" y="3406680"/>
              <a:ext cx="541440" cy="93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" name="_s1029"/>
            <p:cNvSpPr/>
            <p:nvPr/>
          </p:nvSpPr>
          <p:spPr>
            <a:xfrm>
              <a:off x="3314880" y="276804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Сохранени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идового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разнообрази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2" name="_s1030"/>
            <p:cNvSpPr/>
            <p:nvPr/>
          </p:nvSpPr>
          <p:spPr>
            <a:xfrm flipH="1" flipV="1">
              <a:off x="3309480" y="3926160"/>
              <a:ext cx="93996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3" name="_s1031"/>
            <p:cNvSpPr/>
            <p:nvPr/>
          </p:nvSpPr>
          <p:spPr>
            <a:xfrm>
              <a:off x="2665440" y="3414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Уменьш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озонового сло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4" name="_s1032"/>
            <p:cNvSpPr/>
            <p:nvPr/>
          </p:nvSpPr>
          <p:spPr>
            <a:xfrm flipH="1">
              <a:off x="3117960" y="4636080"/>
              <a:ext cx="108576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5" name="_s1033"/>
            <p:cNvSpPr/>
            <p:nvPr/>
          </p:nvSpPr>
          <p:spPr>
            <a:xfrm>
              <a:off x="2428920" y="4296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очв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6" name="_s1034"/>
            <p:cNvSpPr/>
            <p:nvPr/>
          </p:nvSpPr>
          <p:spPr>
            <a:xfrm flipH="1">
              <a:off x="3308040" y="4808160"/>
              <a:ext cx="941400" cy="53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" name="_s1035"/>
            <p:cNvSpPr/>
            <p:nvPr/>
          </p:nvSpPr>
          <p:spPr>
            <a:xfrm>
              <a:off x="2666880" y="5178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оздуха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" name="_s1036"/>
            <p:cNvSpPr/>
            <p:nvPr/>
          </p:nvSpPr>
          <p:spPr>
            <a:xfrm flipH="1">
              <a:off x="3832200" y="4932720"/>
              <a:ext cx="542880" cy="93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_s1037"/>
            <p:cNvSpPr/>
            <p:nvPr/>
          </p:nvSpPr>
          <p:spPr>
            <a:xfrm>
              <a:off x="3317760" y="582408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Отход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_s1038"/>
            <p:cNvSpPr/>
            <p:nvPr/>
          </p:nvSpPr>
          <p:spPr>
            <a:xfrm>
              <a:off x="4546440" y="4978440"/>
              <a:ext cx="0" cy="108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_s1039"/>
            <p:cNvSpPr/>
            <p:nvPr/>
          </p:nvSpPr>
          <p:spPr>
            <a:xfrm>
              <a:off x="4205160" y="6059520"/>
              <a:ext cx="689040" cy="68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Исчезновени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лесов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_s1040"/>
            <p:cNvSpPr/>
            <p:nvPr/>
          </p:nvSpPr>
          <p:spPr>
            <a:xfrm>
              <a:off x="4718160" y="4932720"/>
              <a:ext cx="544320" cy="93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_s1041"/>
            <p:cNvSpPr/>
            <p:nvPr/>
          </p:nvSpPr>
          <p:spPr>
            <a:xfrm>
              <a:off x="5092560" y="582264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Лесны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ожар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_s1042"/>
            <p:cNvSpPr/>
            <p:nvPr/>
          </p:nvSpPr>
          <p:spPr>
            <a:xfrm>
              <a:off x="4843440" y="4808160"/>
              <a:ext cx="94284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_s1043"/>
            <p:cNvSpPr/>
            <p:nvPr/>
          </p:nvSpPr>
          <p:spPr>
            <a:xfrm>
              <a:off x="5742000" y="517572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Смог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_s1044"/>
            <p:cNvSpPr/>
            <p:nvPr/>
          </p:nvSpPr>
          <p:spPr>
            <a:xfrm>
              <a:off x="4889520" y="4637520"/>
              <a:ext cx="1089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_s1045"/>
            <p:cNvSpPr/>
            <p:nvPr/>
          </p:nvSpPr>
          <p:spPr>
            <a:xfrm>
              <a:off x="5978520" y="429372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од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_s1046"/>
            <p:cNvSpPr/>
            <p:nvPr/>
          </p:nvSpPr>
          <p:spPr>
            <a:xfrm flipV="1">
              <a:off x="4843440" y="3926160"/>
              <a:ext cx="94284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_s1047"/>
            <p:cNvSpPr/>
            <p:nvPr/>
          </p:nvSpPr>
          <p:spPr>
            <a:xfrm>
              <a:off x="5740560" y="341172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Электромагнитно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" name="_s1048"/>
            <p:cNvSpPr/>
            <p:nvPr/>
          </p:nvSpPr>
          <p:spPr>
            <a:xfrm flipV="1">
              <a:off x="4718160" y="3405240"/>
              <a:ext cx="544320" cy="93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1" name="_s1049"/>
            <p:cNvSpPr/>
            <p:nvPr/>
          </p:nvSpPr>
          <p:spPr>
            <a:xfrm>
              <a:off x="5089680" y="276624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Радиоактивно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2" name="_s1050"/>
            <p:cNvSpPr/>
            <p:nvPr/>
          </p:nvSpPr>
          <p:spPr>
            <a:xfrm flipV="1">
              <a:off x="4546440" y="3215880"/>
              <a:ext cx="0" cy="108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" name="_s1051"/>
            <p:cNvSpPr/>
            <p:nvPr/>
          </p:nvSpPr>
          <p:spPr>
            <a:xfrm>
              <a:off x="4202280" y="253116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Урбанизаци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" name="_s1052"/>
            <p:cNvSpPr/>
            <p:nvPr/>
          </p:nvSpPr>
          <p:spPr>
            <a:xfrm>
              <a:off x="4202280" y="4296960"/>
              <a:ext cx="688680" cy="684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Глобальны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экологическ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роблем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ово место экологии в  системе наук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амостоятельная дисциплина Экология в школе не препод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я  рассматривается  как составная часть Биолог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рейшие экологические проблемы  при этом сводятся лишь к вопросам  загрязнения атмосферы и гидросферы, причем  виновата всегда Хим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озможно ли  составление  надпредметных  задач экологической  направленности.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00244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мотрим   пример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ссмотрим   пример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а  «Полимеры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5:47:11Z</dcterms:created>
  <dc:creator>Ирина</dc:creator>
  <dc:description/>
  <dc:language>en-US</dc:language>
  <cp:lastModifiedBy>LEGION</cp:lastModifiedBy>
  <dcterms:modified xsi:type="dcterms:W3CDTF">2015-05-06T08:20:44Z</dcterms:modified>
  <cp:revision>6</cp:revision>
  <dc:subject/>
  <dc:title>Глобальные экологические проблемы</dc:title>
</cp:coreProperties>
</file>