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85E7-6AC2-4D6A-BC6B-F0920573A9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BA76-E4A4-476A-975A-FA37C75B634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 поразмышляем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1D39-8733-4B64-AE6F-EA0A67A91F9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оступить  с отработанным   полимер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зировать.  Сж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ая  переработ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F96E-A2C3-4A1E-BCCA-2E075CB028A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 вспомним  о  второй  жизни    автомобильных  покрыш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50B2-1FB9-452C-B196-EDB0A16E6D1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ть с  полиэтиле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ные изделия из  полиэтилена  можно   переработать в…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ны для кровельн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аковочный  материал для строительных  смес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2C01-22A9-4E3B-B33C-6C8C2D7D7A9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блема  для  химиков будущ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B062-23E8-4BC3-AF6A-D0048EDF1F7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е 4-м  творческим  группам (8,9,10,11 к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Химии  могли  бы  включать  элементы  эколог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 обязательно  должны  их  включать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BD94-7CBF-4819-990A-2499E127749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 работ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D8BE-B49F-41D4-8834-DCD5CF0AFF9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ью нашего семинара  являе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заимосвязи  экологической  науки   с  химической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точек соприкосновения этих  наук в курсе  изучения  Химии в средней 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0E8C-17D5-4038-9B10-BB995E39F10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д  вами  раздаточный  матери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, сформулируйте  определение:  Экология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 что  понимает под термином «Экология» рядовой  обыва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 эти  определения  не  совпад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0838-4288-4C40-B535-7380122DD03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 к о л о г и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3D79-CEAE-4A4B-9AC8-CD6FD0E28CC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го экологического кризи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же главнейший фактор глобального  экологического кризиса на Земле –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8F37-421B-402B-9B95-C0A3E38BB37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проблемы считают глобальными?  Какие из них породила химическая  индуст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172E-DC64-4F9A-9C52-C8555A57932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ово место экологии в  системе нау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ая дисциплина Экология в школе не препод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 рассматривается  как составная часть Би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ED94-F808-4F0F-8703-B0818AAA18C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 составление  надпредметных  задач экологической  направленности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5168-69BD-47B2-9E00-9C992876B08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«Полимер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2711-2AB6-4CA1-A028-566828C8C3A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61F-D1FE-4B50-94B9-CAFAB9CA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E92-D1CE-4A15-86C4-67D60A7B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8EF-02C2-4F83-9374-6E09122C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FE4-F712-4D58-B609-1B0005B8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923E-F1C7-4638-9A67-67FA06A5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D33A-18BE-44EE-B486-C5256056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8AE8-79CF-49B6-8574-C93188AD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E420-FDE1-447B-A1CB-B9A0CDFC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456E-A182-4E8D-BE3D-3A4F47E2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AF13-6586-4D9D-80AE-7E7384DC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F772-04F3-4745-A656-B5855393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B01-4230-4DED-9520-3AE5BC69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9C94-ADEC-4864-A65A-CCA67AE2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C8AE-3FE0-4581-A860-4EE95EDE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AE6B-0D72-472D-8E08-3735DB4D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D8D6-62F1-4353-A2D2-58769A6D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6608-E5B0-4DAC-A47B-69E4E4A0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073-8779-4A84-9FD7-CE738C49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58A-3F45-4D7D-90C4-CEB6A9B2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8CE-CBA6-4F2F-B863-BBC8C1F8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878-3F4D-430D-81CE-65E5D2D8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6DD-33E1-432B-9AA6-F2617814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565-3CBF-41C9-BBB1-E9EEEDE9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176-3A26-41BA-9197-7EC6199B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B16C-3BB3-45BC-B559-C53D73FACC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FDC5-D198-4453-AF39-9A5A46E29C4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экологические проблем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я и эколо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вайте  поразмышляем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поступить  с отработанным   полимеро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тилизировать.  Сжеч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ичная  переработк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авайте  вспомним  о  второй  жизни    автомобильных  покрыш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быть с  полиэтилено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рязненные изделия из  полиэтилена  можно   переработать в….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ины для кровельн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о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ковочный  материал для строительных  смес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блема  для  химиков буд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4-м  творческим  группам (8,9,10,11 кл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Химии  могли  бы  включать  элементы  экологи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 обязательно  должны  их  включать. Почему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 работ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елью нашего семинара  являет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ение взаимосвязи  экологической  науки   с  химической наук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вление точек соприкосновения этих  наук в курсе  изучения  Химии в средней  школ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д  вами  раздаточный  материа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алуйста, сформулируйте  определение:  Экология……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те,  что  понимает под термином «Экология» рядовой  обыват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 эти  определения  не  совпадаю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 к о л о г и 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современного экологического кризис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перь же главнейший фактор глобального  экологического кризиса на Земле – ЧЕЛОВ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36316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е  проблемы считают глобальными?  Какие из них породила химическая  индустр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9" name="Diagram 6"/>
          <p:cNvGrpSpPr/>
          <p:nvPr/>
        </p:nvGrpSpPr>
        <p:grpSpPr>
          <a:xfrm>
            <a:off x="2428920" y="2531160"/>
            <a:ext cx="4238640" cy="4212720"/>
            <a:chOff x="2428920" y="2531160"/>
            <a:chExt cx="4238640" cy="4212720"/>
          </a:xfrm>
        </p:grpSpPr>
        <p:sp>
          <p:nvSpPr>
            <p:cNvPr id="180" name="_s1028"/>
            <p:cNvSpPr/>
            <p:nvPr/>
          </p:nvSpPr>
          <p:spPr>
            <a:xfrm flipH="1" flipV="1">
              <a:off x="3833640" y="3406680"/>
              <a:ext cx="54144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_s1029"/>
            <p:cNvSpPr/>
            <p:nvPr/>
          </p:nvSpPr>
          <p:spPr>
            <a:xfrm>
              <a:off x="3314880" y="27680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охран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идового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знообраз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_s1030"/>
            <p:cNvSpPr/>
            <p:nvPr/>
          </p:nvSpPr>
          <p:spPr>
            <a:xfrm flipH="1" flipV="1">
              <a:off x="3309480" y="3926160"/>
              <a:ext cx="93996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_s1031"/>
            <p:cNvSpPr/>
            <p:nvPr/>
          </p:nvSpPr>
          <p:spPr>
            <a:xfrm>
              <a:off x="2665440" y="3414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меньш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зонового сло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_s1032"/>
            <p:cNvSpPr/>
            <p:nvPr/>
          </p:nvSpPr>
          <p:spPr>
            <a:xfrm flipH="1">
              <a:off x="3117960" y="4636080"/>
              <a:ext cx="1085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_s1033"/>
            <p:cNvSpPr/>
            <p:nvPr/>
          </p:nvSpPr>
          <p:spPr>
            <a:xfrm>
              <a:off x="2428920" y="4296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чв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_s1034"/>
            <p:cNvSpPr/>
            <p:nvPr/>
          </p:nvSpPr>
          <p:spPr>
            <a:xfrm flipH="1">
              <a:off x="3308040" y="4808160"/>
              <a:ext cx="941400" cy="53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_s1035"/>
            <p:cNvSpPr/>
            <p:nvPr/>
          </p:nvSpPr>
          <p:spPr>
            <a:xfrm>
              <a:off x="2666880" y="5178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здуха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" name="_s1036"/>
            <p:cNvSpPr/>
            <p:nvPr/>
          </p:nvSpPr>
          <p:spPr>
            <a:xfrm flipH="1">
              <a:off x="3832200" y="4932720"/>
              <a:ext cx="54288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_s1037"/>
            <p:cNvSpPr/>
            <p:nvPr/>
          </p:nvSpPr>
          <p:spPr>
            <a:xfrm>
              <a:off x="3317760" y="582408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тх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8"/>
            <p:cNvSpPr/>
            <p:nvPr/>
          </p:nvSpPr>
          <p:spPr>
            <a:xfrm>
              <a:off x="4546440" y="497844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_s1039"/>
            <p:cNvSpPr/>
            <p:nvPr/>
          </p:nvSpPr>
          <p:spPr>
            <a:xfrm>
              <a:off x="4205160" y="6059520"/>
              <a:ext cx="689040" cy="68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Исчезнов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ов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_s1040"/>
            <p:cNvSpPr/>
            <p:nvPr/>
          </p:nvSpPr>
          <p:spPr>
            <a:xfrm>
              <a:off x="4718160" y="4932720"/>
              <a:ext cx="544320" cy="93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41"/>
            <p:cNvSpPr/>
            <p:nvPr/>
          </p:nvSpPr>
          <p:spPr>
            <a:xfrm>
              <a:off x="5092560" y="582264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ны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жар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_s1042"/>
            <p:cNvSpPr/>
            <p:nvPr/>
          </p:nvSpPr>
          <p:spPr>
            <a:xfrm>
              <a:off x="4843440" y="4808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43"/>
            <p:cNvSpPr/>
            <p:nvPr/>
          </p:nvSpPr>
          <p:spPr>
            <a:xfrm>
              <a:off x="5742000" y="5175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мог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_s1044"/>
            <p:cNvSpPr/>
            <p:nvPr/>
          </p:nvSpPr>
          <p:spPr>
            <a:xfrm>
              <a:off x="4889520" y="4637520"/>
              <a:ext cx="10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_s1045"/>
            <p:cNvSpPr/>
            <p:nvPr/>
          </p:nvSpPr>
          <p:spPr>
            <a:xfrm>
              <a:off x="5978520" y="4293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_s1046"/>
            <p:cNvSpPr/>
            <p:nvPr/>
          </p:nvSpPr>
          <p:spPr>
            <a:xfrm flipV="1">
              <a:off x="4843440" y="3926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_s1047"/>
            <p:cNvSpPr/>
            <p:nvPr/>
          </p:nvSpPr>
          <p:spPr>
            <a:xfrm>
              <a:off x="5740560" y="341172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лектромагнитно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_s1048"/>
            <p:cNvSpPr/>
            <p:nvPr/>
          </p:nvSpPr>
          <p:spPr>
            <a:xfrm flipV="1">
              <a:off x="4718160" y="3405240"/>
              <a:ext cx="544320" cy="93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_s1049"/>
            <p:cNvSpPr/>
            <p:nvPr/>
          </p:nvSpPr>
          <p:spPr>
            <a:xfrm>
              <a:off x="5089680" y="27662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диоактивно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_s1050"/>
            <p:cNvSpPr/>
            <p:nvPr/>
          </p:nvSpPr>
          <p:spPr>
            <a:xfrm flipV="1">
              <a:off x="4546440" y="321588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_s1051"/>
            <p:cNvSpPr/>
            <p:nvPr/>
          </p:nvSpPr>
          <p:spPr>
            <a:xfrm>
              <a:off x="4202280" y="253116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рбанизац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_s1052"/>
            <p:cNvSpPr/>
            <p:nvPr/>
          </p:nvSpPr>
          <p:spPr>
            <a:xfrm>
              <a:off x="4202280" y="4296960"/>
              <a:ext cx="688680" cy="684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Глобальны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кологическ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во место экологии в  системе наук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мостоятельная дисциплина Экология в школе не препод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 рассматривается  как составная часть Биоло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зможно ли  составление  надпредметных  задач экологической  направленности.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0024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мотрим   приме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смотрим   прим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  «Полимеры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5:47:11Z</dcterms:created>
  <dc:creator>Ирина</dc:creator>
  <dc:description/>
  <dc:language>en-US</dc:language>
  <cp:lastModifiedBy>LEGION</cp:lastModifiedBy>
  <dcterms:modified xsi:type="dcterms:W3CDTF">2015-05-06T08:20:44Z</dcterms:modified>
  <cp:revision>6</cp:revision>
  <dc:subject/>
  <dc:title>Глобальные экологические проблемы</dc:title>
</cp:coreProperties>
</file>