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E1EA-D219-417F-88E1-12FEC0C1A9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BC44-C3F7-4FF9-B73C-DCAA7B901AB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 поразмышляем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F15D-27F1-4E38-AC08-22AE6ECB2D5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оступить  с отработанным   полимер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зировать.  Сж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ая  переработ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F39C-5741-4C51-90CC-AF13775CF21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 вспомним  о  второй  жизни    автомобильных  покрыш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2DD7-7A6E-4E14-BF01-51BC515663E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ть с  полиэтиле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ные изделия из  полиэтилена  можно   переработать в…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ны для кровельн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аковочный  материал для строительных  смес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A93D-8360-49BD-BCBE-782A1E2ECD0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блема  для  химиков будущ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9F0A-31A7-4AB1-8C16-37ED2F29736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е 4-м  творческим  группам (8,9,10,11 к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Химии  могли  бы  включать  элементы  эколог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 обязательно  должны  их  включать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4FA3-3747-4708-BD52-21112AE92AB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73FB-F6B7-4D00-9A6B-CA08A33843F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ью нашего семинара  являе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заимосвязи  экологической  науки   с  химической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точек соприкосновения этих  наук в курсе  изучения  Химии в средней 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74F7-07F8-4882-8BAF-91BE55FFAD1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д  вами  раздаточный  матери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, сформулируйте  определение:  Экология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 что  понимает под термином «Экология» рядовой  обыва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 эти  определения  не  совпад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314F-6385-4022-97DC-6BA242E0FEC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 к о л о г и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273C-EC07-4617-BFBD-8459F1905A7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го экологического кризи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же главнейший фактор глобального  экологического кризиса на Земле –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68C4-D868-4778-B4D8-D0A38CD2EC8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проблемы считают глобальными?  Какие из них породила химическая  индуст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A2D7-1A1B-44E9-B96C-94211C7DBC8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ово место экологии в  системе нау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ая дисциплина Экология в школе не препод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 рассматривается  как составная часть Би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0A6B-F4C1-4763-B0C7-581CF02CB47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 составление  надпредметных  задач экологической  направленности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4148-BCF4-40A7-AFA7-E880E6F93BC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«Полимер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3362-CB80-43B0-B977-8EC2F7EAF70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854-4004-4625-9DE1-232C969C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30A-FA0A-4BD2-A87D-07A6FBF9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0FA-5E3E-4B4A-8355-9676C9D1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002-87FC-4696-9AB4-B49F222D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8F4B-7FC4-4B57-9E16-59D3EDC8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3467-EEA5-45DE-9DD3-C8148BC0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4B72-98E5-4D54-98CF-C43DD0B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EA33-7870-4A47-B347-97E76D02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9DDF-C57E-4D3E-AD15-46D8699C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245B-687B-4F3E-8CBD-DF7142D1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ADC2-16E1-4CB7-84DD-BFB27BBD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BD8-0D5C-4067-9CEF-0A0C5437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7F4D-311C-4054-A4D9-41FE2BB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84A9-D13B-40F6-9766-8EE41130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E756-C231-4AA9-A367-62622CAA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B795-F56E-456D-84F8-89EE0197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4B5A-2B04-42D6-8F1A-BEFD1076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0B1-659E-4CD3-B619-2BF074FD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CBC-9B63-46FA-A22C-CD976FD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CD1-C0B4-45F8-84D5-045B6E6E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5EC-7FFE-4317-B38B-E57771DE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A04-157D-4458-854A-B6884380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2BE-83E7-46A0-9C6D-A0C46081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922-2257-48DF-9F94-6B04B583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E1A8-1E0F-459C-ADFB-30FEF6FCEB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ECA8-B5B7-4CF6-8840-A0BA68811FC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экологические проблем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я и эколо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вайте  поразмышляем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поступить  с отработанным   полимеро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тилизировать.  Сжеч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ичная  переработк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авайте  вспомним  о  второй  жизни    автомобильных  покрыш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быть с  полиэтилено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рязненные изделия из  полиэтилена  можно   переработать в…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ны для кровельн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ковочный  материал для строительных  смес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блема  для  химиков буд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4-м  творческим  группам (8,9,10,11 кл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Химии  могли  бы  включать  элементы  экологи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 обязательно  должны  их  включать. 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 работ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ю нашего семинара  являет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ие взаимосвязи  экологической  науки   с  химической наук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вление точек соприкосновения этих  наук в курсе  изучения  Химии в средней 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 вами  раздаточный  материа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алуйста, сформулируйте  определение:  Экология……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те,  что  понимает под термином «Экология» рядовой  обыват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 эти  определения  не  совпадаю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 к о л о г и 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современного экологического кризис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перь же главнейший фактор глобального  экологического кризиса на Земле – ЧЕЛОВ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36316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е  проблемы считают глобальными?  Какие из них породила химическая  индустр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9" name="Diagram 6"/>
          <p:cNvGrpSpPr/>
          <p:nvPr/>
        </p:nvGrpSpPr>
        <p:grpSpPr>
          <a:xfrm>
            <a:off x="2428920" y="2531160"/>
            <a:ext cx="4238640" cy="4212720"/>
            <a:chOff x="2428920" y="2531160"/>
            <a:chExt cx="4238640" cy="4212720"/>
          </a:xfrm>
        </p:grpSpPr>
        <p:sp>
          <p:nvSpPr>
            <p:cNvPr id="180" name="_s1028"/>
            <p:cNvSpPr/>
            <p:nvPr/>
          </p:nvSpPr>
          <p:spPr>
            <a:xfrm flipH="1" flipV="1">
              <a:off x="3833640" y="3406680"/>
              <a:ext cx="54144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_s1029"/>
            <p:cNvSpPr/>
            <p:nvPr/>
          </p:nvSpPr>
          <p:spPr>
            <a:xfrm>
              <a:off x="3314880" y="27680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охран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идового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знообраз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_s1030"/>
            <p:cNvSpPr/>
            <p:nvPr/>
          </p:nvSpPr>
          <p:spPr>
            <a:xfrm flipH="1" flipV="1">
              <a:off x="3309480" y="3926160"/>
              <a:ext cx="93996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_s1031"/>
            <p:cNvSpPr/>
            <p:nvPr/>
          </p:nvSpPr>
          <p:spPr>
            <a:xfrm>
              <a:off x="2665440" y="3414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меньш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зонового сло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_s1032"/>
            <p:cNvSpPr/>
            <p:nvPr/>
          </p:nvSpPr>
          <p:spPr>
            <a:xfrm flipH="1">
              <a:off x="3117960" y="4636080"/>
              <a:ext cx="1085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_s1033"/>
            <p:cNvSpPr/>
            <p:nvPr/>
          </p:nvSpPr>
          <p:spPr>
            <a:xfrm>
              <a:off x="2428920" y="4296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чв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 flipH="1">
              <a:off x="3308040" y="4808160"/>
              <a:ext cx="941400" cy="53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_s1035"/>
            <p:cNvSpPr/>
            <p:nvPr/>
          </p:nvSpPr>
          <p:spPr>
            <a:xfrm>
              <a:off x="2666880" y="5178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здуха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_s1036"/>
            <p:cNvSpPr/>
            <p:nvPr/>
          </p:nvSpPr>
          <p:spPr>
            <a:xfrm flipH="1">
              <a:off x="3832200" y="4932720"/>
              <a:ext cx="54288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_s1037"/>
            <p:cNvSpPr/>
            <p:nvPr/>
          </p:nvSpPr>
          <p:spPr>
            <a:xfrm>
              <a:off x="3317760" y="582408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тх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8"/>
            <p:cNvSpPr/>
            <p:nvPr/>
          </p:nvSpPr>
          <p:spPr>
            <a:xfrm>
              <a:off x="4546440" y="497844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_s1039"/>
            <p:cNvSpPr/>
            <p:nvPr/>
          </p:nvSpPr>
          <p:spPr>
            <a:xfrm>
              <a:off x="4205160" y="6059520"/>
              <a:ext cx="689040" cy="68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Исчезнов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ов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_s1040"/>
            <p:cNvSpPr/>
            <p:nvPr/>
          </p:nvSpPr>
          <p:spPr>
            <a:xfrm>
              <a:off x="4718160" y="4932720"/>
              <a:ext cx="544320" cy="93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41"/>
            <p:cNvSpPr/>
            <p:nvPr/>
          </p:nvSpPr>
          <p:spPr>
            <a:xfrm>
              <a:off x="5092560" y="582264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ны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жар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_s1042"/>
            <p:cNvSpPr/>
            <p:nvPr/>
          </p:nvSpPr>
          <p:spPr>
            <a:xfrm>
              <a:off x="4843440" y="4808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43"/>
            <p:cNvSpPr/>
            <p:nvPr/>
          </p:nvSpPr>
          <p:spPr>
            <a:xfrm>
              <a:off x="5742000" y="5175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мог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_s1044"/>
            <p:cNvSpPr/>
            <p:nvPr/>
          </p:nvSpPr>
          <p:spPr>
            <a:xfrm>
              <a:off x="4889520" y="4637520"/>
              <a:ext cx="10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_s1045"/>
            <p:cNvSpPr/>
            <p:nvPr/>
          </p:nvSpPr>
          <p:spPr>
            <a:xfrm>
              <a:off x="5978520" y="4293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_s1046"/>
            <p:cNvSpPr/>
            <p:nvPr/>
          </p:nvSpPr>
          <p:spPr>
            <a:xfrm flipV="1">
              <a:off x="4843440" y="3926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_s1047"/>
            <p:cNvSpPr/>
            <p:nvPr/>
          </p:nvSpPr>
          <p:spPr>
            <a:xfrm>
              <a:off x="5740560" y="341172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лектромагнитно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_s1048"/>
            <p:cNvSpPr/>
            <p:nvPr/>
          </p:nvSpPr>
          <p:spPr>
            <a:xfrm flipV="1">
              <a:off x="4718160" y="3405240"/>
              <a:ext cx="544320" cy="93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_s1049"/>
            <p:cNvSpPr/>
            <p:nvPr/>
          </p:nvSpPr>
          <p:spPr>
            <a:xfrm>
              <a:off x="5089680" y="27662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диоактивно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_s1050"/>
            <p:cNvSpPr/>
            <p:nvPr/>
          </p:nvSpPr>
          <p:spPr>
            <a:xfrm flipV="1">
              <a:off x="4546440" y="321588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_s1051"/>
            <p:cNvSpPr/>
            <p:nvPr/>
          </p:nvSpPr>
          <p:spPr>
            <a:xfrm>
              <a:off x="4202280" y="253116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рбанизац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_s1052"/>
            <p:cNvSpPr/>
            <p:nvPr/>
          </p:nvSpPr>
          <p:spPr>
            <a:xfrm>
              <a:off x="4202280" y="4296960"/>
              <a:ext cx="688680" cy="684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Глобальны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кологическ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во место экологии в  системе нау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мостоятельная дисциплина Экология в школе не препод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 рассматривается  как составная част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зможно ли  составление  надпредметных  задач экологической  направленности.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0024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мотрим   приме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смотрим   прим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  «Полимеры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5:47:11Z</dcterms:created>
  <dc:creator>Ирина</dc:creator>
  <dc:description/>
  <dc:language>en-US</dc:language>
  <cp:lastModifiedBy>LEGION</cp:lastModifiedBy>
  <dcterms:modified xsi:type="dcterms:W3CDTF">2015-05-06T08:20:44Z</dcterms:modified>
  <cp:revision>6</cp:revision>
  <dc:subject/>
  <dc:title>Глобальные экологические проблемы</dc:title>
</cp:coreProperties>
</file>