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5B32-1AFD-4F57-9370-C37B7303237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Monotype Corsiva"/>
              </a:rPr>
              <a:t>ГЛОБАЛЬНЫЕ ПРОБЛЕМЫ ЧЕЛОВЕ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Выполнила :Дорофеева Ольг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127D-D883-46F7-8C00-DD099797F17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Georgia"/>
              </a:rPr>
              <a:t>СПАСИБО ЗА ВНИМА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D21A-1304-481F-AADF-61B0A14325C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6872-9D59-4D31-B818-84663D923FE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Экологическая проблем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E068-9496-4687-B9A0-2A159151BDF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Демографическая проблема.</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29E9-8614-4EAD-9F42-B382E841FE39}"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мира и разору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Реальная угроза мирового термоядерного конфликта уже фактически ушла в прошло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5F69-A399-49D7-A08E-F16D2E847215}"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довольственная пробле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1200" spc="-1" strike="noStrike">
                <a:solidFill>
                  <a:srgbClr val="000000"/>
                </a:solidFill>
                <a:latin typeface="Monotype Corsiva"/>
              </a:rPr>
              <a:t>/3</a:t>
            </a:r>
            <a:r>
              <a:rPr b="0" lang="ru-RU" sz="1200" spc="-1" strike="noStrike">
                <a:solidFill>
                  <a:srgbClr val="000000"/>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AC37-25A4-45EF-A0C5-11514B54B42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Энергетическая и сырьевая проблем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007B-2431-4F2D-B22A-4444D638BD5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здоровья люд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1591-CEB5-4D94-8102-830CF26315E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Проблема использования Мирового оке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CD8D-E67F-4424-853A-11757BD5DEDC}"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72355-293A-4EAC-9CBA-A7F075D85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A3936-E811-4CF6-AFD9-48446FF63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93E351-5368-4DA7-96F2-2F933CEDDA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43E487-466C-4D5A-9C10-DFE1F8667C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7D4695-2116-4BB4-8716-0A93318E6D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BE115B-406D-4F22-8E6F-4589F368E1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F17C48-C4C2-4698-BCE4-DB169834A7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F3F87E-417C-4B2C-AD1D-31BAED58BC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09D47C-D41D-4FF6-B89B-7A98C286F1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0A3C3E-3281-484F-BDD0-3226ABDF32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924A32-18F1-4D98-9133-8F7B919C8B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52F554-4349-46D7-ACC3-3B8FC420D4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81503-0746-4176-898B-368147F45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549D14-557A-4E5D-8E26-20693ED769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D3AB33-BB7F-4C7B-8818-BAC73070C1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BE2513-DAA3-4A3E-BCED-17B6E287D9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59738A-A48B-4D64-A7A3-5AB42280A1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677055-6D2E-4DFB-9CE1-A31DC0730D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BB0A28-378E-41E2-B915-0BC1521E4C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B80C75-C621-46A7-8410-6B5DA1DE99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79B117-C785-4FCC-A7C8-4BF264B482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0F9CD6-2058-42B9-8372-F1064E0C49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6C5CFA-73C4-4BAE-AB9E-0152ED4773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3D087-D7F2-465D-A5A9-73446B040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D0DB7A-78E8-4B69-97F3-BE947E18A2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CF8B77-4402-4A0B-B7F9-EBFADF6890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469861-36C8-432E-9249-F0F91F24ED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2B93DC-267A-498F-8921-93F9361C25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822FD7-53B4-4296-94B1-34A5048565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E09578-332A-41FE-B130-85051C1D60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98A645-330A-4B1E-917F-881F2DFC25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8E45C5-A247-4416-BC50-0DBA76C056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7221DA-BC3B-4861-A3A1-678E2A20FF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54D043-6F7F-4F1D-AC41-9B36148A74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B7E75-A5AF-43F2-B892-4D7B875F0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AFCBAB-9127-49AE-9871-ED1A6A75FA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6137E8-B1A7-4AAD-8CE3-24D228A7FA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9621F5-086E-486E-92D2-A4CCC95A92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E5BF7F-B96A-4F12-BB43-C8A91729AC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ED7BE4-F58C-4D5B-94CC-62B822FFF1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3F8D2C-DC5C-45F7-B14C-B8CC170332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1DE60A-53A4-451D-A2BC-ACF78EF3F4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A9100C-6010-4520-AC48-0CD4A5651F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23D6F1-52FD-4A00-BD4D-A7F706BB6A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DB6FAA-05F4-45D5-A422-BF5D46A7E9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00C16-7BA0-4727-B1A4-3C0A863D6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8B4025-6FEE-4D89-91D8-F62A3F7133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64E0C2-8046-44ED-B326-CEE0904356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9D758C-F921-490C-8F59-C2655BB142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C59ABF-10DA-4C61-8812-20D0752429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157BA0-DA8B-42BC-A670-5178E95007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58933-41D1-45ED-82EF-7533AAFCD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BA93A-EE69-489A-860D-1B105EE70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7B72B-E15B-446F-9030-8CA4378B7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5C288-A778-4571-A021-1297A767E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39BFD-FB35-472D-96B9-DE7C88B2A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DD3E0-57B7-4646-8768-583C4B909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7270D-48DA-4EB0-8DA7-95DF25E11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A6B30-33BF-4B63-A2F4-2CAEB0473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F6341-9F27-432E-B068-C4A47831F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D62B6-C12C-4038-B531-CAA05AA92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B840C-47CE-48B8-9D3A-5EA55659B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E1DCDE-4977-462C-8019-9F6A427702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100FA-3AFC-4E5C-96B1-3F4411A19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E6F1A8-7777-4025-ABE0-596A7D2CA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AB631-CECC-41D3-820A-9AC34D286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3551F0-2BBE-48A6-AA49-D0057D66B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F0738-405C-410C-B409-883E8F380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CAD3A6-A083-49CD-BE35-95E4B5ED9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2BEAF-BFDC-4B48-820D-89E3D46FF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11421-20FF-4734-890A-ECC27B0C0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71FFA-DA2B-427E-8159-BC0F1A232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C6F2F8-D98B-4638-A5B4-7B51515B0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9BE4CF-D242-4E00-9814-94AB63F9D6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464E46-79B0-4FCB-9612-C8E96115A3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E96D7A-C6D4-4D3D-9E9A-647548E9F4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9C19B8-AB4B-4E72-AF0B-C2775FC05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C71B2-FBB9-4BA1-833C-957D8AD54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15674-B9AE-454B-84AB-CA2FCAA03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127D87-E080-440D-9060-F44D160F1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560BD2-1522-464B-B0D4-AE91D737FE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5F5FD4-91CB-4760-9F82-96F9A5C6C9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C49FE-1A67-43EE-B43B-FC400039B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5A479-A3ED-4CAA-89CF-699DD1B7E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FF636-EBD0-4F85-ABE8-568F4AB1E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4A1772-CD9A-4096-88AD-5C79FC323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3B86E1-03F2-48D6-BDC5-E62D688652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8CBE65-FE7B-402D-80C7-152C1B3DC0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B93953-D9FB-402C-B926-C7840D530E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58DA7-E9CD-4FF2-B13C-2CE2547EE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C09FC8-BEF3-401E-9493-FEAC65B5B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821C3B-4B53-4F58-AE7B-8B7CF7A50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98F3FB-C231-478B-9C10-8F54174660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B3544D-FB50-43F7-AE48-0E070D5A2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47A542-FF3D-4681-AEF9-44F9288887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BF2F7-B519-40F4-A4CE-E4BDD05B5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8C7C65-8AF6-4E40-AD47-AE17099C8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1A5B01-5183-4873-BE8D-FB39D7585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387BF4-DFF5-4BAE-96E2-5AEEAA684F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2FA39C-AB90-4E40-90A1-5F8571CAE1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EEEC1-A6E5-4624-B925-D908ADF43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159C74-E61C-4C3B-869D-65C8D50294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C79450-15E0-40AE-BDB4-2D474FB0A6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C4C5C5-94C6-482D-AE41-09E39643C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00BC1D-A285-4D66-9098-C19A520296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1DB95-255E-4D4B-95C9-6A811D0FD9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9C176D-A4DE-4E4F-BB8A-119634ED7D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7C53D0-F0D6-4A5A-BE39-5268FDC0D4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F60F4F-D2B9-45D5-BDF0-5B44C4F3EA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E14243-A94B-4718-AE40-56E5215FE0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412B6A-E676-471C-8337-A559B6E74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8F2F0-DEB5-4AC5-8F7D-1ED9AD99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4AA8FC-7A2B-42CB-8E3C-203B0B0DF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3B82E6-E99A-4332-A9C6-CF0FF487A4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DD476B-0D79-428F-9CF4-9E9629ED4C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D20846-EDBF-449D-982C-7FD59FAF8C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ADBCC-DCF1-4D22-8865-1EE1991581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78C0B-5120-492B-A788-F40399A36F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F3D660-B64F-45D0-AB05-1D532B84E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FF23EA-3736-43D0-9130-B98FD4EA69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50B87B-6769-4DD2-999D-5E3E157B81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A4D2C-DEB4-4433-8A0F-6D4F03F9C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219F-3E1E-439D-B269-9D2E004D8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7969E5-C59D-4C33-AD49-AA05E25F7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05650-504F-4AB9-A968-09E9A2364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557162-377B-4090-BDCD-124A28D39D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E4B581-3354-41E9-839D-6A99083B1D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5773C7-C63E-4D0A-94C4-21244028F5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41506F-182C-4EE4-B0E1-6CBF74C3DD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FC9AE-C7E0-4DF5-8FCB-2DE1A8696F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1184E7-A3D8-42E5-A349-65FF6EB009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E9CDB3-F800-46E0-83D4-81DC2391A4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668E0B-E663-4FCE-BA9F-4AF546687A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56456-0CD7-4FE2-A28E-BAEC9C137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3D73AB-5F0A-41A5-8265-DECC51F5C8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5239ED-7A5A-4CA7-AB23-B8EA649BE7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EFB9AF-CA69-4503-9F26-577374C0E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C70037-76F4-41FC-A746-F24CC357C1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595CBB-3C39-4682-85E6-49A7B11B53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9D3E6D-632A-4BA4-BEDA-0CA2F84EFB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8A3657-A247-4D1E-9E1F-B2BE017273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C7FBF2-1F2E-4817-99C4-A85E4BAD9D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814BDC-FB6E-4049-92EA-10E88443A6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3B1C8B-4701-4EBF-99FB-8E61760B84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8405640" y="4680"/>
            <a:ext cx="17538480" cy="13690800"/>
            <a:chOff x="-8405640" y="4680"/>
            <a:chExt cx="17538480" cy="136908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475E-FCD0-492F-AAFE-77952E05B20C}"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
          <p:cNvGrpSpPr/>
          <p:nvPr/>
        </p:nvGrpSpPr>
        <p:grpSpPr>
          <a:xfrm>
            <a:off x="-8405640" y="4680"/>
            <a:ext cx="17538480" cy="13690800"/>
            <a:chOff x="-8405640" y="4680"/>
            <a:chExt cx="17538480" cy="13690800"/>
          </a:xfrm>
        </p:grpSpPr>
        <p:sp>
          <p:nvSpPr>
            <p:cNvPr id="3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2DFD-6971-44AC-8DD9-35ECCCD51818}"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
          <p:cNvGrpSpPr/>
          <p:nvPr/>
        </p:nvGrpSpPr>
        <p:grpSpPr>
          <a:xfrm>
            <a:off x="-8405640" y="4680"/>
            <a:ext cx="17538480" cy="13690800"/>
            <a:chOff x="-8405640" y="4680"/>
            <a:chExt cx="17538480" cy="13690800"/>
          </a:xfrm>
        </p:grpSpPr>
        <p:sp>
          <p:nvSpPr>
            <p:cNvPr id="4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68A8-DF1D-4B56-892B-539AC92523C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
          <p:cNvGrpSpPr/>
          <p:nvPr/>
        </p:nvGrpSpPr>
        <p:grpSpPr>
          <a:xfrm>
            <a:off x="-8405640" y="4680"/>
            <a:ext cx="17538480" cy="13690800"/>
            <a:chOff x="-8405640" y="4680"/>
            <a:chExt cx="17538480" cy="13690800"/>
          </a:xfrm>
        </p:grpSpPr>
        <p:sp>
          <p:nvSpPr>
            <p:cNvPr id="4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5BDD-838D-4E79-804E-3FC5A1EB6E48}"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7758000" y="1463760"/>
            <a:ext cx="16902000" cy="10794960"/>
            <a:chOff x="-7758000" y="1463760"/>
            <a:chExt cx="16902000" cy="1079496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Arc 4"/>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BACA-DFCE-4471-A73F-40CF60CF2B5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
          <p:cNvGrpSpPr/>
          <p:nvPr/>
        </p:nvGrpSpPr>
        <p:grpSpPr>
          <a:xfrm>
            <a:off x="-8405640" y="4680"/>
            <a:ext cx="17538480" cy="13690800"/>
            <a:chOff x="-8405640" y="4680"/>
            <a:chExt cx="17538480" cy="13690800"/>
          </a:xfrm>
        </p:grpSpPr>
        <p:sp>
          <p:nvSpPr>
            <p:cNvPr id="8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DEDD-C5D8-41C9-8FA0-D944604C8FDD}"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
          <p:cNvGrpSpPr/>
          <p:nvPr/>
        </p:nvGrpSpPr>
        <p:grpSpPr>
          <a:xfrm>
            <a:off x="-8405640" y="4680"/>
            <a:ext cx="17538480" cy="13690800"/>
            <a:chOff x="-8405640" y="4680"/>
            <a:chExt cx="17538480" cy="13690800"/>
          </a:xfrm>
        </p:grpSpPr>
        <p:sp>
          <p:nvSpPr>
            <p:cNvPr id="1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2DB9-F8E1-4C15-8726-37ABE4651EC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
          <p:cNvGrpSpPr/>
          <p:nvPr/>
        </p:nvGrpSpPr>
        <p:grpSpPr>
          <a:xfrm>
            <a:off x="-8405640" y="4680"/>
            <a:ext cx="17538480" cy="13690800"/>
            <a:chOff x="-8405640" y="4680"/>
            <a:chExt cx="17538480" cy="13690800"/>
          </a:xfrm>
        </p:grpSpPr>
        <p:sp>
          <p:nvSpPr>
            <p:cNvPr id="1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BB59-E182-412E-9353-C19988A5D7D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
          <p:cNvGrpSpPr/>
          <p:nvPr/>
        </p:nvGrpSpPr>
        <p:grpSpPr>
          <a:xfrm>
            <a:off x="-8405640" y="4680"/>
            <a:ext cx="17538480" cy="13690800"/>
            <a:chOff x="-8405640" y="4680"/>
            <a:chExt cx="17538480" cy="13690800"/>
          </a:xfrm>
        </p:grpSpPr>
        <p:sp>
          <p:nvSpPr>
            <p:cNvPr id="2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1AF5-AD76-4DF0-86E6-A87C704077AA}"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
          <p:cNvGrpSpPr/>
          <p:nvPr/>
        </p:nvGrpSpPr>
        <p:grpSpPr>
          <a:xfrm>
            <a:off x="-8405640" y="4680"/>
            <a:ext cx="17538480" cy="13690800"/>
            <a:chOff x="-8405640" y="4680"/>
            <a:chExt cx="17538480" cy="13690800"/>
          </a:xfrm>
        </p:grpSpPr>
        <p:sp>
          <p:nvSpPr>
            <p:cNvPr id="2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C3A0-FB17-460F-9CD4-4FB6339494D0}"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
          <p:cNvGrpSpPr/>
          <p:nvPr/>
        </p:nvGrpSpPr>
        <p:grpSpPr>
          <a:xfrm>
            <a:off x="-8405640" y="4680"/>
            <a:ext cx="17538480" cy="13690800"/>
            <a:chOff x="-8405640" y="4680"/>
            <a:chExt cx="17538480" cy="13690800"/>
          </a:xfrm>
        </p:grpSpPr>
        <p:sp>
          <p:nvSpPr>
            <p:cNvPr id="3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D821-99D4-4B15-ACA6-8D981323771A}"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
          <p:cNvGrpSpPr/>
          <p:nvPr/>
        </p:nvGrpSpPr>
        <p:grpSpPr>
          <a:xfrm>
            <a:off x="-8405640" y="4680"/>
            <a:ext cx="17538480" cy="13690800"/>
            <a:chOff x="-8405640" y="4680"/>
            <a:chExt cx="17538480" cy="13690800"/>
          </a:xfrm>
        </p:grpSpPr>
        <p:sp>
          <p:nvSpPr>
            <p:cNvPr id="3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734F-5C99-4139-B5FC-2BEF378C8757}"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560" y="761760"/>
            <a:ext cx="8815320" cy="2306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cc66"/>
                </a:solidFill>
                <a:uFillTx/>
                <a:latin typeface="Monotype Corsiva"/>
              </a:rPr>
              <a:t>ГЛОБАЛЬНЫЕ ПРОБЛЕМЫ ЧЕЛОВЕЧЕСТВА.</a:t>
            </a:r>
            <a:endParaRPr b="0" lang="en-US" sz="4800" spc="-1" strike="noStrike">
              <a:solidFill>
                <a:srgbClr val="ffcc66"/>
              </a:solidFill>
              <a:latin typeface="Arial"/>
            </a:endParaRPr>
          </a:p>
        </p:txBody>
      </p:sp>
      <p:sp>
        <p:nvSpPr>
          <p:cNvPr id="536" name="PlaceHolder 2"/>
          <p:cNvSpPr>
            <a:spLocks noGrp="1"/>
          </p:cNvSpPr>
          <p:nvPr>
            <p:ph type="subTitle"/>
          </p:nvPr>
        </p:nvSpPr>
        <p:spPr>
          <a:xfrm>
            <a:off x="3347640" y="537372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Выполнила :Дорофеева Ольга.</a:t>
            </a:r>
            <a:endParaRPr b="0" lang="en-US" sz="3200" spc="-1" strike="noStrike">
              <a:solidFill>
                <a:srgbClr val="ffffff"/>
              </a:solidFill>
              <a:latin typeface="Times New Roman"/>
            </a:endParaRPr>
          </a:p>
        </p:txBody>
      </p:sp>
      <p:sp>
        <p:nvSpPr>
          <p:cNvPr id="537" name="Місце для нижнього колонтитула 1"/>
          <p:cNvSpPr/>
          <p:nvPr/>
        </p:nvSpPr>
        <p:spPr>
          <a:xfrm>
            <a:off x="129528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cc66"/>
              </a:solidFill>
              <a:latin typeface="Arial"/>
            </a:endParaRPr>
          </a:p>
        </p:txBody>
      </p:sp>
      <p:sp>
        <p:nvSpPr>
          <p:cNvPr id="563" name="WordArt 5"/>
          <p:cNvSpPr txBox="1"/>
          <p:nvPr/>
        </p:nvSpPr>
        <p:spPr>
          <a:xfrm>
            <a:off x="1116000" y="1628640"/>
            <a:ext cx="6548400" cy="3240360"/>
          </a:xfrm>
          <a:prstGeom prst="rect">
            <a:avLst/>
          </a:prstGeom>
        </p:spPr>
        <p:txBody>
          <a:bodyPr wrap="none" lIns="90000" rIns="90000" tIns="46800" bIns="46800" anchor="t" anchorCtr="1">
            <a:prstTxWarp prst="textDeflateInflate">
              <a:avLst>
                <a:gd name="adj" fmla="val 78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rPr>
              <a:t>СПАСИБО ЗА ВНИМАНИЕ!</a:t>
            </a:r>
            <a:endPar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ea typeface="Georgia"/>
            </a:endParaRPr>
          </a:p>
        </p:txBody>
      </p:sp>
      <p:sp>
        <p:nvSpPr>
          <p:cNvPr id="564"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2560" y="515880"/>
            <a:ext cx="80805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cc66"/>
              </a:solidFill>
              <a:latin typeface="Arial"/>
            </a:endParaRPr>
          </a:p>
        </p:txBody>
      </p:sp>
      <p:sp>
        <p:nvSpPr>
          <p:cNvPr id="539" name="PlaceHolder 2"/>
          <p:cNvSpPr>
            <a:spLocks noGrp="1"/>
          </p:cNvSpPr>
          <p:nvPr>
            <p:ph/>
          </p:nvPr>
        </p:nvSpPr>
        <p:spPr>
          <a:xfrm>
            <a:off x="178920" y="981000"/>
            <a:ext cx="8713800" cy="5114880"/>
          </a:xfrm>
          <a:prstGeom prst="rect">
            <a:avLst/>
          </a:prstGeom>
          <a:noFill/>
          <a:ln w="0">
            <a:noFill/>
          </a:ln>
        </p:spPr>
        <p:txBody>
          <a:bodyPr lIns="182520" rIns="182520" tIns="46080" bIns="46080"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4400" spc="-1" strike="noStrike">
                <a:solidFill>
                  <a:srgbClr val="ffffff"/>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4400" spc="-1" strike="noStrike">
              <a:solidFill>
                <a:srgbClr val="ffffff"/>
              </a:solidFill>
              <a:latin typeface="Times New Roman"/>
            </a:endParaRPr>
          </a:p>
        </p:txBody>
      </p:sp>
      <p:sp>
        <p:nvSpPr>
          <p:cNvPr id="540"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Экологическая проблема.</a:t>
            </a:r>
            <a:endParaRPr b="0" lang="en-US" sz="4400" spc="-1" strike="noStrike">
              <a:solidFill>
                <a:srgbClr val="ffcc66"/>
              </a:solidFill>
              <a:latin typeface="Arial"/>
            </a:endParaRPr>
          </a:p>
        </p:txBody>
      </p:sp>
      <p:sp>
        <p:nvSpPr>
          <p:cNvPr id="542" name="PlaceHolder 2"/>
          <p:cNvSpPr>
            <a:spLocks noGrp="1"/>
          </p:cNvSpPr>
          <p:nvPr>
            <p:ph/>
          </p:nvPr>
        </p:nvSpPr>
        <p:spPr>
          <a:xfrm>
            <a:off x="108000" y="1557000"/>
            <a:ext cx="8928000" cy="4538520"/>
          </a:xfrm>
          <a:prstGeom prst="rect">
            <a:avLst/>
          </a:prstGeom>
          <a:noFill/>
          <a:ln w="0">
            <a:noFill/>
          </a:ln>
        </p:spPr>
        <p:txBody>
          <a:bodyPr lIns="182520" rIns="182520" tIns="46080" bIns="4608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3200" spc="-1" strike="noStrike">
              <a:solidFill>
                <a:srgbClr val="ffffff"/>
              </a:solidFill>
              <a:latin typeface="Times New Roman"/>
            </a:endParaRPr>
          </a:p>
        </p:txBody>
      </p:sp>
      <p:sp>
        <p:nvSpPr>
          <p:cNvPr id="543"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Демографическая проблема.</a:t>
            </a:r>
            <a:endParaRPr b="0" lang="en-US" sz="4400" spc="-1" strike="noStrike">
              <a:solidFill>
                <a:srgbClr val="ffcc66"/>
              </a:solidFill>
              <a:latin typeface="Arial"/>
            </a:endParaRPr>
          </a:p>
        </p:txBody>
      </p:sp>
      <p:sp>
        <p:nvSpPr>
          <p:cNvPr id="545" name="PlaceHolder 2"/>
          <p:cNvSpPr>
            <a:spLocks noGrp="1"/>
          </p:cNvSpPr>
          <p:nvPr>
            <p:ph/>
          </p:nvPr>
        </p:nvSpPr>
        <p:spPr>
          <a:xfrm>
            <a:off x="178920" y="1700280"/>
            <a:ext cx="8713800" cy="4395600"/>
          </a:xfrm>
          <a:prstGeom prst="rect">
            <a:avLst/>
          </a:prstGeom>
          <a:noFill/>
          <a:ln w="0">
            <a:noFill/>
          </a:ln>
        </p:spPr>
        <p:txBody>
          <a:bodyPr lIns="182520" rIns="18252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Monotype Corsiva"/>
              </a:rPr>
              <a:t>	</a:t>
            </a:r>
            <a:r>
              <a:rPr b="0" lang="ru-RU" sz="2800" spc="-1" strike="noStrike">
                <a:solidFill>
                  <a:srgbClr val="ffffff"/>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2800" spc="-1" strike="noStrike">
              <a:solidFill>
                <a:srgbClr val="ffffff"/>
              </a:solidFill>
              <a:latin typeface="Times New Roman"/>
            </a:endParaRPr>
          </a:p>
        </p:txBody>
      </p:sp>
      <p:sp>
        <p:nvSpPr>
          <p:cNvPr id="546"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609120"/>
            <a:ext cx="8512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мира и разоружения.</a:t>
            </a:r>
            <a:endParaRPr b="0" lang="en-US" sz="4400" spc="-1" strike="noStrike">
              <a:solidFill>
                <a:srgbClr val="ffcc66"/>
              </a:solidFill>
              <a:latin typeface="Arial"/>
            </a:endParaRPr>
          </a:p>
        </p:txBody>
      </p:sp>
      <p:sp>
        <p:nvSpPr>
          <p:cNvPr id="548" name="PlaceHolder 2"/>
          <p:cNvSpPr>
            <a:spLocks noGrp="1"/>
          </p:cNvSpPr>
          <p:nvPr>
            <p:ph/>
          </p:nvPr>
        </p:nvSpPr>
        <p:spPr>
          <a:xfrm>
            <a:off x="0" y="1628280"/>
            <a:ext cx="8817120" cy="4753080"/>
          </a:xfrm>
          <a:prstGeom prst="rect">
            <a:avLst/>
          </a:prstGeom>
          <a:noFill/>
          <a:ln w="0">
            <a:noFill/>
          </a:ln>
        </p:spPr>
        <p:txBody>
          <a:bodyPr lIns="182520" rIns="182520" tIns="46080" bIns="4608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Реальная угроза мирового термоядерного конфликта уже фактически ушла в прошлое.</a:t>
            </a:r>
            <a:endParaRPr b="0" lang="en-US" sz="3200" spc="-1" strike="noStrike">
              <a:solidFill>
                <a:srgbClr val="ffffff"/>
              </a:solidFill>
              <a:latin typeface="Times New Roman"/>
            </a:endParaRPr>
          </a:p>
        </p:txBody>
      </p:sp>
      <p:sp>
        <p:nvSpPr>
          <p:cNvPr id="549"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довольственная проблема.</a:t>
            </a:r>
            <a:endParaRPr b="0" lang="en-US" sz="4400" spc="-1" strike="noStrike">
              <a:solidFill>
                <a:srgbClr val="ffcc66"/>
              </a:solidFill>
              <a:latin typeface="Arial"/>
            </a:endParaRPr>
          </a:p>
        </p:txBody>
      </p:sp>
      <p:sp>
        <p:nvSpPr>
          <p:cNvPr id="551" name="PlaceHolder 2"/>
          <p:cNvSpPr>
            <a:spLocks noGrp="1"/>
          </p:cNvSpPr>
          <p:nvPr>
            <p:ph/>
          </p:nvPr>
        </p:nvSpPr>
        <p:spPr>
          <a:xfrm>
            <a:off x="-360" y="1412640"/>
            <a:ext cx="8893080" cy="4824360"/>
          </a:xfrm>
          <a:prstGeom prst="rect">
            <a:avLst/>
          </a:prstGeom>
          <a:noFill/>
          <a:ln w="0">
            <a:noFill/>
          </a:ln>
        </p:spPr>
        <p:txBody>
          <a:bodyPr lIns="182520" rIns="182520" tIns="46080" bIns="46080"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3200" spc="-1" strike="noStrike">
                <a:solidFill>
                  <a:srgbClr val="ffffff"/>
                </a:solidFill>
                <a:latin typeface="Monotype Corsiva"/>
              </a:rPr>
              <a:t>/3</a:t>
            </a:r>
            <a:r>
              <a:rPr b="0" lang="ru-RU" sz="3200" spc="-1" strike="noStrike">
                <a:solidFill>
                  <a:srgbClr val="ffffff"/>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3200" spc="-1" strike="noStrike">
              <a:solidFill>
                <a:srgbClr val="ffffff"/>
              </a:solidFill>
              <a:latin typeface="Times New Roman"/>
            </a:endParaRPr>
          </a:p>
        </p:txBody>
      </p:sp>
      <p:sp>
        <p:nvSpPr>
          <p:cNvPr id="552"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Энергетическая и сырьевая проблемы.</a:t>
            </a:r>
            <a:endParaRPr b="0" lang="en-US" sz="4000" spc="-1" strike="noStrike">
              <a:solidFill>
                <a:srgbClr val="ffcc66"/>
              </a:solidFill>
              <a:latin typeface="Arial"/>
            </a:endParaRPr>
          </a:p>
        </p:txBody>
      </p:sp>
      <p:sp>
        <p:nvSpPr>
          <p:cNvPr id="554" name="PlaceHolder 2"/>
          <p:cNvSpPr>
            <a:spLocks noGrp="1"/>
          </p:cNvSpPr>
          <p:nvPr>
            <p:ph/>
          </p:nvPr>
        </p:nvSpPr>
        <p:spPr>
          <a:xfrm>
            <a:off x="395280" y="1981080"/>
            <a:ext cx="8569440" cy="4114800"/>
          </a:xfrm>
          <a:prstGeom prst="rect">
            <a:avLst/>
          </a:prstGeom>
          <a:noFill/>
          <a:ln w="0">
            <a:noFill/>
          </a:ln>
        </p:spPr>
        <p:txBody>
          <a:bodyPr lIns="182520" rIns="182520" tIns="46080" bIns="4608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3200" spc="-1" strike="noStrike">
              <a:solidFill>
                <a:srgbClr val="ffffff"/>
              </a:solidFill>
              <a:latin typeface="Times New Roman"/>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3200" spc="-1" strike="noStrike">
              <a:solidFill>
                <a:srgbClr val="ffffff"/>
              </a:solidFill>
              <a:latin typeface="Times New Roman"/>
            </a:endParaRPr>
          </a:p>
        </p:txBody>
      </p:sp>
      <p:sp>
        <p:nvSpPr>
          <p:cNvPr id="555"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4042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здоровья людей.</a:t>
            </a:r>
            <a:endParaRPr b="0" lang="en-US" sz="4400" spc="-1" strike="noStrike">
              <a:solidFill>
                <a:srgbClr val="ffcc66"/>
              </a:solidFill>
              <a:latin typeface="Arial"/>
            </a:endParaRPr>
          </a:p>
        </p:txBody>
      </p:sp>
      <p:sp>
        <p:nvSpPr>
          <p:cNvPr id="557" name="PlaceHolder 2"/>
          <p:cNvSpPr>
            <a:spLocks noGrp="1"/>
          </p:cNvSpPr>
          <p:nvPr>
            <p:ph/>
          </p:nvPr>
        </p:nvSpPr>
        <p:spPr>
          <a:xfrm>
            <a:off x="324000" y="1628640"/>
            <a:ext cx="8640720" cy="4896000"/>
          </a:xfrm>
          <a:prstGeom prst="rect">
            <a:avLst/>
          </a:prstGeom>
          <a:noFill/>
          <a:ln w="0">
            <a:noFill/>
          </a:ln>
        </p:spPr>
        <p:txBody>
          <a:bodyPr lIns="182520" rIns="182520" tIns="46080" bIns="4608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	</a:t>
            </a:r>
            <a:r>
              <a:rPr b="0" lang="ru-RU" sz="3200" spc="-1" strike="noStrike">
                <a:solidFill>
                  <a:srgbClr val="ffffff"/>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3200" spc="-1" strike="noStrike">
              <a:solidFill>
                <a:srgbClr val="ffffff"/>
              </a:solidFill>
              <a:latin typeface="Times New Roman"/>
            </a:endParaRPr>
          </a:p>
        </p:txBody>
      </p:sp>
      <p:sp>
        <p:nvSpPr>
          <p:cNvPr id="558"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609120"/>
            <a:ext cx="8820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Проблема использования Мирового океана.</a:t>
            </a:r>
            <a:endParaRPr b="0" lang="en-US" sz="4000" spc="-1" strike="noStrike">
              <a:solidFill>
                <a:srgbClr val="ffcc66"/>
              </a:solidFill>
              <a:latin typeface="Arial"/>
            </a:endParaRPr>
          </a:p>
        </p:txBody>
      </p:sp>
      <p:sp>
        <p:nvSpPr>
          <p:cNvPr id="560" name="PlaceHolder 2"/>
          <p:cNvSpPr>
            <a:spLocks noGrp="1"/>
          </p:cNvSpPr>
          <p:nvPr>
            <p:ph/>
          </p:nvPr>
        </p:nvSpPr>
        <p:spPr>
          <a:xfrm>
            <a:off x="0" y="1844280"/>
            <a:ext cx="8964720" cy="4537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3200" spc="-1" strike="noStrike">
              <a:solidFill>
                <a:srgbClr val="ffffff"/>
              </a:solidFill>
              <a:latin typeface="Times New Roman"/>
            </a:endParaRPr>
          </a:p>
        </p:txBody>
      </p:sp>
      <p:sp>
        <p:nvSpPr>
          <p:cNvPr id="561"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6:18:41Z</dcterms:created>
  <dc:creator>Uzer</dc:creator>
  <dc:description/>
  <dc:language>en-US</dc:language>
  <cp:lastModifiedBy>LEGION</cp:lastModifiedBy>
  <dcterms:modified xsi:type="dcterms:W3CDTF">2015-05-06T08:26:50Z</dcterms:modified>
  <cp:revision>8</cp:revision>
  <dc:subject/>
  <dc:title>ГЛОБАЛЬНЫЕ ПРОБЛЕМЫ ЧЕЛОВЕЧЕСТВА.</dc:title>
</cp:coreProperties>
</file>