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1253-262C-417D-8FD3-CA8B9ECC90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Иванкин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E45F-B50C-4172-B4A5-C9C129FF30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AF03-F2D2-4B3A-AD47-A4A8463B2D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проблемы имеют место быть в современном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ть, какие проблемы могли бы исчезнуть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модель цивилизации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37B-F4EE-4F60-A7A4-8EC0C156E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1A0F-2F64-4B9D-9D8F-36DADCD229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важнейших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E4DD-89B4-40B2-8E43-E201DE90D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482-B820-427F-B9AD-153728A3C0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DFCA-D0FB-472A-8402-558E8F5637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роблемы, которые решатся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7618-016C-4F66-B389-69831FDB4D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162-675C-477C-8D71-4CA8B7FDA2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1E0-2475-4C6A-8B0A-4B9D77F0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1B8-A892-4BE5-8EE3-B71886E4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809-0405-4BB1-B8F8-313E1376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E4D-DC6A-4BA1-86C9-B6A9FA6C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12A3-BDC8-4E88-BAE2-ADC6B4F4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BE0-D255-491E-8F8E-2B42BB9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5A45-3CFB-4C98-BBDD-B10B0FC0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1F7-CB88-4E26-916F-2AD726E8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5D2F-9736-42AA-B027-AF492F63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5651-972C-4206-881B-C106AF3D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33E0-C79A-4AD9-AFE3-E4AE8E0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25B-6EE2-4EF4-B88C-612B88CC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2C3A-F01C-48F4-BDDC-DB16A4F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0ACB-C61F-4535-8C68-30E2EC3B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639E-5022-418F-88AB-E16AE294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07C6-00E2-47BE-B3C7-24D4D607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5255-D452-4EEA-961D-CF46A3D9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B104F-AA43-45DA-8D9A-A4379E3E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FCA1-438F-430C-B720-4A9871BE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0F73-EAD1-4EE5-AF0D-6048A494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9428-4408-4349-AF31-9F23F02E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24BD-E1AF-4E82-ABEC-B5D6885C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249-ECBE-457B-B8AB-6F5A77E7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4A5A-77C1-43F1-B7D4-5A66121B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86E5-80DD-47C4-B424-53635E72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C866-6123-4206-A468-A0029B37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97C3-7119-40B2-A121-D6713B4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F829-61FA-42E1-9E7A-2A5EDE0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1570-6C1F-4227-999E-B77F7A62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9ED9-90DE-43E4-B738-139F325A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1ABFD-0FFD-4B7F-876B-629CE206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83BA-8DC9-4164-A8E5-85F7F001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FCE30-A687-4393-B5F2-0F866B68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738-A1AE-4FEC-B70B-72E011B4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27ED-43CD-4A67-800D-A9306369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4855-A2AD-418A-B992-84F4ADB5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C2F1-58D9-4BE4-A543-0B52ED0A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B87D-7816-4F01-8614-D5D765FF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CC31D-0708-48F9-A652-D97B283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442C-2E0C-4A07-83FA-F80A1C4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B973-DCBC-4090-9A92-C49DD36A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FD21E-D339-424E-B119-A4255C61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0CF5-194A-44B0-BDBB-25ED2164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E9C7-2860-4929-B13B-0BC3B196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915-E7B0-4E4D-BB3F-C8E42AF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9F57-04AD-42A5-AD7F-1405A632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D78B-B4FB-47BA-8B45-3DC9803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B51F1-4C28-4991-95D7-98186B38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BF29A-C000-4845-B595-6CEFE424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CCAD1-D608-48E3-8EC7-515E23A2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CF45-333D-401D-80BE-B5907166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55FBE-F7C3-486E-9F9A-1CE14BEE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6DF8B-2A5C-452B-B9FC-D758CD5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D49A-036A-4F15-9AC6-47FA5776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8081-E811-4B3A-8C8B-3E880ECA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411-4960-4976-81DD-CD85B116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FB4B8-A594-4222-A080-03FE65C4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7D523-6A3E-41E8-A71E-2F6CA772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180C-81FC-4A0E-BA07-6D560D82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4E7B2-0A4B-4105-8350-D76560C5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BB65D-8ED2-4A84-B1B6-386E7DDF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03E7-F9DF-4BB2-B2DC-DA884EB9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2C1E0-08E7-46CD-B4DE-1964D371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363BE-C03C-4C30-A467-705C421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31DE-F90E-4BC7-B53B-7ACE10E8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836A-60B4-4031-8DDD-835D7170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008-E90D-4D4E-8990-C3FE411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B95F1-CE7C-4391-A9D2-03541E4B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C3865-A8E7-467B-8FE9-6EC18E3B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654A-41CF-4518-882C-B8A35DC6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2A842-E728-4595-9065-F59F6734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6F88C-649D-4520-8ADC-D9556816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9E08-3A34-48DC-B9D0-50139077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DB715-0A41-4A6E-9F54-83EE53F4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396B-1ECE-41ED-A6EE-B07021C6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226F5-8F2D-450D-AC7D-D54BE4B6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E97D-468E-43B8-A524-9F11AF9A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B9F-5320-46B6-B1CC-0996D8F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5C76-92A6-4D37-988B-8EECA0C2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49BB4-4BBA-4757-9DC4-4E5DEEB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2417-0BA7-467C-B2FE-47E3CE17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F8B41-18A0-41BF-BF8A-065BEF58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B55BA-436B-451A-8255-86FEE3F3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350-DE7F-4DF5-BCB9-BEFAD274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4CE0-5877-4148-85DC-4B2870FC31E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C6D-ECA3-4EF8-97D5-7A7109190D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34F1-1DF6-4993-A855-4E46B0ED4AF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0F4-441A-4279-9ACA-4B3B5570C3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82A3-2515-4BA6-858C-378EFA9C591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E02-34B9-4B1C-AD6D-71E7EEC3C0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082-DB6A-4F3B-BDA5-B0097793073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D543-1A83-4928-8274-ABE6C03AA8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6242-135D-4E9F-8097-32D38AF12A5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D988-57EC-45C4-9465-4C15BB46DA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8E09-0DEC-4090-9DF1-D18E7085BAF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9182-834A-48BB-847B-F55EF8E333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04F8-166A-48A2-85DA-1172F39A5D9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6581-863A-4210-9170-396CC05EA7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go.mail.ru/frame.html?imgurl=http://homeland.su/uploads/posts/2008-09/1220935326_may_57.jpg&amp;pageurl=http://homeland.su/index.php?newsid=106&amp;id=9703565&amp;iid=0&amp;imgwidth=381&amp;imgheight=450&amp;imgsize=146040&amp;images_links=b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go.mail.ru/frame.html?imgurl=http://www.k61.dn.ua/images/News/ekology.jpg&amp;pageurl=http://www.zovu.ru/adm/CSkA05.htm&amp;id=118048&amp;iid=6&amp;imgwidth=448&amp;imgheight=287&amp;imgsize=23700&amp;images_links=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imgurl=http://www.iotekb.ru/assets/images/himiki/zavod.jpg&amp;pageurl=http://www.iotekb.ru/napravlenija/promyshlennaja_ekologija.html&amp;id=11640788&amp;iid=4&amp;imgwidth=797&amp;imgheight=412&amp;imgsize=19004&amp;images_links=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Иванкина Дарь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какие проблемы имеют место быть в современном ми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умать, какие проблемы могли бы исчезнуть в будущ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модель цивилизации буду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лобальные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важнейших глобальных пробл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57200" y="1447920"/>
            <a:ext cx="757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 Эколог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рового оке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Даша\Desktop\Моя_папкА\доклады\геогр\i[1].jpg"/>
          <p:cNvPicPr/>
          <p:nvPr/>
        </p:nvPicPr>
        <p:blipFill>
          <a:blip r:embed="rId2"/>
          <a:stretch/>
        </p:blipFill>
        <p:spPr>
          <a:xfrm>
            <a:off x="142920" y="28584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Даша\Desktop\Моя_папкА\доклады\геогр\i[6].jpg"/>
          <p:cNvPicPr/>
          <p:nvPr/>
        </p:nvPicPr>
        <p:blipFill>
          <a:blip r:embed="rId3"/>
          <a:stretch/>
        </p:blipFill>
        <p:spPr>
          <a:xfrm>
            <a:off x="6357960" y="1143000"/>
            <a:ext cx="2565360" cy="357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ttp://im0-tub.mail.ru/i?id=9703565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8960" y="2928960"/>
            <a:ext cx="2638440" cy="31161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im6-tub.mail.ru/i?id=118048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440" y="785880"/>
            <a:ext cx="41115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4-tub.mail.ru/i?id=11640788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357120"/>
            <a:ext cx="4587840" cy="23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8-tub.mail.ru/i?id=29733032&amp;tov=8"/>
          <p:cNvPicPr/>
          <p:nvPr/>
        </p:nvPicPr>
        <p:blipFill>
          <a:blip r:embed="rId6"/>
          <a:stretch/>
        </p:blipFill>
        <p:spPr>
          <a:xfrm>
            <a:off x="1857240" y="3390840"/>
            <a:ext cx="5000760" cy="3467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ы, которые решатся в будущ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" descr="C:\Users\Даша\Desktop\Моя_папкА\доклады\геогр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286000" y="2143080"/>
            <a:ext cx="885960" cy="176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885600" cy="1762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885600" cy="17622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28:24Z</dcterms:created>
  <dc:creator>Даша</dc:creator>
  <dc:description/>
  <dc:language>en-US</dc:language>
  <cp:lastModifiedBy>LEGION</cp:lastModifiedBy>
  <dcterms:modified xsi:type="dcterms:W3CDTF">2015-05-06T08:27:58Z</dcterms:modified>
  <cp:revision>12</cp:revision>
  <dc:subject/>
  <dc:title>Слайд 1</dc:title>
</cp:coreProperties>
</file>