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1108-6AB8-4AC1-926F-F1504600E9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Иванкин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C27B-14B8-40A0-92F4-EB734A8799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925D-E4C3-489C-A313-D564C4999C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проблемы имеют место быть в современном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ть, какие проблемы могли бы исчезнуть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модель цивилизации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9B3-4DFA-4622-A17C-9E91E48E8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68CC-CB9C-4E31-810F-BBCE316AE2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важнейших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EB9D-BF4F-495A-A6AE-F42F8B9D1D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912F-835F-40AA-BF17-46AD1460DF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B6D0-5A7D-4A9F-B952-C5FDB94B0E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роблемы, которые решатся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417D-1C9A-4273-B15D-E26F1C2DA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7F18-8ED2-462D-A044-B49A14269B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03E-4CAE-410D-8C67-751FB396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407-EE3C-4B20-A7DA-CB8AA365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11F-FCB9-482A-8F02-2B5CEC52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B91-8996-4DF2-B84A-FB592B14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7747-6429-4E5B-AA10-B93A1820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E5F2-848F-42BB-B337-526FAB27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AE25-EB8F-42BC-80A5-032E289B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2C4A-6079-477C-AA90-7AC7EA64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5843-8003-4846-8F03-29CD452A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75A7-5AEC-45A1-B708-9AFB129A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AACF-4317-44DD-9819-9518728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A73-07FC-48E9-9568-77DA1FC0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CE27-7CD3-4860-BFCE-E159F1A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A282-21F2-4C51-B403-CB6F336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7B46-82AC-4300-8A1E-D87029F5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1EB6-4114-4EF8-BE89-CC1C66BE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F2D1-01E1-4146-BA27-F03C92C9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56F82-8460-44BE-B640-F9CC8C4D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3A82-1DCB-4829-ACBF-704AD4D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BD56-D88B-4E3D-BB61-2ABAAD00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C110E-CA6C-43B3-AE80-27DCAC7A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BBA6-CAD6-42C0-B401-06AF4C7C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7FC-EC8A-49F3-8270-3738577B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7CD8-6104-4B80-9DB5-AEBCF31F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9419-28E6-4500-868B-F7D3867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8246-43F8-49BD-BA66-3129F663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DB81-19F5-4D8D-BA3B-E759A63F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0169-6FDF-429B-B43D-1C17BFC4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D4F3-014B-4EBD-8F6F-54F66A1C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6B3A-1B6E-48BF-9DBF-C989C828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E5BF-7471-4102-8D38-5CA4F4E7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DAD5-0DD7-4F93-A62E-3AA49A33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6328-51AA-4B7C-B815-A6CE7674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38C-88D7-4414-8785-82F5CF8D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180A-5F87-4082-ADCB-2EB7D85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D34B8-B68C-442C-8A89-2A233124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A756-A7B0-47E7-B8DE-0064DF7C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3C20-8A9C-43B4-99EA-8A3E57F1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52ED-D6D4-43B6-9545-1ECC5A49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5F3CC-7211-4873-AF28-B8BFE26C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8431-6E27-4D55-8657-1531560B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2ADC-3F4E-48D3-A8CE-6DD912BF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4649A-F93D-4E12-BF97-07E7F1C5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81CFC-6157-4030-A428-EA304EE9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2CB-92C0-452C-9D51-1232B0DB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9CAAC-4967-4392-8D3F-3D02A8CE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D5D76-C5E9-4596-A789-83A61D48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9ACF-4230-4CFF-9195-43F646FE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1FAA-4BA6-4AE8-9A6C-BCD64D1A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EE68D-FCAE-43D0-9769-4913C5B0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52B97-8ECE-463F-9CDC-D6ECD290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9A12C-29E6-4618-95A3-97611584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3D7E4-98DF-4387-8050-2F9961E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BB3E-5D97-435B-AD7D-221EC9A0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45A21-35D9-4E9A-82BE-989009D6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C3F-ECBF-4A84-8741-972CC75D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B5E7E-BC8A-4179-8A05-01A06E8A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4906C-7820-45C4-AF2E-4CE3C7D3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58F43-5DE0-46C3-B619-C6D52B9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75ABC-289F-45DC-8C9D-45268557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4D11F-5DBA-412F-815E-4B8D28FA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E5D5-EFA2-4262-9419-697BBAD9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03456-AAFB-4912-B607-15D1C484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0E851-AF84-4619-89D6-5D1247B4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4FE43-2366-4D4C-8E36-D3FDEE4E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81996-F7D2-4C2B-B654-D634E98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386-7539-43AC-B2BC-AE1763DC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F9EFE-6680-4E3B-8B44-FCFF36E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6222B-8A95-4DA2-B1B2-8C39573B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12D3D-5BEF-4E0A-918C-FBBA67EB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C5CA0-0594-48B1-90DE-D8A3D552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E3E2-13F3-473C-A279-580FFC03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E7907-EEE5-470D-8078-E696B000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991C-7CF7-49BE-A9D2-0C2675AF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638C-37BB-4828-B419-DC38037D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F0317-8A1C-47B5-96AE-665FFEAE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9126A-1B4C-430F-8A16-71D0914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DDF-2A00-4FFA-BF89-69EB4D4A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C972C-EE9D-4223-A609-11AD4569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9AEB7-34BC-497B-A698-C5C8D03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6E019-1581-4BD2-8F3B-CD48A83D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C8DD1-F1EC-4974-B1D5-17B63F01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3936-8FE6-4706-AE73-4AC73FB3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010-B739-4566-86AF-D3321FFB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5758-E965-42DF-9CD4-E7339E63B24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65EE-209D-47F9-B5D3-250DDBB089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CFDB-1D72-4CCF-9897-12AB2EEA36B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8009-C49F-45AC-B046-CCA277D9D5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F7E-20DC-4E6B-8B43-F6F8B8DA3DF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305C-1BCB-49C4-94E7-188F6E83C1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DCC1-9777-494B-AD21-1AB089452EC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65A8-BE1D-4389-BE86-DAEEC850B3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DD4B-BDBD-4B20-9CF5-AB2001D7640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DB11-2C2D-4252-867C-04F28E8BFD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8C81-50DD-4FC6-8257-042C8E4716A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E433-450D-4CA9-A7BF-0C2FE60ACD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81C8-3C46-43CF-8F93-A6BC50DC6E1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0793-CA4E-4D15-9786-9094C0D0A2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go.mail.ru/frame.html?imgurl=http://homeland.su/uploads/posts/2008-09/1220935326_may_57.jpg&amp;pageurl=http://homeland.su/index.php?newsid=106&amp;id=9703565&amp;iid=0&amp;imgwidth=381&amp;imgheight=450&amp;imgsize=146040&amp;images_links=b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go.mail.ru/frame.html?imgurl=http://www.k61.dn.ua/images/News/ekology.jpg&amp;pageurl=http://www.zovu.ru/adm/CSkA05.htm&amp;id=118048&amp;iid=6&amp;imgwidth=448&amp;imgheight=287&amp;imgsize=23700&amp;images_links=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o.mail.ru/frame.html?imgurl=http://www.iotekb.ru/assets/images/himiki/zavod.jpg&amp;pageurl=http://www.iotekb.ru/napravlenija/promyshlennaja_ekologija.html&amp;id=11640788&amp;iid=4&amp;imgwidth=797&amp;imgheight=412&amp;imgsize=19004&amp;images_links=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 Иванкина Дарь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какие проблемы имеют место быть в современном ми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умать, какие проблемы могли бы исчезнуть в будущ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модель цивилизации будуще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лобальные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важнейших глобальных пробл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57200" y="1447920"/>
            <a:ext cx="757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 Эколог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рового океа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C:\Users\Даша\Desktop\Моя_папкА\доклады\геогр\i[1].jpg"/>
          <p:cNvPicPr/>
          <p:nvPr/>
        </p:nvPicPr>
        <p:blipFill>
          <a:blip r:embed="rId2"/>
          <a:stretch/>
        </p:blipFill>
        <p:spPr>
          <a:xfrm>
            <a:off x="142920" y="28584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Даша\Desktop\Моя_папкА\доклады\геогр\i[6].jpg"/>
          <p:cNvPicPr/>
          <p:nvPr/>
        </p:nvPicPr>
        <p:blipFill>
          <a:blip r:embed="rId3"/>
          <a:stretch/>
        </p:blipFill>
        <p:spPr>
          <a:xfrm>
            <a:off x="6357960" y="1143000"/>
            <a:ext cx="2565360" cy="357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ttp://im0-tub.mail.ru/i?id=9703565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28960" y="2928960"/>
            <a:ext cx="2638440" cy="31161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http://im6-tub.mail.ru/i?id=118048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440" y="785880"/>
            <a:ext cx="41115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im4-tub.mail.ru/i?id=11640788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357120"/>
            <a:ext cx="4587840" cy="23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im8-tub.mail.ru/i?id=29733032&amp;tov=8"/>
          <p:cNvPicPr/>
          <p:nvPr/>
        </p:nvPicPr>
        <p:blipFill>
          <a:blip r:embed="rId6"/>
          <a:stretch/>
        </p:blipFill>
        <p:spPr>
          <a:xfrm>
            <a:off x="1857240" y="3390840"/>
            <a:ext cx="5000760" cy="3467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ы, которые решатся в будущ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" descr="C:\Users\Даша\Desktop\Моя_папкА\доклады\геогр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286000" y="2143080"/>
            <a:ext cx="885960" cy="176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3214800" y="2143080"/>
            <a:ext cx="885600" cy="1762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885600" cy="17622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28:24Z</dcterms:created>
  <dc:creator>Даша</dc:creator>
  <dc:description/>
  <dc:language>en-US</dc:language>
  <cp:lastModifiedBy>LEGION</cp:lastModifiedBy>
  <dcterms:modified xsi:type="dcterms:W3CDTF">2015-05-06T08:27:58Z</dcterms:modified>
  <cp:revision>12</cp:revision>
  <dc:subject/>
  <dc:title>Слайд 1</dc:title>
</cp:coreProperties>
</file>