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2C98-D8C7-4ED0-BBE5-63DA19C1A15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овая модель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 Иванкина Да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05B1-CD47-4F02-8AA4-CCB2A4F9A7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лушав курс «Глобальные проблемы человечества», представить модель будущей циви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5BB9-2DFF-4F64-A8AB-6019E2C291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какие проблемы имеют место быть в современном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ть, какие проблемы могли бы исчезнуть в буду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ть модель цивилизации буду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6994-AD10-41B5-B348-82F7507EFB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блемы и ситуации, которые затрагивают условия жизни и деятельности людей, содержат угрозу для настоящего и будущ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D102-B4CB-4EF3-BC0D-06CC0DDA4D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Виды важнейших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мира на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е и сырье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национ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л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CEA4-AF54-4AD9-8898-28B42D65BB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1B52-06AA-41D0-B67E-3622EFAF76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D607-C4C9-4DE5-A7CA-F3A580E48B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роблемы, которые решатся в буду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мира на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е и сырье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национ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л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DA1E-E268-4E4C-A6B0-E017D5A8D7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овая модель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2E44-6C48-4595-9259-4297CA9009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784-DCA6-4621-BB40-F188F7C4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E87-3E72-436C-A143-606E3D69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0ACE-C025-401D-A0D4-177CC49B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A657-8DA9-445C-861D-E6C72878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E13E-FDE6-456F-B138-B4304AFE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F9A4-CE6F-4100-BE68-17556A1D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0FEF-B992-4961-B942-55467A20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658A-4E6A-4D7B-AEAF-1ACC680C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8D2D-E76F-4B98-A101-0CD4E731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5D2B-F75C-44D1-977C-497F2033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536D-012C-4D9B-9F59-9630678E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C653-6E10-4582-841F-C5D473BA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0C76-3C68-490C-8B26-B42F32D1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F5F2-8E4E-4314-9D1C-4BE60748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3D03-04B1-4755-B70C-6D0FD757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9E36-6EE5-4560-8493-66DBAAA3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6A6A-4D4B-428B-AB18-78761C15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3CA1D-94C3-401B-8B78-F720E14D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E552B-C23F-4F45-93C1-AA9246C9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1D733-E857-4025-8F96-5F427B73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0CDD6-E554-45E7-B722-722535E4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0F8A1-5677-4B3B-8EA1-2FFED008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9C3-86C5-4865-8E88-66DD1E7E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9BC9A-80CB-485D-8136-1A55BD87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FEE97-A269-48F9-8079-DB590681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305BF-D783-47A6-ABCA-C69784BE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A2513-CE27-488C-95DB-08D0A5AF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6483A-F8C8-45BC-B3F1-93AE7E7B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F77F9-2D82-4FD6-9CD1-D15AB3E7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A90C4-F889-4B60-960A-FDCB39B4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080C1-28C4-43F6-98E8-434B88EA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E7458-09F3-4E77-B398-0A465D57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D33F0-5446-4D92-BF6A-3EC18ED3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9933-7311-4C9F-B72C-261ACEF0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4B716-5A12-4D83-8DD6-6023E684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3D666-C674-4031-975A-156E0EB4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DF2B4-FB4F-4AAF-8C3A-778FBC05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83576-5276-40B9-BCBF-9B24FE12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67E5B-FE24-4710-8E0A-85F52BBC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462DD-D902-410E-BD37-D2711326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97FC0-8704-48CB-B9F5-50A14AEC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5701D-DE8B-426C-B6C1-EA70AA09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BE200-A19A-4C77-80FA-309E9051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F6A0D-2410-44BF-8B65-7045A5CC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E5B3-5CF7-42F7-A41E-08B35F8C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F7EFA-4881-4AF7-B4A0-7EC66A41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5CC1B-5AB0-4658-A5FF-0AB1BB86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A5E8D-1E68-4FBB-BEFD-3A9F0C50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BC5FD-4251-4C7D-AE77-5BE90B93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91C72-1710-478A-B74F-804D2735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EEFA9-60AB-4A27-9AD6-5080652A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EBBCC-B87D-4A1F-871D-3BDA740C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FBA04-AE29-4D95-B6C0-5AA03534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85AAC-94A6-4405-A5F1-705CD33F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90DCE-3F0D-4BCE-914B-81E0B7B9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4BBE-4E14-4030-A345-05042F4D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3A683-5CF8-4A7C-8872-ECA6BAFB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95A92-3EA7-40B3-BF60-E6E0F724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18148-58AB-43BB-B151-E44F6151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09071-0CEC-47D4-A6AC-F05A9504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302B8-E52C-4C70-A8F5-CDC1F31F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DE9C0-3AFB-468F-B1C8-BF941980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48A30-B6D7-494A-8233-248974AB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081E3-F434-416D-82E4-F1551F36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2A91F-D509-44D9-8A88-48E6E207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16196-ACBF-43F7-AC14-DD01F559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EB67-35E3-43E4-A046-82988636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35B9B-9F3D-4948-BE98-71BE0B0D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11274-6270-4B2D-96E6-391CA118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3BC9B-9415-4B97-BC0B-C86DBCC4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FB661-4D94-4AFB-A0C5-D5A4CFC4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97A61-3B3E-497D-A229-5440AA89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B5495-68FF-4F1E-B207-5060F60C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F91AD-74BD-4E98-96E6-505063B8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DA828-EC80-490E-9B72-45DE9A11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C8BA3-F86E-4EAD-9DAD-FDC4C656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349D9-4025-4524-B3C1-4B177812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3F89-F1B6-4748-A981-BCFA879D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B8A8D-38F5-4108-8774-24BD1EBF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BBCBB-A93B-4755-A9C5-97F61FA8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97E2A-034A-4659-804D-2825F2A3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6F794-19BE-432C-9AAB-ED272051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402AE-E42C-4A39-AA55-18D807D9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676-0CAE-46DE-9CE3-AE7D317C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E244-19AC-48AF-A3BA-A8C77EC1C16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03D8-1982-4A8C-A87C-B4E3A5946E5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FF91-2252-4253-9160-59B87DA0CD7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0562-649E-43FD-9669-41FFB0FF6F8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05AA-B1BF-49C7-A54E-EE4B55634C8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FB11-D6B4-45F0-A40E-B6AE43C2E3C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A202-A33F-40DF-A764-119393CE8AD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B032-C960-4824-81FF-D09ACD705F2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67EF-2555-4B02-A6B0-5DF4D56436C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740F-0D33-468F-B064-DD94DA8D1C2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62CC-85E1-4273-BF61-5211CEAEB66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EEAD-8E46-4B43-979C-53182AB4A0C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5E6E-9102-4E90-AE28-A7897C7D569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2992-55AB-47AD-B896-A4765E914AD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go.mail.ru/frame.html?imgurl=http://homeland.su/uploads/posts/2008-09/1220935326_may_57.jpg&amp;pageurl=http://homeland.su/index.php?newsid=106&amp;id=9703565&amp;iid=0&amp;imgwidth=381&amp;imgheight=450&amp;imgsize=146040&amp;images_links=b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http://go.mail.ru/frame.html?imgurl=http://www.k61.dn.ua/images/News/ekology.jpg&amp;pageurl=http://www.zovu.ru/adm/CSkA05.htm&amp;id=118048&amp;iid=6&amp;imgwidth=448&amp;imgheight=287&amp;imgsize=23700&amp;images_links=b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go.mail.ru/frame.html?imgurl=http://www.iotekb.ru/assets/images/himiki/zavod.jpg&amp;pageurl=http://www.iotekb.ru/napravlenija/promyshlennaja_ekologija.html&amp;id=11640788&amp;iid=4&amp;imgwidth=797&amp;imgheight=412&amp;imgsize=19004&amp;images_links=b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овая модель цивилиза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Выполнила Иванкина Дарь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л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слушав курс «Глобальные проблемы человечества», представить модель будущей цивилиза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ч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яснить, какие проблемы имеют место быть в современном мир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умать, какие проблемы могли бы исчезнуть в будуще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ть модель цивилизации будущег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лобальные пробле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то проблемы и ситуации, которые затрагивают условия жизни и деятельности людей, содержат угрозу для настоящего и будуще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иды важнейших глобальных пробле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357200" y="1447920"/>
            <a:ext cx="7577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Сохранение мира на земл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нергетические и сырьев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довольствен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жнациональных отношен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 action="ppaction://hlinksldjump"/>
              </a:rPr>
              <a:t> Экологическ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графическ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стал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ирового океа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доровь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назад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Picture 2" descr="C:\Users\Даша\Desktop\Моя_папкА\доклады\геогр\i[1].jpg"/>
          <p:cNvPicPr/>
          <p:nvPr/>
        </p:nvPicPr>
        <p:blipFill>
          <a:blip r:embed="rId2"/>
          <a:stretch/>
        </p:blipFill>
        <p:spPr>
          <a:xfrm>
            <a:off x="142920" y="285840"/>
            <a:ext cx="3708360" cy="2471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C:\Users\Даша\Desktop\Моя_папкА\доклады\геогр\i[6].jpg"/>
          <p:cNvPicPr/>
          <p:nvPr/>
        </p:nvPicPr>
        <p:blipFill>
          <a:blip r:embed="rId3"/>
          <a:stretch/>
        </p:blipFill>
        <p:spPr>
          <a:xfrm>
            <a:off x="6357960" y="1143000"/>
            <a:ext cx="2565360" cy="35719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http://im0-tub.mail.ru/i?id=9703565&amp;tov=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28960" y="2928960"/>
            <a:ext cx="2638440" cy="311616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назад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Picture 2" descr="http://im6-tub.mail.ru/i?id=118048&amp;tov=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32440" y="785880"/>
            <a:ext cx="4111560" cy="26431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http://im4-tub.mail.ru/i?id=11640788&amp;tov=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4200" y="357120"/>
            <a:ext cx="4587840" cy="2386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http://im8-tub.mail.ru/i?id=29733032&amp;tov=8"/>
          <p:cNvPicPr/>
          <p:nvPr/>
        </p:nvPicPr>
        <p:blipFill>
          <a:blip r:embed="rId6"/>
          <a:stretch/>
        </p:blipFill>
        <p:spPr>
          <a:xfrm>
            <a:off x="1857240" y="3390840"/>
            <a:ext cx="5000760" cy="346716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облемы, которые решатся в будуще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хранение мира на земл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нергетические и сырьев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довольствен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жнациональных отношен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графическ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стал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доровь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овая модель цивилиза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1" descr="C:\Users\Даша\Desktop\Моя_папкА\доклады\геогр\Безымянны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2286000" y="2143080"/>
            <a:ext cx="885960" cy="1762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3"/>
          <a:stretch/>
        </p:blipFill>
        <p:spPr>
          <a:xfrm>
            <a:off x="3214800" y="2143080"/>
            <a:ext cx="885600" cy="1762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"/>
          <p:cNvPicPr/>
          <p:nvPr/>
        </p:nvPicPr>
        <p:blipFill>
          <a:blip r:embed="rId4"/>
          <a:stretch/>
        </p:blipFill>
        <p:spPr>
          <a:xfrm>
            <a:off x="3857760" y="2143080"/>
            <a:ext cx="885600" cy="17622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8:28:24Z</dcterms:created>
  <dc:creator>Даша</dc:creator>
  <dc:description/>
  <dc:language>en-US</dc:language>
  <cp:lastModifiedBy>LEGION</cp:lastModifiedBy>
  <dcterms:modified xsi:type="dcterms:W3CDTF">2015-05-06T08:27:58Z</dcterms:modified>
  <cp:revision>12</cp:revision>
  <dc:subject/>
  <dc:title>Слайд 1</dc:title>
</cp:coreProperties>
</file>