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1833-A702-403A-A52D-F7321AB44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1451-6597-4349-A2E4-DF0F54786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348C-06D2-4071-BB66-DC8CBEF06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0478-2811-4B0A-BC8B-1CF0D685D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экономический рост в стране «отвечает» крупный бизнес. Его же общество обвиняет во многих экологических грехах, при этом охотно давая себя вовлечь в гонку потребления, что по принципу обратной связи стимулирует развитие производства, в том числе гряз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ь социально и экологи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и ответственным – выгод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A2FD-C847-48CA-8509-2D6AF7EC1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9638-254F-43FB-B416-13F58E738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1AAB-8C59-4D8C-A9D3-42225FF82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8506-EEB2-481B-8E4D-3AAF1F856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первоначальный смысл – сохранение живой природы. Потом уже – новые смыслы: загрязнение воды и воздуха, экология души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B7F-BBAB-4732-8DA4-F6703B42E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«современное» понимание эк</a:t>
            </a:r>
            <a:r>
              <a:rPr b="0" lang="ru-RU" sz="20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огических проблем, связанное с изменениями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3D48-11C7-46D9-A3A8-8900371DB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E1BE-65EC-456B-8560-A31C44217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EB88-C021-4BC7-9331-C50838394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E8CD-803A-4EE9-A2C8-C09DD03C0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жет быть плохой или хорош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й. Синони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A6C3-21F6-4B66-891A-1178DC281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982 г. термином «устойчивое развитие» пользу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се – политики, экономисты, журн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0266-6041-4A6C-A2B0-07D617C0F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лесов рубитс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сжечь в печке в качестве 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8A8F-FAC0-4DCE-AFFE-3D1B797A7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6EBB-F45B-4BF5-A219-AAB7848A9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378C-6D0A-461B-B9AE-92C41A5D0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ть. Если нефтяные войны уже начались, то и водяные не за г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5B7A-3098-48D3-AF23-84A94399C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лес как ценность сам по себе, не зависит от ценности древесины. Эстетическая ценность тоже может быть посч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5392-79A8-49F7-B3F4-ECBF3D197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 меряется ВВП, ВРП, массой других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чем измерить уст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чивое развит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C8A-CE94-48C2-9F35-DCDA6A35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4F8-585E-465E-9255-71F389F2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A0E-9E0D-4116-86EC-9EF5503F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CAD-D837-467A-AC62-50CE8C8F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80D-F4EF-4967-AE86-B200767F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C19-840A-4D1A-BFC8-56C4696B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2EB-A887-49A3-981C-447219E1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334-F4C7-4A71-858F-59BB6EAE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D5C-2846-4545-A8EB-1A0DF090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7BB-A4A4-4144-B5CE-5D421F7F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529-525C-4F28-B30C-23D98253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4C5-EF45-4EA8-8020-8084AF7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2DC0-0718-460D-AAF3-F9485CCF4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2438280"/>
          <a:ext cx="8153280" cy="389592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трансп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осы СО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онн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щение количества взрослых дерев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з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Logo"/>
          <p:cNvPicPr/>
          <p:nvPr/>
        </p:nvPicPr>
        <p:blipFill>
          <a:blip r:embed="rId1"/>
          <a:stretch/>
        </p:blipFill>
        <p:spPr>
          <a:xfrm>
            <a:off x="304920" y="304920"/>
            <a:ext cx="1120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herepovez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Ryabina"/>
          <p:cNvPicPr/>
          <p:nvPr/>
        </p:nvPicPr>
        <p:blipFill>
          <a:blip r:embed="rId1"/>
          <a:stretch/>
        </p:blipFill>
        <p:spPr>
          <a:xfrm>
            <a:off x="-99072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276720" y="0"/>
            <a:ext cx="2286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9880" y="151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5053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767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352680" y="152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352680" y="1066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3352680" y="1981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3352680" y="28954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3352680" y="38098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3352680" y="4724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3352680" y="5638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3352680" y="6553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Vetryak"/>
          <p:cNvPicPr/>
          <p:nvPr/>
        </p:nvPicPr>
        <p:blipFill>
          <a:blip r:embed="rId1"/>
          <a:stretch/>
        </p:blipFill>
        <p:spPr>
          <a:xfrm>
            <a:off x="-1676520" y="-152280"/>
            <a:ext cx="6953400" cy="7010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acd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124080" y="609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124080" y="1676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124080" y="2743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3124080" y="3809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3124080" y="4876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1240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352680" y="1905120"/>
            <a:ext cx="57913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52680" y="0"/>
            <a:ext cx="5791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3124080" y="3049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124080" y="11430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124080" y="19810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3124080" y="28195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3124080" y="36576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124080" y="44956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3124080" y="53341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3124080" y="61722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ghg_effect"/>
          <p:cNvPicPr/>
          <p:nvPr/>
        </p:nvPicPr>
        <p:blipFill>
          <a:blip r:embed="rId1"/>
          <a:stretch/>
        </p:blipFill>
        <p:spPr>
          <a:xfrm>
            <a:off x="-45720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bpcundp20mm"/>
          <p:cNvPicPr/>
          <p:nvPr/>
        </p:nvPicPr>
        <p:blipFill>
          <a:blip r:embed="rId1"/>
          <a:stretch/>
        </p:blipFill>
        <p:spPr>
          <a:xfrm>
            <a:off x="609480" y="457200"/>
            <a:ext cx="457200" cy="8874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ecology-poll"/>
          <p:cNvPicPr/>
          <p:nvPr/>
        </p:nvPicPr>
        <p:blipFill>
          <a:blip r:embed="rId1"/>
          <a:stretch/>
        </p:blipFill>
        <p:spPr>
          <a:xfrm>
            <a:off x="1828800" y="1828800"/>
            <a:ext cx="491508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0:24:16Z</dcterms:created>
  <dc:creator>earmand</dc:creator>
  <dc:description/>
  <dc:language>en-US</dc:language>
  <cp:lastModifiedBy>LEGION</cp:lastModifiedBy>
  <dcterms:modified xsi:type="dcterms:W3CDTF">2015-05-06T08:28:29Z</dcterms:modified>
  <cp:revision>38</cp:revision>
  <dc:subject/>
  <dc:title>Чем занимается экология и экологическая программа ПРООН?</dc:title>
</cp:coreProperties>
</file>