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4AB5-5DC2-48CF-B57B-0B137E4FA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DDA5-CE5A-4B29-A48F-3C0F88B2C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E909-5319-4BA4-B27C-5F5CE4BAC8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2098-5C16-45C9-862D-5D7740CA6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экономический рост в стране «отвечает» крупный бизнес. Его же общество обвиняет во многих экологических грехах, при этом охотно давая себя вовлечь в гонку потребления, что по принципу обратной связи стимулирует развитие производства, в том числе гряз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ь социально и экологи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и ответственным – выгод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A65D-ED2A-4439-A8A7-84ED349783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4E17-17E0-414E-BDC7-F99492828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5494-D029-4FA8-80FA-E6168ACE7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EA3A-AD66-4453-961F-028A65743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первоначальный смысл – сохранение живой природы. Потом уже – новые смыслы: загрязнение воды и воздуха, экология души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9FB0-1B00-4459-ADAB-3BDAD114F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«современное» понимание эк</a:t>
            </a:r>
            <a:r>
              <a:rPr b="0" lang="ru-RU" sz="20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огических проблем, связанное с изменениями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85FD-6814-4D10-A985-51F611FEB9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2AD0-F70D-4986-827E-37B2AC91D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2C38-8FAA-4E37-9CD9-87B7447125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90CB-7913-4C98-9321-9AE6F1342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жет быть плохой или хорош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й. Синони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F6D8-56F9-4CAC-8AB6-3F49B31F8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982 г. термином «устойчивое развитие» пользу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се – политики, экономисты, журн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236D-1EFA-4597-BFB5-FD7AE0961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лесов рубитс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сжечь в печке в качестве 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C00B-6E32-440C-9E14-6B51265A9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0E68-0F56-462A-944B-A3098C724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D553-1B0F-429B-A629-91AA569E1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ть. Если нефтяные войны уже начались, то и водяные не за г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1EE8-5B55-4ECD-AC19-A20EE03484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лес как ценность сам по себе, не зависит от ценности древесины. Эстетическая ценность тоже может быть посч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358F-5247-4B50-AEC9-034FA2C2B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 меряется ВВП, ВРП, массой других показ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чем измерить уст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чивое развит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94B-DD2E-49A4-BE8D-D1AF71DD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CD1-2FEE-42E6-B093-BF806CE6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54B-0299-4AEF-B964-1EC359F6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5B9-86B3-4058-AF10-77639D28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705-5A5C-4DB7-B600-5E351C08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1A1-2E11-4A7A-B17D-64E7600E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C57-1906-4FBC-891D-BB50A9D9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83C-FD99-4A7A-B8E7-1F90D314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8E3-3232-4B07-9485-9B33BE6A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795-D51B-4D51-B61D-5B9B00C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CD3-B20E-407D-9CCF-4EEAA24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C45-09D9-4996-803B-910AFDA7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0853-3411-4FDC-BF54-429548D4E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2438280"/>
          <a:ext cx="8153280" cy="389592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трансп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осы СО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онн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щение количества взрослых дерев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ез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Logo"/>
          <p:cNvPicPr/>
          <p:nvPr/>
        </p:nvPicPr>
        <p:blipFill>
          <a:blip r:embed="rId1"/>
          <a:stretch/>
        </p:blipFill>
        <p:spPr>
          <a:xfrm>
            <a:off x="304920" y="304920"/>
            <a:ext cx="1120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herepovez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Ryabina"/>
          <p:cNvPicPr/>
          <p:nvPr/>
        </p:nvPicPr>
        <p:blipFill>
          <a:blip r:embed="rId1"/>
          <a:stretch/>
        </p:blipFill>
        <p:spPr>
          <a:xfrm>
            <a:off x="-99072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276720" y="0"/>
            <a:ext cx="2286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9880" y="151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5053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767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352680" y="152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352680" y="1066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3352680" y="1981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3352680" y="28954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3352680" y="38098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3352680" y="4724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3352680" y="5638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3352680" y="6553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Vetryak"/>
          <p:cNvPicPr/>
          <p:nvPr/>
        </p:nvPicPr>
        <p:blipFill>
          <a:blip r:embed="rId1"/>
          <a:stretch/>
        </p:blipFill>
        <p:spPr>
          <a:xfrm>
            <a:off x="-1676520" y="-152280"/>
            <a:ext cx="6953400" cy="7010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429000" y="0"/>
            <a:ext cx="5715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acd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81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124080" y="609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124080" y="1676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124080" y="2743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3124080" y="3809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3124080" y="4876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31240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352680" y="1905120"/>
            <a:ext cx="57913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52680" y="0"/>
            <a:ext cx="5791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33560" y="24382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3124080" y="3049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124080" y="11430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124080" y="19810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3124080" y="28195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3124080" y="36576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3124080" y="44956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3124080" y="53341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3124080" y="61722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ghg_effect"/>
          <p:cNvPicPr/>
          <p:nvPr/>
        </p:nvPicPr>
        <p:blipFill>
          <a:blip r:embed="rId1"/>
          <a:stretch/>
        </p:blipFill>
        <p:spPr>
          <a:xfrm>
            <a:off x="-45720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bpcundp20mm"/>
          <p:cNvPicPr/>
          <p:nvPr/>
        </p:nvPicPr>
        <p:blipFill>
          <a:blip r:embed="rId1"/>
          <a:stretch/>
        </p:blipFill>
        <p:spPr>
          <a:xfrm>
            <a:off x="609480" y="457200"/>
            <a:ext cx="457200" cy="8874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ecology-poll"/>
          <p:cNvPicPr/>
          <p:nvPr/>
        </p:nvPicPr>
        <p:blipFill>
          <a:blip r:embed="rId1"/>
          <a:stretch/>
        </p:blipFill>
        <p:spPr>
          <a:xfrm>
            <a:off x="1828800" y="1828800"/>
            <a:ext cx="491508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0:24:16Z</dcterms:created>
  <dc:creator>earmand</dc:creator>
  <dc:description/>
  <dc:language>en-US</dc:language>
  <cp:lastModifiedBy>LEGION</cp:lastModifiedBy>
  <dcterms:modified xsi:type="dcterms:W3CDTF">2015-05-06T08:28:29Z</dcterms:modified>
  <cp:revision>38</cp:revision>
  <dc:subject/>
  <dc:title>Чем занимается экология и экологическая программа ПРООН?</dc:title>
</cp:coreProperties>
</file>