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8246-69D8-434F-BEA5-78F5782AB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D848-40FD-4D88-9075-A0FB112DE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B00E-1A09-434F-B146-08114DF835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AA3B-6296-4A3A-9185-07A595881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экономический рост в стране «отвечает» крупный бизнес. Его же общество обвиняет во многих экологических грехах, при этом охотно давая себя вовлечь в гонку потребления, что по принципу обратной связи стимулирует развитие производства, в том числе гряз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ь социально и экологи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и ответственным – выгод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73B8-1684-4DDB-BB4A-F10614FE5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AFEC-0AB2-4DB6-B67C-0ECE694D0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6291-71C0-4D5D-9A47-0CF53F5EE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9091-310F-4208-9F67-CB759CE52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первоначальный смысл – сохранение живой природы. Потом уже – новые смыслы: загрязнение воды и воздуха, экология души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7534-E100-461E-96A2-EE5E533C3B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«современное» понимание эк</a:t>
            </a:r>
            <a:r>
              <a:rPr b="0" lang="ru-RU" sz="20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огических проблем, связанное с изменениями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4A81-F197-40C1-979F-F2F3B568B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BCE8-FD4E-4B68-A563-6B720A68F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3B38-5DE8-411A-B7D1-570C6E95B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595D-EDF6-49B1-B237-4440B34B7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жет быть плохой или хорош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й. Синони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5FB6-5B68-4592-B99A-5D9EAAE49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982 г. термином «устойчивое развитие» пользу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се – политики, экономисты, журн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5B1C-C569-4B06-91DE-B975DD31E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лесов рубитс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сжечь в печке в качестве 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9BA-3FC1-4293-9B1C-76A1EC2CDD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78B3-1B0E-4779-942C-0D9A74088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8425-5D10-4427-82BD-331AF7D127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ть. Если нефтяные войны уже начались, то и водяные не за г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4709-FDFE-414E-B793-B6C3CEE2F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лес как ценность сам по себе, не зависит от ценности древесины. Эстетическая ценность тоже может быть посч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B7F2-DF88-4AC7-A623-B84D36C24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 меряется ВВП, ВРП, массой других показ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чем измерить уст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чивое развит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2DF-F9F9-48B3-9FD7-A0ED9E3A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7EF-5D14-40AC-B825-D3A530FC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D3D-FA4C-4EFC-8919-56351E72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300-D417-429A-97F5-6A0DAED2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0A1-9ADD-4425-A1E4-E43C9DAF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24C-123C-4BDC-8F7D-4E741192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1DC-2140-4B5E-BAFA-016BDDFD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E51-18C0-488D-8C4A-1CAA3199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FBA-46BA-4BE4-8EB6-CFF19A6A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C91-81C5-47DC-876F-17390FA4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8C8-8917-432A-91B2-853BCD3D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D4F-7401-46E1-BC99-0256C89A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5C5E-95AF-44B9-8EE0-7870987A8C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2438280"/>
          <a:ext cx="8153280" cy="389592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трансп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(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осы СО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онн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щение количества взрослых деревь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ез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Logo"/>
          <p:cNvPicPr/>
          <p:nvPr/>
        </p:nvPicPr>
        <p:blipFill>
          <a:blip r:embed="rId1"/>
          <a:stretch/>
        </p:blipFill>
        <p:spPr>
          <a:xfrm>
            <a:off x="304920" y="304920"/>
            <a:ext cx="11206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herepovez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Ryabina"/>
          <p:cNvPicPr/>
          <p:nvPr/>
        </p:nvPicPr>
        <p:blipFill>
          <a:blip r:embed="rId1"/>
          <a:stretch/>
        </p:blipFill>
        <p:spPr>
          <a:xfrm>
            <a:off x="-99072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276720" y="0"/>
            <a:ext cx="2286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809880" y="1519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35053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767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3352680" y="152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352680" y="1066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3352680" y="1981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3352680" y="28954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3352680" y="38098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3352680" y="4724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3352680" y="5638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3352680" y="6553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Vetryak"/>
          <p:cNvPicPr/>
          <p:nvPr/>
        </p:nvPicPr>
        <p:blipFill>
          <a:blip r:embed="rId1"/>
          <a:stretch/>
        </p:blipFill>
        <p:spPr>
          <a:xfrm>
            <a:off x="-1676520" y="-152280"/>
            <a:ext cx="6953400" cy="7010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429000" y="0"/>
            <a:ext cx="5715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acd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81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124080" y="609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3124080" y="1676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124080" y="2743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3124080" y="3809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3124080" y="4876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31240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352680" y="1905120"/>
            <a:ext cx="57913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52680" y="0"/>
            <a:ext cx="5791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33560" y="24382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3124080" y="3049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3124080" y="11430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124080" y="19810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3124080" y="28195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3124080" y="36576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3124080" y="44956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3124080" y="53341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3124080" y="61722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ghg_effect"/>
          <p:cNvPicPr/>
          <p:nvPr/>
        </p:nvPicPr>
        <p:blipFill>
          <a:blip r:embed="rId1"/>
          <a:stretch/>
        </p:blipFill>
        <p:spPr>
          <a:xfrm>
            <a:off x="-45720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bpcundp20mm"/>
          <p:cNvPicPr/>
          <p:nvPr/>
        </p:nvPicPr>
        <p:blipFill>
          <a:blip r:embed="rId1"/>
          <a:stretch/>
        </p:blipFill>
        <p:spPr>
          <a:xfrm>
            <a:off x="609480" y="457200"/>
            <a:ext cx="457200" cy="8874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ecology-poll"/>
          <p:cNvPicPr/>
          <p:nvPr/>
        </p:nvPicPr>
        <p:blipFill>
          <a:blip r:embed="rId1"/>
          <a:stretch/>
        </p:blipFill>
        <p:spPr>
          <a:xfrm>
            <a:off x="1828800" y="1828800"/>
            <a:ext cx="491508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0:24:16Z</dcterms:created>
  <dc:creator>earmand</dc:creator>
  <dc:description/>
  <dc:language>en-US</dc:language>
  <cp:lastModifiedBy>LEGION</cp:lastModifiedBy>
  <dcterms:modified xsi:type="dcterms:W3CDTF">2015-05-06T08:28:29Z</dcterms:modified>
  <cp:revision>38</cp:revision>
  <dc:subject/>
  <dc:title>Чем занимается экология и экологическая программа ПРООН?</dc:title>
</cp:coreProperties>
</file>