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17E1-66ED-4139-898E-D49614C47D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цепция развития человека в современном мире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ие вопросы и развитие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Е.А.Арманд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-21 июля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58C14-8601-4312-8539-5ED83F5CCE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просы без ответа (по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колько быстрым (или медленным?) должно быть экономическое развитие, чтобы Общество осталось стабильным и благополучным, а чистая вода и воздух достались всем его члена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ажнее для Общества – любой ценой удвоить ВВП или не мешать жить серым китам и амурскому тигр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сэкономить ресурсы и не потерять при этом качество жизн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ется ли потерей качества жизни отказ от черной икры или 4-х литрового автомоби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9047B-434E-4F25-9050-C9D7393A11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9DE4-B880-41AC-AB31-FCBAA382E32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экономический рост в стране «отвечает» крупный бизнес. Его же общество обвиняет во многих экологических грехах, при этом охотно давая себя вовлечь в гонку потребления, что по принципу обратной связи стимулирует развитие производства, в том числе грязн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ь социально и экологич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с отве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обеспечить необходимый экономический рост, не разоряя «копилку» общества, данную нам природ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ли устойчив рост за счет наращивания добычи углеводородов? Что получает государство и что получает Обще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политика социально ответственных компаний – желание получить прибыль или искреннее намерение поменьше вредить окружающей сре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ит ли общество заверениям в лояльности к приро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и ответственным – выгод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отличить устойчивое развитие от простого рос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региональный продукт на душу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емкость В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 развития человеческого потенц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непереработанных отходов производства и потре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1B03-91CA-4134-8C33-002E18225F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ожет сделать каждый для устойчивого развит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оимость поезд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94C4-6C3D-432B-BC62-5744F83AC65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занимается экологическая программа ПРОО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D8BD-6864-4817-80B5-4E0F079DF11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1FE9-4EF4-4319-AD4A-65A80978C6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й первоначальный смысл – сохранение живой природы. Потом уже – новые смыслы: загрязнение воды и воздуха, экология души</a:t>
            </a:r>
            <a:r>
              <a:rPr b="1" lang="ru-RU" sz="1200" spc="-1" strike="noStrike">
                <a:solidFill>
                  <a:srgbClr val="ffff00"/>
                </a:solidFill>
                <a:latin typeface="Tahoma"/>
              </a:rPr>
              <a:t>Сохранение живой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ез обучение экологической грамот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ез создание новых источников заработка для местных общ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ез поддержку заповедников и природных парков, создание новых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храняемы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F64A-D165-4399-A47D-7E00631CE2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е «современное» понимание эк</a:t>
            </a:r>
            <a:r>
              <a:rPr b="0" lang="ru-RU" sz="2000" spc="-1" strike="noStrike">
                <a:solidFill>
                  <a:srgbClr val="3f5999"/>
                </a:solidFill>
                <a:latin typeface="Tahoma"/>
              </a:rPr>
              <a:t>Эффективное использование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уменьшение потерь тепла и энергии при транспортиров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усовершенствованную систему подсчета затраченной энергии и теп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использование не только традиционных видов топлива (газ, мазут), но и более дешевых, неиссякаемых (древесные отходы, геотермальные источн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внедрение новых технологий – напр. использование попутного газа при добыче уг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меньшение вреда от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огических проблем, связанное с изменениями клим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глеродный фонд для «Киотских» про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екты, невыгодные для крупных банков и фон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ая составляющая – решающий крите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DEEAA-260B-4218-9AF1-58E3112843C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лобальный доклад о развитии человеческого потенциала 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а окружающе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е и бережное использование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изменения клим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8011F-6C66-4288-829E-25AC856324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Вам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31F5A-716A-4185-987C-892B4253BE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8593-18FA-4610-A1C2-BAD65CDFD9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жет быть плохой или хорош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на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опроса «Что такое экология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й. Синони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3C6D-B428-49B7-9D73-8CE732FB28F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982 г. термином «устойчивое развитие» пользую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чего все начиналось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«Нам и внукам» (196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елы роста» - доклад Римского клуба (19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я ООН по устойчивому развитию в Рио-де-Жанейро (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ся все – политики, экономисты, журнал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37EE-AE52-49BE-83C4-9252EE03002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а лесов рубится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ие вызо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нтропогенные изменения клим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рязнение воздуха, почвы и воды отходами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хватка чистой (в т.ч. питьевой) 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чтожение лесов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пыльные бури, смыв плодородных почв, уменьшение кислорода в воздух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се эти негативные факторы – следстви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 ли развитие без ущерба человеку и приро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сжечь в печке в качестве 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менение клим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тем, что климат меняется, уже согласны в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се согласны с тем, что причина изменения климата – в основном челове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 – выгодно или полез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58396-708C-4C38-BBD6-69494BFE826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D29B-CA5D-456F-A503-7324E98E1B6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рязнение почвы, воды и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ждого жителя планеты ежегодно добывается около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20 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инерального сырья, 97 – 98 % его в виде отходов поступает затем в почву, воду, возду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источники окиси азота выбрасывают 30 млн т азота в год, а антропогенные - 35-50 млн т; двуокиси серы, соответственно, около 30 млн т и более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150 млн 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результате деятельности человека свинца попадает в биосферу почти в 10 раз больше, чем в процессе природных загрязн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ценкам экспертов, в океан ежегодно попадает около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10 млн т неф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E53A-455A-4CF9-A48E-558B681EBE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– такой же ресурс, как 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– такой же ресурс, как неф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у необходимо не менее 20–50 литров воды в день. Американцы потребляют в день 573 литра, итальянцы — 385 литров. В Мозамбике 10 литров воды в ден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– от 20 до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1 млрд человек на Земле лишены доступа к чистой в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ть. Если нефтяные войны уже начались, то и водяные не за го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5F98-0942-46DE-B806-278766F91A0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услуги – лес как ценность сам по себе, не зависит от ценности древесины. Эстетическая ценность тоже может быть посчЛ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и все увеличивающаяся ценность лесов в современном мире - их способность поглощать углекислоту и генерировать кислород. До 1960 г.,  пока пропорции кислорода и углекислоты в атмосфере Земли не менялись, на эту роль лесов никто не обращал внимания. Но в последующие годы экологическое значение лесов можно было выражать в финансово-экономических показател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ить Бразилии за сохранение лес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услуги – экономическая катег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41EAB-3B45-48CF-9E82-AAAB1A158D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звитие меряется ВВП, ВРП, массой других показ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чем измерить уст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стойчивое развитие – что под этим понимает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экономическое развитие – 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е благополучное общество - 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ронутые леса, горы и степи, чистые продукты, вода и воздух –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всего этого достичь одновременно? – Уравнение с тремя неизвест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йчивое развит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3364-4174-4B71-865D-94333755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F16A-86AD-4B54-BF81-1CC802513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F1E2-8747-4A82-BB79-A161BE69A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45CF-57FD-42FE-90CA-DF3FDF113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E655-5830-4D39-BAE0-CEAC9066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8100-977A-498F-B638-C216F09B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8E56-29FC-499D-B7E0-4AF0ABC4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3F52-55B5-458F-BD40-14FD29AB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2AE1-C853-4827-9F06-689A2CB2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F8C5-3D75-4B4B-A6CB-F8087343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F1E0-BD54-4060-B19A-13A36C855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DEF5-301A-4C03-9F87-2EC336A38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D36C0-B224-40B2-B3D1-7049673E9C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цепция развития человека в современном мире</a:t>
            </a:r>
            <a:br>
              <a:rPr sz="28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логические вопросы и развитие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.А.Арманд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-21 июля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опросы без ответа (по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колько быстрым (или медленным?) должно быть экономическое развитие, чтобы Общество осталось стабильным и благополучным, а чистая вода и воздух достались всем его член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важнее для Общества – любой ценой удвоить ВВП или не мешать жить серым китам и амурскому тигр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сэкономить ресурсы и не потерять при этом качество жиз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ется ли потерей качества жизни отказ от черной икры или 4-х литрового автомоби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ы с отве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ли обеспечить необходимый экономический рост, не разоряя «копилку» общества, данную нам природ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ли устойчив рост за счет наращивания добычи углеводородов? Что получает государство и что получает Об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ая политика социально ответственных компаний – желание получить прибыль или искреннее намерение поменьше вредить окружающей сре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ит ли общество заверениям в лояльности к прир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 отличить устойчивое развитие от простого ро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овый региональный продукт на душу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ергоемкость ВР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екс развития человеческого потенц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вень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непереработанных отходов производства и потреб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ожет сделать каждый для устойчивого разви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мость поез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3520" y="2438280"/>
          <a:ext cx="8153280" cy="389592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трансп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(к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росы СО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онн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щение количества взрослых деревь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бу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ез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6248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м занимается экологическая программа ПРОО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Logo"/>
          <p:cNvPicPr/>
          <p:nvPr/>
        </p:nvPicPr>
        <p:blipFill>
          <a:blip r:embed="rId1"/>
          <a:stretch/>
        </p:blipFill>
        <p:spPr>
          <a:xfrm>
            <a:off x="304920" y="304920"/>
            <a:ext cx="112068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herepovez"/>
          <p:cNvPicPr/>
          <p:nvPr/>
        </p:nvPicPr>
        <p:blipFill>
          <a:blip r:embed="rId2"/>
          <a:stretch/>
        </p:blipFill>
        <p:spPr>
          <a:xfrm>
            <a:off x="0" y="25146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Ryabina"/>
          <p:cNvPicPr/>
          <p:nvPr/>
        </p:nvPicPr>
        <p:blipFill>
          <a:blip r:embed="rId1"/>
          <a:stretch/>
        </p:blipFill>
        <p:spPr>
          <a:xfrm>
            <a:off x="-990720" y="0"/>
            <a:ext cx="45943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3276720" y="0"/>
            <a:ext cx="2286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9880" y="16002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обучение экологической грамо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создание новых источников заработка для местных общ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поддержку заповедников и природных парков, создание новы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храняемых объ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809880" y="1519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Сохранение живой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3505320" y="0"/>
            <a:ext cx="0" cy="6858000"/>
          </a:xfrm>
          <a:prstGeom prst="line">
            <a:avLst/>
          </a:prstGeom>
          <a:ln w="284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3276720" y="0"/>
            <a:ext cx="0" cy="6858000"/>
          </a:xfrm>
          <a:prstGeom prst="line">
            <a:avLst/>
          </a:prstGeom>
          <a:ln w="284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3352680" y="1522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352680" y="10666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3352680" y="19810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3352680" y="28954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3352680" y="38098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3352680" y="47242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3352680" y="56386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3352680" y="65530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Vetryak"/>
          <p:cNvPicPr/>
          <p:nvPr/>
        </p:nvPicPr>
        <p:blipFill>
          <a:blip r:embed="rId1"/>
          <a:stretch/>
        </p:blipFill>
        <p:spPr>
          <a:xfrm>
            <a:off x="-1676520" y="-152280"/>
            <a:ext cx="6953400" cy="7010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3429000" y="0"/>
            <a:ext cx="5715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8120" y="0"/>
            <a:ext cx="380880" cy="6858000"/>
          </a:xfrm>
          <a:prstGeom prst="rect">
            <a:avLst/>
          </a:prstGeom>
          <a:solidFill>
            <a:srgbClr val="acd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257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f5999"/>
                </a:solidFill>
                <a:latin typeface="Tahoma"/>
              </a:rPr>
              <a:t>Эффективное использование энер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5181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уменьшение потерь тепла и энергии при транспортиро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усовершенствованную систему подсчета затраченной энергии и теп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использование не только традиционных видов топлива (газ, мазут), но и более дешевых, неиссякаемых (древесные отходы, геотермальные источн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внедрение новых технологий – напр. использование попутного газа при добыче уг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меньшение вреда от тран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3429000" y="0"/>
            <a:ext cx="0" cy="6858000"/>
          </a:xfrm>
          <a:prstGeom prst="line">
            <a:avLst/>
          </a:prstGeom>
          <a:ln w="1908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3048120" y="0"/>
            <a:ext cx="0" cy="6858000"/>
          </a:xfrm>
          <a:prstGeom prst="line">
            <a:avLst/>
          </a:prstGeom>
          <a:ln w="1908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3124080" y="609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3124080" y="16765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3124080" y="2743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3124080" y="3809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3124080" y="48769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31240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352680" y="1905120"/>
            <a:ext cx="57913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352680" y="0"/>
            <a:ext cx="5791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80920" y="152280"/>
            <a:ext cx="48769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глеродный фонд для «Киотских»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33560" y="24382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екты, невыгодные для крупных банков и фон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циальная составляющая – решающий крите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048120" y="0"/>
            <a:ext cx="38088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3124080" y="30492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3124080" y="114300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3124080" y="198108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3124080" y="281952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3124080" y="365760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5"/>
          <p:cNvSpPr/>
          <p:nvPr/>
        </p:nvSpPr>
        <p:spPr>
          <a:xfrm>
            <a:off x="3124080" y="449568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6"/>
          <p:cNvSpPr/>
          <p:nvPr/>
        </p:nvSpPr>
        <p:spPr>
          <a:xfrm>
            <a:off x="3124080" y="533412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3124080" y="617220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1" descr="ghg_effect"/>
          <p:cNvPicPr/>
          <p:nvPr/>
        </p:nvPicPr>
        <p:blipFill>
          <a:blip r:embed="rId1"/>
          <a:stretch/>
        </p:blipFill>
        <p:spPr>
          <a:xfrm>
            <a:off x="-457200" y="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обальный доклад о развитии человеческого потенциала -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2590920"/>
            <a:ext cx="76201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рана окружающе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е и бережное использование энер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ствия изменения клим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bpcundp20mm"/>
          <p:cNvPicPr/>
          <p:nvPr/>
        </p:nvPicPr>
        <p:blipFill>
          <a:blip r:embed="rId1"/>
          <a:stretch/>
        </p:blipFill>
        <p:spPr>
          <a:xfrm>
            <a:off x="609480" y="457200"/>
            <a:ext cx="457200" cy="8874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Вам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то на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опроса «Что такое экология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ecology-poll"/>
          <p:cNvPicPr/>
          <p:nvPr/>
        </p:nvPicPr>
        <p:blipFill>
          <a:blip r:embed="rId1"/>
          <a:stretch/>
        </p:blipFill>
        <p:spPr>
          <a:xfrm>
            <a:off x="1828800" y="1828800"/>
            <a:ext cx="491508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чего все начина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а «Нам и внукам» (19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ределы роста» - доклад Римского клуба (197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еренция ООН по устойчивому развитию в Рио-де-Жанейро (1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выз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нтропогенные изменения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воздуха, почвы и воды отходами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хватка чистой (в т.ч. питьевой)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чтожение лесо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ыльные бури, смыв плодородных почв, уменьшение кислорода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 эти негативные факторы – следств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 ли развитие без ущерба человеку и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зменение клим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тем, что климат меняется, уже согласны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е согласны с тем, что причина изменения климата – в основном человече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отский Протокол – выгодно или полез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грязнение почвы, воды и возду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ждого жителя планеты ежегодно добывается около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20 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инерального сырья, 97 – 98 % его в виде отходов поступает затем в почву, воду, возду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ные источники окиси азота выбрасывают 30 млн т азота в год, а антропогенные - 35-50 млн т; двуокиси серы, соответственно, около 30 млн т и более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0 млн 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результате деятельности человека свинца попадает в биосферу почти в 10 раз больше, чем в процессе природных загряз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ценкам экспертов, в океан ежегодно попадает около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0 млн т неф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– такой же ресурс, как неф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у необходимо не менее 20–50 литров воды в день. Американцы потребляют в день 573 литра, итальянцы — 385 литров. В Мозамбике 10 литров воды в д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– от 20 до 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1 млрд человек на Земле лишены доступа к чистой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лавная и все увеличивающаяся ценность лесов в современном мире - их способность поглощать углекислоту и генерировать кислород. До 1960 г.,  пока пропорции кислорода и углекислоты в атмосфере Земли не менялись, на эту роль лесов никто не обращал внимания. Но в последующие годы экологическое значение лесов можно было выражать в финансово-экономических показателя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латить Бразилии за сохранение лесов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кологические услуги – экономическая катего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тойчивое развитие – что под этим поним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е экономическое развитие – 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бильное благополучное общество - 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ронутые леса, горы и степи, чистые продукты, вода и воздух –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всего этого достичь одновременно? – Уравнение с тремя неизвест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0:24:16Z</dcterms:created>
  <dc:creator>earmand</dc:creator>
  <dc:description/>
  <dc:language>en-US</dc:language>
  <cp:lastModifiedBy>LEGION</cp:lastModifiedBy>
  <dcterms:modified xsi:type="dcterms:W3CDTF">2015-05-06T08:28:29Z</dcterms:modified>
  <cp:revision>38</cp:revision>
  <dc:subject/>
  <dc:title>Чем занимается экология и экологическая программа ПРООН?</dc:title>
</cp:coreProperties>
</file>