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A62E-60FD-4793-9BCE-955C8054A1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ЭКОЛОГИИ КОММОНЕ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ны в начале 70-х годов XX в. американским ученым Б. Коммонер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57A2-1CD0-443C-9F7D-CD4EBE2CE9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ерв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связано со вс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116-F8BD-4807-9285-B6C7F704AC6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торо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се должно куда-то деватьс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C8E-4374-46C3-A307-E25A5A92829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ет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ирода "знает"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63E-D47B-491C-8092-AA0CC65E68F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тверты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647-32F5-4F65-87DE-779767FC633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E7D-2736-436D-BEA1-C280BA39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CCD-E213-44DD-957B-85B20AEC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00E-4E3A-4297-AB5D-2D0E0A7C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AFE-3E37-4F4D-8B78-F6D68CB9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4B50-7A6E-49C4-B696-BFEDA69A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1837-FBC2-4BB1-9A96-59E65B7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6239-53F0-44F3-81AE-C3A57ECA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EFF3-21C0-4EF0-890C-CB3B42F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91FB-EAFD-410D-BB20-F9CDE805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3F0-6437-4FDF-9A05-D76FC1D1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90D9-B86D-46D4-B696-15F3990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71A-1D63-4243-8AC5-41AC0473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419C-C234-4458-86BB-56B9A8D4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0C11-62A1-41EF-8502-99A06463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BE9E-C4ED-4FBB-B677-A554A44A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28B8-0FAD-4A55-900C-45F1A4B1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2F95-2C5C-4103-9472-577DCE6E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59D-DAC8-4E48-9D4D-6723D0FB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E07-CBDE-42D4-A604-A7AF4A96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6CD-74E5-4EA8-A977-023BBA3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4F6-9362-4E09-8AD0-B8A04AC5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F2D-E86F-44CB-9934-E2D903D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8B8-B747-45F2-8FA0-A5F81E29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30E-46C7-4DDA-AB9C-1BD2123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AD23-4631-4CC0-8A10-B9753E7CD1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20E-9AFF-4CF2-8E0F-012CA542F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КОНЫ ЭКОЛОГИИ КОММОНЕ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формулированы в начале 70-х годов XX в. американским ученым Б. Коммоне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Перв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6960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связано со вс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б экосистемах и биосфере, обращающий внимание на всеобщую связь процессов и явлений в природе. Он призван предостеречь человека от необдуманного воздействия на отдельные части экосистем, что может привести к непредвиденным последствиям, (например, осушение болот приводит к обмелению рек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Второ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Все должно куда-то деватьс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закон о хозяйственной деятельности человека, отходы от которых неизбежны, и потому необходимо думать как об уменьшении их количества, так и о последующем их использован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Трети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рирода "знает" лучше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зумного, сознательного природопользования. Нельзя забывать, что человек - тоже биологический вид, что он - часть природы, а не ее властелин. Это означает, что нельзя пытаться покорить природу, а нужно сотрудничать с ней. Пока мы не имеем полной информации о механизмах и функциях природы, а без точного знания последствий преобразования природы недопустимы никакие ее "улучшения"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Четвертый зако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Ничто не дается даром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закон рационального природопользования. "...Глобальная экосистема представляет собой единое целое, в рамках которого ничего не может быть выиграно или потеряно и которая не может являться объектом всеобщего улучшения". Платить нужно энергией за дополнительную очистку отходов, удобрением - за повышение урожая, санаториями и лекарствами - за ухудшение здоровья человека и т 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36:26Z</dcterms:created>
  <dc:creator>Paradise</dc:creator>
  <dc:description/>
  <dc:language>en-US</dc:language>
  <cp:lastModifiedBy>LEGION</cp:lastModifiedBy>
  <dcterms:modified xsi:type="dcterms:W3CDTF">2015-05-06T08:28:42Z</dcterms:modified>
  <cp:revision>4</cp:revision>
  <dc:subject/>
  <dc:title>ЗАКОНЫ ЭКОЛОГИИ КОММОНЕРА </dc:title>
</cp:coreProperties>
</file>