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440B-EDF3-40D5-B213-2F2F589F91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ЭКОЛОГИИ КОММОНЕ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ны в начале 70-х годов XX в. американским ученым Б. Коммонер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471-D5AE-4FA8-9B41-ADFDD31C043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ерв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связано со вс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5D17-6246-4C79-8EED-46EC7C74C6F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торо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должно куда-то деватьс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F08B-F26F-4892-8495-6FAC2F89AB5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ет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ирода "знает"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B31E-8F3F-4E18-8B24-4BC5D316EF2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тверт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FD15-67FD-468D-8040-624E6981D92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DED-549E-4750-AABE-42A80838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934-7ACA-4683-BA22-FD2BC89E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227-79DE-46EB-AD2B-FFC6162D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7F6-1B6E-4406-8E29-D72AF185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0A1-C452-4789-ADB4-27935B75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C2EB-E7E3-4730-BFC0-4D261A5E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CC1D-E8E8-47D3-A0FA-F765B76A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5621-2E69-4D7A-A53E-52ECC94A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A5E6-F06C-4DB7-A968-9615B4B4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701C-EE9A-45A3-B4E1-319413A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C35E-5D0C-4832-8501-B2FBE21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9E4-B792-4EC7-8E22-75A67D11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0DA3-F6B4-48D9-B61C-4FBE9B7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CD18-07EB-4ED1-B85F-7C2830EB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CBD4-40B2-40DB-8999-4B84725D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E23-4158-4D48-B3BA-AE6C65E8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4E44-BB0C-43B6-916A-FF2BDA15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433-BE52-41FC-88A9-AB60A8FB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6AF-424A-49A3-AB75-A7E73089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BE1-41F4-43BC-AA69-EB6164E8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C59-D2D8-4976-AB38-5503F6D4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D29-C59B-4259-A2DD-6A1251A0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647-FD88-41F8-8B7E-B8EEDC0E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E59-5A2A-4415-832B-966ABEF0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95E7-43C7-4D13-9C70-028E61B532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69A1-0ADA-4849-963F-DE39802A52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060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КОНЫ ЭКОЛОГИИ КОММОНЕ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формулированы в начале 70-х годов XX в. американским ученым Б. Коммоне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Перв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связано со вс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Второ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должно куда-то деватьс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Трети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Природа "знает" лучше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Четверт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36:26Z</dcterms:created>
  <dc:creator>Paradise</dc:creator>
  <dc:description/>
  <dc:language>en-US</dc:language>
  <cp:lastModifiedBy>LEGION</cp:lastModifiedBy>
  <dcterms:modified xsi:type="dcterms:W3CDTF">2015-05-06T08:28:42Z</dcterms:modified>
  <cp:revision>4</cp:revision>
  <dc:subject/>
  <dc:title>ЗАКОНЫ ЭКОЛОГИИ КОММОНЕРА </dc:title>
</cp:coreProperties>
</file>