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5.png" ContentType="image/png"/>
  <Override PartName="/ppt/media/image24.jpeg" ContentType="image/jpeg"/>
  <Override PartName="/ppt/media/image21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5.wmf" ContentType="image/x-wmf"/>
  <Override PartName="/ppt/media/image2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F4C9-D66E-4930-B132-406C0D31EE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B5A5-6CE5-4B22-814E-D6C52A54457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69B4-F65B-4AA9-A7D5-159D611AFF1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6ED5-58F5-4289-B9FC-357074C17990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00E8-362C-48A4-9B4D-F1E5739FBEAB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220C-3A91-414F-8A42-DBEA560CE8D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14A1-23B8-4901-9234-A113DC0F847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AE4E-C535-4B91-840C-B7B57670717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F53A-13DD-4770-A601-3D4CC699C5EF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88A8-C4DE-4E28-B84E-B11B6F449A16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0ACE-E38C-4064-B06E-C4EC42DFD95F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C52C-7A32-40B0-ABF2-A725716821D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A5DA-4019-4F9F-A1C6-F835EC061BB5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8BB2-123D-4EDB-9866-78BD22EF085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0294-7080-49C2-A6E5-3BB1018232F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1200"/>
            </a:b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151D-6120-4834-B22E-89C378F92B53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C6C-35F9-4DA8-A951-1631C392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E8E-7046-4C7B-94A0-1F1FC440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51D-4081-4F8B-B95A-5FD9E9A1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FF8-E6A5-4B97-8DD7-A14DFC43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2F07-BBCF-4034-B373-81B654E8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9913-5E7A-4A93-855F-FB691719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53BC-9686-4ACD-9004-44FED29B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8BE0-2A0E-4899-AB58-3C604A14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A0C5-8173-4C25-A4E5-B7884EFA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CB22-90EC-4D5A-8740-E583262E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963E-3722-47CE-B068-0DBC5B5E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FFA-3889-4D8D-9A16-B82997AD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F537-48A5-427D-8C40-06DC4D99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074B-C392-4C94-AD9A-3B6BEE53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C0CD-6B39-4806-9D8F-CCFA7E31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1041-5107-4E52-940D-3CDF090B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B700-0BB6-412E-BCE4-BF57BED6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CFE-40E0-4143-B952-DB0E0EEA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B26-B700-40D2-9312-4242C04F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789-7EE1-4DAA-A4FF-32DFFFE4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F7D-547A-4510-A950-A3921D0A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DD5-5560-42B7-82A1-672008B1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758-1649-42FC-90C3-90F65A3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C9E-6FAF-4267-8C61-526D8B08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DF7E-4524-4F5A-8C6C-2A006F90115D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FB3E-FA38-419E-A320-27414E6EF1C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21.wmf"/><Relationship Id="rId7" Type="http://schemas.openxmlformats.org/officeDocument/2006/relationships/image" Target="../media/image15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Глобальные проблемы современности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WordArt 37"/>
          <p:cNvSpPr txBox="1"/>
          <p:nvPr/>
        </p:nvSpPr>
        <p:spPr>
          <a:xfrm>
            <a:off x="1295280" y="1447920"/>
            <a:ext cx="20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Ш.Фурь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58" name="Group 40"/>
          <p:cNvGrpSpPr/>
          <p:nvPr/>
        </p:nvGrpSpPr>
        <p:grpSpPr>
          <a:xfrm>
            <a:off x="3505320" y="1311120"/>
            <a:ext cx="5098680" cy="825480"/>
            <a:chOff x="3505320" y="1311120"/>
            <a:chExt cx="5098680" cy="825480"/>
          </a:xfrm>
        </p:grpSpPr>
        <p:sp>
          <p:nvSpPr>
            <p:cNvPr id="259" name="Text Box 38"/>
            <p:cNvSpPr/>
            <p:nvPr/>
          </p:nvSpPr>
          <p:spPr>
            <a:xfrm>
              <a:off x="4393800" y="1311120"/>
              <a:ext cx="421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йны-постоянный спутник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39"/>
            <p:cNvSpPr/>
            <p:nvPr/>
          </p:nvSpPr>
          <p:spPr>
            <a:xfrm>
              <a:off x="3505320" y="1676520"/>
              <a:ext cx="9144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WordArt 41"/>
          <p:cNvSpPr txBox="1"/>
          <p:nvPr/>
        </p:nvSpPr>
        <p:spPr>
          <a:xfrm>
            <a:off x="2600280" y="2286000"/>
            <a:ext cx="4791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500 лет -300 лет мира</a:t>
            </a:r>
            <a:endParaRPr b="1" lang="en-US" sz="2800" spc="1" strike="noStrike">
              <a:ln w="936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42"/>
          <p:cNvSpPr txBox="1"/>
          <p:nvPr/>
        </p:nvSpPr>
        <p:spPr>
          <a:xfrm>
            <a:off x="2362320" y="3666960"/>
            <a:ext cx="5352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XX век-2 мировые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63" name="WordArt 43"/>
          <p:cNvSpPr txBox="1"/>
          <p:nvPr/>
        </p:nvSpPr>
        <p:spPr>
          <a:xfrm>
            <a:off x="1600200" y="4495680"/>
            <a:ext cx="691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 мировая-гибель человечества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64" name="Group 46"/>
          <p:cNvGrpSpPr/>
          <p:nvPr/>
        </p:nvGrpSpPr>
        <p:grpSpPr>
          <a:xfrm>
            <a:off x="1066680" y="5105520"/>
            <a:ext cx="3276720" cy="1133280"/>
            <a:chOff x="1066680" y="5105520"/>
            <a:chExt cx="3276720" cy="1133280"/>
          </a:xfrm>
        </p:grpSpPr>
        <p:sp>
          <p:nvSpPr>
            <p:cNvPr id="265" name="WordArt 44"/>
            <p:cNvSpPr txBox="1"/>
            <p:nvPr/>
          </p:nvSpPr>
          <p:spPr>
            <a:xfrm>
              <a:off x="1066680" y="5715000"/>
              <a:ext cx="3276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28440">
                    <a:solidFill>
                      <a:srgbClr val="000099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Ядерная зима</a:t>
              </a:r>
              <a:endParaRPr b="1" lang="en-US" sz="2800" spc="1" strike="noStrike">
                <a:ln w="2844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66" name="AutoShape 45"/>
            <p:cNvSpPr/>
            <p:nvPr/>
          </p:nvSpPr>
          <p:spPr>
            <a:xfrm>
              <a:off x="2361960" y="5105520"/>
              <a:ext cx="381240" cy="685800"/>
            </a:xfrm>
            <a:prstGeom prst="downArrow">
              <a:avLst>
                <a:gd name="adj1" fmla="val 50000"/>
                <a:gd name="adj2" fmla="val 44972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49"/>
          <p:cNvGrpSpPr/>
          <p:nvPr/>
        </p:nvGrpSpPr>
        <p:grpSpPr>
          <a:xfrm>
            <a:off x="4495680" y="5562720"/>
            <a:ext cx="4419720" cy="914400"/>
            <a:chOff x="4495680" y="5562720"/>
            <a:chExt cx="4419720" cy="914400"/>
          </a:xfrm>
        </p:grpSpPr>
        <p:sp>
          <p:nvSpPr>
            <p:cNvPr id="268" name="WordArt 47"/>
            <p:cNvSpPr txBox="1"/>
            <p:nvPr/>
          </p:nvSpPr>
          <p:spPr>
            <a:xfrm>
              <a:off x="5372280" y="5562720"/>
              <a:ext cx="3543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Продолжение гонки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ffbf00"/>
                      </a:gs>
                    </a:gsLst>
                    <a:lin ang="5400000"/>
                  </a:gradFill>
                  <a:latin typeface="Arial"/>
                </a:rPr>
                <a:t>вооружений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ffbf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69" name="AutoShape 48"/>
            <p:cNvSpPr/>
            <p:nvPr/>
          </p:nvSpPr>
          <p:spPr>
            <a:xfrm>
              <a:off x="4495680" y="5791320"/>
              <a:ext cx="762120" cy="380880"/>
            </a:xfrm>
            <a:prstGeom prst="leftArrow">
              <a:avLst>
                <a:gd name="adj1" fmla="val 50000"/>
                <a:gd name="adj2" fmla="val 50024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войны и мира в современных условия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2438280" y="1219320"/>
            <a:ext cx="5143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условия недопущения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ядерной вой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883080" y="2581200"/>
            <a:ext cx="7902720" cy="350676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 приоритета общечеловеческих цен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ностей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отказ от войны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как средства решения конф-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ликтов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изнание права народов самостоятельно 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вободно выбирать свою судьбу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онимание взаимосвязанности современного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ира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WordArt 4"/>
          <p:cNvSpPr txBox="1"/>
          <p:nvPr/>
        </p:nvSpPr>
        <p:spPr>
          <a:xfrm>
            <a:off x="228600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77" name="Group 9"/>
          <p:cNvGrpSpPr/>
          <p:nvPr/>
        </p:nvGrpSpPr>
        <p:grpSpPr>
          <a:xfrm>
            <a:off x="1371600" y="2209680"/>
            <a:ext cx="7324560" cy="1143000"/>
            <a:chOff x="1371600" y="2209680"/>
            <a:chExt cx="7324560" cy="1143000"/>
          </a:xfrm>
        </p:grpSpPr>
        <p:sp>
          <p:nvSpPr>
            <p:cNvPr id="278" name="WordArt 6"/>
            <p:cNvSpPr txBox="1"/>
            <p:nvPr/>
          </p:nvSpPr>
          <p:spPr>
            <a:xfrm>
              <a:off x="1371600" y="2209680"/>
              <a:ext cx="222876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Развитые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страны</a:t>
              </a:r>
              <a:endPara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279" name="WordArt 7"/>
            <p:cNvSpPr txBox="1"/>
            <p:nvPr/>
          </p:nvSpPr>
          <p:spPr>
            <a:xfrm>
              <a:off x="4952880" y="2286000"/>
              <a:ext cx="374328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Развивающиес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760000"/>
                      </a:gs>
                      <a:gs pos="50000">
                        <a:srgbClr val="ff0000"/>
                      </a:gs>
                      <a:gs pos="100000">
                        <a:srgbClr val="760000"/>
                      </a:gs>
                    </a:gsLst>
                    <a:lin ang="5400000"/>
                  </a:gradFill>
                  <a:latin typeface="Arial"/>
                </a:rPr>
                <a:t>страны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80" name="AutoShape 8"/>
            <p:cNvSpPr/>
            <p:nvPr/>
          </p:nvSpPr>
          <p:spPr>
            <a:xfrm>
              <a:off x="3657600" y="2438280"/>
              <a:ext cx="1214280" cy="486000"/>
            </a:xfrm>
            <a:prstGeom prst="leftRightArrow">
              <a:avLst>
                <a:gd name="adj1" fmla="val 50000"/>
                <a:gd name="adj2" fmla="val 4973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10"/>
          <p:cNvSpPr/>
          <p:nvPr/>
        </p:nvSpPr>
        <p:spPr>
          <a:xfrm>
            <a:off x="2806200" y="3962520"/>
            <a:ext cx="4161240" cy="192276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50-60-освобождени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70-быстрый экономическ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ост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80-замедление,внешние за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имствова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3809880" y="3143160"/>
            <a:ext cx="1981440" cy="571680"/>
            <a:chOff x="3809880" y="3143160"/>
            <a:chExt cx="1981440" cy="571680"/>
          </a:xfrm>
        </p:grpSpPr>
        <p:sp>
          <p:nvSpPr>
            <p:cNvPr id="283" name="WordArt 11"/>
            <p:cNvSpPr txBox="1"/>
            <p:nvPr/>
          </p:nvSpPr>
          <p:spPr>
            <a:xfrm>
              <a:off x="3809880" y="3276720"/>
              <a:ext cx="914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60 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  <p:sp>
          <p:nvSpPr>
            <p:cNvPr id="284" name="WordArt 13"/>
            <p:cNvSpPr txBox="1"/>
            <p:nvPr/>
          </p:nvSpPr>
          <p:spPr>
            <a:xfrm>
              <a:off x="5048280" y="3143160"/>
              <a:ext cx="743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26:1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85" name="Group 16"/>
          <p:cNvGrpSpPr/>
          <p:nvPr/>
        </p:nvGrpSpPr>
        <p:grpSpPr>
          <a:xfrm>
            <a:off x="2743200" y="6029280"/>
            <a:ext cx="4267080" cy="590760"/>
            <a:chOff x="2743200" y="6029280"/>
            <a:chExt cx="4267080" cy="590760"/>
          </a:xfrm>
        </p:grpSpPr>
        <p:sp>
          <p:nvSpPr>
            <p:cNvPr id="286" name="WordArt 12"/>
            <p:cNvSpPr txBox="1"/>
            <p:nvPr/>
          </p:nvSpPr>
          <p:spPr>
            <a:xfrm>
              <a:off x="2743200" y="6095880"/>
              <a:ext cx="197172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cc33"/>
                  </a:solidFill>
                  <a:latin typeface="Arial"/>
                </a:rPr>
                <a:t>сер.90 гг.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  <a:ea typeface="Arial"/>
              </a:endParaRPr>
            </a:p>
          </p:txBody>
        </p:sp>
        <p:sp>
          <p:nvSpPr>
            <p:cNvPr id="287" name="WordArt 15"/>
            <p:cNvSpPr txBox="1"/>
            <p:nvPr/>
          </p:nvSpPr>
          <p:spPr>
            <a:xfrm>
              <a:off x="6172200" y="6029280"/>
              <a:ext cx="8380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40:1</a:t>
              </a:r>
              <a:endPara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sp>
        <p:nvSpPr>
          <p:cNvPr id="288" name="Місце для нижнього колонтитула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а Север-Юг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0" name="WordArt 3"/>
          <p:cNvSpPr txBox="1"/>
          <p:nvPr/>
        </p:nvSpPr>
        <p:spPr>
          <a:xfrm>
            <a:off x="2235240" y="1219320"/>
            <a:ext cx="5232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евер-Юг</a:t>
            </a:r>
            <a:endParaRPr b="1" lang="en-US" sz="2800" spc="1" strike="noStrike">
              <a:ln w="2844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3794040" y="2286000"/>
            <a:ext cx="211464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ичины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701720" y="2819520"/>
            <a:ext cx="6299280" cy="11912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ыстрый рост населения на Юге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литика Севера- «Юг-сырьевой придаток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17"/>
          <p:cNvSpPr txBox="1"/>
          <p:nvPr/>
        </p:nvSpPr>
        <p:spPr>
          <a:xfrm>
            <a:off x="2984400" y="4191120"/>
            <a:ext cx="3733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221304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Пути преодоления</a:t>
            </a:r>
            <a:endParaRPr b="1" lang="en-US" sz="2800" spc="1" strike="noStrike">
              <a:ln w="9360">
                <a:solidFill>
                  <a:srgbClr val="221304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069640" y="4848120"/>
            <a:ext cx="5563440" cy="155700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азумная демографическая политик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гонки вооружений и нап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авление денежных средств в стран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«третьего мира»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Каковы основные глобальные проблемы современности? Чем вызвано их появл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Каковы основные принципы миропорядка, которые могут предотвратить угрозу новой мировой вой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В чём заключается проблема «Север-Юг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омашнее задание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готовить сообщени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мографические проблемы в мире и Ро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котики – глобальная проблем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Д – чум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рроризм – глобальная проблем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нности и противоречия современного мир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роцесс интеграции между организациями, государствами, охватывающий различные сферы жизни общества, называется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обализация мирового хозяй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Приведите примеры «+» и «-» влияния процесса глобализации на жизнь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19280" y="3860640"/>
            <a:ext cx="115236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419640" y="3860640"/>
            <a:ext cx="129672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435640" y="3860640"/>
            <a:ext cx="1657440" cy="28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лан изучения нового материала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Понятие «глобальные проблемы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Характеристика некоторых глобальных проблем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логический кризис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войны и мира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облема «Север-Юг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WordArt 131"/>
          <p:cNvSpPr txBox="1"/>
          <p:nvPr/>
        </p:nvSpPr>
        <p:spPr>
          <a:xfrm>
            <a:off x="1143000" y="1219320"/>
            <a:ext cx="159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-я пол.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0 века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35" name="Group 134"/>
          <p:cNvGrpSpPr/>
          <p:nvPr/>
        </p:nvGrpSpPr>
        <p:grpSpPr>
          <a:xfrm>
            <a:off x="3048120" y="1219320"/>
            <a:ext cx="5686200" cy="1143000"/>
            <a:chOff x="3048120" y="1219320"/>
            <a:chExt cx="5686200" cy="1143000"/>
          </a:xfrm>
        </p:grpSpPr>
        <p:sp>
          <p:nvSpPr>
            <p:cNvPr id="136" name="AutoShape 132"/>
            <p:cNvSpPr/>
            <p:nvPr/>
          </p:nvSpPr>
          <p:spPr>
            <a:xfrm>
              <a:off x="3048120" y="1571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WordArt 133"/>
            <p:cNvSpPr txBox="1"/>
            <p:nvPr/>
          </p:nvSpPr>
          <p:spPr>
            <a:xfrm>
              <a:off x="4114800" y="1219320"/>
              <a:ext cx="46195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роблемы выживания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221304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человечества</a:t>
              </a:r>
              <a:endParaRPr b="1" lang="en-US" sz="2800" spc="1" strike="noStrike">
                <a:ln w="9360">
                  <a:solidFill>
                    <a:srgbClr val="221304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38" name="Text Box 135"/>
          <p:cNvSpPr/>
          <p:nvPr/>
        </p:nvSpPr>
        <p:spPr>
          <a:xfrm>
            <a:off x="1104120" y="2971800"/>
            <a:ext cx="7689600" cy="302004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дотвращение 3-ей мировой войн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реодоление экологического кризис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окращение разницы уровня развития между разв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тыми государствами и странами «3 мира»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стабилизация демографической ситуации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наркоманией,СПИД и т.д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орьба с международным терроризмом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возрождение культурных и нравственных ценностей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онятие «глобальные проблемы»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WordArt 8"/>
          <p:cNvSpPr txBox="1"/>
          <p:nvPr/>
        </p:nvSpPr>
        <p:spPr>
          <a:xfrm>
            <a:off x="1295280" y="990720"/>
            <a:ext cx="7115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latin typeface="Arial"/>
              </a:rPr>
              <a:t>причины глобальных проблем</a:t>
            </a:r>
            <a:endParaRPr b="1" lang="en-US" sz="2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42" name="Group 11"/>
          <p:cNvGrpSpPr/>
          <p:nvPr/>
        </p:nvGrpSpPr>
        <p:grpSpPr>
          <a:xfrm>
            <a:off x="936720" y="1600200"/>
            <a:ext cx="1823760" cy="2349360"/>
            <a:chOff x="936720" y="1600200"/>
            <a:chExt cx="1823760" cy="2349360"/>
          </a:xfrm>
        </p:grpSpPr>
        <p:pic>
          <p:nvPicPr>
            <p:cNvPr id="143" name="Object 9" descr=""/>
            <p:cNvPicPr/>
            <p:nvPr/>
          </p:nvPicPr>
          <p:blipFill>
            <a:blip r:embed="rId1"/>
            <a:stretch/>
          </p:blipFill>
          <p:spPr>
            <a:xfrm>
              <a:off x="1157400" y="1600200"/>
              <a:ext cx="143352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0"/>
            <p:cNvSpPr/>
            <p:nvPr/>
          </p:nvSpPr>
          <p:spPr>
            <a:xfrm>
              <a:off x="936720" y="3124080"/>
              <a:ext cx="1823760" cy="8254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ета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единый дом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14"/>
          <p:cNvGrpSpPr/>
          <p:nvPr/>
        </p:nvGrpSpPr>
        <p:grpSpPr>
          <a:xfrm>
            <a:off x="2743200" y="1828800"/>
            <a:ext cx="3427560" cy="1693800"/>
            <a:chOff x="2743200" y="1828800"/>
            <a:chExt cx="3427560" cy="1693800"/>
          </a:xfrm>
        </p:grpSpPr>
        <p:sp>
          <p:nvSpPr>
            <p:cNvPr id="146" name="AutoShape 12"/>
            <p:cNvSpPr/>
            <p:nvPr/>
          </p:nvSpPr>
          <p:spPr>
            <a:xfrm>
              <a:off x="2743200" y="204624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3581640" y="1828800"/>
              <a:ext cx="2589120" cy="169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локальные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конфликты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и противоречи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6200640" y="1752480"/>
            <a:ext cx="2576520" cy="990360"/>
            <a:chOff x="6200640" y="1752480"/>
            <a:chExt cx="2576520" cy="990360"/>
          </a:xfrm>
        </p:grpSpPr>
        <p:sp>
          <p:nvSpPr>
            <p:cNvPr id="149" name="AutoShape 16"/>
            <p:cNvSpPr/>
            <p:nvPr/>
          </p:nvSpPr>
          <p:spPr>
            <a:xfrm>
              <a:off x="6200640" y="20286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17"/>
            <p:cNvSpPr txBox="1"/>
            <p:nvPr/>
          </p:nvSpPr>
          <p:spPr>
            <a:xfrm>
              <a:off x="7101000" y="1752480"/>
              <a:ext cx="1676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общемировой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аракте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51" name="Group 26"/>
          <p:cNvGrpSpPr/>
          <p:nvPr/>
        </p:nvGrpSpPr>
        <p:grpSpPr>
          <a:xfrm>
            <a:off x="839520" y="4038480"/>
            <a:ext cx="2427480" cy="2577960"/>
            <a:chOff x="839520" y="4038480"/>
            <a:chExt cx="2427480" cy="2577960"/>
          </a:xfrm>
        </p:grpSpPr>
        <p:sp>
          <p:nvSpPr>
            <p:cNvPr id="152" name="AutoShape 19"/>
            <p:cNvSpPr/>
            <p:nvPr/>
          </p:nvSpPr>
          <p:spPr>
            <a:xfrm>
              <a:off x="1628640" y="403848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22"/>
            <p:cNvGrpSpPr/>
            <p:nvPr/>
          </p:nvGrpSpPr>
          <p:grpSpPr>
            <a:xfrm>
              <a:off x="839520" y="4724280"/>
              <a:ext cx="2082600" cy="1892160"/>
              <a:chOff x="839520" y="4724280"/>
              <a:chExt cx="2082600" cy="1892160"/>
            </a:xfrm>
          </p:grpSpPr>
          <p:pic>
            <p:nvPicPr>
              <p:cNvPr id="154" name="Object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373040" y="4724280"/>
                <a:ext cx="1093680" cy="107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Text Box 21"/>
              <p:cNvSpPr/>
              <p:nvPr/>
            </p:nvSpPr>
            <p:spPr>
              <a:xfrm>
                <a:off x="839520" y="5790960"/>
                <a:ext cx="208260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еятельн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человека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WordArt 23"/>
            <p:cNvSpPr txBox="1"/>
            <p:nvPr/>
          </p:nvSpPr>
          <p:spPr>
            <a:xfrm>
              <a:off x="3000240" y="5029200"/>
              <a:ext cx="26676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38160">
                    <a:solidFill>
                      <a:srgbClr val="a50021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=</a:t>
              </a:r>
              <a:endParaRPr b="1" lang="en-US" sz="2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3003120" y="4267080"/>
            <a:ext cx="2561040" cy="2197080"/>
            <a:chOff x="3003120" y="4267080"/>
            <a:chExt cx="2561040" cy="2197080"/>
          </a:xfrm>
        </p:grpSpPr>
        <p:pic>
          <p:nvPicPr>
            <p:cNvPr id="158" name="Object 24" descr=""/>
            <p:cNvPicPr/>
            <p:nvPr/>
          </p:nvPicPr>
          <p:blipFill>
            <a:blip r:embed="rId7"/>
            <a:stretch/>
          </p:blipFill>
          <p:spPr>
            <a:xfrm>
              <a:off x="3633480" y="4267080"/>
              <a:ext cx="1195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5"/>
            <p:cNvSpPr/>
            <p:nvPr/>
          </p:nvSpPr>
          <p:spPr>
            <a:xfrm>
              <a:off x="3003120" y="5638680"/>
              <a:ext cx="256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рушитель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лы природ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28"/>
          <p:cNvSpPr/>
          <p:nvPr/>
        </p:nvSpPr>
        <p:spPr>
          <a:xfrm>
            <a:off x="5603400" y="3657600"/>
            <a:ext cx="3385800" cy="3020040"/>
          </a:xfrm>
          <a:prstGeom prst="rect">
            <a:avLst/>
          </a:prstGeom>
          <a:solidFill>
            <a:srgbClr val="ffffcc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Но!Низкий уровень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общественной орган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ци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полит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равствен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го мыш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64" name="WordArt 23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65" name="Object 29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3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67" name="Group 32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68" name="Group 27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69" name="Object 2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Object 2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" name="AutoShape 26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2" name="Object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Line 3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Text Box 33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37"/>
          <p:cNvGrpSpPr/>
          <p:nvPr/>
        </p:nvGrpSpPr>
        <p:grpSpPr>
          <a:xfrm>
            <a:off x="1258560" y="3755880"/>
            <a:ext cx="2436120" cy="2419920"/>
            <a:chOff x="1258560" y="3755880"/>
            <a:chExt cx="2436120" cy="2419920"/>
          </a:xfrm>
        </p:grpSpPr>
        <p:pic>
          <p:nvPicPr>
            <p:cNvPr id="176" name="Object 35" descr=""/>
            <p:cNvPicPr/>
            <p:nvPr/>
          </p:nvPicPr>
          <p:blipFill>
            <a:blip r:embed="rId7"/>
            <a:stretch/>
          </p:blipFill>
          <p:spPr>
            <a:xfrm>
              <a:off x="1984680" y="3755880"/>
              <a:ext cx="1025280" cy="13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36"/>
            <p:cNvSpPr/>
            <p:nvPr/>
          </p:nvSpPr>
          <p:spPr>
            <a:xfrm>
              <a:off x="1258560" y="4984560"/>
              <a:ext cx="2436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сурсов(40 лет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40"/>
          <p:cNvGrpSpPr/>
          <p:nvPr/>
        </p:nvGrpSpPr>
        <p:grpSpPr>
          <a:xfrm>
            <a:off x="3927240" y="3809880"/>
            <a:ext cx="2079720" cy="2365920"/>
            <a:chOff x="3927240" y="3809880"/>
            <a:chExt cx="2079720" cy="2365920"/>
          </a:xfrm>
        </p:grpSpPr>
        <p:pic>
          <p:nvPicPr>
            <p:cNvPr id="179" name="Object 38" descr=""/>
            <p:cNvPicPr/>
            <p:nvPr/>
          </p:nvPicPr>
          <p:blipFill>
            <a:blip r:embed="rId8"/>
            <a:stretch/>
          </p:blipFill>
          <p:spPr>
            <a:xfrm>
              <a:off x="4381560" y="3809880"/>
              <a:ext cx="12096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9"/>
            <p:cNvSpPr/>
            <p:nvPr/>
          </p:nvSpPr>
          <p:spPr>
            <a:xfrm>
              <a:off x="3927240" y="498456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щ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одород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о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43"/>
          <p:cNvGrpSpPr/>
          <p:nvPr/>
        </p:nvGrpSpPr>
        <p:grpSpPr>
          <a:xfrm>
            <a:off x="6727680" y="3809880"/>
            <a:ext cx="1422720" cy="1968480"/>
            <a:chOff x="6727680" y="3809880"/>
            <a:chExt cx="1422720" cy="1968480"/>
          </a:xfrm>
        </p:grpSpPr>
        <p:pic>
          <p:nvPicPr>
            <p:cNvPr id="182" name="Object 41" descr=""/>
            <p:cNvPicPr/>
            <p:nvPr/>
          </p:nvPicPr>
          <p:blipFill>
            <a:blip r:embed="rId9"/>
            <a:stretch/>
          </p:blipFill>
          <p:spPr>
            <a:xfrm>
              <a:off x="6819480" y="3809880"/>
              <a:ext cx="1131480" cy="11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42"/>
            <p:cNvSpPr/>
            <p:nvPr/>
          </p:nvSpPr>
          <p:spPr>
            <a:xfrm>
              <a:off x="6727680" y="4952880"/>
              <a:ext cx="142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ыруб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еса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Угроза экологического кризис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1676520" y="1333440"/>
            <a:ext cx="1295280" cy="1486080"/>
            <a:chOff x="1676520" y="1333440"/>
            <a:chExt cx="1295280" cy="1486080"/>
          </a:xfrm>
        </p:grpSpPr>
        <p:sp>
          <p:nvSpPr>
            <p:cNvPr id="187" name="WordArt 4"/>
            <p:cNvSpPr txBox="1"/>
            <p:nvPr/>
          </p:nvSpPr>
          <p:spPr>
            <a:xfrm>
              <a:off x="1676520" y="2552760"/>
              <a:ext cx="12952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ТР</a:t>
              </a:r>
              <a:endPara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pic>
          <p:nvPicPr>
            <p:cNvPr id="188" name="Object 5" descr=""/>
            <p:cNvPicPr/>
            <p:nvPr/>
          </p:nvPicPr>
          <p:blipFill>
            <a:blip r:embed="rId3"/>
            <a:stretch/>
          </p:blipFill>
          <p:spPr>
            <a:xfrm>
              <a:off x="1828800" y="1333440"/>
              <a:ext cx="944640" cy="117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6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190" name="Group 7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191" name="Group 8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192" name="Object 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Object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4" name="AutoShape 11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95" name="Object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Line 13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Text Box 14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7"/>
          <p:cNvGrpSpPr/>
          <p:nvPr/>
        </p:nvGrpSpPr>
        <p:grpSpPr>
          <a:xfrm>
            <a:off x="2454840" y="3657600"/>
            <a:ext cx="1888560" cy="2197080"/>
            <a:chOff x="2454840" y="3657600"/>
            <a:chExt cx="1888560" cy="2197080"/>
          </a:xfrm>
        </p:grpSpPr>
        <p:pic>
          <p:nvPicPr>
            <p:cNvPr id="199" name="Object 25" descr=""/>
            <p:cNvPicPr/>
            <p:nvPr/>
          </p:nvPicPr>
          <p:blipFill>
            <a:blip r:embed="rId7"/>
            <a:stretch/>
          </p:blipFill>
          <p:spPr>
            <a:xfrm>
              <a:off x="2666880" y="3657600"/>
              <a:ext cx="167652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26"/>
            <p:cNvSpPr/>
            <p:nvPr/>
          </p:nvSpPr>
          <p:spPr>
            <a:xfrm>
              <a:off x="2454840" y="5029200"/>
              <a:ext cx="1886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тмосфе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5725080" y="3581280"/>
            <a:ext cx="2120760" cy="2680560"/>
            <a:chOff x="5725080" y="3581280"/>
            <a:chExt cx="2120760" cy="2680560"/>
          </a:xfrm>
        </p:grpSpPr>
        <p:pic>
          <p:nvPicPr>
            <p:cNvPr id="202" name="Object 24" descr=""/>
            <p:cNvPicPr/>
            <p:nvPr/>
          </p:nvPicPr>
          <p:blipFill>
            <a:blip r:embed="rId8"/>
            <a:stretch/>
          </p:blipFill>
          <p:spPr>
            <a:xfrm>
              <a:off x="6103800" y="3581280"/>
              <a:ext cx="1279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28"/>
            <p:cNvSpPr/>
            <p:nvPr/>
          </p:nvSpPr>
          <p:spPr>
            <a:xfrm>
              <a:off x="5725080" y="507060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д Миров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кеан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WordArt 21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7" name="Group 23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08" name="Group 24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09" name="Group 25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10" name="Object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Object 2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AutoShape 28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13" name="Object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30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31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4"/>
          <p:cNvGrpSpPr/>
          <p:nvPr/>
        </p:nvGrpSpPr>
        <p:grpSpPr>
          <a:xfrm>
            <a:off x="1371600" y="2825640"/>
            <a:ext cx="3088080" cy="1974960"/>
            <a:chOff x="1371600" y="2825640"/>
            <a:chExt cx="3088080" cy="1974960"/>
          </a:xfrm>
        </p:grpSpPr>
        <p:sp>
          <p:nvSpPr>
            <p:cNvPr id="217" name="WordArt 32"/>
            <p:cNvSpPr txBox="1"/>
            <p:nvPr/>
          </p:nvSpPr>
          <p:spPr>
            <a:xfrm>
              <a:off x="1371600" y="3505320"/>
              <a:ext cx="190512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астная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деятельнос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bf00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atin typeface="Arial"/>
                </a:rPr>
                <a:t>человека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218" name="AutoShape 33"/>
            <p:cNvSpPr/>
            <p:nvPr/>
          </p:nvSpPr>
          <p:spPr>
            <a:xfrm rot="19674600">
              <a:off x="3429000" y="30477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5400000"/>
            </a:gra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38"/>
          <p:cNvGrpSpPr/>
          <p:nvPr/>
        </p:nvGrpSpPr>
        <p:grpSpPr>
          <a:xfrm>
            <a:off x="3809880" y="3429000"/>
            <a:ext cx="4191120" cy="1371600"/>
            <a:chOff x="3809880" y="3429000"/>
            <a:chExt cx="4191120" cy="1371600"/>
          </a:xfrm>
        </p:grpSpPr>
        <p:sp>
          <p:nvSpPr>
            <p:cNvPr id="220" name="AutoShape 36"/>
            <p:cNvSpPr/>
            <p:nvPr/>
          </p:nvSpPr>
          <p:spPr>
            <a:xfrm flipH="1">
              <a:off x="3809880" y="388620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cc"/>
            </a:solidFill>
            <a:ln w="3816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WordArt 37"/>
            <p:cNvSpPr txBox="1"/>
            <p:nvPr/>
          </p:nvSpPr>
          <p:spPr>
            <a:xfrm>
              <a:off x="5029200" y="3429000"/>
              <a:ext cx="2971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Общество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должно 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8200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регулировать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22" name="WordArt 39"/>
          <p:cNvSpPr txBox="1"/>
          <p:nvPr/>
        </p:nvSpPr>
        <p:spPr>
          <a:xfrm>
            <a:off x="3029040" y="4800600"/>
            <a:ext cx="245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000099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Проблема!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000099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23" name="WordArt 40"/>
          <p:cNvSpPr txBox="1"/>
          <p:nvPr/>
        </p:nvSpPr>
        <p:spPr>
          <a:xfrm>
            <a:off x="1219320" y="5486400"/>
            <a:ext cx="2019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50000">
                      <a:srgbClr val="185e18"/>
                    </a:gs>
                    <a:gs pos="100000">
                      <a:srgbClr val="33cc33"/>
                    </a:gs>
                  </a:gsLst>
                  <a:lin ang="5400000"/>
                </a:gradFill>
                <a:latin typeface="Arial"/>
              </a:rPr>
              <a:t>Зеленые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50000">
                    <a:srgbClr val="185e18"/>
                  </a:gs>
                  <a:gs pos="100000">
                    <a:srgbClr val="33cc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24" name="Group 45"/>
          <p:cNvGrpSpPr/>
          <p:nvPr/>
        </p:nvGrpSpPr>
        <p:grpSpPr>
          <a:xfrm>
            <a:off x="3886200" y="4952880"/>
            <a:ext cx="4834440" cy="1557000"/>
            <a:chOff x="3886200" y="4952880"/>
            <a:chExt cx="4834440" cy="1557000"/>
          </a:xfrm>
        </p:grpSpPr>
        <p:grpSp>
          <p:nvGrpSpPr>
            <p:cNvPr id="225" name="Group 43"/>
            <p:cNvGrpSpPr/>
            <p:nvPr/>
          </p:nvGrpSpPr>
          <p:grpSpPr>
            <a:xfrm>
              <a:off x="5334120" y="4952880"/>
              <a:ext cx="3386520" cy="1557000"/>
              <a:chOff x="5334120" y="4952880"/>
              <a:chExt cx="3386520" cy="1557000"/>
            </a:xfrm>
          </p:grpSpPr>
          <p:pic>
            <p:nvPicPr>
              <p:cNvPr id="226" name="Object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81480"/>
                <a:ext cx="815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Text Box 42"/>
              <p:cNvSpPr/>
              <p:nvPr/>
            </p:nvSpPr>
            <p:spPr>
              <a:xfrm>
                <a:off x="6293520" y="4952880"/>
                <a:ext cx="2427120" cy="1557000"/>
              </a:xfrm>
              <a:prstGeom prst="rect">
                <a:avLst/>
              </a:prstGeom>
              <a:solidFill>
                <a:srgbClr val="33cc33"/>
              </a:solidFill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Закрытие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ажных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мышленных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AutoShape 44"/>
            <p:cNvSpPr/>
            <p:nvPr/>
          </p:nvSpPr>
          <p:spPr>
            <a:xfrm>
              <a:off x="3886200" y="556272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33cc33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учно-технический прогресс и 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логическая альтернатив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WordArt 3"/>
          <p:cNvSpPr txBox="1"/>
          <p:nvPr/>
        </p:nvSpPr>
        <p:spPr>
          <a:xfrm>
            <a:off x="1447920" y="1676520"/>
            <a:ext cx="112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ТП</a:t>
            </a:r>
            <a:endParaRPr b="1" lang="en-US" sz="2800" spc="1" strike="noStrike">
              <a:ln w="9360">
                <a:solidFill>
                  <a:srgbClr val="a50021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3200400" y="1295280"/>
            <a:ext cx="5303160" cy="2121120"/>
            <a:chOff x="3200400" y="1295280"/>
            <a:chExt cx="5303160" cy="2121120"/>
          </a:xfrm>
        </p:grpSpPr>
        <p:grpSp>
          <p:nvGrpSpPr>
            <p:cNvPr id="233" name="Group 5"/>
            <p:cNvGrpSpPr/>
            <p:nvPr/>
          </p:nvGrpSpPr>
          <p:grpSpPr>
            <a:xfrm>
              <a:off x="3200400" y="1295280"/>
              <a:ext cx="5037120" cy="1447920"/>
              <a:chOff x="3200400" y="1295280"/>
              <a:chExt cx="5037120" cy="1447920"/>
            </a:xfrm>
          </p:grpSpPr>
          <p:grpSp>
            <p:nvGrpSpPr>
              <p:cNvPr id="234" name="Group 6"/>
              <p:cNvGrpSpPr/>
              <p:nvPr/>
            </p:nvGrpSpPr>
            <p:grpSpPr>
              <a:xfrm>
                <a:off x="4495680" y="1371600"/>
                <a:ext cx="3741840" cy="1295280"/>
                <a:chOff x="4495680" y="1371600"/>
                <a:chExt cx="3741840" cy="1295280"/>
              </a:xfrm>
            </p:grpSpPr>
            <p:pic>
              <p:nvPicPr>
                <p:cNvPr id="235" name="Object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95680" y="1460520"/>
                  <a:ext cx="963720" cy="1117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Object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238880" y="1371600"/>
                  <a:ext cx="998640" cy="1295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7" name="AutoShape 9"/>
                <p:cNvSpPr/>
                <p:nvPr/>
              </p:nvSpPr>
              <p:spPr>
                <a:xfrm>
                  <a:off x="5715000" y="1776240"/>
                  <a:ext cx="1214280" cy="486000"/>
                </a:xfrm>
                <a:prstGeom prst="leftRightArrow">
                  <a:avLst>
                    <a:gd name="adj1" fmla="val 50000"/>
                    <a:gd name="adj2" fmla="val 49739"/>
                  </a:avLst>
                </a:prstGeom>
                <a:solidFill>
                  <a:srgbClr val="ccecff"/>
                </a:solidFill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8" name="Object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715000" y="1295280"/>
                <a:ext cx="117468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Line 11"/>
              <p:cNvSpPr/>
              <p:nvPr/>
            </p:nvSpPr>
            <p:spPr>
              <a:xfrm>
                <a:off x="3200400" y="2057400"/>
                <a:ext cx="13716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2"/>
            <p:cNvSpPr/>
            <p:nvPr/>
          </p:nvSpPr>
          <p:spPr>
            <a:xfrm>
              <a:off x="4497480" y="2590920"/>
              <a:ext cx="400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рушение экологическ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вновес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WordArt 13"/>
          <p:cNvSpPr txBox="1"/>
          <p:nvPr/>
        </p:nvSpPr>
        <p:spPr>
          <a:xfrm>
            <a:off x="3797280" y="3162240"/>
            <a:ext cx="1542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50000">
                      <a:srgbClr val="000099"/>
                    </a:gs>
                    <a:gs pos="100000">
                      <a:srgbClr val="006600"/>
                    </a:gs>
                  </a:gsLst>
                  <a:lin ang="5400000"/>
                </a:gradFill>
                <a:latin typeface="Arial"/>
              </a:rPr>
              <a:t>Выход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50000">
                    <a:srgbClr val="000099"/>
                  </a:gs>
                  <a:gs pos="100000">
                    <a:srgbClr val="0066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42" name="Group 14"/>
          <p:cNvGrpSpPr/>
          <p:nvPr/>
        </p:nvGrpSpPr>
        <p:grpSpPr>
          <a:xfrm>
            <a:off x="840960" y="3657600"/>
            <a:ext cx="1767240" cy="2238480"/>
            <a:chOff x="840960" y="3657600"/>
            <a:chExt cx="1767240" cy="2238480"/>
          </a:xfrm>
        </p:grpSpPr>
        <p:pic>
          <p:nvPicPr>
            <p:cNvPr id="243" name="Object 15" descr=""/>
            <p:cNvPicPr/>
            <p:nvPr/>
          </p:nvPicPr>
          <p:blipFill>
            <a:blip r:embed="rId6"/>
            <a:stretch/>
          </p:blipFill>
          <p:spPr>
            <a:xfrm>
              <a:off x="990360" y="3657600"/>
              <a:ext cx="148752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16"/>
            <p:cNvSpPr/>
            <p:nvPr/>
          </p:nvSpPr>
          <p:spPr>
            <a:xfrm>
              <a:off x="840960" y="5070600"/>
              <a:ext cx="17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мкнуты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икл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7"/>
          <p:cNvGrpSpPr/>
          <p:nvPr/>
        </p:nvGrpSpPr>
        <p:grpSpPr>
          <a:xfrm>
            <a:off x="2516760" y="3733920"/>
            <a:ext cx="2146680" cy="2334240"/>
            <a:chOff x="2516760" y="3733920"/>
            <a:chExt cx="2146680" cy="2334240"/>
          </a:xfrm>
        </p:grpSpPr>
        <p:pic>
          <p:nvPicPr>
            <p:cNvPr id="246" name="Object 18" descr=""/>
            <p:cNvPicPr/>
            <p:nvPr/>
          </p:nvPicPr>
          <p:blipFill>
            <a:blip r:embed="rId7"/>
            <a:stretch/>
          </p:blipFill>
          <p:spPr>
            <a:xfrm>
              <a:off x="2971800" y="3733920"/>
              <a:ext cx="12859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9"/>
            <p:cNvSpPr/>
            <p:nvPr/>
          </p:nvSpPr>
          <p:spPr>
            <a:xfrm>
              <a:off x="2516760" y="4876920"/>
              <a:ext cx="214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логическ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берегающ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0"/>
          <p:cNvGrpSpPr/>
          <p:nvPr/>
        </p:nvGrpSpPr>
        <p:grpSpPr>
          <a:xfrm>
            <a:off x="4602240" y="3733920"/>
            <a:ext cx="2024640" cy="1984320"/>
            <a:chOff x="4602240" y="3733920"/>
            <a:chExt cx="2024640" cy="1984320"/>
          </a:xfrm>
        </p:grpSpPr>
        <p:pic>
          <p:nvPicPr>
            <p:cNvPr id="249" name="Object 21" descr=""/>
            <p:cNvPicPr/>
            <p:nvPr/>
          </p:nvPicPr>
          <p:blipFill>
            <a:blip r:embed="rId8"/>
            <a:stretch/>
          </p:blipFill>
          <p:spPr>
            <a:xfrm>
              <a:off x="5057640" y="3733920"/>
              <a:ext cx="1143000" cy="10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2"/>
            <p:cNvSpPr/>
            <p:nvPr/>
          </p:nvSpPr>
          <p:spPr>
            <a:xfrm>
              <a:off x="4602240" y="4892760"/>
              <a:ext cx="202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езотходны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5"/>
          <p:cNvGrpSpPr/>
          <p:nvPr/>
        </p:nvGrpSpPr>
        <p:grpSpPr>
          <a:xfrm>
            <a:off x="5991120" y="3429000"/>
            <a:ext cx="2921040" cy="2928600"/>
            <a:chOff x="5991120" y="3429000"/>
            <a:chExt cx="2921040" cy="2928600"/>
          </a:xfrm>
        </p:grpSpPr>
        <p:pic>
          <p:nvPicPr>
            <p:cNvPr id="252" name="Object 23" descr=""/>
            <p:cNvPicPr/>
            <p:nvPr/>
          </p:nvPicPr>
          <p:blipFill>
            <a:blip r:embed="rId9"/>
            <a:stretch/>
          </p:blipFill>
          <p:spPr>
            <a:xfrm>
              <a:off x="6826320" y="3429000"/>
              <a:ext cx="1174680" cy="15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24"/>
            <p:cNvSpPr/>
            <p:nvPr/>
          </p:nvSpPr>
          <p:spPr>
            <a:xfrm>
              <a:off x="5991120" y="4800600"/>
              <a:ext cx="292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род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осстановитель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хнологи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WordArt 26"/>
          <p:cNvSpPr txBox="1"/>
          <p:nvPr/>
        </p:nvSpPr>
        <p:spPr>
          <a:xfrm>
            <a:off x="1143000" y="6095880"/>
            <a:ext cx="7537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Экологическая экспертиза проэктов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5-05-06T08:29:15Z</dcterms:modified>
  <cp:revision>99</cp:revision>
  <dc:subject/>
  <dc:title>ОСОБЕННОСТИ ДРЕВНИХ ЦИВИЛИЗАЦИЙ.</dc:title>
</cp:coreProperties>
</file>