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24.jpeg" ContentType="image/jpeg"/>
  <Override PartName="/ppt/media/image21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45BD-20A4-4918-AE12-3D503F79B6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99BB-2818-44C4-8896-10A564D8F3D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0239-A646-4222-A366-0181D89DAFD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B2D8-4316-4BE0-8D6C-6C7FA732C03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C21E-4A2F-47BA-8DDA-A2EBE3168BB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5ED9-1D90-4C4D-B9FC-36F54E4B866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462B-4AA3-487B-8F15-2B9A9AB01C0C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23BC-A3B2-4264-8594-46529450977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8D24-06F8-4829-8CEA-BA40A6BA8E7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E394-DA9F-44CD-A2D2-B410CC01CCF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4E46-BD92-4F59-AC91-28FDB8F952D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A8B7-0FB1-450F-81CA-FA84762C0DF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749A-6CCD-46A9-8C89-6A4FF3AC5A4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F53B-E819-470C-9A7C-221522EBB3E1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FB80-DC7B-44D6-9733-71B085F8B03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3023-5EF1-4ADC-9DFC-777480524FC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1C2-6E22-420B-9901-B8B99937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F87-0928-4F77-AB6F-324EA40E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420-F072-4F4D-AA6E-A9BA9062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E6D-7953-4A57-B7F4-218C528D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0B60-5D98-4A0F-BFC7-6F323322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B022-311A-463D-A472-EEB0EF5C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7D94-6C0A-410F-9681-79CFA54B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60EF-12AC-4839-9FAB-883473B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6066-B9DB-47F3-A934-756BD96A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4C3C-F9FA-4DC1-8C74-E7AAE047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6B05-99CA-479B-8833-CDB6F4A4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D13-BE41-4CA9-BE3B-13D5A2FF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CEE7-A054-4980-BBD6-7583A948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D24D-661E-48E7-A889-44CA17D3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2158-C7EE-4469-944C-8459908F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91CF-871E-43E7-9647-AA0C9A11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443-7869-4E10-B121-93471818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219-FB63-496E-9D0E-CE3163CD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BFE-1FBB-472B-A6AC-209C120D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C3B-B481-430E-B278-A302FC2C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F34-51EC-4AC7-9103-EC91C417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AD6-5569-42D9-B6DD-6D6B590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68F-805D-41B7-9900-32C6EC4D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83E-5497-46EE-84AC-BE4FAC0F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21D0-1425-45C1-BC9C-EE951B4831F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720F-5A74-40B6-907C-96163D9A27B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1.wmf"/><Relationship Id="rId7" Type="http://schemas.openxmlformats.org/officeDocument/2006/relationships/image" Target="../media/image15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WordArt 37"/>
          <p:cNvSpPr txBox="1"/>
          <p:nvPr/>
        </p:nvSpPr>
        <p:spPr>
          <a:xfrm>
            <a:off x="1295280" y="1447920"/>
            <a:ext cx="20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Ш.Фурь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58" name="Group 40"/>
          <p:cNvGrpSpPr/>
          <p:nvPr/>
        </p:nvGrpSpPr>
        <p:grpSpPr>
          <a:xfrm>
            <a:off x="3505320" y="1311120"/>
            <a:ext cx="5098680" cy="825480"/>
            <a:chOff x="3505320" y="1311120"/>
            <a:chExt cx="5098680" cy="825480"/>
          </a:xfrm>
        </p:grpSpPr>
        <p:sp>
          <p:nvSpPr>
            <p:cNvPr id="259" name="Text Box 38"/>
            <p:cNvSpPr/>
            <p:nvPr/>
          </p:nvSpPr>
          <p:spPr>
            <a:xfrm>
              <a:off x="4393800" y="1311120"/>
              <a:ext cx="421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йны-постоянный спутник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9"/>
            <p:cNvSpPr/>
            <p:nvPr/>
          </p:nvSpPr>
          <p:spPr>
            <a:xfrm>
              <a:off x="3505320" y="1676520"/>
              <a:ext cx="914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WordArt 41"/>
          <p:cNvSpPr txBox="1"/>
          <p:nvPr/>
        </p:nvSpPr>
        <p:spPr>
          <a:xfrm>
            <a:off x="2600280" y="2286000"/>
            <a:ext cx="4791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500 лет -300 лет мира</a:t>
            </a:r>
            <a:endParaRPr b="1" lang="en-US" sz="28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42"/>
          <p:cNvSpPr txBox="1"/>
          <p:nvPr/>
        </p:nvSpPr>
        <p:spPr>
          <a:xfrm>
            <a:off x="2362320" y="3666960"/>
            <a:ext cx="5352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XX век-2 мировые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3" name="WordArt 43"/>
          <p:cNvSpPr txBox="1"/>
          <p:nvPr/>
        </p:nvSpPr>
        <p:spPr>
          <a:xfrm>
            <a:off x="1600200" y="4495680"/>
            <a:ext cx="691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мировая-гибель человечества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64" name="Group 46"/>
          <p:cNvGrpSpPr/>
          <p:nvPr/>
        </p:nvGrpSpPr>
        <p:grpSpPr>
          <a:xfrm>
            <a:off x="1066680" y="5105520"/>
            <a:ext cx="3276720" cy="1133280"/>
            <a:chOff x="1066680" y="5105520"/>
            <a:chExt cx="3276720" cy="1133280"/>
          </a:xfrm>
        </p:grpSpPr>
        <p:sp>
          <p:nvSpPr>
            <p:cNvPr id="265" name="WordArt 44"/>
            <p:cNvSpPr txBox="1"/>
            <p:nvPr/>
          </p:nvSpPr>
          <p:spPr>
            <a:xfrm>
              <a:off x="1066680" y="5715000"/>
              <a:ext cx="327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Ядерная зима</a:t>
              </a:r>
              <a:endParaRPr b="1" lang="en-US" sz="2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66" name="AutoShape 45"/>
            <p:cNvSpPr/>
            <p:nvPr/>
          </p:nvSpPr>
          <p:spPr>
            <a:xfrm>
              <a:off x="2361960" y="5105520"/>
              <a:ext cx="381240" cy="685800"/>
            </a:xfrm>
            <a:prstGeom prst="downArrow">
              <a:avLst>
                <a:gd name="adj1" fmla="val 50000"/>
                <a:gd name="adj2" fmla="val 44972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49"/>
          <p:cNvGrpSpPr/>
          <p:nvPr/>
        </p:nvGrpSpPr>
        <p:grpSpPr>
          <a:xfrm>
            <a:off x="4495680" y="5562720"/>
            <a:ext cx="4419720" cy="914400"/>
            <a:chOff x="4495680" y="5562720"/>
            <a:chExt cx="4419720" cy="914400"/>
          </a:xfrm>
        </p:grpSpPr>
        <p:sp>
          <p:nvSpPr>
            <p:cNvPr id="268" name="WordArt 47"/>
            <p:cNvSpPr txBox="1"/>
            <p:nvPr/>
          </p:nvSpPr>
          <p:spPr>
            <a:xfrm>
              <a:off x="5372280" y="5562720"/>
              <a:ext cx="3543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Продолжение гонки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вооружений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9" name="AutoShape 48"/>
            <p:cNvSpPr/>
            <p:nvPr/>
          </p:nvSpPr>
          <p:spPr>
            <a:xfrm>
              <a:off x="4495680" y="5791320"/>
              <a:ext cx="762120" cy="380880"/>
            </a:xfrm>
            <a:prstGeom prst="leftArrow">
              <a:avLst>
                <a:gd name="adj1" fmla="val 50000"/>
                <a:gd name="adj2" fmla="val 5002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2438280" y="1219320"/>
            <a:ext cx="5143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словия недопущ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ядерной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883080" y="2581200"/>
            <a:ext cx="7902720" cy="350676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228600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77" name="Group 9"/>
          <p:cNvGrpSpPr/>
          <p:nvPr/>
        </p:nvGrpSpPr>
        <p:grpSpPr>
          <a:xfrm>
            <a:off x="1371600" y="2209680"/>
            <a:ext cx="7324560" cy="1143000"/>
            <a:chOff x="1371600" y="2209680"/>
            <a:chExt cx="7324560" cy="1143000"/>
          </a:xfrm>
        </p:grpSpPr>
        <p:sp>
          <p:nvSpPr>
            <p:cNvPr id="278" name="WordArt 6"/>
            <p:cNvSpPr txBox="1"/>
            <p:nvPr/>
          </p:nvSpPr>
          <p:spPr>
            <a:xfrm>
              <a:off x="1371600" y="2209680"/>
              <a:ext cx="222876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Развитые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раны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9" name="WordArt 7"/>
            <p:cNvSpPr txBox="1"/>
            <p:nvPr/>
          </p:nvSpPr>
          <p:spPr>
            <a:xfrm>
              <a:off x="4952880" y="2286000"/>
              <a:ext cx="37432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Развивающиес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страны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80" name="AutoShape 8"/>
            <p:cNvSpPr/>
            <p:nvPr/>
          </p:nvSpPr>
          <p:spPr>
            <a:xfrm>
              <a:off x="3657600" y="2438280"/>
              <a:ext cx="1214280" cy="486000"/>
            </a:xfrm>
            <a:prstGeom prst="leftRightArrow">
              <a:avLst>
                <a:gd name="adj1" fmla="val 50000"/>
                <a:gd name="adj2" fmla="val 4973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2806200" y="3962520"/>
            <a:ext cx="4161240" cy="19227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50-60-освобождени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70-быстрый экономическ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о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80-замедление,внешние за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мствова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3809880" y="3143160"/>
            <a:ext cx="1981440" cy="571680"/>
            <a:chOff x="3809880" y="3143160"/>
            <a:chExt cx="1981440" cy="571680"/>
          </a:xfrm>
        </p:grpSpPr>
        <p:sp>
          <p:nvSpPr>
            <p:cNvPr id="283" name="WordArt 11"/>
            <p:cNvSpPr txBox="1"/>
            <p:nvPr/>
          </p:nvSpPr>
          <p:spPr>
            <a:xfrm>
              <a:off x="3809880" y="3276720"/>
              <a:ext cx="914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60 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284" name="WordArt 13"/>
            <p:cNvSpPr txBox="1"/>
            <p:nvPr/>
          </p:nvSpPr>
          <p:spPr>
            <a:xfrm>
              <a:off x="5048280" y="3143160"/>
              <a:ext cx="743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6:1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85" name="Group 16"/>
          <p:cNvGrpSpPr/>
          <p:nvPr/>
        </p:nvGrpSpPr>
        <p:grpSpPr>
          <a:xfrm>
            <a:off x="2743200" y="6029280"/>
            <a:ext cx="4267080" cy="590760"/>
            <a:chOff x="2743200" y="6029280"/>
            <a:chExt cx="4267080" cy="590760"/>
          </a:xfrm>
        </p:grpSpPr>
        <p:sp>
          <p:nvSpPr>
            <p:cNvPr id="286" name="WordArt 12"/>
            <p:cNvSpPr txBox="1"/>
            <p:nvPr/>
          </p:nvSpPr>
          <p:spPr>
            <a:xfrm>
              <a:off x="2743200" y="609588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ер.90 г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87" name="WordArt 15"/>
            <p:cNvSpPr txBox="1"/>
            <p:nvPr/>
          </p:nvSpPr>
          <p:spPr>
            <a:xfrm>
              <a:off x="6172200" y="6029280"/>
              <a:ext cx="838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40:1</a:t>
              </a:r>
              <a:endPara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sp>
        <p:nvSpPr>
          <p:cNvPr id="288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223524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3794040" y="2286000"/>
            <a:ext cx="21146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чи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701720" y="2819520"/>
            <a:ext cx="6299280" cy="11912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ыстрый рост населения на Юг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литика Севера- «Юг-сырьевой придаток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7"/>
          <p:cNvSpPr txBox="1"/>
          <p:nvPr/>
        </p:nvSpPr>
        <p:spPr>
          <a:xfrm>
            <a:off x="2984400" y="4191120"/>
            <a:ext cx="3733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Пути преодоления</a:t>
            </a:r>
            <a:endParaRPr b="1" lang="en-US" sz="28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069640" y="4848120"/>
            <a:ext cx="5563440" cy="155700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умная демографическая политик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гонки вооружений и нап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авление денежных средств в стра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«третьего мира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9280" y="3860640"/>
            <a:ext cx="115236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419640" y="3860640"/>
            <a:ext cx="129672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435640" y="3860640"/>
            <a:ext cx="16574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WordArt 131"/>
          <p:cNvSpPr txBox="1"/>
          <p:nvPr/>
        </p:nvSpPr>
        <p:spPr>
          <a:xfrm>
            <a:off x="1143000" y="1219320"/>
            <a:ext cx="159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-я пол.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0 века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5" name="Group 134"/>
          <p:cNvGrpSpPr/>
          <p:nvPr/>
        </p:nvGrpSpPr>
        <p:grpSpPr>
          <a:xfrm>
            <a:off x="3048120" y="1219320"/>
            <a:ext cx="5686200" cy="1143000"/>
            <a:chOff x="3048120" y="1219320"/>
            <a:chExt cx="5686200" cy="1143000"/>
          </a:xfrm>
        </p:grpSpPr>
        <p:sp>
          <p:nvSpPr>
            <p:cNvPr id="136" name="AutoShape 132"/>
            <p:cNvSpPr/>
            <p:nvPr/>
          </p:nvSpPr>
          <p:spPr>
            <a:xfrm>
              <a:off x="3048120" y="1571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WordArt 133"/>
            <p:cNvSpPr txBox="1"/>
            <p:nvPr/>
          </p:nvSpPr>
          <p:spPr>
            <a:xfrm>
              <a:off x="4114800" y="1219320"/>
              <a:ext cx="46195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роблемы выживания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человечества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8" name="Text Box 135"/>
          <p:cNvSpPr/>
          <p:nvPr/>
        </p:nvSpPr>
        <p:spPr>
          <a:xfrm>
            <a:off x="1104120" y="2971800"/>
            <a:ext cx="7689600" cy="30200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1295280" y="990720"/>
            <a:ext cx="7115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причины глобальных проблем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936720" y="1600200"/>
            <a:ext cx="1823760" cy="2349360"/>
            <a:chOff x="936720" y="1600200"/>
            <a:chExt cx="1823760" cy="2349360"/>
          </a:xfrm>
        </p:grpSpPr>
        <p:pic>
          <p:nvPicPr>
            <p:cNvPr id="143" name="Object 9" descr=""/>
            <p:cNvPicPr/>
            <p:nvPr/>
          </p:nvPicPr>
          <p:blipFill>
            <a:blip r:embed="rId1"/>
            <a:stretch/>
          </p:blipFill>
          <p:spPr>
            <a:xfrm>
              <a:off x="1157400" y="1600200"/>
              <a:ext cx="14335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/>
            <p:cNvSpPr/>
            <p:nvPr/>
          </p:nvSpPr>
          <p:spPr>
            <a:xfrm>
              <a:off x="936720" y="3124080"/>
              <a:ext cx="1823760" cy="8254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ета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диный дом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2743200" y="1828800"/>
            <a:ext cx="3427560" cy="1693800"/>
            <a:chOff x="2743200" y="1828800"/>
            <a:chExt cx="3427560" cy="1693800"/>
          </a:xfrm>
        </p:grpSpPr>
        <p:sp>
          <p:nvSpPr>
            <p:cNvPr id="146" name="AutoShape 12"/>
            <p:cNvSpPr/>
            <p:nvPr/>
          </p:nvSpPr>
          <p:spPr>
            <a:xfrm>
              <a:off x="2743200" y="204624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3581640" y="1828800"/>
              <a:ext cx="2589120" cy="16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локальные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конфликты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и противоречи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6200640" y="1752480"/>
            <a:ext cx="2576520" cy="990360"/>
            <a:chOff x="6200640" y="1752480"/>
            <a:chExt cx="2576520" cy="990360"/>
          </a:xfrm>
        </p:grpSpPr>
        <p:sp>
          <p:nvSpPr>
            <p:cNvPr id="149" name="AutoShape 16"/>
            <p:cNvSpPr/>
            <p:nvPr/>
          </p:nvSpPr>
          <p:spPr>
            <a:xfrm>
              <a:off x="6200640" y="20286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17"/>
            <p:cNvSpPr txBox="1"/>
            <p:nvPr/>
          </p:nvSpPr>
          <p:spPr>
            <a:xfrm>
              <a:off x="7101000" y="1752480"/>
              <a:ext cx="1676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общемировой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аракте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1" name="Group 26"/>
          <p:cNvGrpSpPr/>
          <p:nvPr/>
        </p:nvGrpSpPr>
        <p:grpSpPr>
          <a:xfrm>
            <a:off x="839520" y="4038480"/>
            <a:ext cx="2427480" cy="2577960"/>
            <a:chOff x="839520" y="4038480"/>
            <a:chExt cx="2427480" cy="2577960"/>
          </a:xfrm>
        </p:grpSpPr>
        <p:sp>
          <p:nvSpPr>
            <p:cNvPr id="152" name="AutoShape 19"/>
            <p:cNvSpPr/>
            <p:nvPr/>
          </p:nvSpPr>
          <p:spPr>
            <a:xfrm>
              <a:off x="1628640" y="403848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22"/>
            <p:cNvGrpSpPr/>
            <p:nvPr/>
          </p:nvGrpSpPr>
          <p:grpSpPr>
            <a:xfrm>
              <a:off x="839520" y="4724280"/>
              <a:ext cx="2082600" cy="1892160"/>
              <a:chOff x="839520" y="4724280"/>
              <a:chExt cx="2082600" cy="1892160"/>
            </a:xfrm>
          </p:grpSpPr>
          <p:pic>
            <p:nvPicPr>
              <p:cNvPr id="154" name="Object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373040" y="4724280"/>
                <a:ext cx="1093680" cy="107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21"/>
              <p:cNvSpPr/>
              <p:nvPr/>
            </p:nvSpPr>
            <p:spPr>
              <a:xfrm>
                <a:off x="839520" y="5790960"/>
                <a:ext cx="208260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человека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WordArt 23"/>
            <p:cNvSpPr txBox="1"/>
            <p:nvPr/>
          </p:nvSpPr>
          <p:spPr>
            <a:xfrm>
              <a:off x="3000240" y="5029200"/>
              <a:ext cx="2667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38160">
                    <a:solidFill>
                      <a:srgbClr val="a50021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=</a:t>
              </a:r>
              <a:endParaRPr b="1" lang="en-US" sz="2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3003120" y="4267080"/>
            <a:ext cx="2561040" cy="2197080"/>
            <a:chOff x="3003120" y="4267080"/>
            <a:chExt cx="2561040" cy="2197080"/>
          </a:xfrm>
        </p:grpSpPr>
        <p:pic>
          <p:nvPicPr>
            <p:cNvPr id="158" name="Object 24" descr=""/>
            <p:cNvPicPr/>
            <p:nvPr/>
          </p:nvPicPr>
          <p:blipFill>
            <a:blip r:embed="rId7"/>
            <a:stretch/>
          </p:blipFill>
          <p:spPr>
            <a:xfrm>
              <a:off x="3633480" y="4267080"/>
              <a:ext cx="1195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5"/>
            <p:cNvSpPr/>
            <p:nvPr/>
          </p:nvSpPr>
          <p:spPr>
            <a:xfrm>
              <a:off x="3003120" y="563868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рушитель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лы природ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8"/>
          <p:cNvSpPr/>
          <p:nvPr/>
        </p:nvSpPr>
        <p:spPr>
          <a:xfrm>
            <a:off x="5603400" y="3657600"/>
            <a:ext cx="3385800" cy="302004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Но!Низкий уровень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бщественной орган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ци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олит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64" name="WordArt 23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65" name="Object 29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3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67" name="Group 32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68" name="Group 27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69" name="Object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Object 2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AutoShape 26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2" name="Object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Line 3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33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7"/>
          <p:cNvGrpSpPr/>
          <p:nvPr/>
        </p:nvGrpSpPr>
        <p:grpSpPr>
          <a:xfrm>
            <a:off x="1258560" y="3755880"/>
            <a:ext cx="2436120" cy="2419920"/>
            <a:chOff x="1258560" y="3755880"/>
            <a:chExt cx="2436120" cy="2419920"/>
          </a:xfrm>
        </p:grpSpPr>
        <p:pic>
          <p:nvPicPr>
            <p:cNvPr id="176" name="Object 35" descr=""/>
            <p:cNvPicPr/>
            <p:nvPr/>
          </p:nvPicPr>
          <p:blipFill>
            <a:blip r:embed="rId7"/>
            <a:stretch/>
          </p:blipFill>
          <p:spPr>
            <a:xfrm>
              <a:off x="1984680" y="3755880"/>
              <a:ext cx="102528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36"/>
            <p:cNvSpPr/>
            <p:nvPr/>
          </p:nvSpPr>
          <p:spPr>
            <a:xfrm>
              <a:off x="1258560" y="4984560"/>
              <a:ext cx="243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сурсов(40 лет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0"/>
          <p:cNvGrpSpPr/>
          <p:nvPr/>
        </p:nvGrpSpPr>
        <p:grpSpPr>
          <a:xfrm>
            <a:off x="3927240" y="3809880"/>
            <a:ext cx="2079720" cy="2365920"/>
            <a:chOff x="3927240" y="3809880"/>
            <a:chExt cx="2079720" cy="2365920"/>
          </a:xfrm>
        </p:grpSpPr>
        <p:pic>
          <p:nvPicPr>
            <p:cNvPr id="179" name="Object 38" descr=""/>
            <p:cNvPicPr/>
            <p:nvPr/>
          </p:nvPicPr>
          <p:blipFill>
            <a:blip r:embed="rId8"/>
            <a:stretch/>
          </p:blipFill>
          <p:spPr>
            <a:xfrm>
              <a:off x="4381560" y="3809880"/>
              <a:ext cx="1209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9"/>
            <p:cNvSpPr/>
            <p:nvPr/>
          </p:nvSpPr>
          <p:spPr>
            <a:xfrm>
              <a:off x="3927240" y="498456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дород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о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43"/>
          <p:cNvGrpSpPr/>
          <p:nvPr/>
        </p:nvGrpSpPr>
        <p:grpSpPr>
          <a:xfrm>
            <a:off x="6727680" y="3809880"/>
            <a:ext cx="1422720" cy="1968480"/>
            <a:chOff x="6727680" y="3809880"/>
            <a:chExt cx="1422720" cy="1968480"/>
          </a:xfrm>
        </p:grpSpPr>
        <p:pic>
          <p:nvPicPr>
            <p:cNvPr id="182" name="Object 41" descr=""/>
            <p:cNvPicPr/>
            <p:nvPr/>
          </p:nvPicPr>
          <p:blipFill>
            <a:blip r:embed="rId9"/>
            <a:stretch/>
          </p:blipFill>
          <p:spPr>
            <a:xfrm>
              <a:off x="6819480" y="3809880"/>
              <a:ext cx="11314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42"/>
            <p:cNvSpPr/>
            <p:nvPr/>
          </p:nvSpPr>
          <p:spPr>
            <a:xfrm>
              <a:off x="6727680" y="4952880"/>
              <a:ext cx="14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руб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са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87" name="WordArt 4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88" name="Object 5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6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90" name="Group 7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91" name="Group 8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92" name="Object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Object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11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5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Line 13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Text Box 14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7"/>
          <p:cNvGrpSpPr/>
          <p:nvPr/>
        </p:nvGrpSpPr>
        <p:grpSpPr>
          <a:xfrm>
            <a:off x="2454840" y="3657600"/>
            <a:ext cx="1888560" cy="2197080"/>
            <a:chOff x="2454840" y="3657600"/>
            <a:chExt cx="1888560" cy="2197080"/>
          </a:xfrm>
        </p:grpSpPr>
        <p:pic>
          <p:nvPicPr>
            <p:cNvPr id="199" name="Object 25" descr=""/>
            <p:cNvPicPr/>
            <p:nvPr/>
          </p:nvPicPr>
          <p:blipFill>
            <a:blip r:embed="rId7"/>
            <a:stretch/>
          </p:blipFill>
          <p:spPr>
            <a:xfrm>
              <a:off x="2666880" y="3657600"/>
              <a:ext cx="16765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26"/>
            <p:cNvSpPr/>
            <p:nvPr/>
          </p:nvSpPr>
          <p:spPr>
            <a:xfrm>
              <a:off x="2454840" y="5029200"/>
              <a:ext cx="188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мосфе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5725080" y="3581280"/>
            <a:ext cx="2120760" cy="2680560"/>
            <a:chOff x="5725080" y="3581280"/>
            <a:chExt cx="2120760" cy="2680560"/>
          </a:xfrm>
        </p:grpSpPr>
        <p:pic>
          <p:nvPicPr>
            <p:cNvPr id="202" name="Object 24" descr=""/>
            <p:cNvPicPr/>
            <p:nvPr/>
          </p:nvPicPr>
          <p:blipFill>
            <a:blip r:embed="rId8"/>
            <a:stretch/>
          </p:blipFill>
          <p:spPr>
            <a:xfrm>
              <a:off x="6103800" y="3581280"/>
              <a:ext cx="1279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8"/>
            <p:cNvSpPr/>
            <p:nvPr/>
          </p:nvSpPr>
          <p:spPr>
            <a:xfrm>
              <a:off x="5725080" y="507060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 Миров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WordArt 21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7" name="Group 23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08" name="Group 24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09" name="Group 25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10" name="Object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Object 2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AutoShape 28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13" name="Object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30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31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4"/>
          <p:cNvGrpSpPr/>
          <p:nvPr/>
        </p:nvGrpSpPr>
        <p:grpSpPr>
          <a:xfrm>
            <a:off x="1371600" y="2825640"/>
            <a:ext cx="3088080" cy="1974960"/>
            <a:chOff x="1371600" y="2825640"/>
            <a:chExt cx="3088080" cy="1974960"/>
          </a:xfrm>
        </p:grpSpPr>
        <p:sp>
          <p:nvSpPr>
            <p:cNvPr id="217" name="WordArt 32"/>
            <p:cNvSpPr txBox="1"/>
            <p:nvPr/>
          </p:nvSpPr>
          <p:spPr>
            <a:xfrm>
              <a:off x="1371600" y="3505320"/>
              <a:ext cx="19051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астна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деятельнос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еловека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18" name="AutoShape 33"/>
            <p:cNvSpPr/>
            <p:nvPr/>
          </p:nvSpPr>
          <p:spPr>
            <a:xfrm rot="19674600">
              <a:off x="3429000" y="3047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38"/>
          <p:cNvGrpSpPr/>
          <p:nvPr/>
        </p:nvGrpSpPr>
        <p:grpSpPr>
          <a:xfrm>
            <a:off x="3809880" y="3429000"/>
            <a:ext cx="4191120" cy="1371600"/>
            <a:chOff x="3809880" y="3429000"/>
            <a:chExt cx="4191120" cy="1371600"/>
          </a:xfrm>
        </p:grpSpPr>
        <p:sp>
          <p:nvSpPr>
            <p:cNvPr id="220" name="AutoShape 36"/>
            <p:cNvSpPr/>
            <p:nvPr/>
          </p:nvSpPr>
          <p:spPr>
            <a:xfrm flipH="1">
              <a:off x="3809880" y="3886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WordArt 37"/>
            <p:cNvSpPr txBox="1"/>
            <p:nvPr/>
          </p:nvSpPr>
          <p:spPr>
            <a:xfrm>
              <a:off x="5029200" y="3429000"/>
              <a:ext cx="2971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о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должно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егулирова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22" name="WordArt 39"/>
          <p:cNvSpPr txBox="1"/>
          <p:nvPr/>
        </p:nvSpPr>
        <p:spPr>
          <a:xfrm>
            <a:off x="3029040" y="4800600"/>
            <a:ext cx="245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99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роблема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99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WordArt 40"/>
          <p:cNvSpPr txBox="1"/>
          <p:nvPr/>
        </p:nvSpPr>
        <p:spPr>
          <a:xfrm>
            <a:off x="1219320" y="5486400"/>
            <a:ext cx="201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185e18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Arial"/>
              </a:rPr>
              <a:t>Зелены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185e18"/>
                  </a:gs>
                  <a:gs pos="100000">
                    <a:srgbClr val="33cc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24" name="Group 45"/>
          <p:cNvGrpSpPr/>
          <p:nvPr/>
        </p:nvGrpSpPr>
        <p:grpSpPr>
          <a:xfrm>
            <a:off x="3886200" y="4952880"/>
            <a:ext cx="4834440" cy="1557000"/>
            <a:chOff x="3886200" y="4952880"/>
            <a:chExt cx="4834440" cy="1557000"/>
          </a:xfrm>
        </p:grpSpPr>
        <p:grpSp>
          <p:nvGrpSpPr>
            <p:cNvPr id="225" name="Group 43"/>
            <p:cNvGrpSpPr/>
            <p:nvPr/>
          </p:nvGrpSpPr>
          <p:grpSpPr>
            <a:xfrm>
              <a:off x="5334120" y="4952880"/>
              <a:ext cx="3386520" cy="1557000"/>
              <a:chOff x="5334120" y="4952880"/>
              <a:chExt cx="3386520" cy="1557000"/>
            </a:xfrm>
          </p:grpSpPr>
          <p:pic>
            <p:nvPicPr>
              <p:cNvPr id="226" name="Object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81480"/>
                <a:ext cx="815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42"/>
              <p:cNvSpPr/>
              <p:nvPr/>
            </p:nvSpPr>
            <p:spPr>
              <a:xfrm>
                <a:off x="6293520" y="4952880"/>
                <a:ext cx="2427120" cy="1557000"/>
              </a:xfrm>
              <a:prstGeom prst="rect">
                <a:avLst/>
              </a:prstGeom>
              <a:solidFill>
                <a:srgbClr val="33cc33"/>
              </a:solidFill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акрытие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ажных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мышленных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3886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cc33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33" name="Group 5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34" name="Group 6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35" name="Object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Object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7" name="AutoShape 9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8" name="Object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Line 1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2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WordArt 13"/>
          <p:cNvSpPr txBox="1"/>
          <p:nvPr/>
        </p:nvSpPr>
        <p:spPr>
          <a:xfrm>
            <a:off x="3797280" y="3162240"/>
            <a:ext cx="1542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0099"/>
                    </a:gs>
                    <a:gs pos="100000">
                      <a:srgbClr val="006600"/>
                    </a:gs>
                  </a:gsLst>
                  <a:lin ang="5400000"/>
                </a:gradFill>
                <a:latin typeface="Arial"/>
              </a:rPr>
              <a:t>Выход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0099"/>
                  </a:gs>
                  <a:gs pos="100000">
                    <a:srgbClr val="00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840960" y="3657600"/>
            <a:ext cx="1767240" cy="2238480"/>
            <a:chOff x="840960" y="3657600"/>
            <a:chExt cx="1767240" cy="2238480"/>
          </a:xfrm>
        </p:grpSpPr>
        <p:pic>
          <p:nvPicPr>
            <p:cNvPr id="243" name="Object 15" descr=""/>
            <p:cNvPicPr/>
            <p:nvPr/>
          </p:nvPicPr>
          <p:blipFill>
            <a:blip r:embed="rId6"/>
            <a:stretch/>
          </p:blipFill>
          <p:spPr>
            <a:xfrm>
              <a:off x="990360" y="3657600"/>
              <a:ext cx="148752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/>
            <p:cNvSpPr/>
            <p:nvPr/>
          </p:nvSpPr>
          <p:spPr>
            <a:xfrm>
              <a:off x="840960" y="5070600"/>
              <a:ext cx="17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мкнуты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кл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2516760" y="3733920"/>
            <a:ext cx="2146680" cy="2334240"/>
            <a:chOff x="2516760" y="3733920"/>
            <a:chExt cx="2146680" cy="2334240"/>
          </a:xfrm>
        </p:grpSpPr>
        <p:pic>
          <p:nvPicPr>
            <p:cNvPr id="246" name="Object 18" descr=""/>
            <p:cNvPicPr/>
            <p:nvPr/>
          </p:nvPicPr>
          <p:blipFill>
            <a:blip r:embed="rId7"/>
            <a:stretch/>
          </p:blipFill>
          <p:spPr>
            <a:xfrm>
              <a:off x="2971800" y="3733920"/>
              <a:ext cx="1285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/>
            <p:cNvSpPr/>
            <p:nvPr/>
          </p:nvSpPr>
          <p:spPr>
            <a:xfrm>
              <a:off x="2516760" y="4876920"/>
              <a:ext cx="214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логическ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берегающ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4602240" y="3733920"/>
            <a:ext cx="2024640" cy="1984320"/>
            <a:chOff x="4602240" y="3733920"/>
            <a:chExt cx="2024640" cy="1984320"/>
          </a:xfrm>
        </p:grpSpPr>
        <p:pic>
          <p:nvPicPr>
            <p:cNvPr id="249" name="Object 21" descr=""/>
            <p:cNvPicPr/>
            <p:nvPr/>
          </p:nvPicPr>
          <p:blipFill>
            <a:blip r:embed="rId8"/>
            <a:stretch/>
          </p:blipFill>
          <p:spPr>
            <a:xfrm>
              <a:off x="5057640" y="3733920"/>
              <a:ext cx="1143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/>
            <p:cNvSpPr/>
            <p:nvPr/>
          </p:nvSpPr>
          <p:spPr>
            <a:xfrm>
              <a:off x="4602240" y="4892760"/>
              <a:ext cx="20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езотходны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5991120" y="3429000"/>
            <a:ext cx="2921040" cy="2928600"/>
            <a:chOff x="5991120" y="3429000"/>
            <a:chExt cx="2921040" cy="2928600"/>
          </a:xfrm>
        </p:grpSpPr>
        <p:pic>
          <p:nvPicPr>
            <p:cNvPr id="252" name="Object 23" descr=""/>
            <p:cNvPicPr/>
            <p:nvPr/>
          </p:nvPicPr>
          <p:blipFill>
            <a:blip r:embed="rId9"/>
            <a:stretch/>
          </p:blipFill>
          <p:spPr>
            <a:xfrm>
              <a:off x="6826320" y="3429000"/>
              <a:ext cx="117468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4"/>
            <p:cNvSpPr/>
            <p:nvPr/>
          </p:nvSpPr>
          <p:spPr>
            <a:xfrm>
              <a:off x="5991120" y="4800600"/>
              <a:ext cx="29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сстановитель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WordArt 26"/>
          <p:cNvSpPr txBox="1"/>
          <p:nvPr/>
        </p:nvSpPr>
        <p:spPr>
          <a:xfrm>
            <a:off x="1143000" y="6095880"/>
            <a:ext cx="7537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Экологическая экспертиза проэктов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5-05-06T08:29:15Z</dcterms:modified>
  <cp:revision>99</cp:revision>
  <dc:subject/>
  <dc:title>ОСОБЕННОСТИ ДРЕВНИХ ЦИВИЛИЗАЦИЙ.</dc:title>
</cp:coreProperties>
</file>