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4.jpeg" ContentType="image/jpeg"/>
  <Override PartName="/ppt/media/image21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CD26-F744-4FAD-9D04-8B7D8F8459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A3E-D932-4916-9D13-5ED97BEEA5C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C6CD-1215-4F70-8598-850C3FED7DC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9568-A46E-4ED6-931F-594AAD48634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9E42-7E93-43DD-B08E-A2A593CD157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CB53-B9B7-400B-ACE8-DE2B7B9E903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F0B3-D4BD-4B2D-B9E9-1EBCCCC6BBD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9F51-81F6-43F1-9F37-078577FD0FB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4BA9-58BF-4DB2-B0DE-3A526D84AA2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3794-8FA5-4AAE-A050-DE33B0C6A1E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61C8-6BCF-43FA-B1F0-5DE3ABF3476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6287-CB2D-4BF1-A5D9-866045074FD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6F71-EB5C-4C7C-AE9A-CDC02D8CA87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A898-937E-4B70-BC43-EE5D04090354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4929-E611-4CF3-B931-C817A7DD119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5D87-4A91-4B16-894B-EB65E1E0296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28D-4250-4A50-9C90-40E37CFC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702-1F36-4C7D-9627-6980D8D8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909-1041-4B31-9421-3D3346C4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A90-E1FF-46A2-BAAC-B7145BB7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0645-6238-4F5A-B79B-D7A8A35F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2FA4-A91C-423C-86A2-625AEF48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2AC3-90FC-41C3-B4CC-58395252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711F-5A50-4DEF-8C0E-6FFA9659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6C6C-18F7-4F1F-899D-2CA0D3D9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3BAE-0FA1-474A-B96A-58F7D36D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40E3-85F1-4099-A035-7ADD973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A62-4A8F-4180-B320-30BD0AEC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0B69-BA18-44E8-A2B4-0576654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7344-F0CB-484F-AC89-98DD571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2412-B29E-44A3-B4DF-DB1617AC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D717-C115-4E80-8949-17EF3D5A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1B6E-3988-4BEB-AEF2-C3F56668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B14-86CC-44A6-9605-4D062FDE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073-3AC0-4119-A021-CCCAB957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BD5-9A85-4303-8FB8-4D350A32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49B-0F40-46B3-939D-0AF7EAE4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1CF-CBD8-48AE-9992-2762B05E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B63-4E6D-42BE-B712-0D9BA33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E7F-C542-4168-9DB2-1A0D2D5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4CF7-6555-4CED-97BC-CDED7A5AA50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D88E-5142-4BF7-881E-C3D39088FCD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15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WordArt 37"/>
          <p:cNvSpPr txBox="1"/>
          <p:nvPr/>
        </p:nvSpPr>
        <p:spPr>
          <a:xfrm>
            <a:off x="1295280" y="14479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Ш.Фурь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8" name="Group 40"/>
          <p:cNvGrpSpPr/>
          <p:nvPr/>
        </p:nvGrpSpPr>
        <p:grpSpPr>
          <a:xfrm>
            <a:off x="3505320" y="1311120"/>
            <a:ext cx="5098680" cy="825480"/>
            <a:chOff x="3505320" y="1311120"/>
            <a:chExt cx="5098680" cy="825480"/>
          </a:xfrm>
        </p:grpSpPr>
        <p:sp>
          <p:nvSpPr>
            <p:cNvPr id="259" name="Text Box 38"/>
            <p:cNvSpPr/>
            <p:nvPr/>
          </p:nvSpPr>
          <p:spPr>
            <a:xfrm>
              <a:off x="4393800" y="1311120"/>
              <a:ext cx="421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йны-постоянный спутник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3505320" y="1676520"/>
              <a:ext cx="914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WordArt 41"/>
          <p:cNvSpPr txBox="1"/>
          <p:nvPr/>
        </p:nvSpPr>
        <p:spPr>
          <a:xfrm>
            <a:off x="2600280" y="2286000"/>
            <a:ext cx="4791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500 лет -300 лет мира</a:t>
            </a:r>
            <a:endParaRPr b="1" lang="en-US" sz="28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42"/>
          <p:cNvSpPr txBox="1"/>
          <p:nvPr/>
        </p:nvSpPr>
        <p:spPr>
          <a:xfrm>
            <a:off x="2362320" y="3666960"/>
            <a:ext cx="53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XX век-2 мировые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WordArt 43"/>
          <p:cNvSpPr txBox="1"/>
          <p:nvPr/>
        </p:nvSpPr>
        <p:spPr>
          <a:xfrm>
            <a:off x="1600200" y="4495680"/>
            <a:ext cx="691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мировая-гибель человечества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1066680" y="5105520"/>
            <a:ext cx="3276720" cy="1133280"/>
            <a:chOff x="1066680" y="5105520"/>
            <a:chExt cx="3276720" cy="1133280"/>
          </a:xfrm>
        </p:grpSpPr>
        <p:sp>
          <p:nvSpPr>
            <p:cNvPr id="265" name="WordArt 44"/>
            <p:cNvSpPr txBox="1"/>
            <p:nvPr/>
          </p:nvSpPr>
          <p:spPr>
            <a:xfrm>
              <a:off x="1066680" y="5715000"/>
              <a:ext cx="327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дерная зима</a:t>
              </a:r>
              <a:endParaRPr b="1" lang="en-US" sz="2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6" name="AutoShape 45"/>
            <p:cNvSpPr/>
            <p:nvPr/>
          </p:nvSpPr>
          <p:spPr>
            <a:xfrm>
              <a:off x="2361960" y="510552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495680" y="5562720"/>
            <a:ext cx="4419720" cy="914400"/>
            <a:chOff x="4495680" y="5562720"/>
            <a:chExt cx="4419720" cy="914400"/>
          </a:xfrm>
        </p:grpSpPr>
        <p:sp>
          <p:nvSpPr>
            <p:cNvPr id="268" name="WordArt 47"/>
            <p:cNvSpPr txBox="1"/>
            <p:nvPr/>
          </p:nvSpPr>
          <p:spPr>
            <a:xfrm>
              <a:off x="5372280" y="5562720"/>
              <a:ext cx="3543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Продолжение гонки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вооружений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495680" y="5791320"/>
              <a:ext cx="762120" cy="380880"/>
            </a:xfrm>
            <a:prstGeom prst="leftArrow">
              <a:avLst>
                <a:gd name="adj1" fmla="val 50000"/>
                <a:gd name="adj2" fmla="val 5002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438280" y="1219320"/>
            <a:ext cx="5143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ловия недопущ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ядерной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83080" y="2581200"/>
            <a:ext cx="7902720" cy="350676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228600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371600" y="2209680"/>
            <a:ext cx="7324560" cy="1143000"/>
            <a:chOff x="1371600" y="2209680"/>
            <a:chExt cx="7324560" cy="1143000"/>
          </a:xfrm>
        </p:grpSpPr>
        <p:sp>
          <p:nvSpPr>
            <p:cNvPr id="278" name="WordArt 6"/>
            <p:cNvSpPr txBox="1"/>
            <p:nvPr/>
          </p:nvSpPr>
          <p:spPr>
            <a:xfrm>
              <a:off x="1371600" y="2209680"/>
              <a:ext cx="22287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Развитые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ны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9" name="WordArt 7"/>
            <p:cNvSpPr txBox="1"/>
            <p:nvPr/>
          </p:nvSpPr>
          <p:spPr>
            <a:xfrm>
              <a:off x="4952880" y="2286000"/>
              <a:ext cx="3743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Развивающиес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страны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>
              <a:off x="3657600" y="2438280"/>
              <a:ext cx="1214280" cy="486000"/>
            </a:xfrm>
            <a:prstGeom prst="leftRightArrow">
              <a:avLst>
                <a:gd name="adj1" fmla="val 50000"/>
                <a:gd name="adj2" fmla="val 4973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2806200" y="3962520"/>
            <a:ext cx="4161240" cy="1922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50-60-освобождени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70-быстрый экономическ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80-замедление,внешние за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мствов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3809880" y="3143160"/>
            <a:ext cx="1981440" cy="571680"/>
            <a:chOff x="3809880" y="3143160"/>
            <a:chExt cx="1981440" cy="571680"/>
          </a:xfrm>
        </p:grpSpPr>
        <p:sp>
          <p:nvSpPr>
            <p:cNvPr id="283" name="WordArt 11"/>
            <p:cNvSpPr txBox="1"/>
            <p:nvPr/>
          </p:nvSpPr>
          <p:spPr>
            <a:xfrm>
              <a:off x="3809880" y="3276720"/>
              <a:ext cx="914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60 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WordArt 13"/>
            <p:cNvSpPr txBox="1"/>
            <p:nvPr/>
          </p:nvSpPr>
          <p:spPr>
            <a:xfrm>
              <a:off x="5048280" y="3143160"/>
              <a:ext cx="743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6:1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2743200" y="6029280"/>
            <a:ext cx="4267080" cy="590760"/>
            <a:chOff x="2743200" y="6029280"/>
            <a:chExt cx="4267080" cy="590760"/>
          </a:xfrm>
        </p:grpSpPr>
        <p:sp>
          <p:nvSpPr>
            <p:cNvPr id="286" name="WordArt 12"/>
            <p:cNvSpPr txBox="1"/>
            <p:nvPr/>
          </p:nvSpPr>
          <p:spPr>
            <a:xfrm>
              <a:off x="2743200" y="609588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ер.90 г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87" name="WordArt 15"/>
            <p:cNvSpPr txBox="1"/>
            <p:nvPr/>
          </p:nvSpPr>
          <p:spPr>
            <a:xfrm>
              <a:off x="6172200" y="6029280"/>
              <a:ext cx="838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40:1</a:t>
              </a:r>
              <a:endPara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88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23524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3794040" y="2286000"/>
            <a:ext cx="2114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701720" y="2819520"/>
            <a:ext cx="6299280" cy="11912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ыстрый рост населения на Юг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литика Севера- «Юг-сырьевой придато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7"/>
          <p:cNvSpPr txBox="1"/>
          <p:nvPr/>
        </p:nvSpPr>
        <p:spPr>
          <a:xfrm>
            <a:off x="2984400" y="41911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Пути преодоления</a:t>
            </a:r>
            <a:endParaRPr b="1" lang="en-US" sz="28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069640" y="4848120"/>
            <a:ext cx="5563440" cy="15570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умная демографическая политик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гонки вооружений и нап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авление денежных средств в стра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третьего мира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860640"/>
            <a:ext cx="1152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3860640"/>
            <a:ext cx="129672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435640" y="3860640"/>
            <a:ext cx="16574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WordArt 131"/>
          <p:cNvSpPr txBox="1"/>
          <p:nvPr/>
        </p:nvSpPr>
        <p:spPr>
          <a:xfrm>
            <a:off x="1143000" y="1219320"/>
            <a:ext cx="159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-я пол.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0 век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134"/>
          <p:cNvGrpSpPr/>
          <p:nvPr/>
        </p:nvGrpSpPr>
        <p:grpSpPr>
          <a:xfrm>
            <a:off x="3048120" y="1219320"/>
            <a:ext cx="5686200" cy="1143000"/>
            <a:chOff x="3048120" y="1219320"/>
            <a:chExt cx="5686200" cy="1143000"/>
          </a:xfrm>
        </p:grpSpPr>
        <p:sp>
          <p:nvSpPr>
            <p:cNvPr id="136" name="AutoShape 132"/>
            <p:cNvSpPr/>
            <p:nvPr/>
          </p:nvSpPr>
          <p:spPr>
            <a:xfrm>
              <a:off x="3048120" y="1571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WordArt 133"/>
            <p:cNvSpPr txBox="1"/>
            <p:nvPr/>
          </p:nvSpPr>
          <p:spPr>
            <a:xfrm>
              <a:off x="4114800" y="1219320"/>
              <a:ext cx="4619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облемы выживания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человечества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8" name="Text Box 135"/>
          <p:cNvSpPr/>
          <p:nvPr/>
        </p:nvSpPr>
        <p:spPr>
          <a:xfrm>
            <a:off x="1104120" y="2971800"/>
            <a:ext cx="7689600" cy="30200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295280" y="990720"/>
            <a:ext cx="7115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ичины глобальных проблем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936720" y="1600200"/>
            <a:ext cx="1823760" cy="2349360"/>
            <a:chOff x="936720" y="1600200"/>
            <a:chExt cx="1823760" cy="2349360"/>
          </a:xfrm>
        </p:grpSpPr>
        <p:pic>
          <p:nvPicPr>
            <p:cNvPr id="143" name="Object 9" descr=""/>
            <p:cNvPicPr/>
            <p:nvPr/>
          </p:nvPicPr>
          <p:blipFill>
            <a:blip r:embed="rId1"/>
            <a:stretch/>
          </p:blipFill>
          <p:spPr>
            <a:xfrm>
              <a:off x="1157400" y="1600200"/>
              <a:ext cx="14335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936720" y="3124080"/>
              <a:ext cx="1823760" cy="8254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ета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диный до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2743200" y="1828800"/>
            <a:ext cx="3427560" cy="1693800"/>
            <a:chOff x="2743200" y="1828800"/>
            <a:chExt cx="3427560" cy="1693800"/>
          </a:xfrm>
        </p:grpSpPr>
        <p:sp>
          <p:nvSpPr>
            <p:cNvPr id="146" name="AutoShape 12"/>
            <p:cNvSpPr/>
            <p:nvPr/>
          </p:nvSpPr>
          <p:spPr>
            <a:xfrm>
              <a:off x="2743200" y="20462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3581640" y="1828800"/>
              <a:ext cx="2589120" cy="16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локальные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конфликты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 противоречи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6200640" y="1752480"/>
            <a:ext cx="2576520" cy="990360"/>
            <a:chOff x="6200640" y="1752480"/>
            <a:chExt cx="2576520" cy="990360"/>
          </a:xfrm>
        </p:grpSpPr>
        <p:sp>
          <p:nvSpPr>
            <p:cNvPr id="149" name="AutoShape 16"/>
            <p:cNvSpPr/>
            <p:nvPr/>
          </p:nvSpPr>
          <p:spPr>
            <a:xfrm>
              <a:off x="6200640" y="20286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7101000" y="1752480"/>
              <a:ext cx="1676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бщемировой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аракте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1" name="Group 26"/>
          <p:cNvGrpSpPr/>
          <p:nvPr/>
        </p:nvGrpSpPr>
        <p:grpSpPr>
          <a:xfrm>
            <a:off x="839520" y="4038480"/>
            <a:ext cx="2427480" cy="2577960"/>
            <a:chOff x="839520" y="4038480"/>
            <a:chExt cx="2427480" cy="2577960"/>
          </a:xfrm>
        </p:grpSpPr>
        <p:sp>
          <p:nvSpPr>
            <p:cNvPr id="152" name="AutoShape 19"/>
            <p:cNvSpPr/>
            <p:nvPr/>
          </p:nvSpPr>
          <p:spPr>
            <a:xfrm>
              <a:off x="1628640" y="40384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839520" y="4724280"/>
              <a:ext cx="2082600" cy="1892160"/>
              <a:chOff x="839520" y="4724280"/>
              <a:chExt cx="2082600" cy="1892160"/>
            </a:xfrm>
          </p:grpSpPr>
          <p:pic>
            <p:nvPicPr>
              <p:cNvPr id="154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3040" y="4724280"/>
                <a:ext cx="1093680" cy="10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21"/>
              <p:cNvSpPr/>
              <p:nvPr/>
            </p:nvSpPr>
            <p:spPr>
              <a:xfrm>
                <a:off x="839520" y="5790960"/>
                <a:ext cx="208260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WordArt 23"/>
            <p:cNvSpPr txBox="1"/>
            <p:nvPr/>
          </p:nvSpPr>
          <p:spPr>
            <a:xfrm>
              <a:off x="3000240" y="5029200"/>
              <a:ext cx="266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3816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=</a:t>
              </a:r>
              <a:endParaRPr b="1" lang="en-US" sz="2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3003120" y="4267080"/>
            <a:ext cx="2561040" cy="2197080"/>
            <a:chOff x="3003120" y="4267080"/>
            <a:chExt cx="2561040" cy="2197080"/>
          </a:xfrm>
        </p:grpSpPr>
        <p:pic>
          <p:nvPicPr>
            <p:cNvPr id="158" name="Object 24" descr=""/>
            <p:cNvPicPr/>
            <p:nvPr/>
          </p:nvPicPr>
          <p:blipFill>
            <a:blip r:embed="rId7"/>
            <a:stretch/>
          </p:blipFill>
          <p:spPr>
            <a:xfrm>
              <a:off x="3633480" y="4267080"/>
              <a:ext cx="1195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5"/>
            <p:cNvSpPr/>
            <p:nvPr/>
          </p:nvSpPr>
          <p:spPr>
            <a:xfrm>
              <a:off x="3003120" y="563868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уши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ы природ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8"/>
          <p:cNvSpPr/>
          <p:nvPr/>
        </p:nvSpPr>
        <p:spPr>
          <a:xfrm>
            <a:off x="5603400" y="3657600"/>
            <a:ext cx="3385800" cy="30200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Но!Низкий уровень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енной орган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ци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6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7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7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8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87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99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202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08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09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10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3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217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8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220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22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4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225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226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33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34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35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8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43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46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49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52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5-05-06T08:29:15Z</dcterms:modified>
  <cp:revision>99</cp:revision>
  <dc:subject/>
  <dc:title>ОСОБЕННОСТИ ДРЕВНИХ ЦИВИЛИЗАЦИЙ.</dc:title>
</cp:coreProperties>
</file>