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B4D1-C744-41D4-952C-94C9DDCEAA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ета Земля в опас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рода - единственная книга, каждая страница которой пол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лубокого содержания.                                                        Гё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B743-C6B7-4565-9274-1C97F768CD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екрасен и удивителен окружающий нас мир! Как прекрасны и неповторимы бескрайние леса и безбрежные моря, полноводные реки и озёра, высокие горы и зелёные равнины, широкие степи и безграничные пусты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4FC4-F5AB-4A76-928D-06152F0154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летит, маленькая та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грустит, в думы свои вни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плывёт, зыбкой прохладой в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ё ещё живёт! Всё ещё людям вери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плывёт сквозь грозовую полноч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х людей зовёт, про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йти на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сит  прийти на помощ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975F-CB6A-4A12-B70C-C83950C560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я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D148-0D33-40E6-9614-9FAFC43CD8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опас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AE99-DD07-4F8C-81A4-978661B030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ю окружающей среды способствуют: СЕЛЬСКОХОЗЯЙСТВЕННАЯ ДЕЯТЕЛЬНОСТЬ ЧЕЛОВЕКА, НЕРАЦИОНАЛЬНОЕ ИСПОЛЬЗОВАНИЕ ИСКОПАЕМОГО ТОПЛИВА, ЧРЕЗМЕРНООЕ РАСШИРЕНИЕ ХИМ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 известно, что сегодня наша планета находится в опасности и если мы  будем по –прежнему бездушно эксплуатировать её, то к концу этого столетия потеряем из-за эррозии более трети плодородных земель, исчезнет миллион видов живых организмов, а население будет нуждаться в новых ресур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5FC1-A305-4434-89BC-EA0A29472E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ую весну объявляется месячник по очистке территорий населённых пунктов от мус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 активное участие в субботник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бе понравилась чистота улиц? Не сори, и они останутся такими всегд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D013-E2E8-4836-A1B9-5C72B85EAB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рогие ребята! 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емля с её  биосферой – величайшее чудо, она у нас одна.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удем же беречь нашу Землю!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сюду, на каждом шагу, все вместе и каждый в отдельности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ругой планеты у нас не будет!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втрашний   день Земли будет таким, каким мы создадим его сегодн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F9FF-1FAA-4C64-B9DD-3FCE04BBC49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C7E-1759-4757-AC42-2E8820AA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08A-1312-49BF-996B-DDC9F381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197-1E79-4B05-9028-029FA9F7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13E-5B87-4BAC-A67B-D5413544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B72E-76D5-4CE9-8495-D1EC590C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0950-44B7-4947-83EC-FA2B1E35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7624-6602-4D2F-B320-12A37620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E158-5C5E-4535-94BC-C11120F4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E489-F439-43DA-A909-91B075FA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3DEC-4D8C-4992-8422-CFD3930A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78A7-AD66-4B84-B49D-73A8147D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660-F913-4E0A-A2F0-4BFA53F1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D363-BFA9-41EB-A150-00BE9D4D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70E1-72FC-4AFC-9156-31D4884B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4744-D515-4DF6-ADC3-B229597A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06FC-DA45-48FB-A196-1966C6E2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7296-D59E-4BB7-A169-172651EF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A9F-347C-4D54-ADBB-AF3D8600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039-F077-4F23-9B0F-01B549A5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4C4-158C-453C-B50C-9B2B6429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733-E573-4B50-966C-E20D001E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ED7-340F-48AA-B7D5-22F82064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13F-E1F2-4057-9E4F-F1E2D542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815-23F0-480B-BF10-14EDA9E8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0BD5-6E89-4A0C-AEE4-03EF46B19F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B54A-4254-4D39-907D-DED4F3DFD3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ffff"/>
                </a:solidFill>
                <a:latin typeface="Arial"/>
              </a:rPr>
              <a:t>Планета Земля в опасност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рода - единственная книга, каждая страница которой пол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лубокого содержания.                                                        Гё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{19193586-5FF4-4AA6-93B4-E461A553AB4E}"/>
          <p:cNvPicPr/>
          <p:nvPr/>
        </p:nvPicPr>
        <p:blipFill>
          <a:blip r:embed="rId1"/>
          <a:stretch/>
        </p:blipFill>
        <p:spPr>
          <a:xfrm>
            <a:off x="3132000" y="404640"/>
            <a:ext cx="3011760" cy="22593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37800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прекрасен и удивителен окружающий нас мир! Как прекрасны и неповторимы бескрайние леса и безбрежные моря, полноводные реки и озёра, высокие горы и зелёные равнины, широкие степи и безграничные пустын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9" descr="озеро Байкал"/>
          <p:cNvPicPr/>
          <p:nvPr/>
        </p:nvPicPr>
        <p:blipFill>
          <a:blip r:embed="rId1"/>
          <a:stretch/>
        </p:blipFill>
        <p:spPr>
          <a:xfrm>
            <a:off x="6311880" y="260280"/>
            <a:ext cx="2832120" cy="2135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искуссство 025"/>
          <p:cNvPicPr/>
          <p:nvPr/>
        </p:nvPicPr>
        <p:blipFill>
          <a:blip r:embed="rId2"/>
          <a:stretch/>
        </p:blipFill>
        <p:spPr>
          <a:xfrm>
            <a:off x="6297480" y="472284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c2_2"/>
          <p:cNvPicPr/>
          <p:nvPr/>
        </p:nvPicPr>
        <p:blipFill>
          <a:blip r:embed="rId3"/>
          <a:stretch/>
        </p:blipFill>
        <p:spPr>
          <a:xfrm>
            <a:off x="6300720" y="2492280"/>
            <a:ext cx="284328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p9_4_3"/>
          <p:cNvPicPr/>
          <p:nvPr/>
        </p:nvPicPr>
        <p:blipFill>
          <a:blip r:embed="rId4"/>
          <a:stretch/>
        </p:blipFill>
        <p:spPr>
          <a:xfrm>
            <a:off x="3564000" y="4724280"/>
            <a:ext cx="266364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c4_3"/>
          <p:cNvPicPr/>
          <p:nvPr/>
        </p:nvPicPr>
        <p:blipFill>
          <a:blip r:embed="rId5"/>
          <a:stretch/>
        </p:blipFill>
        <p:spPr>
          <a:xfrm>
            <a:off x="3708360" y="333360"/>
            <a:ext cx="2543040" cy="43117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4500720" y="3635280"/>
            <a:ext cx="4643280" cy="3222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летит, маленькая так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грустит, в думы свои вник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плывёт, зыбкой прохладой ве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ё ещё живёт! Всё ещё людям вери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плывёт сквозь грозовую полноч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ех людей зовёт, проси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йти на помощ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осит  прийти на помощ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Природные явления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6" name="Picture 5" descr="ЯВЛЕНИЯ"/>
          <p:cNvPicPr/>
          <p:nvPr/>
        </p:nvPicPr>
        <p:blipFill>
          <a:blip r:embed="rId1"/>
          <a:stretch/>
        </p:blipFill>
        <p:spPr>
          <a:xfrm>
            <a:off x="250920" y="1676520"/>
            <a:ext cx="8569080" cy="5181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Экологическая опасность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РЕКА"/>
          <p:cNvPicPr/>
          <p:nvPr/>
        </p:nvPicPr>
        <p:blipFill>
          <a:blip r:embed="rId1"/>
          <a:stretch/>
        </p:blipFill>
        <p:spPr>
          <a:xfrm>
            <a:off x="4572000" y="1700280"/>
            <a:ext cx="4275000" cy="446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rus23"/>
          <p:cNvPicPr/>
          <p:nvPr/>
        </p:nvPicPr>
        <p:blipFill>
          <a:blip r:embed="rId2"/>
          <a:stretch/>
        </p:blipFill>
        <p:spPr>
          <a:xfrm>
            <a:off x="974880" y="3963960"/>
            <a:ext cx="2846160" cy="213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ЗАГРЯЗНЕНИЕ"/>
          <p:cNvPicPr/>
          <p:nvPr/>
        </p:nvPicPr>
        <p:blipFill>
          <a:blip r:embed="rId3"/>
          <a:stretch/>
        </p:blipFill>
        <p:spPr>
          <a:xfrm>
            <a:off x="974880" y="1676520"/>
            <a:ext cx="2846160" cy="21351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41940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язнению окружающей среды способствуют: СЕЛЬСКОХОЗЯЙСТВЕННАЯ ДЕЯТЕЛЬНОСТЬ ЧЕЛОВЕКА, НЕРАЦИОНАЛЬНОЕ ИСПОЛЬЗОВАНИЕ ИСКОПАЕМОГО ТОПЛИВА, ЧРЕЗМЕРНООЕ РАСШИРЕНИЕ ХИМИЧЕСКОГО 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33360"/>
            <a:ext cx="419400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м известно, что сегодня наша планета находится в опасности и если мы  будем по –прежнему бездушно эксплуатировать её, то к концу этого столетия потеряем из-за эррозии более трети плодородных земель, исчезнет миллион видов живых организмов, а население будет нуждаться в новых ресурс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99920"/>
            <a:ext cx="854064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ую весну объявляется месячник по очистке территорий населённых пунктов от мус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и активное участие в субботник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бе понравилась чистота улиц? Не сори, и они останутся такими всегд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826920" y="333360"/>
            <a:ext cx="763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ачни с малог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Дорогие ребята! 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Земля с её  биосферой – величайшее чудо, она у нас одна..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Будем же беречь нашу Землю!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Повсюду, на каждом шагу, все вместе и каждый в отдельности.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Другой планеты у нас не будет!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Завтрашний   день Земли будет таким, каким мы создадим его сегодня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3" name="Picture 13" descr="искуссство 023"/>
          <p:cNvPicPr/>
          <p:nvPr/>
        </p:nvPicPr>
        <p:blipFill>
          <a:blip r:embed="rId1"/>
          <a:stretch/>
        </p:blipFill>
        <p:spPr>
          <a:xfrm>
            <a:off x="1042920" y="443700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искуссство 025"/>
          <p:cNvPicPr/>
          <p:nvPr/>
        </p:nvPicPr>
        <p:blipFill>
          <a:blip r:embed="rId2"/>
          <a:stretch/>
        </p:blipFill>
        <p:spPr>
          <a:xfrm>
            <a:off x="4500720" y="4437000"/>
            <a:ext cx="4319280" cy="2135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P4110192"/>
          <p:cNvPicPr/>
          <p:nvPr/>
        </p:nvPicPr>
        <p:blipFill>
          <a:blip r:embed="rId3">
            <a:lum contrast="6000"/>
          </a:blip>
          <a:srcRect l="0" t="0" r="0" b="34889"/>
          <a:stretch/>
        </p:blipFill>
        <p:spPr>
          <a:xfrm>
            <a:off x="468360" y="2205000"/>
            <a:ext cx="4319640" cy="21351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126" name="Picture 17" descr="p9_2_3"/>
          <p:cNvPicPr/>
          <p:nvPr/>
        </p:nvPicPr>
        <p:blipFill>
          <a:blip r:embed="rId4"/>
          <a:stretch/>
        </p:blipFill>
        <p:spPr>
          <a:xfrm>
            <a:off x="5148360" y="2349360"/>
            <a:ext cx="3276360" cy="18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спасибо за внимание"/>
          <p:cNvPicPr/>
          <p:nvPr/>
        </p:nvPicPr>
        <p:blipFill>
          <a:blip r:embed="rId1"/>
          <a:stretch/>
        </p:blipFill>
        <p:spPr>
          <a:xfrm>
            <a:off x="1619280" y="1197000"/>
            <a:ext cx="5975280" cy="44798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7:03:47Z</dcterms:created>
  <dc:creator>user</dc:creator>
  <dc:description/>
  <dc:language>en-US</dc:language>
  <cp:lastModifiedBy>LEGION</cp:lastModifiedBy>
  <dcterms:modified xsi:type="dcterms:W3CDTF">2015-05-06T08:29:36Z</dcterms:modified>
  <cp:revision>32</cp:revision>
  <dc:subject/>
  <dc:title>Земля – малое дитя Космоса</dc:title>
</cp:coreProperties>
</file>