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B219-0DF4-4D73-9995-871F05D8F9C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нета Земля в опас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рода - единственная книга, каждая страница которой пол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лубокого содержания.                                                        Гё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8FB2-ED4C-4CDB-834F-5BD9CFFA6B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екрасен и удивителен окружающий нас мир! Как прекрасны и неповторимы бескрайние леса и безбрежные моря, полноводные реки и озёра, высокие горы и зелёные равнины, широкие степи и безграничные пусты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B320-56FA-43D2-B76F-831A0182A1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летит, маленькая та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грустит, в думы свои вни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плывёт, зыбкой прохладой в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ё ещё живёт! Всё ещё людям вери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плывёт сквозь грозовую полноч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х людей зовёт, про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йти на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сит  прийти на помощ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392E-DB9F-41BA-B9B2-4DC0F8B253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я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CA59-5F0E-419D-9C53-49F3EA71BD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опас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6C94-B326-4063-BBB9-2C7973033B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ю окружающей среды способствуют: СЕЛЬСКОХОЗЯЙСТВЕННАЯ ДЕЯТЕЛЬНОСТЬ ЧЕЛОВЕКА, НЕРАЦИОНАЛЬНОЕ ИСПОЛЬЗОВАНИЕ ИСКОПАЕМОГО ТОПЛИВА, ЧРЕЗМЕРНООЕ РАСШИРЕНИЕ ХИМ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 известно, что сегодня наша планета находится в опасности и если мы  будем по –прежнему бездушно эксплуатировать её, то к концу этого столетия потеряем из-за эррозии более трети плодородных земель, исчезнет миллион видов живых организмов, а население будет нуждаться в новых ресур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EE39-8218-4412-AA95-DAB8B5ECC9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ую весну объявляется месячник по очистке территорий населённых пунктов от мус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 активное участие в субботник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бе понравилась чистота улиц? Не сори, и они останутся такими всегд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2CFA-B5A1-4E70-911B-F321CF96AA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рогие ребята! 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емля с её  биосферой – величайшее чудо, она у нас одна.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удем же беречь нашу Землю!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сюду, на каждом шагу, все вместе и каждый в отдельности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ругой планеты у нас не будет!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втрашний   день Земли будет таким, каким мы создадим его сегодн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3DCB-9080-407D-B6DF-78327B832D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DEB-113E-493A-A7CD-22940C63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83CE-B29D-4EAA-B758-7537A8C8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D4F0-C736-4A53-ABEA-0F8DFDB7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662-0296-48CA-BB5F-B337033F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42E4-9055-43F8-9110-3E59588C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87F3-04E1-4D9D-8942-36075EC6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543A-5749-4DCF-AF04-8E9FC741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CC32-6754-452F-82E8-BE081DFD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8BFE-B3FA-4F27-A497-5BAA40D0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33C5-510B-4926-99FE-D26DECB8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B324-6C2A-4868-B5B1-5FEFB829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B623-75C9-4698-B130-D5FD5525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1EAC-9ED3-4A6D-A22C-8CBB5B0E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3452-C0DF-431E-ABD3-B9AB9597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91D8-9555-4F2B-B6A8-CF9A467B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4FBF-09B3-42EE-892E-787E8BCB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BA3B-09BC-4638-A2FA-143A2E43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48B-C45D-41F6-B665-DD91D342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80D-D21B-44C5-B2A5-E86408A3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5CC4-F957-4F29-9D6C-DD022E32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1FD8-60BE-4E51-BBE2-96360EC1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7EBB-78C2-48AD-A4CF-6F866142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4FF-84E2-4109-8150-DADFB1D0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F00-5967-4A31-B4D8-59D495B8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FD83-C2D6-4008-AC32-5142562B21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5B78-307D-4047-A34B-62CDD4DD399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cffff"/>
                </a:solidFill>
                <a:latin typeface="Arial"/>
              </a:rPr>
              <a:t>Планета Земля в опасност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рода - единственная книга, каждая страница которой пол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лубокого содержания.                                                        Гё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{19193586-5FF4-4AA6-93B4-E461A553AB4E}"/>
          <p:cNvPicPr/>
          <p:nvPr/>
        </p:nvPicPr>
        <p:blipFill>
          <a:blip r:embed="rId1"/>
          <a:stretch/>
        </p:blipFill>
        <p:spPr>
          <a:xfrm>
            <a:off x="3132000" y="404640"/>
            <a:ext cx="3011760" cy="22593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378000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прекрасен и удивителен окружающий нас мир! Как прекрасны и неповторимы бескрайние леса и безбрежные моря, полноводные реки и озёра, высокие горы и зелёные равнины, широкие степи и безграничные пустын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9" descr="озеро Байкал"/>
          <p:cNvPicPr/>
          <p:nvPr/>
        </p:nvPicPr>
        <p:blipFill>
          <a:blip r:embed="rId1"/>
          <a:stretch/>
        </p:blipFill>
        <p:spPr>
          <a:xfrm>
            <a:off x="6311880" y="260280"/>
            <a:ext cx="2832120" cy="2135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искуссство 025"/>
          <p:cNvPicPr/>
          <p:nvPr/>
        </p:nvPicPr>
        <p:blipFill>
          <a:blip r:embed="rId2"/>
          <a:stretch/>
        </p:blipFill>
        <p:spPr>
          <a:xfrm>
            <a:off x="6297480" y="472284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c2_2"/>
          <p:cNvPicPr/>
          <p:nvPr/>
        </p:nvPicPr>
        <p:blipFill>
          <a:blip r:embed="rId3"/>
          <a:stretch/>
        </p:blipFill>
        <p:spPr>
          <a:xfrm>
            <a:off x="6300720" y="2492280"/>
            <a:ext cx="284328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p9_4_3"/>
          <p:cNvPicPr/>
          <p:nvPr/>
        </p:nvPicPr>
        <p:blipFill>
          <a:blip r:embed="rId4"/>
          <a:stretch/>
        </p:blipFill>
        <p:spPr>
          <a:xfrm>
            <a:off x="3564000" y="4724280"/>
            <a:ext cx="266364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c4_3"/>
          <p:cNvPicPr/>
          <p:nvPr/>
        </p:nvPicPr>
        <p:blipFill>
          <a:blip r:embed="rId5"/>
          <a:stretch/>
        </p:blipFill>
        <p:spPr>
          <a:xfrm>
            <a:off x="3708360" y="333360"/>
            <a:ext cx="2543040" cy="43117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4500720" y="3635280"/>
            <a:ext cx="4643280" cy="3222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летит, маленькая так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грустит, в думы свои вник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плывёт, зыбкой прохладой ве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ё ещё живёт! Всё ещё людям вери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плывёт сквозь грозовую полноч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ех людей зовёт, проси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йти на помощ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осит  прийти на помощ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Природные явления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6" name="Picture 5" descr="ЯВЛЕНИЯ"/>
          <p:cNvPicPr/>
          <p:nvPr/>
        </p:nvPicPr>
        <p:blipFill>
          <a:blip r:embed="rId1"/>
          <a:stretch/>
        </p:blipFill>
        <p:spPr>
          <a:xfrm>
            <a:off x="250920" y="1676520"/>
            <a:ext cx="8569080" cy="5181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4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Экологическая опасность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РЕКА"/>
          <p:cNvPicPr/>
          <p:nvPr/>
        </p:nvPicPr>
        <p:blipFill>
          <a:blip r:embed="rId1"/>
          <a:stretch/>
        </p:blipFill>
        <p:spPr>
          <a:xfrm>
            <a:off x="4572000" y="1700280"/>
            <a:ext cx="4275000" cy="446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rus23"/>
          <p:cNvPicPr/>
          <p:nvPr/>
        </p:nvPicPr>
        <p:blipFill>
          <a:blip r:embed="rId2"/>
          <a:stretch/>
        </p:blipFill>
        <p:spPr>
          <a:xfrm>
            <a:off x="974880" y="3963960"/>
            <a:ext cx="2846160" cy="213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ЗАГРЯЗНЕНИЕ"/>
          <p:cNvPicPr/>
          <p:nvPr/>
        </p:nvPicPr>
        <p:blipFill>
          <a:blip r:embed="rId3"/>
          <a:stretch/>
        </p:blipFill>
        <p:spPr>
          <a:xfrm>
            <a:off x="974880" y="1676520"/>
            <a:ext cx="2846160" cy="21351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419400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язнению окружающей среды способствуют: СЕЛЬСКОХОЗЯЙСТВЕННАЯ ДЕЯТЕЛЬНОСТЬ ЧЕЛОВЕКА, НЕРАЦИОНАЛЬНОЕ ИСПОЛЬЗОВАНИЕ ИСКОПАЕМОГО ТОПЛИВА, ЧРЕЗМЕРНООЕ РАСШИРЕНИЕ ХИМИЧЕСКОГО 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33360"/>
            <a:ext cx="419400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м известно, что сегодня наша планета находится в опасности и если мы  будем по –прежнему бездушно эксплуатировать её, то к концу этого столетия потеряем из-за эррозии более трети плодородных земель, исчезнет миллион видов живых организмов, а население будет нуждаться в новых ресурс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99920"/>
            <a:ext cx="854064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ую весну объявляется месячник по очистке территорий населённых пунктов от мусо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и активное участие в субботник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бе понравилась чистота улиц? Не сори, и они останутся такими всегд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826920" y="333360"/>
            <a:ext cx="763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начни с малог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Дорогие ребята! 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Земля с её  биосферой – величайшее чудо, она у нас одна..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Будем же беречь нашу Землю!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Повсюду, на каждом шагу, все вместе и каждый в отдельности.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Другой планеты у нас не будет!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Завтрашний   день Земли будет таким, каким мы создадим его сегодня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3" name="Picture 13" descr="искуссство 023"/>
          <p:cNvPicPr/>
          <p:nvPr/>
        </p:nvPicPr>
        <p:blipFill>
          <a:blip r:embed="rId1"/>
          <a:stretch/>
        </p:blipFill>
        <p:spPr>
          <a:xfrm>
            <a:off x="1042920" y="443700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искуссство 025"/>
          <p:cNvPicPr/>
          <p:nvPr/>
        </p:nvPicPr>
        <p:blipFill>
          <a:blip r:embed="rId2"/>
          <a:stretch/>
        </p:blipFill>
        <p:spPr>
          <a:xfrm>
            <a:off x="4500720" y="4437000"/>
            <a:ext cx="4319280" cy="2135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P4110192"/>
          <p:cNvPicPr/>
          <p:nvPr/>
        </p:nvPicPr>
        <p:blipFill>
          <a:blip r:embed="rId3">
            <a:lum contrast="6000"/>
          </a:blip>
          <a:srcRect l="0" t="0" r="0" b="34889"/>
          <a:stretch/>
        </p:blipFill>
        <p:spPr>
          <a:xfrm>
            <a:off x="468360" y="2205000"/>
            <a:ext cx="4319640" cy="21351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126" name="Picture 17" descr="p9_2_3"/>
          <p:cNvPicPr/>
          <p:nvPr/>
        </p:nvPicPr>
        <p:blipFill>
          <a:blip r:embed="rId4"/>
          <a:stretch/>
        </p:blipFill>
        <p:spPr>
          <a:xfrm>
            <a:off x="5148360" y="2349360"/>
            <a:ext cx="3276360" cy="18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спасибо за внимание"/>
          <p:cNvPicPr/>
          <p:nvPr/>
        </p:nvPicPr>
        <p:blipFill>
          <a:blip r:embed="rId1"/>
          <a:stretch/>
        </p:blipFill>
        <p:spPr>
          <a:xfrm>
            <a:off x="1619280" y="1197000"/>
            <a:ext cx="5975280" cy="44798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7:03:47Z</dcterms:created>
  <dc:creator>user</dc:creator>
  <dc:description/>
  <dc:language>en-US</dc:language>
  <cp:lastModifiedBy>LEGION</cp:lastModifiedBy>
  <dcterms:modified xsi:type="dcterms:W3CDTF">2015-05-06T08:29:36Z</dcterms:modified>
  <cp:revision>32</cp:revision>
  <dc:subject/>
  <dc:title>Земля – малое дитя Космоса</dc:title>
</cp:coreProperties>
</file>