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80FB-1976-4B8F-BB9E-FD8F6C1019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ета Земля в опас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рода - единственная книга, каждая страница которой пол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лубокого содержания.                                                        Гё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25FB-CA56-4DCB-B4AB-24B71FBB27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екрасен и удивителен окружающий нас мир! Как прекрасны и неповторимы бескрайние леса и безбрежные моря, полноводные реки и озёра, высокие горы и зелёные равнины, широкие степи и безграничные пусты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E9DC-34DB-4BB7-B954-36C6F7D97D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летит, маленькая та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грустит, в думы свои вни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плывёт, зыбкой прохладой в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ё ещё живёт! Всё ещё людям вери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плывёт сквозь грозовую полноч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х людей зовёт, про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йти на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сит  прийти на помощ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332B-7C91-447D-88B8-87800A0EB1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я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BFF7-34F4-494B-813B-7AE7CD552B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опас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1AAE-A526-4D83-8C8B-F561746B66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ю окружающей среды способствуют: СЕЛЬСКОХОЗЯЙСТВЕННАЯ ДЕЯТЕЛЬНОСТЬ ЧЕЛОВЕКА, НЕРАЦИОНАЛЬНОЕ ИСПОЛЬЗОВАНИЕ ИСКОПАЕМОГО ТОПЛИВА, ЧРЕЗМЕРНООЕ РАСШИРЕНИЕ ХИМ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 известно, что сегодня наша планета находится в опасности и если мы  будем по –прежнему бездушно эксплуатировать её, то к концу этого столетия потеряем из-за эррозии более трети плодородных земель, исчезнет миллион видов живых организмов, а население будет нуждаться в новых ресур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D2C9-F8C4-4D0A-8B31-7ED3946E2F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ую весну объявляется месячник по очистке территорий населённых пунктов от мус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 активное участие в субботник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бе понравилась чистота улиц? Не сори, и они останутся такими всегд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0373-A171-44F8-9140-5AB38950E9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рогие ребята! 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емля с её  биосферой – величайшее чудо, она у нас одна.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удем же беречь нашу Землю!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сюду, на каждом шагу, все вместе и каждый в отдельности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ругой планеты у нас не будет!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втрашний   день Земли будет таким, каким мы создадим его сегодн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E6BC-47B2-4927-8BE3-7BCFCE1BF5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0B9-FBDE-49E0-8D6B-626AACC7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2E26-CC14-4406-9BF4-B474D67E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3C4-67DB-477B-AB64-F38B67F6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36E-0C5E-4CAE-AE66-1187C109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D3ED-3C3F-4995-BDF9-E1698A1F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B8DE-45F6-462F-BEB1-34078C21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CC3B-4CE7-4675-AAEC-D3E008F7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534F-E748-4DB0-B368-FE115C97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B79A-B25B-4493-A5CC-93D9E753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B7C4-A087-40E5-8672-FEB88C62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1F88-44E7-4346-92C9-DF3D6DAD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FC2-BCF8-4026-816E-957C7AD6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4DB6-0709-4D75-AC31-1583F194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2EE2-BFD8-43B2-AB7B-18BA16C7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F788-DD0C-4378-A93B-A75768C1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660F-F939-40C8-B521-E309AD8B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8836-90E7-4867-8658-43E5FB39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3A0-4CC1-45C9-919D-2B5AD6AC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19DC-8FCA-42F5-9A53-1621D76C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2EC0-25B4-4FAC-A3FC-23657B00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E52-694F-4C5B-92F1-82ECFBE0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03C-7BFA-4DF5-83B6-3379BE9A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658-B506-461C-8047-EFE83F86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BEF-72BB-4EA1-8D87-FAB2BDBE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7C7E-FCF1-47AA-9016-DCF1868F44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0EFA-F19D-4B15-9B35-D5813E23E1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ffff"/>
                </a:solidFill>
                <a:latin typeface="Arial"/>
              </a:rPr>
              <a:t>Планета Земля в опасност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рода - единственная книга, каждая страница которой пол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лубокого содержания.                                                        Гё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{19193586-5FF4-4AA6-93B4-E461A553AB4E}"/>
          <p:cNvPicPr/>
          <p:nvPr/>
        </p:nvPicPr>
        <p:blipFill>
          <a:blip r:embed="rId1"/>
          <a:stretch/>
        </p:blipFill>
        <p:spPr>
          <a:xfrm>
            <a:off x="3132000" y="404640"/>
            <a:ext cx="3011760" cy="22593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37800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прекрасен и удивителен окружающий нас мир! Как прекрасны и неповторимы бескрайние леса и безбрежные моря, полноводные реки и озёра, высокие горы и зелёные равнины, широкие степи и безграничные пустын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9" descr="озеро Байкал"/>
          <p:cNvPicPr/>
          <p:nvPr/>
        </p:nvPicPr>
        <p:blipFill>
          <a:blip r:embed="rId1"/>
          <a:stretch/>
        </p:blipFill>
        <p:spPr>
          <a:xfrm>
            <a:off x="6311880" y="260280"/>
            <a:ext cx="2832120" cy="2135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искуссство 025"/>
          <p:cNvPicPr/>
          <p:nvPr/>
        </p:nvPicPr>
        <p:blipFill>
          <a:blip r:embed="rId2"/>
          <a:stretch/>
        </p:blipFill>
        <p:spPr>
          <a:xfrm>
            <a:off x="6297480" y="472284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c2_2"/>
          <p:cNvPicPr/>
          <p:nvPr/>
        </p:nvPicPr>
        <p:blipFill>
          <a:blip r:embed="rId3"/>
          <a:stretch/>
        </p:blipFill>
        <p:spPr>
          <a:xfrm>
            <a:off x="6300720" y="2492280"/>
            <a:ext cx="284328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p9_4_3"/>
          <p:cNvPicPr/>
          <p:nvPr/>
        </p:nvPicPr>
        <p:blipFill>
          <a:blip r:embed="rId4"/>
          <a:stretch/>
        </p:blipFill>
        <p:spPr>
          <a:xfrm>
            <a:off x="3564000" y="4724280"/>
            <a:ext cx="266364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c4_3"/>
          <p:cNvPicPr/>
          <p:nvPr/>
        </p:nvPicPr>
        <p:blipFill>
          <a:blip r:embed="rId5"/>
          <a:stretch/>
        </p:blipFill>
        <p:spPr>
          <a:xfrm>
            <a:off x="3708360" y="333360"/>
            <a:ext cx="2543040" cy="43117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4500720" y="3635280"/>
            <a:ext cx="4643280" cy="3222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летит, маленькая так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грустит, в думы свои вник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плывёт, зыбкой прохладой ве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ё ещё живёт! Всё ещё людям вери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плывёт сквозь грозовую полноч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ех людей зовёт, проси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йти на помощ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осит  прийти на помощ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Природные явления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6" name="Picture 5" descr="ЯВЛЕНИЯ"/>
          <p:cNvPicPr/>
          <p:nvPr/>
        </p:nvPicPr>
        <p:blipFill>
          <a:blip r:embed="rId1"/>
          <a:stretch/>
        </p:blipFill>
        <p:spPr>
          <a:xfrm>
            <a:off x="250920" y="1676520"/>
            <a:ext cx="8569080" cy="5181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7" dur="123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8" dur="123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0" dur="123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Экологическая опасность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РЕКА"/>
          <p:cNvPicPr/>
          <p:nvPr/>
        </p:nvPicPr>
        <p:blipFill>
          <a:blip r:embed="rId1"/>
          <a:stretch/>
        </p:blipFill>
        <p:spPr>
          <a:xfrm>
            <a:off x="4572000" y="1700280"/>
            <a:ext cx="4275000" cy="446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rus23"/>
          <p:cNvPicPr/>
          <p:nvPr/>
        </p:nvPicPr>
        <p:blipFill>
          <a:blip r:embed="rId2"/>
          <a:stretch/>
        </p:blipFill>
        <p:spPr>
          <a:xfrm>
            <a:off x="974880" y="3963960"/>
            <a:ext cx="2846160" cy="213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ЗАГРЯЗНЕНИЕ"/>
          <p:cNvPicPr/>
          <p:nvPr/>
        </p:nvPicPr>
        <p:blipFill>
          <a:blip r:embed="rId3"/>
          <a:stretch/>
        </p:blipFill>
        <p:spPr>
          <a:xfrm>
            <a:off x="974880" y="1676520"/>
            <a:ext cx="2846160" cy="21351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41940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язнению окружающей среды способствуют: СЕЛЬСКОХОЗЯЙСТВЕННАЯ ДЕЯТЕЛЬНОСТЬ ЧЕЛОВЕКА, НЕРАЦИОНАЛЬНОЕ ИСПОЛЬЗОВАНИЕ ИСКОПАЕМОГО ТОПЛИВА, ЧРЕЗМЕРНООЕ РАСШИРЕНИЕ ХИМИЧЕСКОГО 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33360"/>
            <a:ext cx="419400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м известно, что сегодня наша планета находится в опасности и если мы  будем по –прежнему бездушно эксплуатировать её, то к концу этого столетия потеряем из-за эррозии более трети плодородных земель, исчезнет миллион видов живых организмов, а население будет нуждаться в новых ресурс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99920"/>
            <a:ext cx="854064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ую весну объявляется месячник по очистке территорий населённых пунктов от мус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и активное участие в субботник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бе понравилась чистота улиц? Не сори, и они останутся такими всегд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826920" y="333360"/>
            <a:ext cx="763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ачни с малог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Дорогие ребята! 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Земля с её  биосферой – величайшее чудо, она у нас одна..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Будем же беречь нашу Землю!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Повсюду, на каждом шагу, все вместе и каждый в отдельности.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Другой планеты у нас не будет!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Завтрашний   день Земли будет таким, каким мы создадим его сегодня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3" name="Picture 13" descr="искуссство 023"/>
          <p:cNvPicPr/>
          <p:nvPr/>
        </p:nvPicPr>
        <p:blipFill>
          <a:blip r:embed="rId1"/>
          <a:stretch/>
        </p:blipFill>
        <p:spPr>
          <a:xfrm>
            <a:off x="1042920" y="443700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искуссство 025"/>
          <p:cNvPicPr/>
          <p:nvPr/>
        </p:nvPicPr>
        <p:blipFill>
          <a:blip r:embed="rId2"/>
          <a:stretch/>
        </p:blipFill>
        <p:spPr>
          <a:xfrm>
            <a:off x="4500720" y="4437000"/>
            <a:ext cx="4319280" cy="2135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P4110192"/>
          <p:cNvPicPr/>
          <p:nvPr/>
        </p:nvPicPr>
        <p:blipFill>
          <a:blip r:embed="rId3">
            <a:lum contrast="6000"/>
          </a:blip>
          <a:srcRect l="0" t="0" r="0" b="34889"/>
          <a:stretch/>
        </p:blipFill>
        <p:spPr>
          <a:xfrm>
            <a:off x="468360" y="2205000"/>
            <a:ext cx="4319640" cy="21351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126" name="Picture 17" descr="p9_2_3"/>
          <p:cNvPicPr/>
          <p:nvPr/>
        </p:nvPicPr>
        <p:blipFill>
          <a:blip r:embed="rId4"/>
          <a:stretch/>
        </p:blipFill>
        <p:spPr>
          <a:xfrm>
            <a:off x="5148360" y="2349360"/>
            <a:ext cx="3276360" cy="18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спасибо за внимание"/>
          <p:cNvPicPr/>
          <p:nvPr/>
        </p:nvPicPr>
        <p:blipFill>
          <a:blip r:embed="rId1"/>
          <a:stretch/>
        </p:blipFill>
        <p:spPr>
          <a:xfrm>
            <a:off x="1619280" y="1197000"/>
            <a:ext cx="5975280" cy="44798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7:03:47Z</dcterms:created>
  <dc:creator>user</dc:creator>
  <dc:description/>
  <dc:language>en-US</dc:language>
  <cp:lastModifiedBy>LEGION</cp:lastModifiedBy>
  <dcterms:modified xsi:type="dcterms:W3CDTF">2015-05-06T08:29:36Z</dcterms:modified>
  <cp:revision>32</cp:revision>
  <dc:subject/>
  <dc:title>Земля – малое дитя Космоса</dc:title>
</cp:coreProperties>
</file>