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83C2-113A-41B0-B13E-65AD6701B0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Комиссия при Президенте Российской Федера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о модернизации и технологическому развитию экономики России</a:t>
            </a:r>
            <a:br>
              <a:rPr sz="14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Информационно-аналитические материалы</a:t>
            </a:r>
            <a:br>
              <a:rPr sz="1800"/>
            </a:b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Консультативной рабочей группы по теме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Georgia"/>
              </a:rPr>
              <a:t>«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Экологические аспекты в приоритетных направлениях модернизации</a:t>
            </a:r>
            <a:r>
              <a:rPr b="1" lang="ru-RU" sz="2000" spc="-1" strike="noStrike">
                <a:solidFill>
                  <a:srgbClr val="008000"/>
                </a:solidFill>
                <a:latin typeface="Georgia"/>
              </a:rPr>
              <a:t>»</a:t>
            </a:r>
            <a:r>
              <a:rPr b="1" lang="ru-RU" sz="2000" spc="-1" strike="noStrike">
                <a:solidFill>
                  <a:srgbClr val="ff3300"/>
                </a:solidFill>
                <a:latin typeface="Georgia"/>
              </a:rPr>
              <a:t> </a:t>
            </a:r>
            <a:br>
              <a:rPr sz="2000"/>
            </a:br>
            <a:br>
              <a:rPr sz="1800"/>
            </a:br>
            <a:br>
              <a:rPr sz="1000"/>
            </a:b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269A-1346-4CE7-8016-1DC0BA7212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7. Выводы и предложения (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связи с европейской директивой по включению авиации в Европейскую систему контроля и торговли квотами на выбросы парниковых газов с 2012 года требуется разработать «дорожную карту» совместных действий государства и бизнеса по созданию национального рынка торговли выбросами парниковых газов на основе добровольных обязательств предприятий по их сокращению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В связи с инициативами Европейского союза по введению нетарифных барьеров в отношении компаний, не соблюдающих международные экологические стандарты, Правительству РФ совместно с организациям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провести оценку готовности российских производителей товаров и услуг, представленных на европейском рынке,  к принятым и возможным решениям органов Европейского Союза по регулированию выброса парниковых газов и введению других экологически обусловленных нетарифных барье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представить предложения по стратегии реагирования Российской Федерации в связи с возникающими рисками введения экологически обусловленных нетарифных барьеров в отношении российских производителей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разработать предложения по формированию в Российской Федерации национального рынка торговли выбросами парниковых газов на основе добровольных обязательств по их сокращению»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A102-458A-4AFE-827C-590A58A92D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1.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Создание национальной системы «зеленых» экономических индикато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экономического роста («зеленая экономика») является основным трендом 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х  оценках уровня развития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ют различные международные методики (Всемирного банка, ОЭСР и др.) учета будущих расходов в текущих экономических показател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йская традиция расчета экономических показателей, учитывающих экологическую составляющую, отсу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7684-69CF-45C8-BB5F-688EA74086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8000"/>
                </a:solidFill>
                <a:latin typeface="Times New Roman"/>
              </a:rPr>
              <a:t>2. Технологические и институциональные инновации для решения «мусорной» проблемы в Росс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Ограничения по применению традиционных технолог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громное количество неотсортированного и непереработанного бытового мусора требует быстрых и эффективных решен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Экстремально высокая доходность свалочного бизнеса и его криминализованность мешает развиваться мусороперерабатывающему бизнес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озможности продажи энергии, полученной от переработки мусора, не может рассматриваться как стимул для развития бизнеса из-за дешевизны углеродных источник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троительные нормативы не предусматривают установку систем раздельного сбора бытового мусор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Возможные приоритеты государственной политики поощрения инновационных технологий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здание системы «отрицательных стимулов» для снижения доходности свалочного бизнес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ддержка инициатив по экспертизе и опытному внедрению технологий переработки бытовых отход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иск экономических инструментов стимулирования раздельного сбора мусора население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инятие нормативных актов по уточнению ответственности производителей и продавцов по утилизации товаров и их упаковки на основе решения вопроса о «собственности на мусор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ординация на федеральном уровне местных и региональных инициатив по решению «мусорной» проблем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0DAE-9A1E-4DCA-83B4-2690A4C4D3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8000"/>
                </a:solidFill>
                <a:latin typeface="Times New Roman"/>
              </a:rPr>
              <a:t>3. Регламентирование уничтожения токсичных отход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Источники возникновения проблем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У владельцев отходов отсутствуют стимулы к переработке: штрафы за их хранение в разы меньше себестоимости утилизаци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Несовершенство законодательства позволяет владельцам отходов безответственно передавать токсичные отходы третьим лицам, в том числе заведомо недобросовестным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6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Накоплено большое количество (сотни тысяч тонн) бесхозных (советское наследие) высокотоксичных отходов (пестициды, токсичные технические масла и т.д.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6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Токсичные отходы накапливаются на промышленных площадках владельцев, либо передаются фирмам однодневкам для последующего размещения на полигонах твердых бытовых отходов или захоронения на незаконных свалках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6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 случае невозможности размещения или захоронения токсичные отходы утилизируются неспециализированными техническими средствами, при этом образуются вторичные отходы и выбросы, нередко еще более токсичны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Предлагаемые решения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здать у владельцев или ответственных стимул к утилизации токсичных отходов. Например, повысить штрафы за хранение, обязать регионы выделять на уничтожение бесхозных пестицидов часть экологических платеже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Разработать и принять технические требования к технологиям утилизации опасных отход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95C0-2A34-4564-BD9D-D267EF45F7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.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Стимулирование своевременного внедрения экологических норматив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 загрязнителем воздуха в крупных городах являются не промышленные предприятия, а автомобильный 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уществующим оценкам в Москве на долю автомобилей приходится свыше 90% от всех выб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к легковых автомобилей и других «мобильных загрязнителей» растет опережающими темпами по сравнению с другими источниками загряз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олжна быть разработана система экономических 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анкций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в отношении компаний, допускающих срывы графиков внедрения экологических нормативов, и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компенсационных мероприятий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для компаний, готовых к внедрению, в случае изменения гра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логические требования к автотранспорту являются одним из ключевых вопросов экологической политики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жесточение экологических требований к автомобильному топливу, применяемому в России,  позволяет снизить загрязнение окружающей среды в р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отстает от стран Европы во внедрении стандартов применяемого топлива на 5-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9641-D9A3-4648-BAB2-E2EA154B76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Times New Roman"/>
              </a:rPr>
              <a:t>5. Стимулирование инвестиций в сбережение, а не</a:t>
            </a:r>
            <a:br>
              <a:rPr sz="1900"/>
            </a:br>
            <a:r>
              <a:rPr b="1" lang="ru-RU" sz="1900" spc="-1" strike="noStrike">
                <a:solidFill>
                  <a:srgbClr val="008000"/>
                </a:solidFill>
                <a:latin typeface="Times New Roman"/>
              </a:rPr>
              <a:t> в производство энерги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ергетический сектор - основной загрязнитель окружающей среды в ми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-19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% выбросов вредных веществ в атмосфе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-19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% загрязнений сточных 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-19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0% отходов производства и потреб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-19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0% общего объема выбросов парниковых га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спортно-сырьевой характер российской экономики и доступность дешевого газа загоняют страну в экологическую ловушку:  растут инвестиции в производство электроэнергии за сч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невозобновляемы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сточ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иоритетом государственной политики в России в ближайшие годы должна стать в основном поддержка проектов по распространению энергосберегающих технологий в различных сферах, а не инвестиции в производство энергии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екущая ситуация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 России имеется необходимая нормативная база для внедрения энергосберегающих технологий через энергосервисные контракты на федеральном уровне, но не на региональн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Из-за отсутствия доступных источников финансирования и высоких рисков энергосервисные контракты практически не заключаютс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ля развития энергосберегающих проектов требуется разработка механизма частичного гарантирования государством рисков, возникающих в связи с реализаций проектов по энергосбережени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сновные проблемы снижения «карбонизации» российской экономики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Фактор дешевого углеродного топлива является непреодолимым барьером для развития «зеленой» энергетики как коммерческого проек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азвитие производства электроэнергии из возобновляемых источников невозможно без серьезных мер государственной поддержки, в первую очередь, за счет тарифной политики и субсиди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старевшее оборудование и технологии российских предприятий и сферы ЖКХ требует масштабных инвестици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BBDC-6BED-4192-9719-4F6DB65733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6. Стимулирование добровольных обязательств бизнеса по сокращению выброса парниковых газ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волюция международного экологического права ведет к  ограничению свободной торговли на основе принципов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углеродного протекционизма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повышенных пошлин на продукты и услуги, произведенные экономиками стран с высоким уровнем использования углеродного топл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значительной части российского экспортно-ориентированного бизнеса (авиаперевозки, морские перевозки, металлургия, предприятия ТЭК) в отсутствие мер регулирования выбросов парниковых газов существуют риски стать объектами применения дискриминационных 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отношении авиаперевозчиков такие меры будут применяться уже начиная с 2012 года (Директива ЕС (2008/101/ЕС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ются срочные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местные усил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государства и бизнеса, направленные на формирование государственной системы регулирования выбросов парниковых газов, обеспечивающ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стимулов для инвестиций в проекты повышения «углеродной эффектив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я рынка торговли выбросами на основе добровольных обяза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ацию с международными рынками торговли выброс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иторинг международного экологического законодательства в области регулирования выбросов парниковых газов и готовности российских экспорто-ориентированных производителей к введению н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транах с развитыми экономиками широкое распространение получили схемы торговли правами на выброс парниковых газов, в основе которых лежат как обязательные, так и добровольные ограни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DD1D-B723-4218-8568-52DB96EC07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7. Выводы и предложения (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88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обходимо создание российской системы расчета показателей экономического роста с учетом влияния на экологию, учитывающей накопленный международный опыт расчета таких индикаторов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1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В целях учета расходов будущих периодов на восстановление окружающей среды Минэкономразвития РФ (Росстату) и Минприроды РФ совместно с профильными научными и общественными экологическими организациями представить предложения по использованию в Российской Федерации системы статистических показателей, учитывающих экологические  составляющие экономического роста, включая предложения по возможным целевым экологическим показателям в рамках реализации Концепции долгосрочного социально-экономического развития Российской Федерации до 2020 г</a:t>
            </a:r>
            <a:r>
              <a:rPr b="0" i="1" lang="ru-RU" sz="1100" spc="-1" strike="noStrike">
                <a:solidFill>
                  <a:srgbClr val="000000"/>
                </a:solidFill>
                <a:latin typeface="Times New (W1)"/>
              </a:rPr>
              <a:t>ода»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88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обходимо больше внимания уделять не прямой поддержке проектов по переработке бытовых отходов, а стимулированию внедрения технологических и организационных инноваций в этой сфер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1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авительству РФ рассмотреть с участием организаций бизнеса имеющийся мировой опыт утилизации твердых бытовых отходов, внести предложения по использованию субъектами РФ и муниципальными образованиями перспективных технологий, включая их поддержку через институты развития и разработку соответствующих технических регламентов, а также по модификации системы экологических платежей в направлении экономического стимулирования использования экологически ориентированных способов утилизации твердых бытовых отходов</a:t>
            </a:r>
            <a:r>
              <a:rPr b="0" i="1" lang="ru-RU" sz="11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9888-866E-430D-B33A-B053527C94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Times New Roman"/>
              </a:rPr>
              <a:t>7. Выводы и предложения (2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Необходимы меры по стимулированию экологически безопасных способов утилизации токсичных отходов и ограничения по использованию технологий, наносящих экологический ущерб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Минпромторгу РФ, Росстандарту представить предложения по нормативным и техническим требованиям к технологиям утилизации опасных отходов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1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олжны быть разработаны системы экономических  санкций в отношении компаний, допускающих срывы графиков внедрения экологических нормативов, и компенсационных мероприятий для компаний, готовых к внедрению, в случае изменения графи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авительству РФ представить предложения по системе стимулов и компенсаций в отношении предприятий и организаций, участвующих в мероприятиях по внедрению экологических нормативов производства и потребления, направленных на компенсацию издержек, понесенных в ходе подготовки к внедрению нормативов, в случае переноса сроков ввода нормативов в действие, за счет предприятий и организаций, оказавшихся неготовыми к соблюдению новых нормативов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Требуется уделить внимание созданию финансовых механизмов для стимулирования запуска проектов по повышению энергоэффективности экономики на основе принципов разделения рисков между бизнесом и государство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Минфину РФ рассмотреть вопрос о предоставлении государственных гарантий под инвестиционные проекты, реализуемые бизнесом по энергосервисным контрактам, предусматривающим повышение экологической эффективности, в размере не более 25% от суммы контракта. Минрегиону РФ провести анализ нормативной базы субъектов РФ, обеспечивающей внедрение энергосберегающих технологий через энергосервисные контракты и представить предложения по направлениям унификации регионального законодательства, способствующим внедрению экологоориентированных энергосберегающих технологий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87DF-9A48-4E33-A35C-BC9CBD7B8A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6A07-6472-4697-8941-D323CCFE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1DB-4A84-4A4F-AD8D-18336976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79A9-197D-4F38-B12A-B7B0605A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A7F6-8AE6-4B3A-AD8F-AC8BC7F2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0F4E-3045-4F7C-8FFD-67ACB2F9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83B6-3780-44E1-8AA8-976F877B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3472-73B9-421A-86EB-C8115935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1525-270F-49D5-B801-51C6538D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D3EB-CC0E-4D60-A58C-D615BB24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693C-E804-479F-843F-2C8FC7D6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2557-5D8B-4018-AAA0-6517A0F0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6E83-3B27-41F0-996D-B4CFF86B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F7A9-E2B1-445F-AFA3-D6A63D269C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5473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омиссия при Президенте Российской Федераци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 модернизации и технологическому развитию экономики России</a:t>
            </a:r>
            <a:br>
              <a:rPr sz="20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700" spc="-1" strike="noStrike">
                <a:solidFill>
                  <a:srgbClr val="333399"/>
                </a:solidFill>
                <a:latin typeface="Georgia"/>
              </a:rPr>
              <a:t>Информационно-аналитические материалы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Georgia"/>
              </a:rPr>
              <a:t>Консультативной рабочей группы по теме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Georgia"/>
              </a:rPr>
              <a:t>«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Экологические аспекты в приоритетных направлениях модернизации</a:t>
            </a:r>
            <a:r>
              <a:rPr b="1" lang="ru-RU" sz="3200" spc="-1" strike="noStrike">
                <a:solidFill>
                  <a:srgbClr val="008000"/>
                </a:solidFill>
                <a:latin typeface="Georgia"/>
              </a:rPr>
              <a:t>»</a:t>
            </a: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 </a:t>
            </a:r>
            <a:br>
              <a:rPr sz="3200"/>
            </a:br>
            <a:br>
              <a:rPr sz="2600"/>
            </a:br>
            <a:br>
              <a:rPr sz="1200"/>
            </a:b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411280" y="5877000"/>
            <a:ext cx="44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27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 июня</a:t>
            </a:r>
            <a:r>
              <a:rPr b="1" lang="ru-RU" sz="1800" spc="-1" strike="noStrike">
                <a:solidFill>
                  <a:srgbClr val="333399"/>
                </a:solidFill>
                <a:latin typeface="Georgia"/>
              </a:rPr>
              <a:t> 20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7. Выводы и предложения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6760" y="1143000"/>
            <a:ext cx="826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вязи с европейской директивой по включению авиации в Европейскую систему контроля и торговли квотами на выбросы парниковых газов с 2012 года требуется разработать «дорожную карту» совместных действий государства и бизнеса по созданию национального рынка торговли выбросами парниковых газов на основе добровольных обязательств предприятий по их сокращ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В связи с инициативами Европейского союза по введению нетарифных барьеров в отношении компаний, не соблюдающих международные экологические стандарты, Правительству РФ совместно с организациями бизнес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овести оценку готовности российских производителей товаров и услуг, представленных на европейском рынке,  к принятым и возможным решениям органов Европейского Союза по регулированию выброса парниковых газов и введению других экологически обусловленных нетарифных барье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едставить предложения по стратегии реагирования Российской Федерации в связи с возникающими рисками введения экологически обусловленных нетарифных барьеров в отношении российских производителей товаров и услуг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разработать предложения по формированию в Российской Федерации национального рынка торговли выбросами парниковых газов на основе добровольных обязательств по их сокращению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1. 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Создание национальной системы «зеленых» экономических индикато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3414600" cy="2592360"/>
          </a:xfrm>
          <a:prstGeom prst="rect">
            <a:avLst/>
          </a:prstGeom>
          <a:solidFill>
            <a:srgbClr val="99cc00">
              <a:alpha val="4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ценка качества экономического роста («зеленая экономика») является основным трендом 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ждународных  оценках уровня развития стр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уществуют различные международные методики (Всемирного банка, ОЭСР и др.) учета будущих расходов в текущих экономических показателя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йская традиция расчета экономических показателей, учитывающих экологическую составляющую, отсутству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800600" y="1219320"/>
            <a:ext cx="4033800" cy="17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еобходимо иметь национальную систему расчетов показателей эколого-экономического развития, данные которой могут быть использованы как для оценки стратегических отраслевых программ развития, так и для сопоставления результатов регионального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95280" y="4149720"/>
            <a:ext cx="2774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международных исследованиях Россия занимает одно из последних мест по уровню экономического развития с учетом экологических факт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я является одной из немногих в мире крупных экономик, имеющей в 2000е гг. отрицательные «чистые накопления» - интегральный эколого-экономический индекс по версии Всемирного ба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2057400" y="3657600"/>
            <a:ext cx="533520" cy="500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3886200" y="1628640"/>
            <a:ext cx="685800" cy="432000"/>
          </a:xfrm>
          <a:prstGeom prst="rightArrow">
            <a:avLst>
              <a:gd name="adj1" fmla="val 50000"/>
              <a:gd name="adj2" fmla="val 39688"/>
            </a:avLst>
          </a:prstGeom>
          <a:solidFill>
            <a:srgbClr val="99cc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643200" y="3629160"/>
          <a:ext cx="5286600" cy="2412720"/>
        </p:xfrm>
        <a:graphic>
          <a:graphicData uri="http://schemas.openxmlformats.org/drawingml/2006/table">
            <a:tbl>
              <a:tblPr/>
              <a:tblGrid>
                <a:gridCol w="1214640"/>
                <a:gridCol w="1571400"/>
                <a:gridCol w="857520"/>
                <a:gridCol w="1643040"/>
              </a:tblGrid>
              <a:tr h="593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ректированные чистые накоплен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ректированные чистые накоплен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вег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Box 10"/>
          <p:cNvSpPr/>
          <p:nvPr/>
        </p:nvSpPr>
        <p:spPr>
          <a:xfrm>
            <a:off x="3500280" y="6072120"/>
            <a:ext cx="542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: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ld Development Indicators 2008. World Bank, Washington DC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4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2. Технологические и институциональные инновации для решения «мусорной» проблемы 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724280" y="1066680"/>
            <a:ext cx="41767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озможные приоритеты государственной политики поощрения инновационных технолог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системы «отрицательных стимулов» для снижения доходности свалочного бизн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держка инициатив по экспертизе и опытному внедрению технологий переработки бытовых от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иск экономических инструментов стимулирования раздельного сбора мусора насел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нятие нормативных актов по уточнению ответственности производителей и продавцов по утилизации товаров и их упаковки на основе решения вопроса о «собственности на мус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ординация на федеральном уровне местных и региональных инициатив по решению «мусорной»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04920" y="990720"/>
            <a:ext cx="3962160" cy="13716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Замусоренность городов и лесов является одной из главных российских экологических проблем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Упадок российской природоохранной системы наиболее ярко проявляется в сегменте обращения с отход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80880" y="2590920"/>
            <a:ext cx="3733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Ограничения по применению традиционных технолог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громное количество неотсортированного и непереработанного бытового мусора требует быстрых и эффективных реш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Экстремально высокая доходность свалочного бизнеса и его криминализованность мешает развиваться мусороперерабатывающему бизнес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озможности продажи энергии, полученной от переработки мусора, не может рассматриваться как стимул для развития бизнеса из-за дешевизны углеродных источник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троительные нормативы не предусматривают установку систем раздельного сбора бытового мусо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0"/>
          <p:cNvSpPr/>
          <p:nvPr/>
        </p:nvSpPr>
        <p:spPr>
          <a:xfrm>
            <a:off x="3929040" y="392904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4009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3. Регламентирование уничтожения токсичных от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24"/>
          <p:cNvSpPr/>
          <p:nvPr/>
        </p:nvSpPr>
        <p:spPr>
          <a:xfrm>
            <a:off x="4500720" y="928800"/>
            <a:ext cx="4321080" cy="330588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252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коплено большое количество (сотни тысяч тонн) бесхозных (советское наследие) высокотоксичных отходов (пестициды, токсичные технические масла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ксичные отходы накапливаются на промышленных площадках владельцев, либо передаются фирмам однодневкам для последующего размещения на полигонах твердых бытовых отходов или захоронения на незаконных свал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лучае невозможности размещения или захоронения токсичные отходы утилизируются неспециализированными техническими средствами, при этом образуются вторичные отходы и выбросы, нередко еще более токсич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26"/>
          <p:cNvSpPr/>
          <p:nvPr/>
        </p:nvSpPr>
        <p:spPr>
          <a:xfrm>
            <a:off x="142920" y="928800"/>
            <a:ext cx="3790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сточники возникновения пробле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 владельцев отходов отсутствуют стимулы к переработке: штрафы за их хранение в разы меньше себестоимости ут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совершенство законодательства позволяет владельцам отходов безответственно передавать токсичные отходы третьим лицам, в том числе заведомо недобросовестны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285840" y="4797360"/>
            <a:ext cx="8572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едлагаемые реш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здать у владельцев или ответственных стимул к утилизации токсичных отходов. Например, повысить штрафы за хранение, обязать регионы выделять на уничтожение бесхозных пестицидов часть экологических платеж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аботать и принять технические требования к технологиям утилизации опасных от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28"/>
          <p:cNvSpPr/>
          <p:nvPr/>
        </p:nvSpPr>
        <p:spPr>
          <a:xfrm rot="10800000">
            <a:off x="3929040" y="1999800"/>
            <a:ext cx="503280" cy="574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29"/>
          <p:cNvSpPr/>
          <p:nvPr/>
        </p:nvSpPr>
        <p:spPr>
          <a:xfrm>
            <a:off x="2928960" y="442908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29"/>
          <p:cNvSpPr/>
          <p:nvPr/>
        </p:nvSpPr>
        <p:spPr>
          <a:xfrm>
            <a:off x="7072200" y="442908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Стимулирование своевременного внедрения экологических нормат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3657600" cy="2791080"/>
          </a:xfrm>
          <a:prstGeom prst="rect">
            <a:avLst/>
          </a:prstGeom>
          <a:solidFill>
            <a:srgbClr val="99cc00">
              <a:alpha val="4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24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новным загрязнителем воздуха в крупных городах являются не промышленные предприятия, а автомобильный трансп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существующим оценкам в Москве на долю автомобилей приходится свыше 90% от всех выбро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рк легковых автомобилей и других «мобильных загрязнителей» растет опережающими темпами по сравнению с другими источниками загрязн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4724280" y="1295280"/>
            <a:ext cx="403380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880" indent="-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Должна быть разработана система экономических 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анкций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в отношении компаний, допускающих срывы графиков внедрения экологических нормативов, и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омпенсационных мероприятий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для компаний, готовых к внедрению, в случае изменения граф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79280" y="4149720"/>
            <a:ext cx="33130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80" indent="-2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ологические требования к автотранспорту являются одним из ключевых вопросов экологической политики в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" indent="-2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жесточение экологических требований к автомобильному топливу, применяемому в России,  позволяет снизить загрязнение окружающей среды в ра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" indent="-2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я отстает от стран Европы во внедрении стандартов применяемого топлива на 5-10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2057400" y="3657600"/>
            <a:ext cx="533520" cy="500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3929040" y="1643040"/>
            <a:ext cx="685800" cy="432000"/>
          </a:xfrm>
          <a:prstGeom prst="rightArrow">
            <a:avLst>
              <a:gd name="adj1" fmla="val 50000"/>
              <a:gd name="adj2" fmla="val 39688"/>
            </a:avLst>
          </a:prstGeom>
          <a:solidFill>
            <a:srgbClr val="99cc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160956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1" descr=""/>
          <p:cNvPicPr/>
          <p:nvPr/>
        </p:nvPicPr>
        <p:blipFill>
          <a:blip r:embed="rId1"/>
          <a:stretch/>
        </p:blipFill>
        <p:spPr>
          <a:xfrm>
            <a:off x="4114800" y="3657600"/>
            <a:ext cx="4714920" cy="289548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82" name="AutoShape 11"/>
          <p:cNvSpPr/>
          <p:nvPr/>
        </p:nvSpPr>
        <p:spPr>
          <a:xfrm>
            <a:off x="3357720" y="4786200"/>
            <a:ext cx="609480" cy="457200"/>
          </a:xfrm>
          <a:prstGeom prst="leftRightArrow">
            <a:avLst>
              <a:gd name="adj1" fmla="val 50000"/>
              <a:gd name="adj2" fmla="val 2653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4009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5. Стимулирование инвестиций в сбережение, а не</a:t>
            </a:r>
            <a:br>
              <a:rPr sz="2200"/>
            </a:b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 в производство энерг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7120" y="857160"/>
            <a:ext cx="4214880" cy="2500560"/>
          </a:xfrm>
          <a:prstGeom prst="rect">
            <a:avLst/>
          </a:prstGeom>
          <a:solidFill>
            <a:srgbClr val="99cc00">
              <a:alpha val="35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нергетический сектор - основной загрязнитель окружающей среды в мир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9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0% выбросов вредных веществ в атмосфе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9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2% загрязнений сточных в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9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90% отходов производства и потреб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9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80% общего объема выбросов парниковых газ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спортно-сырьевой характер российской экономики и доступность дешевого газа загоняют страну в экологическую ловушку:  растут инвестиции в производство электроэнергии за счет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евозобновляемы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сточ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25440" y="3809880"/>
            <a:ext cx="4246560" cy="280188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новные проблемы снижения «карбонизации» российской экономи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актор дешевого углеродного топлива является непреодолимым барьером для развития «зеленой» энергетики как коммерческого про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витие производства электроэнергии из возобновляемых источников невозможно без серьезных мер государственной поддержки, в первую очередь, за счет тарифной политики и субсид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старевшее оборудование и технологии российских предприятий и сферы ЖКХ требует масштабных инвести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143680" y="1143000"/>
            <a:ext cx="3709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иоритетом государственной политики в России в ближайшие годы должна стать в основном поддержка проектов по распространению энергосберегающих технологий в различных сферах, а не инвестиции в производство энергии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2214720" y="3429000"/>
            <a:ext cx="533160" cy="334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4643280" y="1500120"/>
            <a:ext cx="357480" cy="652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6715080" y="2786040"/>
            <a:ext cx="432000" cy="360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214960" y="3429000"/>
            <a:ext cx="3505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екущая ситу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России имеется необходимая нормативная база для внедрения энергосберегающих технологий через энергосервисные контракты на федеральном уровне, но не на региональн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з-за отсутствия доступных источников финансирования и высоких рисков энергосервисные контракты практически не заключаю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развития энергосберегающих проектов требуется разработка механизма частичного гарантирования государством рисков, возникающих в связи с реализаций проектов по энергосбереж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4726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6. Стимулирование добровольных обязательств бизнеса по сокращению выброса парниковых газ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5480" y="1066320"/>
            <a:ext cx="4143240" cy="16765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волюция международного экологического права ведет к  ограничению свободной торговли на основе принципов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углеродного протекционизма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повышенных пошлин на продукты и услуги, произведенные экономиками стран с высоким уровнем использования углеродного топли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257800" y="990720"/>
            <a:ext cx="3529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значительной части российского экспортно-ориентированного бизнеса (авиаперевозки, морские перевозки, металлургия, предприятия ТЭК) в отсутствие мер регулирования выбросов парниковых газов существуют риски стать объектами применения дискриминационных 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отношении авиаперевозчиков такие меры будут применяться уже начиная с 2012 года (Директива ЕС (2008/101/ЕС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28600" y="3429000"/>
            <a:ext cx="42004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транах с развитыми экономиками широкое распространение получили схемы торговли правами на выброс парниковых газов, в основе которых лежат как обязательные, так и добровольные ограни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29200" y="3429000"/>
            <a:ext cx="3838680" cy="30481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ребуются срочные 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вместные усил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государства и бизнеса, направленные на формирование государственной системы регулирования выбросов парниковых газов, обеспечивающе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здание стимулов для инвестиций в проекты повышения «углеродной эффективност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вития рынка торговли выбросами на основе добровольных обязатель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теграцию с международными рынками торговли выброс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ниторинг международного экологического законодательства в области регулирования выбросов парниковых газов и готовности российских экспорто-ориентированных производителей к введению новых нор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Диаграмма 20" descr=""/>
          <p:cNvPicPr/>
          <p:nvPr/>
        </p:nvPicPr>
        <p:blipFill>
          <a:blip r:embed="rId1"/>
          <a:stretch/>
        </p:blipFill>
        <p:spPr>
          <a:xfrm>
            <a:off x="311040" y="4425840"/>
            <a:ext cx="3926160" cy="1925640"/>
          </a:xfrm>
          <a:prstGeom prst="rect">
            <a:avLst/>
          </a:prstGeom>
          <a:ln w="0">
            <a:noFill/>
          </a:ln>
        </p:spPr>
      </p:pic>
      <p:sp>
        <p:nvSpPr>
          <p:cNvPr id="99" name="TextBox 51"/>
          <p:cNvSpPr/>
          <p:nvPr/>
        </p:nvSpPr>
        <p:spPr>
          <a:xfrm>
            <a:off x="304920" y="6248520"/>
            <a:ext cx="4267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инамика развития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обровольного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углеродного рынка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лн. долл. США (данные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cosystem, Bloomber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1500120" y="2786040"/>
            <a:ext cx="9907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500720" y="1428840"/>
            <a:ext cx="749160" cy="533160"/>
          </a:xfrm>
          <a:prstGeom prst="rightArrow">
            <a:avLst>
              <a:gd name="adj1" fmla="val 50000"/>
              <a:gd name="adj2" fmla="val 3512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4191120" y="495288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7010280" y="3124080"/>
            <a:ext cx="5335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7. Выводы и предложения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6760" y="1213920"/>
            <a:ext cx="833436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о создание российской системы расчета показателей экономического роста с учетом влияния на экологию, учитывающей накопленный международный опыт расчета таких индикаторов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В целях учета расходов будущих периодов на восстановление окружающей среды Минэкономразвития РФ (Росстату) и Минприроды РФ совместно с профильными научными и общественными экологическими организациями представить предложения по использованию в Российской Федерации системы статистических показателей, учитывающих экологические  составляющие экономического роста, включая предложения по возможным целевым экологическим показателям в рамках реализации Концепции долгосрочного социально-экономического развития Российской Федерации до 2020 г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ода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о больше внимания уделять не прямой поддержке проектов по переработке бытовых отходов, а стимулированию внедрения технологических и организационных инноваций в этой сф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авительству РФ рассмотреть с участием организаций бизнеса имеющийся мировой опыт утилизации твердых бытовых отходов, внести предложения по использованию субъектами РФ и муниципальными образованиями перспективных технологий, включая их поддержку через институты развития и разработку соответствующих технических регламентов, а также по модификации системы экологических платежей в направлении экономического стимулирования использования экологически ориентированных способов утилизации твердых бытовых отходов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3296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7. Выводы и предложения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7120" y="713880"/>
            <a:ext cx="850104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ы меры по стимулированию экологически безопасных способов утилизации токсичных отходов и ограничения по использованию технологий, наносящих экологический ущер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Минпромторгу РФ, Росстандарту представить предложения по нормативным и техническим требованиям к технологиям утилизации опасных отходов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жны быть разработаны системы экономических  санкций в отношении компаний, допускающих срывы графиков внедрения экологических нормативов, и компенсационных мероприятий для компаний, готовых к внедрению, в случае изменения граф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авительству РФ представить предложения по системе стимулов и компенсаций в отношении предприятий и организаций, участвующих в мероприятиях по внедрению экологических нормативов производства и потребления, направленных на компенсацию издержек, понесенных в ходе подготовки к внедрению нормативов, в случае переноса сроков ввода нормативов в действие, за счет предприятий и организаций, оказавшихся неготовыми к соблюдению новых нормативов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ребуется уделить внимание созданию финансовых механизмов для стимулирования запуска проектов по повышению энергоэффективности экономики на основе принципов разделения рисков между бизнесом и государств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Минфину РФ рассмотреть вопрос о предоставлении государственных гарантий под инвестиционные проекты, реализуемые бизнесом по энергосервисным контрактам, предусматривающим повышение экологической эффективности, в размере не более 25% от суммы контракта. Минрегиону РФ провести анализ нормативной базы субъектов РФ, обеспечивающей внедрение энергосберегающих технологий через энергосервисные контракты и представить предложения по направлениям унификации регионального законодательства, способствующим внедрению экологоориентированных энергосберегающих технологий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20:11:04Z</dcterms:created>
  <dc:creator>SATR</dc:creator>
  <dc:description/>
  <dc:language>en-US</dc:language>
  <cp:lastModifiedBy>LEGION</cp:lastModifiedBy>
  <dcterms:modified xsi:type="dcterms:W3CDTF">2015-05-06T08:30:53Z</dcterms:modified>
  <cp:revision>123</cp:revision>
  <dc:subject/>
  <dc:title>Комиссия при Президенте Российской Федерации по модернизации и технологическому развитию экономики России Информационно-аналитические материалы Консультативной рабочей группы по теме: «Экологические аспекты в приоритетных направлениях модернизации»</dc:title>
</cp:coreProperties>
</file>