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A1D3-3FA9-47F1-B2CB-009DB3EF8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14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Информационно-аналитические материалы</a:t>
            </a:r>
            <a:br>
              <a:rPr sz="1800"/>
            </a:br>
            <a:r>
              <a:rPr b="1" lang="ru-RU" sz="1800" spc="-1" strike="noStrike">
                <a:solidFill>
                  <a:srgbClr val="c0504d"/>
                </a:solidFill>
                <a:latin typeface="Georgia"/>
              </a:rPr>
              <a:t>Консультативной рабочей группы по теме: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20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20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2000"/>
            </a:br>
            <a:br>
              <a:rPr sz="1800"/>
            </a:br>
            <a:br>
              <a:rPr sz="1000"/>
            </a:b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D6C2-6B75-4E30-8765-DD63982943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	</a:t>
            </a:r>
            <a:r>
              <a:rPr b="0" i="1" lang="ru-RU" sz="1200" spc="-1" strike="noStrike">
                <a:solidFill>
                  <a:srgbClr val="000000"/>
                </a:solidFill>
                <a:latin typeface="Times New (W1)"/>
                <a:ea typeface="SimSu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»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F572-BF1F-44D4-8CDC-E00B5A955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8366-B95D-43BF-A150-E373234E2C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4829-5709-4DB3-9DC2-9852CA1FC7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6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332F-A274-4BB6-9163-3963DDF01D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E451-3D86-47E8-A401-7294A61AF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1900"/>
            </a:b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355680" indent="-19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B2FB-F3F4-4766-A9FD-F4C56CEEE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0CDA-B28C-48CD-B67D-2791C335B7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88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1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1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030B-BEF7-4234-B814-FC03A12B6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60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6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9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9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9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ABF1-7C76-4EBF-80C8-F89231BF1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7BD5-F061-4CD1-9134-5D4D6AA9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4F0-5877-435C-8DC0-C05CFEEA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1101-E7F3-47E1-BF35-669C9748E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256D-F6C5-4A53-AE69-909894EE0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8D6-DA25-46FC-BCBB-F72E6E15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8050-7EA5-4DCA-B149-5BE82A31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FF7-74D9-4BF6-8083-82CB9BB5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EE7F-2B54-4F73-AADD-BF40FC65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5271-7285-4C2E-81DD-B8017FCF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8590-F94A-4F81-91F4-DA11CBBC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B23B-C926-403A-A469-FBEC5BF7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65B7-E43F-4A73-A3F7-7B2E3220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D417-46DF-4918-9035-863D6A06FE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54738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иссия при Президенте Российской Федераци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 модернизации и технологическому развитию экономики России</a:t>
            </a:r>
            <a:br>
              <a:rPr sz="2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700" spc="-1" strike="noStrike">
                <a:solidFill>
                  <a:srgbClr val="333399"/>
                </a:solidFill>
                <a:latin typeface="Georgia"/>
              </a:rPr>
              <a:t>Информационно-аналитические материалы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Georgia"/>
              </a:rPr>
              <a:t>Консультативной рабочей группы по теме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«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Экологические аспекты в приоритетных направлениях модернизации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»</a:t>
            </a:r>
            <a:r>
              <a:rPr b="1" lang="ru-RU" sz="3200" spc="-1" strike="noStrike">
                <a:solidFill>
                  <a:srgbClr val="ff3300"/>
                </a:solidFill>
                <a:latin typeface="Georgia"/>
              </a:rPr>
              <a:t> </a:t>
            </a:r>
            <a:br>
              <a:rPr sz="3200"/>
            </a:br>
            <a:br>
              <a:rPr sz="2600"/>
            </a:br>
            <a:br>
              <a:rPr sz="1200"/>
            </a:b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411280" y="5877000"/>
            <a:ext cx="44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7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июня</a:t>
            </a:r>
            <a:r>
              <a:rPr b="1" lang="ru-RU" sz="1800" spc="-1" strike="noStrike">
                <a:solidFill>
                  <a:srgbClr val="333399"/>
                </a:solidFill>
                <a:latin typeface="Georgia"/>
              </a:rPr>
              <a:t> 20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6760" y="1143000"/>
            <a:ext cx="8263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вязи с европейской директивой по включению авиации в Европейскую систему контроля и торговли квотами на выбросы парниковых газов с 2012 года требуется разработать «дорожную карту» совместных действий государства и бизнеса по созданию национального рынка торговли выбросами парниковых газов на основе добровольных обязательств предприятий по их сокращению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связи с инициативами Европейского союза по введению нетарифных барьеров в отношении компаний, не соблюдающих международные экологические стандарты, Правительству РФ совместно с организациями бизнес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овести оценку готовности российских производителей товаров и услуг, представленных на европейском рынке,  к принятым и возможным решениям органов Европейского Союза по регулированию выброса парниковых газов и введению других экологически обусловленных нетарифных барь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едставить предложения по стратегии реагирования Российской Федерации в связи с возникающими рисками введения экологически обусловленных нетарифных барьеров в отношении российских производителей товаров и услуг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	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разработать предложения по формированию в Российской Федерации национального рынка торговли выбросами парниковых газов на основе добровольных обязательств по их сокращению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1. </a:t>
            </a: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Создание национальной системы «зеленых» экономических индикатор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4920" y="836280"/>
            <a:ext cx="3414600" cy="259236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ценка качества экономического роста («зеленая экономика») является основным трендом в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еждународных  оценках уровня развития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ществуют различные международные методики (Всемирного банка, ОЭСР и др.) учета будущих расходов в текущих экономических показателя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йская традиция расчета экономических показателей, учитывающих экологическую составляющую, отсутств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4800600" y="1219320"/>
            <a:ext cx="4033800" cy="17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еобходимо иметь национальную систему расчетов показателей эколого-экономического развития, данные которой могут быть использованы как для оценки стратегических отраслевых программ развития, так и для сопоставления результатов регион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4149720"/>
            <a:ext cx="2774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международных исследованиях Россия занимает одно из последних мест по уровню экономического развития с учетом экологических фактор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является одной из немногих в мире крупных экономик, имеющей в 2000е гг. отрицательные «чистые накопления» - интегральный эколого-экономический индекс по версии Всемирного ба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3886200" y="16286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643200" y="3629160"/>
          <a:ext cx="5286600" cy="2412720"/>
        </p:xfrm>
        <a:graphic>
          <a:graphicData uri="http://schemas.openxmlformats.org/drawingml/2006/table">
            <a:tbl>
              <a:tblPr/>
              <a:tblGrid>
                <a:gridCol w="1214640"/>
                <a:gridCol w="1571400"/>
                <a:gridCol w="857520"/>
                <a:gridCol w="1643040"/>
              </a:tblGrid>
              <a:tr h="59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а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ректированные чистые накопления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по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рм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ранц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обрит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ь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д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раи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та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вег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Box 10"/>
          <p:cNvSpPr/>
          <p:nvPr/>
        </p:nvSpPr>
        <p:spPr>
          <a:xfrm>
            <a:off x="3500280" y="6072120"/>
            <a:ext cx="542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: 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Development Indicators 2008. World Bank, Washington DC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2. Технологические и институциональные инновации для решения «мусорной» проблемы 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724280" y="1066680"/>
            <a:ext cx="41767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озможные приоритеты государственной политики поощрения инновационных технолог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системы «отрицательных стимулов» для снижения доходности свалочн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ддержка инициатив по экспертизе и опытному внедрению технологий переработки бытовых от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иск экономических инструментов стимулирования раздельного сбора мусора насел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нятие нормативных актов по уточнению ответственности производителей и продавцов по утилизации товаров и их упаковки на основе решения вопроса о «собственности на мус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ординация на федеральном уровне местных и региональных инициатив по решению «мусорной»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304920" y="990720"/>
            <a:ext cx="3962160" cy="137160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Замусоренность городов и лесов является одной из главных российских экологических проблем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падок российской природоохранной системы наиболее ярко проявляется в сегменте обращения с отход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380880" y="259092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Ограничения по применению традиционных техноло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Огромное количество неотсортированного и непереработанного бытового мусора требует быстрых и эффективных реш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Экстремально высокая доходность свалочного бизнеса и его криминализованность мешает развиваться мусороперерабатывающему бизнесу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озможности продажи энергии, полученной от переработки мусора, не может рассматриваться как стимул для развития бизнеса из-за дешевизны углеродных источник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Строительные нормативы не предусматривают установку систем раздельного сбора бытового мусо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0"/>
          <p:cNvSpPr/>
          <p:nvPr/>
        </p:nvSpPr>
        <p:spPr>
          <a:xfrm>
            <a:off x="3929040" y="392904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3. Регламентирование уничтожения токсичных от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24"/>
          <p:cNvSpPr/>
          <p:nvPr/>
        </p:nvSpPr>
        <p:spPr>
          <a:xfrm>
            <a:off x="4500720" y="928800"/>
            <a:ext cx="4321080" cy="3305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коплено большое количество (сотни тысяч тонн) бесхозных (советское наследие) высокотоксичных отходов (пестициды, токсичные технические масла и т.д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оксичные отходы накапливаются на промышленных площадках владельцев, либо передаются фирмам однодневкам для последующего размещения на полигонах твердых бытовых отходов или захоронения на незаконных свал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лучае невозможности размещения или захоронения токсичные отходы утилизируются неспециализированными техническими средствами, при этом образуются вторичные отходы и выбросы, нередко еще более токсич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6"/>
          <p:cNvSpPr/>
          <p:nvPr/>
        </p:nvSpPr>
        <p:spPr>
          <a:xfrm>
            <a:off x="142920" y="928800"/>
            <a:ext cx="37908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Источники возникновения пробле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 владельцев отходов отсутствуют стимулы к переработке: штрафы за их хранение в разы меньше себестоимости ут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58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совершенство законодательства позволяет владельцам отходов безответственно передавать токсичные отходы третьим лицам, в том числе заведомо недобросовестны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285840" y="4797360"/>
            <a:ext cx="8572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едлагаемые реш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здать у владельцев или ответственных стимул к утилизации токсичных отходов. Например, повысить штрафы за хранение, обязать регионы выделять на уничтожение бесхозных пестицидов часть экологически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зработать и принять технические требования к технологиям утилизации опасных отход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28"/>
          <p:cNvSpPr/>
          <p:nvPr/>
        </p:nvSpPr>
        <p:spPr>
          <a:xfrm rot="10800000">
            <a:off x="3929040" y="1999800"/>
            <a:ext cx="503280" cy="5749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29"/>
          <p:cNvSpPr/>
          <p:nvPr/>
        </p:nvSpPr>
        <p:spPr>
          <a:xfrm>
            <a:off x="2928960" y="442908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29"/>
          <p:cNvSpPr/>
          <p:nvPr/>
        </p:nvSpPr>
        <p:spPr>
          <a:xfrm>
            <a:off x="7072200" y="44290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Стимулирование своевременного внедрения экологических нормати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3657600" cy="2791080"/>
          </a:xfrm>
          <a:prstGeom prst="rect">
            <a:avLst/>
          </a:prstGeom>
          <a:solidFill>
            <a:srgbClr val="99cc00">
              <a:alpha val="4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новным загрязнителем воздуха в крупных городах являются не промышленные предприятия, а автомобильный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существующим оценкам в Москве на долю автомобилей приходится свыше 90% от всех выбр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арк легковых автомобилей и других «мобильных загрязнителей» растет опережающими темпами по сравнению с другими источниками загряз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724280" y="1295280"/>
            <a:ext cx="4033800" cy="17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880" indent="-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Должна быть разработана система экономических 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анкц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в отношении компаний, допускающих срывы графиков внедрения экологических нормативов, и 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компенсационных мероприятий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для компаний, готовых к внедрению, в случае изменения граф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79280" y="4149720"/>
            <a:ext cx="33130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ологические требования к автотранспорту являются одним из ключевых вопросов экологической политики в Ро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жесточение экологических требований к автомобильному топливу, применяемому в России,  позволяет снизить загрязнение окружающей среды в раз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" indent="-2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оссия отстает от стран Европы во внедрении стандартов применяемого топлива на 5-10 л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6"/>
          <p:cNvSpPr/>
          <p:nvPr/>
        </p:nvSpPr>
        <p:spPr>
          <a:xfrm>
            <a:off x="2057400" y="3657600"/>
            <a:ext cx="53352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3929040" y="1643040"/>
            <a:ext cx="685800" cy="432000"/>
          </a:xfrm>
          <a:prstGeom prst="rightArrow">
            <a:avLst>
              <a:gd name="adj1" fmla="val 50000"/>
              <a:gd name="adj2" fmla="val 39688"/>
            </a:avLst>
          </a:prstGeom>
          <a:solidFill>
            <a:srgbClr val="99cc00">
              <a:alpha val="7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1609560" y="150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4114800" y="3657600"/>
            <a:ext cx="4714920" cy="289548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82" name="AutoShape 11"/>
          <p:cNvSpPr/>
          <p:nvPr/>
        </p:nvSpPr>
        <p:spPr>
          <a:xfrm>
            <a:off x="3357720" y="4786200"/>
            <a:ext cx="609480" cy="457200"/>
          </a:xfrm>
          <a:prstGeom prst="leftRightArrow">
            <a:avLst>
              <a:gd name="adj1" fmla="val 50000"/>
              <a:gd name="adj2" fmla="val 2653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4009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5. Стимулирование инвестиций в сбережение, а не</a:t>
            </a:r>
            <a:br>
              <a:rPr sz="2200"/>
            </a:b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 в производство энерг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857160"/>
            <a:ext cx="4214880" cy="2500560"/>
          </a:xfrm>
          <a:prstGeom prst="rect">
            <a:avLst/>
          </a:prstGeom>
          <a:solidFill>
            <a:srgbClr val="99cc00">
              <a:alpha val="35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етический сектор - основной загрязнитель окружающей среды в мир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0% выбросов вредных веществ в атмосфе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2% загрязнений сточных в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0% отходов производства и потреб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19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0% общего объема выбросов парниковых газ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кспортно-сырьевой характер российской экономики и доступность дешевого газа загоняют страну в экологическую ловушку:  растут инвестиции в производство электроэнергии за счет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невозобновляем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источни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25440" y="3809880"/>
            <a:ext cx="4246560" cy="28018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новные проблемы снижения «карбонизации» российской экономи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актор дешевого углеродного топлива является непреодолимым барьером для развития «зеленой» энергетики как коммерческого про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е производства электроэнергии из возобновляемых источников невозможно без серьезных мер государственной поддержки, в первую очередь, за счет тарифной политики и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старевшее оборудование и технологии российских предприятий и сферы ЖКХ требует масштабных инвести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5143680" y="1143000"/>
            <a:ext cx="3709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иоритетом государственной политики в России в ближайшие годы должна стать в основном поддержка проектов по распространению энергосберегающих технологий в различных сферах, а не инвестиции в производство энергии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2214720" y="3429000"/>
            <a:ext cx="533160" cy="334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4643280" y="1500120"/>
            <a:ext cx="357480" cy="652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6715080" y="2786040"/>
            <a:ext cx="432000" cy="3603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14960" y="3429000"/>
            <a:ext cx="3505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екущая ситуаци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оссии имеется необходимая нормативная база для внедрения энергосберегающих технологий через энергосервисные контракты на федеральном уровне, но не на региональн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-за отсутствия доступных источников финансирования и высоких рисков энергосервисные контракты практически не заключаю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звития энергосберегающих проектов требуется разработка механизма частичного гарантирования государством рисков, возникающих в связи с реализаций проектов по энергосбереж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84726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8000"/>
                </a:solidFill>
                <a:latin typeface="Times New Roman"/>
              </a:rPr>
              <a:t>6. Стимулирование добровольных обязательств бизнеса по сокращению выброса парниковых газ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5480" y="1066320"/>
            <a:ext cx="4143240" cy="16765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волюция международного экологического права ведет к  ограничению свободной торговли на основе принципо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углеродного протекционизма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повышенных пошлин на продукты и услуги, произведенные экономиками стран с высоким уровнем использования углеродного топли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257800" y="990720"/>
            <a:ext cx="35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значительной части российского экспортно-ориентированного бизнеса (авиаперевозки, морские перевозки, металлургия, предприятия ТЭК) в отсутствие мер регулирования выбросов парниковых газов существуют риски стать объектами применения дискриминационных 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отношении авиаперевозчиков такие меры будут применяться уже начиная с 2012 года (Директива ЕС (2008/101/ЕС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3429000"/>
            <a:ext cx="420048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странах с развитыми экономиками широкое распространение получили схемы торговли правами на выброс парниковых газов, в основе которых лежат как обязательные, так и добровольные ограни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029200" y="3429000"/>
            <a:ext cx="3838680" cy="3048120"/>
          </a:xfrm>
          <a:prstGeom prst="rect">
            <a:avLst/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буются срочные 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местные усил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государства и бизнеса, направленные на формирование государственной системы регулирования выбросов парниковых газов, обеспечивающ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стимулов для инвестиций в проекты повышения «углеродной эффективно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вития рынка торговли выбросами на основе добровольных обязатель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теграцию с международными рынками торговли выброс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ниторинг международного экологического законодательства в области регулирования выбросов парниковых газов и готовности российских экспорто-ориентированных производителей к введению новых нор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Диаграмма 20" descr=""/>
          <p:cNvPicPr/>
          <p:nvPr/>
        </p:nvPicPr>
        <p:blipFill>
          <a:blip r:embed="rId1"/>
          <a:stretch/>
        </p:blipFill>
        <p:spPr>
          <a:xfrm>
            <a:off x="311040" y="4425840"/>
            <a:ext cx="3926160" cy="1925640"/>
          </a:xfrm>
          <a:prstGeom prst="rect">
            <a:avLst/>
          </a:prstGeom>
          <a:ln w="0">
            <a:noFill/>
          </a:ln>
        </p:spPr>
      </p:pic>
      <p:sp>
        <p:nvSpPr>
          <p:cNvPr id="99" name="TextBox 51"/>
          <p:cNvSpPr/>
          <p:nvPr/>
        </p:nvSpPr>
        <p:spPr>
          <a:xfrm>
            <a:off x="304920" y="624852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Динамика развития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обровольного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углеродного рынка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лн. долл. США (данные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cosystem, Bloomber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500120" y="2786040"/>
            <a:ext cx="9907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500720" y="1428840"/>
            <a:ext cx="749160" cy="533160"/>
          </a:xfrm>
          <a:prstGeom prst="rightArrow">
            <a:avLst>
              <a:gd name="adj1" fmla="val 50000"/>
              <a:gd name="adj2" fmla="val 3512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4191120" y="495288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7010280" y="31240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6760" y="1213920"/>
            <a:ext cx="8334360" cy="530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создание российской системы расчета показателей экономического роста с учетом влияния на экологию, учитывающей накопленный международный опыт расчета таких индикаторо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В целях учета расходов будущих периодов на восстановление окружающей среды Минэкономразвития РФ (Росстату) и Минприроды РФ совместно с профильными научными и общественными экологическими организациями представить предложения по использованию в Российской Федерации системы статистических показателей, учитывающих экологические  составляющие экономического роста, включая предложения по возможным целевым экологическим показателям в рамках реализации Концепции долгосрочного социально-экономического развития Российской Федерации до 2020 г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ода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не прямой поддержке проектов по переработке бытовых отходов, а стимулированию внедрения технологических и организационных инноваций в этой сф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рассмотреть с участием организаций бизнеса имеющийся мировой опыт утилизации твердых бытовых отходов, внести предложения по использованию субъектами РФ и муниципальными образованиями перспективных технологий, включая их поддержку через институты развития и разработку соответствующих технических регламентов, а также по модификации системы экологических платежей в направлении экономического стимулирования использования экологически ориентированных способов утилизации твердых бытов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3296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</a:rPr>
              <a:t>7. Выводы и предложени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7120" y="713880"/>
            <a:ext cx="85010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обходимы меры по стимулированию экологически безопасных способов утилизации токсичных отходов и ограничения по использованию технологий, наносящих экологический ущер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промторгу РФ, Росстандарту представить предложения по нормативным и техническим требованиям к технологиям утилизации опасных отход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лжны быть разработаны системы экономических  санкций в отношении компаний, допускающих срывы графиков внедрения экологических нормативов, и компенсационных мероприятий для компаний, готовых к внедрению, в случае изменения граф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Правительству РФ представить предложения по системе стимулов и компенсаций в отношении предприятий и организаций, участвующих в мероприятиях по внедрению экологических нормативов производства и потребления, направленных на компенсацию издержек, понесенных в ходе подготовки к внедрению нормативов, в случае переноса сроков ввода нормативов в действие, за счет предприятий и организаций, оказавшихся неготовыми к соблюдению новых нормативов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буется уделить внимание созданию финансовых механизмов для стимулирования запуска проектов по повышению энергоэффективности экономики на основе принципов разделения рисков между бизнесом и государст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роект поручения: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  <a:ea typeface="Times New Roman"/>
              </a:rPr>
              <a:t>Минфину РФ рассмотреть вопрос о предоставлении государственных гарантий под инвестиционные проекты, реализуемые бизнесом по энергосервисным контрактам, предусматривающим повышение экологической эффективности, в размере не более 25% от суммы контракта. Минрегиону РФ провести анализ нормативной базы субъектов РФ, обеспечивающей внедрение энергосберегающих технологий через энергосервисные контракты и представить предложения по направлениям унификации регионального законодательства, способствующим внедрению экологоориентированных энергосберегающих технологий</a:t>
            </a:r>
            <a:r>
              <a:rPr b="0" i="1" lang="ru-RU" sz="1400" spc="-1" strike="noStrike">
                <a:solidFill>
                  <a:srgbClr val="000000"/>
                </a:solidFill>
                <a:latin typeface="Times New (W1)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20:11:04Z</dcterms:created>
  <dc:creator>SATR</dc:creator>
  <dc:description/>
  <dc:language>en-US</dc:language>
  <cp:lastModifiedBy>LEGION</cp:lastModifiedBy>
  <dcterms:modified xsi:type="dcterms:W3CDTF">2015-05-06T08:30:53Z</dcterms:modified>
  <cp:revision>123</cp:revision>
  <dc:subject/>
  <dc:title>Комиссия при Президенте Российской Федерации по модернизации и технологическому развитию экономики России Информационно-аналитические материалы Консультативной рабочей группы по теме: «Экологические аспекты в приоритетных направлениях модернизации»</dc:title>
</cp:coreProperties>
</file>