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7637-5F93-4592-B11F-74B540687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14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Информационно-аналитические материалы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Консультативной рабочей группы по теме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2000"/>
            </a:br>
            <a:br>
              <a:rPr sz="18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B2A-DAC0-4ACE-B5EC-CFB6D505AA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B67A-7EEC-48E7-B669-395BAE36C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B8BA-065A-40C9-BE0C-ED7D1F2693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64D5-D675-4C93-93D6-3684EA455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DDC6-AD0C-43CF-9CBD-AB5190F97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55D-C59D-4CC2-850F-5AFC80D32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1900"/>
            </a:b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E199-010C-420E-A6CE-DDB244401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836C-B442-439A-98DF-A9A9FADB3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463F-8389-4544-A876-7BFE7B86F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6DB0-FE63-4BD9-894D-D5782AC40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89C-0D8B-4EFA-9F8C-0A6BBFA8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555-E361-4890-82EE-33DB0E6A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ED5-2399-4093-9505-96DA3139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F4FB-28ED-40B5-AFE4-E1A9ACF6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7AFA-2E83-4E03-BB33-56327230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30E-09C3-4FB8-AEC2-1299CC9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A49-14C0-450F-952F-322559AC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D25A-B08D-4EAF-9657-15D9D86C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141-C810-4EF8-80F0-09653F1D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7AC-68FE-4A01-9ECF-323915F6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84E7-870D-4C00-9757-E156A573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4F2-565B-4E28-B536-5E83540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54BA-B57D-47FF-B464-B80C85FAD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Georgia"/>
              </a:rPr>
              <a:t>Информационно-аналитические материал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Консультативной рабочей группы по тем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br>
              <a:rPr sz="2600"/>
            </a:b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11280" y="587700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юня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26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3414600" cy="259236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00600" y="1219320"/>
            <a:ext cx="4033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обходимо иметь национальную систему расчетов показателей эколого-экономического развития, данные которой могут быть использованы как для оценки стратегических отраслевых программ развития, так и для сопоставления результатов регион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4149720"/>
            <a:ext cx="2774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еждународных исследованиях Россия занимает одно из последних мест по уровню экономического развития с учетом экологически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является одной из немногих в мире крупных экономик, имеющей в 2000е гг. отрицательные «чистые накопления» - интегральный эколого-экономический индекс по версии Всемирного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886200" y="16286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643200" y="3629160"/>
          <a:ext cx="5286600" cy="241272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857520"/>
                <a:gridCol w="16430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0"/>
          <p:cNvSpPr/>
          <p:nvPr/>
        </p:nvSpPr>
        <p:spPr>
          <a:xfrm>
            <a:off x="3500280" y="6072120"/>
            <a:ext cx="54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Development Indicators 2008. World Bank, Washington DC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24280" y="1066680"/>
            <a:ext cx="4176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4920" y="990720"/>
            <a:ext cx="3962160" cy="1371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мусоренность городов и лесов является одной из главных российских экологических пробле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падок российской природоохранной системы наиболее ярко проявляется в сегменте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25909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0"/>
          <p:cNvSpPr/>
          <p:nvPr/>
        </p:nvSpPr>
        <p:spPr>
          <a:xfrm>
            <a:off x="3929040" y="39290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4"/>
          <p:cNvSpPr/>
          <p:nvPr/>
        </p:nvSpPr>
        <p:spPr>
          <a:xfrm>
            <a:off x="4500720" y="928800"/>
            <a:ext cx="4321080" cy="3305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6"/>
          <p:cNvSpPr/>
          <p:nvPr/>
        </p:nvSpPr>
        <p:spPr>
          <a:xfrm>
            <a:off x="142920" y="928800"/>
            <a:ext cx="3790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85840" y="4797360"/>
            <a:ext cx="857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28"/>
          <p:cNvSpPr/>
          <p:nvPr/>
        </p:nvSpPr>
        <p:spPr>
          <a:xfrm rot="10800000">
            <a:off x="3929040" y="1999800"/>
            <a:ext cx="503280" cy="57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2928960" y="4429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7072200" y="4429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279108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724280" y="1295280"/>
            <a:ext cx="40338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80" indent="-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4149720"/>
            <a:ext cx="3313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929040" y="16430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09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714920" cy="2895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2" name="AutoShape 11"/>
          <p:cNvSpPr/>
          <p:nvPr/>
        </p:nvSpPr>
        <p:spPr>
          <a:xfrm>
            <a:off x="3357720" y="4786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2200"/>
            </a:b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4214880" cy="250056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5440" y="3809880"/>
            <a:ext cx="4246560" cy="2801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43680" y="1143000"/>
            <a:ext cx="370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214720" y="3429000"/>
            <a:ext cx="53316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643280" y="1500120"/>
            <a:ext cx="35748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715080" y="278604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14960" y="3429000"/>
            <a:ext cx="3505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480" y="1066320"/>
            <a:ext cx="4143240" cy="1676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257800" y="990720"/>
            <a:ext cx="35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429000"/>
            <a:ext cx="4200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29200" y="3429000"/>
            <a:ext cx="3838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20" descr=""/>
          <p:cNvPicPr/>
          <p:nvPr/>
        </p:nvPicPr>
        <p:blipFill>
          <a:blip r:embed="rId1"/>
          <a:stretch/>
        </p:blipFill>
        <p:spPr>
          <a:xfrm>
            <a:off x="311040" y="4425840"/>
            <a:ext cx="3926160" cy="192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1"/>
          <p:cNvSpPr/>
          <p:nvPr/>
        </p:nvSpPr>
        <p:spPr>
          <a:xfrm>
            <a:off x="304920" y="62485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инамика развити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обровольно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глеродного рынк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лн. долл. США (данны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cosystem, Bloomber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500120" y="278604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500720" y="1428840"/>
            <a:ext cx="749160" cy="533160"/>
          </a:xfrm>
          <a:prstGeom prst="rightArrow">
            <a:avLst>
              <a:gd name="adj1" fmla="val 50000"/>
              <a:gd name="adj2" fmla="val 351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191120" y="4952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7010280" y="31240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33436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29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501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0:11:04Z</dcterms:created>
  <dc:creator>SATR</dc:creator>
  <dc:description/>
  <dc:language>en-US</dc:language>
  <cp:lastModifiedBy>LEGION</cp:lastModifiedBy>
  <dcterms:modified xsi:type="dcterms:W3CDTF">2015-05-06T08:30:53Z</dcterms:modified>
  <cp:revision>123</cp:revision>
  <dc:subject/>
  <dc:title>Комиссия при Президенте Российской Федерации по модернизации и технологическому развитию экономики России Информационно-аналитические материалы Консультативной рабочей группы по теме: «Экологические аспекты в приоритетных направлениях модернизации»</dc:title>
</cp:coreProperties>
</file>