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4CC0-3308-4D10-A0F1-B780D1926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14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Информационно-аналитические материалы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Консультативной рабочей группы по теме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2000"/>
            </a:br>
            <a:br>
              <a:rPr sz="18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DD1-3353-46C9-BEEF-A20CFE73F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B17D-1105-404B-99E8-172CE5D8C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92D0-9149-465E-927F-51DDDDA6E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87C9-FD9A-492F-8EE1-DE6AB27DE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E605-B846-4845-A7AE-1AEA451A6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527-521A-48E7-B8E3-330FF3B9B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1900"/>
            </a:b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3D13-D1EE-4958-9FEE-989734983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7395-E3A9-41D4-893A-664006212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9020-100E-45EC-8D0E-C63A13C7F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64F9-C98B-48DB-B300-541FA213F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EB7-7551-42DD-BDF1-BB58EF61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E27-C8EF-4093-90B6-1EFF1851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C2A-D861-459E-8134-AD21312B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5A3-24D5-4E7B-8596-EDBB200A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521-9600-4815-991D-0F904DA2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602-1850-4AE0-AA51-64813D51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C03-5F1B-492C-A0F8-3186869A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73B-58A5-4915-95FF-662E2DD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C9B-D1AB-44CB-A91F-4D75FA30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27A-E9D3-4AB0-9DE4-DE51BE49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A1E-D9B9-4E7E-B091-8BF7F98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B79-10BE-431D-AF69-C0F3B604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2C4-2411-41DC-B176-9019FDE75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2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333399"/>
                </a:solidFill>
                <a:latin typeface="Georgia"/>
              </a:rPr>
              <a:t>Информационно-аналитические материал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Консультативной рабочей группы по тем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200"/>
            </a:br>
            <a:br>
              <a:rPr sz="2600"/>
            </a:br>
            <a:br>
              <a:rPr sz="1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411280" y="587700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7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июня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26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3414600" cy="259236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00600" y="1219320"/>
            <a:ext cx="4033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обходимо иметь национальную систему расчетов показателей эколого-экономического развития, данные которой могут быть использованы как для оценки стратегических отраслевых программ развития, так и для сопоставления результатов регион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4149720"/>
            <a:ext cx="2774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еждународных исследованиях Россия занимает одно из последних мест по уровню экономического развития с учетом экологических фа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является одной из немногих в мире крупных экономик, имеющей в 2000е гг. отрицательные «чистые накопления» - интегральный эколого-экономический индекс по версии Всемирного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886200" y="16286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643200" y="3629160"/>
          <a:ext cx="5286600" cy="241272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857520"/>
                <a:gridCol w="16430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0"/>
          <p:cNvSpPr/>
          <p:nvPr/>
        </p:nvSpPr>
        <p:spPr>
          <a:xfrm>
            <a:off x="3500280" y="6072120"/>
            <a:ext cx="542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Development Indicators 2008. World Bank, Washington DC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724280" y="1066680"/>
            <a:ext cx="4176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4920" y="990720"/>
            <a:ext cx="3962160" cy="13716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мусоренность городов и лесов является одной из главных российских экологических проблем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падок российской природоохранной системы наиболее ярко проявляется в сегменте обращения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25909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0"/>
          <p:cNvSpPr/>
          <p:nvPr/>
        </p:nvSpPr>
        <p:spPr>
          <a:xfrm>
            <a:off x="3929040" y="392904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4"/>
          <p:cNvSpPr/>
          <p:nvPr/>
        </p:nvSpPr>
        <p:spPr>
          <a:xfrm>
            <a:off x="4500720" y="928800"/>
            <a:ext cx="4321080" cy="3305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6"/>
          <p:cNvSpPr/>
          <p:nvPr/>
        </p:nvSpPr>
        <p:spPr>
          <a:xfrm>
            <a:off x="142920" y="928800"/>
            <a:ext cx="3790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285840" y="4797360"/>
            <a:ext cx="857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28"/>
          <p:cNvSpPr/>
          <p:nvPr/>
        </p:nvSpPr>
        <p:spPr>
          <a:xfrm rot="10800000">
            <a:off x="3929040" y="1999800"/>
            <a:ext cx="503280" cy="57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2928960" y="4429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29"/>
          <p:cNvSpPr/>
          <p:nvPr/>
        </p:nvSpPr>
        <p:spPr>
          <a:xfrm>
            <a:off x="7072200" y="44290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279108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724280" y="1295280"/>
            <a:ext cx="40338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80" indent="-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4149720"/>
            <a:ext cx="3313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929040" y="16430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09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714920" cy="2895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2" name="AutoShape 11"/>
          <p:cNvSpPr/>
          <p:nvPr/>
        </p:nvSpPr>
        <p:spPr>
          <a:xfrm>
            <a:off x="3357720" y="47862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2200"/>
            </a:b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4214880" cy="2500560"/>
          </a:xfrm>
          <a:prstGeom prst="rect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5440" y="3809880"/>
            <a:ext cx="4246560" cy="2801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43680" y="1143000"/>
            <a:ext cx="370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214720" y="3429000"/>
            <a:ext cx="53316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643280" y="1500120"/>
            <a:ext cx="35748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715080" y="278604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14960" y="3429000"/>
            <a:ext cx="3505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726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480" y="1066320"/>
            <a:ext cx="4143240" cy="1676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257800" y="990720"/>
            <a:ext cx="35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429000"/>
            <a:ext cx="4200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29200" y="3429000"/>
            <a:ext cx="3838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20" descr=""/>
          <p:cNvPicPr/>
          <p:nvPr/>
        </p:nvPicPr>
        <p:blipFill>
          <a:blip r:embed="rId1"/>
          <a:stretch/>
        </p:blipFill>
        <p:spPr>
          <a:xfrm>
            <a:off x="311040" y="4425840"/>
            <a:ext cx="3926160" cy="192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1"/>
          <p:cNvSpPr/>
          <p:nvPr/>
        </p:nvSpPr>
        <p:spPr>
          <a:xfrm>
            <a:off x="304920" y="62485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инамика развити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обровольного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глеродного рынк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лн. долл. США (данны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cosystem, Bloomber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500120" y="278604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500720" y="1428840"/>
            <a:ext cx="749160" cy="533160"/>
          </a:xfrm>
          <a:prstGeom prst="rightArrow">
            <a:avLst>
              <a:gd name="adj1" fmla="val 50000"/>
              <a:gd name="adj2" fmla="val 351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191120" y="4952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7010280" y="31240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33436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29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501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0:11:04Z</dcterms:created>
  <dc:creator>SATR</dc:creator>
  <dc:description/>
  <dc:language>en-US</dc:language>
  <cp:lastModifiedBy>LEGION</cp:lastModifiedBy>
  <dcterms:modified xsi:type="dcterms:W3CDTF">2015-05-06T08:30:53Z</dcterms:modified>
  <cp:revision>123</cp:revision>
  <dc:subject/>
  <dc:title>Комиссия при Президенте Российской Федерации по модернизации и технологическому развитию экономики России Информационно-аналитические материалы Консультативной рабочей группы по теме: «Экологические аспекты в приоритетных направлениях модернизации»</dc:title>
</cp:coreProperties>
</file>