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E55F-9A50-4944-8707-8F03E50EC0A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сновы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Авто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Немцева Т.В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т.преподаватель кафедры ЕМ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ГОУ ЯО И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34E5-C0B0-4C66-989E-89A70D146F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 В водоем запустили карпов. Объясните, как это могло повлиять на численность обитающих в нём водорослей, карасей и щ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Какие виды топлива – природный газ, каменный уголь, атомная энергия способствуют созданию парникового эффекта? Ответ поясни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Постройте график изменения заготовок шкурок зайца-беляка на севере европейской части России последовательно за 27 лет (объем заготовок в баллах): 2,1, 2, 3,3, 4,5,15, 30, 80, 100. 60. 55, 0, 1, 1. 2,8, 90, 100,100,130,10.2.1,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колько длится один цикл в динамике численности зайца? Какой прогноз для заготовок шкурок более будет точным? (выберите правильный 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) на 1 год впере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) на 5 лет впере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) на 10лет впе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 Экологи установили интересный факт: как только в водоемах люди истребят выдр, рыбы в них становится больше, но потом численность 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тно уменьшается. Если снова расплодятся выдры, то количество рыбы в них опять возрастет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Объясните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2DA9-436D-4D1D-B248-1B4F60D3F1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Основные пон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Экология (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jikos –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жилище, дом;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logos –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ука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) –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ука, изучающая закономерности взаимоотношений организмов друг с другом и окружающей сре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ермин ввел немецкий биолог Э. Геккель в 186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Методы исследования в эк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вы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математического моде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Экологические факто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иотически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тически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ропогенны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Лимитирующий факт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ограничивающий жизнедеятельность) – фактор, интенсивность которого приближается к пределу выносливости или превышает 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Экологиче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ческий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)оптиму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сочетание условий среды, обеспечивающих усиленный рост, развитие и размножение каждого организма (популяции, ви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4E73-5F6F-4EA9-A7C4-41A95DBA65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Схема действия экологического фак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619C-04ED-46FB-8413-C97AD06B6D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Задания к теме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«Зависимость организмов от факторов среды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Определите к каким факторам сред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(абиотическим, биотическим 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антропогенным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можно отне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хищничество, вырубку лесов, влажность воздуха, температуру воздуха, паразитизм, свет, строительство зданий, давление воздуха, конкуренцию, выброс СО2 заводами, давление воздуха, соленость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ассмотрите график зависимости численности семиточечной божьей коровки 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туры окружающе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бъясните, почему существу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кие и находящиеся под угроз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чезновения организмы, е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й вид способен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предельному росту чис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46AD-0ECE-4834-9615-065742B192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Инфузорий –туфелек поместили в закрытую пробирку с предварительно прокипяченной и охлажденной водой, содержащей пищу для простейших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к  вы думаете, что произойдет с инфузориями дальше?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 естественных лесных сообществах успех размножения мелких птиц (птенцов) составляет около 40%; в лесах рядом с населенными пунктами – не более 10%;в парках этот показатель падает до 1%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овите возможные причины такой закономерности. Что необходимо предпринять для увеличения успеха размножения птиц в парк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Отве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ицательное влияние антропогенного фактора на размножение птиц (беспокойство, разорение гнезд, вспугивание птиц с гнезд, обилие кошек и собак, действие ядохимикат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спеха размножения птиц уменьшить влияние антропогенного фактора ( гулять только по дорожкам, выгул собак и кошек на поводке, создание зон покоя с запрещенным входом людей. Увеличить подкормку и количество искусственных гнездов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Уровень содержания кислорода в воде является одним из важнейших факторов в жизни рыб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овите дополнительные приспособления, которые имеют некоторые виды рыб, позволяющие им обитать в воде при недостатке кислорода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Ответ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з кожу –вьюн; за счет плавательного пузыря; дыхание атмосферным воздухом; использование легочного пузыря – у двоякодышащих, сомов, вьюнов; развитие наджаберных камер (резерваторов воздуха) – у некоторых сом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F874-5D22-49EB-8109-3AE9BD1408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большом водоеме, образовавшемся после разлива реки, обнаруж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ющие организмы: инфузории-туфельки, дафнии, белые планар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 прудовик, циклопы, гидры. Объясните, можно ли этот водоё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итать экосистемой. Приведите не менее 3-х доказ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От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ный временный водоем нельзя назвать экосистемой, так какв нё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отсутствуют продуцен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отсутствуют редуцен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отсутствует замкнутый круговорот веществ и нарушены цеп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экосистему смешанного леса считают более устойчивой, ч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систему елового лес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От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в смешанном лесу больше видов, чем в ело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в смешанном лесу цепи питания более длинные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етвлённые, чем в ело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в смешанном лесу ярусов больше, чем в ело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E6C1-EE1C-4D65-A4D1-58BF62E263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опуляция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особей одного вида, длительно существующих на определенной территории и относительно изолированных друг от др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Экологические характеристики популя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попу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ранственное распределение  особей ( семьи, стада, колонии, кося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ждае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вая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ная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заимосвязи в популяц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утуализ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имбиоз)- взаимовыгодное сожительство организмов разных ви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йтрал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вместное обитание особей , непосредственно не взаимодействующих между соб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менсализ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это сожительство, при котором особь одного вида  использует особь другого вида только как жилищ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мменсал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нахлебничество) – сожительство организмов разных видов, при котором один использует остатки пищи другого , не причиняя в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аразит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жительство организмов разных видов, при котором один организм питается за счет другого , нанося ему вре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Например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редложенного списка составьте пары организмов , которые могут находиться в мутуалистических отношениях (названия организмов использовать только один раз) 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чела, гриб, подберезовик, актиния, дуб, береза, рак-отшельник, осина, сойка, клевер, подосиновик, липа, клубеньковые бакте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A0EC-DA0A-4B92-A56C-29BB4B83DE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Компоненты биоцено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рганически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ически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чески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уц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уц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ертикальная структура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у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изонтальная структура – распределение (мозаичность)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Цепи пит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бищ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ритная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7E41-6F82-41A7-A308-94520274BB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Задания для самоконтро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Cоставьте пищевую цепь, используя все названные ниже объекты: перегной, паук-крестовик, ястреб, большая синица, комнатная муха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пределите консумента третьего порядка в составленной цеп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ля борьбы с насекомыми-вредителями человек применяет химические вещества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ъясните, как может измениться жизнь дубравы в случае, если в ней химическим способом будут  уничтожены все растительноядные насеком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Для борьбы с насекомыми-вредителями человек применяет химические вещества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ъясните, как может измениться жизнь дубравы в случае, если в ней химическим способом будут  уничтожены все растительноядные насекомы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очему численность промысловых растительноядных рыб может резко сократиться при уничтожении в водоеме хищных рыб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очему сов в экосистеме леса относят к консументам второго порядка, а мышей к консументам первого порядк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очему на лесных тропинках растения отсутствуют или сильно разрежены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Что служит основой формирования разнообразных сетей питания в экосистемах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Объясните, почему происходит естественное зарастание пресноводного водо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Объясните, како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 растениям наносят кислотные дож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E0C2-9C59-4F7B-A5E0-D3A44AE96E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5F865-CEF5-403D-B7FB-2029F5BBE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1BC75-6783-4603-9631-D4A80F95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5C0D1-3E73-4409-A896-37FD0054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DBE66-8CBE-44A2-A9EE-00ACABFA6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8DAC-69F0-4745-9C02-A50437037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947F-5F8A-4379-9BD8-CCDF30BB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08DF-9218-461B-8804-AFE2D92D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89D6-24CA-496F-B640-7718B866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5FA7-4E59-4BAC-ABA4-4620CC72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03E0-BBD3-4E19-8189-07D6870D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EA62-DA11-4949-8390-92999AEE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35AD8-6006-4EFA-9187-401B22AF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77FA-BCF3-42A4-8148-59E4C04C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7458-4A94-4F6F-BBC4-82A170A7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C809-1A4F-465A-BFF8-F57C936B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8C7D-443D-468B-99B9-F93CA73FF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2B2D-84D4-4ED8-A9A3-06113509E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943C6-B56D-4549-A536-3EA8F72A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96FA0-11AF-4333-8834-FF1EE2B4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BC3FF-2335-421B-988E-0C943560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6F832-FDF1-4297-BC95-F4C4F2F2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D2FBF-6232-4CAC-95F1-0402DBFE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718E1-898B-4D2C-9195-039947B3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787E7-4F59-47A3-95E8-AE45104E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9FC4-F7CA-4DCF-BECE-FC583B89DD5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0A83-5CB6-4595-A6CB-8DEB0B157CB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Основы экологи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мцева Т.В.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.преподаватель кафедры ЕМ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ОУ ЯО ИР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.  В водоем запустили карпов. Объясните, как это могло повлиять на численность обитающих в нём водорослей, карасей и щу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1. Какие виды топлива – природный газ, каменный уголь, атомная энергия способствуют созданию парникового эффекта? Ответ пояснит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2. Постройте график изменения заготовок шкурок зайца-беляка на севере европейской части России последовательно за 27 лет (объем заготовок в баллах): 2,1, 2, 3,3, 4,5,15, 30, 80, 100. 60. 55, 0, 1, 1. 2,8, 90, 100,100,130,10.2.1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колько длится один цикл в динамике численности зайца? Какой прогноз для заготовок шкурок более будет точным? (выберите правильный отв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) на 1 год вперед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) на 5 лет вперед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) на 10лет впере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3. Экологи установили интересный факт: как только в водоемах люди истребят выдр, рыбы в них становится больше, но потом численность 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метно уменьшается. Если снова расплодятся выдры, то количество рыбы в них опять возрастет.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Объясните почем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Основн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Экология (</a:t>
            </a:r>
            <a:r>
              <a:rPr b="0" lang="en-US" sz="1700" spc="-1" strike="noStrike">
                <a:solidFill>
                  <a:srgbClr val="666699"/>
                </a:solidFill>
                <a:latin typeface="Arial"/>
              </a:rPr>
              <a:t>jikos –</a:t>
            </a:r>
            <a:r>
              <a:rPr b="0" lang="ru-RU" sz="1700" spc="-1" strike="noStrike">
                <a:solidFill>
                  <a:srgbClr val="666699"/>
                </a:solidFill>
                <a:latin typeface="Arial"/>
              </a:rPr>
              <a:t>жилище, дом; </a:t>
            </a:r>
            <a:r>
              <a:rPr b="0" lang="en-US" sz="1700" spc="-1" strike="noStrike">
                <a:solidFill>
                  <a:srgbClr val="666699"/>
                </a:solidFill>
                <a:latin typeface="Arial"/>
              </a:rPr>
              <a:t>logos –</a:t>
            </a:r>
            <a:r>
              <a:rPr b="0" lang="ru-RU" sz="1700" spc="-1" strike="noStrike">
                <a:solidFill>
                  <a:srgbClr val="666699"/>
                </a:solidFill>
                <a:latin typeface="Arial"/>
              </a:rPr>
              <a:t>наука</a:t>
            </a: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) – </a:t>
            </a:r>
            <a:r>
              <a:rPr b="0" lang="ru-RU" sz="1700" spc="-1" strike="noStrike">
                <a:solidFill>
                  <a:srgbClr val="666699"/>
                </a:solidFill>
                <a:latin typeface="Arial"/>
              </a:rPr>
              <a:t>наука, изучающая закономерности взаимоотношений организмов друг с другом и окружающей средо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666699"/>
                </a:solidFill>
                <a:latin typeface="Arial"/>
              </a:rPr>
              <a:t>Термин ввел немецкий биолог Э. Геккель в 1866г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Методы исследования в экологии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левые метод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Экспериментальны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етоды математического моделирова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Экологические факторы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биотические фактор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иотические фактор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тропогенные фактор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Лимитирующий фактор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(ограничивающий жизнедеятельность) – фактор, интенсивность которого приближается к пределу выносливости или превышает ег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Экологический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(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иологический</a:t>
            </a: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)оптимум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–сочетание условий среды, обеспечивающих усиленный рост, развитие и размножение каждого организма (популяции, вида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ff"/>
                </a:solidFill>
                <a:latin typeface="Arial"/>
              </a:rPr>
              <a:t>Схема действия экологического фак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Безымянный"/>
          <p:cNvPicPr/>
          <p:nvPr/>
        </p:nvPicPr>
        <p:blipFill>
          <a:blip r:embed="rId1"/>
          <a:srcRect l="0" t="0" r="0" b="14754"/>
          <a:stretch/>
        </p:blipFill>
        <p:spPr>
          <a:xfrm>
            <a:off x="1547640" y="1341360"/>
            <a:ext cx="6840720" cy="372744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Задания к теме</a:t>
            </a:r>
            <a:br>
              <a:rPr sz="2400"/>
            </a:b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«Зависимость организмов от факторов среды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ru-RU" sz="1600" spc="-1" strike="noStrike">
                <a:solidFill>
                  <a:srgbClr val="9999ff"/>
                </a:solidFill>
                <a:latin typeface="Arial"/>
              </a:rPr>
              <a:t>Определите к каким факторам сред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9999ff"/>
                </a:solidFill>
                <a:latin typeface="Arial"/>
              </a:rPr>
              <a:t>(абиотическим, биотическим 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99ff"/>
                </a:solidFill>
                <a:latin typeface="Arial"/>
              </a:rPr>
              <a:t>     </a:t>
            </a:r>
            <a:r>
              <a:rPr b="0" i="1" lang="ru-RU" sz="1600" spc="-1" strike="noStrike">
                <a:solidFill>
                  <a:srgbClr val="9999ff"/>
                </a:solidFill>
                <a:latin typeface="Arial"/>
              </a:rPr>
              <a:t>антропогенным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9999ff"/>
                </a:solidFill>
                <a:latin typeface="Arial"/>
              </a:rPr>
              <a:t>можно отне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хищничество, вырубку лесов, влажность воздуха, температуру воздуха, паразитизм, свет, строительство зданий, давление воздуха, конкуренцию, выброс СО2 заводами, давление воздуха, соленость в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Рассмотрите график зависимости численности семиточечной божьей коровки 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мпературы окружающей сре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Объясните, почему существую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дкие и находящиеся под угроз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чезновения организмы, ес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юбой вид способен 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спредельному росту числен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4140360" y="3284640"/>
            <a:ext cx="4770360" cy="277344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878544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Инфузорий –туфелек поместили в закрытую пробирку с предварительно прокипяченной и охлажденной водой, содержащей пищу для простейших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ак  вы думаете, что произойдет с инфузориями дальше? Почем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В естественных лесных сообществах успех размножения мелких птиц (птенцов) составляет около 40%; в лесах рядом с населенными пунктами – не более 10%;в парках этот показатель падает до 1%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зовите возможные причины такой закономерности. Что необходимо предпринять для увеличения успеха размножения птиц в парках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Отве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рицательное влияние антропогенного фактора на размножение птиц (беспокойство, разорение гнезд, вспугивание птиц с гнезд, обилие кошек и собак, действие ядохимикат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успеха размножения птиц уменьшить влияние антропогенного фактора ( гулять только по дорожкам, выгул собак и кошек на поводке, создание зон покоя с запрещенным входом людей. Увеличить подкормку и количество искусственных гнездов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Уровень содержания кислорода в воде является одним из важнейших факторов в жизни рыб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зовите дополнительные приспособления, которые имеют некоторые виды рыб, позволяющие им обитать в воде при недостатке кислород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Ответ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рез кожу –вьюн; за счет плавательного пузыря; дыхание атмосферным воздухом; использование легочного пузыря – у двоякодышащих, сомов, вьюнов; развитие наджаберных камер (резерваторов воздуха) – у некоторых сом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ебольшом водоеме, образовавшемся после разлива реки, обнаруж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едующие организмы: инфузории-туфельки, дафнии, белые планари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льшой прудовик, циклопы, гидры. Объясните, можно ли этот водоё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читать экосистемой. Приведите не менее 3-х доказательст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Отв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званный временный водоем нельзя назвать экосистемой, так какв нё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отсутствуют продуцен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отсутствуют редуцен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отсутствует замкнутый круговорот веществ и нарушены цеп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ит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чему экосистему смешанного леса считают более устойчивой, ч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осистему елового лес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Отв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в смешанном лесу больше видов, чем в елов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в смешанном лесу цепи питания более длинные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етвлённые, чем в елов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в смешанном лесу ярусов больше, чем в ело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3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Популяция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окупность особей одного вида, длительно существующих на определенной территории и относительно изолированных друг от дру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Экологические характеристики популя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отность популя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ранственное распределение  особей ( семьи, стада, колонии, косяк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ждаем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овая струк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растная струк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Взаимосвязи в популяци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утуализм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имбиоз)- взаимовыгодное сожительство организмов разных ви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йтрализ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вместное обитание особей , непосредственно не взаимодействующих между соб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менсализм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это сожительство, при котором особь одного вида  использует особь другого вида только как жилищ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мменсализ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нахлебничество) – сожительство организмов разных видов, при котором один использует остатки пищи другого , не причиняя вре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аразитиз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жительство организмов разных видов, при котором один организм питается за счет другого , нанося ему вр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99ff"/>
                </a:solidFill>
                <a:latin typeface="Arial"/>
              </a:rPr>
              <a:t>Например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 предложенного списка составьте пары организмов , которые могут находиться в мутуалистических отношениях (названия организмов использовать только один раз) :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чела, гриб, подберезовик, актиния, дуб, береза, рак-отшельник, осина, сойка, клевер, подосиновик, липа, клубеньковые бакте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-963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Компоненты биоценоз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органические ве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иматические факто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ганические ве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уце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суме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дуце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ертикальная структура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рус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ризонтальная структура – распределение (мозаичность) организм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Цепи пит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сбищ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ритная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124000" y="3284640"/>
            <a:ext cx="936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3348000" y="3284640"/>
            <a:ext cx="914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ф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572000" y="3284640"/>
            <a:ext cx="11523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льки ры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6084720" y="3284640"/>
            <a:ext cx="914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ку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7236000" y="3284640"/>
            <a:ext cx="1368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нил.бакте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313200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435600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586728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702000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255600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2051280" y="335772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дорос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9"/>
          <p:cNvSpPr/>
          <p:nvPr/>
        </p:nvSpPr>
        <p:spPr>
          <a:xfrm>
            <a:off x="2197080" y="4076640"/>
            <a:ext cx="936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0"/>
          <p:cNvSpPr/>
          <p:nvPr/>
        </p:nvSpPr>
        <p:spPr>
          <a:xfrm>
            <a:off x="3276720" y="4076640"/>
            <a:ext cx="1511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2"/>
          <p:cNvSpPr/>
          <p:nvPr/>
        </p:nvSpPr>
        <p:spPr>
          <a:xfrm>
            <a:off x="5076720" y="4076640"/>
            <a:ext cx="1295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воре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6588000" y="4076640"/>
            <a:ext cx="1368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4"/>
          <p:cNvSpPr/>
          <p:nvPr/>
        </p:nvSpPr>
        <p:spPr>
          <a:xfrm>
            <a:off x="3132000" y="42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6"/>
          <p:cNvSpPr/>
          <p:nvPr/>
        </p:nvSpPr>
        <p:spPr>
          <a:xfrm>
            <a:off x="4788000" y="4221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7"/>
          <p:cNvSpPr/>
          <p:nvPr/>
        </p:nvSpPr>
        <p:spPr>
          <a:xfrm>
            <a:off x="6372360" y="4221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8"/>
          <p:cNvSpPr/>
          <p:nvPr/>
        </p:nvSpPr>
        <p:spPr>
          <a:xfrm>
            <a:off x="248436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9"/>
          <p:cNvSpPr/>
          <p:nvPr/>
        </p:nvSpPr>
        <p:spPr>
          <a:xfrm>
            <a:off x="2340360" y="40766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во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0"/>
          <p:cNvSpPr/>
          <p:nvPr/>
        </p:nvSpPr>
        <p:spPr>
          <a:xfrm>
            <a:off x="3276720" y="407664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возные мух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1"/>
          <p:cNvSpPr/>
          <p:nvPr/>
        </p:nvSpPr>
        <p:spPr>
          <a:xfrm>
            <a:off x="6712560" y="407520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кте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Задания для самоконтр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Cоставьте пищевую цепь, используя все названные ниже объекты: перегной, паук-крестовик, ястреб, большая синица, комнатная муха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пределите консумента третьего порядка в составленной цеп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Для борьбы с насекомыми-вредителями человек применяет химические вещества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ъясните, как может измениться жизнь дубравы в случае, если в ней химическим способом будут  уничтожены все растительноядные насеком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Для борьбы с насекомыми-вредителями человек применяет химические вещества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ъясните, как может измениться жизнь дубравы в случае, если в ней химическим способом будут  уничтожены все растительноядные насекомые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Почему численность промысловых растительноядных рыб может резко сократиться при уничтожении в водоеме хищных рыб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Почему сов в экосистеме леса относят к консументам второго порядка, а мышей к консументам первого порядка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Почему на лесных тропинках растения отсутствуют или сильно разрежены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Что служит основой формирования разнообразных сетей питания в экосистемах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. Объясните, почему происходит естественное зарастание пресноводного водо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. Объясните, как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д растениям наносят кислотные дожд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12:57:25Z</dcterms:created>
  <dc:creator>nemceva</dc:creator>
  <dc:description/>
  <dc:language>en-US</dc:language>
  <cp:lastModifiedBy>LEGION</cp:lastModifiedBy>
  <dcterms:modified xsi:type="dcterms:W3CDTF">2015-05-06T08:31:15Z</dcterms:modified>
  <cp:revision>14</cp:revision>
  <dc:subject/>
  <dc:title>Основы экологии</dc:title>
</cp:coreProperties>
</file>