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F68D-A455-4F2B-A21C-A1B3049F1E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новы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мцева Т.В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т.преподаватель кафедры ЕМ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ОУ ЯО И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E734-92BE-4B96-A915-EECA51D0EA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 В водоем запустили карпов. Объясните, как это могло повлиять на численность обитающих в нём водорослей, карасей и щ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Какие виды топлива – природный газ, каменный уголь, атомная энергия способствуют созданию парникового эффекта? Ответ пояс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остройте график изменения заготовок шкурок зайца-беляка на севере европейской части России последовательно за 27 лет (объем заготовок в баллах): 2,1, 2, 3,3, 4,5,15, 30, 80, 100. 60. 55, 0, 1, 1. 2,8, 90, 100,100,130,10.2.1,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колько длится один цикл в динамике численности зайца? Какой прогноз для заготовок шкурок более будет точным? (выберите правильный 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) на 1 год впер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) на 5 лет впер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) на 10лет впе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Экологи установили интересный факт: как только в водоемах люди истребят выдр, рыбы в них становится больше, но потом численность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тно уменьшается. Если снова расплодятся выдры, то количество рыбы в них опять возрастет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Объясните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C321-DD71-47B6-9F5C-EC838D6F99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я (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jikos –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илище, дом;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logos –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ук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 –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ука, изучающая закономерности взаимоотношений организмов друг с другом и окружающе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ермин ввел немецкий биолог Э. Геккель в 186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Методы исследования в эк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в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математического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е фак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ио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Лимитирующий факт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граничивающий жизнедеятельность) – фактор, интенсивность которого приближается к пределу выносливости или превышает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й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оптим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сочетание условий среды, обеспечивающих усиленный рост, развитие и размножение каждого организма (популяции, ви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DF98-7A9E-4BA7-996E-BBD90C0DD8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Схема действия экологического фа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0E02-9A1F-465C-AB85-F8DAFF5E27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Задания к теме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«Зависимость организмов от факторов среды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Определите к каким факторам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(абиотическим, биотическим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антропогенным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можно отне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хищничество, вырубку лесов, влажность воздуха, температуру воздуха, паразитизм, свет, строительство зданий, давление воздуха, конкуренцию, выброс СО2 заводами, давление воздуха, соленость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смотрите график зависимости численности семиточечной божьей коровки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ы окружающ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ъясните, почему существу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е и находящиеся под угроз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чезновения организмы,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й вид способен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редельному росту чис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8AAF-A8BB-4D70-B451-50D49C9374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нфузорий –туфелек поместили в закрытую пробирку с предварительно прокипяченной и охлажденной водой, содержащей пищу для простейших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к  вы думаете, что произойдет с инфузориями дальше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естественных лесных сообществах успех размножения мелких птиц (птенцов) составляет около 40%; в лесах рядом с населенными пунктами – не более 10%;в парках этот показатель падает до 1%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овите возможные причины такой закономерности. Что необходимо предпринять для увеличения успеха размножения птиц в пар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е влияние антропогенного фактора на размножение птиц (беспокойство, разорение гнезд, вспугивание птиц с гнезд, обилие кошек и собак, действие ядохимика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спеха размножения птиц уменьшить влияние антропогенного фактора ( гулять только по дорожкам, выгул собак и кошек на поводке, создание зон покоя с запрещенным входом людей. Увеличить подкормку и количество искусственных гнездов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Уровень содержания кислорода в воде является одним из важнейших факторов в жизни рыб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овите дополнительные приспособления, которые имеют некоторые виды рыб, позволяющие им обитать в воде при недостатке кислород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кожу –вьюн; за счет плавательного пузыря; дыхание атмосферным воздухом; использование легочного пузыря – у двоякодышащих, сомов, вьюнов; развитие наджаберных камер (резерваторов воздуха) – у некоторых сом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7B78-3B87-41B2-931A-28AF911608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большом водоеме, образовавшемся после разлива реки, обнаруж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ие организмы: инфузории-туфельки, дафнии, белые планар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прудовик, циклопы, гидры. Объясните, можно ли этот водоё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ть экосистемой. Приведите не менее 3-х дока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ный временный водоем нельзя назвать экосистемой, так какв нё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тсутствуют продуц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тсутствуют редуц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тсутствует замкнутый круговорот веществ и нарушены цеп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экосистему смешанного леса считают более устойчивой,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у елового ле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смешанном лесу больше видов, чем в е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 смешанном лесу цепи питания более длинны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ённые, чем в е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 смешанном лесу ярусов больше, чем в ело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696B-C214-4CDB-B793-C7EE0EEC21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опуляция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особей одного вида, длительно существующих на определенной территории и относительно изолированных друг от д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е характеристики популя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поп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енное распределение  особей ( семьи, стада, колонии, кося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а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заимосвязи в популяц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утуал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мбиоз)- взаимовыгодное сожительство организмов разных в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йтр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вместное обитание особей , непосредственно не взаимодействующих между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менсал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жительство, при котором особь одного вида  использует особь другого вида только как жилищ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мменс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нахлебничество) – сожительство организмов разных видов, при котором один использует остатки пищи другого , не причиня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аразит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жительство организмов разных видов, при котором один организм питается за счет другого , нанося ему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Например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едложенного списка составьте пары организмов , которые могут находиться в мутуалистических отношениях (названия организмов использовать только один раз) 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чела, гриб, подберезовик, актиния, дуб, береза, рак-отшельник, осина, сойка, клевер, подосиновик, липа, клубеньковые бак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83F0-2711-4945-A67E-203EA73F6C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Компоненты биоцено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ц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уц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ртикальная структур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у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ая структура – распределение (мозаичность)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Цепи пит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бищ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ритная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13F2-FBD4-4F5B-BBDE-ABBB94A650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Задания для самоконтро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Cоставьте пищевую цепь, используя все названные ниже объекты: перегной, паук-крестовик, ястреб, большая синица, комнатная мух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пределите консумента третьего порядка в составленной цеп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ля борьбы с насекомыми-вредителями человек применяет химические веществ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ля борьбы с насекомыми-вредителями человек применяет химические веществ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чему численность промысловых растительноядных рыб может резко сократиться при уничтожении в водоеме хищных рыб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чему сов в экосистеме леса относят к консументам второго порядка, а мышей к консументам первого поряд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очему на лесных тропинках растения отсутствуют или сильно разреже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Что служит основой формирования разнообразных сетей питания в экосистемах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Объясните, почему происходит естественное зарастание пресноводного водо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Объясните, како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 растениям наносят кислотные дож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7E86-E05E-40D7-8DE3-AB3ADB2692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E061-F00F-430B-A370-1E1500B3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E8010-29BF-45B4-85F4-EF637686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8AE0C-332D-4720-B536-4259881A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A4D5C-B639-42A6-8C9C-E9E42822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6527-E5F9-4E2C-8FAD-C8F2188B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32D9-4D52-4130-A297-436457AF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DD77-C54B-4DCC-B6AE-C2C42988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31B3-6B1A-492C-85B3-1B1F4E91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0BAB-1F2A-401D-8F0E-BF152A69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0409-2990-4722-B7FC-F6D021F1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1EDD-D672-44A8-AA12-18183B18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A2E29-B33E-4C37-8B82-68650B94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D925-845B-4F71-9322-234D7737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FDD1-BD79-4E39-B942-2F9B0616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1F4E-A8F8-4B37-B44E-C3F4859C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7EA4-9D7C-48F6-84B2-E839F61A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CC61-1226-4022-81CB-B7BA5DDA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ECCA6-B7E2-4B28-949A-51B4AE70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4E5F1-D33F-4C08-8433-DFE97DB6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C5BA5-9788-421E-8017-662F551B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D3E71-ED53-4F3D-BE82-F4CAC48B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3B0DC-5471-4494-8052-623D7FD5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D337-D1A9-4030-B58C-07D1A2D8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2D329-0F91-4D92-86C2-47C3500F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3DE6-0B5B-4501-97A7-50662A7130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BD8F-A62D-4427-9446-C1985E5F82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Основы экологи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мцева Т.В.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.преподаватель кафедры ЕМ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У ЯО ИР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  В водоем запустили карпов. Объясните, как это могло повлиять на численность обитающих в нём водорослей, карасей и щу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 Какие виды топлива – природный газ, каменный уголь, атомная энергия способствуют созданию парникового эффекта? Ответ поясни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. Постройте график изменения заготовок шкурок зайца-беляка на севере европейской части России последовательно за 27 лет (объем заготовок в баллах): 2,1, 2, 3,3, 4,5,15, 30, 80, 100. 60. 55, 0, 1, 1. 2,8, 90, 100,100,130,10.2.1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колько длится один цикл в динамике численности зайца? Какой прогноз для заготовок шкурок более будет точным? (выберите правильный отв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) на 1 год впере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) на 5 лет впере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) на 10лет впер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3. Экологи установили интересный факт: как только в водоемах люди истребят выдр, рыбы в них становится больше, но потом численность 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тно уменьшается. Если снова расплодятся выдры, то количество рыбы в них опять возрастет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Объясните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я (</a:t>
            </a:r>
            <a:r>
              <a:rPr b="0" lang="en-US" sz="1700" spc="-1" strike="noStrike">
                <a:solidFill>
                  <a:srgbClr val="666699"/>
                </a:solidFill>
                <a:latin typeface="Arial"/>
              </a:rPr>
              <a:t>jikos –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жилище, дом; </a:t>
            </a:r>
            <a:r>
              <a:rPr b="0" lang="en-US" sz="1700" spc="-1" strike="noStrike">
                <a:solidFill>
                  <a:srgbClr val="666699"/>
                </a:solidFill>
                <a:latin typeface="Arial"/>
              </a:rPr>
              <a:t>logos –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наука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) – 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наука, изучающая закономерности взаимоотношений организмов друг с другом и окружающей сред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Термин ввел немецкий биолог Э. Геккель в 1866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Методы исследования в экологии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левые мето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кспериментальны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етоды математического моделир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ческие факторы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биотически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тически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тропогенны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Лимитирующий фактор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ограничивающий жизнедеятельность) – фактор, интенсивность которого приближается к пределу выносливости или превышает ег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чески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логический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)оптимум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–сочетание условий среды, обеспечивающих усиленный рост, развитие и размножение каждого организма (популяции, вид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Схема действия экологического фа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Безымянный"/>
          <p:cNvPicPr/>
          <p:nvPr/>
        </p:nvPicPr>
        <p:blipFill>
          <a:blip r:embed="rId1"/>
          <a:srcRect l="0" t="0" r="0" b="14754"/>
          <a:stretch/>
        </p:blipFill>
        <p:spPr>
          <a:xfrm>
            <a:off x="1547640" y="1341360"/>
            <a:ext cx="6840720" cy="37274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Задания к теме</a:t>
            </a:r>
            <a:br>
              <a:rPr sz="2400"/>
            </a:b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«Зависимость организмов от факторов среды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Определите к каким факторам сре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(абиотическим, биотическим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антропогенным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можно отне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хищничество, вырубку лесов, влажность воздуха, температуру воздуха, паразитизм, свет, строительство зданий, давление воздуха, конкуренцию, выброс СО2 заводами, давление воздуха, соленость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Рассмотрите график зависимости численности семиточечной божьей коровки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ературы окружающей ср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Объясните, почему существу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дкие и находящиеся под угроз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чезновения организмы, е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ой вид способен 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предельному росту числ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140360" y="3284640"/>
            <a:ext cx="4770360" cy="27734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7854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нфузорий –туфелек поместили в закрытую пробирку с предварительно прокипяченной и охлажденной водой, содержащей пищу для простейших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ак  вы думаете, что произойдет с инфузориями дальше?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В естественных лесных сообществах успех размножения мелких птиц (птенцов) составляет около 40%; в лесах рядом с населенными пунктами – не более 10%;в парках этот показатель падает до 1%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овите возможные причины такой закономерности. Что необходимо предпринять для увеличения успеха размножения птиц в парка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ицательное влияние антропогенного фактора на размножение птиц (беспокойство, разорение гнезд, вспугивание птиц с гнезд, обилие кошек и собак, действие ядохимикат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успеха размножения птиц уменьшить влияние антропогенного фактора ( гулять только по дорожкам, выгул собак и кошек на поводке, создание зон покоя с запрещенным входом людей. Увеличить подкормку и количество искусственных гнездов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Уровень содержания кислорода в воде является одним из важнейших факторов в жизни рыб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овите дополнительные приспособления, которые имеют некоторые виды рыб, позволяющие им обитать в воде при недостатке кислород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ез кожу –вьюн; за счет плавательного пузыря; дыхание атмосферным воздухом; использование легочного пузыря – у двоякодышащих, сомов, вьюнов; развитие наджаберных камер (резерваторов воздуха) – у некоторых сом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большом водоеме, образовавшемся после разлива реки, обнаруж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дующие организмы: инфузории-туфельки, дафнии, белые планар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ьшой прудовик, циклопы, гидры. Объясните, можно ли этот водоё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читать экосистемой. Приведите не менее 3-х доказатель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ный временный водоем нельзя назвать экосистемой, так какв нё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отсутствуют продуцен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отсутствуют редуцен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отсутствует замкнутый круговорот веществ и нарушены це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му экосистему смешанного леса считают более устойчивой, ч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систему елового лес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в смешанном лесу больше видов, чем в елов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в смешанном лесу цепи питания более длинны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етвлённые, чем в елов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в смешанном лесу ярусов больше, чем в ело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Популяция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окупность особей одного вида, длительно существующих на определенной территории и относительно изолированных друг от дру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Экологические характеристики популя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тность популя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енное распределение  особей ( семьи, стада, колонии, кося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ждае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ова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астна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Взаимосвязи в популя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утуализ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имбиоз)- взаимовыгодное сожительство организмов разных ви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йтрал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вместное обитание особей , непосредственно не взаимодействующих между со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менсализ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сожительство, при котором особь одного вида  использует особь другого вида только как жилищ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менсал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нахлебничество) – сожительство организмов разных видов, при котором один использует остатки пищи другого , не причиняя в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разит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жительство организмов разных видов, при котором один организм питается за счет другого , нанося ему в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Например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предложенного списка составьте пары организмов , которые могут находиться в мутуалистических отношениях (названия организмов использовать только один раз) 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чела, гриб, подберезовик, актиния, дуб, береза, рак-отшельник, осина, сойка, клевер, подосиновик, липа, клубеньковые бакте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-96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Компоненты биоценоз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иматические фак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уц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су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дуц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ертикальная структура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рус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изонтальная структура – распределение (мозаичность) организ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Цепи пит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сбищ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ритная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24000" y="3284640"/>
            <a:ext cx="93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348000" y="3284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ф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572000" y="3284640"/>
            <a:ext cx="1152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льки ры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084720" y="3284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у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7236000" y="3284640"/>
            <a:ext cx="1368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нил.бак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313200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435600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5867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702000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55600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051280" y="335772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орос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2197080" y="4076640"/>
            <a:ext cx="936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0"/>
          <p:cNvSpPr/>
          <p:nvPr/>
        </p:nvSpPr>
        <p:spPr>
          <a:xfrm>
            <a:off x="3276720" y="407664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5076720" y="4076640"/>
            <a:ext cx="1295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6588000" y="4076640"/>
            <a:ext cx="136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>
            <a:off x="3132000" y="42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478800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637236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248436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9"/>
          <p:cNvSpPr/>
          <p:nvPr/>
        </p:nvSpPr>
        <p:spPr>
          <a:xfrm>
            <a:off x="2340360" y="40766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3276720" y="40766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озные мух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712560" y="407520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Задания для само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Cоставьте пищевую цепь, используя все названные ниже объекты: перегной, паук-крестовик, ястреб, большая синица, комнатная мух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ределите консумента третьего порядка в составленной цеп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Для борьбы с насекомыми-вредителями человек применяет химические веществ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Для борьбы с насекомыми-вредителями человек применяет химические веществ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чему численность промысловых растительноядных рыб может резко сократиться при уничтожении в водоеме хищных рыб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Почему сов в экосистеме леса относят к консументам второго порядка, а мышей к консументам первого порядк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Почему на лесных тропинках растения отсутствуют или сильно разрежены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Что служит основой формирования разнообразных сетей питания в экосистемах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Объясните, почему происходит естественное зарастание пресноводного водо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 Объясните, как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 растениям наносят кислотные дож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2:57:25Z</dcterms:created>
  <dc:creator>nemceva</dc:creator>
  <dc:description/>
  <dc:language>en-US</dc:language>
  <cp:lastModifiedBy>LEGION</cp:lastModifiedBy>
  <dcterms:modified xsi:type="dcterms:W3CDTF">2015-05-06T08:31:15Z</dcterms:modified>
  <cp:revision>14</cp:revision>
  <dc:subject/>
  <dc:title>Основы экологии</dc:title>
</cp:coreProperties>
</file>