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BC70-9F66-4373-A13E-47C96D142A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мцева Т.В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т.преподаватель кафедры ЕМ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ОУ ЯО 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D523-C0ED-4685-BACC-E529E22743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) на 1 год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) на 5 лет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) на 10лет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Объясните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BFB-7FBE-4C08-89A9-82B5E1317B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я (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jik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лище, дом;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log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 –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ермин ввел немецкий биолог Э. Геккель в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Методы исследования в эк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в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математического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Лимитирующий фак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оптим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E24A-74CE-414B-A56B-2D496432C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хема действия экологического фа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2CF9-7E1C-43FB-A749-741A2EF62B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дания к теме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«Зависимость организмов от факторов сред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Определите к каким факторам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(абиотическим, биотическим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антропогенным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можно отне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ите график зависимости численности семиточечной божьей коровки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ясните, почему существ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е и находящиеся под угр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овения организмы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вид способен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редельному росту чис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F28F-882B-4A3F-8C3E-DC619F5D7E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 вы думаете, что произойдет с инфузориями да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90A8-4810-467C-BEF7-1F2594B1A8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большом водоеме, образовавшемся после разлива реки, обнару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организмы: инфузории-туфельки, дафнии, белые плана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прудовик, циклопы, гидры. Объясните, можно ли этот водоё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ть экосистемой. Приведите не менее 3-х дока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ный временный водоем нельзя назвать экосистемой, так какв нё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тсутствуют про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уют ре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сутствует замкнутый круговорот веществ и нарушены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экосистему смешанного леса считают более устойчивой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у елового л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смешанном лесу больше видов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смешанном лесу цепи питания более длин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ённые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смешанном лесу ярусов больше, чем в ело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D6C6-F395-4D7E-A368-EAFB4697B6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пуля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характеристики популя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нное распределение  особей ( семьи, стада, колонии, кося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заимосвязи в популяц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ту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мбиоз)- взаимовыгодное сожительство организмов разных в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йтр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местное обитание особей , непосредственно не взаимодействующих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менс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мменс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аразит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Наприме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F0D3-5A19-4537-B05E-C6729541AF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омпоненты биоцено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тикальная структур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у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структура – распределение (мозаичность)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Цепи 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бищ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ритна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4636-12A9-4EF1-B4C8-D365A84DA2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Задания для само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 консумента третьего порядка в составленной цеп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очему на лесных тропинках растения отсутствуют или сильно разреже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то служит основой формирования разнообразных сетей питания в экосистема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бъясните, почему происходит естественное зарастание пресноводного водо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Объясните, как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растениям наносят кислотные дож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D9C7-3C2A-4A89-B3DB-71BC574D17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6649-FC28-493C-92EA-80DB0502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B732-9AFD-4303-9E26-449B06DA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5AB9-B798-49A6-8846-DC6AA82A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F107-22FE-4E93-941C-CEA24680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82A2-0D42-44BB-B9D4-0CEC9522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CA1A-2B9C-4D7B-BCA1-BB4467F4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2928-2C35-437A-AB15-EBF8285A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B510-1660-464A-A3A0-0ACE07C8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7AF0-5348-497B-8282-6FDD9836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0AC2-B352-4B74-9B5E-C1A02D4F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A8D9-4EC1-4557-A8FE-770F9204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8238-5EEF-4A36-863B-9A2D3F0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2D8C-7B1C-4684-89CD-DAA20C86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92A-F212-4BBE-973D-6A010F1B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C867-F117-47AA-B5B0-D4BD62EE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DC59-B9A6-4C25-8B1A-A266714B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FD15-D0DB-4422-B6D6-C6C3A098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BC12-CADA-4EC5-80F5-F655DD0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03EE-C1D4-4667-BF6F-C2C0E294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98F0-D275-4C8A-83A9-7766C2DC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A27B-4142-4138-BB10-6929A64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B3ED-7B3C-46BB-9DD1-BB81FC1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8055-627E-4C73-9DF7-73E9BEC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A7DC-421A-4E53-9729-3AE2E16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B154-1744-415D-BF67-5950C516AC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9317-B2A4-4142-A238-DBD721FE53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Основы эколог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цева Т.В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.преподаватель кафедры ЕМ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У ЯО И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) на 1 год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) на 5 лет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) на 10лет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бъясните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я (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jik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жилище, дом; 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log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Термин ввел немецкий биолог Э. Геккель в 1866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Методы исследования в экологи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евые мет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ксперименталь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тоды математического модел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е фактор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Лимитирующий фактор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оптиму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Схема действия экологического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Безымянный"/>
          <p:cNvPicPr/>
          <p:nvPr/>
        </p:nvPicPr>
        <p:blipFill>
          <a:blip r:embed="rId1"/>
          <a:srcRect l="0" t="0" r="0" b="14754"/>
          <a:stretch/>
        </p:blipFill>
        <p:spPr>
          <a:xfrm>
            <a:off x="1547640" y="1341360"/>
            <a:ext cx="6840720" cy="37274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Задания к теме</a:t>
            </a:r>
            <a:br>
              <a:rPr sz="2400"/>
            </a:b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«Зависимость организмов от факторов среды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Определите к каким факторам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(абиотическим, биотически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антропогенным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можно отне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ассмотрите график зависимости численности семиточечной божьей коровк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окружающе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бъясните, почему существ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ие и находящиеся под угроз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чезновения организмы, е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вид способен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редельному росту чис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770360" cy="2773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  вы думаете, что произойдет с инфузориями дальше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большом водоеме, образовавшемся после разлива реки, обнаруж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ющие организмы: инфузории-туфельки, дафнии, белые плана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ой прудовик, циклопы, гидры. Объясните, можно ли этот водоё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ть экосистемой. Приведите не менее 3-х 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ный временный водоем нельзя назвать экосистемой, так какв нё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отсутствуют про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отсутствуют ре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тсутствует замкнутый круговорот веществ и нарушены ц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экосистему смешанного леса считают более устойчивой,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систему елового ле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смешанном лесу больше видов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в смешанном лесу цепи питания более длин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етвлённые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 смешанном лесу ярусов больше, чем в ело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Популяция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Экологические характеристики популя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тность попу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енное распределение  особей ( семьи, стада, колонии, кося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в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Взаимосвязи в популя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ту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имбиоз)- взаимовыгодное сожительство организмов разных в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йтр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вместное обитание особей , непосредственно не взаимодействующих между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менс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Например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Компоненты биоцено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ические 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ртикальная структура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у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изонтальная структура – распределение (мозаичность)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Цепи 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бищ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ритна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24000" y="3284640"/>
            <a:ext cx="93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34800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ф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0" y="3284640"/>
            <a:ext cx="1152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ки ры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8472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236000" y="3284640"/>
            <a:ext cx="136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нил.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132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356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867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020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55600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051280" y="33577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ро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2197080" y="4076640"/>
            <a:ext cx="93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3276720" y="407664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076720" y="4076640"/>
            <a:ext cx="129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6588000" y="4076640"/>
            <a:ext cx="136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313200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78800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372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484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2340360" y="407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3276720" y="4076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ные мух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712560" y="407520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дания для само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ите консумента третьего порядка в составленной цеп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Почему на лесных тропинках растения отсутствуют или сильно разреже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Что служит основой формирования разнообразных сетей питания в экосистемах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бъясните, почему происходит естественное зарастание пресноводного водо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Объясните, ка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 растениям наносят кислотные дож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7:25Z</dcterms:created>
  <dc:creator>nemceva</dc:creator>
  <dc:description/>
  <dc:language>en-US</dc:language>
  <cp:lastModifiedBy>LEGION</cp:lastModifiedBy>
  <dcterms:modified xsi:type="dcterms:W3CDTF">2015-05-06T08:31:15Z</dcterms:modified>
  <cp:revision>14</cp:revision>
  <dc:subject/>
  <dc:title>Основы экологии</dc:title>
</cp:coreProperties>
</file>