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1EC3-65F0-4012-8A1B-A46BA2D4F0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ы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Немцева Т.В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т.преподаватель кафедры ЕМ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ОУ ЯО И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3EF6-2AD5-4F9A-A768-3022061466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) на 1 год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) на 5 лет впере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) на 10лет впе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Объясните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27B5-51D1-4F2A-93BE-159B26AA6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я (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jik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лище, дом;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logos –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 –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ермин ввел немецкий биолог Э. Геккель в 186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Методы исследования в эколог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вые мет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математического модел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фактор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генны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Лимитирующий фак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й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)оптиму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C1EE-B07C-4811-B921-E3F104B846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Схема действия экологического фа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2CDD-AD98-4B20-A383-13EFBAF485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Задания к теме</a:t>
            </a:r>
            <a:br>
              <a:rPr sz="1800"/>
            </a:b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«Зависимость организмов от факторов среды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Определите к каким факторам сре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(абиотическим, биотическим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антропогенным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можно отне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смотрите график зависимости численности семиточечной божьей коровки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ъясните, почему существ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кие и находящиеся под угр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чезновения организмы, е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й вид способен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редельному росту чис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D61A-9BC1-4B88-926D-0E420BA2A3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к  вы думаете, что произойдет с инфузориями да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A4BB-2A17-4316-B843-083876108D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большом водоеме, образовавшемся после разлива реки, обнару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организмы: инфузории-туфельки, дафнии, белые плана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прудовик, циклопы, гидры. Объясните, можно ли этот водоё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ть экосистемой. Приведите не менее 3-х доказа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ванный временный водоем нельзя назвать экосистемой, так какв нё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тсутствуют про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тсутствуют редуц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отсутствует замкнутый круговорот веществ и нарушены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экосистему смешанного леса считают более устойчивой, ч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у елового л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в смешанном лесу больше видов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в смешанном лесу цепи питания более длин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твлённые, чем в ело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 смешанном лесу ярусов больше, чем в ело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67FE-D154-44CD-BB94-D51FA409BE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опуляция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Экологические характеристики популя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ость попу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нное распределение  особей ( семьи, стада, колонии, кося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ждае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ая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заимосвязи в популяц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уту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мбиоз)- взаимовыгодное сожительство организмов разных ви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йтр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вместное обитание особей , непосредственно не взаимодействующих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менсал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мменсал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аразит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f81bd"/>
                </a:solidFill>
                <a:latin typeface="Calibri"/>
              </a:rPr>
              <a:t>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4E8B-DF33-4E3D-8B83-77F7FA84B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омпоненты биоцено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атические 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уц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ертикальная структура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у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изонтальная структура – распределение (мозаичность)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Цепи пит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бищ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ритна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0113-060D-4535-949B-B983CE3E88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Задания для самоконтро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ределите консумента третьего порядка в составленной цеп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очему на лесных тропинках растения отсутствуют или сильно разреже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то служит основой формирования разнообразных сетей питания в экосистемах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Объясните, почему происходит естественное зарастание пресноводного водо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Объясните, како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растениям наносят кислотные дож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FA4C-DC8F-4444-969B-BCF24D34E9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FCA65-F9A2-42EA-88D5-0FAFCCFC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D091-D1AD-4528-8744-7C80CC5A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CC090-3BD2-434C-9162-D1E7711E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C3278-DA52-4B70-8CE7-54AAEC5C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D377-E3E3-488B-AC94-755F0D46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3DE8-697A-4B55-9B8F-97B384CC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C4B0-4C26-4C82-BD14-915D45F4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C56B-47E2-48B5-B776-1AEC7375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4F7F-A36C-4143-92A0-97BD30CE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2BAA-3564-44E3-806B-91CFE15F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CBF-78D9-4A73-B097-F65DB826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5BF18-4965-4ABC-8901-A89B714A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3278-2FD8-4356-9B15-0802949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893E-242E-41AE-959C-F4A1BD52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59E2-15D5-499D-A8FA-D242E2E1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CCCE-7D4E-4FFE-8508-C2990796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F5BF-A639-4770-ADF3-FC69D962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E62C0-CDC3-488F-BDD8-53907D930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56C55-864E-4A88-9E62-C3704166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178C3-AE04-4062-8986-45965EE7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C026-450E-48BE-A5E3-3F554DA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5A84-088D-4D48-B9A8-3A911E43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D67F-5109-4722-BC38-53A024F2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A32C-970E-4D7A-A89D-5FFC9F2C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6870-D12D-462B-B751-62B620F493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AB10-815A-4CE7-9CEE-9D59DA42EB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Основы эколог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мцева Т.В.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.преподаватель кафедры ЕМ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ОУ ЯО ИР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 В водоем запустили карпов. Объясните, как это могло повлиять на численность обитающих в нём водорослей, карасей и щу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Какие виды топлива – природный газ, каменный уголь, атомная энергия способствуют созданию парникового эффекта? Ответ пояснит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Постройте график изменения заготовок шкурок зайца-беляка на севере европейской части России последовательно за 27 лет (объем заготовок в баллах): 2,1, 2, 3,3, 4,5,15, 30, 80, 100. 60. 55, 0, 1, 1. 2,8, 90, 100,100,130,10.2.1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колько длится один цикл в динамике численности зайца? Какой прогноз для заготовок шкурок более будет точным? (выберите правильный отв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) на 1 год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) на 5 лет вперед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) на 10лет впер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3. Экологи установили интересный факт: как только в водоемах люди истребят выдр, рыбы в них становится больше, но потом численность 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тно уменьшается. Если снова расплодятся выдры, то количество рыбы в них опять возрастет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Объясните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Arial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я (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jik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жилище, дом; </a:t>
            </a:r>
            <a:r>
              <a:rPr b="0" lang="en-US" sz="1700" spc="-1" strike="noStrike">
                <a:solidFill>
                  <a:srgbClr val="666699"/>
                </a:solidFill>
                <a:latin typeface="Arial"/>
              </a:rPr>
              <a:t>logos –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 – </a:t>
            </a: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наука, изучающая закономерности взаимоотношений организмов друг с другом и окружающей сред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6699"/>
                </a:solidFill>
                <a:latin typeface="Arial"/>
              </a:rPr>
              <a:t>Термин ввел немецкий биолог Э. Геккель в 1866г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Методы исследования в эколог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левые мет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кспериментальны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тоды математического модел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е факторы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тически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нтропогенные факто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Лимитирующий факто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ограничивающий жизнедеятельность) – фактор, интенсивность которого приближается к пределу выносливости или превышает е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Экологический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(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логический</a:t>
            </a:r>
            <a:r>
              <a:rPr b="0" lang="ru-RU" sz="1700" spc="-1" strike="noStrike">
                <a:solidFill>
                  <a:srgbClr val="9999ff"/>
                </a:solidFill>
                <a:latin typeface="Arial"/>
              </a:rPr>
              <a:t>)оптимум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–сочетание условий среды, обеспечивающих усиленный рост, развитие и размножение каждого организма (популяции, вид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7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ff"/>
                </a:solidFill>
                <a:latin typeface="Arial"/>
              </a:rPr>
              <a:t>Схема действия экологического фа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Безымянный"/>
          <p:cNvPicPr/>
          <p:nvPr/>
        </p:nvPicPr>
        <p:blipFill>
          <a:blip r:embed="rId1"/>
          <a:srcRect l="0" t="0" r="0" b="14754"/>
          <a:stretch/>
        </p:blipFill>
        <p:spPr>
          <a:xfrm>
            <a:off x="1547640" y="1341360"/>
            <a:ext cx="6840720" cy="372744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Задания к теме</a:t>
            </a:r>
            <a:br>
              <a:rPr sz="2400"/>
            </a:br>
            <a:r>
              <a:rPr b="0" lang="ru-RU" sz="2400" spc="-1" strike="noStrike">
                <a:solidFill>
                  <a:srgbClr val="666699"/>
                </a:solidFill>
                <a:latin typeface="Arial"/>
              </a:rPr>
              <a:t>«Зависимость организмов от факторов среды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Определите к каким факторам сред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(абиотическим, биотическим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    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антропогенным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можно отнес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хищничество, вырубку лесов, влажность воздуха, температуру воздуха, паразитизм, свет, строительство зданий, давление воздуха, конкуренцию, выброс СО2 заводами, давление воздуха, соленость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Рассмотрите график зависимости численности семиточечной божьей коровки 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мпературы окружающей сре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Объясните, почему существую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кие и находящиеся под угроз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чезновения организмы, е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вид способен 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редельному росту числ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770360" cy="27734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7854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нфузорий –туфелек поместили в закрытую пробирку с предварительно прокипяченной и охлажденной водой, содержащей пищу для простейших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ак  вы думаете, что произойдет с инфузориями дальше? Почему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 естественных лесных сообществах успех размножения мелких птиц (птенцов) составляет около 40%; в лесах рядом с населенными пунктами – не более 10%;в парках этот показатель падает до 1%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возможные причины такой закономерности. Что необходимо предпринять для увеличения успеха размножения птиц в парк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рицательное влияние антропогенного фактора на размножение птиц (беспокойство, разорение гнезд, вспугивание птиц с гнезд, обилие кошек и собак, действие ядохимика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пеха размножения птиц уменьшить влияние антропогенного фактора ( гулять только по дорожкам, выгул собак и кошек на поводке, создание зон покоя с запрещенным входом людей. Увеличить подкормку и количество искусственных гнездов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Уровень содержания кислорода в воде является одним из важнейших факторов в жизни рыб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зовите дополнительные приспособления, которые имеют некоторые виды рыб, позволяющие им обитать в воде при недостатке кислород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ез кожу –вьюн; за счет плавательного пузыря; дыхание атмосферным воздухом; использование легочного пузыря – у двоякодышащих, сомов, вьюнов; развитие наджаберных камер (резерваторов воздуха) – у некоторых сом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большом водоеме, образовавшемся после разлива реки, обнаруж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ующие организмы: инфузории-туфельки, дафнии, белые планар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ьшой прудовик, циклопы, гидры. Объясните, можно ли этот водоё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читать экосистемой. Приведите не менее 3-х доказательст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ный временный водоем нельзя назвать экосистемой, так какв нё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отсутствуют про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отсутствуют редуцен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отсутствует замкнутый круговорот веществ и нарушены цеп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ему экосистему смешанного леса считают более устойчивой, ч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систему елового лес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Отв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в смешанном лесу больше видов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в смешанном лесу цепи питания более длин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твлённые, чем в елов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в смешанном лесу ярусов больше, чем в ело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Популяция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окупность особей одного вида, длительно существующих на определенной территории и относительно изолированных друг от др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Экологические характеристики популя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исл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отность популя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енное распределение  особей ( семьи, стада, колонии, косяк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ждаем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ов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растна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Взаимосвязи в популя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уту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имбиоз)- взаимовыгодное сожительство организмов разных ви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йтр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вместное обитание особей , непосредственно не взаимодействующих между со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менсализ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это сожительство, при котором особь одного вида  использует особь другого вида только как ж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менсал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нахлебничество) – сожительство организмов разных видов, при котором один использует остатки пищи другого , не причиняя вр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разити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ожительство организмов разных видов, при котором один организм питается за счет другого , нанося ему вр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99ff"/>
                </a:solidFill>
                <a:latin typeface="Arial"/>
              </a:rPr>
              <a:t>Например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 предложенного списка составьте пары организмов , которые могут находиться в мутуалистических отношениях (названия организмов использовать только один раз) :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чела, гриб, подберезовик, актиния, дуб, береза, рак-отшельник, осина, сойка, клевер, подосиновик, липа, клубеньковые бакт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-96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Компоненты биоцено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иматические фак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сум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дуце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ертикальная структура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рус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изонтальная структура – распределение (мозаичность) организ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99ff"/>
                </a:solidFill>
                <a:latin typeface="Arial"/>
              </a:rPr>
              <a:t>Цепи пит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сбищ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ритная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24000" y="3284640"/>
            <a:ext cx="936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34800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ф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572000" y="3284640"/>
            <a:ext cx="115236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льки ры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84720" y="3284640"/>
            <a:ext cx="914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7236000" y="3284640"/>
            <a:ext cx="1368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нил.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>
            <a:off x="3132000" y="35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>
            <a:off x="4356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586728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7020000" y="35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255600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2051280" y="3357720"/>
            <a:ext cx="106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доро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2197080" y="4076640"/>
            <a:ext cx="936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3276720" y="407664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5076720" y="4076640"/>
            <a:ext cx="1295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6588000" y="4076640"/>
            <a:ext cx="1368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>
            <a:off x="3132000" y="42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478800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6372360" y="422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484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340360" y="40766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276720" y="407664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возные мух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6712560" y="407520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кте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Arial"/>
              </a:rPr>
              <a:t>Задания для самоконтр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Cоставьте пищевую цепь, используя все названные ниже объекты: перегной, паук-крестовик, ястреб, большая синица, комнатная мух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пределите консумента третьего порядка в составленной цеп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Для борьбы с насекомыми-вредителями человек применяет химические вещества.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ъясните, как может измениться жизнь дубравы в случае, если в ней химическим способом будут  уничтожены все растительноядные насекомы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чему численность промысловых растительноядных рыб может резко сократиться при уничтожении в водоеме хищных рыб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очему сов в экосистеме леса относят к консументам второго порядка, а мышей к консументам первого порядк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чему на лесных тропинках растения отсутствуют или сильно разрежены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то служит основой формирования разнообразных сетей питания в экосистемах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бъясните, почему происходит естественное зарастание пресноводного водо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Объясните, како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д растениям наносят кислотные дожд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2:57:25Z</dcterms:created>
  <dc:creator>nemceva</dc:creator>
  <dc:description/>
  <dc:language>en-US</dc:language>
  <cp:lastModifiedBy>LEGION</cp:lastModifiedBy>
  <dcterms:modified xsi:type="dcterms:W3CDTF">2015-05-06T08:31:15Z</dcterms:modified>
  <cp:revision>14</cp:revision>
  <dc:subject/>
  <dc:title>Основы экологии</dc:title>
</cp:coreProperties>
</file>