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3489-3CEF-483D-9A7B-FBF8FC8473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dfd03"/>
                </a:solidFill>
                <a:latin typeface="Calibri"/>
              </a:rPr>
              <a:t>Основ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Тема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кологию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общества. Эко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4EC5-3322-459F-ACAD-45FCC5F934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тические фактор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79DE-A2AA-466C-AFAD-CA33EB2B4F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геоценоз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систе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9BD6-EA30-49FE-AA7A-98756F45F2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dfd03"/>
                </a:solidFill>
                <a:latin typeface="Calibri"/>
              </a:rPr>
              <a:t>Основные функции биогеоцен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кумуляция и перераспределение энер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рот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1C5D-2DB0-4F5E-9A73-DF0C2C793B5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Свойства</a:t>
            </a: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воспризведени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способность организмов к размножению, воссоздание среды обитания, наличие пищи и запас энерг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стойчивость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способность удерживать равновесие при изменении условий сре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регуляц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F39B-68C9-43C6-B8EB-C38C22334A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мена 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Сукцесс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3FD8-827D-4989-AB75-D11654C5AB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торич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на месте сформированного биоценоза после его нарушения - пожар, эрозия, засух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043B-1C2F-4A77-9655-C2A12E9090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dfd03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84AB-9013-499C-ABED-120D6EBC8F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Темы доклад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рес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оч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ди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храняемые природные территории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традиционная энерге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иологические очистные сооружения(метантенки, аэротенки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сные экосистемы, их роль в биосфе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B16A-45F0-4D0C-BB28-0C490D0C91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логические факторы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C2FE-999F-45DC-85CC-96B7163F1A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логический оптимум – наилучшее сочетание условий существования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Закон толерантности В.Шелфорда(1913г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Лимитирующим фактором может быть как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ин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акс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66DD-B1AC-4232-AD6C-2C1918C18E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Распределение насекомых в термоградиен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946E-A23D-4F55-BF8A-48C06BCB6D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Зависимость результата действия экофактора от его интенс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1596-8671-4F6B-9C8A-4075F323764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Свет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6A0B-E0CB-4E7B-83FB-3FBC8E9AF5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Температура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ABDB-0265-4714-966B-736517FA81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Влажность.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изменяет эффект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BB14-EBD0-49EA-86AE-CE865EEDAD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6B5-6449-4D0D-ACF9-6EC443A6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36D-7864-4D2F-A7DC-84B3AE44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B3F-743A-4B9E-A1E2-A63B71EF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280-189A-4C8C-B521-4BAACFD4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B5E-7D0C-43E9-AB25-68CBB741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A7E-9405-40EF-ACFB-F1D02144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BB5-0C5F-4D67-BBA8-41E36B80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53E-7B2A-47EA-AA83-DA262185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6F5-EC1F-4AE9-982C-A6D2CD9B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AA8-BEC2-403A-A236-30EFDC30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C57-FD29-48CD-A31F-1731597F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B0D-972C-4299-8866-70B3E5D6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DD9D-E413-4100-AD0F-9575BEE289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d03"/>
                </a:solidFill>
                <a:latin typeface="Times New Roman"/>
              </a:rPr>
              <a:t>Основы эколог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ведение в экологию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кологические факторы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ообщества. Экосистемы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иотические фактор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4"/>
          <p:cNvSpPr/>
          <p:nvPr/>
        </p:nvSpPr>
        <p:spPr>
          <a:xfrm>
            <a:off x="304920" y="1031760"/>
            <a:ext cx="68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пы экологических взаимодействий по направлению действия на организ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5"/>
          <p:cNvSpPr/>
          <p:nvPr/>
        </p:nvSpPr>
        <p:spPr>
          <a:xfrm>
            <a:off x="228600" y="2590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+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мбиоз (мутуализм, протокооперация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6"/>
          <p:cNvSpPr/>
          <p:nvPr/>
        </p:nvSpPr>
        <p:spPr>
          <a:xfrm>
            <a:off x="228600" y="5029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- 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ищничество, паразит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7"/>
          <p:cNvSpPr/>
          <p:nvPr/>
        </p:nvSpPr>
        <p:spPr>
          <a:xfrm>
            <a:off x="228600" y="3429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0 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ком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8"/>
          <p:cNvSpPr/>
          <p:nvPr/>
        </p:nvSpPr>
        <p:spPr>
          <a:xfrm>
            <a:off x="228600" y="5791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- )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9"/>
          <p:cNvSpPr/>
          <p:nvPr/>
        </p:nvSpPr>
        <p:spPr>
          <a:xfrm>
            <a:off x="228600" y="42670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0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имбиоз"/>
          <p:cNvPicPr/>
          <p:nvPr/>
        </p:nvPicPr>
        <p:blipFill>
          <a:blip r:embed="rId1"/>
          <a:stretch/>
        </p:blipFill>
        <p:spPr>
          <a:xfrm>
            <a:off x="3581280" y="533520"/>
            <a:ext cx="5105520" cy="505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лишайник"/>
          <p:cNvPicPr/>
          <p:nvPr/>
        </p:nvPicPr>
        <p:blipFill>
          <a:blip r:embed="rId2"/>
          <a:stretch/>
        </p:blipFill>
        <p:spPr>
          <a:xfrm>
            <a:off x="228600" y="990720"/>
            <a:ext cx="2716200" cy="3962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паразитизм"/>
          <p:cNvPicPr/>
          <p:nvPr/>
        </p:nvPicPr>
        <p:blipFill>
          <a:blip r:embed="rId1"/>
          <a:stretch/>
        </p:blipFill>
        <p:spPr>
          <a:xfrm>
            <a:off x="228600" y="1138320"/>
            <a:ext cx="8458200" cy="4581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8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иогеоценоз = Биоценоз + Биот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систем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9880" y="38098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окупность растений, животных, микробов,живущих совместно в одних условиях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781680" y="3809880"/>
            <a:ext cx="20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транство с более или менее однородными условиями, заселенное биоценоз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ищев цепи"/>
          <p:cNvPicPr/>
          <p:nvPr/>
        </p:nvPicPr>
        <p:blipFill>
          <a:blip r:embed="rId1"/>
          <a:stretch/>
        </p:blipFill>
        <p:spPr>
          <a:xfrm>
            <a:off x="1523880" y="533520"/>
            <a:ext cx="6248520" cy="54291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ирамида"/>
          <p:cNvPicPr/>
          <p:nvPr/>
        </p:nvPicPr>
        <p:blipFill>
          <a:blip r:embed="rId1"/>
          <a:stretch/>
        </p:blipFill>
        <p:spPr>
          <a:xfrm>
            <a:off x="1371600" y="380880"/>
            <a:ext cx="6019920" cy="584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dfd03"/>
                </a:solidFill>
                <a:latin typeface="Times New Roman"/>
              </a:rPr>
              <a:t>Основные функции биогеоцен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кумуляция и перераспределение энерг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оворот вещест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280" y="2286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биогеоценоз характеризуетс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едующими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показателя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36160" y="335268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Видовое разнообраз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число видов растений и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" y="3886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Плотность популяц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количество особей на единицу площади или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8600" y="4724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ространственная 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пределение организмов по ярус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Биомасс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масса организмов сообщ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28600" y="6035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Биопродуктивнос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корость образования биома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9625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Свойства</a:t>
            </a:r>
            <a:r>
              <a:rPr b="0" lang="ru-RU" sz="4400" spc="-1" strike="noStrike">
                <a:solidFill>
                  <a:srgbClr val="fdfd0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воспризвед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способность организмов к размножению, воссоздание среды обитания, наличие пищи и запас энергии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тойчивос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сть удерживать равновесие при изменении условий среды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регуля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ена 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Сукцесс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57200" y="2057400"/>
            <a:ext cx="4419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субстратах, не затронутых почвообразованием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сукцессия"/>
          <p:cNvPicPr/>
          <p:nvPr/>
        </p:nvPicPr>
        <p:blipFill>
          <a:blip r:embed="rId1"/>
          <a:stretch/>
        </p:blipFill>
        <p:spPr>
          <a:xfrm>
            <a:off x="838080" y="3637080"/>
            <a:ext cx="6096240" cy="27637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укцессия озера"/>
          <p:cNvPicPr/>
          <p:nvPr/>
        </p:nvPicPr>
        <p:blipFill>
          <a:blip r:embed="rId1"/>
          <a:stretch/>
        </p:blipFill>
        <p:spPr>
          <a:xfrm>
            <a:off x="1600200" y="2209680"/>
            <a:ext cx="3814920" cy="4470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80880" y="228600"/>
            <a:ext cx="7010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месте сформированного биоценоза после его нарушения - пожар, эрозия, засуха и т.д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dfd03"/>
                </a:solidFill>
                <a:latin typeface="Times New Roman"/>
              </a:rPr>
              <a:t>Экология</a:t>
            </a: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28600" y="1654200"/>
            <a:ext cx="86104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ассическ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взаимодействие биосистем с окружающе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об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крывает единство и целостность биосферы как глобальной эко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ци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сматривает взаимосвязи в системе «общество-окружающая сред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о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геосистемы разного уровня и их антропогенные изме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я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среду обитания человека, экологические факторы здоров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ческий мониторин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истема наблюдения, оценки, анализа и прогноза состояния окружающей сре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Темы докла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ресных в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оч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диоксин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раняемые природные территории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традиционная энергет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ческие очистные сооружения(метантенки, аэротенки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сные экосистемы, их роль в биосфер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логические фактор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/>
          <p:cNvSpPr/>
          <p:nvPr/>
        </p:nvSpPr>
        <p:spPr>
          <a:xfrm rot="2010600">
            <a:off x="1599840" y="28191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 rot="25800">
            <a:off x="4038480" y="30481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 rot="18852000">
            <a:off x="6301440" y="2795760"/>
            <a:ext cx="198360" cy="609840"/>
          </a:xfrm>
          <a:prstGeom prst="downArrow">
            <a:avLst>
              <a:gd name="adj1" fmla="val 50000"/>
              <a:gd name="adj2" fmla="val 76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6320" y="3733920"/>
            <a:ext cx="25905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биотическ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температура, давление, радиационный фон, влажность, состав атмосферы, почв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71800" y="4114800"/>
            <a:ext cx="2895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иотичес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жизнедеятельности одних организмов на друг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997600" y="3276720"/>
            <a:ext cx="3146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деятельности человека на окружающую среду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2209680"/>
          <a:ext cx="4190760" cy="5176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логические факто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ологический оптимум – наилучшее сочетание условий существования организ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9360">
            <a:solidFill>
              <a:srgbClr val="fdfd0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Закон толерантности В.Шелфорда(1913г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Лимитирующим фактором может быть как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ин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ак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кс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Распределение насекомых в термоградиент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кология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49971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Зависимость результата действия экофактора от его интенс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29" descr="редел вынос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9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Свет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спектр1"/>
          <p:cNvPicPr/>
          <p:nvPr/>
        </p:nvPicPr>
        <p:blipFill>
          <a:blip r:embed="rId1"/>
          <a:stretch/>
        </p:blipFill>
        <p:spPr>
          <a:xfrm>
            <a:off x="1447920" y="1828800"/>
            <a:ext cx="6654600" cy="4938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мпература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19320" y="25304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зависимости от вида теплообмена различают два экологических типа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2280" y="3505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йкил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неустойчивым уровнем обмена веществ, непостоянной температурой тела. Интенсивность обмена веществ прямо пропорциональна внешней температуре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228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омой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более высоким и устойчивым уровнем обмена веществ, температура тела поддерживается на относительно постоянном уровн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лажность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изменяет эффект температу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304920" y="2438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водному режиму определяют экологические группы растений и животных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746280" y="3470400"/>
            <a:ext cx="192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атоф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г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4952880" y="34765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Живот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9:41:45Z</dcterms:created>
  <dc:creator>1</dc:creator>
  <dc:description/>
  <dc:language>en-US</dc:language>
  <cp:lastModifiedBy>LEGION</cp:lastModifiedBy>
  <dcterms:modified xsi:type="dcterms:W3CDTF">2015-05-06T08:32:12Z</dcterms:modified>
  <cp:revision>79</cp:revision>
  <dc:subject/>
  <dc:title>Основы экологии</dc:title>
</cp:coreProperties>
</file>