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57B48-D7B9-4A46-BEB2-DF3FC718C8CF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dfd03"/>
                </a:solidFill>
                <a:latin typeface="Calibri"/>
              </a:rPr>
              <a:t>Основы экологи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ff"/>
                </a:solidFill>
                <a:latin typeface="Calibri"/>
              </a:rPr>
              <a:t>Тема: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    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Введение в экологию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              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Экологические фактор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             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Сообщества. Экосистемы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83B07-80B5-408F-8C2D-99EFBFC67D11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Биотические факторы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FA41C-EC04-44CD-8591-46CFC1E3557E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Биогеоценоз = Биоценоз + Биотоп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dfd03"/>
                </a:solidFill>
                <a:latin typeface="Calibri"/>
              </a:rPr>
              <a:t>Экосистема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– любая совокупность взаимодействующих живых организмов и условий среды, функционирующая как единое целое за счет обмена веществом, энергией и информаци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EA71F-B733-420C-BFE4-DFB95A5739A5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dfd03"/>
                </a:solidFill>
                <a:latin typeface="Calibri"/>
              </a:rPr>
              <a:t>Основные функции биогеоцено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Аккумуляция и перераспределение энерг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Круговорот вещест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0330C-73A0-4CD5-93BE-56082A55C128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dfd03"/>
                </a:solidFill>
                <a:latin typeface="Calibri"/>
              </a:rPr>
              <a:t>Свойства</a:t>
            </a:r>
            <a:r>
              <a:rPr b="0" lang="ru-RU" sz="1200" spc="-1" strike="noStrike">
                <a:solidFill>
                  <a:srgbClr val="fdfd03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fdfd03"/>
                </a:solidFill>
                <a:latin typeface="Calibri"/>
              </a:rPr>
              <a:t>экосистем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Самовоспризведение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(способность организмов к размножению, воссоздание среды обитания, наличие пищи и запас энергии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Устойчивость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(способность удерживать равновесие при изменении условий среды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Саморегуляция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(популяции организмов взаимно ограничивают численность, массовое размножение вида в экосистеме регулируется прямыми и обратными связями пищевых цепей)    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51206-B860-4398-8C3A-D231471DDA45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Смена экосистем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dfd03"/>
                </a:solidFill>
                <a:latin typeface="Calibri"/>
              </a:rPr>
              <a:t>Сукцессия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- последовательная смена во времени одних биоценозов другими на определенном участк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C90BB-7B31-4845-820C-E041ACBA9E9F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Вторичная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(на месте сформированного биоценоза после его нарушения - пожар, эрозия, засуха и т.д.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3D284-C9D4-434A-B031-364CD132622F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dfd03"/>
                </a:solidFill>
                <a:latin typeface="Calibri"/>
              </a:rPr>
              <a:t>Экология</a:t>
            </a:r>
            <a:r>
              <a:rPr b="0" lang="ru-RU" sz="1200" spc="-1" strike="noStrike">
                <a:solidFill>
                  <a:srgbClr val="ecfe02"/>
                </a:solidFill>
                <a:latin typeface="Calibri"/>
              </a:rPr>
              <a:t> –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комплексная наука, изучающая законы существования живых систем в их взаимодействии с окружающей средой.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8844D-43EA-45FF-B469-6270501D5B38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dfd03"/>
                </a:solidFill>
                <a:latin typeface="Calibri"/>
              </a:rPr>
              <a:t>Темы докладов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Проблема загрязнения пресных вод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Проблема загрязнения поч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Проблема диоксин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Охраняемые природные территории Саратовской обла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Нетрадиционная энергетик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Редкие виды животных на территории Саратовской области (птицы, млекопитающие, рыбы, земноводные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Редкие виды растений на территории Саратовской области (сем-во орхидные, лилейные, сложноцветные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Биологические очистные сооружения(метантенки, аэротенки)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Лесные экосистемы, их роль в биосфере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6CE85-E1B8-4AB1-B731-5CC8F23C2364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dfd03"/>
                </a:solidFill>
                <a:latin typeface="Calibri"/>
              </a:rPr>
              <a:t>Экологические факторы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– отдельные элементы среды, взаимодействующие с организмом прямо или косвенно хотя бы на протяжении одной из стадий индивидуального развития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96769-EA4C-4D1A-A48D-033EAB7DE097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Биологический оптимум – наилучшее сочетание условий существования организм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dfd03"/>
                </a:solidFill>
                <a:latin typeface="Calibri"/>
              </a:rPr>
              <a:t>Закон толерантности В.Шелфорда(1913г.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«Лимитирующим фактором может быть как </a:t>
            </a:r>
            <a:r>
              <a:rPr b="0" lang="ru-RU" sz="1200" spc="-1" strike="noStrike" u="sng">
                <a:solidFill>
                  <a:srgbClr val="ffffff"/>
                </a:solidFill>
                <a:uFillTx/>
                <a:latin typeface="Calibri"/>
              </a:rPr>
              <a:t>минимум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, так и </a:t>
            </a:r>
            <a:r>
              <a:rPr b="0" lang="ru-RU" sz="1200" spc="-1" strike="noStrike" u="sng">
                <a:solidFill>
                  <a:srgbClr val="ffffff"/>
                </a:solidFill>
                <a:uFillTx/>
                <a:latin typeface="Calibri"/>
              </a:rPr>
              <a:t>максимум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экологического фактора, диапазон между которыми определяет величину выносливости организма к данному фактору»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BBB52-1551-4FF2-B44F-F3E1D8B1032F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dfd03"/>
                </a:solidFill>
                <a:latin typeface="Calibri"/>
              </a:rPr>
              <a:t>Распределение насекомых в термоградиентор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7D5AB-8FAB-4940-B412-4C88C9526E9B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cfe02"/>
                </a:solidFill>
                <a:latin typeface="Calibri"/>
              </a:rPr>
              <a:t>Зависимость результата действия экофактора от его интенсив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8AEBE-7736-482A-943F-A29FD7EA74FB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ff"/>
                </a:solidFill>
                <a:uFillTx/>
                <a:latin typeface="Calibri"/>
              </a:rPr>
              <a:t>Свет.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Каждое местообитание характеризуется определенным световым режимом, включающим интенсивность, количество и качество свет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44B60-5A03-45F1-AECF-74A982824005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Calibri"/>
              </a:rPr>
              <a:t>Температура.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Температурный фактор имеет важное значение в распределении живых организмов на Земле и заселении ими разных природных зон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B2ADE-DEDC-461A-96B6-64109CB3855A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ffff"/>
                </a:solidFill>
                <a:uFillTx/>
                <a:latin typeface="Calibri"/>
              </a:rPr>
              <a:t>Влажность.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Влажность среды является фактором, ограничивающим численность и распространение организм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Влажность изменяет эффект температур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7406A-681A-4968-811A-0C110117FF47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D4933-61A6-4909-A38F-ACF36AC06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232F3-64D9-4719-AEDD-210580AAC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C6F07-699E-4BA9-87DD-BB43AAD80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48281-8746-48F4-96BE-C89B95AF7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FB57C-457D-49B7-9C12-BF05D912E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8D28F-0206-4517-A6A9-0EE7AD7E7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1C100-1B9B-4FB4-B736-47DCF6DC4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D7626-767D-4DEC-AED1-708F31726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A92C1-C5AE-4312-9E93-C2841B605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D4540-5BC6-4FBD-8AC9-1641D9FCA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19C3B-7FB5-46B6-92EE-2EE6DC06B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277D1-E9D2-4360-A9E7-EB89153E3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7B779-AB38-45B4-B83E-A8E396FF7E3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676520" y="304920"/>
            <a:ext cx="44956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dfd03"/>
                </a:solidFill>
                <a:latin typeface="Times New Roman"/>
              </a:rPr>
              <a:t>Основы экологии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30592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Times New Roman"/>
              </a:rPr>
              <a:t>Тема: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Введение в экологию.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               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Экологические факторы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Сообщества. Экосистемы.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49528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Биотические факторы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144"/>
          <p:cNvSpPr/>
          <p:nvPr/>
        </p:nvSpPr>
        <p:spPr>
          <a:xfrm>
            <a:off x="304920" y="1031760"/>
            <a:ext cx="689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Типы экологических взаимодействий по направлению действия на организм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145"/>
          <p:cNvSpPr/>
          <p:nvPr/>
        </p:nvSpPr>
        <p:spPr>
          <a:xfrm>
            <a:off x="228600" y="259092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( +; + ) 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симбиоз (мутуализм, протокооперация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146"/>
          <p:cNvSpPr/>
          <p:nvPr/>
        </p:nvSpPr>
        <p:spPr>
          <a:xfrm>
            <a:off x="228600" y="5029200"/>
            <a:ext cx="518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( +; - )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хищничество, паразитиз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147"/>
          <p:cNvSpPr/>
          <p:nvPr/>
        </p:nvSpPr>
        <p:spPr>
          <a:xfrm>
            <a:off x="228600" y="342900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( +; 0 )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  комменсализ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148"/>
          <p:cNvSpPr/>
          <p:nvPr/>
        </p:nvSpPr>
        <p:spPr>
          <a:xfrm>
            <a:off x="228600" y="579132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( -; - )  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конкуренц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149"/>
          <p:cNvSpPr/>
          <p:nvPr/>
        </p:nvSpPr>
        <p:spPr>
          <a:xfrm>
            <a:off x="228600" y="4267080"/>
            <a:ext cx="312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( -; 0 ) 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аменсализ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4" descr="симбиоз"/>
          <p:cNvPicPr/>
          <p:nvPr/>
        </p:nvPicPr>
        <p:blipFill>
          <a:blip r:embed="rId1"/>
          <a:stretch/>
        </p:blipFill>
        <p:spPr>
          <a:xfrm>
            <a:off x="3581280" y="533520"/>
            <a:ext cx="5105520" cy="50529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лишайник"/>
          <p:cNvPicPr/>
          <p:nvPr/>
        </p:nvPicPr>
        <p:blipFill>
          <a:blip r:embed="rId2"/>
          <a:stretch/>
        </p:blipFill>
        <p:spPr>
          <a:xfrm>
            <a:off x="228600" y="990720"/>
            <a:ext cx="2716200" cy="3962160"/>
          </a:xfrm>
          <a:prstGeom prst="rect">
            <a:avLst/>
          </a:prstGeom>
          <a:ln w="0">
            <a:noFill/>
          </a:ln>
        </p:spPr>
      </p:pic>
      <p:sp>
        <p:nvSpPr>
          <p:cNvPr id="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4" descr="паразитизм"/>
          <p:cNvPicPr/>
          <p:nvPr/>
        </p:nvPicPr>
        <p:blipFill>
          <a:blip r:embed="rId1"/>
          <a:stretch/>
        </p:blipFill>
        <p:spPr>
          <a:xfrm>
            <a:off x="228600" y="1138320"/>
            <a:ext cx="8458200" cy="4581360"/>
          </a:xfrm>
          <a:prstGeom prst="rect">
            <a:avLst/>
          </a:prstGeom>
          <a:ln w="0">
            <a:noFill/>
          </a:ln>
        </p:spPr>
      </p:pic>
      <p:sp>
        <p:nvSpPr>
          <p:cNvPr id="10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8600" y="3048120"/>
            <a:ext cx="86104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Биогеоценоз = Биоценоз + Биотоп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4560" y="151920"/>
            <a:ext cx="784836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dfd03"/>
                </a:solidFill>
                <a:latin typeface="Times New Roman"/>
              </a:rPr>
              <a:t>Экосистема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– любая совокупность взаимодействующих живых организмов и условий среды, функционирующая как единое целое за счет обмена веществом, энергией и информацией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3809880" y="3809880"/>
            <a:ext cx="3048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овокупность растений, животных, микробов,живущих совместно в одних условиях сред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6781680" y="3809880"/>
            <a:ext cx="20574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остранство с более или менее однородными условиями, заселенное биоценозо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4" descr="ищев цепи"/>
          <p:cNvPicPr/>
          <p:nvPr/>
        </p:nvPicPr>
        <p:blipFill>
          <a:blip r:embed="rId1"/>
          <a:stretch/>
        </p:blipFill>
        <p:spPr>
          <a:xfrm>
            <a:off x="1523880" y="533520"/>
            <a:ext cx="6248520" cy="5429160"/>
          </a:xfrm>
          <a:prstGeom prst="rect">
            <a:avLst/>
          </a:prstGeom>
          <a:ln w="0">
            <a:noFill/>
          </a:ln>
        </p:spPr>
      </p:pic>
      <p:sp>
        <p:nvSpPr>
          <p:cNvPr id="1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ирамида"/>
          <p:cNvPicPr/>
          <p:nvPr/>
        </p:nvPicPr>
        <p:blipFill>
          <a:blip r:embed="rId1"/>
          <a:stretch/>
        </p:blipFill>
        <p:spPr>
          <a:xfrm>
            <a:off x="1371600" y="380880"/>
            <a:ext cx="6019920" cy="5846760"/>
          </a:xfrm>
          <a:prstGeom prst="rect">
            <a:avLst/>
          </a:prstGeom>
          <a:ln w="0">
            <a:noFill/>
          </a:ln>
        </p:spPr>
      </p:pic>
      <p:sp>
        <p:nvSpPr>
          <p:cNvPr id="1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dfd03"/>
                </a:solidFill>
                <a:latin typeface="Times New Roman"/>
              </a:rPr>
              <a:t>Основные функции биогеоценоз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560" y="1066320"/>
            <a:ext cx="838188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Аккумуляция и перераспределение энергии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руговорот веществ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152280" y="2286000"/>
            <a:ext cx="8534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аждый </a:t>
            </a:r>
            <a:r>
              <a:rPr b="0" lang="ru-RU" sz="2800" spc="-1" strike="noStrike">
                <a:solidFill>
                  <a:srgbClr val="fdfd03"/>
                </a:solidFill>
                <a:latin typeface="Times New Roman"/>
              </a:rPr>
              <a:t>биогеоценоз характеризуется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следующими </a:t>
            </a:r>
            <a:r>
              <a:rPr b="0" lang="ru-RU" sz="2800" spc="-1" strike="noStrike">
                <a:solidFill>
                  <a:srgbClr val="fdfd03"/>
                </a:solidFill>
                <a:latin typeface="Times New Roman"/>
              </a:rPr>
              <a:t>показателями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236160" y="3352680"/>
            <a:ext cx="834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1. Видовое разнообразие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- число видов растений и животных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6"/>
          <p:cNvSpPr/>
          <p:nvPr/>
        </p:nvSpPr>
        <p:spPr>
          <a:xfrm>
            <a:off x="228600" y="3886200"/>
            <a:ext cx="762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2. Плотность популяций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– количество особей на единицу площади или объем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7"/>
          <p:cNvSpPr/>
          <p:nvPr/>
        </p:nvSpPr>
        <p:spPr>
          <a:xfrm>
            <a:off x="228600" y="472428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3. Пространственная структура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– распределение организмов по ярусам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8"/>
          <p:cNvSpPr/>
          <p:nvPr/>
        </p:nvSpPr>
        <p:spPr>
          <a:xfrm>
            <a:off x="228600" y="548640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4. Биомасса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– масса организмов сообществ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9"/>
          <p:cNvSpPr/>
          <p:nvPr/>
        </p:nvSpPr>
        <p:spPr>
          <a:xfrm>
            <a:off x="228600" y="603576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5. Биопродуктивность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– скорость образования биомассы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828440" y="304920"/>
            <a:ext cx="3962520" cy="30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dfd03"/>
                </a:solidFill>
                <a:latin typeface="Times New Roman"/>
              </a:rPr>
              <a:t>Свойства</a:t>
            </a:r>
            <a:r>
              <a:rPr b="0" lang="ru-RU" sz="4400" spc="-1" strike="noStrike">
                <a:solidFill>
                  <a:srgbClr val="fdfd03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fdfd03"/>
                </a:solidFill>
                <a:latin typeface="Times New Roman"/>
              </a:rPr>
              <a:t>экосисте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52280" y="990720"/>
            <a:ext cx="88394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Самовоспризведение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(способность организмов к размножению, воссоздание среды обитания, наличие пищи и запас энергии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Устойчивость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пособность удерживать равновесие при изменении условий среды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Саморегуляция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(популяции организмов взаимно ограничивают численность, массовое размножение вида в экосистеме регулируется прямыми и обратными связями пищевых цепей)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34290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мена экосисте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dfd03"/>
                </a:solidFill>
                <a:latin typeface="Times New Roman"/>
              </a:rPr>
              <a:t>Сукцессия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- последовательная смена во времени одних биоценозов другими на определенном участке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4"/>
          <p:cNvSpPr/>
          <p:nvPr/>
        </p:nvSpPr>
        <p:spPr>
          <a:xfrm>
            <a:off x="457200" y="2057400"/>
            <a:ext cx="44197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Первичная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(на субстратах, не затронутых почвообразованием)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Picture 9" descr="сукцессия"/>
          <p:cNvPicPr/>
          <p:nvPr/>
        </p:nvPicPr>
        <p:blipFill>
          <a:blip r:embed="rId1"/>
          <a:stretch/>
        </p:blipFill>
        <p:spPr>
          <a:xfrm>
            <a:off x="838080" y="3637080"/>
            <a:ext cx="6096240" cy="2763720"/>
          </a:xfrm>
          <a:prstGeom prst="rect">
            <a:avLst/>
          </a:prstGeom>
          <a:ln w="0">
            <a:noFill/>
          </a:ln>
        </p:spPr>
      </p:pic>
      <p:sp>
        <p:nvSpPr>
          <p:cNvPr id="1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5" descr="сукцессия озера"/>
          <p:cNvPicPr/>
          <p:nvPr/>
        </p:nvPicPr>
        <p:blipFill>
          <a:blip r:embed="rId1"/>
          <a:stretch/>
        </p:blipFill>
        <p:spPr>
          <a:xfrm>
            <a:off x="1600200" y="2209680"/>
            <a:ext cx="3814920" cy="447048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8"/>
          <p:cNvSpPr/>
          <p:nvPr/>
        </p:nvSpPr>
        <p:spPr>
          <a:xfrm>
            <a:off x="380880" y="228600"/>
            <a:ext cx="70106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Вторичная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(на месте сформированного биоценоза после его нарушения - пожар, эрозия, засуха и т.д.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dfd03"/>
                </a:solidFill>
                <a:latin typeface="Times New Roman"/>
              </a:rPr>
              <a:t>Экология</a:t>
            </a:r>
            <a:r>
              <a:rPr b="0" lang="ru-RU" sz="2800" spc="-1" strike="noStrike">
                <a:solidFill>
                  <a:srgbClr val="ecfe02"/>
                </a:solidFill>
                <a:latin typeface="Times New Roman"/>
              </a:rPr>
              <a:t> –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омплексная наука, изучающая законы существования живых систем в их взаимодействии с окружающей средой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8"/>
          <p:cNvSpPr/>
          <p:nvPr/>
        </p:nvSpPr>
        <p:spPr>
          <a:xfrm>
            <a:off x="228600" y="1654200"/>
            <a:ext cx="8610480" cy="52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Классическая экология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– изучает взаимодействие биосистем с окружающей средой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Глобальная экология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– раскрывает единство и целостность биосферы как глобальной экосистемы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Социальная экология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– рассматривает взаимосвязи в системе «общество-окружающая среда»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Геоэкология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– изучает геосистемы разного уровня и их антропогенные изменения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Экология человека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– изучает среду обитания человека, экологические факторы здоровья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Экологический мониторинг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– система наблюдения, оценки, анализа и прогноза состояния окружающей среды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895480" y="151920"/>
            <a:ext cx="289584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dfd03"/>
                </a:solidFill>
                <a:latin typeface="Times New Roman"/>
              </a:rPr>
              <a:t>Темы докладов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4560" y="6858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роблема загрязнения пресных вод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роблема загрязнения почв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роблема диоксинов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Охраняемые природные территории Саратовской област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Нетрадиционная энергетика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Редкие виды животных на территории Саратовской области (птицы, млекопитающие, рыбы, земноводные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Редкие виды растений на территории Саратовской области (сем-во орхидные, лилейные, сложноцветные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Биологические очистные сооружения(метантенки, аэротенки)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Лесные экосистемы, их роль в биосфере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76312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dfd03"/>
                </a:solidFill>
                <a:latin typeface="Times New Roman"/>
              </a:rPr>
              <a:t>Экологические факторы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– отдельные элементы среды, взаимодействующие с организмом прямо или косвенно хотя бы на протяжении одной из стадий индивидуального развития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AutoShape 5"/>
          <p:cNvSpPr/>
          <p:nvPr/>
        </p:nvSpPr>
        <p:spPr>
          <a:xfrm rot="2010600">
            <a:off x="1599840" y="2819160"/>
            <a:ext cx="228600" cy="838080"/>
          </a:xfrm>
          <a:prstGeom prst="downArrow">
            <a:avLst>
              <a:gd name="adj1" fmla="val 50000"/>
              <a:gd name="adj2" fmla="val 9165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AutoShape 6"/>
          <p:cNvSpPr/>
          <p:nvPr/>
        </p:nvSpPr>
        <p:spPr>
          <a:xfrm rot="25800">
            <a:off x="4038480" y="3048120"/>
            <a:ext cx="228600" cy="761760"/>
          </a:xfrm>
          <a:prstGeom prst="downArrow">
            <a:avLst>
              <a:gd name="adj1" fmla="val 50000"/>
              <a:gd name="adj2" fmla="val 8330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AutoShape 7"/>
          <p:cNvSpPr/>
          <p:nvPr/>
        </p:nvSpPr>
        <p:spPr>
          <a:xfrm rot="18852000">
            <a:off x="6301440" y="2795760"/>
            <a:ext cx="198360" cy="609840"/>
          </a:xfrm>
          <a:prstGeom prst="downArrow">
            <a:avLst>
              <a:gd name="adj1" fmla="val 50000"/>
              <a:gd name="adj2" fmla="val 7686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8"/>
          <p:cNvSpPr/>
          <p:nvPr/>
        </p:nvSpPr>
        <p:spPr>
          <a:xfrm>
            <a:off x="76320" y="3733920"/>
            <a:ext cx="2590560" cy="30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Абиотические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(температура, давление, радиационный фон, влажность, состав атмосферы, почвы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9"/>
          <p:cNvSpPr/>
          <p:nvPr/>
        </p:nvSpPr>
        <p:spPr>
          <a:xfrm>
            <a:off x="2971800" y="4114800"/>
            <a:ext cx="2895480" cy="23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Биотические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(совокупность влияний жизнедеятельности одних организмов на другие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10"/>
          <p:cNvSpPr/>
          <p:nvPr/>
        </p:nvSpPr>
        <p:spPr>
          <a:xfrm>
            <a:off x="5997600" y="3276720"/>
            <a:ext cx="3146400" cy="23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Антропогенны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(совокупность влияний деятельности человека на окружающую среду)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1905120" y="2209680"/>
          <a:ext cx="4190760" cy="517680"/>
        </p:xfrm>
        <a:graphic>
          <a:graphicData uri="http://schemas.openxmlformats.org/drawingml/2006/table">
            <a:tbl>
              <a:tblPr/>
              <a:tblGrid>
                <a:gridCol w="419076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Экологические факторы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68580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Биологический оптимум – наилучшее сочетание условий существования организма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810240"/>
          </a:xfrm>
          <a:prstGeom prst="rect">
            <a:avLst/>
          </a:prstGeom>
          <a:noFill/>
          <a:ln w="9360">
            <a:solidFill>
              <a:srgbClr val="fdfd03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dfd03"/>
                </a:solidFill>
                <a:latin typeface="Times New Roman"/>
              </a:rPr>
              <a:t>Закон толерантности В.Шелфорда(1913г.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«Лимитирующим фактором может быть как </a:t>
            </a:r>
            <a:r>
              <a:rPr b="0" lang="ru-RU" sz="3200" spc="-1" strike="noStrike" u="sng">
                <a:solidFill>
                  <a:srgbClr val="ffffff"/>
                </a:solidFill>
                <a:uFillTx/>
                <a:latin typeface="Times New Roman"/>
              </a:rPr>
              <a:t>минимум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, так и </a:t>
            </a:r>
            <a:r>
              <a:rPr b="0" lang="ru-RU" sz="3200" spc="-1" strike="noStrike" u="sng">
                <a:solidFill>
                  <a:srgbClr val="ffffff"/>
                </a:solidFill>
                <a:uFillTx/>
                <a:latin typeface="Times New Roman"/>
              </a:rPr>
              <a:t>максимум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экологического фактора, диапазон между которыми определяет величину выносливости организма к данному фактору»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0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5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66320" y="22860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dfd03"/>
                </a:solidFill>
                <a:latin typeface="Times New Roman"/>
              </a:rPr>
              <a:t>Распределение насекомых в термоградиентор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5" descr="кология"/>
          <p:cNvPicPr/>
          <p:nvPr/>
        </p:nvPicPr>
        <p:blipFill>
          <a:blip r:embed="rId1"/>
          <a:stretch/>
        </p:blipFill>
        <p:spPr>
          <a:xfrm>
            <a:off x="1066680" y="990720"/>
            <a:ext cx="6934320" cy="4997160"/>
          </a:xfrm>
          <a:prstGeom prst="rect">
            <a:avLst/>
          </a:prstGeom>
          <a:ln w="0">
            <a:noFill/>
          </a:ln>
        </p:spPr>
      </p:pic>
      <p:sp>
        <p:nvSpPr>
          <p:cNvPr id="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cfe02"/>
                </a:solidFill>
                <a:latin typeface="Times New Roman"/>
              </a:rPr>
              <a:t>Зависимость результата действия экофактора от его интенсивност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1029" descr="редел вынос"/>
          <p:cNvPicPr/>
          <p:nvPr/>
        </p:nvPicPr>
        <p:blipFill>
          <a:blip r:embed="rId1"/>
          <a:stretch/>
        </p:blipFill>
        <p:spPr>
          <a:xfrm>
            <a:off x="762120" y="1523880"/>
            <a:ext cx="7619760" cy="4921200"/>
          </a:xfrm>
          <a:prstGeom prst="rect">
            <a:avLst/>
          </a:prstGeom>
          <a:ln w="0">
            <a:noFill/>
          </a:ln>
        </p:spPr>
      </p:pic>
      <p:sp>
        <p:nvSpPr>
          <p:cNvPr id="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895480" y="228240"/>
            <a:ext cx="1371600" cy="15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ffff"/>
                </a:solidFill>
                <a:uFillTx/>
                <a:latin typeface="Times New Roman"/>
              </a:rPr>
              <a:t>Свет.</a:t>
            </a: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-36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Каждое местообитание характеризуется определенным световым режимом, включающим интенсивность, количество и качество света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Picture 6" descr="спектр1"/>
          <p:cNvPicPr/>
          <p:nvPr/>
        </p:nvPicPr>
        <p:blipFill>
          <a:blip r:embed="rId1"/>
          <a:stretch/>
        </p:blipFill>
        <p:spPr>
          <a:xfrm>
            <a:off x="1447920" y="1828800"/>
            <a:ext cx="6654600" cy="4938840"/>
          </a:xfrm>
          <a:prstGeom prst="rect">
            <a:avLst/>
          </a:prstGeom>
          <a:ln w="0">
            <a:noFill/>
          </a:ln>
        </p:spPr>
      </p:pic>
      <p:sp>
        <p:nvSpPr>
          <p:cNvPr id="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0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0" y="228600"/>
            <a:ext cx="3200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ffffff"/>
                </a:solidFill>
                <a:uFillTx/>
                <a:latin typeface="Times New Roman"/>
              </a:rPr>
              <a:t>Температура.</a:t>
            </a: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0" y="914040"/>
            <a:ext cx="876312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Температурный фактор имеет важное значение в распределении живых организмов на Земле и заселении ими разных природных зон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5"/>
          <p:cNvSpPr/>
          <p:nvPr/>
        </p:nvSpPr>
        <p:spPr>
          <a:xfrm>
            <a:off x="1219320" y="2530440"/>
            <a:ext cx="685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В зависимости от вида теплообмена различают два экологических типа организмов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6"/>
          <p:cNvSpPr/>
          <p:nvPr/>
        </p:nvSpPr>
        <p:spPr>
          <a:xfrm>
            <a:off x="152280" y="3505320"/>
            <a:ext cx="891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= 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пойкилотермные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– организмы с неустойчивым уровнем обмена веществ, непостоянной температурой тела. Интенсивность обмена веществ прямо пропорциональна внешней температуре.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7"/>
          <p:cNvSpPr/>
          <p:nvPr/>
        </p:nvSpPr>
        <p:spPr>
          <a:xfrm>
            <a:off x="152280" y="4952880"/>
            <a:ext cx="853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= 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гомойотермные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– организмы с более высоким и устойчивым уровнем обмена веществ, температура тела поддерживается на относительно постоянном уровне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819160" y="151920"/>
            <a:ext cx="24382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ffffff"/>
                </a:solidFill>
                <a:uFillTx/>
                <a:latin typeface="Times New Roman"/>
              </a:rPr>
              <a:t>Влажность.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52280" y="837720"/>
            <a:ext cx="883944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лажность среды является фактором, ограничивающим численность и распространение организмов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лажность изменяет эффект температуры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1028"/>
          <p:cNvSpPr/>
          <p:nvPr/>
        </p:nvSpPr>
        <p:spPr>
          <a:xfrm>
            <a:off x="304920" y="2438280"/>
            <a:ext cx="883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о отношению к водному режиму определяют экологические группы растений и животных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1030"/>
          <p:cNvSpPr/>
          <p:nvPr/>
        </p:nvSpPr>
        <p:spPr>
          <a:xfrm>
            <a:off x="746280" y="3470400"/>
            <a:ext cx="1920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Растени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Гидатофит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Гидрофиты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Гигрофиты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Мезофиты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серофиты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1031"/>
          <p:cNvSpPr/>
          <p:nvPr/>
        </p:nvSpPr>
        <p:spPr>
          <a:xfrm>
            <a:off x="4952880" y="3476520"/>
            <a:ext cx="1752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Животные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Гидрофилы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Мезофилы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серофилы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2T09:41:45Z</dcterms:created>
  <dc:creator>1</dc:creator>
  <dc:description/>
  <dc:language>en-US</dc:language>
  <cp:lastModifiedBy>LEGION</cp:lastModifiedBy>
  <dcterms:modified xsi:type="dcterms:W3CDTF">2015-05-06T08:32:12Z</dcterms:modified>
  <cp:revision>79</cp:revision>
  <dc:subject/>
  <dc:title>Основы экологии</dc:title>
</cp:coreProperties>
</file>