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4A58-ECA0-4489-A4D9-6E5F7F0488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dfd03"/>
                </a:solidFill>
                <a:latin typeface="Calibri"/>
              </a:rPr>
              <a:t>Основ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Тема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кологию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общества. Эко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CB6D-BA2E-45A3-98EC-0854368753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тические фактор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DDE3-85FB-4C17-89DA-DB1173B45E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геоценоз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систе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1774-E328-4DCD-B0EA-FDF5B22318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dfd03"/>
                </a:solidFill>
                <a:latin typeface="Calibri"/>
              </a:rPr>
              <a:t>Основные функции биогеоцен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кумуляция и перераспределение энер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рот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7E12-4F14-41C7-9560-99A6449647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Свойства</a:t>
            </a: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воспризведе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способность организмов к размножению, воссоздание среды обитания, наличие пищи и запас энерг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стойчивость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способность удерживать равновесие при изменении условий сре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регуляц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6634-543B-4B1A-A25D-40FB3FE310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мена 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Сукцесс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FD65-3CDC-4294-AB61-18B70B3845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тори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на месте сформированного биоценоза после его нарушения - пожар, эрозия, засух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F8AE-8CB0-4056-BF50-D2DDF0EF64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dfd03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FD60-CA79-4254-BACF-25C8EE71EC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Темы доклад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рес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оч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ди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храняемые природные территории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традиционная энерге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иологические очистные сооружения(метантенки, аэротенки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сные экосистемы, их роль в биосфе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EC25-705E-4DEC-8564-7778B578FF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логические факторы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16AE-AA1B-4A13-8955-71EE6BC989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логический оптимум – наилучшее сочетание условий существования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Закон толерантности В.Шелфорда(1913г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Лимитирующим фактором может быть как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ин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акс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5FCD-3386-4130-83F0-C8A86A2F35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Распределение насекомых в термоградиен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D18-274A-4512-A14D-D6BEA05093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Зависимость результата действия экофактора от его интенс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00DA-33A1-452C-8637-E3CD7DE63D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вет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4A04-6A95-4081-8A25-D5121C2BAF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Температура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A734-14EC-4EA2-9773-5C6C790739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Влажность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изменяет эффект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7710-89FF-4295-8C1F-403857FAB9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41E-AFAC-46BE-B6EA-FAE5A644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590-A9F3-450D-AAD7-3A4071BC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E08-5277-42F6-9713-78ECC782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5A4-37EF-4BA0-93C6-3ABE0156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8D4-A2B1-4739-8C65-D843555C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A9A-BB22-4060-A052-93BD7DBA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177-5CDB-40AC-A6A1-5DEB4FA5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DC9-310A-4EFC-BC77-9B0A1788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27F-82DB-4502-B1D0-0E492AEB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B49-E779-46F8-92E8-1008B3FC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129-C27E-432F-BD3C-D585EABA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CD7-F5E9-4D13-BA87-DF1E9188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7B31-0317-436F-95CD-49E31063EA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d03"/>
                </a:solidFill>
                <a:latin typeface="Times New Roman"/>
              </a:rPr>
              <a:t>Основы эк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ведение в экологию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кологические фактор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общества. Экосистемы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иотические фактор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4"/>
          <p:cNvSpPr/>
          <p:nvPr/>
        </p:nvSpPr>
        <p:spPr>
          <a:xfrm>
            <a:off x="304920" y="103176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пы экологических взаимодействий по направлению действия на организ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5"/>
          <p:cNvSpPr/>
          <p:nvPr/>
        </p:nvSpPr>
        <p:spPr>
          <a:xfrm>
            <a:off x="228600" y="2590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+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 (мутуализм, протокооперац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6"/>
          <p:cNvSpPr/>
          <p:nvPr/>
        </p:nvSpPr>
        <p:spPr>
          <a:xfrm>
            <a:off x="228600" y="5029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- 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щничество, парази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7"/>
          <p:cNvSpPr/>
          <p:nvPr/>
        </p:nvSpPr>
        <p:spPr>
          <a:xfrm>
            <a:off x="22860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0 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ком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228600" y="5791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- )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9"/>
          <p:cNvSpPr/>
          <p:nvPr/>
        </p:nvSpPr>
        <p:spPr>
          <a:xfrm>
            <a:off x="228600" y="4267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0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имбиоз"/>
          <p:cNvPicPr/>
          <p:nvPr/>
        </p:nvPicPr>
        <p:blipFill>
          <a:blip r:embed="rId1"/>
          <a:stretch/>
        </p:blipFill>
        <p:spPr>
          <a:xfrm>
            <a:off x="3581280" y="533520"/>
            <a:ext cx="5105520" cy="505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ишайник"/>
          <p:cNvPicPr/>
          <p:nvPr/>
        </p:nvPicPr>
        <p:blipFill>
          <a:blip r:embed="rId2"/>
          <a:stretch/>
        </p:blipFill>
        <p:spPr>
          <a:xfrm>
            <a:off x="228600" y="990720"/>
            <a:ext cx="271620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разитизм"/>
          <p:cNvPicPr/>
          <p:nvPr/>
        </p:nvPicPr>
        <p:blipFill>
          <a:blip r:embed="rId1"/>
          <a:stretch/>
        </p:blipFill>
        <p:spPr>
          <a:xfrm>
            <a:off x="228600" y="1138320"/>
            <a:ext cx="8458200" cy="4581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8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иогеоценоз = Биоценоз + Биот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9880" y="38098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окупность растений, животных, микробов,живущих совместно в одних условиях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1680" y="38098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ранство с более или менее однородными условиями, заселенное биоцен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ищев цепи"/>
          <p:cNvPicPr/>
          <p:nvPr/>
        </p:nvPicPr>
        <p:blipFill>
          <a:blip r:embed="rId1"/>
          <a:stretch/>
        </p:blipFill>
        <p:spPr>
          <a:xfrm>
            <a:off x="1523880" y="533520"/>
            <a:ext cx="624852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ирамида"/>
          <p:cNvPicPr/>
          <p:nvPr/>
        </p:nvPicPr>
        <p:blipFill>
          <a:blip r:embed="rId1"/>
          <a:stretch/>
        </p:blipFill>
        <p:spPr>
          <a:xfrm>
            <a:off x="1371600" y="380880"/>
            <a:ext cx="6019920" cy="584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dfd03"/>
                </a:solidFill>
                <a:latin typeface="Times New Roman"/>
              </a:rPr>
              <a:t>Основные функции биогеоце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кумуляция и перераспределение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оворот вещест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2286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биогеоценоз характеризуетс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едующими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показателя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36160" y="3352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Видовое разнообраз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число видов растений и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886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лотность популяц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оличество особей на единицу площади или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724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остранственная 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пределение организмов по ярус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Биомасс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асса организмов сообщ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28600" y="6035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Биопродуктивн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корость образования биома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Свойства</a:t>
            </a:r>
            <a:r>
              <a:rPr b="0" lang="ru-RU" sz="4400" spc="-1" strike="noStrike">
                <a:solidFill>
                  <a:srgbClr val="fdfd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воспризвед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пособность организмов к размножению, воссоздание среды обитания, наличие пищи и запас энерги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тойчив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удерживать равновесие при изменении условий сред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регуля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Сукцесс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57200" y="2057400"/>
            <a:ext cx="441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субстратах, не затронутых почвообразованием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сукцессия"/>
          <p:cNvPicPr/>
          <p:nvPr/>
        </p:nvPicPr>
        <p:blipFill>
          <a:blip r:embed="rId1"/>
          <a:stretch/>
        </p:blipFill>
        <p:spPr>
          <a:xfrm>
            <a:off x="838080" y="3637080"/>
            <a:ext cx="6096240" cy="27637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укцессия озера"/>
          <p:cNvPicPr/>
          <p:nvPr/>
        </p:nvPicPr>
        <p:blipFill>
          <a:blip r:embed="rId1"/>
          <a:stretch/>
        </p:blipFill>
        <p:spPr>
          <a:xfrm>
            <a:off x="1600200" y="2209680"/>
            <a:ext cx="3814920" cy="4470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80880" y="228600"/>
            <a:ext cx="7010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месте сформированного биоценоза после его нарушения - пожар, эрозия, засуха и т.д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fd03"/>
                </a:solidFill>
                <a:latin typeface="Times New Roman"/>
              </a:rPr>
              <a:t>Экология</a:t>
            </a: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8600" y="1654200"/>
            <a:ext cx="86104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ассическ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взаимодействие биосистем с окружающе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об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крывает единство и целостность биосферы как глобальной эко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сматривает взаимосвязи в системе «общество-окружающая сре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о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геосистемы разного уровня и их антропогенные из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я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среду обитания человека, экологические факторы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истема наблюдения, оценки, анализа и прогноза состояния окружающе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Темы докла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ресных в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оч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диокси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природные территории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традиционная энергет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 очистные сооружения(метантенки, аэротенки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сные экосистемы, их роль в биосфер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логические факто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 rot="2010600">
            <a:off x="1599840" y="28191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 rot="25800">
            <a:off x="4038480" y="3048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 rot="18852000">
            <a:off x="6301440" y="2795760"/>
            <a:ext cx="198360" cy="609840"/>
          </a:xfrm>
          <a:prstGeom prst="downArrow">
            <a:avLst>
              <a:gd name="adj1" fmla="val 50000"/>
              <a:gd name="adj2" fmla="val 76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320" y="3733920"/>
            <a:ext cx="25905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биот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температура, давление, радиационный фон, влажность, состав атмосферы, почв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71800" y="4114800"/>
            <a:ext cx="2895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иот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жизнедеятельности одних организмов на друг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997600" y="3276720"/>
            <a:ext cx="3146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деятельности человека на окружающую среду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209680"/>
          <a:ext cx="4190760" cy="5176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логические факто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й оптимум – наилучшее сочетание условий существования организ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9360">
            <a:solidFill>
              <a:srgbClr val="fdfd0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Закон толерантности В.Шелфорда(1913г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Лимитирующим фактором может быть ка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ин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ак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кс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Распределение насекомых в термоградиент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кология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Зависимость результата действия экофактора от его интенс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9" descr="редел вынос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9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вет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спектр1"/>
          <p:cNvPicPr/>
          <p:nvPr/>
        </p:nvPicPr>
        <p:blipFill>
          <a:blip r:embed="rId1"/>
          <a:stretch/>
        </p:blipFill>
        <p:spPr>
          <a:xfrm>
            <a:off x="1447920" y="1828800"/>
            <a:ext cx="6654600" cy="4938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р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19320" y="25304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вида теплообмена различают два экологических типа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3505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йкил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неустойчивым уровнем обмена веществ, непостоянной температурой тела. Интенсивность обмена веществ прямо пропорциональна внешней температуре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228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мой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более высоким и устойчивым уровнем обмена веществ, температура тела поддерживается на относительно постоянном уровн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лажность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изменяет эффект темпера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304920" y="2438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водному режиму определяют экологические группы растений и животных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746280" y="3470400"/>
            <a:ext cx="192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атоф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г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4952880" y="34765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9:41:45Z</dcterms:created>
  <dc:creator>1</dc:creator>
  <dc:description/>
  <dc:language>en-US</dc:language>
  <cp:lastModifiedBy>LEGION</cp:lastModifiedBy>
  <dcterms:modified xsi:type="dcterms:W3CDTF">2015-05-06T08:32:12Z</dcterms:modified>
  <cp:revision>79</cp:revision>
  <dc:subject/>
  <dc:title>Основы экологии</dc:title>
</cp:coreProperties>
</file>