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EED0-26BF-4B3C-94AE-C41953F93B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 2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ы обще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31AF-CF16-4CAB-A57F-EF50BCFA5B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3912-EDCD-48A2-8181-AAE123309E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прос 2. Понятие и классификация экологически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ми фактор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2EEE-3EE1-42E5-AC7B-C8905D6AD4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ми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факторы принято делить на три большие групп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биотичес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ио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троп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7759-E5A8-4D33-8331-8015C14CDA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E15C-4F84-4875-8DCD-FFC58158F7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закономерности влияния экологического фа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ом вынослив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логической валент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6B50-E9D6-4610-93B4-6C875FD4F8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 3. Уровни организации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97A4-B03D-4A54-BD00-B0BD5CCCD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026-C8EC-4F70-A08F-581446926F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знаками популяц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исл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ло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озрастной сост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оотношение п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ождаем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смер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пространственное распред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218C-09AA-4BC1-B69E-E5E5A6023C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це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5396-D201-4218-A403-173FFCBAB3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ько живые организ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оп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окупности биоценоз и биотоп образуют биогеоцен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F1EE-CECC-4897-9FBE-4C5EA02326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общей экологии: вопросы ле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и основные разделы совреме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и классификация экологически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биосферы и но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коны и принцип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454-9397-4F76-B2F0-4DB433FD6B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геоценоз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A266-8D21-4DAA-9573-7FDE86C2A6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0180-330A-44C5-8DF4-1A4BE86EE6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ами экологической системы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рганичес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глерод, азот, углекислый газ, вода и т.д.), вступающие в кругов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чески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белки, углев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матический реж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мпература, вла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у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стру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1672-6545-42ED-9953-D8B0470523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также могут бы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е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лес, озеро, океан и т.д.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вариум, поле, на котором выращиваются сельскохозяйственные культуры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DD9E-89E9-47A6-92DD-5437F8EAD5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функционирование экологической системы зависит от динами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иотически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биотическ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ую группу образ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ген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A364-5F43-43FC-9247-192F2A2C20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меоста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EEEF-1CC8-4F11-8AD0-C8E00791CF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 4. Понятия биосферы и ноосф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59F4-16B6-4B21-BB3F-0C93C15DA3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ределению Вернадского (1926 г.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9B06-246E-4661-ABEA-2FB0DE8EBE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иосферы Вернадский выделял семь видов ве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живо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иогенное (возникшее из живого или подвергшееся переработк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сное (абиотическое, образованное вне жизн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биокосное (возникшее на стыке живого и неживого, к нему Вернадский относил почв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ещество в стадии радиоактивного расп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ассеянные ато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щество космического происхо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0CCA-9E18-43B2-9644-C615C69C73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ую часть биосферы, представленную живыми организмами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сфе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E089-86C9-4E17-8ED6-82958280F0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1. Предмет и основные разделы современной эк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жилище, обитель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лово, учение) – это наука о взаимоотношениях живых организмов и среды их об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0003-FE71-4310-8AA0-BC6567ADAC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B1FC-BEE7-4531-85B8-9F5CEC636A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дпосылкам возникновения ноосферы Вернадский относ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обеду демократий и доступ к управлению широких народных мас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7E58-D06D-4F0C-B5D2-593D343EE8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эволю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5E06-C3B8-487E-83A0-BE54982E85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олжно куда-то де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что не дается да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F5B9-59FF-442F-A581-134654E84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всеобщей связи предметов и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297B-C208-4772-BCB1-57410E88D4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сохранения вещества и эне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развития природной системы за счет окружающей ее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неустранимости отхо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602B-1E92-4C7C-BA9A-8F5999D8E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«природа знает лучш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ределяет пределы допустимого и недопустимого в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3F30-C7FD-42C8-9E52-F9F51D1F34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цены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закон имеет три след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волюция больших систем происходит только от простого к сложно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ростом сложности организации системы темпы эволюции возрастаю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латных ресурсов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C25D-075A-4F48-B7A3-AC9153BC21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форизмам Б. Коммонера современные экологи добави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ограниченности ресур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1643-8AAA-44DC-9EB2-51D0589AAB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центр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B5ED-2EA9-4350-9551-5379E0B610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 рассматриваются как результаты неверного повед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F0FE-355B-496B-90D8-EEA17FC694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551C-40FC-4D3A-B70E-56AD71408F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е задачи современной эк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места и роли человека и общества в их взаимодействии с биосфер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личественных пределов развития техн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сознания людей и поведения человеческ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деологии и методологии гуманистического экоцентр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диагностика окружающей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нозов изменения состояния биосфе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4733-DFAE-4B6C-BFC5-2CD961DB67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разделы современной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ABD-FA62-4114-8BA7-CE6F0E890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щей эколог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8134-E188-491B-B82E-CBC48FEAF8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32C-D94E-482C-9C31-E75FD45D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C64-A420-403B-9BA3-3C3E6400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8FE-6890-4DCD-B726-2AD73921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EF0-2A3D-4F2E-9AE4-F75B5702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67D-EBF1-4ED6-A3B1-FC8B8E9B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C62E-DD4D-4CEB-9757-5D20796B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74A-EF8D-4204-B91B-15E8E828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668-0D0B-40D6-8AB3-458F0A0D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C7C-AE05-444C-A1F5-10E8589F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B16-E6EF-425D-B33D-CA0E048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7E5-94FA-4773-AEEE-BDAFE11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5CE-FED4-4A85-A9C5-2A94E27A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0FF2-8C1B-4BC8-BE93-B83A5CEF4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For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489564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2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обще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я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адная 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. Понятие и классификация экологических фа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ми фактор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300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ми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факторы принято делить на три большие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био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о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тропог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 следующие закономерности влияния экологического фак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елом вынослив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логической валент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ровни организации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уляц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изнаками популяци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исл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озрастной соста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оотношение по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рождаем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смер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пространственное рас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07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ст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цено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живые орган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топ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окупности биоценоз и биотоп образуют биогеоцено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ы общей экологии: вопросы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и основные разделы современной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и классификация экологических фак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и организации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я биосферы и но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коны и принципы эк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геоценоз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сист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ами экологической системы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ичес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глерод, азот, углекислый газ, вода и т.д.), вступающие в круго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ические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лки, угле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иматически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мпература, влаж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уц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стру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также могут бы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ес, озеро, океан и т.д.)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квариум, поле, на котором выращиваются сельскохозяйственные культуры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и функционирование экологической системы зависит от динами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отическ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биот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ую группу образу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ге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меоста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4. Понятия биосферы и но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пределению Вернадского (1926 г.)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биосферы Вернадский выделял семь видов вещ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жив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биогенное (возникшее из живого или подвергшееся переработк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осное (абиотическое, образованное вне жизн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иокосное (возникшее на стыке живого и неживого, к нему Вернадский относил почв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ещество в стадии радиоактивного распа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рассеянные ато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вещество космического происх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ую часть биосферы, представленную живыми организмами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о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1. Предмет и основные разделы современной эк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еских сл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жилище, обитель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во, учение) – это наука о взаимоотношениях живых организмов и среды их об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основным предпосылкам возникновения ноосферы Вернадский относ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обеду демократий и доступ к управлению широких народных мас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эволю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язано со вс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олжно куда-то де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 знает лучш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то не дается д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868680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всеобщей связи предметов и я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сохранения вещества и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развития природной системы за счет окружающей ее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неустранимости отх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«природа знает лучш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пределы допустимого и недопустимого в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 цены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закон имеет три следств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волюция больших систем происходит только от простого к сложном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 ростом сложности организации системы темпы эволюции возрастаю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есплатных ресурсов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16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афоризмам Б. Коммонера современные экологи добав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ограниченности ресур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45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центриче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центр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роп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рассматриваются как результаты неверного повед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места и роли человека и общества в их взаимодействии с биосфе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количественных пределов развития техн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зация сознания людей и поведения человеческого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деологии и методологии гуманистического экоцент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 диагностика окружающей природ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нозов изменения состояния биосфер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разделы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адная экология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щей эколог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22:40Z</dcterms:created>
  <dc:creator>xXx</dc:creator>
  <dc:description/>
  <dc:language>en-US</dc:language>
  <cp:lastModifiedBy>LEGION</cp:lastModifiedBy>
  <dcterms:modified xsi:type="dcterms:W3CDTF">2015-05-06T08:33:32Z</dcterms:modified>
  <cp:revision>11</cp:revision>
  <dc:subject/>
  <dc:title>Тема 2. Основы общей экологии</dc:title>
</cp:coreProperties>
</file>