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AF64-7FE8-489C-9F37-36B884F8EB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 2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ы обще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E337-E6FE-49B3-A7B0-613AF28761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F687-EC56-417E-A843-1A020BAA11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опрос 2. Понятие и классификация экологически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ми фактор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1F51-E426-40D8-AC56-79F9E79F35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ми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факторы принято делить на три большие групп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биотичес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ио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троп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E395-3F42-4538-8A7F-C7FEF4A202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8369-7C4A-45DD-8A4C-598D615843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закономерности влияния экологического фа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елом вынослив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логической валент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5C17-BC2D-4123-8B1D-9126C305B4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прос 3. Уровни организации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49B7-304A-41AA-8106-78D1C116AD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DC46-2205-4D1D-8086-63D1D3EF8A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знаками популяц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исл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ло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озрастной сост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оотношение п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ождаем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смер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пространственное распред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7C0E-6226-4EE3-BF53-EEE385F52E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це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268A-0338-420E-BCA4-068E7D22AE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олько живые организ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оп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окупности биоценоз и биотоп образуют биогеоцен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CDB0-01D9-4AE6-86DA-7CC56CEA92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общей экологии: вопросы ле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и основные разделы совреме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и классификация экологически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биосферы и но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коны и принцип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9601-7074-4C7F-961C-D0A8A58BAF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геоценоз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658F-ED24-43B8-81CE-7AB33CB3F9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0E59-748F-4C7A-A9B1-3003C1CBE0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ами экологической системы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рганичес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глерод, азот, углекислый газ, вода и т.д.), вступающие в кругов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чески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белки, углев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матический реж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мпература, вла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у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стру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5281-114F-425B-AF00-8658287DE2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также могут бы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е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лес, озеро, океан и т.д.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вариум, поле, на котором выращиваются сельскохозяйственные культуры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652D-05F5-4F2E-B38C-B719C212D7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функционирование экологической системы зависит от динами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иотически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биотическ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ую группу образ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ген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D92B-0214-472C-BD95-46B995D1B4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меоста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EFF4-489A-4C91-AF49-D58CA1ED7B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прос 4. Понятия биосферы и ноосфе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3F96-AC7F-4B42-BBB3-EE429DFCD2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пределению Вернадского (1926 г.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4E88-CBFB-49A0-B2FD-8F01DD3B4D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биосферы Вернадский выделял семь видов ве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живо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иогенное (возникшее из живого или подвергшееся переработк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сное (абиотическое, образованное вне жизн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биокосное (возникшее на стыке живого и неживого, к нему Вернадский относил почву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ещество в стадии радиоактивного расп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ассеянные ато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щество космического происхо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E8D9-6BA1-4D5A-B917-4A531D3124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ую часть биосферы, представленную живыми организмами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сфе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C8CF-D859-474C-BDF9-D35955B029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1. Предмет и основные разделы современной эк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жилище, обитель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лово, учение) – это наука о взаимоотношениях живых организмов и среды их об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C539-D87B-477E-B758-7A0F46BC4F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08F3-20B0-41FE-8161-3829E4C136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дпосылкам возникновения ноосферы Вернадский относ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обеду демократий и доступ к управлению широких народных мас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B61C-1ABD-4F40-BB49-64462CA4D1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эволю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5486-2240-4603-9217-5413062707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олжно куда-то де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что не дается да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4EF8-554B-450E-B683-2DB859156F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всеобщей связи предметов и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39E6-42F2-4ECD-B2AE-DEE149572B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сохранения вещества и эне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развития природной системы за счет окружающей ее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неустранимости отхо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5A2F-C301-470D-A0BA-7E7CB7127D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«природа знает лучш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ределяет пределы допустимого и недопустимого в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4EF8-C04D-4EE2-AA46-AA0975FD80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цены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закон имеет три след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волюция больших систем происходит только от простого к сложно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ростом сложности организации системы темпы эволюции возрастаю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латных ресурсов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F5F0-CCA3-47B6-BDD9-31E4960E2E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форизмам Б. Коммонера современные экологи добави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ограниченности ресур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88FD-5B60-4BA8-A9C4-2F224A8C2A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центр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D0F4-3E3F-4206-A3A5-A21FDBAECB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 рассматриваются как результаты неверного повед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1295-0689-451E-AB26-43AA1CEC5E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CCF0-9348-482A-ADF3-A6F9010AFD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ые задачи современной эк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места и роли человека и общества в их взаимодействии с биосфер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личественных пределов развития техн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сознания людей и поведения человеческ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деологии и методологии гуманистического экоцентр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диагностика окружающей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нозов изменения состояния биосфе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E8A7-FA8E-435E-88F6-1329229AE7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разделы современной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4672-EE75-4CAC-A727-764AC18C8A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щей эколог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9A36-D8C1-4AD0-B38F-74484081DC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A8B-091F-48AC-A90F-27A6274D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099-1AD9-4D7E-97F2-27EE9124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47F-9CAA-454F-BA38-2E2C43BF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40C-9055-4AA4-A4E4-E41A8E40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E16-D585-48F0-B09E-F4A0E53E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0A1-6740-4A07-A7DD-8515DBEF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F99-F890-4F16-A58C-EB630D46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045-4FB7-4F0D-A120-28F18A36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A4D-D6D7-4718-B66C-E87B6314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D54-4542-4929-8FA5-5D977A7A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A57-5AB8-4FC7-81AF-48EE9F60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528-774B-4485-9996-E286002E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3637-8514-4A77-A083-4812C6A23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For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868640"/>
            <a:ext cx="4895640" cy="12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а 2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обще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я челове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адная 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2. Понятие и классификация экологических факто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ми фактор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е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300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ми жиз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факторы принято делить на три большие групп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био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ио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нтропоге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 следующие закономерности влияния экологического факт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елом вынослив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логической валент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3. Уровни организации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362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уляци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признаками популяции явля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исл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ло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возрастной соста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соотношение пол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рождаем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смер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пространственное распре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507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ст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цено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ько живые организ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топ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окупности биоценоз и биотоп образуют биогеоцено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ы общей экологии: вопросы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и основные разделы современной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е и классификация экологических фак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ни организации живых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я биосферы и но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законы и принципы эколог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геоценоз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ая сист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ами экологической системы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рганичес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глерод, азот, углекислый газ, вода и т.д.), вступающие в кругов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ганические 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елки, угле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лиматический реж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емпература, влажн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уц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еструк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также могут быт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е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ес, озеро, океан и т.д.)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квариум, поле, на котором выращиваются сельскохозяйственные культуры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и функционирование экологической системы зависит от динамик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иотическ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биотиче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ую группу образу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ген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меостаз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4. Понятия биосферы и но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пределению Вернадского (1926 г.)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уктуре биосферы Вернадский выделял семь видов веще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живо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биогенное (возникшее из живого или подвергшееся переработк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косное (абиотическое, образованное вне жизн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биокосное (возникшее на стыке живого и неживого, к нему Вернадский относил почв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ещество в стадии радиоактивного распа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рассеянные ато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вещество космического происхо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ую часть биосферы, представленную живыми организмами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осфер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1. Предмет и основные разделы современной эк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греческих сл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жилище, обитель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во, учение) – это наука о взаимоотношениях живых организмов и среды их об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основным предпосылкам возникновения ноосферы Вернадский относи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обеду демократий и доступ к управлению широких народных мас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эволюц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связано со вс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должно куда-то дев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 знает лучш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то не дается д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7280"/>
            <a:ext cx="868680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всеобщей связи предметов и явл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сохранения вещества и эне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развития природной системы за счет окружающей ее ср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неустранимости отх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«природа знает лучше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 пределы допустимого и недопустимого в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он цены разви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закон имеет три следств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волюция больших систем происходит только от простого к сложном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 ростом сложности организации системы темпы эволюции возрастаю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есплатных ресурсов не существ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516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афоризмам Б. Коммонера современные экологи добав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ограниченности ресур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45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центричес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центр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роп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 рассматриваются как результаты неверного повед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места и роли человека и общества в их взаимодействии с биосфе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количественных пределов развития техн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зация сознания людей и поведения человеческого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деологии и методологии гуманистического экоцент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и диагностика окружающей природ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огнозов изменения состояния биосфер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разделы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адная экология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80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щей эколог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22:40Z</dcterms:created>
  <dc:creator>xXx</dc:creator>
  <dc:description/>
  <dc:language>en-US</dc:language>
  <cp:lastModifiedBy>LEGION</cp:lastModifiedBy>
  <dcterms:modified xsi:type="dcterms:W3CDTF">2015-05-06T08:33:32Z</dcterms:modified>
  <cp:revision>11</cp:revision>
  <dc:subject/>
  <dc:title>Тема 2. Основы общей экологии</dc:title>
</cp:coreProperties>
</file>