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18B75-B4CE-4673-A174-F421FD4E7B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Тема 2.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сновы общей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0EF92-5355-4BFF-B8B2-5BAF95DD8E4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логия человек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ает взаимодействие человека как биологической особи и социального субъекта (личности) с окружающей природной средой. Ее частью являет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циальная эколог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сследующая связь социальных систем с природой и социальной средой (экология человеческих популяций, экологическая демография и т.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кладная эколог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диняет направления исследований, касающиеся различных сфер человеческой деятельности и взаимодействия общества с природой. Сюда относится инженерная, сельскохозяйственная, медицинская, рекреационная экология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4BBF1-D2BB-448C-B767-29B8346545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опрос 2. Понятие и классификация экологических факторов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83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логическими факторам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имаются элементы среды, которые или необходимы организму, или же воздействуют на него неблагоприят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83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ре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− это все, что окружает организм, прямо или косвенно влияет на его развитие, состояние, выживаемость, размножение и т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83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а каждого организма состоит из множества элементов природы и элементов, возникающих в процессе жизнедеятельности человека. Эти элементы могут быть для организма полезными, нейтральными, вредными; положительно или отрицательно влиять на н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4C84-8ADD-4271-A172-A9621F800F3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сть необходимых для жизни элементов среды, с которыми организм находится в неразрывном единстве и без которых не может существовать, называет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словиями жизн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ие факторы принято делить на три большие групп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абиотическ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биотическ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антропогенны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0124B-3C44-4F44-A584-75D1E9DD1F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биотические фактор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комплекс условий неорганической среды, влияющих на организм и определяющих условия его существования. В свою очередь, они делятся на химические, физические, климатическ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Биотические факторы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это совокупность влияний жизнедеятельности одних организмов на другие. В широком смысле они представляют собой внутривидовые и межвидовые взаимоотношения организм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нтропогенные факторы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аны с деятельностью человека, которая сопровождается изменением природной среды, влияет на условия жизни других организм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61293-49BD-4BE9-87D4-1F544DABE7A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яют следующие закономерности влияния экологического факто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пределенных значениях фактора создаются наиболее благоприятные (оптимальные) условия для жизнедеятельности организм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больше отклоняется значение экологического фактора от оптимального уровня, тем сильнее угнетается жизнедеятельность особ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пазон значений фактора, за границами которого нормальная жизнедеятельность особей невозможна, называетс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еделом вынослив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 Степень выносливости по отношению к тому или иному экологическому фактору называют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экологической валентность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00FCD-C79B-462D-BAFE-DD3399D472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опрос 3. Уровни организации живых организм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воздействием экологических факторов живые организмы объединяются в различные иерархические системы, которые по уровню организации делят н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уляц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бществ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ие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F458C-52F9-4B28-8030-9CECB6E268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пуляцию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ует совокупность особей одного вида, длительно занимающая определенное пространство и воспроизводящая себя в течение большого числа поколений. В современной биологии популяция рассматривается как элементарная частица процесса эволюции, способная реагировать на изменение среды перестройкой своего генофон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3C35A-157E-472C-BD68-49BEFFBCA0E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признаками популяции являютс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численно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лотно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возрастной соста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соотношение пол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рождаемо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) смертно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) пространственное распредел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1123D-2EC6-4ABF-BB65-3A3EDF11F35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общество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это совокупность популяций, занимающих какую-либо территорию. Наименьшей его единицей является биоцено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Биоценоз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яет собой организованное объединение живых организмов, живущих совместно в одних и тех же условиях. Для него характерны целостность и способность к самоорганизации, устойчивые связи между популяциями, но не отдельными особ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1F1CC-7365-44DC-9A00-56D239FD15D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тличие от экологической системы, включающей как живые, так и неживые компоненты, биоценоз объединяет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олько живые организ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ранство с однородными условиями, заселенное каким-либо биоценозом, называется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биотоп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вокупности биоценоз и биотоп образуют биогеоценоз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18131-F86E-4249-B5F9-2A3BDB67345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новы общей экологии: вопросы лек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мет и основные разделы современной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нятие и классификация экологических фактор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вни организации живых организ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нятия биосферы и ноосф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ные законы и принципы эколог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CC145-603B-4803-BEA5-D2A7E17499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Биогеоценоз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расположенная на определенной территории совокупность однородных природных явлений (атмосферы, горных пород, растительного и животного мира, почв и т.д.), взаимодействующих между собой специфическим образом, имеющих собственную структуру, определенный тип обмена веществом и энергией и находящихся в постоянном развитии и движ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42F4D-3AB7-4867-BF1B-E8BB064E57A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логическая систем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это исторически сложившееся единое природное пространство, образованное живыми организмами и средой их совместного обитания, в котором живые и неживые элементы связаны между собой обменом вещества и энер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053F3-206E-4513-A369-85EB8629A7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онентами экологической системы являютс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еорганические веще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углерод, азот, углекислый газ, вода и т.д.), вступающие в круговоро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рганические соедин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белки, углевод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лиматический режи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температура, влажность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дуцен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– автотрофные организмы, способные создавать пищу из простых неорганических веществ (например, наземные растен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нсумен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гетеротрофные организмы, которые питаются другими организмами или частицами органического вещества (главным образом, животны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еструктор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гетеротрофные организмы, которые разрушают сложные соединения до простых, пригодных для использования продуцентами (главным образом, бактерии и гриб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92CD2-379D-49C7-802C-C001CD6E1A5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ие системы классифицируются в зависимости от климатической зоны, характера среды обитания, влияния экологических факторов и т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также могут быть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стественным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лес, озеро, океан и т.д.) 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скусственным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аквариум, поле, на котором выращиваются сельскохозяйственные культуры и т.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CE7AB-7BE2-4E17-A73B-26406C572BA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и функционирование экологической системы зависит от динамик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иотических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биотически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фактор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первым относятся плотность и рост популяций, внутривидовая и межвидовая конкуренция, разные формы пищевых связей, ко вторым – изменение химического состава среды, режима солнечной радиации, климатических условий и д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ую группу образуют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нтропогенны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EB639-6034-462A-9231-B48F8B75E5D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ойчивость экологической системы во времени и в пространстве определяется ее внутренним функциональным постоянством –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гомеостаз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ение гомеостаза осуществляется благодаря двух формам биологической устойчивости: сопротивляемости (резистентности) и вынослив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35BCD-BB4E-4CFC-959C-3645023F717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прос 4. Понятия биосферы и ноосфер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сфера − фундаментальное понятие экологии, которое появилось в биологии в XVIII в., хотя вначале употреблялось в ином значе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75 г. австрийский геолог Э. Зюсс определил биосферу как особую оболочку Земли, образуемую живыми организмами. В настоящее время эту оболочку принято называть биотой, а термин «биосфера» употребляется в трактовке В. И. Вернадского – основателя целостного учения о биосфе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08A4E-ECC8-448A-9D68-36B96392D13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пределению Вернадского (1926 г.)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иосфер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оболочка Земли, заселенная живыми организмами и качественно ими преобразованна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а представляет собой самую крупную (глобальную) экологическую систему планеты и включает атмосферу, гидросферу и литосферу вместе с обитающими в них живыми организм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C81ED-0AE3-4A11-A2D6-AC1D23C5D25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труктуре биосферы Вернадский выделял семь видов веществ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живо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биогенное (возникшее из живого или подвергшееся переработке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косное (абиотическое, образованное вне жизни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биокосное (возникшее на стыке живого и неживого, к нему Вернадский относил почву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вещество в стадии радиоактивного распад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) рассеянные ато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) вещество космического происхожд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7B9ED-947D-4967-AB89-041E2CABE0E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ую часть биосферы, представленную живыми организмами, называют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косфер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Ее населяют около 1 млн. видов животных и примерно 340 видов растений, причем 93% всех видов животных и растений обитают на суш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масса экосферы (около 2 трлн. т органического вещества) поддерживается на постоянном уровне в течение сотен миллионов лет благодаря циклу синтеза и распада ( круговороту) биогенных элементов под воздействием потока солнечной энергии. Тем самым обеспечивается устойчивость биосферы в масштабе геологического времени, что является важнейшим условием глобальной экологической безопас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09106-7E6B-45B3-8220-17866A70BD1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прос 1. Предмет и основные разделы современной экологи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лог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от греческих сло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kos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жилище, обитель 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gos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слово, учение) – это наука о взаимоотношениях живых организмов и среды их обит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знаний, относимые к области экологии, встречаются в трудах ученых античного мира (Аристотель, Теофраст). Однако чисто экологические исследования начали проводиться только во второй половин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FDB84-1AC1-4B25-8434-EE297D74F67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ым этапом необратимой эволюции биосферы Вернадский считал ее переход в стадию ноосфе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«ноосфера» было введено в 1927 г. французским философом Э. Леруа и означало мыслящую оболочку или сферу разу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временной экологии используется определение В. И. Вернадского, в соответствии с которы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оосфер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такое качественное состояние биосферы, при котором ее развитие определяется сознательной человеческой деятельность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616A2-D8C2-46D0-953E-6AD7C32AD39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основным предпосылкам возникновения ноосферы Вернадский относил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расселение Homo sapiens по всей поверхности планеты и его победу в соревновании с другими биологическими вида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развитие всепланетных систем связи, создание единой для человечества информационной систем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открытие новых источников энергии, включая атомную, после чего деятельность человека становится важной геологической сило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победу демократий и доступ к управлению широких народных масс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все более широкое вовлечение людей в научную деятельность, что также делает человечество геологической сил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13392-E80C-4275-B722-A633D52F7A3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, по Вернадскому, поскольку существование самого человека  есть функция биосферы, его вмешательство имеет свои пределы, выход за которые угрожает его собственному существован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 реальное решение глобальных экологических проблем возможно лишь в случае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эволюци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сферы и общества, что в современных условиях требует регламентации хозяйствен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546CC-B3F7-4C96-BF40-6BA84998D1F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опрос 5. Основные законы и принципы эколог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ериканский эколог Б, Коммонер сформулировал следующие афоризмы, которые получили название четырех законов экологи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связано со вс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должно куда-то девать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а знает лучш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что не дается да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E389B-0195-4F15-BCB3-92DEF9B745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кон всеобщей связи предметов и явле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природе и обществе означает, что природа и общество включены в единую сеть системных взаимодействий и изменения в одной части системы неизбежно вызывают изменения в других ее част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ое изменение в экологической системе вызывает цепную реакцию, направленную на его нейтрализацию. Кроме того, зависимость между элементами экологических систем носит нелинейный характер, т.е. незначительное изменение одного из них может вызвать сильные изменения друг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«правилу одного процента» изменение энергетики природной системы на 1% выводит ее из равновесия, а затем разрушает. Это явление налагает природное ограничение на любую человеческую деяте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D619C-91FC-4C7D-87E6-A719E157409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кон сохранения вещества и энерг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является одним из главных требований рационального природопользования. Его экологическая интерпретация включа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кон развития природной системы за счет окружающей ее сред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любая природная система может развиваться только за счет материально-энергетических и информационных ресурсов окружающей среды, поэтому невозможно как абсолютно изолированное развитие, так и полностью безотходное производств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кон неустранимости отход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любая хозяйственная деятельность ведет к появлению отходов, которые можно лишь перевести из одной формы в другую или переместить в пространстве, но нельзя устранить полно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BC2F3-3886-43B2-8627-5F1EA3A9EE1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кон «природа знает лучше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пределяет пределы допустимого и недопустимого в биосфе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егодняшний день на Земле обитает лишь тысячная часть испытанных эволюцией видов животных и растений. Главным критерием эволюционного отбора является вовлеченность в глобальный биотический круговорот, заполненность всех экологических ниш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6E3CA-EE4F-4FD5-97D2-7988CEF3305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кон цены развит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значает, что на уровне глобальной экологической системы любой выигрыш обязательно сопровождается потер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т закон имеет три следств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волюция больших систем происходит только от простого к сложном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 ростом сложности организации системы темпы эволюции возрастают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бесплатных ресурсов не существу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DF856-72CD-4D23-AF4F-9F5CC827129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афоризмам Б. Коммонера современные экологи добавили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кон ограниченности ресурс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«на всех не хватает»), который означает, что масса питательных веществ для всех живых организмов на Земле ограничена и конечна, поэтому значительное увеличение численности и массы каких-либо организмов в глобальном масштабе может происходить только за счет сокращения численности и массы друг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учетом перечисленных законов будущее человечества зависит от формирования нового биосферного мировоззрения, поскольку только человеческий разум способен направить развитие по пути одновременного сохранения биосферы и цивилиз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7BBAA-8CA0-4EEA-A782-BE2D888B466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 «экология» ввел в научный оборот в 1879 г. немецкий биолог Э. Геккель, а к 1900 г. она сформировалась как самостоятельная наука. В основе экологии лежат представления о единстве организма и среды и об изменении организмов в процессе эволю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временной экологии существует два подхода к проблеме взаимоотношений человека и природы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нтропоцентрическ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экоцентрическ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9372-CB44-4716-AD1D-F5FD960AE30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ропоцентрический под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агает, что общество и природа являются двумя разными системами, в которых более важную роль играют внутренние связ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отношения человека и природы строятся по правилам, устанавливаемым человеком, а законы, управляющие существованием природных сообществ, на человека не распространяются или играют второстепенную роль в жизни обще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ие проблемы рассматриваются как результаты неверного поведения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858D7-8D6D-4FEB-80DC-9BFA10AEC2D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центрический под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ходит из зависимости человека от природы и предполагает, что экологические законы продолжают управлять человеком, и опирается на представление об объективном существовании единой системы, в рамках которой все живые организмы взаимодействуют между собой и с окружающей природной сред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нно этот принцип целостности лежит в основе современного понимания взаимосвязи человека с природ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36CD0-D7C2-430F-A1A6-D99B5EE8438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лавные задачи современной эколог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е места и роли человека и общества в их взаимодействии с биосфер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очнение научных критериев, определяющих экологическую совместимость человека и биосфе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количественных пределов развития техносфе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зация сознания людей и поведения человеческого общ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идеологии и методологии гуманистического экоцентризм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 и диагностика окружающей природной сред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прогнозов изменения состояния биосферы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3000D-0F09-4DBE-B7BC-6AAC9FE6527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новные разделы современной эколог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эколог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эколог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эколог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челове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 эколог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ладная экология и д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12E37-2B91-413F-8444-9E70C2B7D88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о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щей экологи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жит теоретическая экология, которая изучает общие закономерности функционирования экологических систем, в том числе, с использованием методов математического моделир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иоэколог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сследует отношения организмов (особей, популяций, биоценозов) между собой и окружающей сред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еоэколог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ует взаимоотношения организмов и среды обитания в контексте их географического положения и влияния географических факторов (экология природно-климатических зон, ландшафтов, экологическое описание географических регионов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B97F9-D695-4ACB-A028-9D7073901DB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D8E4-BD09-4EA8-8AB8-51123B48F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2D00-072D-4DCB-9B66-EDCC8A073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7400-949E-4FEC-8BC6-ECC0B4274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25A9-30C6-4340-A672-1DF480B81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89AE-18CF-4ADE-B4C7-D5BB55478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FC14-B5AA-49E7-9B1F-F1F646E60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8C37-987B-43D6-B69F-C27A2A900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0824-6D6F-4AC3-BE5A-A31F8BEE9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07C7-A64A-4408-9650-EED98B77F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F51C-9411-4E4A-BF59-9C74A4B2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A046-2223-4A1F-9865-4A7F4B98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57CC-AB4C-4A9C-8471-549F961F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ED335-81FF-4CAA-962A-6F672B2126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Fores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4868640"/>
            <a:ext cx="4895640" cy="12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Тема 2.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сновы общей эколог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915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кология человек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учает взаимодействие человека как биологической особи и социального субъекта (личности) с окружающей природной средой. Ее частью являетс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циальная эколог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исследующая связь социальных систем с природой и социальной средой (экология человеческих популяций, экологическая демография и т.д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кладная экологи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ъединяет направления исследований, касающиеся различных сфер человеческой деятельности и взаимодействия общества с природой. Сюда относится инженерная, сельскохозяйственная, медицинская, рекреационная экология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прос 2. Понятие и классификация экологических факторо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4358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ологическими факторам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имаются элементы среды, которые или необходимы организму, или же воздействуют на него неблагоприят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этом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ре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− это все, что окружает организм, прямо или косвенно влияет на его развитие, состояние, выживаемость, размножение и т.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а каждого организма состоит из множества элементов природы и элементов, возникающих в процессе жизнедеятельности человека. Эти элементы могут быть для организма полезными, нейтральными, вредными; положительно или отрицательно влиять на н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3008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окупность необходимых для жизни элементов среды, с которыми организм находится в неразрывном единстве и без которых не может существовать, 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ловиями жизн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логические факторы принято делить на три большие группы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абиотическ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биотическ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антропогенны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94920" y="404640"/>
            <a:ext cx="83026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биотические фактор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комплекс условий неорганической среды, влияющих на организм и определяющих условия его существования. В свою очередь, они делятся на химические, физические, климатическ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иотические факторы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это совокупность влияний жизнедеятельности одних организмов на другие. В широком смысле они представляют собой внутривидовые и межвидовые взаимоотношения организм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нтропогенные факторы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язаны с деятельностью человека, которая сопровождается изменением природной среды, влияет на условия жизни других организм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43588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деляют следующие закономерности влияния экологического фактор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определенных значениях фактора создаются наиболее благоприятные (оптимальные) условия для жизнедеятельности организм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м больше отклоняется значение экологического фактора от оптимального уровня, тем сильнее угнетается жизнедеятельность особ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апазон значений фактора, за границами которого нормальная жизнедеятельность особей невозможна, называется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еделом вынослив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 Степень выносливости по отношению к тому или иному экологическому фактору называют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экологической валентность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прос 3. Уровни организации живых организм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 воздействием экологических факторов живые организмы объединяются в различные иерархические системы, которые по уровню организации делят н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пуляци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обществ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логические сист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3628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20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пуляцию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ует совокупность особей одного вида, длительно занимающая определенное пространство и воспроизводящая себя в течение большого числа поколений. В современной биологии популяция рассматривается как элементарная частица процесса эволюции, способная реагировать на изменение среды перестройкой своего генофон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3628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ми признаками популяции являютс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численность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плотность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 возрастной состав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) соотношение полов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) рождаемость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) смертность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) пространственное распредел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79280" y="333360"/>
            <a:ext cx="850752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общество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это совокупность популяций, занимающих какую-либо территорию. Наименьшей его единицей является биоцено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иоценоз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ставляет собой организованное объединение живых организмов, живущих совместно в одних и тех же условиях. Для него характерны целостность и способность к самоорганизации, устойчивые связи между популяциями, но не отдельными особя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915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отличие от экологической системы, включающей как живые, так и неживые компоненты, биоценоз объединяет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только живые организм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транство с однородными условиями, заселенное каким-либо биоценозом, называется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иотопо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овокупности биоценоз и биотоп образуют биогеоценоз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сновы общей экологии: вопросы лек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мет и основные разделы современной эк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нятие и классификация экологических фактор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овни организации живых организм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нятия биосферы и ноосф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 законы и принципы эколог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иогеоценоз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расположенная на определенной территории совокупность однородных природных явлений (атмосферы, горных пород, растительного и животного мира, почв и т.д.), взаимодействующих между собой специфическим образом, имеющих собственную структуру, определенный тип обмена веществом и энергией и находящихся в постоянном развитии и движе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кологическая систем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это исторически сложившееся единое природное пространство, образованное живыми организмами и средой их совместного обитания, в котором живые и неживые элементы связаны между собой обменом вещества и энерг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95280" y="549000"/>
            <a:ext cx="829152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онентами экологической системы являютс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еорганические вещес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углерод, азот, углекислый газ, вода и т.д.), вступающие в кругово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рганические соедин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белки, углевод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лиматический режи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температура, влажность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одуцен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– автотрофные организмы, способные создавать пищу из простых неорганических веществ (например, наземные растен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онсумен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гетеротрофные организмы, которые питаются другими организмами или частицами органического вещества (главным образом, животны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еструктор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гетеротрофные организмы, которые разрушают сложные соединения до простых, пригодных для использования продуцентами (главным образом, бактерии и гриб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9280" y="620280"/>
            <a:ext cx="814716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логические системы классифицируются в зависимости от климатической зоны, характера среды обитания, влияния экологических факторов и т.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и также могут быть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естественными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лес, озеро, океан и т.д.) 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скусственными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аквариум, поле, на котором выращиваются сельскохозяйственные культуры и т.д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3628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ояние и функционирование экологической системы зависит от динамик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биотических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биотически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фактор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первым относятся плотность и рост популяций, внутривидовая и межвидовая конкуренция, разные формы пищевых связей, ко вторым – изменение химического состава среды, режима солнечной радиации, климатических условий и д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обую группу образуют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нтропогенны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актор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9152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ойчивость экологической системы во времени и в пространстве определяется ее внутренним функциональным постоянством –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гомеостазо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хранение гомеостаза осуществляется благодаря двух формам биологической устойчивости: сопротивляемости (резистентности) и вынослив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прос 4. Понятия биосферы и ноосфе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осфера − фундаментальное понятие экологии, которое появилось в биологии в XVIII в., хотя вначале употреблялось в ином значен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875 г. австрийский геолог Э. Зюсс определил биосферу как особую оболочку Земли, образуемую живыми организмами. В настоящее время эту оболочку принято называть биотой, а термин «биосфера» употребляется в трактовке В. И. Вернадского – основателя целостного учения о биосфер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4000" y="476280"/>
            <a:ext cx="83628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определению Вернадского (1926 г.),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иосфер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оболочка Земли, заселенная живыми организмами и качественно ими преобразованна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а представляет собой самую крупную (глобальную) экологическую систему планеты и включает атмосферу, гидросферу и литосферу вместе с обитающими в них живыми организм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915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труктуре биосферы Вернадский выделял семь видов веществ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живое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биогенное (возникшее из живого или подвергшееся переработке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косное (абиотическое, образованное вне жизни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) биокосное (возникшее на стыке живого и неживого, к нему Вернадский относил почву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) вещество в стадии радиоактивного распад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) рассеянные атом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) вещество космического происхожд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4358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ктивную часть биосферы, представленную живыми организмами, называют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экосферо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Ее населяют около 1 млн. видов животных и примерно 340 видов растений, причем 93% всех видов животных и растений обитают на суш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омасса экосферы (около 2 трлн. т органического вещества) поддерживается на постоянном уровне в течение сотен миллионов лет благодаря циклу синтеза и распада ( круговороту) биогенных элементов под воздействием потока солнечной энергии. Тем самым обеспечивается устойчивость биосферы в масштабе геологического времени, что является важнейшим условием глобальной экологической безопас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прос 1. Предмет и основные разделы современной экологи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от греческих слов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ikos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жилище, обитель 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os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слово, учение) – это наука о взаимоотношениях живых организмов и среды их обита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лементы знаний, относимые к области экологии, встречаются в трудах ученых античного мира (Аристотель, Теофраст). Однако чисто экологические исследования начали проводиться только во второй половин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VI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3628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жным этапом необратимой эволюции биосферы Вернадский считал ее переход в стадию ноосфе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нятие «ноосфера» было введено в 1927 г. французским философом Э. Леруа и означало мыслящую оболочку или сферу разу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овременной экологии используется определение В. И. Вернадского, в соответствии с которым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оосфер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такое качественное состояние биосферы, при котором ее развитие определяется сознательной человеческой деятельность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4358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основным предпосылкам возникновения ноосферы Вернадский относил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расселение Homo sapiens по всей поверхности планеты и его победу в соревновании с другими биологическими видам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развитие всепланетных систем связи, создание единой для человечества информационной систем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открытие новых источников энергии, включая атомную, после чего деятельность человека становится важной геологической сило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) победу демократий и доступ к управлению широких народных масс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) все более широкое вовлечение людей в научную деятельность, что также делает человечество геологической сил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915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ако, по Вернадскому, поскольку существование самого человека  есть функция биосферы, его вмешательство имеет свои пределы, выход за которые угрожает его собственному существовани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этому реальное решение глобальных экологических проблем возможно лишь в случае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оэволюции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иосферы и общества, что в современных условиях требует регламентации хозяйственно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прос 5. Основные законы и принципы эколог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мериканский эколог Б, Коммонер сформулировал следующие афоризмы, которые получили название четырех законов экологи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связано со все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должно куда-то девать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рода знает лучш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что не дается дар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17280"/>
            <a:ext cx="8686800" cy="68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акон всеобщей связи предметов и явлен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природе и обществе означает, что природа и общество включены в единую сеть системных взаимодействий и изменения в одной части системы неизбежно вызывают изменения в других ее частя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юбое изменение в экологической системе вызывает цепную реакцию, направленную на его нейтрализацию. Кроме того, зависимость между элементами экологических систем носит нелинейный характер, т.е. незначительное изменение одного из них может вызвать сильные изменения други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гласно «правилу одного процента» изменение энергетики природной системы на 1% выводит ее из равновесия, а затем разрушает. Это явление налагает природное ограничение на любую человеческую деятель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358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акон сохранения вещества и энерг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является одним из главных требований рационального природопользования. Его экологическая интерпретация включа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закон развития природной системы за счет окружающей ее сред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любая природная система может развиваться только за счет материально-энергетических и информационных ресурсов окружающей среды, поэтому невозможно как абсолютно изолированное развитие, так и полностью безотходное производств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закон неустранимости отход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любая хозяйственная деятельность ведет к появлению отходов, которые можно лишь перевести из одной формы в другую или переместить в пространстве, но нельзя устранить полнос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акон «природа знает лучше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пределяет пределы допустимого и недопустимого в биосфер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сегодняшний день на Земле обитает лишь тысячная часть испытанных эволюцией видов животных и растений. Главным критерием эволюционного отбора является вовлеченность в глобальный биотический круговорот, заполненность всех экологических ниш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915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акон цены развит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значает, что на уровне глобальной экологической системы любой выигрыш обязательно сопровождается потер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т закон имеет три следстви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эволюция больших систем происходит только от простого к сложному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с ростом сложности организации системы темпы эволюции возрастают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бесплатных ресурсов не существу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24000" y="476280"/>
            <a:ext cx="851688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афоризмам Б. Коммонера современные экологи добавили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акон ограниченности ресурс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«на всех не хватает»), который означает, что масса питательных веществ для всех живых организмов на Земле ограничена и конечна, поэтому значительное увеличение численности и массы каких-либо организмов в глобальном масштабе может происходить только за счет сокращения численности и массы други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учетом перечисленных законов будущее человечества зависит от формирования нового биосферного мировоззрения, поскольку только человеческий разум способен направить развитие по пути одновременного сохранения биосферы и цивилиз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445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рмин «экология» ввел в научный оборот в 1879 г. немецкий биолог Э. Геккель, а к 1900 г. она сформировалась как самостоятельная наука. В основе экологии лежат представления о единстве организма и среды и об изменении организмов в процессе эволю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овременной экологии существует два подхода к проблеме взаимоотношений человека и природы: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нтропоцентрический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экоцентрическ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нтропоцентрический подх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362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полагает, что общество и природа являются двумя разными системами, в которых более важную роль играют внутренние связ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заимоотношения человека и природы строятся по правилам, устанавливаемым человеком, а законы, управляющие существованием природных сообществ, на человека не распространяются или играют второстепенную роль в жизни обще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ологические проблемы рассматриваются как результаты неверного поведения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коцентрический подх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ходит из зависимости человека от природы и предполагает, что экологические законы продолжают управлять человеком, и опирается на представление об объективном существовании единой системы, в рамках которой все живые организмы взаимодействуют между собой и с окружающей природной сред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енно этот принцип целостности лежит в основе современного понимания взаимосвязи человека с природ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лавные задачи современной эколог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следование места и роли человека и общества в их взаимодействии с биосферо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точнение научных критериев, определяющих экологическую совместимость человека и биосфер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ие количественных пределов развития техносфер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зация сознания людей и поведения человеческого обще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идеологии и методологии гуманистического экоцентризм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ниторинг и диагностика окружающей природной сре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прогнозов изменения состояния биосферы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сновные разделы современной эколог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щая эколог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иоэколог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оэколог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логия человек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циальная эколог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кладная экология и д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68000" y="260280"/>
            <a:ext cx="828036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снове 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щей экологи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жит теоретическая экология, которая изучает общие закономерности функционирования экологических систем, в том числе, с использованием методов математического моделиров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оэколог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сследует отношения организмов (особей, популяций, биоценозов) между собой и окружающей сред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еоэкологи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следует взаимоотношения организмов и среды обитания в контексте их географического положения и влияния географических факторов (экология природно-климатических зон, ландшафтов, экологическое описание географических регионов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2:22:40Z</dcterms:created>
  <dc:creator>xXx</dc:creator>
  <dc:description/>
  <dc:language>en-US</dc:language>
  <cp:lastModifiedBy>LEGION</cp:lastModifiedBy>
  <dcterms:modified xsi:type="dcterms:W3CDTF">2015-05-06T08:33:32Z</dcterms:modified>
  <cp:revision>11</cp:revision>
  <dc:subject/>
  <dc:title>Тема 2. Основы общей экологии</dc:title>
</cp:coreProperties>
</file>