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522-5CC9-49A4-9EB7-B12F8E49FA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 2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ы обще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EBE1-DD62-4DB8-93FE-25D10B561D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43E-3ED1-4FF6-A7CC-7CD0C3AB37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прос 2. Понятие и классификация экологически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ми фактор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390B-2305-47D8-88DA-6C3987D47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ми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факторы принято делить на три большие групп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биотичес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ио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троп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60E6-762D-4919-9D3D-4CF7F6D9F8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0FE-21FA-4052-9D6A-E5B4E1F3BE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закономерности влияния экологического фа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ом вынослив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логической валент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4EAE-44C8-423E-BD3F-EEAF6CCC2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 3. Уровни организации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87F6-C8E3-4724-856F-72FC089151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95AB-F3D4-40DD-B003-D2E9FA7790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знаками популяц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исл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ло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озрастной сост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оотношение п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ождаем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смер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пространственное распред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264D-0206-4051-947F-BFD93A07A6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це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2AD4-F1A0-45F3-944E-8AA19A5F86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олько живые организ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оп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окупности биоценоз и биотоп образуют биогеоцен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420D-0747-43FE-96AC-6B239BD8C5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общей экологии: вопросы ле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и основные разделы совреме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и классификация экологически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биосферы и но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коны и принцип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3015-6E87-4E15-89B6-3E138D6C69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геоценоз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4B6A-05DC-45C1-BD01-9217EDFC73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03BF-AC57-4C37-8A8D-00E5B5526D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ами экологической системы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рганичес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глерод, азот, углекислый газ, вода и т.д.), вступающие в кругов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чески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белки, углев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матический реж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мпература, вла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у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стру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60FD-1241-4DE1-8B8D-296C26D83D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также могут бы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е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лес, озеро, океан и т.д.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вариум, поле, на котором выращиваются сельскохозяйственные культуры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A026-E8E9-4E6F-8329-86AA61C69A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функционирование экологической системы зависит от динами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иотически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биотическ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ую группу образ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ген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7FF5-E999-4DA7-A90B-C60F7BB4EC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меоста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DDF9-D68C-4673-B022-8C97FE4B3B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 4. Понятия биосферы и ноосфе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2495-B733-4667-8D23-A53B4E4EE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пределению Вернадского (1926 г.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F9E5-B038-43BC-9210-B745325209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иосферы Вернадский выделял семь видов ве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живо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иогенное (возникшее из живого или подвергшееся переработк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сное (абиотическое, образованное вне жизн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биокосное (возникшее на стыке живого и неживого, к нему Вернадский относил почв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ещество в стадии радиоактивного расп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ассеянные ато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щество космического происхо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8E50-BF62-4D15-93F7-8DC3A4F7C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ую часть биосферы, представленную живыми организмами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сфе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885F-AEA1-4147-93DD-9F4569C1B6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1. Предмет и основные разделы современной эк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жилище, обитель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лово, учение) – это наука о взаимоотношениях живых организмов и среды их об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E087-7070-4367-9887-7BF59AE77A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1A07-2BAB-476D-8320-A8BD527C2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дпосылкам возникновения ноосферы Вернадский относ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обеду демократий и доступ к управлению широких народных мас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C95A-DEB7-4E6B-A2F3-A38C3A9DE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эволю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B966-C284-4C43-907F-93FBAA0629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олжно куда-то де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что не дается да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78BF-7734-48ED-86F0-C9259F0261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всеобщей связи предметов и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4704-D2F9-448B-9B51-4E36414A7F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сохранения вещества и эне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развития природной системы за счет окружающей ее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неустранимости отхо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527F-1485-4343-85C9-29A7EDF22D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«природа знает лучш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ределяет пределы допустимого и недопустимого в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AE75-9A4B-4A21-A86A-43AA92BCD2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цены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закон имеет три след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волюция больших систем происходит только от простого к сложно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ростом сложности организации системы темпы эволюции возрастаю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латных ресурсов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2882-BA8C-47D1-AE2A-3D938EB93A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форизмам Б. Коммонера современные экологи добави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ограниченности ресур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234C-D011-4374-AF55-BD94AC6502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центр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3CF7-C4B1-4144-A455-88677F7CFE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 рассматриваются как результаты неверного повед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289B-7968-4C00-A8D2-27C0D75CA0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D39B-64A7-4193-8A51-04C3228321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е задачи современной эк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места и роли человека и общества в их взаимодействии с биосфер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личественных пределов развития техн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сознания людей и поведения человеческ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деологии и методологии гуманистического экоцентр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диагностика окружающей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нозов изменения состояния биосфе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54B5-7AA6-4B94-B6CA-C29EA8360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разделы современной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F20F-EBFE-40B2-A4C4-F6BB46F85F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щей эколог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AC95-DDC3-41E5-9F5B-FBC9DE7E2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97A-E6A2-4BB5-B982-5288E559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81D-BEE8-474F-A986-39B06E0C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4A8-7E85-4C8B-B2E7-FED1D950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745-57AB-4905-A1AD-7C9C63AC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E4D-9653-4CD8-8C92-EAFAEA1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152-14D6-4442-9127-4454BB6C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A47-6DFC-45D0-A0A3-55DCC42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FF2-D915-4F37-95C5-33421853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516-1823-4B9F-A96D-C950F98B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AA0-AD19-4A01-AD03-566820C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9D3-81F6-40C8-A8C0-761D904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E56-C2A2-456D-AB9B-B430E8F7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C5E8-42F0-4BFC-8EE8-682256F15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For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489564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 2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обще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я челове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адная 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2. Понятие и классификация экологических фак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ми фактор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300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ми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факторы принято делить на три большие групп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био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о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тропог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 следующие закономерности влияния экологического фак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елом вынослив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логической валент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3. Уровни организации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уляци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ризнаками популяции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исл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ло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озрастной соста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соотношение пол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рождаем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смер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пространственное рас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507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ст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цено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живые орган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топ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окупности биоценоз и биотоп образуют биогеоцено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ы общей экологии: вопросы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и основные разделы современной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и классификация экологических фак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ни организации живы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я биосферы и но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коны и принципы эколог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геоценоз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 сист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ами экологической системы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рганичес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глерод, азот, углекислый газ, вода и т.д.), вступающие в кругов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ганические 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елки, угле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лиматически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емпература, влаж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уц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стру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также могут бы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е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ес, озеро, океан и т.д.)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квариум, поле, на котором выращиваются сельскохозяйственные культуры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и функционирование экологической системы зависит от динами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отическ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биот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ую группу образу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ген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меоста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4. Понятия биосферы и но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пределению Вернадского (1926 г.)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уктуре биосферы Вернадский выделял семь видов вещ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жив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биогенное (возникшее из живого или подвергшееся переработк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осное (абиотическое, образованное вне жизн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иокосное (возникшее на стыке живого и неживого, к нему Вернадский относил почв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ещество в стадии радиоактивного распа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рассеянные ато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вещество космического происх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ую часть биосферы, представленную живыми организмами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осф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1. Предмет и основные разделы современной эк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греческих сл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жилище, обитель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во, учение) – это наука о взаимоотношениях живых организмов и среды их об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основным предпосылкам возникновения ноосферы Вернадский относи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обеду демократий и доступ к управлению широких народных мас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эволю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вязано со вс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олжно куда-то де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 знает лучш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то не дается д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7280"/>
            <a:ext cx="868680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всеобщей связи предметов и явл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сохранения вещества и эне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развития природной системы за счет окружающей ее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неустранимости отх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«природа знает лучш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 пределы допустимого и недопустимого в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 цены 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закон имеет три следств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волюция больших систем происходит только от простого к сложном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 ростом сложности организации системы темпы эволюции возрастаю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есплатных ресурсов не суще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16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афоризмам Б. Коммонера современные экологи добав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ограниченности ресур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45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центриче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центр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роп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 рассматриваются как результаты неверного повед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места и роли человека и общества в их взаимодействии с биосфе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количественных пределов развития техн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зация сознания людей и поведения человеческого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деологии и методологии гуманистического экоцент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 диагностика окружающей природ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нозов изменения состояния биосфер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разделы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адная экология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щей эколог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22:40Z</dcterms:created>
  <dc:creator>xXx</dc:creator>
  <dc:description/>
  <dc:language>en-US</dc:language>
  <cp:lastModifiedBy>LEGION</cp:lastModifiedBy>
  <dcterms:modified xsi:type="dcterms:W3CDTF">2015-05-06T08:33:32Z</dcterms:modified>
  <cp:revision>11</cp:revision>
  <dc:subject/>
  <dc:title>Тема 2. Основы общей экологии</dc:title>
</cp:coreProperties>
</file>