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BF22-7B77-45AE-8629-E5C976899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 2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ы обще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BA84-E5CD-4845-9C70-BA1CFA577F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 челове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0785-D65F-4F1F-9B56-23C46B3E68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опрос 2. Понятие и классификация экологически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ими фактора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4B78-7B92-4B09-8E0F-96F84F68C6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ловиями жиз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факторы принято делить на три большие групп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биотичес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ио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троп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380C-C2A5-4DF1-9D4B-1BBE5F13D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5F19-EDF4-44A3-BEC6-4B2E31A3D2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закономерности влияния экологического фа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делом вынослив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логической валент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879B-40CA-4D4C-8C37-EBE45A3B5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 3. Уровни организации живых организм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ля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18EE-85C8-41F7-BAFF-F50CB0326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цию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D4D4-1580-4A07-8D45-1241FABF7A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знаками популяции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исл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ло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озрастной сост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оотношение п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ождаем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смерт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пространственное распред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6678-75AA-44D4-96E2-41F95ECEE3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бщ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ценоз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851C-9F38-4A0C-B718-CE96F9EAC1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олько живые организ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топ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окупности биоценоз и биотоп образуют биогеоцен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B512-009B-4834-A7BE-527F3D4FEC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ы общей экологии: вопросы ле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 и основные разделы совреме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и классификация экологически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ни организации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я биосферы и но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коны и принцип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5707-5BA4-4F9C-8EC0-72F919061B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иогеоценоз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81B4-FAA4-4E8D-9F26-3C873BF574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 систе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8E79-DC4F-40F9-8F05-FB223BA085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ами экологической системы являю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органичес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глерод, азот, углекислый газ, вода и т.д.), вступающие в кругов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рганические соеди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белки, углев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матический реж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емпература, влажно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у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еструк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254B-67EF-4521-885E-EE2C682649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также могут бы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те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лес, озеро, океан и т.д.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кусствен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вариум, поле, на котором выращиваются сельскохозяйственные культуры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438F-5F3B-482D-B08F-BDBDF39BC2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функционирование экологической системы зависит от динами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иотически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биотическ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ую группу образуют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генн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3808-AAB3-405F-8F21-09BDA46A5B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меостаз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D7A5-983A-49A5-947D-DAAE412E4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 4. Понятия биосферы и ноосфе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EA33-3955-47DA-B35A-5223BA9BE4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пределению Вернадского (1926 г.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7F0A-3B6F-445A-9D73-2884CD8127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биосферы Вернадский выделял семь видов веществ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живо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иогенное (возникшее из живого или подвергшееся переработке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сное (абиотическое, образованное вне жизни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биокосное (возникшее на стыке живого и неживого, к нему Вернадский относил почву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ещество в стадии радиоактивного распа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ассеянные ато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щество космического происхож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7A81-6F41-4EB5-9D5F-AF0978151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ую часть биосферы, представленную живыми организмами,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сфер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9195-C462-444F-8790-F7592D784E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1. Предмет и основные разделы современной эк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жилище, обитель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лово, учение) – это наука о взаимоотношениях живых организмов и среды их об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8622-5E5B-4E74-9368-29E4B9C138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осфе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29D3-AD5A-4AB9-95FA-9F51752727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редпосылкам возникновения ноосферы Вернадский относил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обеду демократий и доступ к управлению широких народных мас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B482-FAC7-4A75-A979-80F1A2E738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эволю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055D-0B93-460B-907F-046A2D953F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вязано со вс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должно куда-то де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знает луч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что не дается да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C384-DFEA-45B5-AAD6-0069BBA86E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всеобщей связи предметов и явл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C6DE-F03E-416A-A249-14138A1AFF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сохранения вещества и энер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развития природной системы за счет окружающей ее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акон неустранимости отход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920A-7C5B-428C-9A9E-8DF8317A49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«природа знает лучш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ределяет пределы допустимого и недопустимого в би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2122-F1E0-4783-AD0B-760E3798FD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цены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закон имеет три след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волюция больших систем происходит только от простого к сложном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 ростом сложности организации системы темпы эволюции возрастаю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латных ресурсов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BAF0-EF85-46B6-B205-21FD28CF13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афоризмам Б. Коммонера современные экологи добави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 ограниченности ресур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A35F-21C7-4934-AF07-400B188B8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центр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4157-453A-4A43-82BA-30CE0428B6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 рассматриваются как результаты неверного повед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80D8-DC04-4165-B6D6-4A91420506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центрически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6283-D740-4178-9DA6-0BB247A306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ые задачи современной эколог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места и роли человека и общества в их взаимодействии с биосфер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оличественных пределов развития техн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сознания людей и поведения человеческ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деологии и методологии гуманистического экоцентр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диагностика окружающей природной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нозов изменения состояния биосфе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5CD2-1C11-417E-82A3-3EE6D2DE7C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разделы современной эк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 экология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1419-CA17-492E-949A-B90E020304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щей эколог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эк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9CDF-716E-47DC-B49E-0205E5F2EF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2EF-CECD-4CEE-BDB6-7D415CCB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FFD-9A64-45EE-9888-6D1D1B3B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9B9-70E5-480B-AE3B-93A112C8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E70-88BE-48EB-9CE7-24DB4718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35A-8B64-4FF5-BDF3-196B842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39D-2495-4DBE-8DCF-80CB1EA3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E5C1-1FD1-4FAD-8A45-87FC5566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BC5F-500B-4A78-9463-98844ED1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240B-1769-4461-94A0-86909BED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3C9-F11D-4AFA-A7BE-05F62329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A89-F9E1-4C63-9DB9-817D8CED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37F-EC1C-4E7B-A71B-507AC326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BDEE-341B-49DE-ACC3-3FFCCFFB8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For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868640"/>
            <a:ext cx="4895640" cy="12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 2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новы обще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ология челове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ает взаимодействие человека как биологической особи и социального субъекта (личности) с окружающей природной средой. Ее частью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ая 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сследующая связь социальных систем с природой и социальной средой (экология человеческих популяций, экологическая демограф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адная 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яет направления исследований, касающиеся различных сфер человеческой деятельности и взаимодействия общества с природой. Сюда относится инженерная, сельскохозяйственная, медицинская, рекреационная эколог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2. Понятие и классификация экологических факто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ими фактор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ются элементы среды, которые или необходимы организму, или же воздействуют на него неблагоприя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− это все, что окружает организм, прямо или косвенно влияет на его развитие, состояние, выживаемость, размножение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 каждого организма состоит из множества элементов природы и элементов, возникающих в процессе жизнедеятельности человека. Эти элементы могут быть для организма полезными, нейтральными, вредными; положительно или отрицательно влиять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300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окупность необходимых для жизни элементов среды, с которыми организм находится в неразрывном единстве и без которых не может существовать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ми жиз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факторы принято делить на три большие групп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био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ио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тропог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3026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комплекс условий неорганической среды, влияющих на организм и определяющих условия его существования. В свою очередь, они делятся на химические, физические, климат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совокупность влияний жизнедеятельности одних организмов на другие. В широком смысле они представляют собой внутривидовые и межвидовые взаимоотношения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ны с деятельностью человека, которая сопровождается изменением природной среды, влияет на условия жизни других организм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 следующие закономерности влияния экологического факто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ределенных значениях фактора создаются наиболее благоприятные (оптимальные) условия для жизнедеятельности организм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больше отклоняется значение экологического фактора от оптимального уровня, тем сильнее угнетается жизнедеятельность ос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пазон значений фактора, за границами которого нормальная жизнедеятельность особей невозможна, 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делом вынослив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Степень выносливости по отношению к тому или иному экологическому фактору называ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логической валент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3. Уровни организации живых орг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воздействием экологических факторов живые организмы объединяются в различные иерархические системы, которые по уровню организации делят 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уля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бщест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20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уляци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ует совокупность особей одного вида, длительно занимающая определенное пространство и воспроизводящая себя в течение большого числа поколений. В современной биологии популяция рассматривается как элементарная частица процесса эволюции, способная реагировать на изменение среды перестройкой своего гено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ми признаками популяции являютс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числ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ло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возрастной соста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соотношение пол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рождаем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смерт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) пространственное распреде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507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обществ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овокупность популяций, занимающих какую-либо территорию. Наименьшей его единицей является биоцено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ценоз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ляет собой организованное объединение живых организмов, живущих совместно в одних и тех же условиях. Для него характерны целостность и способность к самоорганизации, устойчивые связи между популяциями, но не отдельными особ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экологической системы, включающей как живые, так и неживые компоненты, биоценоз объединяе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олько живые организм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 с однородными условиями, заселенное каким-либо биоценозом, называе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иотоп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овокупности биоценоз и биотоп образуют биогеоцено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ы общей экологии: вопросы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мет и основные разделы современной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и классификация экологических фак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ни организации живых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я биосферы и ноо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законы и принципы экологи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иогеоценоз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расположенная на определенной территории совокупность однородных природных явлений (атмосферы, горных пород, растительного и животного мира, почв и т.д.), взаимодействующих между собой специфическим образом, имеющих собственную структуру, определенный тип обмена веществом и энергией и находящихся в постоянном развитии и дви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ческая сист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исторически сложившееся единое природное пространство, образованное живыми организмами и средой их совместного обитания, в котором живые и неживые элементы связаны между собой обменом вещества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2915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ами экологической системы являю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рганичес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глерод, азот, углекислый газ, вода и т.д.), вступающие в кругов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рганические соед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белки, угле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лиматический реж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емпература, влажност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дуц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– автотрофные организмы, способные создавать пищу из простых неорганических веществ (например, наземные раст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сумен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питаются другими организмами или частицами органического вещества (главным образом, животн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еструк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гетеротрофные организмы, которые разрушают сложные соединения до простых, пригодных для использования продуцентами (главным образом, бактерии и гриб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системы классифицируются в зависимости от климатической зоны, характера среды обитания, влияния экологических факторов и т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также могут быть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есте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лес, озеро, океан и т.д.)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скусственным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аквариум, поле, на котором выращиваются сельскохозяйственные культуры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и функционирование экологической системы зависит от динамик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иотически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биотическ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актор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ервым относятся плотность и рост популяций, внутривидовая и межвидовая конкуренция, разные формы пищевых связей, ко вторым – изменение химического состава среды, режима солнечной радиации, климатических услов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ую группу образую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ген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915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ойчивость экологической системы во времени и в пространстве определяется ее внутренним функциональным постоянством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меостаз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ение гомеостаза осуществляется благодаря двух формам биологической устойчивости: сопротивляемости (резистентности) и вынослив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4. Понятия биосферы и ноосф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сфера − фундаментальное понятие экологии, которое появилось в биологии в XVIII в., хотя вначале употреблялось в ином знач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75 г. австрийский геолог Э. Зюсс определил биосферу как особую оболочку Земли, образуемую живыми организмами. В настоящее время эту оболочку принято называть биотой, а термин «биосфера» употребляется в трактовке В. И. Вернадского – основателя целостного учения о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пределению Вернадского (1926 г.)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осф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олочка Земли, заселенная живыми организмами и качественно ими преобразованн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представляет собой самую крупную (глобальную) экологическую систему планеты и включает атмосферу, гидросферу и литосферу вместе с обитающими в них живыми организм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уктуре биосферы Вернадский выделял семь видов веществ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жив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биогенное (возникшее из живого или подвергшееся переработке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косное (абиотическое, образованное вне жизн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биокосное (возникшее на стыке живого и неживого, к нему Вернадский относил почву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ещество в стадии радиоактивного распад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рассеянные ато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вещество космического происхо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ную часть биосферы, представленную живыми организмами, называю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осфер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Ее населяют около 1 млн. видов животных и примерно 340 видов растений, причем 93% всех видов животных и растений обитают на су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масса экосферы (около 2 трлн. т органического вещества) поддерживается на постоянном уровне в течение сотен миллионов лет благодаря циклу синтеза и распада ( круговороту) биогенных элементов под воздействием потока солнечной энергии. Тем самым обеспечивается устойчивость биосферы в масштабе геологического времени, что является важнейшим условием глобальной экологической безопас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 1. Предмет и основные разделы современной эк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т греческих сл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жилище, обитель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во, учение) – это наука о взаимоотношениях живых организмов и среды их об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менты знаний, относимые к области экологии, встречаются в трудах ученых античного мира (Аристотель, Теофраст). Однако чисто экологические исследования начали проводиться только во второй половин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362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жным этапом необратимой эволюции биосферы Вернадский считал ее переход в стадию ноосф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ноосфера» было введено в 1927 г. французским философом Э. Леруа и означало мыслящую оболочку или сферу раз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используется определение В. И. Вернадского, в соответствии с которы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акое качественное состояние биосферы, при котором ее развитие определяется сознательной человеческой деятель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основным предпосылкам возникновения ноосферы Вернадский относи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расселение Homo sapiens по всей поверхности планеты и его победу в соревновании с другими биологическими вида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развитие всепланетных систем связи, создание единой для человечества информационной систем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открытие новых источников энергии, включая атомную, после чего деятельность человека становится важной геологической сил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победу демократий и доступ к управлению широких народных мас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все более широкое вовлечение людей в научную деятельность, что также делает человечество геологической си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, по Вернадскому, поскольку существование самого человека  есть функция биосферы, его вмешательство имеет свои пределы, выход за которые угрожает его собственному существов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реальное решение глобальных экологических проблем возможно лишь в случа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эволюци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сферы и общества, что в современных условиях требует регламентации хозяйствен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5. Основные законы и принципы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риканский эколог Б, Коммонер сформулировал следующие афоризмы, которые получили название четырех законов эколог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связано со вс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должно куда-то девать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а знает лучш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что не дается д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7280"/>
            <a:ext cx="8686800" cy="68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всеобщей связи предметов и явл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рироде и обществе означает, что природа и общество включены в единую сеть системных взаимодействий и изменения в одной части системы неизбежно вызывают изменения в других ее част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е изменение в экологической системе вызывает цепную реакцию, направленную на его нейтрализацию. Кроме того, зависимость между элементами экологических систем носит нелинейный характер, т.е. незначительное изменение одного из них может вызвать сильные изменения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гласно «правилу одного процента» изменение энергетики природной системы на 1% выводит ее из равновесия, а затем разрушает. Это явление налагает природное ограничение на любую человеческ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сохранения вещества и энерг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одним из главных требований рационального природопользования. Его экологическая интерпретация 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развития природной системы за счет окружающей ее ср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природная система может развиваться только за счет материально-энергетических и информационных ресурсов окружающей среды, поэтому невозможно как абсолютно изолированное развитие, так и полностью безотходное производст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закон неустранимости отх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любая хозяйственная деятельность ведет к появлению отходов, которые можно лишь перевести из одной формы в другую или переместить в пространстве, но нельзя устранить полно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«природа знает лучше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ределяет пределы допустимого и недопустимого в биосф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на Земле обитает лишь тысячная часть испытанных эволюцией видов животных и растений. Главным критерием эволюционного отбора является вовлеченность в глобальный биотический круговорот, заполненность всех экологических ниш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915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он цены 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значает, что на уровне глобальной экологической системы любой выигрыш обязательно сопровождается потер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закон имеет три следств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волюция больших систем происходит только от простого к сложном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 ростом сложности организации системы темпы эволюции возрастаю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есплатных ресурсов не существу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516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афоризмам Б. Коммонера современные экологи добав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кон ограниченности ресур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«на всех не хватает»), который означает, что масса питательных веществ для всех живых организмов на Земле ограничена и конечна, поэтому значительное увеличение численности и массы каких-либо организмов в глобальном масштабе может происходить только за счет сокращения численности и массы друг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учетом перечисленных законов будущее человечества зависит от формирования нового биосферного мировоззрения, поскольку только человеческий разум способен направить развитие по пути одновременного сохранения биосферы и циви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445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рмин «экология» ввел в научный оборот в 1879 г. немецкий биолог Э. Геккель, а к 1900 г. она сформировалась как самостоятельная наука. В основе экологии лежат представления о единстве организма и среды и об изменении организмов в процессе эволю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ой экологии существует два подхода к проблеме взаимоотношений человека и природы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нтропоцентрический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коцентр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троп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агает, что общество и природа являются двумя разными системами, в которых более важную роль играют внутренни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отношения человека и природы строятся по правилам, устанавливаемым человеком, а законы, управляющие существованием природных сообществ, на человека не распространяются или играют второстепенную роль в жизни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 рассматриваются как результаты неверного поведен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центрически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ходит из зависимости человека от природы и предполагает, что экологические законы продолжают управлять человеком, и опирается на представление об объективном существовании единой системы, в рамках которой все живые организмы взаимодействуют между собой и с окружающей природно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но этот принцип целостности лежит в основе современного понимания взаимосвязи человека с приро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вные задачи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ние места и роли человека и общества в их взаимодействии с биосфе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научных критериев, определяющих экологическую совместимость человека и би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количественных пределов развития техно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зация сознания людей и поведения человеческого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идеологии и методологии гуманистического экоцентр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инг и диагностика окружающей природ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нозов изменения состояния биосфер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ые разделы современной эк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кладная экология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280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е 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щей эколог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ит теоретическая экология, которая изучает общие закономерности функционирования экологических систем, в том числе, с использованием методов математического модел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следует отношения организмов (особей, популяций, биоценозов) между собой и окружающей сред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оэколог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ует взаимоотношения организмов и среды обитания в контексте их географического положения и влияния географических факторов (экология природно-климатических зон, ландшафтов, экологическое описание географических регион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22:40Z</dcterms:created>
  <dc:creator>xXx</dc:creator>
  <dc:description/>
  <dc:language>en-US</dc:language>
  <cp:lastModifiedBy>LEGION</cp:lastModifiedBy>
  <dcterms:modified xsi:type="dcterms:W3CDTF">2015-05-06T08:33:32Z</dcterms:modified>
  <cp:revision>11</cp:revision>
  <dc:subject/>
  <dc:title>Тема 2. Основы общей экологии</dc:title>
</cp:coreProperties>
</file>