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5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82C7-A379-49B7-BFEC-13C39A1E63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ема: Глобальные проблемы человеч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общение знаний (1 ча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464A-C7ED-4512-A25C-7F6B6FC854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довольственн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Нехватка продовольствия (мировой голод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нтенсивный путь развития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Социально-экономические причины, хищническое природополь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BE09C-50C3-401A-A04F-957E82B85B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нергетическая и сырьев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Увеличение объемов мировой добычи полезных ископае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блема ресурсообеспеч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Поиск новых видов ресурсов. Рациональное использование и воспроизводство минерально-сырьевых ресурсов при поддержки НТ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8696-2889-489C-83CB-9CB607B313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отсталости развивающихся ст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Проведение коренных социально-экономических преобразований во всех сферах жизни и деятельности стран «четвертого», «третьего»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Наследие колониального прошлого, действие современных монополий, эксплуатация развивающихся стран Азии, Африки, Латинской Амер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Огромные масштабы отсталости развивающихся ст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28C03-92D9-45E6-8E50-4011475C487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Водная проблема. Загрязнение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ациональное океаническое природопользование, сбалансированный комплексный подход к его богат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Неравномерное освоение мирового оке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44F9-3306-48DB-A342-0A9A72FC79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облема мирного освоения косм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Необходимое использование ресурсов косм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ерспективы развития новых космически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Предотвращение «звездных войн», объединение всех стран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DFCB-8711-4275-A9A1-1E1C7F6DF5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: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«Все мы пассажиры одного корабля по имени «Земля», значит, пересесть из него некуда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: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«Мы унаследовали Землю от наших предков. Мы берем ее взаймы у наших потомков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 как думаешь ты?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39F00-2CFD-4A2E-9583-91E6179089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Задач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бобщение и закрепление знаний о глобальных проблем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щность глобальны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 глобальны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 глобальных пробл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0970B-641D-40A4-8AC7-CDF66AFFF8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езультаты об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этапное заполнение и комментарии результатов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Глобальные проблемы человече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лан характеристики глобальных пробле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ира и разору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колог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мограф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нергетическая и сырьев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довольственн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еодоление отсталости развивающихся стран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спользование Мирового океа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ирное освоение космо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81FA-A377-46D5-A791-F6E2CF1FE4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сновные понятия 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Глобальные - глобалистика – нау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Ойкумена - населенная и освоенная человеком часть Зем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Экологическая проблема - проблема взаимоотношения общества и природы, сохранения окружающей среды - так можно определить эту проблему с географической точки зр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Ключевая - проблема мира и разоруж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Эколог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мографическ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Насущная - проблема дефицита сырья, топлива и продовольств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Освоение Космоса и Мирового океа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Узловая - преодоления экономической отсталости отдельных стран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Ключевая - ключ к решению всех проб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Насущная - ежедневно, ежечасно требует реш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- Узловая - разрубив этот узел противоречий в развитии отдельных стран, продвинемся к решению всех глобальных проблем челове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B705B-3851-4094-93D8-7F37E2820C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пиг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ного нас - людей - на белом свете. Маются серьезные умы: в этой жизни, в этой круговерти, сумасшедшие, расплодились м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Бьют демографические взрывы, сохнут реки, и чернеет наст, Города вступают, как нарывы. Очень много, слишком много нас! Много нас. Ученый бомбу хвалит. Много нас. Эсминец рвет волну. Много!.,. Только все-таки не хватит нас - людей - на новую вой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Р. Рождественск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5C42-93E1-439C-A60B-B0FA86AB37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лобальная проблема мира и разору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Оружие массового уничтожения у двух сверхдержав – СССР и США (после второй мировой вой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асность для всего живого на план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Договоры об утилизации и сокращении вооружений (усилиями стран мир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8783-B307-4BEA-864B-6906F55EBB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колог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Человечество «засорило Земл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Хозяйственная деятельность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Организация производственной и непроизводственной деятельности людей для нормального экоразвития, преобразование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5246-F741-4B76-BF82-67DCBFBC6DE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Этапы глобального потеплен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силение концентрации С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Таяние льд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вышение уровня воды в мировом оке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реснение мирового океа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зменение теплых те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атастрофические цун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зменение климата глобальное похоло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D523C-0018-45D6-A598-7147CCE066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емографическая пробл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ыбери правильный комментарий для итогов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уть проблем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ичины возникнов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ути реш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Вариан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а. Депопуляция, нарушение воспроизводства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.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табилизация численно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Изменение экономических и социальных услови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F24D-8111-4169-A3D9-E1E145D772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CECD-4466-4710-80FE-F07ABEBC3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E0DE-278D-4419-8C11-9FF5D536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9BD9-45C6-4A0B-BF7A-414918BF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ADC6-F020-438D-9905-1CD313BF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1219-A7F3-4E1B-B0CB-656C1066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B29-4E07-412B-A112-D024FDF9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7B2-C18D-40A8-8AF7-AF74F6DA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05C7-F381-44E3-B20E-2A8280D2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0980-3A14-4A2F-8BA3-A18C2A5F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16DB-22EF-44DA-8E4D-C7E2E578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BB1-B861-49F1-A207-F88DF745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F92-FC84-41B4-8C6B-F024A6E9A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291B3-82B0-481A-9301-8750D8555F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playst.ru/im1/apofis2.jpg" TargetMode="External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5" descr="P1030022"/>
          <p:cNvPicPr/>
          <p:nvPr/>
        </p:nvPicPr>
        <p:blipFill>
          <a:blip r:embed="rId2"/>
          <a:stretch/>
        </p:blipFill>
        <p:spPr>
          <a:xfrm>
            <a:off x="2843280" y="2232000"/>
            <a:ext cx="3670200" cy="282276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  <p:sp>
        <p:nvSpPr>
          <p:cNvPr id="50" name="Text Box 6"/>
          <p:cNvSpPr/>
          <p:nvPr/>
        </p:nvSpPr>
        <p:spPr>
          <a:xfrm>
            <a:off x="1763640" y="255600"/>
            <a:ext cx="6193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ма: Глобальные проблемы человеч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общение знаний (1 ча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187280" y="5549760"/>
            <a:ext cx="67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ОУ лицей №104» учитель географии О.А. Каза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348000" y="61149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Новокузнецк, 2009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01 - The Day After Tomorrow.mp3" descr=""/>
          <p:cNvPicPr/>
          <p:nvPr/>
        </p:nvPicPr>
        <p:blipFill>
          <a:blip r:embed="rId3"/>
          <a:stretch/>
        </p:blipFill>
        <p:spPr>
          <a:xfrm>
            <a:off x="468360" y="5761080"/>
            <a:ext cx="298440" cy="2998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5"/>
          <p:cNvSpPr/>
          <p:nvPr/>
        </p:nvSpPr>
        <p:spPr>
          <a:xfrm>
            <a:off x="250920" y="333360"/>
            <a:ext cx="8713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довольственн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Нехватка продовольствия (мировой голо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нсивный путь развития хозяй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Социально-экономические причины, хищническое природопользо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336123"/>
          <p:cNvPicPr/>
          <p:nvPr/>
        </p:nvPicPr>
        <p:blipFill>
          <a:blip r:embed="rId2"/>
          <a:stretch/>
        </p:blipFill>
        <p:spPr>
          <a:xfrm>
            <a:off x="684360" y="3860640"/>
            <a:ext cx="3600360" cy="2784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h_jMLo89PkYdK7QzVvZfWGmB6p5eADb3tJ_"/>
          <p:cNvPicPr/>
          <p:nvPr/>
        </p:nvPicPr>
        <p:blipFill>
          <a:blip r:embed="rId3"/>
          <a:stretch/>
        </p:blipFill>
        <p:spPr>
          <a:xfrm>
            <a:off x="5940360" y="4005360"/>
            <a:ext cx="2648160" cy="1909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250920" y="333360"/>
            <a:ext cx="87138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нергетическая и сырьев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Увеличение объемов мировой добычи полезных ископаем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блема ресурсообеспеч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оиск новых видов ресурсов. Рациональное использование и воспроизводство минерально-сырьевых ресурсов при поддержки НТ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291"/>
          <p:cNvPicPr/>
          <p:nvPr/>
        </p:nvPicPr>
        <p:blipFill>
          <a:blip r:embed="rId2"/>
          <a:stretch/>
        </p:blipFill>
        <p:spPr>
          <a:xfrm>
            <a:off x="395280" y="4005360"/>
            <a:ext cx="2592360" cy="2279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070904_1a"/>
          <p:cNvPicPr/>
          <p:nvPr/>
        </p:nvPicPr>
        <p:blipFill>
          <a:blip r:embed="rId3"/>
          <a:stretch/>
        </p:blipFill>
        <p:spPr>
          <a:xfrm>
            <a:off x="4716360" y="4292640"/>
            <a:ext cx="3492720" cy="213192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250920" y="333360"/>
            <a:ext cx="871380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отсталости развивающихся стр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Проведение коренных социально-экономических преобразований во всех сферах жизни и деятельности стран «четвертого», «третьего»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следие колониального прошлого, действие современных монополий, эксплуатация развивающихся стран Азии, Африки, Латинск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громные масштабы отсталости развивающихся ст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3534-large"/>
          <p:cNvPicPr/>
          <p:nvPr/>
        </p:nvPicPr>
        <p:blipFill>
          <a:blip r:embed="rId2"/>
          <a:stretch/>
        </p:blipFill>
        <p:spPr>
          <a:xfrm>
            <a:off x="4284720" y="4149720"/>
            <a:ext cx="3854520" cy="2492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336123"/>
          <p:cNvPicPr/>
          <p:nvPr/>
        </p:nvPicPr>
        <p:blipFill>
          <a:blip r:embed="rId3"/>
          <a:stretch/>
        </p:blipFill>
        <p:spPr>
          <a:xfrm>
            <a:off x="539640" y="4309920"/>
            <a:ext cx="2583000" cy="19972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250920" y="333360"/>
            <a:ext cx="87138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мирового оке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Водная проблема. Загрязнение мирового оке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циональное океаническое природопользование, сбалансированный комплексный подход к его богатства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еравномерное освоение мирового океа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kinopoisk"/>
          <p:cNvPicPr/>
          <p:nvPr/>
        </p:nvPicPr>
        <p:blipFill>
          <a:blip r:embed="rId2"/>
          <a:stretch/>
        </p:blipFill>
        <p:spPr>
          <a:xfrm>
            <a:off x="539640" y="4149720"/>
            <a:ext cx="4753080" cy="1981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Океан"/>
          <p:cNvPicPr/>
          <p:nvPr/>
        </p:nvPicPr>
        <p:blipFill>
          <a:blip r:embed="rId3"/>
          <a:stretch/>
        </p:blipFill>
        <p:spPr>
          <a:xfrm>
            <a:off x="6156360" y="4221000"/>
            <a:ext cx="2481120" cy="18608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50920" y="333360"/>
            <a:ext cx="8713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блема мирного освоения косм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Необходимое использование ресурсов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спективы развития новых космических технолог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Предотвращение «звездных войн», объединение всех стран ми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Космос 1"/>
          <p:cNvPicPr/>
          <p:nvPr/>
        </p:nvPicPr>
        <p:blipFill>
          <a:blip r:embed="rId2"/>
          <a:stretch/>
        </p:blipFill>
        <p:spPr>
          <a:xfrm>
            <a:off x="611280" y="3860640"/>
            <a:ext cx="3298680" cy="24750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250920" y="333360"/>
            <a:ext cx="8713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«Все мы пассажиры одного корабля по имени «Земля», значит, пересесть из него некуда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Мы унаследовали Землю от наших предков. Мы берем ее взаймы у наших потомков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как думаешь ты?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250920" y="333360"/>
            <a:ext cx="871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и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общение и закрепление знаний о глобальных проблема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ность глобальны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 глобальны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 глобальных пробл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1233602454_zemlja-1"/>
          <p:cNvPicPr/>
          <p:nvPr/>
        </p:nvPicPr>
        <p:blipFill>
          <a:blip r:embed="rId2"/>
          <a:stretch/>
        </p:blipFill>
        <p:spPr>
          <a:xfrm>
            <a:off x="2987640" y="3429000"/>
            <a:ext cx="3166920" cy="237492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250920" y="333360"/>
            <a:ext cx="8713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езультаты об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этапное заполнение и комментарии результатов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Глобальные проблемы человечест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лан характеристики глобальных пробл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ра и разору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колог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мограф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нергетическая и сырьев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овольственн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одоление отсталости развивающихся стран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ование Мирового оке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ирное освоение косм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250920" y="333360"/>
            <a:ext cx="8713800" cy="55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новные понятия 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Глобальные - глобалистика – наук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йкумена - населенная и освоенная человеком часть Земл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ологическая проблема - проблема взаимоотношения общества и природы, сохранения окружающей среды - так можно определить эту проблему с географической точки з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лючевая - проблема мира и разоруж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Эколог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емографическа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асущная - проблема дефицита сырья, топлива и продовольств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Освоение Космоса и Мирового океа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зловая - преодоления экономической отсталости отдельных стран ми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Ключевая - ключ к решению всех пробле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Насущная - ежедневно, ежечасно требует реш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- Узловая - разрубив этот узел противоречий в развитии отдельных стран, продвинемся к решению всех глобальных проблем человече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179280" y="765000"/>
            <a:ext cx="871380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пигра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ного нас - людей - на белом свете. Маются серьезные умы: в этой жизни, в этой круговерти, сумасшедшие, расплодились мы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ьют демографические взрывы, сохнут реки, и чернеет наст, Города вступают, как нарывы. Очень много, слишком много нас! Много нас. Ученый бомбу хвалит. Много нас. Эсминец рвет волну. Много!.,. Только все-таки не хватит нас - людей - на новую вой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. Рождественск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picture"/>
          <p:cNvPicPr/>
          <p:nvPr/>
        </p:nvPicPr>
        <p:blipFill>
          <a:blip r:embed="rId2"/>
          <a:stretch/>
        </p:blipFill>
        <p:spPr>
          <a:xfrm>
            <a:off x="539640" y="4221000"/>
            <a:ext cx="3168720" cy="237672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5"/>
          <p:cNvSpPr/>
          <p:nvPr/>
        </p:nvSpPr>
        <p:spPr>
          <a:xfrm>
            <a:off x="250920" y="333360"/>
            <a:ext cx="8713800" cy="52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обальная проблема мира и разору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Оружие массового уничтожения у двух сверхдержав – СССР и США (после второй мировой войны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асность для всего живого на плане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Договоры об утилизации и сокращении вооружений (усилиями стран мир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4"/>
          <p:cNvPicPr/>
          <p:nvPr/>
        </p:nvPicPr>
        <p:blipFill>
          <a:blip r:embed="rId2"/>
          <a:stretch/>
        </p:blipFill>
        <p:spPr>
          <a:xfrm>
            <a:off x="7164360" y="836640"/>
            <a:ext cx="1521000" cy="180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25"/>
          <p:cNvPicPr/>
          <p:nvPr/>
        </p:nvPicPr>
        <p:blipFill>
          <a:blip r:embed="rId3"/>
          <a:stretch/>
        </p:blipFill>
        <p:spPr>
          <a:xfrm>
            <a:off x="6372360" y="5157720"/>
            <a:ext cx="2087280" cy="1392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Картинка 7 из 2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211640" y="1844640"/>
            <a:ext cx="1728720" cy="147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ap070301026111"/>
          <p:cNvPicPr/>
          <p:nvPr/>
        </p:nvPicPr>
        <p:blipFill>
          <a:blip r:embed="rId6"/>
          <a:stretch/>
        </p:blipFill>
        <p:spPr>
          <a:xfrm>
            <a:off x="1187280" y="5157720"/>
            <a:ext cx="2225880" cy="144144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796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179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250920" y="333360"/>
            <a:ext cx="87138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кологическ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Человечество «засорило Земл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Хозяйственная деятельность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рганизация производственной и непроизводственной деятельности людей для нормального экоразвития, преобразование окруж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6" descr="b49ebfaa4a9e"/>
          <p:cNvPicPr/>
          <p:nvPr/>
        </p:nvPicPr>
        <p:blipFill>
          <a:blip r:embed="rId2"/>
          <a:stretch/>
        </p:blipFill>
        <p:spPr>
          <a:xfrm>
            <a:off x="6588000" y="4149720"/>
            <a:ext cx="2171880" cy="1606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1246381391"/>
          <p:cNvPicPr/>
          <p:nvPr/>
        </p:nvPicPr>
        <p:blipFill>
          <a:blip r:embed="rId3"/>
          <a:stretch/>
        </p:blipFill>
        <p:spPr>
          <a:xfrm>
            <a:off x="611280" y="4292640"/>
            <a:ext cx="2881080" cy="162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vo6"/>
          <p:cNvPicPr/>
          <p:nvPr/>
        </p:nvPicPr>
        <p:blipFill>
          <a:blip r:embed="rId4"/>
          <a:stretch/>
        </p:blipFill>
        <p:spPr>
          <a:xfrm>
            <a:off x="4140360" y="5300640"/>
            <a:ext cx="1908000" cy="129384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0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Этапы глобального потепления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663552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иление концентрации СО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яние ль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вышение уровня воды в мировом оке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реснение мирового оке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ение теплых те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атастрофические цун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ение климата глобальное похоло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7"/>
          <p:cNvSpPr/>
          <p:nvPr/>
        </p:nvSpPr>
        <p:spPr>
          <a:xfrm>
            <a:off x="3995640" y="184464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3995640" y="256536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3995640" y="321300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10"/>
          <p:cNvSpPr/>
          <p:nvPr/>
        </p:nvSpPr>
        <p:spPr>
          <a:xfrm>
            <a:off x="3995640" y="378936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1"/>
          <p:cNvSpPr/>
          <p:nvPr/>
        </p:nvSpPr>
        <p:spPr>
          <a:xfrm>
            <a:off x="3995640" y="450864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2"/>
          <p:cNvSpPr/>
          <p:nvPr/>
        </p:nvSpPr>
        <p:spPr>
          <a:xfrm>
            <a:off x="3995640" y="5157720"/>
            <a:ext cx="4334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3" descr="i"/>
          <p:cNvPicPr/>
          <p:nvPr/>
        </p:nvPicPr>
        <p:blipFill>
          <a:blip r:embed="rId2"/>
          <a:stretch/>
        </p:blipFill>
        <p:spPr>
          <a:xfrm>
            <a:off x="6804000" y="1052640"/>
            <a:ext cx="1905120" cy="1892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i"/>
          <p:cNvPicPr/>
          <p:nvPr/>
        </p:nvPicPr>
        <p:blipFill>
          <a:blip r:embed="rId3"/>
          <a:stretch/>
        </p:blipFill>
        <p:spPr>
          <a:xfrm>
            <a:off x="250920" y="3860640"/>
            <a:ext cx="1803240" cy="1359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gNRQklBuDK"/>
          <p:cNvPicPr/>
          <p:nvPr/>
        </p:nvPicPr>
        <p:blipFill>
          <a:blip r:embed="rId4"/>
          <a:stretch/>
        </p:blipFill>
        <p:spPr>
          <a:xfrm>
            <a:off x="6588000" y="3933720"/>
            <a:ext cx="2297160" cy="15732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1995gve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250920" y="333360"/>
            <a:ext cx="87138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емографическая пробл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ыбери правильный комментарий для итогов уро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ть пробле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ичины возникнов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ути решени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Вариан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. Депопуляция, нарушение воспроизводства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абилизация численно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Изменение экономических и социальных условий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9T11:39:10Z</dcterms:created>
  <dc:creator>Никита</dc:creator>
  <dc:description/>
  <dc:language>en-US</dc:language>
  <cp:lastModifiedBy>LEGION</cp:lastModifiedBy>
  <dcterms:modified xsi:type="dcterms:W3CDTF">2015-05-06T08:34:18Z</dcterms:modified>
  <cp:revision>18</cp:revision>
  <dc:subject/>
  <dc:title>Тема: Глобальные проблемы человечества Обобщение знаний (1 час)</dc:title>
</cp:coreProperties>
</file>