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E6626-AB5A-41B1-BA90-E5F59C46C9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а: Глобальные проблемы челове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общение знаний (1 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68D6-5F25-4E3E-8BC7-2086CC163B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Нехватка продовольствия (мировой гол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тенсивный путь развития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Социально-экономические причины, хищническое природополь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3B04-94CF-465C-AAF0-094B2746FA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нергетическая и сырьев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Увеличение объемов мировой добычи полезных ископае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блема ресурсообеспеч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оиск новых видов ресурсов. Рациональное использование и воспроизводство минерально-сырьевых ресурсов при поддержки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29CA-8DAB-4CEC-AB90-2B7D8F794D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отсталости развивающихся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Проведение коренных социально-экономических преобразований во всех сферах жизни и деятельности стран «четвертого», «третьего»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следие колониального прошлого, действие современных монополий, эксплуатация развивающихся стран Азии, Африки, Латинской Аме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громные масштабы отсталости развивающихся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D402-B168-43E6-A98C-7BBBE0AF3E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Водная проблема. Загрязнение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циональное океаническое природопользование, сбалансированный комплексный подход к его богат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еравномерное освоение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599C-8C9E-4F26-AD65-C2D40F56D8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мирного освоения косм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Необходимое использование ресурсов косм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спективы развития новых космически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редотвращение «звездных войн», объединение всех стран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9736-5097-4DB6-BAD7-AD54FC5DE7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: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«Все мы пассажиры одного корабля по имени «Земля», значит, пересесть из него некуд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Мы унаследовали Землю от наших предков. Мы берем ее взаймы у наших потомков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 как думаешь ты?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D8E7-F7EB-4098-8F96-1B29D5E5D8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дач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общение и закрепление знаний о глобальных пробле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щность глобальны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 глобальны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C3EF-CE8D-40F3-94B2-53F021D79A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зультаты об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этапное заполнение и комментарии результатов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Глобальные проблемы человеч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лан характеристики глобальных пробл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ира и раз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колог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граф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нергетическая и сырьев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довольстве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еодоление отсталости развивающихся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спользование Мирового океа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ирное освоение косм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0753-D82C-4B11-89AA-74E092C07C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новные понятия 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Глобальные - глобалистика – нау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Ойкумена - населенная и освоенная человеком часть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Экологическая проблема - проблема взаимоотношения общества и природы, сохранения окружающей среды - так можно определить эту проблему с географической точки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Ключевая - проблема мира и раз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Эк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граф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Насущная - проблема дефицита сырья, топлива и продоволь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Освоение Космоса и Мирового океа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Узловая - преодоления экономической отсталости отдельных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Ключевая - ключ к решению все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Насущная - ежедневно, ежечасно требует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Узловая - разрубив этот узел противоречий в развитии отдельных стран, продвинемся к решению всех глобальных проблем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E574-FF79-455F-A8A7-AACCC65C09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ного нас - людей - на белом свете. Маются серьезные умы: в этой жизни, в этой круговерти, сумасшедшие, расплодились м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ьют демографические взрывы, сохнут реки, и чернеет наст, Города вступают, как нарывы. Очень много, слишком много нас! Много нас. Ученый бомбу хвалит. Много нас. Эсминец рвет волну. Много!.,. Только все-таки не хватит нас - людей - на новую вой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. Рождествен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BBC8-56F4-4E4C-AE0F-8D1EA1E1AB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лобальная проблема мира и разо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Оружие массового уничтожения у двух сверхдержав – СССР и США (после второй мировой вой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асность для всего живого на план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Договоры об утилизации и сокращении вооружений (усилиями стран ми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AF32-AFB9-498B-83F5-4E5073C979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Человечество «засорило Земл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озяйственная деятельность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рганизация производственной и непроизводственной деятельности людей для нормального экоразвития, преобразовани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0CD4-31F0-4F48-943E-BFC35C4DCA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Этапы глобального потеплен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силение концентрации С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аяние ль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вышение уровня воды в мировом оке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реснение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менение теплых те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тастрофические цу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менение климата глобальное похоло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6D0F-C126-44DC-B02B-627D86EC2F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Депопуляция, нарушение воспроизводства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табилизация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Изменение экономических и социальных услови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A61F-3FEB-4B4E-AD50-C851D4E87B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3EB-69F3-43C0-AFAF-60F9C12D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4B9-1DF2-4721-B5D6-50B8994D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E21B-B599-4830-A75B-6BDA8E30D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764-F765-4EF7-BCE2-4B35D051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D3E-F3E0-4801-BE93-6470EA43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9E9-FDCF-4AD5-872E-DC97F8B7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0FC-3C07-4100-A2A9-10B58E5F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A6A-7817-4F90-A0B7-6A139731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7D83-B622-488B-8932-4AAAAD6C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339-F99F-42A7-ABDE-424C24E4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E50A-2777-4068-85DD-86C8BAE7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4D3-F9AA-4FBE-9B7B-81C0C8FA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5B31-8984-4B27-B37F-7FA3EAC58B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playst.ru/im1/apofis2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P1030022"/>
          <p:cNvPicPr/>
          <p:nvPr/>
        </p:nvPicPr>
        <p:blipFill>
          <a:blip r:embed="rId2"/>
          <a:stretch/>
        </p:blipFill>
        <p:spPr>
          <a:xfrm>
            <a:off x="2843280" y="2232000"/>
            <a:ext cx="3670200" cy="28227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50" name="Text Box 6"/>
          <p:cNvSpPr/>
          <p:nvPr/>
        </p:nvSpPr>
        <p:spPr>
          <a:xfrm>
            <a:off x="1763640" y="255600"/>
            <a:ext cx="619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а: Глобальные проблемы челове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бщение знаний (1 ч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187280" y="554976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ОУ лицей №104» учитель географии О.А. Каз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348000" y="61149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Новокузнецк, 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01 - The Day After Tomorrow.mp3" descr=""/>
          <p:cNvPicPr/>
          <p:nvPr/>
        </p:nvPicPr>
        <p:blipFill>
          <a:blip r:embed="rId3"/>
          <a:stretch/>
        </p:blipFill>
        <p:spPr>
          <a:xfrm>
            <a:off x="468360" y="5761080"/>
            <a:ext cx="298440" cy="299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50920" y="333360"/>
            <a:ext cx="8713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довольственн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Нехватка продовольствия (мировой голо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нсивный путь развития хозя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циально-экономические причины, хищническое природополь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336123"/>
          <p:cNvPicPr/>
          <p:nvPr/>
        </p:nvPicPr>
        <p:blipFill>
          <a:blip r:embed="rId2"/>
          <a:stretch/>
        </p:blipFill>
        <p:spPr>
          <a:xfrm>
            <a:off x="684360" y="3860640"/>
            <a:ext cx="3600360" cy="2784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h_jMLo89PkYdK7QzVvZfWGmB6p5eADb3tJ_"/>
          <p:cNvPicPr/>
          <p:nvPr/>
        </p:nvPicPr>
        <p:blipFill>
          <a:blip r:embed="rId3"/>
          <a:stretch/>
        </p:blipFill>
        <p:spPr>
          <a:xfrm>
            <a:off x="5940360" y="4005360"/>
            <a:ext cx="2648160" cy="1909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250920" y="333360"/>
            <a:ext cx="8713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нергетическая и сырьев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Увеличение объемов мировой добычи полезных ископае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а ресурсообеспеч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иск новых видов ресурсов. Рациональное использование и воспроизводство минерально-сырьевых ресурсов при поддержки НТ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291"/>
          <p:cNvPicPr/>
          <p:nvPr/>
        </p:nvPicPr>
        <p:blipFill>
          <a:blip r:embed="rId2"/>
          <a:stretch/>
        </p:blipFill>
        <p:spPr>
          <a:xfrm>
            <a:off x="395280" y="4005360"/>
            <a:ext cx="2592360" cy="2279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070904_1a"/>
          <p:cNvPicPr/>
          <p:nvPr/>
        </p:nvPicPr>
        <p:blipFill>
          <a:blip r:embed="rId3"/>
          <a:stretch/>
        </p:blipFill>
        <p:spPr>
          <a:xfrm>
            <a:off x="4716360" y="4292640"/>
            <a:ext cx="3492720" cy="21319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50920" y="333360"/>
            <a:ext cx="87138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отсталости развивающихся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Проведение коренных социально-экономических преобразований во всех сферах жизни и деятельности стран «четвертого», «третьего»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ледие колониального прошлого, действие современных монополий, эксплуатация развивающихся стран Азии, Африки, Латинск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громные масштабы отсталости развивающихся ст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3534-large"/>
          <p:cNvPicPr/>
          <p:nvPr/>
        </p:nvPicPr>
        <p:blipFill>
          <a:blip r:embed="rId2"/>
          <a:stretch/>
        </p:blipFill>
        <p:spPr>
          <a:xfrm>
            <a:off x="4284720" y="4149720"/>
            <a:ext cx="3854520" cy="249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336123"/>
          <p:cNvPicPr/>
          <p:nvPr/>
        </p:nvPicPr>
        <p:blipFill>
          <a:blip r:embed="rId3"/>
          <a:stretch/>
        </p:blipFill>
        <p:spPr>
          <a:xfrm>
            <a:off x="539640" y="4309920"/>
            <a:ext cx="2583000" cy="1997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50920" y="333360"/>
            <a:ext cx="8713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мирового оке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Водная проблема. Загрязнение мирового оке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циональное океаническое природопользование, сбалансированный комплексный подход к его богатств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еравномерное освоение мирового оке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kinopoisk"/>
          <p:cNvPicPr/>
          <p:nvPr/>
        </p:nvPicPr>
        <p:blipFill>
          <a:blip r:embed="rId2"/>
          <a:stretch/>
        </p:blipFill>
        <p:spPr>
          <a:xfrm>
            <a:off x="539640" y="4149720"/>
            <a:ext cx="4753080" cy="198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Океан"/>
          <p:cNvPicPr/>
          <p:nvPr/>
        </p:nvPicPr>
        <p:blipFill>
          <a:blip r:embed="rId3"/>
          <a:stretch/>
        </p:blipFill>
        <p:spPr>
          <a:xfrm>
            <a:off x="6156360" y="4221000"/>
            <a:ext cx="2481120" cy="18608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50920" y="333360"/>
            <a:ext cx="8713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мирного освоения косм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Необходимое использование ресурсов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спективы развития новых космически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едотвращение «звездных войн», объединение всех стран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Космос 1"/>
          <p:cNvPicPr/>
          <p:nvPr/>
        </p:nvPicPr>
        <p:blipFill>
          <a:blip r:embed="rId2"/>
          <a:stretch/>
        </p:blipFill>
        <p:spPr>
          <a:xfrm>
            <a:off x="611280" y="3860640"/>
            <a:ext cx="3298680" cy="2475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250920" y="333360"/>
            <a:ext cx="871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«Все мы пассажиры одного корабля по имени «Земля», значит, пересесть из него некуда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ы унаследовали Землю от наших предков. Мы берем ее взаймы у наших потомков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как думаешь ты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250920" y="333360"/>
            <a:ext cx="871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и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общение и закрепление знаний о глобальных проблем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ность глобальны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 глобальны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 глобальных проб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1233602454_zemlja-1"/>
          <p:cNvPicPr/>
          <p:nvPr/>
        </p:nvPicPr>
        <p:blipFill>
          <a:blip r:embed="rId2"/>
          <a:stretch/>
        </p:blipFill>
        <p:spPr>
          <a:xfrm>
            <a:off x="2987640" y="3429000"/>
            <a:ext cx="3166920" cy="2374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250920" y="333360"/>
            <a:ext cx="8713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зультаты об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тапное заполнение и комментарии результатов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Глобальные проблемы человече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 характеристики глобальных проб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ра и разору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олог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мограф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ергетическая и сырьев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овольственн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одоление отсталости развивающихся стр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ние Мирового оке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рное освоение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250920" y="333360"/>
            <a:ext cx="871380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ые понятия 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Глобальные - глобалистика – нау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йкумена - населенная и освоенная человеком часть Зем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ологическая проблема - проблема взаимоотношения общества и природы, сохранения окружающей среды - так можно определить эту проблему с географической точки з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лючевая - проблема мира и разору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ол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мограф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сущная - проблема дефицита сырья, топлива и продоволь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своение Космоса и Мирового оке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зловая - преодоления экономической отсталости отдельных стран ми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лючевая - ключ к решению все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сущная - ежедневно, ежечасно требует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зловая - разрубив этот узел противоречий в развитии отдельных стран, продвинемся к решению всех глобальных проблем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79280" y="765000"/>
            <a:ext cx="87138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 нас - людей - на белом свете. Маются серьезные умы: в этой жизни, в этой круговерти, сумасшедшие, расплодились м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ьют демографические взрывы, сохнут реки, и чернеет наст, Города вступают, как нарывы. Очень много, слишком много нас! Много нас. Ученый бомбу хвалит. Много нас. Эсминец рвет волну. Много!.,. Только все-таки не хватит нас - людей - на новую вой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. Рождестве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picture"/>
          <p:cNvPicPr/>
          <p:nvPr/>
        </p:nvPicPr>
        <p:blipFill>
          <a:blip r:embed="rId2"/>
          <a:stretch/>
        </p:blipFill>
        <p:spPr>
          <a:xfrm>
            <a:off x="539640" y="422100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50920" y="333360"/>
            <a:ext cx="871380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обальная проблема мира и разору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Оружие массового уничтожения у двух сверхдержав – СССР и США (после второй мировой вой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асность для всего живого на пла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оговоры об утилизации и сокращении вооружений (усилиями стран ми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4"/>
          <p:cNvPicPr/>
          <p:nvPr/>
        </p:nvPicPr>
        <p:blipFill>
          <a:blip r:embed="rId2"/>
          <a:stretch/>
        </p:blipFill>
        <p:spPr>
          <a:xfrm>
            <a:off x="7164360" y="836640"/>
            <a:ext cx="152100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25"/>
          <p:cNvPicPr/>
          <p:nvPr/>
        </p:nvPicPr>
        <p:blipFill>
          <a:blip r:embed="rId3"/>
          <a:stretch/>
        </p:blipFill>
        <p:spPr>
          <a:xfrm>
            <a:off x="6372360" y="5157720"/>
            <a:ext cx="2087280" cy="1392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Картинка 7 из 2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11640" y="1844640"/>
            <a:ext cx="1728720" cy="147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ap070301026111"/>
          <p:cNvPicPr/>
          <p:nvPr/>
        </p:nvPicPr>
        <p:blipFill>
          <a:blip r:embed="rId6"/>
          <a:stretch/>
        </p:blipFill>
        <p:spPr>
          <a:xfrm>
            <a:off x="1187280" y="5157720"/>
            <a:ext cx="2225880" cy="1441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796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50920" y="333360"/>
            <a:ext cx="8713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логическ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Человечество «засорило Земл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зяйственная деятельность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рганизация производственной и непроизводственной деятельности людей для нормального экоразвития, преобразование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b49ebfaa4a9e"/>
          <p:cNvPicPr/>
          <p:nvPr/>
        </p:nvPicPr>
        <p:blipFill>
          <a:blip r:embed="rId2"/>
          <a:stretch/>
        </p:blipFill>
        <p:spPr>
          <a:xfrm>
            <a:off x="6588000" y="4149720"/>
            <a:ext cx="2171880" cy="1606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1246381391"/>
          <p:cNvPicPr/>
          <p:nvPr/>
        </p:nvPicPr>
        <p:blipFill>
          <a:blip r:embed="rId3"/>
          <a:stretch/>
        </p:blipFill>
        <p:spPr>
          <a:xfrm>
            <a:off x="611280" y="4292640"/>
            <a:ext cx="2881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vo6"/>
          <p:cNvPicPr/>
          <p:nvPr/>
        </p:nvPicPr>
        <p:blipFill>
          <a:blip r:embed="rId4"/>
          <a:stretch/>
        </p:blipFill>
        <p:spPr>
          <a:xfrm>
            <a:off x="4140360" y="5300640"/>
            <a:ext cx="1908000" cy="129384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Этапы глобального потеплени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66355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иление концентрации СО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яние ль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ышение уровня воды в мировом оке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снение мирового оке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ение теплых те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тастрофические цу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ение климата глобальное похоло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3995640" y="184464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3995640" y="256536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3995640" y="321300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3995640" y="378936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3995640" y="450864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3995640" y="515772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3" descr="i"/>
          <p:cNvPicPr/>
          <p:nvPr/>
        </p:nvPicPr>
        <p:blipFill>
          <a:blip r:embed="rId2"/>
          <a:stretch/>
        </p:blipFill>
        <p:spPr>
          <a:xfrm>
            <a:off x="6804000" y="1052640"/>
            <a:ext cx="1905120" cy="1892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i"/>
          <p:cNvPicPr/>
          <p:nvPr/>
        </p:nvPicPr>
        <p:blipFill>
          <a:blip r:embed="rId3"/>
          <a:stretch/>
        </p:blipFill>
        <p:spPr>
          <a:xfrm>
            <a:off x="250920" y="3860640"/>
            <a:ext cx="1803240" cy="135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gNRQklBuDK"/>
          <p:cNvPicPr/>
          <p:nvPr/>
        </p:nvPicPr>
        <p:blipFill>
          <a:blip r:embed="rId4"/>
          <a:stretch/>
        </p:blipFill>
        <p:spPr>
          <a:xfrm>
            <a:off x="6588000" y="3933720"/>
            <a:ext cx="2297160" cy="1573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50920" y="333360"/>
            <a:ext cx="8713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мографическ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Депопуляция, нарушение воспроизводства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билизация численно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менение экономических и социальных услови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11:39:10Z</dcterms:created>
  <dc:creator>Никита</dc:creator>
  <dc:description/>
  <dc:language>en-US</dc:language>
  <cp:lastModifiedBy>LEGION</cp:lastModifiedBy>
  <dcterms:modified xsi:type="dcterms:W3CDTF">2015-05-06T08:34:18Z</dcterms:modified>
  <cp:revision>18</cp:revision>
  <dc:subject/>
  <dc:title>Тема: Глобальные проблемы человечества Обобщение знаний (1 час)</dc:title>
</cp:coreProperties>
</file>