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0F7D3-88C6-4C57-AF1B-5000044A5E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екция № 10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рший преподават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кафедры философии Г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анькова Наталья Михайл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29710-3692-4291-A9FA-36A4F59148E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авянофилы утвержд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ование особого типа культуры, возникшего на духовной почв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у России собственного,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амобытного пути исторического развит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повторимость форм общественного развития русского народа в виде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бщи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ы (характеризуется коллективным трудом и потреблением) и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ртели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добровольное объединение людей для совместной работы или иной коллективной дея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ргали тезис представителей западничества о том, что Пётр Первый возвратил Россию в лоно европейских стран и она должна пройти этот путь в политическом, экономическом и культурном развит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оположником этого направления стал литератор А. С. Хомя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F6FF4-54B3-43E9-B222-D165D54E0E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мяков А.С. (1804 - 1860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ое внимание уделял религиозным вопросам, истории русского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труд: «Записки о всемирной истории» (незаверше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ый народ в своем развитии выражает ту или иную сторону абсолюта.  История народа представляла собой процесс проявления в его общественной жизни некой изначально присущей ему первичной иде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основе философии А. С. Хомякова лежал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ровиденци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0F74C-C5EF-4523-BAC6-6AEE7384B27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2. Народничество </a:t>
            </a:r>
            <a:r>
              <a:rPr b="0" lang="ru-RU" sz="900" spc="-1" strike="noStrike">
                <a:solidFill>
                  <a:srgbClr val="0070c0"/>
                </a:solidFill>
                <a:latin typeface="Calibri"/>
              </a:rPr>
              <a:t>(1860 - 1910 гг.)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едставител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И. Герце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.Г. Чернышев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 Григорье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.Н. Страх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. Лавр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связи интеллигенции с народной мудростью, народной правд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я народничества основывалась на системе взглядов об особом, «самобытном», пути развития России к социализму, минуя капитализ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ивными услов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е развитие капитализма и наличие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естьянской поземельной общ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задачей воспитания Герцен считал формирование гуманной, свободной личности, которая живет интересами своего народа и стремится к преобразованию общества на разумных начал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A9582-F316-4AC5-A5D1-667048BB8B4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3. Философия все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ставители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Соловье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и Евгений Трубецк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Булгаков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Флоренский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Карсав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 Фра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всеединству, к соединению с божественным Логосом является смыслом существования всего живого на Зем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всеединства, выражает органическое единство мирового бытия и составляющих его элементов при сохранении их индивидуа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2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036E-51DB-4B7D-80EF-B2F9E76C790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Проявления все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нтологическом аспект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нерасторжимое единение Творца и твари, Бога и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гносеологическом отношени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«цельное знание», представляющее неразрывную взаимосвязь эмпирического (научного), рационального (философского) и мистического (религиозно-созерцательного) знания - не только через познавательную деятельность, но через веру и интуицию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аксиологии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бсолютная ценность Истины, Добра и Красоты, соответствующих трём Ипостасям Божественной Троицы.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AA5A6-816B-4605-9B3C-2940DD9C56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Соловьев Владимир (1853-1900 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Основные тру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Оправдание Доб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Три разговора о войне, прогрессе и конце всемирной истори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9B693-F2AE-4CD7-A2AC-7B0907DA511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вел Флоренский (1882 - 1917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толп и утверждение истины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ятие противоречия между существованием «мирового зла» и доминантой иде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благ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азумно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божественной воли, управляющей ми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816F-2246-44F5-8D0E-2A58CA5B8D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4.  Религиозн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Булг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асилий Розан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елигиозно-философское обществ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митрий  Мережк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усский симво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Бердя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«Философия свободы»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мысл творчества»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6B3E1-10CF-46CF-8729-8CC925C41CE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Бердяев (1874-1948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ы: «Философия свободы» и «Смысл творчеств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енный механизм творчества - свобод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л и развил понят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дух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ство прир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ъективация - невозможность преодолеть оковы царства природ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цендирование - творческий прорыв, преодоление рабских оков природно-исторического быт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A2FC-F8E3-41AA-B7FA-FAC41633F4A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гей Булгаков (1871 - 1944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уд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лософия хозяйств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вет Невечерний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илософия имени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18 г. – свяще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4257D-25AF-467F-BDA6-23835743463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Русская философ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13A5E-873B-4CB0-8102-0C0E4A68ED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70c0"/>
                </a:solidFill>
                <a:latin typeface="Calibri"/>
              </a:rPr>
              <a:t>5. Космизм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 u="sng">
                <a:solidFill>
                  <a:srgbClr val="000000"/>
                </a:solidFill>
                <a:uFillTx/>
                <a:latin typeface="Calibri"/>
              </a:rPr>
              <a:t>Представители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Н.Ф. Федоров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29-190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.Э. Циолков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57-193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.И. Вернад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63-194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А.Л.Чижевски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1897-196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Философское мировоззрение, в основу которого положено представление о Космосе и о человеке как «гражданине Мира»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Фс понятие Космизма связано с учением древних греков о мире как структурно-организованном и упорядоченном целом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14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 науке учение о Космизме основано на теориях о рождении и эволюции Вселенной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D946-A57A-41C2-8779-E93C97353D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Николай Федор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«общего де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крешение предков –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фик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го осуществит Бог нашими руками, с помощью современной науки, которая от Бог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ллионы воскрешённых не уместятся на нашей планете, поэтому ими можно заселить другие план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мысел освоения космического простр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35F22-6375-47C0-9B34-802FDD8A9BA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Задание для самостоятельной рабо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окомментируйте высказывание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ы не принадлежим ни к Западу, ни к Востоку, - мы - народ исключительный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П.Я. Чаадаев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ПАСИБО ЗА ВНИМАНИЕ!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530C-750F-4CED-AFD6-8B860FC504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русская философия (</a:t>
            </a:r>
            <a:r>
              <a:rPr b="0" lang="en-US" sz="1200" spc="-1" strike="noStrike">
                <a:solidFill>
                  <a:srgbClr val="953735"/>
                </a:solidFill>
                <a:latin typeface="Calibri"/>
              </a:rPr>
              <a:t>XIX – XX</a:t>
            </a: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 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бирательное название философских концепций русских мысл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о началом русской философии считают публикацию «Философических писем» Петра Чаадаева, а фактическим окончанием её существования в России - высылку большевиками в 1922 г. последних представителей «старорежимной» философской школ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E1B4-F158-4C6F-A1F7-B64A453073F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сновная проблемати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человек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смиз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морали и нравственн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ы выбора исторического пути России - между Востоком или Западом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пецифическая проблема русской философ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власти и государ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социальной справедливост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идеально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будущег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6168-C0F9-40B4-AB2F-2219432C28E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Основные черты русской философи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мнению Н.О. Лосского – русского религиозного мыслителя, создателя интуитивизма в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осм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восприятие космоса как единого целостного организма, противоположность хаосу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фиолог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- учения о Софии (Премудрости Божьей, Душе мира) – представители: С. Булгаков, В.Соловьев, П. Флорен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обор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Интуитивиз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етафиз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еалистич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онтолог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елигиозност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равств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EC5C-E819-4899-9C95-C845DC6C38B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Этапы развития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янофильство и запа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все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озная философия – Софи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82C94-BE20-4D30-AAB0-6A5891397D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53735"/>
                </a:solidFill>
                <a:latin typeface="Calibri"/>
              </a:rPr>
              <a:t>1. Славянофильство и западнич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Славянофил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. Хомя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.В. Кирее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.С. Акса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. Самар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Западн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Я. Чаада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 Ботк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. Анне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. Гранов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9C64A-D977-4B4A-B232-53DBC207BA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70c0"/>
                </a:solidFill>
                <a:latin typeface="Calibri"/>
              </a:rPr>
              <a:t>Чаадаев П.Я. (1794 - 1856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Письма о философии истории» на франц.яз.- «Философические письм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Апология сумасшедшег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го сторонники оформились в </a:t>
            </a:r>
            <a:r>
              <a:rPr b="1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адников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его критики - в славянофил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лияние Шеллинга, путешествовал по Европ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е идеи русской философии: стремление реализовать утопию и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поиск национальной идентичности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означает себя как религиозного мыслителя, признавая существование Высшего Разума, который проявляет себя в истории через Прови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отрицает христианство, но считает, что его основная идея заключается в «водворении царства божьего на Земле» - метафора 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справедливого общества</a:t>
            </a:r>
            <a:r>
              <a:rPr b="0" lang="ru-RU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которое уже осуществляется на Западе (на этом позже делали основной упор западники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7531D-1BEB-4B13-A15E-DA75436689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илософические письма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829-1831гг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вое письмо было опубликовано в журнале «Телескоп» в 1836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р выразил сожаление по поводу «отлучённости России от «всемирного воспитания человеческого рода», духовного застоя, препятствующего исполнению предначертанной свыше исторической мисс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начало философскому осмыслению проблем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 значимость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лической церкви,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аясь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сла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колай I, после прочтения «Писем»: «Прочитав статью, нахожу, что содержание оной - смесь дерзкой бессмыслицы, достойной умалишенного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Журнал был закрыт, а Чаадаев  объявлен сумасшедшим. Проходил ежедневное! освидетельствование, находясь под домашним арестом. Надзор полицейского лекаря за «больным» был снят в 1837, под условием, чтобы он «не смел ничего писать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86129-6547-4C97-B8E2-1BC1163747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E5B2-8345-4E4B-A3A7-DCF79B6B9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176A-0FBE-4973-B01D-B1F8944DD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529-7684-4EBB-9A43-B8A1D162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A3FE-D35C-46B6-9B78-A1EA703268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6D3AE-4209-4FFF-9478-85053724E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91C90-0CD8-468D-A037-A8306C07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411C0-69CC-4BDF-93B8-E7E7EE99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BB908-8F7E-4B05-A139-EF378B9A7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4ACDB-0451-4599-8FFC-8BD5BD4D1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ADBB6-3EDA-4784-AD33-22D6FE883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14F03-EF24-46D9-B3E9-89DC073AF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EA62-8560-4D94-B788-2280C0CE4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F90BA-9AB9-4905-AAE0-0A74B21F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F7EB-5C07-4E85-8DB7-653809FCF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64FA6-EE0B-4C57-9C1C-AABFE7F41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54554-D33A-4F52-95FE-CCED10F4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7E606-8974-4FC3-9986-9BA6EA4C8C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D1618-B0B5-48C2-87D1-F62AB9ECB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3B2FB-B5F5-4189-ABDA-FD1D888B6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871A3-999E-4C49-8A8E-C682E37F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9EC3B-622A-48D4-B013-F5E0FD92C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4B32FE-88C6-4726-9DEB-37858601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31A6-2EED-41F1-8ABD-0EFB239F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108F3F-3CFE-47F0-ACEC-D93D7EED8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B56065-0AA6-4467-9A28-B6192A28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7A6B6-035D-4040-BE87-2310DBABB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03CB7-99E9-4542-AC73-1C0120B37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BADBAA-2198-4CCF-ADE8-DC1284E5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E27BD3-AA64-4948-B165-CC76B272A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26213-1310-4400-9A71-6096FDB1C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B6C4E-028D-446A-8AB2-A19818F044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BEB054-AF34-409C-96FB-7AEA1EF00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99F993-1E4A-470F-AFFD-B6BDA3504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9E1F4-ACE3-45FE-B3F0-D79B9BF52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CE053-AA12-4226-A8D9-E7A657204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94FB7-266C-4583-B9B7-BB03B3F6A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686C3A-D317-4F66-B9A3-0500170E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B7AA67-1B4F-4B1C-A20B-636809932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5F554-5B19-4699-839F-8312F103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69C58F-6796-4078-8254-ADAB8700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7B325-E7CF-43A0-BC77-A5761B352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9F96A-4A50-4A0B-BE50-616CEC25A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C5920-F6F1-489A-A578-E65AD9D1C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4F3DA-4E6B-4F5A-8B45-4A26690F8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FD79-ED6C-4E1C-A389-8C03D32A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B278E-CB4E-4560-9F7D-59F9C53C6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F3E0D9-2838-4098-BF63-F643CDF1C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ED4B79-1EF2-4381-9F73-3E39BF87E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144CC1-4892-46C8-B044-A739E9A0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EB97F2-F6F3-4210-B4FD-8A672817A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9066E2-20DE-44E3-8810-18224F6A8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19409-15B7-48A5-9C44-1515C036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24CB2-E3B8-4A59-A379-D3B6665DA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87B199-F0F9-4C04-B3A5-9EF265F40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2E1A5-3548-4435-BD93-60CCF059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63FD-B827-4461-A764-3D71C3E3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E25BA-F6CD-46E9-849E-932AF343E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99DC37-CDC8-491F-A2CE-DF34B24B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033D0-0ED5-4C1B-A328-B79F2956B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4F0561-6AD9-49A0-9C42-39FA832F5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055981-D228-440E-8AE0-006E8B5F1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F3C498-DB7B-4607-A262-0293F4020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2C907C-A6EB-4160-A302-393C802E7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4985E8-BA2F-40CC-ADC6-4E6919EAC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2E205-3974-4172-A7F6-39610A1A2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4044AC-EC28-4A1A-A7AF-9B8D67C4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B413-12CE-405D-832B-059ADAB6F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7440D-3E34-4695-8BB1-D59F93A8F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8B7B1-3C02-4331-A1FB-4BE91C433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FD331-8726-468E-B560-75BE2D3CB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AF9E-BAA2-4A33-8827-94E217F4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3357-B7C2-42A2-8133-D1227080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5460-C47A-4F98-A50A-558E3976B684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58916-306E-4169-A0D7-F6ED2E95EA11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Скругленный прямоугольник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оугольник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31FD-1DB3-4DCC-A661-879CC4601147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03F4-73AE-4DDF-9323-70C5C6F29D06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Скругленный прямоугольник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Скругленный прямоугольник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Прямоугольник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1B0C3-9E49-4E33-91A5-49F2CDF8A098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9C89E-B022-4602-A425-0E8CC4F73DD4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Прямоугольник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6946B-90FC-4720-A4A6-F501942538AE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28CF3-6A8F-4D02-B443-121AFA42FD7D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Прямоугольник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Прямоугольник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Прямоугольник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643E-E71F-481F-843E-1F3909A6B6B2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1C95A-5F36-44C8-843C-5F8E8C48B11E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Прямоугольник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Скругленный прямоугольник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Cambri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mbr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0F30C-5781-4D86-AB8F-1887AFD31827}" type="datetime">
              <a:rPr b="0" lang="ru-RU" sz="1400" spc="-1" strike="noStrike">
                <a:solidFill>
                  <a:srgbClr val="696464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865200" y="6314400"/>
            <a:ext cx="1508760" cy="3373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ADF7-84B2-4E92-A325-ACDFB0E298D2}" type="slidenum">
              <a:rPr b="0" lang="ru-RU" sz="14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upload.wikimedia.org/wikipedia/commons/6/60/Herzen_ge.jpg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1295280" y="3200040"/>
            <a:ext cx="64008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старший преподавател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 </a:t>
            </a: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кафедры философии ГФ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696464"/>
                </a:solidFill>
                <a:latin typeface="Cambria"/>
              </a:rPr>
              <a:t>Панькова Наталья Михайловн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Лекция № 10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Русская философия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99680" y="357120"/>
            <a:ext cx="828684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Славянофилы утверждал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214200" y="1143000"/>
            <a:ext cx="878688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уществование особого типа культуры, возникшего на духовной почве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авослав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аличие у России собственного,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самобытного пути исторического развития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неповторимость форм общественного развития русского народа в виде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общин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ы (характеризуется коллективным трудом и потреблением) и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артели </a:t>
            </a: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(добровольное объединение людей для совместной работы или иной коллективной деятельности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твергали тезис представителей западничества о том, что Пётр Первый возвратил Россию в лоно европейских стран и она должна пройти этот путь в политическом, экономическом и культурном развитии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новоположником этого направления стал литератор А. С. Хомяков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0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Хомяков А.С. (1804 - 1860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642840" y="1356840"/>
            <a:ext cx="53578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обое внимание уделял религиозным вопросам, истории русского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авославия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Основной труд: «Записки о всемирной истории» (незавершен)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Каждый народ в своем развитии выражает ту или иную сторону абсолюта.  История народа представляла собой процесс проявления в его общественной жизни некой изначально присущей ему первичной идеи.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lnSpc>
                <a:spcPct val="9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В основе философии А. С. Хомякова лежал </a:t>
            </a:r>
            <a:r>
              <a:rPr b="0" i="1" lang="ru-RU" sz="2400" spc="-1" strike="noStrike">
                <a:solidFill>
                  <a:srgbClr val="000000"/>
                </a:solidFill>
                <a:latin typeface="Cambria"/>
              </a:rPr>
              <a:t>провиденциализм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4804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13" name="Picture 2" descr="C:\Users\НАТАША.Vitaliy-ПК\Pictures\лекция 10\460px-KhomyakovA_AvtoportretABR.jpg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285840" y="1500120"/>
            <a:ext cx="3176640" cy="4143600"/>
          </a:xfrm>
          <a:prstGeom prst="rect">
            <a:avLst/>
          </a:prstGeom>
          <a:ln w="0">
            <a:noFill/>
          </a:ln>
        </p:spPr>
      </p:pic>
      <p:sp>
        <p:nvSpPr>
          <p:cNvPr id="3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42560" y="142920"/>
            <a:ext cx="8001000" cy="64296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2. Народничество </a:t>
            </a:r>
            <a:r>
              <a:rPr b="0" lang="ru-RU" sz="2800" spc="-1" strike="noStrike">
                <a:solidFill>
                  <a:srgbClr val="0070c0"/>
                </a:solidFill>
                <a:latin typeface="Calibri"/>
              </a:rPr>
              <a:t>(1860 - 1910 гг.)</a:t>
            </a:r>
            <a:endParaRPr b="0" lang="en-US" sz="28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42560" y="857160"/>
            <a:ext cx="5715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 u="sng">
                <a:solidFill>
                  <a:srgbClr val="000000"/>
                </a:solidFill>
                <a:uFillTx/>
                <a:latin typeface="Cambria"/>
              </a:rPr>
              <a:t>Представители: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А.И. Герцен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Н.Г. Чернышевский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А. Григорьев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Н.Н. Страхов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mbria"/>
              </a:rPr>
              <a:t>П. Лавров</a:t>
            </a:r>
            <a:endParaRPr b="0" lang="en-US" sz="17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ери связи интеллигенции с народной мудростью, народной правдой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ология народничества основывалась на системе взглядов об особом, «самобытном», пути развития России к социализму, минуя капитализм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Объективными условия: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е развитие капитализма и наличие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крестьянской поземельной общины.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задачей воспитания Герцен считал формирование гуманной, свободной личности, которая живет интересами своего народа и стремится к преобразованию общества на разумных началах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17" name="Text Box 6"/>
          <p:cNvSpPr/>
          <p:nvPr/>
        </p:nvSpPr>
        <p:spPr>
          <a:xfrm>
            <a:off x="5572080" y="4857840"/>
            <a:ext cx="3429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Герцен Александр Иванович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(1812-1870 гг.) - основатель 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движения народни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Picture 7" descr="Файл:Herzen ge.jpg">
            <a:hlinkClick r:id="rId1"/>
          </p:cNvPr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500800" y="714240"/>
            <a:ext cx="3071880" cy="3938760"/>
          </a:xfrm>
          <a:prstGeom prst="rect">
            <a:avLst/>
          </a:prstGeom>
          <a:ln w="0">
            <a:noFill/>
          </a:ln>
        </p:spPr>
      </p:pic>
      <p:sp>
        <p:nvSpPr>
          <p:cNvPr id="3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758000" cy="5112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3. Философия всеединства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42560" y="928440"/>
            <a:ext cx="864396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ставители: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адимир Соловьев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и Евгений Трубецкие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ей Булгаков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вел Флоренский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в Карсавин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мен Франк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емление к всеединству, к соединению с божественным Логосом является смыслом существования всего живого на Земле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1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дея всеединства, выражает органическое единство мирового бытия и составляющих его элементов при сохранении их индивидуальности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679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Проявления всеединства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142640"/>
            <a:ext cx="7238880" cy="531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онтологическом аспекте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нерасторжимое единение Творца и твари, Бога и человек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гносеологическом отношени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это «цельное знание», представляющее неразрывную взаимосвязь эмпирического (научного), рационального (философского) и мистического (религиозно-созерцательного) знания - не только через познавательную деятельность, но через веру и интуицию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>
              <a:lnSpc>
                <a:spcPct val="10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В аксиологии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бсолютная ценность Истины, Добра и Красоты, соответствующих трём Ипостасям Божественной Троицы.   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5" name="Місце для нижнього колонтитула 3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115040" cy="608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Соловьев Владимир (1853-1900 гг.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520560" y="1600200"/>
            <a:ext cx="3394080" cy="452592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3928680" y="1000080"/>
            <a:ext cx="4071960" cy="22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Cambria"/>
              </a:rPr>
              <a:t>Основные труды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"Оправдание Добра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Три разговора о войне, прогрессе и конце всемирной истории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29" name="Прямоугольник 5"/>
          <p:cNvSpPr/>
          <p:nvPr/>
        </p:nvSpPr>
        <p:spPr>
          <a:xfrm>
            <a:off x="4000680" y="3429000"/>
            <a:ext cx="40716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«Я называю истинным, или положительным, всеединством такое, в котором единое существует не на счёт всех или в ущерб им, а в пользу всех … истинное единство сохраняет и усиливает свои элементы, осуществляясь в них как полнота бытия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777240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Павел Флоренский (1882 - 1917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071960" y="2428920"/>
            <a:ext cx="4857840" cy="36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«Столп и утверждение истины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нятие противоречия между существованием «мирового зла» и доминантой идеи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благой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и </a:t>
            </a:r>
            <a:r>
              <a:rPr b="1" i="1" lang="ru-RU" sz="2600" spc="-1" strike="noStrike">
                <a:solidFill>
                  <a:srgbClr val="000000"/>
                </a:solidFill>
                <a:latin typeface="Cambria"/>
              </a:rPr>
              <a:t>разумной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божественной воли, управляющей миро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3" name="Picture 2" descr="C:\Users\НАТАША.Vitaliy-ПК\Pictures\лекция 10\598px-Nesterov_Florensky_Bulgakov.jpg"/>
          <p:cNvPicPr/>
          <p:nvPr/>
        </p:nvPicPr>
        <p:blipFill>
          <a:blip r:embed="rId1"/>
          <a:stretch/>
        </p:blipFill>
        <p:spPr>
          <a:xfrm>
            <a:off x="214200" y="1143000"/>
            <a:ext cx="3749760" cy="3762360"/>
          </a:xfrm>
          <a:prstGeom prst="rect">
            <a:avLst/>
          </a:prstGeom>
          <a:ln w="0">
            <a:noFill/>
          </a:ln>
        </p:spPr>
      </p:pic>
      <p:sp>
        <p:nvSpPr>
          <p:cNvPr id="334" name="Прямоугольник 5"/>
          <p:cNvSpPr/>
          <p:nvPr/>
        </p:nvSpPr>
        <p:spPr>
          <a:xfrm>
            <a:off x="214200" y="5000760"/>
            <a:ext cx="371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ихаил Нестеров.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илософы Павел Флоренский и Сергей Булгаков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Масло. 19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7252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4.  Религиозная философ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42560" y="999720"/>
            <a:ext cx="4714920" cy="512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Сергей Булгако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асилий Розано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религиозно-философское общество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Дмитрий  Мережковски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русский символизм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-2671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Николай Бердяев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(«Философия свободы»,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712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«Смысл творчества»)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38" name="Picture 6" descr="C:\Users\НАТАША.Vitaliy-ПК\Pictures\лекция 10\450px-Dormition_(Kremlin).jpg"/>
          <p:cNvPicPr/>
          <p:nvPr/>
        </p:nvPicPr>
        <p:blipFill>
          <a:blip r:embed="rId1"/>
          <a:stretch/>
        </p:blipFill>
        <p:spPr>
          <a:xfrm>
            <a:off x="5143680" y="928800"/>
            <a:ext cx="3751200" cy="5000400"/>
          </a:xfrm>
          <a:prstGeom prst="rect">
            <a:avLst/>
          </a:prstGeom>
          <a:ln w="0">
            <a:noFill/>
          </a:ln>
        </p:spPr>
      </p:pic>
      <p:sp>
        <p:nvSpPr>
          <p:cNvPr id="339" name="Прямоугольник 7"/>
          <p:cNvSpPr/>
          <p:nvPr/>
        </p:nvSpPr>
        <p:spPr>
          <a:xfrm>
            <a:off x="5214960" y="600084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пенский соб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осковского Кремля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Николай Бердяев (1874-1948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214200" y="785880"/>
            <a:ext cx="585792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руды: «Философия свободы» и «Смысл творчества»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единственный механизм творчества - свобода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вел и развил понятия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царство духа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царство природы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объективация - невозможность преодолеть оковы царства природы,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-248040"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рансцендирование - творческий прорыв, преодоление рабских оков природно-исторического бытия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4804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43" name="Picture 5" descr=""/>
          <p:cNvPicPr/>
          <p:nvPr/>
        </p:nvPicPr>
        <p:blipFill>
          <a:blip r:embed="rId1"/>
          <a:stretch/>
        </p:blipFill>
        <p:spPr>
          <a:xfrm>
            <a:off x="6000840" y="1428840"/>
            <a:ext cx="2917800" cy="3902040"/>
          </a:xfrm>
          <a:prstGeom prst="rect">
            <a:avLst/>
          </a:prstGeom>
          <a:ln w="0">
            <a:noFill/>
          </a:ln>
        </p:spPr>
      </p:pic>
      <p:sp>
        <p:nvSpPr>
          <p:cNvPr id="3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96464"/>
                </a:solidFill>
                <a:latin typeface="Calibri"/>
              </a:rPr>
              <a:t>Сергей Булгаков (1871 - 1944)</a:t>
            </a:r>
            <a:endParaRPr b="0" lang="en-US" sz="40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Труды: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Философия хозяйства»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Свет Невечерний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«Философия имени»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mbria"/>
              </a:rPr>
              <a:t>с 1918 г. – священник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00080" y="357120"/>
            <a:ext cx="7238880" cy="679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Русская философия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282" name="Picture 3" descr=""/>
          <p:cNvPicPr/>
          <p:nvPr/>
        </p:nvPicPr>
        <p:blipFill>
          <a:blip r:embed="rId1"/>
          <a:stretch/>
        </p:blipFill>
        <p:spPr>
          <a:xfrm>
            <a:off x="1143000" y="1643040"/>
            <a:ext cx="6962760" cy="4846680"/>
          </a:xfrm>
          <a:prstGeom prst="rect">
            <a:avLst/>
          </a:prstGeom>
          <a:ln w="0">
            <a:noFill/>
          </a:ln>
        </p:spPr>
      </p:pic>
      <p:sp>
        <p:nvSpPr>
          <p:cNvPr id="283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043520" cy="7254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5. Космизм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42920" y="1071360"/>
            <a:ext cx="400032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Представител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Н.Ф. Федор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29-1903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.Э. Циолко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57-1935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.И. Вернад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63-1945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.Л.Чиже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(1897-1964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3357360" y="214200"/>
            <a:ext cx="5500440" cy="642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Философское мировоззрение, в основу которого положено представление о Космосе и о человеке как «гражданине Мира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Фс понятие Космизма связано с учением древних греков о мире как структурно-организованном и упорядоченном целом.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mbria"/>
              </a:rPr>
              <a:t>В науке учение о Космизме основано на теориях о рождении и эволюции Вселенной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42560" y="357120"/>
            <a:ext cx="8643960" cy="571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Николай Федоров 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pic>
        <p:nvPicPr>
          <p:cNvPr id="354" name="Picture 5" descr=""/>
          <p:cNvPicPr/>
          <p:nvPr/>
        </p:nvPicPr>
        <p:blipFill>
          <a:blip r:embed="rId1"/>
          <a:stretch/>
        </p:blipFill>
        <p:spPr>
          <a:xfrm>
            <a:off x="500040" y="1357200"/>
            <a:ext cx="3143160" cy="34941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 txBox="1"/>
          <p:nvPr/>
        </p:nvSpPr>
        <p:spPr>
          <a:xfrm>
            <a:off x="3714480" y="857160"/>
            <a:ext cx="514332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«общего дела»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оскрешение предков –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трификация</a:t>
            </a:r>
            <a:endParaRPr b="0" lang="en-US" sz="28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Его осуществит Бог нашими руками, с помощью современной науки, которая от Бога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Миллионы воскрешённых не уместятся на нашей планете, поэтому ими можно заселить другие планеты.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61720" indent="-26172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Замысел освоения космического пространств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56" name="Прямоугольник 5"/>
          <p:cNvSpPr/>
          <p:nvPr/>
        </p:nvSpPr>
        <p:spPr>
          <a:xfrm>
            <a:off x="357120" y="4929120"/>
            <a:ext cx="328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ект «регуляции природ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Задание для самостоятельной работы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42920" y="1609200"/>
            <a:ext cx="792936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Прокомментируйте высказывание: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ct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700" spc="-1" strike="noStrike">
                <a:solidFill>
                  <a:srgbClr val="000000"/>
                </a:solidFill>
                <a:latin typeface="Cambria"/>
              </a:rPr>
              <a:t>«Мы не принадлежим ни к Западу, ни к Востоку, - мы - народ исключительный». </a:t>
            </a:r>
            <a:endParaRPr b="0" lang="en-US" sz="37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700" spc="-1" strike="noStrike">
                <a:solidFill>
                  <a:srgbClr val="000000"/>
                </a:solidFill>
                <a:latin typeface="Cambria"/>
              </a:rPr>
              <a:t>        </a:t>
            </a: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(П.Я. Чаадаев)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 algn="r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000000"/>
                </a:solidFill>
                <a:latin typeface="Cambria"/>
              </a:rPr>
              <a:t>СПАСИБО ЗА ВНИМАНИЕ!</a:t>
            </a:r>
            <a:endParaRPr b="0" lang="en-US" sz="33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60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0" y="500040"/>
            <a:ext cx="8143920" cy="5716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русская философия (</a:t>
            </a:r>
            <a:r>
              <a:rPr b="0" lang="en-US" sz="3600" spc="-1" strike="noStrike">
                <a:solidFill>
                  <a:srgbClr val="742217"/>
                </a:solidFill>
                <a:latin typeface="Franklin Gothic Book"/>
              </a:rPr>
              <a:t>XIX – XX</a:t>
            </a: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 вв.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142920" y="1213920"/>
            <a:ext cx="7929360" cy="524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собирательное название философских концепций русских мыслителе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радиционно началом русской философии считают публикацию «Философических писем» Петра Чаадаева, а фактическим окончанием её существования в России - высылку большевиками в 1922 г. последних представителей «старорежимной» философской школы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13880" y="285480"/>
            <a:ext cx="7339320" cy="60804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Основная проблематика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71680" y="1000080"/>
            <a:ext cx="7929360" cy="545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человек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осмизм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ы морали и нравственност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ы выбора исторического пути России - между Востоком или Западом –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пецифическая проблема русской философии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власти и государств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социальной справедливости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идеального общества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будущего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роблема творчества.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0000" indent="-27000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89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320400"/>
            <a:ext cx="8543880" cy="67932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Основные черты русской философии: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357120" y="1142640"/>
            <a:ext cx="850104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о мнению Н.О. Лосского – русского религиозного мыслителя, создателя интуитивизма в философии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Космиз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- восприятие космоса как единого целостного организма, противоположность хаосу;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офиология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- учения о Софии (Премудрости Божьей, Душе мира) – представители: С. Булгаков, В.Соловьев, П. Флорен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Собор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     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Интуитивизм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Метафизич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    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Реалистич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 (онтологизм)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Религиозность</a:t>
            </a: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,               </a:t>
            </a:r>
            <a:r>
              <a:rPr b="0" i="1" lang="ru-RU" sz="2600" spc="-1" strike="noStrike">
                <a:solidFill>
                  <a:srgbClr val="000000"/>
                </a:solidFill>
                <a:latin typeface="Cambria"/>
              </a:rPr>
              <a:t>Нравственность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59200" indent="-259200">
              <a:spcBef>
                <a:spcPts val="575"/>
              </a:spcBef>
              <a:buClr>
                <a:srgbClr val="d34817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2" name="Місце для нижнього колонтитула 2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Этапы развития русской философии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вянофильство и западничество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ичество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лософия всеединства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лигиозная философия – Софиология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609480" indent="-609480">
              <a:lnSpc>
                <a:spcPct val="150000"/>
              </a:lnSpc>
              <a:buClr>
                <a:srgbClr val="d34817"/>
              </a:buClr>
              <a:buSzPct val="8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смизм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5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742217"/>
                </a:solidFill>
                <a:latin typeface="Calibri"/>
              </a:rPr>
              <a:t>1. Славянофильство и западничество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684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Славянофилы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А.С. Хомя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И.В. Кирее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К.С. Акса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Ю. Самари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177800" y="1600200"/>
            <a:ext cx="3521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Cambria"/>
              </a:rPr>
              <a:t>Западники: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.Я. Чаадае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В. Боткин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П. Анненков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150000"/>
              </a:lnSpc>
              <a:buClr>
                <a:srgbClr val="d34817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ambria"/>
              </a:rPr>
              <a:t>Т. Грановский</a:t>
            </a:r>
            <a:endParaRPr b="0" lang="en-US" sz="26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299" name="Місце для нижнього колонтитула 1"/>
          <p:cNvSpPr/>
          <p:nvPr/>
        </p:nvSpPr>
        <p:spPr>
          <a:xfrm>
            <a:off x="91440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615080" cy="58248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70c0"/>
                </a:solidFill>
                <a:latin typeface="Calibri"/>
              </a:rPr>
              <a:t>Чаадаев П.Я. (1794 - 1856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500280" y="714240"/>
            <a:ext cx="54295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Письма о философии истории» на франц.яз.- «Философические письма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Апология сумасшедшего»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Его сторонники оформились в </a:t>
            </a:r>
            <a:r>
              <a:rPr b="1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западников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а его критики - в славянофилов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Влияние Шеллинга, путешествовал по Европе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сновные идеи русской философии: стремление реализовать утопию и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поиск национальной идентичности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Обозначает себя как религиозного мыслителя, признавая существование Высшего Разума, который проявляет себя в истории через Провидение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  <a:p>
            <a:pPr marL="264600" indent="-264600">
              <a:lnSpc>
                <a:spcPct val="10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Не отрицает христианство, но считает, что его основная идея заключается в «водворении царства божьего на Земле» - метафора 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справедливого общества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которое уже осуществляется на Западе (на этом позже делали основной упор западники). </a:t>
            </a:r>
            <a:endParaRPr b="0" lang="en-US" sz="1800" spc="-1" strike="noStrike">
              <a:solidFill>
                <a:srgbClr val="000000"/>
              </a:solidFill>
              <a:latin typeface="Cambria"/>
            </a:endParaRPr>
          </a:p>
        </p:txBody>
      </p:sp>
      <p:pic>
        <p:nvPicPr>
          <p:cNvPr id="302" name="Picture 6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3210120" cy="3540240"/>
          </a:xfrm>
          <a:prstGeom prst="rect">
            <a:avLst/>
          </a:prstGeom>
          <a:ln w="0">
            <a:noFill/>
          </a:ln>
        </p:spPr>
      </p:pic>
      <p:sp>
        <p:nvSpPr>
          <p:cNvPr id="303" name="Прямоугольник 5"/>
          <p:cNvSpPr/>
          <p:nvPr/>
        </p:nvSpPr>
        <p:spPr>
          <a:xfrm>
            <a:off x="142920" y="4929120"/>
            <a:ext cx="36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28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«Смысл России - быть уроком всему человечеству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543880" cy="9396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96464"/>
                </a:solidFill>
                <a:latin typeface="Calibri"/>
              </a:rPr>
              <a:t>Философические письма </a:t>
            </a:r>
            <a:r>
              <a:rPr b="0" lang="ru-RU" sz="3600" spc="-1" strike="noStrike">
                <a:solidFill>
                  <a:srgbClr val="696464"/>
                </a:solidFill>
                <a:latin typeface="Calibri"/>
              </a:rPr>
              <a:t>(1829-1831гг.)</a:t>
            </a:r>
            <a:endParaRPr b="0" lang="en-US" sz="3600" spc="-1" strike="noStrike">
              <a:solidFill>
                <a:srgbClr val="696464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572320" cy="542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Первое письмо было опубликовано в журнале «Телескоп» в 1836 г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Автор выразил сожаление по поводу «отлучённости России от «всемирного воспитания человеческого рода», духовного застоя, препятствующего исполнению предначертанной свыше исторической миссии»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ет начало философскому осмыслению проблемы 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мечает значимость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толической церкви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аваясь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авославным.</a:t>
            </a:r>
            <a:endParaRPr b="0" lang="en-US" sz="24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Николай I, после прочтения «Писем»: «Прочитав статью, нахожу, что содержание оной - смесь дерзкой бессмыслицы, достойной умалишенного».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  <a:p>
            <a:pPr marL="272880" indent="-272880">
              <a:lnSpc>
                <a:spcPct val="80000"/>
              </a:lnSpc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mbria"/>
              </a:rPr>
              <a:t>Журнал был закрыт, а Чаадаев  объявлен сумасшедшим. Проходил ежедневное! освидетельствование, находясь под домашним арестом. Надзор полицейского лекаря за «больным» был снят в 1837, под условием, чтобы он «не смел ничего писать». </a:t>
            </a:r>
            <a:endParaRPr b="0" lang="en-US" sz="2200" spc="-1" strike="noStrike">
              <a:solidFill>
                <a:srgbClr val="000000"/>
              </a:solidFill>
              <a:latin typeface="Cambria"/>
            </a:endParaRPr>
          </a:p>
        </p:txBody>
      </p:sp>
      <p:sp>
        <p:nvSpPr>
          <p:cNvPr id="307" name="Місце для нижнього колонтитула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96464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5T06:19:03Z</dcterms:created>
  <dc:creator>НАТАША</dc:creator>
  <dc:description/>
  <dc:language>en-US</dc:language>
  <cp:lastModifiedBy>LEGION</cp:lastModifiedBy>
  <dcterms:modified xsi:type="dcterms:W3CDTF">2014-11-11T09:06:40Z</dcterms:modified>
  <cp:revision>33</cp:revision>
  <dc:subject/>
  <dc:title>Лекция № 9 Русская философия</dc:title>
</cp:coreProperties>
</file>