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5348-063C-4490-A1B5-159D21EB08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я № 10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ая филосо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рший преподав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федры философии Г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нькова Наталья Михайл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45FC-F5E6-47B9-8C25-7FAF63D15D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вянофилы утвержд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ование особого типа культуры, возникшего на духовной почв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авосла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у России собственного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амобытного пути исторического развит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вторимость форм общественного развития русского народа в вид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щ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ы (характеризуется коллективным трудом и потреблением)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ртел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обровольное объединение людей для совместной работы или иной коллективной деятель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ргали тезис представителей западничества о том, что Пётр Первый возвратил Россию в лоно европейских стран и она должна пройти этот путь в политическом, экономическом и культурном развит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оположником этого направления стал литератор А. С. Хомя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4C25-8256-44ED-99F9-A0A0166A9B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мяков А.С. (1804 - 186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е внимание уделял религиозным вопросам, истории русского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авосла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труд: «Записки о всемирной истории» (незаверше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народ в своем развитии выражает ту или иную сторону абсолюта.  История народа представляла собой процесс проявления в его общественной жизни некой изначально присущей ему первичной иде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философии А. С. Хомякова лежал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виденциа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F0DF-D4EC-4F9B-B2C9-B5BC8BB650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2. Народничество </a:t>
            </a:r>
            <a:r>
              <a:rPr b="0" lang="ru-RU" sz="900" spc="-1" strike="noStrike">
                <a:solidFill>
                  <a:srgbClr val="0070c0"/>
                </a:solidFill>
                <a:latin typeface="Calibri"/>
              </a:rPr>
              <a:t>(1860 - 1910 гг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Представители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.И. Герцен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.Г. Чернышевск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. Григорье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.Н. Страх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. Лавр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и связи интеллигенции с народной мудростью, народной правд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ология народничества основывалась на системе взглядов об особом, «самобытном», пути развития России к социализму, минуя капитализ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ъективными услов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ое развитие капитализма и наличи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рестьянской поземельной общ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ой задачей воспитания Герцен считал формирование гуманной, свободной личности, которая живет интересами своего народа и стремится к преобразованию общества на разумных начал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BA4C-C2B0-49BF-A125-FE55073F9C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3. Философия всеедин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дставите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имир Соловье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ей и Евгений Трубецк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ей Булгак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вел Флоренск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 Карсави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н Фран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ление к всеединству, к соединению с божественным Логосом является смыслом существования всего живого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я всеединства, выражает органическое единство мирового бытия и составляющих его элементов при сохранении их индивидуа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1155-B56E-4ABC-A01C-8DFF8FD3F9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Проявления всееди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онтологическом аспект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нерасторжимое единение Творца и твари, Бога и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гносеологическом отношении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«цельное знание», представляющее неразрывную взаимосвязь эмпирического (научного), рационального (философского) и мистического (религиозно-созерцательного) знания - не только через познавательную деятельность, но через веру и интуиц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аксиологии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бсолютная ценность Истины, Добра и Красоты, соответствующих трём Ипостасям Божественной Троицы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C624-16D1-429A-9017-8F1C7230A5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Соловьев Владимир (1853-1900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ные тру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Оправдание Доб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ри разговора о войне, прогрессе и конце всемирной истор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83A6-89CE-46B5-8CAD-A07302AB73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вел Флоренский (1882 - 191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толп и утверждение истин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ятие противоречия между существованием «мирового зла» и доминантой иде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лаг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зум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ожественной воли, управляющей ми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6957-7BB2-4B3B-95CA-CC4A478CA2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4.  Религиозная филосо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гей Булга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силий Роз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елигиозно-философское общест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митрий  Мережко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усский символиз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ай Бердя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«Философия свободы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мысл творчества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FAF2-FE55-4339-B9B5-DE49B43BBA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ай Бердяев (1874-194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ы: «Философия свободы» и «Смысл творчест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ственный механизм творчества - своб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л и развил поня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дух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природ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ивация - невозможность преодолеть оковы царства природ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цендирование - творческий прорыв, преодоление рабских оков природно-исторического бы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9CCA-8997-4CDE-8F4A-3F72C709BA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гей Булгаков (1871 - 194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Философия хозяйства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вет Невечерни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Философия имен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918 г. – священ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BA35-3144-41E4-876C-2DF4C7DAA4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Русская филосо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E947-D3F5-4290-AA12-F17AE2C49E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70c0"/>
                </a:solidFill>
                <a:latin typeface="Calibri"/>
              </a:rPr>
              <a:t>5. Космиз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Представители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.Ф. Федор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1829-1903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.Э. Циолковск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1857-1935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.И. Вернадск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1863-1945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.Л.Чижевск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1897-1964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Философское мировоззрение, в основу которого положено представление о Космосе и о человеке как «гражданине Мира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 Фс понятие Космизма связано с учением древних греков о мире как структурно-организованном и упорядоченном целом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 науке учение о Космизме основано на теориях о рождении и эволюции Вселенно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B08A-2DBA-415F-B87C-5BAABF827C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Николай Федо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ософия «общего де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крешение предков –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рифик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осуществит Бог нашими руками, с помощью современной науки, которая от Бог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ллионы воскрешённых не уместятся на нашей планете, поэтому ими можно заселить другие плане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ысел освоения космического простра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AABC-45AF-49BA-8CB0-7894037D75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Задание для самостоятельной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окомментируйте высказывание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ы не принадлежим ни к Западу, ни к Востоку, - мы - народ исключительный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П.Я. Чаадаев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8459-1DF7-4859-BDCC-0378D4B95C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русская философия (</a:t>
            </a:r>
            <a:r>
              <a:rPr b="0" lang="en-US" sz="1200" spc="-1" strike="noStrike">
                <a:solidFill>
                  <a:srgbClr val="953735"/>
                </a:solidFill>
                <a:latin typeface="Calibri"/>
              </a:rPr>
              <a:t>XIX – XX</a:t>
            </a: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 вв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ирательное название философских концепций русских мысл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диционно началом русской философии считают публикацию «Философических писем» Петра Чаадаева, а фактическим окончанием её существования в России - высылку большевиками в 1922 г. последних представителей «старорежимной» философской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A686-4FAF-4BD7-B5D7-0F614D183F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Основная проблемат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миз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морали и нравств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выбора исторического пути России - между Востоком или Западом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пецифическая проблема русской философ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ласти и государ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социальной справедлив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идеального 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будуще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твор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62E0-3A94-486C-93F2-EE0B2D30C3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Основные черты русской философ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нению Н.О. Лосского – русского религиозного мыслителя, создателя интуитивизма в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смиз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восприятие космоса как единого целостного организма, противоположность хаос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фиоло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учения о Софии (Премудрости Божьей, Душе мира) – представители: С. Булгаков, В.Соловьев, П. Флоре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бор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нтуитивиз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етафизич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еалистич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онтологиз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елигиоз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рав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56D4-3A83-4446-9A4A-E5A1421E8D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Этапы развития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вянофильство и западнич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нич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ософия всееди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игиозная философия – Софи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м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F7A6-C89B-4C9D-A4D6-EF3CF3B873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1. Славянофильство и западнич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лавянофил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С. Хомя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.В. Кирее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С. Акса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. Самар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падн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Я. Чаада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Ботк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 Анне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. Грано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3A8E-CD68-4ECD-9ABD-120F8B650F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Чаадаев П.Я. (1794 - 185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«Письма о философии истории» на франц.яз.- «Философические письм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«Апология сумасшедшег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го сторонники оформились в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падников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а его критики - в славянофил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лияние Шеллинга, путешествовал по Европ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сновные идеи русской философии: стремление реализовать утопию 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поиск национальной идентичности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бозначает себя как религиозного мыслителя, признавая существование Высшего Разума, который проявляет себя в истории через Провид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е отрицает христианство, но считает, что его основная идея заключается в «водворении царства божьего на Земле» - метафор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справедливого общества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которое уже осуществляется на Западе (на этом позже делали основной упор западник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1213-DF99-48D8-97ED-A1D7EFC0AF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лософические письм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29-1831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е письмо было опубликовано в журнале «Телескоп» в 1836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выразил сожаление по поводу «отлучённости России от «всемирного воспитания человеческого рода», духовного застоя, препятствующего исполнению предначертанной свыше исторической мисси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ет начало философскому осмыслению пробле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чает значимость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олической церкви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ваясь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вослав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ай I, после прочтения «Писем»: «Прочитав статью, нахожу, что содержание оной - смесь дерзкой бессмыслицы, достойной умалишенног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урнал был закрыт, а Чаадаев  объявлен сумасшедшим. Проходил ежедневное! освидетельствование, находясь под домашним арестом. Надзор полицейского лекаря за «больным» был снят в 1837, под условием, чтобы он «не смел ничего писать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2566-456D-489D-882A-501767A365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276E-4179-47A3-9016-C33FA3630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E718-754A-448C-A613-44E7F855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1393-2F59-47C3-AAA2-8350FDD1E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FBA7-D262-43FC-9A42-B904BE7CC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4964-C806-453E-AD8D-9646A0280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8618-7C10-45FE-928D-CB08977E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F575-1D1D-423E-9AAF-42E8FB76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C74F-C587-4909-A1B5-CE7BCB00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57456-0BAB-429E-B6E9-18D5DB3B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9CEC9-8343-4041-81AF-F807C7D1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27D5-1007-41FF-BE8B-6BE08906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8399-F54D-4261-BB79-FC1CB869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EA3F-2DD2-4FF6-8C83-26654D4D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7569-2B38-4ED3-A9BF-1C439E6F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7799-28F4-4E79-8684-A06A3C5F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904F-07A2-43E0-8426-13FE18590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06D3-CDC9-49A5-812D-F717EF82E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59374-872E-4679-9496-69AE99C6E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B9D4E-89FD-445D-B572-898F63B3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5FB1A-2A55-4BF8-BEF9-CD9EE545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0F745-901E-4CE3-9CBD-804F1623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C08C6-4A43-4CC2-9CE6-0A189E6E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A8EC-967A-4D8D-A5F9-7763729C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14974-124F-4096-8811-F6F315EA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BA433-BFEC-44DF-8F85-7BF1AE9E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F1D78-CC18-473A-AB75-061D1396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F2F5E-10C4-4049-8BE6-E9A0FC66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BD038-0A93-4E75-BA01-CBBFF0BB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801DC-5AC7-4246-9C63-9289DBBC6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0DB46-6263-4903-86C3-E325D0B21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A632D-8B7B-4768-BD8D-D89A339FC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A4868-46D1-418B-8795-940318BE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AFDB9-195A-46B8-AF6F-C6111D71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D998-D119-4A7C-A3ED-F3AF98E3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7DCEC-3912-4159-B4DA-5B1D7BA8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D5A8B-AB52-4957-ADBE-DD30E7E2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E06B1-7D04-4B4B-AD78-BA41D67B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19287-6AE8-4001-9365-F96A1E7E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F445B-B6BC-4E07-B696-5F807ED4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842E1-7C30-43A3-911A-991774BE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07334-BDCD-4FBC-9A2C-B8B0B020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EC516-FEDA-4732-B1AE-D8C8F96F6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7D80E-D736-4DD6-97B7-9D395FBA1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F67FD-319B-4317-9075-6DFF63A86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3998-5BE9-4729-9F03-3835A963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9BB3C-5336-4948-B4F2-6D64ADB3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0FD2D-E0E7-47BA-AC14-50D7F7C4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82DB7-6D9E-4AE1-A6B6-DDB2D4A5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388E0-50AB-4EEB-87AA-277BF2FF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D26DA-CACD-4B2D-862D-1B769BA3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8959E-560D-441C-8DCC-1C5F5EAA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E86A4-9BCA-48FD-B4D5-DCDB8946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EF47E-57F0-48CE-BEF7-6E97CAA8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AEB90-E690-48C5-A754-A51B1C21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04DDB-0A4F-4359-A13E-89080496C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1063-6213-4270-ABF8-2C339732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4F0A0-039E-4579-82D4-8788836A6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F536F-235D-4FB3-BEF6-0475E71A3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9CB33-CA27-4BD1-870D-EA149864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67722-1226-4C38-8E85-C08EDAB0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C9F5C-8C5A-482B-A22D-7BCBF647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2101A-99B6-4DC0-A06A-E5CBAB4B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32F78-9EEE-4031-B838-C5FD6259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0CC32-E495-4645-8CB2-C37F9EDC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27E20-ADCF-40F8-8BA6-D66173E5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9AB3F-1C43-4B06-86B7-DD45CD54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E42B-920C-4E6A-952C-6B3A77BD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55022-7008-4A30-AFDF-10941E82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818B5-B3F7-4AB5-8F9F-B11F348F6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94FBE-3684-492D-A240-F88FCFB6D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77B1-966A-42A5-841F-D74E3F19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043B-DEC3-46B1-9C0B-1ADDCC12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2CF3-9189-4390-A04B-03D8DF5C5BB4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873E-9925-484C-975B-F323728FB65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60C6-F2B3-408F-A0BD-6298DAA978FD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2AA2-0DEF-42A8-9E61-FEDFBFE2745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12B1-D076-4E4E-A2EF-CF9A4A4A77EE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F69A-E675-4B1D-BA64-9B1F7E9E883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9786-7403-445D-98DE-32AC7479A790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DDA2-EA24-465E-B69E-FAB227D8B33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90A9-B604-44DA-8ABE-6C1A351FEBC0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34D4-5B38-4354-B724-BD76A8F45F2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C6F8-3E21-4F81-96B2-F504607433CE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865200" y="6314400"/>
            <a:ext cx="1508760" cy="3373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400D-777A-44AC-B205-6C36A0913AC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6/60/Herzen_ge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старший преподаватель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 </a:t>
            </a: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кафедры философии ГФ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Панькова Наталья Михайловн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Лекция № 10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Русская философи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286840" cy="642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Славянофилы утверждали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14200" y="1143000"/>
            <a:ext cx="87868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уществование особого типа культуры, возникшего на духовной почве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православия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аличие у России собственного,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самобытного пути исторического развития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еповторимость форм общественного развития русского народа в виде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общин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ы (характеризуется коллективным трудом и потреблением) и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артели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(добровольное объединение людей для совместной работы или иной коллективной деятельности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твергали тезис представителей западничества о том, что Пётр Первый возвратил Россию в лоно европейских стран и она должна пройти этот путь в политическом, экономическом и культурном развити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сновоположником этого направления стал литератор А. С. Хомяков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Хомяков А.С. (1804 - 1860)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642840" y="1356840"/>
            <a:ext cx="53578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собое внимание уделял религиозным вопросам, истории русского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православия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сновной труд: «Записки о всемирной истории» (незавершен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Каждый народ в своем развитии выражает ту или иную сторону абсолюта.  История народа представляла собой процесс проявления в его общественной жизни некой изначально присущей ему первичной идеи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 основе философии А. С. Хомякова лежал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провиденциализм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48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13" name="Picture 2" descr="C:\Users\НАТАША.Vitaliy-ПК\Pictures\лекция 10\460px-KhomyakovA_AvtoportretABR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285840" y="1500120"/>
            <a:ext cx="3176640" cy="4143600"/>
          </a:xfrm>
          <a:prstGeom prst="rect">
            <a:avLst/>
          </a:prstGeom>
          <a:ln w="0">
            <a:noFill/>
          </a:ln>
        </p:spPr>
      </p:pic>
      <p:sp>
        <p:nvSpPr>
          <p:cNvPr id="3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2560" y="1429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2. Народничество 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(1860 - 1910 гг.)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2560" y="857160"/>
            <a:ext cx="5715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Cambria"/>
              </a:rPr>
              <a:t>Представители: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mbria"/>
              </a:rPr>
              <a:t>А.И. Герцен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mbria"/>
              </a:rPr>
              <a:t>Н.Г. Чернышевский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mbria"/>
              </a:rPr>
              <a:t>А. Григорьев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mbria"/>
              </a:rPr>
              <a:t>Н.Н. Страхов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mbria"/>
              </a:rPr>
              <a:t>П. Лавров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и связи интеллигенции с народной мудростью, народной правдой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ология народничества основывалась на системе взглядов об особом, «самобытном», пути развития России к социализму, минуя капитализм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ъективными условия: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ое развитие капитализма и наличие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рестьянской поземельной общины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ой задачей воспитания Герцен считал формирование гуманной, свободной личности, которая живет интересами своего народа и стремится к преобразованию общества на разумных началах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5572080" y="485784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ерцен Александр Иванови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1812-1870 гг.) - основатель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движения народни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7" descr="Файл:Herzen ge.jpg">
            <a:hlinkClick r:id="rId1"/>
          </p:cNvPr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5500800" y="714240"/>
            <a:ext cx="3071880" cy="3938760"/>
          </a:xfrm>
          <a:prstGeom prst="rect">
            <a:avLst/>
          </a:prstGeom>
          <a:ln w="0">
            <a:noFill/>
          </a:ln>
        </p:spPr>
      </p:pic>
      <p:sp>
        <p:nvSpPr>
          <p:cNvPr id="3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758000" cy="511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3. Философия всеединства 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2560" y="928440"/>
            <a:ext cx="86439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дставители: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1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имир Соловьев,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1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ей и Евгений Трубецкие,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1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ей Булгаков,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1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вел Флоренский,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1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 Карсавин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1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н Франк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1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ление к всеединству, к соединению с божественным Логосом является смыслом существования всего живого на Земле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1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я всеединства, выражает органическое единство мирового бытия и составляющих его элементов при сохранении их индивидуальности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79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Проявления всеединства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онтологическом аспекте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нерасторжимое единение Творца и твари, Бога и человека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гносеологическом отношени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«цельное знание», представляющее неразрывную взаимосвязь эмпирического (научного), рационального (философского) и мистического (религиозно-созерцательного) знания - не только через познавательную деятельность, но через веру и интуицию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аксиологи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бсолютная ценность Истины, Добра и Красоты, соответствующих трём Ипостасям Божественной Троицы. 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5" name="Місце для нижнього колонтитула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115040" cy="608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Соловьев Владимир (1853-1900 гг.)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27" name="Picture 5" descr=""/>
          <p:cNvPicPr/>
          <p:nvPr/>
        </p:nvPicPr>
        <p:blipFill>
          <a:blip r:embed="rId1"/>
          <a:stretch/>
        </p:blipFill>
        <p:spPr>
          <a:xfrm>
            <a:off x="520560" y="1600200"/>
            <a:ext cx="3394080" cy="45259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3928680" y="1000080"/>
            <a:ext cx="407196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mbria"/>
              </a:rPr>
              <a:t>Основные труды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"Оправдание Добра»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«Три разговора о войне, прогрессе и конце всемирной истории»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9" name="Прямоугольник 5"/>
          <p:cNvSpPr/>
          <p:nvPr/>
        </p:nvSpPr>
        <p:spPr>
          <a:xfrm>
            <a:off x="4000680" y="3429000"/>
            <a:ext cx="4071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Я называю истинным, или положительным, всеединством такое, в котором единое существует не на счёт всех или в ущерб им, а в пользу всех … истинное единство сохраняет и усиливает свои элементы, осуществляясь в них как полнота быт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авел Флоренский (1882 - 1917)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071960" y="2428920"/>
            <a:ext cx="485784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«Столп и утверждение истины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нятие противоречия между существованием «мирового зла» и доминантой идеи 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благой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и 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разумной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божественной воли, управляющей миром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33" name="Picture 2" descr="C:\Users\НАТАША.Vitaliy-ПК\Pictures\лекция 10\598px-Nesterov_Florensky_Bulgakov.jpg"/>
          <p:cNvPicPr/>
          <p:nvPr/>
        </p:nvPicPr>
        <p:blipFill>
          <a:blip r:embed="rId1"/>
          <a:stretch/>
        </p:blipFill>
        <p:spPr>
          <a:xfrm>
            <a:off x="214200" y="1143000"/>
            <a:ext cx="3749760" cy="376236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5"/>
          <p:cNvSpPr/>
          <p:nvPr/>
        </p:nvSpPr>
        <p:spPr>
          <a:xfrm>
            <a:off x="214200" y="5000760"/>
            <a:ext cx="371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хаил Нестеров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илософы Павел Флоренский и Сергей Булга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Масло. 19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72520" cy="725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4.  Религиозная философия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2560" y="999720"/>
            <a:ext cx="471492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Сергей Булгаков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асилий Розанов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7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(религиозно-философское общество)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Дмитрий  Мережковский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7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(русский символизм)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Николай Бердяев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7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(«Философия свободы»,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7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«Смысл творчества»)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38" name="Picture 6" descr="C:\Users\НАТАША.Vitaliy-ПК\Pictures\лекция 10\450px-Dormition_(Kremlin).jpg"/>
          <p:cNvPicPr/>
          <p:nvPr/>
        </p:nvPicPr>
        <p:blipFill>
          <a:blip r:embed="rId1"/>
          <a:stretch/>
        </p:blipFill>
        <p:spPr>
          <a:xfrm>
            <a:off x="5143680" y="928800"/>
            <a:ext cx="3751200" cy="500040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оугольник 7"/>
          <p:cNvSpPr/>
          <p:nvPr/>
        </p:nvSpPr>
        <p:spPr>
          <a:xfrm>
            <a:off x="5214960" y="6000840"/>
            <a:ext cx="37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пенский соб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сковского Кремл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Николай Бердяев (1874-1948)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14200" y="785880"/>
            <a:ext cx="58579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Труды: «Философия свободы» и «Смысл творчества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единственный механизм творчества - свобода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вел и развил понятия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царство духа,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царство природы,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бъективация - невозможность преодолеть оковы царства природы,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трансцендирование - творческий прорыв, преодоление рабских оков природно-исторического бытия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8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43" name="Picture 5" descr=""/>
          <p:cNvPicPr/>
          <p:nvPr/>
        </p:nvPicPr>
        <p:blipFill>
          <a:blip r:embed="rId1"/>
          <a:stretch/>
        </p:blipFill>
        <p:spPr>
          <a:xfrm>
            <a:off x="6000840" y="1428840"/>
            <a:ext cx="2917800" cy="3902040"/>
          </a:xfrm>
          <a:prstGeom prst="rect">
            <a:avLst/>
          </a:prstGeom>
          <a:ln w="0">
            <a:noFill/>
          </a:ln>
        </p:spPr>
      </p:pic>
      <p:sp>
        <p:nvSpPr>
          <p:cNvPr id="3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Сергей Булгаков (1871 - 1944)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Труды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«Философия хозяйства»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«Свет Невечерний»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«Философия имени»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 1918 г. – священник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00080" y="357120"/>
            <a:ext cx="7238880" cy="679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42217"/>
                </a:solidFill>
                <a:latin typeface="Calibri"/>
              </a:rPr>
              <a:t>Русская философия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2" name="Picture 3" descr=""/>
          <p:cNvPicPr/>
          <p:nvPr/>
        </p:nvPicPr>
        <p:blipFill>
          <a:blip r:embed="rId1"/>
          <a:stretch/>
        </p:blipFill>
        <p:spPr>
          <a:xfrm>
            <a:off x="1143000" y="1643040"/>
            <a:ext cx="6962760" cy="4846680"/>
          </a:xfrm>
          <a:prstGeom prst="rect">
            <a:avLst/>
          </a:prstGeom>
          <a:ln w="0">
            <a:noFill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43520" cy="725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5. Космизм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42920" y="1071360"/>
            <a:ext cx="40003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Представители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Н.Ф. Федоро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(1829-1903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.Э. Циолковски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(1857-1935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.И. Вернадски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(1863-1945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А.Л.Чижевски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(1897-1964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357360" y="214200"/>
            <a:ext cx="550044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Философское мировоззрение, в основу которого положено представление о Космосе и о человеке как «гражданине Мира»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 Фс понятие Космизма связано с учением древних греков о мире как структурно-организованном и упорядоченном целом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 науке учение о Космизме основано на теориях о рождении и эволюции Вселенной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643960" cy="571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Николай Федоров 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54" name="Picture 5" descr=""/>
          <p:cNvPicPr/>
          <p:nvPr/>
        </p:nvPicPr>
        <p:blipFill>
          <a:blip r:embed="rId1"/>
          <a:stretch/>
        </p:blipFill>
        <p:spPr>
          <a:xfrm>
            <a:off x="500040" y="1357200"/>
            <a:ext cx="3143160" cy="34941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3714480" y="857160"/>
            <a:ext cx="514332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ософия «общего дела»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оскрешение предков –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рификация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Его осуществит Бог нашими руками, с помощью современной науки, которая от Бога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Миллионы воскрешённых не уместятся на нашей планете, поэтому ими можно заселить другие планеты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Замысел освоения космического пространств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6" name="Прямоугольник 5"/>
          <p:cNvSpPr/>
          <p:nvPr/>
        </p:nvSpPr>
        <p:spPr>
          <a:xfrm>
            <a:off x="357120" y="4929120"/>
            <a:ext cx="32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«регуляции природ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Задание для самостоятельной работы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42920" y="1609200"/>
            <a:ext cx="792936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mbria"/>
              </a:rPr>
              <a:t>Прокомментируйте высказывание: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ambria"/>
              </a:rPr>
              <a:t>«Мы не принадлежим ни к Западу, ни к Востоку, - мы - народ исключительный». </a:t>
            </a:r>
            <a:endParaRPr b="0" lang="en-US" sz="3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700" spc="-1" strike="noStrike">
                <a:solidFill>
                  <a:srgbClr val="000000"/>
                </a:solidFill>
                <a:latin typeface="Cambria"/>
              </a:rPr>
              <a:t>        </a:t>
            </a:r>
            <a:r>
              <a:rPr b="0" lang="ru-RU" sz="3300" spc="-1" strike="noStrike">
                <a:solidFill>
                  <a:srgbClr val="000000"/>
                </a:solidFill>
                <a:latin typeface="Cambria"/>
              </a:rPr>
              <a:t>(П.Я. Чаадаев)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mbria"/>
              </a:rPr>
              <a:t>СПАСИБО ЗА ВНИМАНИЕ!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500040"/>
            <a:ext cx="8143920" cy="571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42217"/>
                </a:solidFill>
                <a:latin typeface="Calibri"/>
              </a:rPr>
              <a:t>русская философия (</a:t>
            </a:r>
            <a:r>
              <a:rPr b="0" lang="en-US" sz="3600" spc="-1" strike="noStrike">
                <a:solidFill>
                  <a:srgbClr val="742217"/>
                </a:solidFill>
                <a:latin typeface="Franklin Gothic Book"/>
              </a:rPr>
              <a:t>XIX – XX</a:t>
            </a:r>
            <a:r>
              <a:rPr b="0" lang="ru-RU" sz="3600" spc="-1" strike="noStrike">
                <a:solidFill>
                  <a:srgbClr val="742217"/>
                </a:solidFill>
                <a:latin typeface="Calibri"/>
              </a:rPr>
              <a:t> вв.)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42920" y="1213920"/>
            <a:ext cx="792936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обирательное название философских концепций русских мыслителе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Традиционно началом русской философии считают публикацию «Философических писем» Петра Чаадаева, а фактическим окончанием её существования в России - высылку большевиками в 1922 г. последних представителей «старорежимной» философской школы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13880" y="285480"/>
            <a:ext cx="7339320" cy="608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42217"/>
                </a:solidFill>
                <a:latin typeface="Calibri"/>
              </a:rPr>
              <a:t>Основная проблематика: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71680" y="1000080"/>
            <a:ext cx="792936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блема человека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осмизм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блемы морали и нравственности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блемы выбора исторического пути России - между Востоком или Западом –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специфическая проблема русской философии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блема власти и государства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блема социальной справедливости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блема идеального общества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блема будущего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блема творчества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9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320400"/>
            <a:ext cx="8543880" cy="679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42217"/>
                </a:solidFill>
                <a:latin typeface="Calibri"/>
              </a:rPr>
              <a:t>Основные черты русской философии: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5712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о мнению Н.О. Лосского – русского религиозного мыслителя, создателя интуитивизма в философи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Космизм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- восприятие космоса как единого целостного организма, противоположность хаосу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Софиология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- учения о Софии (Премудрости Божьей, Душе мира) – представители: С. Булгаков, В.Соловьев, П. Флоренски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Соборность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,                     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Интуитивизм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Метафизичность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,         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Реалистичность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(онтологизм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Религиозность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,               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Нравственность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2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42217"/>
                </a:solidFill>
                <a:latin typeface="Calibri"/>
              </a:rPr>
              <a:t>Этапы развития русской философии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buClr>
                <a:srgbClr val="d3481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вянофильство и западничество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150000"/>
              </a:lnSpc>
              <a:buClr>
                <a:srgbClr val="d3481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ничество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150000"/>
              </a:lnSpc>
              <a:buClr>
                <a:srgbClr val="d3481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ософия всеединств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150000"/>
              </a:lnSpc>
              <a:buClr>
                <a:srgbClr val="d3481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игиозная философия – Софиология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150000"/>
              </a:lnSpc>
              <a:buClr>
                <a:srgbClr val="d3481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мизм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42217"/>
                </a:solidFill>
                <a:latin typeface="Calibri"/>
              </a:rPr>
              <a:t>1. Славянофильство и западничество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Славянофилы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А.С. Хомяко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И.В. Киреевски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.С. Аксако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Ю. Самарин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Западники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.Я. Чаадае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. Боткин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. Анненко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Т. Грановски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615080" cy="5824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Чаадаев П.Я. (1794 - 1856)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500280" y="714240"/>
            <a:ext cx="54295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«Письма о философии истории» на франц.яз.- «Философические письма»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«Апология сумасшедшего»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го сторонники оформились в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падников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а его критики - в славянофилов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лияние Шеллинга, путешествовал по Европе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сновные идеи русской философии: стремление реализовать утопию и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поиск национальной идентичности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бозначает себя как религиозного мыслителя, признавая существование Высшего Разума, который проявляет себя в истории через Провидение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е отрицает христианство, но считает, что его основная идея заключается в «водворении царства божьего на Земле» - метафора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справедливого общества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которое уже осуществляется на Западе (на этом позже делали основной упор западники)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02" name="Picture 6" descr=""/>
          <p:cNvPicPr/>
          <p:nvPr/>
        </p:nvPicPr>
        <p:blipFill>
          <a:blip r:embed="rId1"/>
          <a:stretch/>
        </p:blipFill>
        <p:spPr>
          <a:xfrm>
            <a:off x="214200" y="857160"/>
            <a:ext cx="3210120" cy="3540240"/>
          </a:xfrm>
          <a:prstGeom prst="rect">
            <a:avLst/>
          </a:prstGeom>
          <a:ln w="0">
            <a:noFill/>
          </a:ln>
        </p:spPr>
      </p:pic>
      <p:sp>
        <p:nvSpPr>
          <p:cNvPr id="303" name="Прямоугольник 5"/>
          <p:cNvSpPr/>
          <p:nvPr/>
        </p:nvSpPr>
        <p:spPr>
          <a:xfrm>
            <a:off x="142920" y="4929120"/>
            <a:ext cx="36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«Смысл России - быть уроком всему человечеству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543880" cy="939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Calibri"/>
              </a:rPr>
              <a:t>Философические письма </a:t>
            </a: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(1829-1831гг.)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85840" y="1214280"/>
            <a:ext cx="857232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Первое письмо было опубликовано в журнале «Телескоп» в 1836 г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Автор выразил сожаление по поводу «отлучённости России от «всемирного воспитания человеческого рода», духовного застоя, препятствующего исполнению предначертанной свыше исторической миссии»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ет начало философскому осмыслению проблемы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чает значимость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олической церкви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ваясь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вославным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Николай I, после прочтения «Писем»: «Прочитав статью, нахожу, что содержание оной - смесь дерзкой бессмыслицы, достойной умалишенного»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Журнал был закрыт, а Чаадаев  объявлен сумасшедшим. Проходил ежедневное! освидетельствование, находясь под домашним арестом. Надзор полицейского лекаря за «больным» был снят в 1837, под условием, чтобы он «не смел ничего писать»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7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06:19:03Z</dcterms:created>
  <dc:creator>НАТАША</dc:creator>
  <dc:description/>
  <dc:language>en-US</dc:language>
  <cp:lastModifiedBy>LEGION</cp:lastModifiedBy>
  <dcterms:modified xsi:type="dcterms:W3CDTF">2014-11-11T09:06:40Z</dcterms:modified>
  <cp:revision>33</cp:revision>
  <dc:subject/>
  <dc:title>Лекция № 9 Русская философия</dc:title>
</cp:coreProperties>
</file>