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BB39-0A1C-4E03-9AAA-ED3F861CFCE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ма урок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лобаль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резентацию   подготовила: Мещерякова Е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МБОУ ВСОШ №3 г. Липец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5ADE-31B6-4E43-A797-C316C82F2DF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Еще в конце XVIII в. английский священник Мальтус выдвинул теорию (мальтузианство). Согласно этой теории благосостояние трудящихся при капитализме определяется «естественным законом народонаселения», который определяется тем, что население мира растет в геометрической прогрессии, а рост производства — лишь в арифметичес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Количество землян уже перевалило за 7-миллиард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Увеличение населения идёт в странах «третьего мира»(Индия, Китай, Бразилия, Мексика и т. 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30C3-94F0-46A1-B6DB-519FE93038C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Демография регистрирует убыль коренного населения в развитых странах Запада по причине резкого сокращения рождаемости. Рождаемость в Европе снизилась до отметки 1,34 ребенка на женщину. Уровень рождаемости, необходимый для простого воспроизводства населения, составляет 2,1 рождения на жен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В прессе можно прочитать такие прогнозы: «Европа исчезает как социокультурный организм, к 2050 г. она сократится на 100 млн. человек» (без учета иммиграции — на 120 млн.)». Все страны Запада пытаются восполнить спад рождаемости замещающей миграцией — «импортом людей». Европейский рекорд держит Швейцария, где каждый пятый житель — иностранец. В ФРГ живет 10 млн. турок, но, по расчетам демографов ООН, к 2050 г. население страны сократится с 82 до 58,8 млн.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33B8-5D67-4345-B123-EDF695B2050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Энергет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История цивилизации – история изобретения все новых и новых методов преобразования энергии. Первый скачок в росте энергопотребления произошел, когда человек научился добывать огонь и использовать его для приготовления пищи и обогрева своих жилищ. Источниками энергии в этот период служили дрова и мускульная сила человека. Следующий важный этап связан с изобретением колеса, созданием разнообразных орудий труда, развитием кузнечного производства. К XV веку средневековый человек, используя рабочий скот, энергию воды и ветра, дрова и небольшое количество угля, уже потреблял приблизительно в 10 раз больше, чем первобытный человек. В современном обществе использую   атомную энергию, газ, неф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Сегодня с  каждым годом возрастают объёмы добычи нефти, газа и других полезных ископаемых. По прогнозу учёных, при нынешних темпах разработки полезных ископаемых хватит всего лишь на сто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B1F8-6F1B-4F9D-A7BF-21A3FA9E672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ути разрешения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    глобальных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        проб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Решение проблем является актуальной задачей для всего человечества. Выделяют следующие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ути решения глобальных проблем соврем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a10"/>
                </a:solidFill>
                <a:latin typeface="Calibri"/>
              </a:rPr>
              <a:t>1.Обуздать гонку вооружения, запретить создания и применения систем вооружения массового уничтожения, людских и материальных ресурсов, ликвидацию ядерного оружия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2.Экономное использование природных ресурсов и снижение загрязнений отходами материального производства почвы, воды и возду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3.Снижение темпов роста народонаселения в развивающихся странах и преодоление демографического кризиса в развитых капиталистических стр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4. Для решения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продовольственной проблемы необходимо использовать биотехнологию, новые высокоурожайные сорта, дальнейшее развитие 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механизации, химизации и мелио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DA5B-A264-4701-90D5-2ED08B42C03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- Глобальные проблемы – это вызов человеческому разуму. Уйти от них невозможно. Их можно только преодолеть  усилиями всех стран путём сотрудни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bfbfbf"/>
                </a:solidFill>
                <a:latin typeface="Calibri"/>
              </a:rPr>
              <a:t>- Каждый человек должен осознать, что  Человечество на грани гибели, и выживем мы или нет зависит от каждого из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0701-2C41-436A-9089-0A6552BEE10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Kristen ITC"/>
              </a:rPr>
              <a:t>Эпи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Мы – дети Галак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о самое главное,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Мы дети твои, дорогая Земля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E921-4F31-4FA4-890D-0720DFBE54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1. Понятие «глобальные пробле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2. Причины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3.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4. Ядерная угро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5. 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6. Энергет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7. Что ждёт человечество в будущ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12AA-97B4-417F-BB3D-FA160C5C4B1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лобальные проблемы человечества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– это проблемы, которые касающиеся всего человечества.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   Ни одно государство не в состоянии справиться с этими пробл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130B-F797-431B-9728-38395A12D95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ичины  глобальных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           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. Огромные масштабы человеческой деятельности, которая радикально изменила природу, общество, образ жизн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2. Неспособность человечества рационально распорядиться могучей силой прогр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A173-176C-4975-9A19-CE08B81DDDB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сят планетар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грожают гибелью всему человече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ребуют коллективных усилий мирового со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6B50-DF97-45AD-A8A7-2FE2C0829B3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лассификация глобальных 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            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9ACD-2C67-429D-AD9A-7427A565E33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Экологические пробл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ончение озонового слоя и увеличение притока ультрафиолетовой ради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грязнение атмосферы углекислым газам и другими отходами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Эрозия почвы, засоление и заболачи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ырубка лесных массивов особенно в экваториальных райо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грязнение гидросферы (вод мирового океа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A386-0102-4A5F-85EC-B4F55A7CB86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Ядерная уг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За последние 5,5тыс. лет произошл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4500 войн, в которых погибло 4 миллиарда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Ядерная угроза человечеству возникла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ередине ХХ века. В эти годы США и СССР разверну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нку ядерных вооружений, балансируя на гра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ойны. Подобная опасность уменьшилас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 полностью не исчезла, т.к. в начале XXI ст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озникла возможность применения ядерного оруж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уществует несколько групп потен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очников вызовов и угроз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фициально признанные ядерные государства (СШ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Россия, Франция, Великобритания и Китай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признанные ядерные государства, открыто заявивш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 наличии ядерного оружия (Индия и Пакиста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сударства, обладающие ядерным оружием, 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фициально в этом не признающиеся (Израи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государства без ядерного статуса, но имеющие мотивацию к обладанию ядерным оружием и необходимый для этого научно-технологический потенциал (КНДР, Иран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612A-9C9E-4E68-9153-3760EA568BB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E21-C092-4829-9764-34502A79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340-A96A-42D7-885E-16279BEF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618-D985-43D0-9F22-0C35422A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FCF-65E7-4A4B-A8E0-ABA066F9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E5A00-09B3-47CC-B515-1E62E088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4A5C3-69AE-4E87-BADD-B21B657A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B03EF-BBEB-41F6-861F-DD25DBD6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FDD5E-ACF4-4A6C-9233-B814A2B3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90156-1B15-4970-9442-C576E4D2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3CF74-853A-40A2-BFCB-5F5581C5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44D9F-CBF7-48BC-8A1F-35DCE97D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322-833D-4348-A944-7981B2A3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79B0D-30A0-44BC-B4E5-F19FE507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EE5CB-EE64-4E29-9988-264BC008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42751-5537-489C-BE86-9658BF54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44F54-C97C-4DAE-8C6C-A114DA92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F8D41-1F9B-46BA-A9F8-37C9A04A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FFA-2AB4-493B-877E-F5D0A5BA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05B-C9AE-40A5-8B53-F73D9A72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DFA-D9B9-447F-ACE2-CD76B7F0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DC9-C7EF-4987-A6F4-7B6A1C82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AE8-CC90-4B62-84C0-28CA6A89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B56-47A6-4FF2-9FD6-E4AEC160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537-454C-4900-AB36-30FFF993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D1A5-A269-41F2-98A2-8FEA1BEA3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6DCD-F4DD-40AF-9924-0012E3DE12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29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2929ff"/>
                </a:solidFill>
                <a:latin typeface="Tahoma"/>
              </a:rPr>
              <a:t>Тема урока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Глобальны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        </a:t>
            </a:r>
            <a:r>
              <a:rPr b="1" lang="ru-RU" sz="6000" spc="-1" strike="noStrike">
                <a:solidFill>
                  <a:srgbClr val="c00000"/>
                </a:solidFill>
                <a:latin typeface="Tahoma"/>
              </a:rPr>
              <a:t>проблем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резентацию   подготовила: Мещерякова Е.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МБОУ ВСОШ №3 г. Липец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Демограф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Еще в конце XVIII в. английский священник Мальтус выдвинул теорию (мальтузианство). Согласно этой теории благосостояние трудящихся при капитализме определяется «естественным законом народонаселения», который определяется тем, что население мира растет в геометрической прогрессии, а рост производства — лишь в арифметичес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Количество землян уже перевалило за 7-миллиардну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4d"/>
                </a:solidFill>
                <a:latin typeface="Tahoma"/>
              </a:rPr>
              <a:t>Увеличение населения идёт в странах «третьего мира»(Индия, Китай, Бразилия, Мексика и т. д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8353440" cy="3095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Демограф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7640" y="1125000"/>
            <a:ext cx="878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Демография регистрирует убыль коренного населения в развитых странах Запада по причине резкого сокращения рождаемости. Рождаемость в Европе снизилась до отметки 1,34 ребенка на женщину. Уровень рождаемости, необходимый для простого воспроизводства населения, составляет 2,1 рождения на женщи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В прессе можно прочитать такие прогнозы: «Европа исчезает как социокультурный организм, к 2050 г. она сократится на 100 млн. человек» (без учета иммиграции — на 120 млн.)». Все страны Запада пытаются восполнить спад рождаемости замещающей миграцией — «импортом людей». Европейский рекорд держит Швейцария, где каждый пятый житель — иностранец. В ФРГ живет 10 млн. турок, но, по расчетам демографов ООН, к 2050 г. население страны сократится с 82 до 58,8 млн. челове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79280" y="4581360"/>
            <a:ext cx="3961080" cy="216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356000" y="4581360"/>
            <a:ext cx="4608720" cy="2160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Энергетическая пробл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8920" y="1052280"/>
            <a:ext cx="87138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История цивилизации – история изобретения все новых и новых методов преобразования энергии. Первый скачок в росте энергопотребления произошел, когда человек научился добывать огонь и использовать его для приготовления пищи и обогрева своих жилищ. Источниками энергии в этот период служили дрова и мускульная сила человека. Следующий важный этап связан с изобретением колеса, созданием разнообразных орудий труда, развитием кузнечного производства. К XV веку средневековый человек, используя рабочий скот, энергию воды и ветра, дрова и небольшое количество угля, уже потреблял приблизительно в 10 раз больше, чем первобытный человек. В современном обществе использую   атомную энергию, газ, неф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73"/>
                </a:solidFill>
                <a:latin typeface="Tahoma"/>
              </a:rPr>
              <a:t>Сегодня с  каждым годом возрастают объёмы добычи нефти, газа и других полезных ископаемых. По прогнозу учёных, при нынешних темпах разработки полезных ископаемых хватит всего лишь на сто л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79280" y="4797360"/>
            <a:ext cx="2952720" cy="194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3276720" y="4797360"/>
            <a:ext cx="2735280" cy="194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6156360" y="4797360"/>
            <a:ext cx="2879640" cy="18939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0" y="115560"/>
            <a:ext cx="4464000" cy="20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Пути разрешения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      глобальных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ahoma"/>
              </a:rPr>
              <a:t>         пробл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2276640"/>
            <a:ext cx="9036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Решение проблем является актуальной задачей для всего человечества. Выделяют следующие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пути решения глобальных проблем современност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Tahoma"/>
              </a:rPr>
              <a:t>1.Обуздать гонку вооружения, запретить создания и применения систем вооружения массового уничтожения, людских и материальных ресурсов, ликвидацию ядерного оружия и т.д.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00"/>
                </a:solidFill>
                <a:latin typeface="Tahoma"/>
              </a:rPr>
              <a:t>2.Экономное использование природных ресурсов и снижение загрязнений отходами материального производства почвы, воды и возду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3.Снижение темпов роста народонаселения в развивающихся странах и преодоление демографического кризиса в развитых капиталистических стран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4.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Для решения</a:t>
            </a:r>
            <a:r>
              <a:rPr b="1" lang="ru-RU" sz="32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продовольственной проблемы необходимо использовать </a:t>
            </a:r>
            <a:r>
              <a:rPr b="0" lang="ru-RU" sz="2000" spc="-1" strike="noStrike">
                <a:solidFill>
                  <a:srgbClr val="00b0f0"/>
                </a:solidFill>
                <a:latin typeface="Tahoma"/>
              </a:rPr>
              <a:t>биотехнологию, новые высокоурожайные сорта, дальнейшее развитие </a:t>
            </a:r>
            <a:r>
              <a:rPr b="0" lang="ru-RU" sz="2000" spc="-1" strike="noStrike">
                <a:solidFill>
                  <a:srgbClr val="63c8c8"/>
                </a:solidFill>
                <a:latin typeface="Tahoma"/>
              </a:rPr>
              <a:t>механизации, химизации и мелиор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464000" cy="2089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9280" y="1125000"/>
            <a:ext cx="8856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- Глобальные проблемы – это вызов человеческому разуму. Уйти от них невозможно. Их можно только преодолеть  усилиями всех стран путём сотруднич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73"/>
                </a:solidFill>
                <a:latin typeface="Tahoma"/>
              </a:rPr>
              <a:t>- Каждый человек должен осознать, что  Человечество на грани гибели, и выживем мы или нет зависит от каждого из на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8569080" cy="374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3"/>
                </a:solidFill>
                <a:latin typeface="Kristen ITC"/>
              </a:rPr>
              <a:t>Эпиграф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2249280"/>
            <a:ext cx="874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Мы – дети Галакт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Но самое главное,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Мы дети твои, дорогая Земля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1. Понятие «глобальные проблем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2. Причины глобальных пробл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3. Экологические пробле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4. Ядерная угро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5. Демографическая 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6. Энергетическая 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7. Что ждёт человечество в будуще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277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Глобальные проблемы человечества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– это проблемы, которые касающиеся всего человечества.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    Ни одно государство не в состоянии справиться с этими проблем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8569080" cy="3671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ричины  глобальных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              пробл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1. Огромные масштабы человеческой деятельности, которая радикально изменила природу, общество, образ жизн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2. Неспособность человечества рационально распорядиться могучей силой прогре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Особен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Носят планетарный характ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Угрожают гибелью всему человечест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4d"/>
                </a:solidFill>
                <a:latin typeface="Tahoma"/>
              </a:rPr>
              <a:t>Требуют коллективных усилий мирового со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8713800" cy="2998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Классификация глобальных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              пробл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57120" y="2060640"/>
          <a:ext cx="8462880" cy="4392720"/>
        </p:xfrm>
        <a:graphic>
          <a:graphicData uri="http://schemas.openxmlformats.org/drawingml/2006/table">
            <a:tbl>
              <a:tblPr/>
              <a:tblGrid>
                <a:gridCol w="1909800"/>
                <a:gridCol w="2016000"/>
                <a:gridCol w="2089440"/>
                <a:gridCol w="2447640"/>
              </a:tblGrid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Полит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Эколог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Социаль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Tahoma"/>
                        </a:rPr>
                        <a:t>Эконом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33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озникнов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окальных конфли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«Парник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ффект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емографичес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иту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довольствен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33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Опасность ядерной вой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Загрязне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атмосферы и вод Мирового оке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Противоречия между «севером» и  «югом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Экономическ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5a00"/>
                          </a:solidFill>
                          <a:latin typeface="Tahoma"/>
                        </a:rPr>
                        <a:t>кризи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2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Различия политических сист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«Озоно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ды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Террор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Истощение ресур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         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Экологические пробле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Истончение озонового слоя и увеличение притока ультрафиолетовой ради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Загрязнение атмосферы углекислым газам и другими отходами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Эрозия почвы, засоление и заболачи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Вырубка лесных массивов особенно в экваториальных райо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d"/>
                </a:solidFill>
                <a:latin typeface="Tahoma"/>
              </a:rPr>
              <a:t>Загрязнение гидросферы (вод мирового океа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8496000" cy="2303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Ядерная угро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828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За последние 5,5тыс. лет произошл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14500 войн, в которых погибло 4 миллиарда челове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Ядерная угроза человечеству возникла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середине ХХ века. В эти годы США и СССР развернул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нку ядерных вооружений, балансируя на гран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войны. Подобная опасность уменьшилась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но полностью не исчезла, т.к. в начале XXI столет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возникла возможность применения ядерного оруж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Существует несколько групп потенциальных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источников вызовов и угроз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фициально признанные ядерные государства (СШ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Россия, Франция, Великобритания и Китай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непризнанные ядерные государства, открыто заявивш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 наличии ядерного оружия (Индия и Пакистан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сударства, обладающие ядерным оружием, н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официально в этом не признающиеся (Израиль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государства без ядерного статуса, но имеющие мотивацию к обладанию ядерным оружием и необходимый для этого научно-технологический потенциал (КНДР, Иран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4d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5796000" y="1330200"/>
            <a:ext cx="3338640" cy="4681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1:14:14Z</dcterms:created>
  <dc:creator>Екатерина</dc:creator>
  <dc:description/>
  <dc:language>en-US</dc:language>
  <cp:lastModifiedBy>LEGION</cp:lastModifiedBy>
  <dcterms:modified xsi:type="dcterms:W3CDTF">2015-05-06T08:38:42Z</dcterms:modified>
  <cp:revision>67</cp:revision>
  <dc:subject/>
  <dc:title>Глобальные проблемы Презентацию подготовила: Мещерякова Е.В. МБОУ ВСОШ №3 г. Липецка</dc:title>
</cp:coreProperties>
</file>