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EB8E-2D97-40E7-88B1-50BDE852FB8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ма урок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лоба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резентацию   подготовила: Мещерякова Е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БОУ ВСОШ №3 г. Липец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48B8-F273-40D1-8EA5-C3BCBD01E0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оличество землян уже перевалило за 7-миллиард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7E8B-C169-4F51-89AB-CACA6FAD0E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024C-F249-4046-8188-C1D266BA5C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1E1-121C-430D-96DB-307F72CB19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ути разрешения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глобальных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   проб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ути решения глобальных проблем соврем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a10"/>
                </a:solidFill>
                <a:latin typeface="Calibri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4. Для решения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родовольственной проблемы необходимо использовать биотехнологию, новые высокоурожайные сорта, дальнейшее развитие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механизации, химизации и мелио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FD95-EABC-4807-B711-2F5ED6F606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FCDE-E297-468C-B244-340938C034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Kristen ITC"/>
              </a:rPr>
              <a:t>Эпи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– дети Гал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о самое главное,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дети твои, дорогая Земл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94AB-9E2A-47CC-B4E4-FE8AE9F24E6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 Понятие «глобальны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 Причины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 Ядерная угро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 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 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 Что ждёт человечество в будущ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1C75-6E04-45C6-8516-34FF592ED4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лобальные проблемы человечества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– это проблемы, которые касающиеся всего человечества.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46C5-161B-4DB1-9272-14D8E75529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чины 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2. Неспособность человечества рационально распорядиться могучей силой прогр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9E11-A705-4147-B316-212CE8DFAE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сят планетар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грожают гибелью всему человеч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ребуют коллективных усилий мирового со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6568-A0AB-48EE-B189-DEEF9AAA772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лассификация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53B8-81ED-457B-B62D-6973BFDC79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Экологические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нчение озонового слоя и увеличение притока ультрафиолетовой ради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атмосферы углекислым газам и другими отходами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розия почвы, засоление и заболачи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ырубка лесных массивов особенно в экваториальных рай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гидросферы (вод мирового океа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70C8-B358-4FAC-AE04-D686E6DC0A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дерная уг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 последние 5,5тыс. лет произош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4500 войн, в которых погибло 4 миллиарда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Ядерная угроза человечеству возникл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ередине ХХ века. В эти годы США и СССР разверну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нку ядерных вооружений, балансируя на гр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йны. Подобная опасность уменьшила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 полностью не исчезла, т.к. в начале XXI ст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зникла возможность применения ядерного оруж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ществует несколько групп потен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чников вызовов и угро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признанные ядерные государства (СШ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Россия, Франция, Великобритания и Кита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признанные ядерные государства, открыто заяви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 наличии ядерного оружия (Индия и Пакист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, обладающие ядерным оружием, 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в этом не признающиеся (Израи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A9CD-5233-46D7-9699-8EF32910D3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F25-F2F6-4E30-A945-9DC26E43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3D9-8D08-4FB2-8ED5-8935BD80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2A0-9E2A-4D8C-9D3C-24D28ABC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135-8964-43FC-BEFD-0A24410F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A7BF2-D7B3-49E2-B10A-9CF9DD00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3DF5F-6EE2-4747-A1A9-9D5B01A3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ACF08-BCF7-47D4-8309-A2DA3478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B4A28-FDAF-4C02-A5A8-CF51999B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E183F-69A6-47F4-AC9C-CB7888A5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9A139-63B6-4A81-BF0C-395A0499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ECF19-8E30-4CF2-9D45-5894F81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D33-71C4-461A-9E53-C660BCA3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397C1-D270-40D1-81C3-DE578AD0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EBDFC-2028-4D99-9D1F-CD863BFF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A671A-6E44-4471-84F8-DF3D0FF6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03B67-A9C4-41C6-8918-00F58B45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D1E13-B543-4FC2-AD11-E0A3BAAD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1AA-9ED3-4D04-992B-EC1DD942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2DC-F9A9-46D4-9A9C-46C0B1DF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1FF-D7E8-42F3-BD06-1EF680B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43B-761C-41E4-BD3A-5A65B2C6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F10-FC3F-45D4-A98F-D3A04085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ACF-FA7D-4C31-BA22-91E7EE39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9C2-42CE-46DB-BB6E-9B41E8BC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06FF-D0F7-41BB-9A07-54BD5DC77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AF14-69C1-449D-9D35-69D8817128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Глобальны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проблем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резентацию   подготовила: Мещерякова Е.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БОУ ВСОШ №3 г. Липец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Количество землян уже перевалило за 7-миллиардну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35344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764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396108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460872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Энергет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920" y="1052280"/>
            <a:ext cx="87138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295272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6156360" y="4797360"/>
            <a:ext cx="2879640" cy="1893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0" y="115560"/>
            <a:ext cx="44640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Пути разрешения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глобальных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   пробл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2276640"/>
            <a:ext cx="9036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пути решения глобальных проблем современ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ahoma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00"/>
                </a:solidFill>
                <a:latin typeface="Tahoma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Для решения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продовольственной проблемы необходимо использовать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биотехнологию, новые высокоурожайные сорта, дальнейшее развитие </a:t>
            </a:r>
            <a:r>
              <a:rPr b="0" lang="ru-RU" sz="2000" spc="-1" strike="noStrike">
                <a:solidFill>
                  <a:srgbClr val="63c8c8"/>
                </a:solidFill>
                <a:latin typeface="Tahoma"/>
              </a:rPr>
              <a:t>механизации, химизации и мелиор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464000" cy="2089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1125000"/>
            <a:ext cx="885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569080" cy="374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3"/>
                </a:solidFill>
                <a:latin typeface="Kristen ITC"/>
              </a:rPr>
              <a:t>Эпигра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2249280"/>
            <a:ext cx="87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– дети Галакт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Но самое главное,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дети твои, дорогая Земля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1. Понятие «глобальные проблем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2. Причины глобальных пробл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3. Экологические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4. Ядерная угро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5. Демограф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6. Энергет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7. Что ждёт человечество в будущ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7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Глобальные проблемы человечества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– это проблемы, которые касающиеся всего человечества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 Ни одно государство не в состоянии справиться с этими проблем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8569080" cy="3671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ричины 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2. Неспособность человечества рационально распорядиться могучей силой прогр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Особ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Носят планетар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Угрожают гибелью всему человеч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Требуют коллективных усилий мирового со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713800" cy="299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лассификация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7120" y="2060640"/>
          <a:ext cx="8462880" cy="4392720"/>
        </p:xfrm>
        <a:graphic>
          <a:graphicData uri="http://schemas.openxmlformats.org/drawingml/2006/table">
            <a:tbl>
              <a:tblPr/>
              <a:tblGrid>
                <a:gridCol w="1909800"/>
                <a:gridCol w="2016000"/>
                <a:gridCol w="2089440"/>
                <a:gridCol w="244764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Полит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лог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Соци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озникнов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окальных конфли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«Парник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ффек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мографиче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довольствен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Опасность ядерной 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Загрязн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атмосферы и вод Мирового оке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Противоречия между «севером» и  «югом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Экономическ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кризи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Различия политических сист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«Озон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ды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Терро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Истощение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Экологические пробл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Истончение озонового слоя и увеличение притока ультрафиолетовой ради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атмосферы углекислым газам и другими отходами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Эрозия почвы, засоление и заболач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ырубка лесных массивов особенно в экваториальных райо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гидросферы (вод мирового оке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8496000" cy="2303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Ядерная угро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За последние 5,5тыс. лет произошл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14500 войн, в которых погибло 4 миллиарда челов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Ядерная угроза человечеству возникла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ередине ХХ века. В эти годы США и СССР разверну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нку ядерных вооружений, балансируя на гран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йны. Подобная опасность уменьшилас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о полностью не исчезла, т.к. в начале XXI столе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зникла возможность применения ядерного оруж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уществует несколько групп потенциальных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источников вызовов и угроз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признанные ядерные государства (СШ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Россия, Франция, Великобритания и Китай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епризнанные ядерные государства, открыто заявивш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 наличии ядерного оружия (Индия и Пакист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, обладающие ядерным оружием, н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в этом не признающиеся (Израиль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796000" y="1330200"/>
            <a:ext cx="3338640" cy="4681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14:14Z</dcterms:created>
  <dc:creator>Екатерина</dc:creator>
  <dc:description/>
  <dc:language>en-US</dc:language>
  <cp:lastModifiedBy>LEGION</cp:lastModifiedBy>
  <dcterms:modified xsi:type="dcterms:W3CDTF">2015-05-06T08:38:42Z</dcterms:modified>
  <cp:revision>67</cp:revision>
  <dc:subject/>
  <dc:title>Глобальные проблемы Презентацию подготовила: Мещерякова Е.В. МБОУ ВСОШ №3 г. Липецка</dc:title>
</cp:coreProperties>
</file>