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7BD-EFA2-44AB-A8B2-DF27BC5DF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9CD-71C0-419B-A008-643FE0FD4B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CB1F-526C-4100-BC19-C7AE8873B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мышленные выбросы, главным образо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лопн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74% - уголь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266-9EFB-4573-A919-B04F2D7F9B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исление водое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отдельных вид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лодородия поч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рироста л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кование поч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а топл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о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жидких фильтров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рубб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выбросов кислотосодержащ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74F-A035-4942-9945-0160ADAE3B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DDC1-C306-4361-A17A-EA895256EE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поч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химических веществ в поч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и тяжелых метал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проду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циды – вещества для борьбы с вредителями и сорня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ронения радиоактив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B62-A7AD-429C-9C28-CAB1B9B447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ибель флоры и фа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розия поч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гумификация (разрушение гумус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ое засо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CC4-2725-4EF1-8DF8-538103ABBD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3D48-EE59-4F3B-A187-9B12946488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рубка л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стребление ви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ккли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мыс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EBD-3CDE-4AEF-8CC7-82A4AE92DE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ление живот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них: - дикий 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умчатый вол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Др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AFA4-3FC6-4497-9D6C-49297FE282C3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экологическую ситуацию в мире можно охарактеризовать как близкую 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8F8-43BC-45A1-9A11-4161881456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ли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т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соль                                родом из Аме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доры, ты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нная плодож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радский ж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ая и черная кры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да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CF24-E6E8-451F-A55A-27B1C74EA6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свенное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грязнении среды обитания живых организмов, ее изменении или даже разруш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мер изменения: строительство дорог, новых предприятий, осушение болот, сельскохозяйственное освоение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F7C-B0CC-4F11-9B14-46961147FF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уть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0AB9-5357-4B27-BC7A-85CC60638A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4ac"/>
                </a:solidFill>
                <a:latin typeface="Calibri"/>
              </a:rPr>
              <a:t>Таблиц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ные экологически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5C78-E314-4E90-AFDE-0107A93091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4ac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32F-D447-491F-945B-357602BC79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 и другие бестопливные источник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сведения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6C47-6FFD-4895-93C9-96B488A57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ое падение концентрации озона в озоновом слое Земли ( на высоте около 25 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деление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держащ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ре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CF0-E9F8-498A-A511-2C24081F7B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садка деревьев, меньшее использование баллончиков,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1B65-7E46-42DB-83E3-4069ADCC2D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38E0-0680-4332-8476-E11056A87E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273-CEF6-4E42-955C-D402F999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6D8-C0E3-4269-9B8D-255BE315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372-21FF-4B66-939E-2944089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7D8-FADB-46DE-BB90-D08511D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7026-1B4F-4DBF-9485-9E748422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26DB-CBE6-45C4-9D50-7B78642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FAA-0129-4139-A05E-480AB734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9F52-5CBD-4731-9203-C7E994D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AC6-88D9-4953-A145-2075F94D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9AE4-97AD-4B14-8C40-EB788FCA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8028-9B89-44AD-9FB6-9CF92BC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F38-53AF-4511-A595-BF5BC74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302C-3F6C-46BB-AEC9-B745A4F0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C6D3-5274-4B08-A5C5-A95ADFA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DA9-C4C7-4DD4-B81A-1197D47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AA5-52B6-447D-8A8C-4F91960E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313-EAE8-4796-AD4D-DB02A661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B86D-2867-4BC0-A83F-99A350C4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360C-4ACB-4A20-9E04-B6C4464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EB18-E9E1-47AA-9BE5-BC43594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FFD7-C7E5-4292-B0B5-842CA9AF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3BD6-3C02-4CE6-8FEC-F00266D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2BE-40A4-4D58-9642-C7BB5B52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9008-3C73-4D08-ACC1-FD6154C6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2574-6D3F-4672-9130-45264FD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12DD-F9F8-4F4D-92EF-4CB59D1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94C9-1E64-4A9C-B1DE-0C839DA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0D53-E54E-4F78-973B-34BD992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90EC-7CE7-4CF2-BE83-5C87CFBC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9E5B-9849-4D1C-AAAD-1F00F12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9557-C0B7-4936-879A-1BCBC4A7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32F3-21DC-45AE-B28F-3C000AF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C991-8C1C-48B1-ABC6-6364C835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1C1-FBF0-42A5-AAB6-780A640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C750-6164-4E4D-AE80-AAA64814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C756-E7DA-46E8-9268-8CF304D8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6793-6E9C-45E5-B75F-E0721C71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B01E-9A56-45AC-9C52-E9B532D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B9AD-8D59-469B-BFAC-3B169BA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7880-8BBC-456F-8393-8DAD797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1273-212A-445E-B835-B24FF31F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DF3D-856C-4DDE-938C-4C47884A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1407-E4CA-45A0-9211-F5614CAE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BAF4-9747-4580-A4FE-DDA3D96A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1C8-2C34-4CF4-9E11-4DF738EE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FAF0-ACDF-4683-9EE5-6B4CC485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86928-447E-486A-8028-D0F4476A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B9533-01BF-4CEE-A57E-B280F68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E71E-6FC1-4A21-B6AD-A9EEFA6C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443AF-6392-40AD-8394-34F3BA9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7E85-ED6E-4FC8-98F7-6D0062D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1E57-6C9B-470D-8335-BA3615B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A631-4547-493A-8364-24CBCB5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95C1-881F-420E-B790-AE0BCC5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C087-2235-4A3D-AF9E-F83906AE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2B9-6644-4BC2-AC9D-988395D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F3810-48EF-4C0D-A12F-AF52B6B3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16EA-365F-46C2-BF60-54B6BF38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9927C-9797-4C48-BC09-088BF267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6B4A-AE0D-4C36-9F66-8E48B24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BE55-15F4-4C49-954D-CF52826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C462B-31EA-4B72-8812-AE09CAE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CE93-7FDA-4B42-A34B-5DD1A29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13E6-B07E-4C31-8A61-4CF73A3D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E6D9C-9560-4EB7-B954-F7B47A9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7EEDA-CDFA-41C7-B69F-2709DED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AEA-4C74-432A-8A95-72324B3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5C347-43C2-4908-9C2A-CDE3F39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BD00-D042-445C-8CA0-E56DB614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76A7-EA30-47BF-A662-F9188772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A1D12-7567-4E60-9120-9D29EA0A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D99D-5882-467A-AEE6-ECA16750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DC8C3-F5C3-4534-BCCD-34AE3379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BABA-A420-42F4-B0EA-A3F03B5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467C-EB87-4A78-BC6A-717F8B1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EF3A-CADC-42EC-AEDB-A3DE4CEB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5776-11BA-43D1-B922-93597ED7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183-52F3-4759-9859-DE19570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7E8B-713F-4C1B-92AE-278C0CE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87BB-EDC7-4765-A35B-4CCF113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DD6E-7D25-4D61-98EE-A86D515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05798-B3CD-4A60-844F-D0877417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501E7-FB2F-4493-8A5B-BE7CF1D9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B96-6184-4482-9279-9D0AD1B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6DD-7BAA-4F06-859F-7CEBF5B8214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7B59-BC0F-4170-B9AC-7F31552EBB4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1CA3-E788-4788-8361-A2764F24F76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B21-FCE7-4676-8043-3FA4AFFA1EB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E111-41EA-4181-A1D0-151ADCE76671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0900-192E-4346-A643-462A2BFA659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18CD-1D66-42D7-A83E-F6E2CC3D335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6BF4-D6C6-4F55-A1CD-0AFFEDA57A7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66CC-3647-4309-95A2-EF687C8AA95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1F1-E387-4A79-8BAA-11F80FA4A20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5FBB-0269-4336-8736-C1E1755C9E1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B414-E8DB-412D-847C-B10860A0696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3D5-D2F6-466D-90F1-279234A2BE3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F1B6-F5BB-4068-A315-442D61D4F41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votedeath.ru/wp-content/uploads/2011/04/ekologicheskaya-problema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14400" y="4346640"/>
            <a:ext cx="7821720" cy="283536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28800" y="285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2" descr="&amp;pcy;&amp;ocy;&amp;scy;&amp;lcy;&amp;iecy;&amp;dcy;&amp;scy;&amp;tcy;&amp;vcy;&amp;icy;&amp;yacy; &amp;kcy;&amp;icy;&amp;scy;&amp;lcy;&amp;ocy;&amp;tcy;&amp;ncy;&amp;ycy;&amp;khcy; &amp;dcy;&amp;ocy;&amp;zhcy;&amp;dcy;&amp;iecy;&amp;jcy;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4481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ричин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промышленные выбросы, главным образом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Cl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лопные газ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лектростан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мышлен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74% - уголь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57160" y="-3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кисление водоемов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бель отдельных видо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лодородия поч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рироста лес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ути решени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Известкование поч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мена топлива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нергосбереже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жидких фильтров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крубберо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кращение выбросов кислотосодержащих вещест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www.vokrugsveta.ru/img/cmn/2007/08/19/001.jpg"/>
          <p:cNvPicPr/>
          <p:nvPr/>
        </p:nvPicPr>
        <p:blipFill>
          <a:blip r:embed="rId1"/>
          <a:stretch/>
        </p:blipFill>
        <p:spPr>
          <a:xfrm>
            <a:off x="6072120" y="285840"/>
            <a:ext cx="287964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900igr.net/datas/ekologija/Okean/0011-011-Osnovnye-puti-zagrjaznenija-gidrosfe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www.zdorovieinfo.ru/upload/images/dirty-water-02.jpg"/>
          <p:cNvPicPr/>
          <p:nvPr/>
        </p:nvPicPr>
        <p:blipFill>
          <a:blip r:embed="rId1"/>
          <a:stretch/>
        </p:blipFill>
        <p:spPr>
          <a:xfrm>
            <a:off x="4552920" y="4505400"/>
            <a:ext cx="4591080" cy="2352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mosrate.ru/articles/soil.jpg"/>
          <p:cNvPicPr/>
          <p:nvPr/>
        </p:nvPicPr>
        <p:blipFill>
          <a:blip r:embed="rId1"/>
          <a:stretch/>
        </p:blipFill>
        <p:spPr>
          <a:xfrm>
            <a:off x="6500880" y="1143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грязнение почв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28800" y="1356840"/>
            <a:ext cx="6929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величение химических веществ в почв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ые источн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и тяжелых металл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фтепродукт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стициды – вещества для борьбы с вредителями и сорняками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хоронения радиоактивных вещест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ранспор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http://www.soil-science.ru/im/l06.jpg"/>
          <p:cNvPicPr/>
          <p:nvPr/>
        </p:nvPicPr>
        <p:blipFill>
          <a:blip r:embed="rId1"/>
          <a:stretch/>
        </p:blipFill>
        <p:spPr>
          <a:xfrm>
            <a:off x="714240" y="3357720"/>
            <a:ext cx="8116920" cy="2903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42960" y="2858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Гибель флоры и фау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Эрозия поч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гумификация (разрушение гумуса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торичное засоле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Решение проблемы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2" descr="http://geotec.com.ua/img/pic/pressa-7.png"/>
          <p:cNvPicPr/>
          <p:nvPr/>
        </p:nvPicPr>
        <p:blipFill>
          <a:blip r:embed="rId1"/>
          <a:stretch/>
        </p:blipFill>
        <p:spPr>
          <a:xfrm>
            <a:off x="2286000" y="3616200"/>
            <a:ext cx="471492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ямое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Вырубка лес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Истребление видо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кклиматизац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Истребление животных: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http://smoking-room.ru/data/pnp/anim_mort7.jpg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ianimal.ru/wp-content/uploads/2011/02/stellerova-korova12-620x620.jpg"/>
          <p:cNvPicPr/>
          <p:nvPr/>
        </p:nvPicPr>
        <p:blipFill>
          <a:blip r:embed="rId2"/>
          <a:stretch/>
        </p:blipFill>
        <p:spPr>
          <a:xfrm>
            <a:off x="4786200" y="2276640"/>
            <a:ext cx="3786480" cy="27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cdn.zoopicture.ru/wp-content/uploads/2009/07/Thylacinus.jpg"/>
          <p:cNvPicPr/>
          <p:nvPr/>
        </p:nvPicPr>
        <p:blipFill>
          <a:blip r:embed="rId3"/>
          <a:stretch/>
        </p:blipFill>
        <p:spPr>
          <a:xfrm>
            <a:off x="5167440" y="4214880"/>
            <a:ext cx="3976560" cy="245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1040" cy="5221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реди них: - дикий тур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теллерова коро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умчатый вол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Дрон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8" descr="http://ic.pics.livejournal.com/rootsmanilov/19710611/744509/744509_original.jpg"/>
          <p:cNvPicPr/>
          <p:nvPr/>
        </p:nvPicPr>
        <p:blipFill>
          <a:blip r:embed="rId4"/>
          <a:stretch/>
        </p:blipFill>
        <p:spPr>
          <a:xfrm>
            <a:off x="2714760" y="4381560"/>
            <a:ext cx="3000240" cy="2476440"/>
          </a:xfrm>
          <a:prstGeom prst="rect">
            <a:avLst/>
          </a:prstGeom>
          <a:ln w="0">
            <a:noFill/>
          </a:ln>
        </p:spPr>
      </p:pic>
      <p:sp>
        <p:nvSpPr>
          <p:cNvPr id="435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285480"/>
            <a:ext cx="777240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годня экологическую ситуацию в мире можно охарактеризовать как близкую к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критическ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794720" cy="4935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Растения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укуруза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Фасоль                                родом из Амер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ртофел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мидоры, тык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Животны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Яблонная плодожор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орадский жу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рая и черная кры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ндатр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Акклиматизац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Правая фигурная скобка 3"/>
          <p:cNvSpPr/>
          <p:nvPr/>
        </p:nvSpPr>
        <p:spPr>
          <a:xfrm>
            <a:off x="3143160" y="17859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8" descr="http://zaschita-rastenij.ru/wp-content/uploads/2012/01/YAblonnaya-plodozhorka.jpg"/>
          <p:cNvPicPr/>
          <p:nvPr/>
        </p:nvPicPr>
        <p:blipFill>
          <a:blip r:embed="rId1"/>
          <a:stretch/>
        </p:blipFill>
        <p:spPr>
          <a:xfrm>
            <a:off x="3571920" y="2643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www.tepid.ru/images/muskrat3.jpg"/>
          <p:cNvPicPr/>
          <p:nvPr/>
        </p:nvPicPr>
        <p:blipFill>
          <a:blip r:embed="rId2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upload.wikimedia.org/wikipedia/commons/thumb/8/8c/Leptinotarsa_fg03.jpg/240px-Leptinotarsa_fg03.jpg"/>
          <p:cNvPicPr/>
          <p:nvPr/>
        </p:nvPicPr>
        <p:blipFill>
          <a:blip r:embed="rId3"/>
          <a:stretch/>
        </p:blipFill>
        <p:spPr>
          <a:xfrm>
            <a:off x="6215040" y="1833480"/>
            <a:ext cx="2643120" cy="176220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http://900igr.net/datai/biologija/Ekologicheskie-faktory/0018-017-Unichtozhenie-lesov.png"/>
          <p:cNvPicPr/>
          <p:nvPr/>
        </p:nvPicPr>
        <p:blipFill>
          <a:blip r:embed="rId1"/>
          <a:stretch/>
        </p:blipFill>
        <p:spPr>
          <a:xfrm>
            <a:off x="5533920" y="3786120"/>
            <a:ext cx="3610080" cy="288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1eeff"/>
                </a:solidFill>
                <a:uFillTx/>
                <a:latin typeface="Consolas"/>
              </a:rPr>
              <a:t>Косвенное влия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57120" y="857160"/>
            <a:ext cx="71582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ключается в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загрязнении среды обитания живых организмов, ее изменении или даже разрушен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Пример изменения: строительство дорог, новых предприятий,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сушение болот,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сельскохозяйственное освоение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Picture 4" descr="http://www.riarealty.ru/images/39737/69/397376917.jpg"/>
          <p:cNvPicPr/>
          <p:nvPr/>
        </p:nvPicPr>
        <p:blipFill>
          <a:blip r:embed="rId2"/>
          <a:stretch/>
        </p:blipFill>
        <p:spPr>
          <a:xfrm>
            <a:off x="785880" y="4286160"/>
            <a:ext cx="4095720" cy="22100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уть устойчивого разви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rbel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6" descr="http://line.nts.su/8V83/1%20%D1%81%D0%B5%D0%BC%D0%B5%D1%81%D1%82%D1%80/%D0%AD%D0%BA%D0%BE%D0%BB%D0%BE%D0%B3%D0%B8%D1%8F/%D0%AD%D0%BA%D0%BE%D0%BB%D0%BE%D0%B3%D0%B8%D1%8F/pic_15_0.PN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468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5klass.net/datas/ekologija/Ekologija-i-ekologicheskaja-bezopasnost/0005-005-Globalnye-ekologicheskie-proble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Таблица: </a:t>
            </a: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«Основные экологические проблемы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00080" y="2857680"/>
          <a:ext cx="7500960" cy="1819080"/>
        </p:xfrm>
        <a:graphic>
          <a:graphicData uri="http://schemas.openxmlformats.org/drawingml/2006/table">
            <a:tbl>
              <a:tblPr/>
              <a:tblGrid>
                <a:gridCol w="1379520"/>
                <a:gridCol w="2067120"/>
                <a:gridCol w="2179440"/>
                <a:gridCol w="1874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и при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7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арниковый эффе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28800" y="28584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я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нечные  и другие бестопливные источники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кращение сведения ле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зоновые ды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окальное падение концентрации озона в озоновом слое Земли ( на высоте около 25 к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Причина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выделение С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 –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r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держащих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фреонов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ecotechblog.ru/wp-content/uploads/2011/02/ecotech005.jpg"/>
          <p:cNvPicPr/>
          <p:nvPr/>
        </p:nvPicPr>
        <p:blipFill>
          <a:blip r:embed="rId1"/>
          <a:stretch/>
        </p:blipFill>
        <p:spPr>
          <a:xfrm>
            <a:off x="785880" y="2728800"/>
            <a:ext cx="781056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 посадка деревьев, меньшее использование баллончиков, аэрозоле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nsolas"/>
              </a:rPr>
              <a:t>Кислотные дожд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ww.ecoanaliz.ru/images/stories/acidrain.jpg"/>
          <p:cNvPicPr/>
          <p:nvPr/>
        </p:nvPicPr>
        <p:blipFill>
          <a:blip r:embed="rId2"/>
          <a:stretch/>
        </p:blipFill>
        <p:spPr>
          <a:xfrm>
            <a:off x="571680" y="1285920"/>
            <a:ext cx="8358120" cy="53258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8:40:25Z</dcterms:created>
  <dc:creator>админ</dc:creator>
  <dc:description/>
  <dc:language>en-US</dc:language>
  <cp:lastModifiedBy>LEGION</cp:lastModifiedBy>
  <dcterms:modified xsi:type="dcterms:W3CDTF">2015-05-06T08:39:54Z</dcterms:modified>
  <cp:revision>22</cp:revision>
  <dc:subject/>
  <dc:title>Глобальные экологические проблемы</dc:title>
</cp:coreProperties>
</file>