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08CC-6A81-404B-A1A8-FC7076F1AF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125B-0421-4AC7-BF55-D1C07C742D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4D57-5DF7-4D9A-96B8-F8D8DD3410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мышленные выбросы, главным образо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лопн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74% - уголь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E9E0-5558-4192-9501-8EE433AD12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кисление водое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отдельных вид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лодородия поч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рироста л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кование поч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а топл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о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жидких фильтров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рубб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выбросов кислотосодержащ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FEDD-2092-4AB8-8B27-DB8A13A7ED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7CEA-3205-4DB0-8E7D-7CE12FA44E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поч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химических веществ в поч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и тяжелых метал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проду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тициды – вещества для борьбы с вредителями и сорня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ронения радиоактив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0737-9DC6-47F5-8CD4-DB3A44B75A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ибель флоры и фа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розия поч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гумификация (разрушение гумус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ое засо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1A39-F9CA-4DF8-B3AA-E5B3D0AE57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0DF0-FF7A-42ED-B27B-65C999508D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рубка л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стребление ви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ккли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мыс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C7E8-4848-4AD4-A195-6311A84063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ление животн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них: - дикий 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умчатый вол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Др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C45E-3596-44B2-AA18-CD3AAC814B1A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экологическую ситуацию в мире можно охарактеризовать как близкую 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тичес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A916-288F-48EA-8771-1B92EF2C78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лим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т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соль                                родом из Аме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доры, ты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иво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блонная плодожо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радский ж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ая и черная кры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да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A55F-627A-4BA2-956D-842897E44F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свенное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грязнении среды обитания живых организмов, ее изменении или даже разруш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мер изменения: строительство дорог, новых предприятий, осушение болот, сельскохозяйственное освоение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5A40-8519-449D-AA23-15F53AE670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уть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5E5D-C08E-496D-B184-A077FA91D0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4ac"/>
                </a:solidFill>
                <a:latin typeface="Calibri"/>
              </a:rPr>
              <a:t>Таблиц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ные экологически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EE77-BA4E-4EB8-95E5-5794E3F739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4ac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8019-9AB3-4242-856F-8E288BAD9D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 и другие бестопливные источник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сведения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8BE8-0E14-4C67-A192-4EF6D1FE82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ое падение концентрации озона в озоновом слое Земли ( на высоте около 25 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ыделение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держащ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ре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F0C-66C3-4A9E-A479-BB72ED7137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садка деревьев, меньшее использование баллончиков,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3D08-7A8A-4A27-AE2C-0EDB88E6CB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F590-ACF4-4334-909F-15E6C306AE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108-51F5-4ADF-98D6-8F90BCD3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6BA-7B0E-4502-B969-A8D0E193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2A9-40F8-4FD7-956D-E54DFDE6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473-0499-4F1A-BA69-F1D813CC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F94E-9FDB-4243-94D8-817A4050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577F-385D-404F-BE10-BE8055CC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7694-35F2-4B03-96C7-9C79E386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A5BF-6F3C-4B53-A5AC-0552E2E8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81C4-162C-45B6-89BA-67DDBC0E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2984-9420-4D74-AAB2-F2A0AC41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175F-30D7-4705-84BE-49A49A3A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A48-BDF8-41E1-9377-73F5189E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5F2C-E360-44B3-8297-35D08B12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5148-B87B-424F-960E-14689E77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D9FC-F23D-40CE-A51B-EE14C624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C8D1-C15B-414B-9701-08B0B5C9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F374-A023-47B7-8D7A-BAC587C2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59BC-86D5-49D8-85C5-DBF5B549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A168-5C0A-42BE-85D7-FB624B35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C52B-9DC6-4DB5-AF25-21BC82BB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6547A-E419-45C8-B5BC-159F7968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41BC-39BB-40C1-A5D0-2AD4313B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0E5-DBA1-48A4-A9FE-DF17E46B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460A-9342-47E2-87E4-535E1F45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C0D1-DD08-4D21-957A-DDDA5AF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B3A2E-A025-48A3-A3A1-32CC693F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4566F-D11B-4812-B804-EEE17806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D1AB-6513-4DF6-8C75-696C3DDB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BACB-F412-4533-951B-F82AC94C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76D9-B2FC-46AC-99D4-1BF06738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06998-A89F-4D10-AE57-C75783B1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6171D-0269-4A96-9660-299C7F95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8A1A9-BD7D-41FB-BAE7-A9F2A476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083-12A1-4024-B476-D5C9DEDC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452C-AA95-40A9-977B-78158944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AE90F-A423-4FB4-BC61-11325AB2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72E23-B56D-4B2E-BFE7-68C56C5E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CE5A-0681-4903-822F-8C072482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C36D7-1411-44DF-9697-0B71C781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1D9AC-BAE9-4C69-8B62-5740567F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B2BE-0CB5-4907-A14F-89B939D3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E78C-C3A6-4927-9319-F7F2E490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42158-BA1E-4F83-B104-D8D3ED54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E6F7A-12B9-4C15-BC74-E81F7ADF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B48-D1D8-4DEA-B7E8-7AAB865D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E98BC-AE2F-4136-9BB7-69F2E465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C6AB7-53D0-43E8-8047-996A0EE2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70227-0535-40E3-A07D-2161B25E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0E433-BB2C-4D6F-9A4D-638E3081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47EDA-54FB-4947-9488-0419D597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D8DE0-E751-4E08-9860-B605860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D47CB-34D4-4B7E-8598-05E8189A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9D962-75C1-4D81-8F5A-73C0132E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FACB4-4EDE-4ABE-8C01-0FCA945E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16562-BBD8-4667-83CF-1EA2F3EA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C16-4170-4568-AF4A-91F141F3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F16B0-6A48-4A7E-B2FD-53217BB2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0F7D-58CA-47FD-B122-C076AF00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A731-4ED5-462A-A1A0-D0724D7D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4D597-6AD4-413F-92C2-C722CA69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5BFF1-479D-4D78-9E0E-9E8E489E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D9D67-5B75-4D62-B784-20B0F6DD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EBACE-E433-4177-B903-C665FB8D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9072D-3CDC-45C3-BB73-760C0A04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D3E6F-FEEF-45E0-B24B-FA64BC6A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2E94D-235F-4B3A-8826-7D652C79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BE4-EF61-484F-A5DC-E61A7CA2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D913-14FD-452B-9CE7-CCC7536B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A476-58DF-4810-8891-42D4D993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85BE2-DEE7-494F-B84C-8A9EDA18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5D0A0-076D-47AD-8887-2DF43005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5A38F-5DB9-4425-A37C-7EAA1853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1CE35-F94D-4AF0-A0AA-620183B5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7BE86-9C39-4723-9642-D65C4958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8A42C-807F-466D-AB61-3D0B5216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D199D-65F6-4F40-9DDE-428068FB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E31CD-F0F9-4A69-8765-19FB710C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4B4-7340-4040-8F00-5BEE068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DD059-D400-4D69-9AE8-2F0C43C3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67A76-2E5B-4E93-81EC-17C33329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A038B-8E65-41FC-B724-C70E1C4D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DD6B3-878C-417D-B03E-221BA83F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41F2C-CB11-448C-B944-80DC0204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6C9-96BE-4995-9282-BE74AD0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4F82-8E95-4D00-87B1-B2CC179FC422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7423-2F47-4FFB-A689-A654E8527E3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8BB1-FC72-4563-AF75-9255574746B7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44F4-D769-48E4-8C8B-FA273D078B7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A2E2-1098-4B2F-9E8E-3AA6091484E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0698-6CC7-4D33-B13F-521AF40AFBE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BFB5-D9CA-4186-92EE-7380AA577F2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6D8A-3493-453C-A7AE-96FD6B3399A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13FB-ED97-4632-8947-32E4C77CC9C8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4EBA-3180-49E7-BFA8-EE76EA7CF05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63D7-793E-4026-9E33-569307E4E38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FE99-A920-491D-89EA-52DC4C3183A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C7DB-A4C9-4166-BD4E-9A0234E4A1B8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3722-20DC-4C12-AC79-8622CF47656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http://votedeath.ru/wp-content/uploads/2011/04/ekologicheskaya-problema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914400" y="4346640"/>
            <a:ext cx="7821720" cy="283536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28800" y="285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2" descr="&amp;pcy;&amp;ocy;&amp;scy;&amp;lcy;&amp;iecy;&amp;dcy;&amp;scy;&amp;tcy;&amp;vcy;&amp;icy;&amp;yacy; &amp;kcy;&amp;icy;&amp;scy;&amp;lcy;&amp;ocy;&amp;tcy;&amp;ncy;&amp;ycy;&amp;khcy; &amp;dcy;&amp;ocy;&amp;zhcy;&amp;dcy;&amp;iecy;&amp;jcy;"/>
          <p:cNvPicPr/>
          <p:nvPr/>
        </p:nvPicPr>
        <p:blipFill>
          <a:blip r:embed="rId1"/>
          <a:stretch/>
        </p:blipFill>
        <p:spPr>
          <a:xfrm>
            <a:off x="2643120" y="2214720"/>
            <a:ext cx="4929120" cy="44481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ричины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промышленные выбросы, главным образом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Cl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хлопные газ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лектростанц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мышлен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 74% - уголь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57160" y="-36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дкисление водоемов,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ибель отдельных видо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лодородия поч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рироста лес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ути решени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Известкование поч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амена топлива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Энергосбережение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льзование жидких фильтров –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крубберо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кращение выбросов кислотосодержащих вещест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www.vokrugsveta.ru/img/cmn/2007/08/19/001.jpg"/>
          <p:cNvPicPr/>
          <p:nvPr/>
        </p:nvPicPr>
        <p:blipFill>
          <a:blip r:embed="rId1"/>
          <a:stretch/>
        </p:blipFill>
        <p:spPr>
          <a:xfrm>
            <a:off x="6072120" y="285840"/>
            <a:ext cx="287964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900igr.net/datas/ekologija/Okean/0011-011-Osnovnye-puti-zagrjaznenija-gidrosfer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http://www.zdorovieinfo.ru/upload/images/dirty-water-02.jpg"/>
          <p:cNvPicPr/>
          <p:nvPr/>
        </p:nvPicPr>
        <p:blipFill>
          <a:blip r:embed="rId1"/>
          <a:stretch/>
        </p:blipFill>
        <p:spPr>
          <a:xfrm>
            <a:off x="4552920" y="4505400"/>
            <a:ext cx="4591080" cy="23526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3200"/>
            </a:b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mosrate.ru/articles/soil.jpg"/>
          <p:cNvPicPr/>
          <p:nvPr/>
        </p:nvPicPr>
        <p:blipFill>
          <a:blip r:embed="rId1"/>
          <a:stretch/>
        </p:blipFill>
        <p:spPr>
          <a:xfrm>
            <a:off x="6500880" y="11430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Загрязнение почв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28800" y="1356840"/>
            <a:ext cx="69292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величение химических веществ в почв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сновные источники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и тяжелых металлов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фтепродукты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естициды – вещества для борьбы с вредителями и сорняками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хоронения радиоактивных вещест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ранспорт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http://www.soil-science.ru/im/l06.jpg"/>
          <p:cNvPicPr/>
          <p:nvPr/>
        </p:nvPicPr>
        <p:blipFill>
          <a:blip r:embed="rId1"/>
          <a:stretch/>
        </p:blipFill>
        <p:spPr>
          <a:xfrm>
            <a:off x="714240" y="3357720"/>
            <a:ext cx="8116920" cy="2903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42960" y="2858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Гибель флоры и фаун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Эрозия поч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егумификация (разрушение гумуса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торичное засоле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Решение проблемы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4" name="Picture 2" descr="http://geotec.com.ua/img/pic/pressa-7.png"/>
          <p:cNvPicPr/>
          <p:nvPr/>
        </p:nvPicPr>
        <p:blipFill>
          <a:blip r:embed="rId1"/>
          <a:stretch/>
        </p:blipFill>
        <p:spPr>
          <a:xfrm>
            <a:off x="2286000" y="3616200"/>
            <a:ext cx="471492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42884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ямое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Вырубка лес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Истребление видов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Акклиматизац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Истребление животных: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0" name="Picture 2" descr="http://smoking-room.ru/data/pnp/anim_mort7.jpg"/>
          <p:cNvPicPr/>
          <p:nvPr/>
        </p:nvPicPr>
        <p:blipFill>
          <a:blip r:embed="rId1"/>
          <a:stretch/>
        </p:blipFill>
        <p:spPr>
          <a:xfrm>
            <a:off x="500040" y="250020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http://ianimal.ru/wp-content/uploads/2011/02/stellerova-korova12-620x620.jpg"/>
          <p:cNvPicPr/>
          <p:nvPr/>
        </p:nvPicPr>
        <p:blipFill>
          <a:blip r:embed="rId2"/>
          <a:stretch/>
        </p:blipFill>
        <p:spPr>
          <a:xfrm>
            <a:off x="4786200" y="2276640"/>
            <a:ext cx="3786480" cy="2714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cdn.zoopicture.ru/wp-content/uploads/2009/07/Thylacinus.jpg"/>
          <p:cNvPicPr/>
          <p:nvPr/>
        </p:nvPicPr>
        <p:blipFill>
          <a:blip r:embed="rId3"/>
          <a:stretch/>
        </p:blipFill>
        <p:spPr>
          <a:xfrm>
            <a:off x="5167440" y="4214880"/>
            <a:ext cx="3976560" cy="2457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501040" cy="5221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реди них: - дикий тур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теллерова коро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умчатый вол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Дронт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И др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8" descr="http://ic.pics.livejournal.com/rootsmanilov/19710611/744509/744509_original.jpg"/>
          <p:cNvPicPr/>
          <p:nvPr/>
        </p:nvPicPr>
        <p:blipFill>
          <a:blip r:embed="rId4"/>
          <a:stretch/>
        </p:blipFill>
        <p:spPr>
          <a:xfrm>
            <a:off x="2714760" y="4381560"/>
            <a:ext cx="3000240" cy="2476440"/>
          </a:xfrm>
          <a:prstGeom prst="rect">
            <a:avLst/>
          </a:prstGeom>
          <a:ln w="0">
            <a:noFill/>
          </a:ln>
        </p:spPr>
      </p:pic>
      <p:sp>
        <p:nvSpPr>
          <p:cNvPr id="435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400" y="285480"/>
            <a:ext cx="777240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егодня экологическую ситуацию в мире можно охарактеризовать как близкую к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критической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785880" y="1285920"/>
            <a:ext cx="7794720" cy="49356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Растения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укуруза                   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Фасоль                                родом из Амер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артофель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мидоры, тык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Животные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Яблонная плодожор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лорадский жу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ерая и черная крыс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ндатр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Акклиматизация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Правая фигурная скобка 3"/>
          <p:cNvSpPr/>
          <p:nvPr/>
        </p:nvSpPr>
        <p:spPr>
          <a:xfrm>
            <a:off x="3143160" y="1785960"/>
            <a:ext cx="142920" cy="14288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428840"/>
              <a:gd name="textAreaBottom" fmla="*/ 142524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118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8" descr="http://zaschita-rastenij.ru/wp-content/uploads/2012/01/YAblonnaya-plodozhorka.jpg"/>
          <p:cNvPicPr/>
          <p:nvPr/>
        </p:nvPicPr>
        <p:blipFill>
          <a:blip r:embed="rId1"/>
          <a:stretch/>
        </p:blipFill>
        <p:spPr>
          <a:xfrm>
            <a:off x="3571920" y="26431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http://www.tepid.ru/images/muskrat3.jpg"/>
          <p:cNvPicPr/>
          <p:nvPr/>
        </p:nvPicPr>
        <p:blipFill>
          <a:blip r:embed="rId2"/>
          <a:stretch/>
        </p:blipFill>
        <p:spPr>
          <a:xfrm>
            <a:off x="5851440" y="4429080"/>
            <a:ext cx="3292560" cy="2428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upload.wikimedia.org/wikipedia/commons/thumb/8/8c/Leptinotarsa_fg03.jpg/240px-Leptinotarsa_fg03.jpg"/>
          <p:cNvPicPr/>
          <p:nvPr/>
        </p:nvPicPr>
        <p:blipFill>
          <a:blip r:embed="rId3"/>
          <a:stretch/>
        </p:blipFill>
        <p:spPr>
          <a:xfrm>
            <a:off x="6215040" y="1833480"/>
            <a:ext cx="2643120" cy="176220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http://900igr.net/datai/biologija/Ekologicheskie-faktory/0018-017-Unichtozhenie-lesov.png"/>
          <p:cNvPicPr/>
          <p:nvPr/>
        </p:nvPicPr>
        <p:blipFill>
          <a:blip r:embed="rId1"/>
          <a:stretch/>
        </p:blipFill>
        <p:spPr>
          <a:xfrm>
            <a:off x="5533920" y="3786120"/>
            <a:ext cx="3610080" cy="28861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1eeff"/>
                </a:solidFill>
                <a:uFillTx/>
                <a:latin typeface="Consolas"/>
              </a:rPr>
              <a:t>Косвенное влия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57120" y="857160"/>
            <a:ext cx="7158240" cy="54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ключается в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загрязнении среды обитания живых организмов, ее изменении или даже разрушен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Пример изменения: строительство дорог, новых предприятий, </a:t>
            </a: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осушение болот,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сельскохозяйственное освоение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6" name="Picture 4" descr="http://www.riarealty.ru/images/39737/69/397376917.jpg"/>
          <p:cNvPicPr/>
          <p:nvPr/>
        </p:nvPicPr>
        <p:blipFill>
          <a:blip r:embed="rId2"/>
          <a:stretch/>
        </p:blipFill>
        <p:spPr>
          <a:xfrm>
            <a:off x="785880" y="4286160"/>
            <a:ext cx="4095720" cy="22100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Путь устойчивого развит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rbel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6" descr="http://line.nts.su/8V83/1%20%D1%81%D0%B5%D0%BC%D0%B5%D1%81%D1%82%D1%80/%D0%AD%D0%BA%D0%BE%D0%BB%D0%BE%D0%B3%D0%B8%D1%8F/%D0%AD%D0%BA%D0%BE%D0%BB%D0%BE%D0%B3%D0%B8%D1%8F/pic_15_0.PN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4468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http://5klass.net/datas/ekologija/Ekologija-i-ekologicheskaja-bezopasnost/0005-005-Globalnye-ekologicheskie-proble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Таблица: </a:t>
            </a:r>
            <a:r>
              <a:rPr b="1" lang="ru-RU" sz="4000" spc="-1" strike="noStrike">
                <a:solidFill>
                  <a:srgbClr val="ffffff"/>
                </a:solidFill>
                <a:latin typeface="Consolas"/>
              </a:rPr>
              <a:t>«Основные экологические проблемы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00080" y="2857680"/>
          <a:ext cx="7500960" cy="1819080"/>
        </p:xfrm>
        <a:graphic>
          <a:graphicData uri="http://schemas.openxmlformats.org/drawingml/2006/table">
            <a:tbl>
              <a:tblPr/>
              <a:tblGrid>
                <a:gridCol w="1379520"/>
                <a:gridCol w="2067120"/>
                <a:gridCol w="2179440"/>
                <a:gridCol w="1874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Характеристика и прич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лед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ути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7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арниковый эффект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356840"/>
            <a:ext cx="7772400" cy="49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928800" y="28584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ономия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нечные  и другие бестопливные источники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кращение сведения лесо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зоновые ды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57160" y="1285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окальное падение концентрации озона в озоновом слое Земли ( на высоте около 25 к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rbel"/>
              </a:rPr>
              <a:t>Причина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выделение С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 –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r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содержащих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фреонов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http://ecotechblog.ru/wp-content/uploads/2011/02/ecotech005.jpg"/>
          <p:cNvPicPr/>
          <p:nvPr/>
        </p:nvPicPr>
        <p:blipFill>
          <a:blip r:embed="rId1"/>
          <a:stretch/>
        </p:blipFill>
        <p:spPr>
          <a:xfrm>
            <a:off x="785880" y="2728800"/>
            <a:ext cx="7810560" cy="3710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 посадка деревьев, меньшее использование баллончиков, аэрозолей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nsolas"/>
              </a:rPr>
              <a:t>Кислотные дожд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http://www.ecoanaliz.ru/images/stories/acidrain.jpg"/>
          <p:cNvPicPr/>
          <p:nvPr/>
        </p:nvPicPr>
        <p:blipFill>
          <a:blip r:embed="rId2"/>
          <a:stretch/>
        </p:blipFill>
        <p:spPr>
          <a:xfrm>
            <a:off x="571680" y="1285920"/>
            <a:ext cx="8358120" cy="53258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8:40:25Z</dcterms:created>
  <dc:creator>админ</dc:creator>
  <dc:description/>
  <dc:language>en-US</dc:language>
  <cp:lastModifiedBy>LEGION</cp:lastModifiedBy>
  <dcterms:modified xsi:type="dcterms:W3CDTF">2015-05-06T08:39:54Z</dcterms:modified>
  <cp:revision>22</cp:revision>
  <dc:subject/>
  <dc:title>Глобальные экологические проблемы</dc:title>
</cp:coreProperties>
</file>