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DAC9-D78C-45DC-88C2-ADFFED460F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Глобальные 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27DC-0D29-42E1-B4A2-53BED8EDFF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различные виды атмосферных  осадков (дождь, град, снег, туман, роса) с кислотностью выше но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AD67-FC39-4EAC-9A0E-59E739C9E3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чи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мышленные выбросы, главным образо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C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лопные г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шленные ко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74% - угольные ко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FAB6-21DD-46F8-88D6-BB5AC31256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едств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кисление водоем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ель отдельных вид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жение плодородия поч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жение прироста л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ути реш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весткование поч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на топли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осбере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жидких фильтров –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круббе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выбросов кислотосодержащи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180E-FFB6-4953-A8A3-C411BFE9C4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едств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ибель флоры и фауны Мирового океан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копление в организме животных вредных веществ , которые затем попадут в организм человека.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сширить международное сотрудничество и взаимопомощ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существлять государственный контроль за состоянием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4CAC-4E5C-4A56-9C80-F098253231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поч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химических веществ в поч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сточ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и тяжелых метал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тепродук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стициды – вещества для борьбы с вредителями и сорняк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хоронения радиоактивны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54D9-FBB0-481A-B991-08CF65671E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едств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ибель флоры и фау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розия поч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гумификация (разрушение гумус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ое засо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3AE9-D4D1-4E5A-A5DD-1A03B51490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шение пробл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ы об охране и использовании зем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ятие и сохранение верхнего слоя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зем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игание мусора на специальных завод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ьное исполь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0EDD-0988-4462-81EC-4B90CE162A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человека на растительный и животный ми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ям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Вырубка л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Истребление вид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кклиматиз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ивотных и растений, т.е. их завоз на территории, где они раньше не встречались с целью приспособления к новым климатическим условиям  и включения в сложившиеся биоцен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мысе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изъятие животных из природы путем отлова добычи ( пушной, рыболовство, промысел крабов, устриц, жемчужниц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6C01-44E2-471B-83DF-93BAD23468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ребление животны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600 г. исчезло 83 вида Млекопитающих, 113 видов птиц, 21 вид рептилий, 23 вида рыб и более 384 видов высших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них: - дикий 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Стеллерова кор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Сумчатый вол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Дро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2819-8D4D-47A6-8F44-96C360AFEE3A}" type="slidenum"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экологическую ситуацию в мире можно охарактеризовать как близкую 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ритическ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3B96-FB2C-4473-8937-8078F05A58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лима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т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куруза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соль                                родом из Аме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ф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доры, ты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Живот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блонная плодожор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радский ж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ая и черная кры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дат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8D64-D0B2-42DE-8E2C-BA5673B69B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свенное вли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ается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грязнении среды обитания живых организмов, ее изменении или даже разруш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мер изменения: строительство дорог, новых предприятий, осушение болот, сельскохозяйственное освоение зем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4073-5903-491D-A572-A9398D076F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уть устойчив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В 1992 году в Рио-де-Жанейро (Бразилия) была подписана Международная конвенция о биологическом разнообразии. В ней выражены решимость общими усилиями сохранять и поддерживать богатство всего живого. Удастся ли людям добиться этой цели, покажет будущ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2DA5-F10B-4768-B94B-B2F5F913F2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44ac"/>
                </a:solidFill>
                <a:latin typeface="Calibri"/>
              </a:rPr>
              <a:t>Таблица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Основные экологические проблем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0B81-9483-4E06-A354-DDF6AE1239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4ac"/>
                </a:solidFill>
                <a:latin typeface="Calibri"/>
              </a:rPr>
              <a:t>Парниковы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температуры нижних слоёв атмосферы план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чины и характерист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антропогенных воз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жигание топлива и промышленные выбросы) содержание углекислого газа, метана, пыли, фторхлоруглеродных соединений  в атмосфере Земли постепенно возраст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00B6-3296-4199-B91D-DA8B799CD5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едств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привести к глобальному изменению климата, таянию ледников и повышению уровня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ути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я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ые  и другие бестопливные источники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ращение сведения ле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0DF0-426F-4722-BBE9-EBAABCB51A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оновые ды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альное падение концентрации озона в озоновом слое Земли ( на высоте около 25 к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ич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выделение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держащ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ре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еоны используются в производстве пористых пластмасс, холодильных установок, газовых баллончиков, в парфюмерии и медицине для создания аэрозо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B119-D252-414D-B688-AC8C773720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едств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ультрафиолетовые лучи (УФ) проходят на Землю, а они способны разрушать молекулы белка и ДН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ш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 посадка деревьев, меньшее использование баллончиков, аэрозо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963A-3845-4867-82E7-C5F2081493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Кислотные дож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9670-BAB0-49E6-9916-F7F1CE328A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1E21-FE0C-4096-9C66-A4434DA1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48DD-2248-4A52-BBE4-7EAE5889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81A7-9DDD-48CA-835B-E7E7C23E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8897-662A-41E3-84A0-2374927D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153E-E0DD-465E-A6D2-73714B24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850A-FA22-4323-8E76-5DC42260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9771-E543-420A-8A7B-820B226B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A9FD-536E-440F-8853-A3899E6B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2E48-6854-4FD3-B19F-14F30844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6458-2C73-4628-9042-EF0AB26F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014F-2F97-4AB5-9F83-8038E88C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EF10-977B-4D47-8907-9CD6BDD5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C457-4D6B-4E62-A394-C9A753A5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F091-E896-4825-812E-492818DE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22D9-E964-4A5B-9C62-A6995B3F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D305-158D-4C12-923E-8CECB5B0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32AE-A773-47A3-8259-6465B9E4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71D42-F708-4AF6-88B6-06095203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4DF62-3E7D-4EC0-8E58-E60B8743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68D13-EB39-45D6-B5BF-65360F34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19101-A2AB-4A79-806E-BA7876F4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C2C80-8096-4D67-A651-2D072C54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3EF3-D847-4527-8185-707F193B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12D7E-7059-446D-B3F4-EA07B041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0F749-1C08-4C86-9794-F153F200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F640F-BD21-4CAE-8EEC-50401052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DBAB3-FBD6-401D-B82E-E5B88591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505FA-BB8F-46B8-928B-8ABFBF81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9D850-60CB-40DE-92B1-70B9C2FF7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CA077-0660-4EFF-9260-257C4FC4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54C0F-05E9-44BA-A8F0-C65113079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EE438-7977-4E3B-901F-80C1C67C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6F628-B8E4-4CE1-8CD8-48200B7F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6EC1-AE71-4ADC-8EC2-0DB490F6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4D4EA-3B15-43F1-8975-FBDDE350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C0153-A9DC-438A-96AD-5A2FC48C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19FC8-A994-4ED9-A7BB-6AE2DB19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1490C-8DB8-4CAD-AFD7-6B951ED7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FFF8F-712B-443A-AA31-84E8A85E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49D91-2E13-4220-80CD-A917FCBD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27906-BACA-4F02-AC97-A0295015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EC809-8864-4053-B28B-B961557B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98D7D-FEBA-42DE-A07C-AACC4C48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C9465-A9DB-4089-97E3-85EE04B4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0E47-7783-4085-8B15-EF4F4C98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B4750-D816-471A-B551-C027E132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8DFD6-1F79-4AFC-8CAB-89D6E96C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D507A-AE24-483E-BE00-448C91B6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C6CD7-AFD3-4EEE-9EF9-406A4D5B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B0043-5747-4A27-9DE0-F4094633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30488-FD82-477A-8A67-1D3F9CB5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A1ABC-5AB5-472E-8540-43DEB29F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500AA-9679-4E55-BB80-A90FA261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3F667-C517-4081-A323-C0BAB776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698B7-D133-48E5-B865-02ED2182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2B0D-E9D3-4E4D-84AB-C79106CE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4698B-F043-4F0C-BC2E-AC1D00BA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3AE9D-035F-410B-8890-31194B39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F866F-6154-4922-ADCD-544B298F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648EC-E5EB-4869-A779-405BCC2A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318B6-74BC-46CD-92BE-2664A712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1DC4B-B959-4EFB-9FC1-144E9B34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E4383-D2E3-4580-A95C-DCD7DB84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C1F86-4525-4125-B2AF-872AEF1C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76EA7-D519-42CE-9278-6F72B99F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42B3C-39D8-49DE-AE1D-0847EA75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7165-8598-4ACC-8A5B-F9753471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B5889-99E6-4D47-8DDC-AF3DC1DE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9FD77-2500-48CB-BF72-9944C009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9466A-A356-4FBB-93BA-A04517EE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24CD7-04E0-4A21-91E1-79736651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C78A9-5027-461D-8F39-49BA5679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A2A3E-5105-42ED-87E9-0DB457A3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7BBA5-8CBC-4A5D-8F1D-6B19D3A5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A2F83-E826-4004-AAC8-DCFAEB81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07948-4EE8-4316-A4B5-7C643E7E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B7C3B-FEF2-4004-B757-76BB60B1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653A-2FCA-43AC-A3CC-2F01A251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A540E-7F92-47C8-AF8F-07E25392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10FB0-6E44-4E1D-8A37-5D574322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B1807-51FD-4079-BCF7-5052B8F6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101EC-8F34-4AB8-BD1A-715D811A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B0C2C-7BF9-4BD2-82ED-14908199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38A-246B-4327-B404-EAB5886D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8226-0960-4A8E-94CC-AFE887ACBCE8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13BA-0017-4E01-ACFE-BE1653E7E04B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F133-4BB8-436B-BA3C-6209BFABAB01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745D-225B-45F1-9B5A-360F68232A9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70C6-29D0-4A89-8E20-4688BF8BC8AA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43A9-BBEC-4196-9580-BEC3360E5189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AD97-F0DD-41ED-A811-214AC3B71FE8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7D28-9F5B-448C-AB19-36B45E3E1C0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A890-883D-4FF6-B719-0C77D6E03465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527E-3C81-4347-95A7-1C6A5CA9FC6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A373-DB91-4760-9972-FED61DDD4BE8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02FA-AEA6-47F4-9DD6-C52E1F98FB56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BA38-FE68-461E-AF84-639DADD04870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9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34C5-1F67-4611-9170-0CD68115A5EB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http://votedeath.ru/wp-content/uploads/2011/04/ekologicheskaya-problema.jpg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99320"/>
          </a:xfrm>
          <a:prstGeom prst="rect">
            <a:avLst/>
          </a:prstGeom>
          <a:ln w="0">
            <a:noFill/>
          </a:ln>
        </p:spPr>
      </p:pic>
      <p:pic>
        <p:nvPicPr>
          <p:cNvPr id="376" name="Заголовок 1" descr=""/>
          <p:cNvPicPr/>
          <p:nvPr/>
        </p:nvPicPr>
        <p:blipFill>
          <a:blip r:embed="rId2"/>
          <a:stretch/>
        </p:blipFill>
        <p:spPr>
          <a:xfrm>
            <a:off x="914400" y="4346640"/>
            <a:ext cx="7821720" cy="283536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928800" y="2858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едставляют собой различные виды атмосферных  осадков (дождь, град, снег, туман, роса) с кислотностью выше нормы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2" name="Picture 2" descr="&amp;pcy;&amp;ocy;&amp;scy;&amp;lcy;&amp;iecy;&amp;dcy;&amp;scy;&amp;tcy;&amp;vcy;&amp;icy;&amp;yacy; &amp;kcy;&amp;icy;&amp;scy;&amp;lcy;&amp;ocy;&amp;tcy;&amp;ncy;&amp;ycy;&amp;khcy; &amp;dcy;&amp;ocy;&amp;zhcy;&amp;dcy;&amp;iecy;&amp;jcy;"/>
          <p:cNvPicPr/>
          <p:nvPr/>
        </p:nvPicPr>
        <p:blipFill>
          <a:blip r:embed="rId1"/>
          <a:stretch/>
        </p:blipFill>
        <p:spPr>
          <a:xfrm>
            <a:off x="2643120" y="2214720"/>
            <a:ext cx="4929120" cy="4448160"/>
          </a:xfrm>
          <a:prstGeom prst="rect">
            <a:avLst/>
          </a:prstGeom>
          <a:ln w="0">
            <a:noFill/>
          </a:ln>
        </p:spPr>
      </p:pic>
      <p:sp>
        <p:nvSpPr>
          <p:cNvPr id="40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914400" y="713880"/>
            <a:ext cx="7772400" cy="564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Причины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 промышленные выбросы, главным образом,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O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2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O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2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Cl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ыхлопные газ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Электростанци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омышленные котельны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а 74% - угольные котельны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857160" y="-360"/>
            <a:ext cx="7772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33000" indent="-27756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Следствия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дкисление водоемов,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ибель отдельных видов,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нижение плодородия почв,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нижение прироста лесо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Пути решени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- Известкование почв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just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Замена топлива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just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Энергосбережение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just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спользование жидких фильтров –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скрубберов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 algn="just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окращение выбросов кислотосодержащих вещест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7" name="Picture 2" descr="http://www.vokrugsveta.ru/img/cmn/2007/08/19/001.jpg"/>
          <p:cNvPicPr/>
          <p:nvPr/>
        </p:nvPicPr>
        <p:blipFill>
          <a:blip r:embed="rId1"/>
          <a:stretch/>
        </p:blipFill>
        <p:spPr>
          <a:xfrm>
            <a:off x="6072120" y="285840"/>
            <a:ext cx="2879640" cy="330516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http://900igr.net/datas/ekologija/Okean/0011-011-Osnovnye-puti-zagrjaznenija-gidrosfer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http://www.zdorovieinfo.ru/upload/images/dirty-water-02.jpg"/>
          <p:cNvPicPr/>
          <p:nvPr/>
        </p:nvPicPr>
        <p:blipFill>
          <a:blip r:embed="rId1"/>
          <a:stretch/>
        </p:blipFill>
        <p:spPr>
          <a:xfrm>
            <a:off x="4552920" y="4505400"/>
            <a:ext cx="4591080" cy="23526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2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ледствие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гибель флоры и фауны Мирового океана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копление в организме животных вредных веществ , которые затем попадут в организм человека.</a:t>
            </a:r>
            <a:br>
              <a:rPr sz="3200"/>
            </a:b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ешен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расширить международное сотрудничество и взаимопомощь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осуществлять государственный контроль за состоянием среды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http://mosrate.ru/articles/soil.jpg"/>
          <p:cNvPicPr/>
          <p:nvPr/>
        </p:nvPicPr>
        <p:blipFill>
          <a:blip r:embed="rId1"/>
          <a:stretch/>
        </p:blipFill>
        <p:spPr>
          <a:xfrm>
            <a:off x="6500880" y="114300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Загрязнение почв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928800" y="1356840"/>
            <a:ext cx="69292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Увеличение химических веществ в почве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сновные источники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оли тяжелых металлов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ефтепродукты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естициды – вещества для борьбы с вредителями и сорняками;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хоронения радиоактивных вещест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Транспорт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4" descr="http://www.soil-science.ru/im/l06.jpg"/>
          <p:cNvPicPr/>
          <p:nvPr/>
        </p:nvPicPr>
        <p:blipFill>
          <a:blip r:embed="rId1"/>
          <a:stretch/>
        </p:blipFill>
        <p:spPr>
          <a:xfrm>
            <a:off x="714240" y="3357720"/>
            <a:ext cx="8116920" cy="29034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642960" y="285840"/>
            <a:ext cx="77724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Следствие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 Гибель флоры и фаун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 Эрозия поч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Дегумификация (разрушение гумуса)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торичное засолени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914400" y="214200"/>
            <a:ext cx="7772400" cy="614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Решение проблемы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ы об охране и использовании земель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ятие и сохранение верхнего слоя земл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щита земель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жигание мусора на специальных заводах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циональное использовани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4" name="Picture 2" descr="http://geotec.com.ua/img/pic/pressa-7.png"/>
          <p:cNvPicPr/>
          <p:nvPr/>
        </p:nvPicPr>
        <p:blipFill>
          <a:blip r:embed="rId1"/>
          <a:stretch/>
        </p:blipFill>
        <p:spPr>
          <a:xfrm>
            <a:off x="2286000" y="3616200"/>
            <a:ext cx="4714920" cy="324180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Влияние человека на растительный и животный мир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914400" y="1428840"/>
            <a:ext cx="77724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Прямое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-  Вырубка лес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-  Истребление видов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Акклиматизация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животных и растений, т.е. их завоз на территории, где они раньше не встречались с целью приспособления к новым климатическим условиям  и включения в сложившиеся биоценозы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Промысел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– изъятие животных из природы путем отлова добычи ( пушной, рыболовство, промысел крабов, устриц, жемчужниц и т.д.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1eeff"/>
                </a:solidFill>
                <a:latin typeface="Consolas"/>
              </a:rPr>
              <a:t>Истребление животных: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0" name="Picture 2" descr="http://smoking-room.ru/data/pnp/anim_mort7.jpg"/>
          <p:cNvPicPr/>
          <p:nvPr/>
        </p:nvPicPr>
        <p:blipFill>
          <a:blip r:embed="rId1"/>
          <a:stretch/>
        </p:blipFill>
        <p:spPr>
          <a:xfrm>
            <a:off x="500040" y="2500200"/>
            <a:ext cx="3809880" cy="22669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http://ianimal.ru/wp-content/uploads/2011/02/stellerova-korova12-620x620.jpg"/>
          <p:cNvPicPr/>
          <p:nvPr/>
        </p:nvPicPr>
        <p:blipFill>
          <a:blip r:embed="rId2"/>
          <a:stretch/>
        </p:blipFill>
        <p:spPr>
          <a:xfrm>
            <a:off x="4786200" y="2276640"/>
            <a:ext cx="3786480" cy="27144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6" descr="http://cdn.zoopicture.ru/wp-content/uploads/2009/07/Thylacinus.jpg"/>
          <p:cNvPicPr/>
          <p:nvPr/>
        </p:nvPicPr>
        <p:blipFill>
          <a:blip r:embed="rId3"/>
          <a:stretch/>
        </p:blipFill>
        <p:spPr>
          <a:xfrm>
            <a:off x="5167440" y="4214880"/>
            <a:ext cx="3976560" cy="24573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85840" y="1357200"/>
            <a:ext cx="8501040" cy="522144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 1600 г. исчезло 83 вида Млекопитающих, 113 видов птиц, 21 вид рептилий, 23 вида рыб и более 384 видов высших растений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реди них: - дикий тур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Corbel"/>
              </a:rPr>
              <a:t>Стеллерова коров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Corbel"/>
              </a:rPr>
              <a:t>Сумчатый волк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Corbel"/>
              </a:rPr>
              <a:t>Дронт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5e01"/>
                </a:solidFill>
                <a:latin typeface="Corbel"/>
              </a:rPr>
              <a:t>И др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4" name="Picture 8" descr="http://ic.pics.livejournal.com/rootsmanilov/19710611/744509/744509_original.jpg"/>
          <p:cNvPicPr/>
          <p:nvPr/>
        </p:nvPicPr>
        <p:blipFill>
          <a:blip r:embed="rId4"/>
          <a:stretch/>
        </p:blipFill>
        <p:spPr>
          <a:xfrm>
            <a:off x="2714760" y="4381560"/>
            <a:ext cx="3000240" cy="2476440"/>
          </a:xfrm>
          <a:prstGeom prst="rect">
            <a:avLst/>
          </a:prstGeom>
          <a:ln w="0">
            <a:noFill/>
          </a:ln>
        </p:spPr>
      </p:pic>
      <p:sp>
        <p:nvSpPr>
          <p:cNvPr id="435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914400" y="285480"/>
            <a:ext cx="7772400" cy="60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егодня экологическую ситуацию в мире можно охарактеризовать как близкую к 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критической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785880" y="1285920"/>
            <a:ext cx="7794720" cy="493560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Corbel"/>
              </a:rPr>
              <a:t>Растения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укуруза                     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Фасоль                                родом из Америк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артофель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омидоры, тыкв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Corbel"/>
              </a:rPr>
              <a:t>Животные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Яблонная плодожорк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олорадский жук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Серая и черная крыс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Ондатра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1eeff"/>
                </a:solidFill>
                <a:latin typeface="Consolas"/>
              </a:rPr>
              <a:t>Акклиматизация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8" name="Правая фигурная скобка 3"/>
          <p:cNvSpPr/>
          <p:nvPr/>
        </p:nvSpPr>
        <p:spPr>
          <a:xfrm>
            <a:off x="3143160" y="1785960"/>
            <a:ext cx="142920" cy="142884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428840"/>
              <a:gd name="textAreaBottom" fmla="*/ 142524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"/>
                  <a:pt x="10800" y="180"/>
                </a:cubicBezTo>
                <a:lnTo>
                  <a:pt x="10800" y="10620"/>
                </a:lnTo>
                <a:cubicBezTo>
                  <a:pt x="10800" y="10710"/>
                  <a:pt x="16200" y="10800"/>
                  <a:pt x="21600" y="10800"/>
                </a:cubicBezTo>
                <a:cubicBezTo>
                  <a:pt x="16200" y="10800"/>
                  <a:pt x="10800" y="10890"/>
                  <a:pt x="10800" y="10980"/>
                </a:cubicBezTo>
                <a:lnTo>
                  <a:pt x="10800" y="21420"/>
                </a:lnTo>
                <a:cubicBezTo>
                  <a:pt x="10800" y="21510"/>
                  <a:pt x="5400" y="21600"/>
                  <a:pt x="0" y="21600"/>
                </a:cubicBezTo>
              </a:path>
            </a:pathLst>
          </a:custGeom>
          <a:noFill/>
          <a:ln w="118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8" descr="http://zaschita-rastenij.ru/wp-content/uploads/2012/01/YAblonnaya-plodozhorka.jpg"/>
          <p:cNvPicPr/>
          <p:nvPr/>
        </p:nvPicPr>
        <p:blipFill>
          <a:blip r:embed="rId1"/>
          <a:stretch/>
        </p:blipFill>
        <p:spPr>
          <a:xfrm>
            <a:off x="3571920" y="26431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http://www.tepid.ru/images/muskrat3.jpg"/>
          <p:cNvPicPr/>
          <p:nvPr/>
        </p:nvPicPr>
        <p:blipFill>
          <a:blip r:embed="rId2"/>
          <a:stretch/>
        </p:blipFill>
        <p:spPr>
          <a:xfrm>
            <a:off x="5851440" y="4429080"/>
            <a:ext cx="3292560" cy="2428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http://upload.wikimedia.org/wikipedia/commons/thumb/8/8c/Leptinotarsa_fg03.jpg/240px-Leptinotarsa_fg03.jpg"/>
          <p:cNvPicPr/>
          <p:nvPr/>
        </p:nvPicPr>
        <p:blipFill>
          <a:blip r:embed="rId3"/>
          <a:stretch/>
        </p:blipFill>
        <p:spPr>
          <a:xfrm>
            <a:off x="6215040" y="1833480"/>
            <a:ext cx="2643120" cy="176220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http://900igr.net/datai/biologija/Ekologicheskie-faktory/0018-017-Unichtozhenie-lesov.png"/>
          <p:cNvPicPr/>
          <p:nvPr/>
        </p:nvPicPr>
        <p:blipFill>
          <a:blip r:embed="rId1"/>
          <a:stretch/>
        </p:blipFill>
        <p:spPr>
          <a:xfrm>
            <a:off x="5533920" y="3786120"/>
            <a:ext cx="3610080" cy="288612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142560"/>
            <a:ext cx="777240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1eeff"/>
                </a:solidFill>
                <a:uFillTx/>
                <a:latin typeface="Consolas"/>
              </a:rPr>
              <a:t>Косвенное влия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57120" y="857160"/>
            <a:ext cx="7158240" cy="549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ключается в </a:t>
            </a:r>
            <a:r>
              <a:rPr b="0" i="1" lang="ru-RU" sz="3000" spc="-1" strike="noStrike">
                <a:solidFill>
                  <a:srgbClr val="ffffff"/>
                </a:solidFill>
                <a:latin typeface="Corbel"/>
              </a:rPr>
              <a:t>загрязнении среды обитания живых организмов, ее изменении или даже разрушени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Corbel"/>
              </a:rPr>
              <a:t>Пример изменения: строительство дорог, новых предприятий, </a:t>
            </a:r>
            <a:r>
              <a:rPr b="0" i="1" lang="ru-RU" sz="3200" spc="-1" strike="noStrike">
                <a:solidFill>
                  <a:srgbClr val="ffffff"/>
                </a:solidFill>
                <a:latin typeface="Corbel"/>
              </a:rPr>
              <a:t>осушение болот, </a:t>
            </a:r>
            <a:r>
              <a:rPr b="0" i="1" lang="ru-RU" sz="3000" spc="-1" strike="noStrike">
                <a:solidFill>
                  <a:srgbClr val="ffffff"/>
                </a:solidFill>
                <a:latin typeface="Corbel"/>
              </a:rPr>
              <a:t>сельскохозяйственное освоение земель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6" name="Picture 4" descr="http://www.riarealty.ru/images/39737/69/397376917.jpg"/>
          <p:cNvPicPr/>
          <p:nvPr/>
        </p:nvPicPr>
        <p:blipFill>
          <a:blip r:embed="rId2"/>
          <a:stretch/>
        </p:blipFill>
        <p:spPr>
          <a:xfrm>
            <a:off x="785880" y="4286160"/>
            <a:ext cx="4095720" cy="2210040"/>
          </a:xfrm>
          <a:prstGeom prst="rect">
            <a:avLst/>
          </a:prstGeom>
          <a:ln w="0">
            <a:noFill/>
          </a:ln>
        </p:spPr>
      </p:pic>
      <p:sp>
        <p:nvSpPr>
          <p:cNvPr id="447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1eeff"/>
                </a:solidFill>
                <a:latin typeface="Consolas"/>
              </a:rPr>
              <a:t>Путь устойчивого развит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rbel"/>
              </a:rPr>
              <a:t>В 1992 году в Рио-де-Жанейро (Бразилия) была подписана Международная конвенция о биологическом разнообразии. В ней выражены решимость общими усилиями сохранять и поддерживать богатство всего живого. Удастся ли людям добиться этой цели, покажет будущее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6" descr="http://line.nts.su/8V83/1%20%D1%81%D0%B5%D0%BC%D0%B5%D1%81%D1%82%D1%80/%D0%AD%D0%BA%D0%BE%D0%BB%D0%BE%D0%B3%D0%B8%D1%8F/%D0%AD%D0%BA%D0%BE%D0%BB%D0%BE%D0%B3%D0%B8%D1%8F/pic_15_0.PNG"/>
          <p:cNvPicPr/>
          <p:nvPr/>
        </p:nvPicPr>
        <p:blipFill>
          <a:blip r:embed="rId1"/>
          <a:stretch/>
        </p:blipFill>
        <p:spPr>
          <a:xfrm>
            <a:off x="214200" y="214200"/>
            <a:ext cx="8572680" cy="644688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914400" y="214200"/>
            <a:ext cx="7772400" cy="614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1" name="Picture 2" descr="http://5klass.net/datas/ekologija/Ekologija-i-ekologicheskaja-bezopasnost/0005-005-Globalnye-ekologicheskie-problem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Таблица: </a:t>
            </a:r>
            <a:r>
              <a:rPr b="1" lang="ru-RU" sz="4000" spc="-1" strike="noStrike">
                <a:solidFill>
                  <a:srgbClr val="ffffff"/>
                </a:solidFill>
                <a:latin typeface="Consolas"/>
              </a:rPr>
              <a:t>«Основные экологические проблемы»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00080" y="2857680"/>
          <a:ext cx="7500960" cy="1819080"/>
        </p:xfrm>
        <a:graphic>
          <a:graphicData uri="http://schemas.openxmlformats.org/drawingml/2006/table">
            <a:tbl>
              <a:tblPr/>
              <a:tblGrid>
                <a:gridCol w="1379520"/>
                <a:gridCol w="2067120"/>
                <a:gridCol w="2179440"/>
                <a:gridCol w="18748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обл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Характеристика и прич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ледств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ути реш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1178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38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арниковый эффект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356840"/>
            <a:ext cx="7772400" cy="49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ие температуры нижних слоёв атмосферы планет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ричины и характеристика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результате антропогенных воздействий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жигание топлива и промышленные выбросы) содержание углекислого газа, метана, пыли, фторхлоруглеродных соединений  в атмосфере Земли постепенно возрастает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928800" y="285840"/>
            <a:ext cx="77724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Следствие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ожет привести к глобальному изменению климата, таянию ледников и повышению уровня Мирового океан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ути решения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Экономия энерги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олнечные  и другие бестопливные источники энерги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екращение сведения лесо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зоновые дыр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57160" y="1285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Локальное падение концентрации озона в озоновом слое Земли ( на высоте около 25 км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rbel"/>
              </a:rPr>
              <a:t>Причина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: выделение С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 –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и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r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 содержащих 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фреонов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Фреоны используются в производстве пористых пластмасс, холодильных установок, газовых баллончиков, в парфюмерии и медицине для создания аэрозоле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http://ecotechblog.ru/wp-content/uploads/2011/02/ecotech005.jpg"/>
          <p:cNvPicPr/>
          <p:nvPr/>
        </p:nvPicPr>
        <p:blipFill>
          <a:blip r:embed="rId1"/>
          <a:stretch/>
        </p:blipFill>
        <p:spPr>
          <a:xfrm>
            <a:off x="785880" y="2728800"/>
            <a:ext cx="7810560" cy="37101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914400" y="713880"/>
            <a:ext cx="7772400" cy="564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orbel"/>
              </a:rPr>
              <a:t>Следствие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: ультрафиолетовые лучи (УФ) проходят на Землю, а они способны разрушать молекулы белка и ДНК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orbel"/>
              </a:rPr>
              <a:t>Решение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:  посадка деревьев, меньшее использование баллончиков, аэрозолей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onsolas"/>
              </a:rPr>
              <a:t>Кислотные дожд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http://www.ecoanaliz.ru/images/stories/acidrain.jpg"/>
          <p:cNvPicPr/>
          <p:nvPr/>
        </p:nvPicPr>
        <p:blipFill>
          <a:blip r:embed="rId2"/>
          <a:stretch/>
        </p:blipFill>
        <p:spPr>
          <a:xfrm>
            <a:off x="571680" y="1285920"/>
            <a:ext cx="8358120" cy="532584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18:40:25Z</dcterms:created>
  <dc:creator>админ</dc:creator>
  <dc:description/>
  <dc:language>en-US</dc:language>
  <cp:lastModifiedBy>LEGION</cp:lastModifiedBy>
  <dcterms:modified xsi:type="dcterms:W3CDTF">2015-05-06T08:39:54Z</dcterms:modified>
  <cp:revision>22</cp:revision>
  <dc:subject/>
  <dc:title>Глобальные экологические проблемы</dc:title>
</cp:coreProperties>
</file>