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1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C9DE-7F1E-4D32-A72F-E8CF98600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3EF6-8C84-43FE-9B1A-808C1B0D19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7AD6-3288-4761-9133-AA7EC149C0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08B0-CEEF-4C88-9B44-DA07682B3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9089-F53D-4B1C-8E4C-C676AA3B7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3A98-AA74-403F-B403-6C850C7AF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CF82-83B9-46A7-990C-7E1966EFB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630E-4732-4E3C-BBF2-444C17D155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B134-1442-49C3-85F0-650CC64A3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4C16-E6FA-472F-925F-0D9A01ED4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4D45-D230-46A1-B463-59E9EDDB2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52B2-1DDB-443E-B06C-FB7B124A4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CEDC-468D-4876-95BC-13BC13F4B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D281-1B7E-4AE0-9A02-5D20D7479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DF11-C6B5-4E94-B66D-FB20C97C0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7599-B41C-4437-AED9-89A7A284B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26E4-8B52-4D42-860D-3FD563D19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ED31-0AB8-4735-AF1C-AB8804574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576E-6592-495A-9309-7DB629FB6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0573-433C-41EF-8EB4-BE0A3A774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8C2-5846-46EB-A163-F5C58645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AA1-8A9C-4BDD-8B1C-D1598C27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018-A9E9-4736-8CC2-755F466E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737-10FC-4888-B0B2-250F1762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CDA-CCE1-43EA-B09B-8AFDDBEB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D83-5C8F-4A4D-B46D-B4C9676B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9E9-A12D-4C67-BED9-5EA4030F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13C-A41D-4FD7-B3C3-28899971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869-3427-4242-B43A-50E23AE2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6B8-78BA-48CA-B1F7-D1BD6EF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353-C72F-491B-A2E1-B3511CD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8C0-C10F-45F4-B660-C7FAC35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4CA1-049F-4237-8AB0-BEA01B0E858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E2A9-9AA1-4980-86DE-E7F678D1F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Public\Pictures\Sample Pictures\Desert Landscape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00840" cy="310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user\Desktop\Моя папочка=)))\Школа\2009-04-09, наркомания\наркомания 022.jpg"/>
          <p:cNvPicPr/>
          <p:nvPr/>
        </p:nvPicPr>
        <p:blipFill>
          <a:blip r:embed="rId2"/>
          <a:stretch/>
        </p:blipFill>
        <p:spPr>
          <a:xfrm>
            <a:off x="357120" y="392904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00040" y="357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ser\Desktop\Моя папочка=)))\Школа\2009-04-09, наркомания\наркомания 006.jpg"/>
          <p:cNvPicPr/>
          <p:nvPr/>
        </p:nvPicPr>
        <p:blipFill>
          <a:blip r:embed="rId1"/>
          <a:stretch/>
        </p:blipFill>
        <p:spPr>
          <a:xfrm>
            <a:off x="3500280" y="3643200"/>
            <a:ext cx="5267520" cy="2814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олод и здоровье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8640" y="713880"/>
            <a:ext cx="5257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едание особенно пагубно сказывается на здоровье детей до 5 лет. Согласно результатам исследований ВОЗ, это замедляет их не только физическое, но и умственное развитие, а впоследствии отражается и на психическом состоянии. В развивающихся странах ежегодно около 100000 детей теряют зрение вследствие недостатка витами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едко новорожденные заболевают раньше, чем появляются на свет. Причина тому – анемия у женщин во время беременности, вызываемая хроническим недоеданием и голодом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ем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дефицита в пище железа и фолиевой кислоты- приводит к заметному снижению содержания гемоглобина в крови, т.е. к малокров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ня\Мои документы\Самые простые и эффективные диеты_ - Бесплатно детям,полезно родителям_files\sm-DSCN3948.jpg"/>
          <p:cNvPicPr/>
          <p:nvPr/>
        </p:nvPicPr>
        <p:blipFill>
          <a:blip r:embed="rId1"/>
          <a:stretch/>
        </p:blipFill>
        <p:spPr>
          <a:xfrm>
            <a:off x="285840" y="1785960"/>
            <a:ext cx="300024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user\Desktop\Моя папочка=)))\Школа\2009-04-09, наркомания\наркомания 025.jpg"/>
          <p:cNvPicPr/>
          <p:nvPr/>
        </p:nvPicPr>
        <p:blipFill>
          <a:blip r:embed="rId1"/>
          <a:stretch/>
        </p:blipFill>
        <p:spPr>
          <a:xfrm>
            <a:off x="1214280" y="4572000"/>
            <a:ext cx="6534360" cy="16876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er\Desktop\Моя папочка=)))\Школа\2009-04-09, наркомания\наркомания 001.jpg"/>
          <p:cNvPicPr/>
          <p:nvPr/>
        </p:nvPicPr>
        <p:blipFill>
          <a:blip r:embed="rId1"/>
          <a:stretch/>
        </p:blipFill>
        <p:spPr>
          <a:xfrm>
            <a:off x="3429000" y="3714840"/>
            <a:ext cx="5580000" cy="2992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6429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Моя папочка=)))\Школа\2009-04-09, наркомания\наркомания 016.jpg"/>
          <p:cNvPicPr/>
          <p:nvPr/>
        </p:nvPicPr>
        <p:blipFill>
          <a:blip r:embed="rId1"/>
          <a:stretch/>
        </p:blipFill>
        <p:spPr>
          <a:xfrm>
            <a:off x="1214280" y="3143160"/>
            <a:ext cx="6632640" cy="33163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Моя папочка=)))\Школа\2009-04-09, наркомания\наркомания 021.jpg"/>
          <p:cNvPicPr/>
          <p:nvPr/>
        </p:nvPicPr>
        <p:blipFill>
          <a:blip r:embed="rId1"/>
          <a:stretch/>
        </p:blipFill>
        <p:spPr>
          <a:xfrm>
            <a:off x="428760" y="1928880"/>
            <a:ext cx="321444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99800"/>
            <a:ext cx="40402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99800"/>
            <a:ext cx="40417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7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41720" cy="39495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8" descr=""/>
          <p:cNvPicPr/>
          <p:nvPr/>
        </p:nvPicPr>
        <p:blipFill>
          <a:blip r:embed="rId2"/>
          <a:stretch/>
        </p:blipFill>
        <p:spPr>
          <a:xfrm>
            <a:off x="4645080" y="2176560"/>
            <a:ext cx="4041720" cy="3949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Аня\Рабочий стол\l001.jpg"/>
          <p:cNvPicPr/>
          <p:nvPr/>
        </p:nvPicPr>
        <p:blipFill>
          <a:blip r:embed="rId1"/>
          <a:stretch/>
        </p:blipFill>
        <p:spPr>
          <a:xfrm>
            <a:off x="1071720" y="714240"/>
            <a:ext cx="650052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Аня\Рабочий стол\l002.jpg"/>
          <p:cNvPicPr/>
          <p:nvPr/>
        </p:nvPicPr>
        <p:blipFill>
          <a:blip r:embed="rId1"/>
          <a:stretch/>
        </p:blipFill>
        <p:spPr>
          <a:xfrm>
            <a:off x="1143000" y="1000080"/>
            <a:ext cx="707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EGION</cp:lastModifiedBy>
  <dcterms:modified xsi:type="dcterms:W3CDTF">2015-05-06T08:40:33Z</dcterms:modified>
  <cp:revision>23</cp:revision>
  <dc:subject/>
  <dc:title>Продовольственная проблема</dc:title>
</cp:coreProperties>
</file>