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4.png" ContentType="image/png"/>
  <Override PartName="/ppt/media/image1.jpeg" ContentType="image/jpeg"/>
  <Override PartName="/ppt/media/wind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60FE-B209-4ACB-83D8-AB631F3AE8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384E-0A40-40B5-946B-282834B93A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на, в которой значительная часть населения недополучает необходимое количество калорий, на мировой карте охватывает обширную территорию. Она простирается по обеим сторонам от экватора, включает почти всю Африку к югу от Сахары, Западную Азию, Южную и Юго-Восточную Азию, Карибский бассейн, основную часть Южной Амер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неблагоприятное положение сложилос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транах аридных и семиаридных област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нятых сухими саваннами и полупустынями. На этих территориях, отличающихся чрезвычайно низким агроприродным потенциалом, повышенной хрупкостью и пониженной «эластичностью» экосистем, темпы роста населения примерно в 2 раза опережают производство продовольствия, что приводит к резкому снижению подушевого показателя производства продуктов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7B36-9FD4-4B55-9CE7-A6903545D1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йне трудная продовольственная ситуация сохраняется, с одной стороны, в крупных густонаселен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анах Муссонной Ази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наиболее ущемленными оказываются женщины и дети. В сельских районах некоторых стран Азии женщинам вообще не положено питаться вместе с мужчинами. За стол первыми садятся мужчины, а женщины и дети доедают то, что ост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опическая Африка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«полюс голода» на планете. Продовольственное положение здесь оценивается  специалистами как критическое. Ситуация осложняется тем, что в силу чрезвычайно низких доходов около 90% жителей проживают за чертой бед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оне рассматриваемых регионов несколько лучше питаются жите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тинской Америки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здесь продовольственная проблема достаточно о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97E1-F692-44C1-89BD-EBEFB077B6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Региональные типы пит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итании населения слаборазвитых стран, как правило, всегда доминирует какой-либо один продукт, что придает рациону однообразный характер и негативно сказывается на общем состоянии здоровья. Для зоны саванн и Сахеля в Африке наиболее характерны просяные культуры, дающие до 40-50% калорий. В пищевом рационе жителей лесной зоны африканского континента преобладают клубнеплоды – ямс, маниок, бата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E5BF-43F7-4CF2-89EB-8D088CA99A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B232-F510-4525-94F6-77E34E2BBE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2129-E5B3-4C96-8416-8C5D6568E4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рочный круг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нищета – плохое питание – болезни – низкая производительность труда – нищета»,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 характерный для стран мировой «периферии», ведет к тому, что резко падает трудоспособность занятых в производстве людей, поскольку недоедание обессиливает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1A65-CA79-4CCC-A1F2-3C18C84FF2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Причины голо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голода теснейшим образом взаимосвязана с проблемой отсталости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ое влияние на масштабы голода в современном мире оказывает неконтролируемый рост населения в развивающихся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непосредственным образом на продовольственном положении в развивающихся странах сказываются высокие темпы урб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развивающегося мира занимают крайне невыгодные  позиции в рамках международных экономически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сбрасывать со счетов и последствия экологических кризи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3A79-18D1-4FDF-ABCA-88275C44FE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реальное положение с питанием населения слаборазвитых стран свидетельствует о невероятной сложности продовольственной проблемы. Можно, конечно, рассуждать о теоретическом продовольственном потенциале Земли, об удвоении и даже утроении посевных площадей, о применении человечеством в пищу хлореллы или разведении плантаций на дне океанов… однако суровая действительность напоминает, что всё съедобное, что производит человечество, в конечном счете потребляется и при этом фактически более миллиарда людей постоян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едают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1596-D48F-408B-B201-26F8F5D16B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 надеяться, что человечество в обозримом будущем искоренит голод, если не научится контролировать свою численность, не решит экономические, технические и экологические вопросы модернизации сельского хозяйства. При этом  речь идет о комплексном решении все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6A70-072F-403F-B8FC-6BDE1D38E2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ищу, используемую человеком для поддержания жизнедеятельности, считают в тоже время продуктом его общей культу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многие страны Востока и Запада давно уже достигли продовольственного изобилия. Что в таком случае придает продовольственной проблеме глобальное звуча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ткрытия на стыке медицины и археологии опровергают представления о «плотоядности» наших далеких предк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двумя критериями определяются в первую очередь качество питания человека и какого рода связь существует между ни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мировым «полюсом голода « обычно считают Африку южнее Сахары, несмотря на то, что по абсолютной численности голодающих первенство удерживают страны Муссонной Аз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границы региональных типов питания не совпадают с границами отдельных государств. Какую пищу для размышлений географу дает подобная ситу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A48F-CE7D-46EA-A1DA-52C5B04EAD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смысл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лобальной продовольственной проблем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ется в опережающем росте численности населения по сравнению с ростом производства продуктов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00E4-8B68-4BB9-9437-BD7A846D90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ая проблема обуславли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численности голодающих и недоедающих в мире, а также ухудшение психофизического состояния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антропогенной нагрузки на сельскохозяйственные ландшафты и постепенное истощение традиционных резервов аграрного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довлетворительное качество пищевого рациона в подавляющем большинстве государ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ртывание усилий человечества в области генной инженерии для решения продовольственной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конфликтности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E369-C837-44FF-9929-531EE080B5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продовольствия обычно воспринимается как бедств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его отсутствие – как катастроф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и отсутств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ия приводят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м формам проявления продовольственного кризи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еда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ценному пит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к настоящему гол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9158-6C1A-4F2C-9C0B-2BC177839E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Продовольственной и сельскохозяйственной организации ООН (ФАО). На планете систематически голодают около 500000000 человек. А около 1000000000 человек испытывают явный недостаток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0B3F-BD4E-4CC6-A141-48D33F7615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alibri"/>
              </a:rPr>
              <a:t>Источники питания в прошлом и сейча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отяжении длительной истории человечество существенно изменило свое меню. Первобытные люди питались пищей почти исключительно растительного происхождения. Важным дополнением к их вегетарианскому «столу»  служили яйца, моллюски, мелкие животные.  Постепенный переход к охоте и рыболовству знаменовал собой важный этап расширения пищевых ресурсов человечества. Со временем пища делалась более разнообразной. Стала возрастать роль животных как источников более высококачественной пищи. Возрастание в пищевом рационе доли продуктов животного происхождения характерно для процветающих в экономическом отношении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BF61-1034-48E5-B03F-1DBB2D6DD7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Качество питания: нормы и фа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питания человека определяется двумя главными показателями: энергетической насыщенностью и комплексностью необходимых ингредиентов (белков, жиров, витаминов, минеральных веществ)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нергетическая насыщ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ли калорийность) пищи определяется энергией, аккумулированной в пищевых продуктах: белках, жирах, углеводах. Эту энергию принято измерять в калориях (кал) или килокалориях (ккал).  Второй показатель качества питания –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ссортимент потребляемых веществ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ED68-D119-4647-A588-27EE3F44DB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Энергетическая насыщ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0653-A705-4F69-B130-0F8D27946C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труктура питания в разных странах (1990-ег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72CF-051B-4280-8A1B-1BF12485EB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CF90-1F30-4009-ADBA-2B152376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1820-2828-4F80-85DE-9521513A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6EC8-FAB7-403D-8A5A-2746D832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3816-A842-4AFC-B391-A7D80986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C9F8-3782-4031-9271-E0D1DDC9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A92C-3639-4297-94D9-D87BCE77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4619-CA7C-495B-9EA7-838EBDB9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5D65-3272-4684-BAB3-A8C7E462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B96B-8866-4986-A273-9A372521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DA14-C96A-45D1-A888-463AD175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743-F2AD-46D7-810D-854993AE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A7F1-99B2-469E-BECD-44EA1E95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0BA0-5BB5-40C0-BA6C-961E218D030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FB30-78EB-4792-A4B4-6671B2075C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вольственная проблем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она, в которой значительная часть населения недополучает необходимое количество калорий, на мировой карте охватывает обширную территорию. Она простирается по обеим сторонам от экватора, включает почти всю Африку к югу от Сахары, Западную Азию, Южную и Юго-Восточную Азию, Карибский бассейн, основную часть Южной Америк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иболее неблагоприятное положение сложилось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странах аридных и семиаридных областе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занятых сухими саваннами и полупустынями. На этих территориях, отличающихся чрезвычайно низким агроприродным потенциалом, повышенной хрупкостью и пониженной «эластичностью» экосистем, темпы роста населения примерно в 2 раза опережают производство продовольствия, что приводит к резкому снижению подушевого показателя производства продуктов пит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айне трудная продовольственная ситуация сохраняется, с одной стороны, в крупных густонаселенных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транах Муссонной Азии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этом наиболее ущемленными оказываются женщины и дети. В сельских районах некоторых стран Азии женщинам вообще не положено питаться вместе с мужчинами. За стол первыми садятся мужчины, а женщины и дети доедают то, что остает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ропическая Африка -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ременный «полюс голода» на планете. Продовольственное положение здесь оценивается  специалистами как критическое. Ситуация осложняется тем, что в силу чрезвычайно низких доходов около 90% жителей проживают за чертой бед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фоне рассматриваемых регионов несколько лучше питаются жители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Латинской Америки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 и здесь продовольственная проблема достаточно ост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Региональные типы пита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питании населения слаборазвитых стран, как правило, всегда доминирует какой-либо один продукт, что придает рациону однообразный характер и негативно сказывается на общем состоянии здоровья. Для зоны саванн и Сахеля в Африке наиболее характерны просяные культуры, дающие до 40-50% калорий. В пищевом рационе жителей лесной зоны африканского континента преобладают клубнеплоды – ямс, маниок, бата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c:\Users\Public\Pictures\Sample Pictures\Desert Landscape.jpg"/>
          <p:cNvPicPr/>
          <p:nvPr/>
        </p:nvPicPr>
        <p:blipFill>
          <a:blip r:embed="rId1"/>
          <a:stretch/>
        </p:blipFill>
        <p:spPr>
          <a:xfrm>
            <a:off x="2643120" y="3500280"/>
            <a:ext cx="6000840" cy="3106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Users\user\Desktop\Моя папочка=)))\Школа\2009-04-09, наркомания\наркомания 022.jpg"/>
          <p:cNvPicPr/>
          <p:nvPr/>
        </p:nvPicPr>
        <p:blipFill>
          <a:blip r:embed="rId2"/>
          <a:stretch/>
        </p:blipFill>
        <p:spPr>
          <a:xfrm>
            <a:off x="357120" y="3929040"/>
            <a:ext cx="1928880" cy="242892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3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500040" y="357120"/>
            <a:ext cx="82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user\Desktop\Моя папочка=)))\Школа\2009-04-09, наркомания\наркомания 006.jpg"/>
          <p:cNvPicPr/>
          <p:nvPr/>
        </p:nvPicPr>
        <p:blipFill>
          <a:blip r:embed="rId1"/>
          <a:stretch/>
        </p:blipFill>
        <p:spPr>
          <a:xfrm>
            <a:off x="3500280" y="3643200"/>
            <a:ext cx="5267520" cy="2814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олод и здоровье челове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28640" y="713880"/>
            <a:ext cx="52578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едание особенно пагубно сказывается на здоровье детей до 5 лет. Согласно результатам исследований ВОЗ, это замедляет их не только физическое, но и умственное развитие, а впоследствии отражается и на психическом состоянии. В развивающихся странах ежегодно около 100000 детей теряют зрение вследствие недостатка витамин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редко новорожденные заболевают раньше, чем появляются на свет. Причина тому – анемия у женщин во время беременности, вызываемая хроническим недоеданием и голодом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немия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ствие дефицита в пище железа и фолиевой кислоты- приводит к заметному снижению содержания гемоглобина в крови, т.е. к малокров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Аня\Мои документы\Самые простые и эффективные диеты_ - Бесплатно детям,полезно родителям_files\sm-DSCN3948.jpg"/>
          <p:cNvPicPr/>
          <p:nvPr/>
        </p:nvPicPr>
        <p:blipFill>
          <a:blip r:embed="rId1"/>
          <a:stretch/>
        </p:blipFill>
        <p:spPr>
          <a:xfrm>
            <a:off x="285840" y="1785960"/>
            <a:ext cx="3000240" cy="30718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рочный круг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нищета – плохое питание – болезни – низкая производительность труда – нищета»,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характерный для стран мировой «периферии», ведет к тому, что резко падает трудоспособность занятых в производстве людей, поскольку недоедание обессиливает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C:\Users\user\Desktop\Моя папочка=)))\Школа\2009-04-09, наркомания\наркомания 025.jpg"/>
          <p:cNvPicPr/>
          <p:nvPr/>
        </p:nvPicPr>
        <p:blipFill>
          <a:blip r:embed="rId1"/>
          <a:stretch/>
        </p:blipFill>
        <p:spPr>
          <a:xfrm>
            <a:off x="1214280" y="4572000"/>
            <a:ext cx="6534360" cy="16876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Причины голод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блема голода теснейшим образом взаимосвязана с проблемой отсталости стр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ительное влияние на масштабы голода в современном мире оказывает неконтролируемый рост населения в развивающихся стра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м непосредственным образом на продовольственном положении в развивающихся странах сказываются высокие темпы урб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ы развивающегося мира занимают крайне невыгодные  позиции в рамках международных экономических отнош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льзя сбрасывать со счетов и последствия экологических кризи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  <p:sndAc>
      <p:stSnd>
        <p:snd r:embed="rId1" name="win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так, реальное положение с питанием населения слаборазвитых стран свидетельствует о невероятной сложности продовольственной проблемы. Можно, конечно, рассуждать о теоретическом продовольственном потенциале Земли, об удвоении и даже утроении посевных площадей, о применении человечеством в пищу хлореллы или разведении плантаций на дне океанов… однако суровая действительность напоминает, что всё съедобное, что производит человечество, в конечном счете потребляется и при этом фактически более миллиарда людей постоянн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доедают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C:\Users\user\Desktop\Моя папочка=)))\Школа\2009-04-09, наркомания\наркомания 001.jpg"/>
          <p:cNvPicPr/>
          <p:nvPr/>
        </p:nvPicPr>
        <p:blipFill>
          <a:blip r:embed="rId1"/>
          <a:stretch/>
        </p:blipFill>
        <p:spPr>
          <a:xfrm>
            <a:off x="3429000" y="3714840"/>
            <a:ext cx="5580000" cy="2992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win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500040" y="642960"/>
            <a:ext cx="828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 надеяться, что человечество в обозримом будущем искоренит голод, если не научится контролировать свою численность, не решит экономические, технические и экологические вопросы модернизации сельского хозяйства. При этом  речь идет о комплексном решении все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user\Desktop\Моя папочка=)))\Школа\2009-04-09, наркомания\наркомания 016.jpg"/>
          <p:cNvPicPr/>
          <p:nvPr/>
        </p:nvPicPr>
        <p:blipFill>
          <a:blip r:embed="rId1"/>
          <a:stretch/>
        </p:blipFill>
        <p:spPr>
          <a:xfrm>
            <a:off x="1214280" y="3143160"/>
            <a:ext cx="6632640" cy="33163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пищу, используемую человеком для поддержания жизнедеятельности, считают в тоже время продуктом его общей культур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о, что многие страны Востока и Запада давно уже достигли продовольственного изобилия. Что в таком случае придает продовольственной проблеме глобальное звучани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открытия на стыке медицины и археологии опровергают представления о «плотоядности» наших далеких предков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и двумя критериями определяются в первую очередь качество питания человека и какого рода связь существует между ним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мировым «полюсом голода « обычно считают Африку южнее Сахары, несмотря на то, что по абсолютной численности голодающих первенство удерживают страны Муссонной Ази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о, что границы региональных типов питания не совпадают с границами отдельных государств. Какую пищу для размышлений географу дает подобная ситуаци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1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лавный смысл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лобальной продовольственной проблемы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оется в опережающем росте численности населения по сравнению с ростом производства продуктов пит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обальная проблема обуславлива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численности голодающих и недоедающих в мире, а также ухудшение психофизического состояния нас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т антропогенной нагрузки на сельскохозяйственные ландшафты и постепенное истощение традиционных резервов аграрного сек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удовлетворительное качество пищевого рациона в подавляющем большинстве государ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ертывание усилий человечества в области генной инженерии для решения продовольственной пробл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конфликтности в ми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фицит продовольствия обычно воспринимается как бедстви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его отсутствие – как катастроф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остаток и отсутств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овольствия приводят 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личным формам проявления продовольственного кризис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оедани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полноценному питани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 к настоящему голо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C:\Users\user\Desktop\Моя папочка=)))\Школа\2009-04-09, наркомания\наркомания 021.jpg"/>
          <p:cNvPicPr/>
          <p:nvPr/>
        </p:nvPicPr>
        <p:blipFill>
          <a:blip r:embed="rId1"/>
          <a:stretch/>
        </p:blipFill>
        <p:spPr>
          <a:xfrm>
            <a:off x="428760" y="1928880"/>
            <a:ext cx="3214440" cy="32194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  <p:sndAc>
      <p:stSnd>
        <p:snd r:embed="rId2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данным Продовольственной и сельскохозяйственной организации ООН (ФАО). На планете систематически голодают около 500000000 человек. А около 1000000000 человек испытывают явный недостаток пищ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99800"/>
            <a:ext cx="40402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999800"/>
            <a:ext cx="40417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7" descr=""/>
          <p:cNvPicPr/>
          <p:nvPr/>
        </p:nvPicPr>
        <p:blipFill>
          <a:blip r:embed="rId1"/>
          <a:stretch/>
        </p:blipFill>
        <p:spPr>
          <a:xfrm>
            <a:off x="457200" y="2176560"/>
            <a:ext cx="4041720" cy="394956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8" descr=""/>
          <p:cNvPicPr/>
          <p:nvPr/>
        </p:nvPicPr>
        <p:blipFill>
          <a:blip r:embed="rId2"/>
          <a:stretch/>
        </p:blipFill>
        <p:spPr>
          <a:xfrm>
            <a:off x="4645080" y="2176560"/>
            <a:ext cx="4041720" cy="39495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3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Источники питания в прошлом и сейча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ротяжении длительной истории человечество существенно изменило свое меню. Первобытные люди питались пищей почти исключительно растительного происхождения. Важным дополнением к их вегетарианскому «столу»  служили яйца, моллюски, мелкие животные.  Постепенный переход к охоте и рыболовству знаменовал собой важный этап расширения пищевых ресурсов человечества. Со временем пища делалась более разнообразной. Стала возрастать роль животных как источников более высококачественной пищи. Возрастание в пищевом рационе доли продуктов животного происхождения характерно для процветающих в экономическом отношении государ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Качество питания: нормы и факт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чество питания человека определяется двумя главными показателями: энергетической насыщенностью и комплексностью необходимых ингредиентов (белков, жиров, витаминов, минеральных веществ)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Энергетическая насыщеннос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или калорийность) пищи определяется энергией, аккумулированной в пищевых продуктах: белках, жирах, углеводах. Эту энергию принято измерять в калориях (кал) или килокалориях (ккал).  Второй показатель качества питания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ассортимент потребляемых веществ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Энергетическая насыщенно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Documents and Settings\Аня\Рабочий стол\l001.jpg"/>
          <p:cNvPicPr/>
          <p:nvPr/>
        </p:nvPicPr>
        <p:blipFill>
          <a:blip r:embed="rId1"/>
          <a:stretch/>
        </p:blipFill>
        <p:spPr>
          <a:xfrm>
            <a:off x="1071720" y="714240"/>
            <a:ext cx="6500520" cy="60008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Структура питания в разных странах (1990-егг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Аня\Рабочий стол\l002.jpg"/>
          <p:cNvPicPr/>
          <p:nvPr/>
        </p:nvPicPr>
        <p:blipFill>
          <a:blip r:embed="rId1"/>
          <a:stretch/>
        </p:blipFill>
        <p:spPr>
          <a:xfrm>
            <a:off x="1143000" y="1000080"/>
            <a:ext cx="7072200" cy="54291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  <p:sndAc>
      <p:stSnd>
        <p:snd r:embed="rId2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LEGION</cp:lastModifiedBy>
  <dcterms:modified xsi:type="dcterms:W3CDTF">2015-05-06T08:40:33Z</dcterms:modified>
  <cp:revision>23</cp:revision>
  <dc:subject/>
  <dc:title>Продовольственная проблема</dc:title>
</cp:coreProperties>
</file>