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4.png" ContentType="image/png"/>
  <Override PartName="/ppt/media/image1.jpeg" ContentType="image/jpeg"/>
  <Override PartName="/ppt/media/wind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E275-5923-4991-8992-15A39149B4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BEC5-37DE-4045-AC45-3EFF93D562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а, в которой значительная часть населения недополучает необходимое количество калорий, на мировой карте охватывает обширную территорию. Она простирается по обеим сторонам от экватора, включает почти всю Африку к югу от Сахары, Западную Азию, Южную и Юго-Восточную Азию, Карибский бассейн, основную часть Южной Аме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неблагоприятное положение сложилос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транах аридных и семиаридных област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нятых сухими саваннами и полупустынями. На этих территориях, отличающихся чрезвычайно низким агроприродным потенциалом, повышенной хрупкостью и пониженной «эластичностью» экосистем, темпы роста населения примерно в 2 раза опережают производство продовольствия, что приводит к резкому снижению подушевого показателя производства продуктов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7E7B-202A-41F7-A907-EBE047121E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е трудная продовольственная ситуация сохраняется, с одной стороны, в крупных густонаселе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анах Муссонной Ази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наиболее ущемленными оказываются женщины и дети. В сельских районах некоторых стран Азии женщинам вообще не положено питаться вместе с мужчинами. За стол первыми садятся мужчины, а женщины и дети доедают то, что ост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опическая Африк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«полюс голода» на планете. Продовольственное положение здесь оценивается  специалистами как критическое. Ситуация осложняется тем, что в силу чрезвычайно низких доходов около 90% жителей проживают за чертой бед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оне рассматриваемых регионов несколько лучше питаются жите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тинской Америки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здесь продовольственная проблема достаточно о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7403-00D9-4721-AD49-CB68114604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Региональные типы пит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итании населения слаборазвитых стран, как правило, всегда доминирует какой-либо один продукт, что придает рациону однообразный характер и негативно сказывается на общем состоянии здоровья. Для зоны саванн и Сахеля в Африке наиболее характерны просяные культуры, дающие до 40-50% калорий. В пищевом рационе жителей лесной зоны африканского континента преобладают клубнеплоды – ямс, маниок, бат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B8E4-B06F-4987-B4B5-618A12F889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8E0E-994F-4668-99FA-61795330BD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49A0-58E7-42F8-A053-0AEF042726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рочный круг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нищета – плохое питание – болезни – низкая производительность труда – нищета»,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 характерный для стран мировой «периферии», ведет к тому, что резко падает трудоспособность занятых в производстве людей, поскольку недоедание обессиливает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619D-3827-43A4-A5CC-A1D1CFE405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ричины гол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голода теснейшим образом взаимосвязана с проблемой отсталости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ое влияние на масштабы голода в современном мире оказывает неконтролируемый рост населения в развивающихся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непосредственным образом на продовольственном положении в развивающихся странах сказываются высокие темпы урб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развивающегося мира занимают крайне невыгодные  позиции в рамках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сбрасывать со счетов и последствия экологических кризи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0380-F391-4C6E-BDC8-38842427A1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реальное положение с питанием населения слаборазвитых стран свидетельствует о невероятной сложности продовольственной проблемы. Можно, конечно, рассуждать о теоретическом продовольственном потенциале Земли, об удвоении и даже утроении посевных площадей, о применении человечеством в пищу хлореллы или разведении плантаций на дне океанов… однако суровая действительность напоминает, что всё съедобное, что производит человечество, в конечном счете потребляется и при этом фактически более миллиарда людей постоян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едают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223C-8F49-4D9B-B8BE-6D2E6E84AE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 надеяться, что человечество в обозримом будущем искоренит голод, если не научится контролировать свою численность, не решит экономические, технические и экологические вопросы модернизации сельского хозяйства. При этом  речь идет о комплексном решении все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9EE5-4CB3-4439-9419-46615B07FA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ищу, используемую человеком для поддержания жизнедеятельности, считают в тоже время продуктом его общей культу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многие страны Востока и Запада давно уже достигли продовольственного изобилия. Что в таком случае придает продовольственной проблеме глобальное звуч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ткрытия на стыке медицины и археологии опровергают представления о «плотоядности» наших далеких пред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двумя критериями определяются в первую очередь качество питания человека и какого рода связь существует между ни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мировым «полюсом голода « обычно считают Африку южнее Сахары, несмотря на то, что по абсолютной численности голодающих первенство удерживают страны Муссонной Аз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границы региональных типов питания не совпадают с границами отдельных государств. Какую пищу для размышлений географу дает подобная ситу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5423-0BFD-438C-842E-B42099CF73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смысл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лобальной продовольственной проблем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ется в опережающем росте численности населения по сравнению с ростом производства продуктов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8E78-D38F-42F9-9C39-6EE1D489AC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проблема обуславли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численности голодающих и недоедающих в мире, а также ухудшение психофизического состоян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антропогенной нагрузки на сельскохозяйственные ландшафты и постепенное истощение традиционных резервов аграрн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пищевого рациона в подавляющем большинстве госуда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ртывание усилий человечества в области генной инженерии для решения продовольственной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конфликтности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9F78-733E-4D7C-9234-8F59A38FCD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продовольствия обычно воспринимается как бедств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его отсутствие – как катастроф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и отсутств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ия приводят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м формам проявления продовольственного кризи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ед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ценному пит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к настоящему гол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72CA-0D0D-48D1-A689-A38721342D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Продовольственной и сельскохозяйственной организации ООН (ФАО). На планете систематически голодают около 500000000 человек. А около 1000000000 человек испытывают явный недостаток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7E74-7F85-4745-875E-5EEA46DA07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alibri"/>
              </a:rPr>
              <a:t>Источники питания в прошлом и сейча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отяжении длительной истории человечество существенно изменило свое меню. Первобытные люди питались пищей почти исключительно растительного происхождения. Важным дополнением к их вегетарианскому «столу»  служили яйца, моллюски, мелкие животные.  Постепенный переход к охоте и рыболовству знаменовал собой важный этап расширения пищевых ресурсов человечества. Со временем пища делалась более разнообразной. Стала возрастать роль животных как источников более высококачественной пищи. Возрастание в пищевом рационе доли продуктов животного происхождения характерно для процветающих в экономическом отношении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0E5B-E238-4AD0-9F4C-42D4992075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Качество питания: нормы и фа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питания человека определяется двумя главными показателями: энергетической насыщенностью и комплексностью необходимых ингредиентов (белков, жиров, витаминов, минеральных веществ)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нергетическая насыщ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ли калорийность) пищи определяется энергией, аккумулированной в пищевых продуктах: белках, жирах, углеводах. Эту энергию принято измерять в калориях (кал) или килокалориях (ккал).  Второй показатель качества питания –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ссортимент потребляемых веществ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5F8E-21FE-4CD7-A904-BF0F723BAF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Энергетическая насыщ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FEE9-EE23-4ADE-91DC-4AE83FB550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труктура питания в разных странах (1990-ег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03B4-5B2B-4365-939F-19123215B1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98F0-6DA5-4AC5-B2F5-B6819646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5AC-5BE4-4753-8291-2D80D486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6CD2-A3FE-488F-996D-4FEB9FC6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C023-CBC7-48F4-BA7F-031BAFFA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1D0-362A-4898-85DB-688CD565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30C-8B60-4244-95E1-00D349DC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EE9-8B05-4801-A1C2-6EA00D45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48E2-7233-4B38-B2B7-5B1B73E7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6B5F-1971-4D34-A7D7-61C479FE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79E-6169-4F0D-A45A-8DDF27D4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7EF3-0D1D-4B10-B6DF-F19F2E47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5C33-531E-4260-A4AF-8496965F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A933-9EDB-4F52-A11E-320658DAEDA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CCE6-49CE-4ECA-A470-8AE3FB2991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ольственная пробле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она, в которой значительная часть населения недополучает необходимое количество калорий, на мировой карте охватывает обширную территорию. Она простирается по обеим сторонам от экватора, включает почти всю Африку к югу от Сахары, Западную Азию, Южную и Юго-Восточную Азию, Карибский бассейн, основную часть Южной Америк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иболее неблагоприятное положение сложилось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странах аридных и семиаридных областе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занятых сухими саваннами и полупустынями. На этих территориях, отличающихся чрезвычайно низким агроприродным потенциалом, повышенной хрупкостью и пониженной «эластичностью» экосистем, темпы роста населения примерно в 2 раза опережают производство продовольствия, что приводит к резкому снижению подушевого показателя производства продуктов пит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айне трудная продовольственная ситуация сохраняется, с одной стороны, в крупных густонаселенных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ранах Муссонной Азии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этом наиболее ущемленными оказываются женщины и дети. В сельских районах некоторых стран Азии женщинам вообще не положено питаться вместе с мужчинами. За стол первыми садятся мужчины, а женщины и дети доедают то, что остает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ропическая Африка -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ременный «полюс голода» на планете. Продовольственное положение здесь оценивается  специалистами как критическое. Ситуация осложняется тем, что в силу чрезвычайно низких доходов около 90% жителей проживают за чертой бед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фоне рассматриваемых регионов несколько лучше питаются жители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Латинской Америки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 и здесь продовольственная проблема достаточно ост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Региональные типы пита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итании населения слаборазвитых стран, как правило, всегда доминирует какой-либо один продукт, что придает рациону однообразный характер и негативно сказывается на общем состоянии здоровья. Для зоны саванн и Сахеля в Африке наиболее характерны просяные культуры, дающие до 40-50% калорий. В пищевом рационе жителей лесной зоны африканского континента преобладают клубнеплоды – ямс, маниок, бата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Users\Public\Pictures\Sample Pictures\Desert Landscape.jpg"/>
          <p:cNvPicPr/>
          <p:nvPr/>
        </p:nvPicPr>
        <p:blipFill>
          <a:blip r:embed="rId1"/>
          <a:stretch/>
        </p:blipFill>
        <p:spPr>
          <a:xfrm>
            <a:off x="2643120" y="3500280"/>
            <a:ext cx="6000840" cy="3106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user\Desktop\Моя папочка=)))\Школа\2009-04-09, наркомания\наркомания 022.jpg"/>
          <p:cNvPicPr/>
          <p:nvPr/>
        </p:nvPicPr>
        <p:blipFill>
          <a:blip r:embed="rId2"/>
          <a:stretch/>
        </p:blipFill>
        <p:spPr>
          <a:xfrm>
            <a:off x="357120" y="3929040"/>
            <a:ext cx="1928880" cy="242892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3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00040" y="35712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user\Desktop\Моя папочка=)))\Школа\2009-04-09, наркомания\наркомания 006.jpg"/>
          <p:cNvPicPr/>
          <p:nvPr/>
        </p:nvPicPr>
        <p:blipFill>
          <a:blip r:embed="rId1"/>
          <a:stretch/>
        </p:blipFill>
        <p:spPr>
          <a:xfrm>
            <a:off x="3500280" y="3643200"/>
            <a:ext cx="5267520" cy="2814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олод и здоровье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28640" y="713880"/>
            <a:ext cx="52578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едание особенно пагубно сказывается на здоровье детей до 5 лет. Согласно результатам исследований ВОЗ, это замедляет их не только физическое, но и умственное развитие, а впоследствии отражается и на психическом состоянии. В развивающихся странах ежегодно около 100000 детей теряют зрение вследствие недостатка витамин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редко новорожденные заболевают раньше, чем появляются на свет. Причина тому – анемия у женщин во время беременности, вызываемая хроническим недоеданием и голодом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емия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ствие дефицита в пище железа и фолиевой кислоты- приводит к заметному снижению содержания гемоглобина в крови, т.е. к малокров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Аня\Мои документы\Самые простые и эффективные диеты_ - Бесплатно детям,полезно родителям_files\sm-DSCN3948.jpg"/>
          <p:cNvPicPr/>
          <p:nvPr/>
        </p:nvPicPr>
        <p:blipFill>
          <a:blip r:embed="rId1"/>
          <a:stretch/>
        </p:blipFill>
        <p:spPr>
          <a:xfrm>
            <a:off x="285840" y="1785960"/>
            <a:ext cx="3000240" cy="30718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рочный круг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нищета – плохое питание – болезни – низкая производительность труда – нищета»,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характерный для стран мировой «периферии», ведет к тому, что резко падает трудоспособность занятых в производстве людей, поскольку недоедание обессиливает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C:\Users\user\Desktop\Моя папочка=)))\Школа\2009-04-09, наркомания\наркомания 025.jpg"/>
          <p:cNvPicPr/>
          <p:nvPr/>
        </p:nvPicPr>
        <p:blipFill>
          <a:blip r:embed="rId1"/>
          <a:stretch/>
        </p:blipFill>
        <p:spPr>
          <a:xfrm>
            <a:off x="1214280" y="4572000"/>
            <a:ext cx="6534360" cy="16876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Причины голо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лема голода теснейшим образом взаимосвязана с проблемой отсталости стр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ительное влияние на масштабы голода в современном мире оказывает неконтролируемый рост населения в развивающихся стра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м непосредственным образом на продовольственном положении в развивающихся странах сказываются высокие темпы урб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 развивающегося мира занимают крайне невыгодные  позиции в рамках международных экономических отно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сбрасывать со счетов и последствия экологических кризи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1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так, реальное положение с питанием населения слаборазвитых стран свидетельствует о невероятной сложности продовольственной проблемы. Можно, конечно, рассуждать о теоретическом продовольственном потенциале Земли, об удвоении и даже утроении посевных площадей, о применении человечеством в пищу хлореллы или разведении плантаций на дне океанов… однако суровая действительность напоминает, что всё съедобное, что производит человечество, в конечном счете потребляется и при этом фактически более миллиарда людей постоянн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доедают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C:\Users\user\Desktop\Моя папочка=)))\Школа\2009-04-09, наркомания\наркомания 001.jpg"/>
          <p:cNvPicPr/>
          <p:nvPr/>
        </p:nvPicPr>
        <p:blipFill>
          <a:blip r:embed="rId1"/>
          <a:stretch/>
        </p:blipFill>
        <p:spPr>
          <a:xfrm>
            <a:off x="3429000" y="3714840"/>
            <a:ext cx="5580000" cy="2992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500040" y="642960"/>
            <a:ext cx="828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 надеяться, что человечество в обозримом будущем искоренит голод, если не научится контролировать свою численность, не решит экономические, технические и экологические вопросы модернизации сельского хозяйства. При этом  речь идет о комплексном решении все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user\Desktop\Моя папочка=)))\Школа\2009-04-09, наркомания\наркомания 016.jpg"/>
          <p:cNvPicPr/>
          <p:nvPr/>
        </p:nvPicPr>
        <p:blipFill>
          <a:blip r:embed="rId1"/>
          <a:stretch/>
        </p:blipFill>
        <p:spPr>
          <a:xfrm>
            <a:off x="1214280" y="3143160"/>
            <a:ext cx="6632640" cy="33163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пищу, используемую человеком для поддержания жизнедеятельности, считают в тоже время продуктом его общей культур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о, что многие страны Востока и Запада давно уже достигли продовольственного изобилия. Что в таком случае придает продовольственной проблеме глобальное звучан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открытия на стыке медицины и археологии опровергают представления о «плотоядности» наших далеких предко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двумя критериями определяются в первую очередь качество питания человека и какого рода связь существует между ним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мировым «полюсом голода « обычно считают Африку южнее Сахары, несмотря на то, что по абсолютной численности голодающих первенство удерживают страны Муссонной Ази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о, что границы региональных типов питания не совпадают с границами отдельных государств. Какую пищу для размышлений географу дает подобная ситуац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1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авный смысл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лобальной продовольственной проблемы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ется в опережающем росте численности населения по сравнению с ростом производства продуктов пит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обальная проблема обуславлив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численности голодающих и недоедающих в мире, а также ухудшение психофизического состояния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т антропогенной нагрузки на сельскохозяйственные ландшафты и постепенное истощение традиционных резервов аграрного сек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пищевого рациона в подавляющем большинстве государ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ертывание усилий человечества в области генной инженерии для решения продовольственной пробл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конфликтности в ми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фицит продовольствия обычно воспринимается как бедств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его отсутствие – как катастроф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статок и отсутств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вольствия приводят 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ичным формам проявления продовольственного кризис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едан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олноценному питани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к настоящему гол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C:\Users\user\Desktop\Моя папочка=)))\Школа\2009-04-09, наркомания\наркомания 021.jpg"/>
          <p:cNvPicPr/>
          <p:nvPr/>
        </p:nvPicPr>
        <p:blipFill>
          <a:blip r:embed="rId1"/>
          <a:stretch/>
        </p:blipFill>
        <p:spPr>
          <a:xfrm>
            <a:off x="428760" y="1928880"/>
            <a:ext cx="3214440" cy="32194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  <p:sndAc>
      <p:stSnd>
        <p:snd r:embed="rId2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анным Продовольственной и сельскохозяйственной организации ООН (ФАО). На планете систематически голодают около 500000000 человек. А около 1000000000 человек испытывают явный недостаток пи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99800"/>
            <a:ext cx="40402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999800"/>
            <a:ext cx="40417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7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41720" cy="394956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8" descr=""/>
          <p:cNvPicPr/>
          <p:nvPr/>
        </p:nvPicPr>
        <p:blipFill>
          <a:blip r:embed="rId2"/>
          <a:stretch/>
        </p:blipFill>
        <p:spPr>
          <a:xfrm>
            <a:off x="4645080" y="2176560"/>
            <a:ext cx="4041720" cy="39495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Источники питания в прошлом и сейча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ротяжении длительной истории человечество существенно изменило свое меню. Первобытные люди питались пищей почти исключительно растительного происхождения. Важным дополнением к их вегетарианскому «столу»  служили яйца, моллюски, мелкие животные.  Постепенный переход к охоте и рыболовству знаменовал собой важный этап расширения пищевых ресурсов человечества. Со временем пища делалась более разнообразной. Стала возрастать роль животных как источников более высококачественной пищи. Возрастание в пищевом рационе доли продуктов животного происхождения характерно для процветающих в экономическом отношении государ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Качество питания: нормы и фак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чество питания человека определяется двумя главными показателями: энергетической насыщенностью и комплексностью необходимых ингредиентов (белков, жиров, витаминов, минеральных веществ)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Энергетическая насыщеннос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или калорийность) пищи определяется энергией, аккумулированной в пищевых продуктах: белках, жирах, углеводах. Эту энергию принято измерять в калориях (кал) или килокалориях (ккал).  Второй показатель качества питания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ссортимент потребляемых веществ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Энергетическая насыщенно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Аня\Рабочий стол\l001.jpg"/>
          <p:cNvPicPr/>
          <p:nvPr/>
        </p:nvPicPr>
        <p:blipFill>
          <a:blip r:embed="rId1"/>
          <a:stretch/>
        </p:blipFill>
        <p:spPr>
          <a:xfrm>
            <a:off x="1071720" y="714240"/>
            <a:ext cx="650052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Структура питания в разных странах (1990-егг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Аня\Рабочий стол\l002.jpg"/>
          <p:cNvPicPr/>
          <p:nvPr/>
        </p:nvPicPr>
        <p:blipFill>
          <a:blip r:embed="rId1"/>
          <a:stretch/>
        </p:blipFill>
        <p:spPr>
          <a:xfrm>
            <a:off x="1143000" y="1000080"/>
            <a:ext cx="707220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LEGION</cp:lastModifiedBy>
  <dcterms:modified xsi:type="dcterms:W3CDTF">2015-05-06T08:40:33Z</dcterms:modified>
  <cp:revision>23</cp:revision>
  <dc:subject/>
  <dc:title>Продовольственная проблема</dc:title>
</cp:coreProperties>
</file>