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4.png" ContentType="image/png"/>
  <Override PartName="/ppt/media/image1.jpeg" ContentType="image/jpeg"/>
  <Override PartName="/ppt/media/wind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A534-9B74-4F02-A4AB-36D1DAC970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B354-E5C5-4F9D-A1EE-CE6D3F5D27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26CB-5291-4664-AB28-F0AACCB10B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79A7-7294-4C8B-9833-D78E5FCAF1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5A3E-060A-46A8-835E-56F629D499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AECA-8E81-4EC2-A1BC-6251AD11C6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78F4-1E2B-4BFB-B7E8-64B3E50EA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AE21-5AEE-4E16-98D0-CA200CD2B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7A5D-C9F9-4765-AE21-9B5F57804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1C84-81C1-4DC6-A978-801B95E921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D922-AA1C-4623-B72B-13858773E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DD0E-492C-4901-9FAD-6D9A8534FB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7713-7149-41BA-8EB7-9052ABDB97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0735-247A-4D7E-8BEA-1C98D124FF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7511-64A3-4E51-8E06-1CB195E169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6781-6DCA-42D8-9D5A-91B9D8B30A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8890-30B4-4F5A-9C63-44803A4391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423D-EA2D-4E2D-800C-A556E60DF8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8232-7446-4CA4-9C6D-57C147FF85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62D3-2EA1-4713-BCBD-445B75E19D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2460-29DE-49C7-BD53-201144CA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45AD-6CB9-45C5-BD49-49DFA70D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2565-6C8E-4D86-BEE0-6BB6DD76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58D-3337-4194-8AEB-D5031C41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D1E-8CB5-4109-89D9-A600FCE3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1C3-F88F-43A1-9FE0-A5F50FAF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E36-8F48-432A-A0DA-FF64E5AC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A24E-30D7-439F-8E23-D4CB9F70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E7A-C2D9-439C-A908-9C46A0B2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1B7-6195-4720-94D8-956F891E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CE4-5E59-4161-AA34-03A8DE86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A21-9FC1-4421-8D86-D9383E3E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E0C7-D6C2-4B6A-9A91-32E68E8D708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AA26-3D05-4F4F-A4C4-F033FEBC74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Users\Public\Pictures\Sample Pictures\Desert Landscape.jpg"/>
          <p:cNvPicPr/>
          <p:nvPr/>
        </p:nvPicPr>
        <p:blipFill>
          <a:blip r:embed="rId1"/>
          <a:stretch/>
        </p:blipFill>
        <p:spPr>
          <a:xfrm>
            <a:off x="2643120" y="3500280"/>
            <a:ext cx="6000840" cy="3106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user\Desktop\Моя папочка=)))\Школа\2009-04-09, наркомания\наркомания 022.jpg"/>
          <p:cNvPicPr/>
          <p:nvPr/>
        </p:nvPicPr>
        <p:blipFill>
          <a:blip r:embed="rId2"/>
          <a:stretch/>
        </p:blipFill>
        <p:spPr>
          <a:xfrm>
            <a:off x="357120" y="3929040"/>
            <a:ext cx="1928880" cy="242892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3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00040" y="35712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user\Desktop\Моя папочка=)))\Школа\2009-04-09, наркомания\наркомания 006.jpg"/>
          <p:cNvPicPr/>
          <p:nvPr/>
        </p:nvPicPr>
        <p:blipFill>
          <a:blip r:embed="rId1"/>
          <a:stretch/>
        </p:blipFill>
        <p:spPr>
          <a:xfrm>
            <a:off x="3500280" y="3643200"/>
            <a:ext cx="5267520" cy="2814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олод и здоровье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28640" y="713880"/>
            <a:ext cx="52578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едание особенно пагубно сказывается на здоровье детей до 5 лет. Согласно результатам исследований ВОЗ, это замедляет их не только физическое, но и умственное развитие, а впоследствии отражается и на психическом состоянии. В развивающихся странах ежегодно около 100000 детей теряют зрение вследствие недостатка витамин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редко новорожденные заболевают раньше, чем появляются на свет. Причина тому – анемия у женщин во время беременности, вызываемая хроническим недоеданием и голодом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емия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ствие дефицита в пище железа и фолиевой кислоты- приводит к заметному снижению содержания гемоглобина в крови, т.е. к малокров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Аня\Мои документы\Самые простые и эффективные диеты_ - Бесплатно детям,полезно родителям_files\sm-DSCN3948.jpg"/>
          <p:cNvPicPr/>
          <p:nvPr/>
        </p:nvPicPr>
        <p:blipFill>
          <a:blip r:embed="rId1"/>
          <a:stretch/>
        </p:blipFill>
        <p:spPr>
          <a:xfrm>
            <a:off x="285840" y="1785960"/>
            <a:ext cx="3000240" cy="3071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Users\user\Desktop\Моя папочка=)))\Школа\2009-04-09, наркомания\наркомания 025.jpg"/>
          <p:cNvPicPr/>
          <p:nvPr/>
        </p:nvPicPr>
        <p:blipFill>
          <a:blip r:embed="rId1"/>
          <a:stretch/>
        </p:blipFill>
        <p:spPr>
          <a:xfrm>
            <a:off x="1214280" y="4572000"/>
            <a:ext cx="6534360" cy="16876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1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user\Desktop\Моя папочка=)))\Школа\2009-04-09, наркомания\наркомания 001.jpg"/>
          <p:cNvPicPr/>
          <p:nvPr/>
        </p:nvPicPr>
        <p:blipFill>
          <a:blip r:embed="rId1"/>
          <a:stretch/>
        </p:blipFill>
        <p:spPr>
          <a:xfrm>
            <a:off x="3429000" y="3714840"/>
            <a:ext cx="5580000" cy="2992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500040" y="64296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user\Desktop\Моя папочка=)))\Школа\2009-04-09, наркомания\наркомания 016.jpg"/>
          <p:cNvPicPr/>
          <p:nvPr/>
        </p:nvPicPr>
        <p:blipFill>
          <a:blip r:embed="rId1"/>
          <a:stretch/>
        </p:blipFill>
        <p:spPr>
          <a:xfrm>
            <a:off x="1214280" y="3143160"/>
            <a:ext cx="6632640" cy="33163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Users\user\Desktop\Моя папочка=)))\Школа\2009-04-09, наркомания\наркомания 021.jpg"/>
          <p:cNvPicPr/>
          <p:nvPr/>
        </p:nvPicPr>
        <p:blipFill>
          <a:blip r:embed="rId1"/>
          <a:stretch/>
        </p:blipFill>
        <p:spPr>
          <a:xfrm>
            <a:off x="428760" y="1928880"/>
            <a:ext cx="321444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99800"/>
            <a:ext cx="40402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999800"/>
            <a:ext cx="40417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7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41720" cy="394956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8" descr=""/>
          <p:cNvPicPr/>
          <p:nvPr/>
        </p:nvPicPr>
        <p:blipFill>
          <a:blip r:embed="rId2"/>
          <a:stretch/>
        </p:blipFill>
        <p:spPr>
          <a:xfrm>
            <a:off x="4645080" y="2176560"/>
            <a:ext cx="4041720" cy="39495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Аня\Рабочий стол\l001.jpg"/>
          <p:cNvPicPr/>
          <p:nvPr/>
        </p:nvPicPr>
        <p:blipFill>
          <a:blip r:embed="rId1"/>
          <a:stretch/>
        </p:blipFill>
        <p:spPr>
          <a:xfrm>
            <a:off x="1071720" y="714240"/>
            <a:ext cx="650052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Аня\Рабочий стол\l002.jpg"/>
          <p:cNvPicPr/>
          <p:nvPr/>
        </p:nvPicPr>
        <p:blipFill>
          <a:blip r:embed="rId1"/>
          <a:stretch/>
        </p:blipFill>
        <p:spPr>
          <a:xfrm>
            <a:off x="1143000" y="1000080"/>
            <a:ext cx="707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LEGION</cp:lastModifiedBy>
  <dcterms:modified xsi:type="dcterms:W3CDTF">2015-05-06T08:40:33Z</dcterms:modified>
  <cp:revision>23</cp:revision>
  <dc:subject/>
  <dc:title>Продовольственная проблема</dc:title>
</cp:coreProperties>
</file>