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18.gif" ContentType="image/gif"/>
  <Override PartName="/ppt/media/image13.jpeg" ContentType="image/jpeg"/>
  <Override PartName="/ppt/media/image20.gif" ContentType="image/gif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27.jpeg" ContentType="image/jpeg"/>
  <Override PartName="/ppt/media/image7.png" ContentType="image/png"/>
  <Override PartName="/ppt/media/image8.gif" ContentType="image/gif"/>
  <Override PartName="/ppt/media/image6.gif" ContentType="image/gif"/>
  <Override PartName="/ppt/media/image9.png" ContentType="image/png"/>
  <Override PartName="/ppt/media/image1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.png" ContentType="image/png"/>
  <Override PartName="/ppt/media/image25.jpeg" ContentType="image/jpeg"/>
  <Override PartName="/ppt/media/image1.png" ContentType="image/png"/>
  <Override PartName="/ppt/media/image2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9.png" ContentType="image/png"/>
  <Override PartName="/ppt/media/image22.png" ContentType="image/png"/>
  <Override PartName="/ppt/media/image24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04A1-4C46-44F6-A362-2D32BAEFEB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Классный час на тем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вы могли бы сделать «здесь и сейчас» для улучшения окружающей жизни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2D09-06EE-47FE-ABA5-0DDE052E81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пробл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грязнени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ничтожение л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грязнение возду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ушение, истощение зем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CC14-E05D-47C9-8718-F5C2B3D3C9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линная перспектива выхода из экологического кризиса – в изменении производственной деятельности человека, его образа жизни, его сознания. Научно-технический прогресс создаёт не только перегрузки для природы, но и  даёт средства предотвращения негативных воздействий, создаёт возможности экологически чистого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8F57-68B5-4F01-BE2D-D5E1788AF0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5252-1AD3-4AD6-B3BD-CA164D4EB6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Я час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рир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чтобы изменить её к лучшему нужно в первую очеред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зменить себя в лучшую сторону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ь человек с добрыми намерениями стремиться к лучшему и никогда не сделает плохо окружающему миру, так как этот мир даёт ему счастье, радость, здоровье, благополучие. Значит 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я люблю и берегу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без чего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моя жизнь невозмо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A164-E971-40C4-9F8D-9394991321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E1F4-9176-4454-BFCF-638CC14195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ы можем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что-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изменения окружающей жизн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 можем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десь и сейча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имеется ввиду в настоящий момент, пока мы реально существуе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ожем ли мы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это для улучшения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ей жизн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CE63-1420-4375-9016-DE601C0464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жиз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(среда обит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стра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творный мир(сделано руками 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3D25-314B-4528-AF6C-D71823F946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5F2E-7E49-43A6-8479-AD7415A183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ЭКОЛОГИЯ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, это слово происходит от греческих слов «ойкос» - дом и «логос» - учение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– наука о месте обитания , об окружающей среде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0EEB-F6AA-4F94-BA80-E0410A4A15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проблем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грязнение вод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ничтожение лесов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грязнение воздуха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еградация земель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D5C7-8F88-4025-A7D7-317711D004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ая ситуация в России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асывается 184тонны загрязненной вод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опылевые выбросы составляют 0,48 тонн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ждого жителя России ежегодно добывается примерно 42 тонны горной массы , из них 13 тонн идёт в отвал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в России сгорает от 1 до 7 млн. га лесов , 80 % лесных пожаров происходят по вине человек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655C-CBF4-4ABA-B18A-6903642A27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общей жизни зёрн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судьбы родня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ировать позор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чёт будущего дня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10EB-CC38-4E0B-ACE6-79E746C71A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Franklin Gothic Book"/>
              </a:rPr>
              <a:t>Лес    да     растения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7CCE-8DDB-4E99-85BA-FD8E04D578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ете ли вы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га брошенная вами , будет лежать более двух лет , консервные банки – более тридцати лет , полиэтиленовый пакет – более двухсот лет , а стекло – 1000 лет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8CA-23B7-459E-ABFC-5D83D2EB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BAFD-19F9-41B0-AD21-B53133FC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A7B-FFF7-4E32-9640-A1353B45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1AD5-DDB9-4EFC-8B26-92F9AFFB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18E9-285F-4ECD-9D3E-70B47EAB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F458-0EDD-4ADC-A49E-34A16C53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4963-68EB-47A5-89A1-A288BCA8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C779-9C15-443D-A411-25B797CC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4804-A903-4D81-AEBC-68B6BCE5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D905-E513-4F5A-A64F-FB71ECB2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8F81-84EB-4337-916C-5F301761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40B5-3B5B-436D-BB6C-A521F90B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B4FE-0C0B-4650-9CB4-7C8A2074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B04A-7A9E-49F2-BCBD-DFC903B2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888A-929C-43B8-BC7E-8571F7FF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2B0A-AD69-45D5-B721-B3D326F5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6AD2-B992-42ED-AFFD-FBF404D0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EF9-1E55-4067-BCE7-661688F7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054-A790-4132-A17F-6411D6CD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D874-077F-4CCF-B05B-05E20096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528C-8FAB-40E9-B9E6-81B93D3A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6858-494D-4003-8314-F28AE634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1C7-D326-4F45-B16E-FDB84B7F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64FF-1AEF-4B38-841B-57772FEA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E8A4-AFB2-4107-9199-DCC6B1F10F4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2C1A-23E6-48E0-A360-C05E36516E1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1214280" y="1357200"/>
            <a:ext cx="7704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лассный час на тем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Что вы могли бы сделать «здесь и сейчас» для улучшения окружающей жизни»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287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691920"/>
            <a:ext cx="40384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е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Уничтожение л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зд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зрушение, истощение зем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линная перспектива выхода из экологического кризиса – в изменении производственной деятельности человека, его образа жизни, его сознания. Научно-технический прогресс создаёт не только перегрузки для природы, но и  даёт средства предотвращения негативных воздействий, создаёт возможности экологически чист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E:\экология\fon lend .jpg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3927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468360" y="404640"/>
            <a:ext cx="799128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марта - Всемирный день во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539640" y="1628640"/>
            <a:ext cx="7989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апреля - Международный день пти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539640" y="3068640"/>
            <a:ext cx="7993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апреля - День Земли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684360" y="4221000"/>
            <a:ext cx="23749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июня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611280" y="5373720"/>
            <a:ext cx="83534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мирный день окружающей сре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10" descr="038_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сини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029_14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098_184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93680" y="1203120"/>
            <a:ext cx="80503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ча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р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чтобы изменить её к лучшему нужно в первую очеред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зменить себя в лучшую сторону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 человек с добрыми намерениями стремиться к лучшему и никогда не сделает плохо окружающему миру, так как этот мир даёт ему счастье, радость, здоровье, благополучие. Значит 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люблю и берегу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, без чег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я жизнь невозмо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:\Школьная\Рамки\мультяш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WordArt 4" descr="Частый вертикальный"/>
          <p:cNvPicPr/>
          <p:nvPr/>
        </p:nvPicPr>
        <p:blipFill>
          <a:blip r:embed="rId2"/>
          <a:stretch/>
        </p:blipFill>
        <p:spPr>
          <a:xfrm>
            <a:off x="1432080" y="1352520"/>
            <a:ext cx="5657760" cy="31892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99680" y="1214280"/>
            <a:ext cx="8643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ы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то-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ля изменения 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А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десь и сейча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имеется ввиду в настоящий момент, пока мы реально существуе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ожем ли мы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то для улучшени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4786200" y="1785960"/>
            <a:ext cx="78588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5072040" y="3357720"/>
            <a:ext cx="91440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4500720" y="4500720"/>
            <a:ext cx="1000080" cy="71424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ружающая жиз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а(среда обит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е простр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творный мир(сделано руками челов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Управляющая кнопка: фильм 3"/>
          <p:cNvSpPr/>
          <p:nvPr/>
        </p:nvSpPr>
        <p:spPr>
          <a:xfrm>
            <a:off x="214200" y="5929200"/>
            <a:ext cx="785880" cy="71460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3753" h="21600">
                <a:moveTo>
                  <a:pt x="0" y="0"/>
                </a:moveTo>
                <a:lnTo>
                  <a:pt x="23753" y="0"/>
                </a:lnTo>
                <a:lnTo>
                  <a:pt x="23753" y="21600"/>
                </a:lnTo>
                <a:lnTo>
                  <a:pt x="0" y="21600"/>
                </a:lnTo>
                <a:close/>
              </a:path>
              <a:path fill="lightenLess" w="23753" h="21600">
                <a:moveTo>
                  <a:pt x="0" y="0"/>
                </a:moveTo>
                <a:lnTo>
                  <a:pt x="23753" y="0"/>
                </a:lnTo>
                <a:lnTo>
                  <a:pt x="22353" y="1400"/>
                </a:lnTo>
                <a:lnTo>
                  <a:pt x="1400" y="1400"/>
                </a:lnTo>
                <a:close/>
              </a:path>
              <a:path fill="darken" w="23753" h="21600">
                <a:moveTo>
                  <a:pt x="23753" y="0"/>
                </a:moveTo>
                <a:lnTo>
                  <a:pt x="23753" y="21600"/>
                </a:lnTo>
                <a:lnTo>
                  <a:pt x="22353" y="20200"/>
                </a:lnTo>
                <a:lnTo>
                  <a:pt x="22353" y="1400"/>
                </a:lnTo>
                <a:close/>
              </a:path>
              <a:path fill="darkenLess" w="23753" h="21600">
                <a:moveTo>
                  <a:pt x="23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3" y="20200"/>
                </a:lnTo>
                <a:close/>
              </a:path>
              <a:path fill="lighten" w="23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3" h="21600">
                <a:moveTo>
                  <a:pt x="4870" y="7301"/>
                </a:moveTo>
                <a:lnTo>
                  <a:pt x="5784" y="7301"/>
                </a:lnTo>
                <a:lnTo>
                  <a:pt x="6167" y="7667"/>
                </a:lnTo>
                <a:lnTo>
                  <a:pt x="15376" y="7667"/>
                </a:lnTo>
                <a:lnTo>
                  <a:pt x="15933" y="8224"/>
                </a:lnTo>
                <a:lnTo>
                  <a:pt x="15933" y="8772"/>
                </a:lnTo>
                <a:lnTo>
                  <a:pt x="17778" y="8772"/>
                </a:lnTo>
                <a:lnTo>
                  <a:pt x="18143" y="8224"/>
                </a:lnTo>
                <a:lnTo>
                  <a:pt x="18883" y="8224"/>
                </a:lnTo>
                <a:lnTo>
                  <a:pt x="18883" y="13376"/>
                </a:lnTo>
                <a:lnTo>
                  <a:pt x="18143" y="13376"/>
                </a:lnTo>
                <a:lnTo>
                  <a:pt x="17778" y="12828"/>
                </a:lnTo>
                <a:lnTo>
                  <a:pt x="15933" y="12828"/>
                </a:lnTo>
                <a:lnTo>
                  <a:pt x="15933" y="14107"/>
                </a:lnTo>
                <a:lnTo>
                  <a:pt x="6350" y="14107"/>
                </a:lnTo>
                <a:lnTo>
                  <a:pt x="6350" y="9877"/>
                </a:lnTo>
                <a:lnTo>
                  <a:pt x="6167" y="9877"/>
                </a:lnTo>
                <a:lnTo>
                  <a:pt x="5784" y="10243"/>
                </a:lnTo>
                <a:lnTo>
                  <a:pt x="4870" y="10243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ЭКОЛОГИЯ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000" y="2636640"/>
            <a:ext cx="800244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, это слово происходит от греческих слов «ойкос» - дом и «логос» - учение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– наука о месте обитания , об окружающей среде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ие проблемы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58920" y="234936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д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Уничтожение лесов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здуха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еградация земель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Ахтубинское водохранилищ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отражени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Дно бывшего озер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логическая ситуация в России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расывается 184тонны загрязненной вод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зопылевые выбросы составляют 0,48 тонн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ждого жителя России ежегодно добывается примерно 42 тонны горной массы , из них 13 тонн идёт в отвал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жегодно в России сгорает от 1 до 7 млн. га лесов , 80 % лесных пожаров происходят по вине человек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гибе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Небо и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755387_2005051710263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28400" y="1500120"/>
            <a:ext cx="72831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общей жизни зёрн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й судьбы родня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пировать позор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чёт будущего дн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Utilisation_Ramc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Небо и земля"/>
          <p:cNvPicPr/>
          <p:nvPr/>
        </p:nvPicPr>
        <p:blipFill>
          <a:blip r:embed="rId2"/>
          <a:stretch/>
        </p:blipFill>
        <p:spPr>
          <a:xfrm>
            <a:off x="500040" y="3786120"/>
            <a:ext cx="3333600" cy="25005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3909960" y="3786120"/>
            <a:ext cx="523404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ймите, это люди 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то Земли не будет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аждого из нас 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C:\Documents and Settings\Admin\Рабочий стол\1250606523_bestgif.narod.ru_1310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37" name="WordArt 4"/>
          <p:cNvSpPr txBox="1"/>
          <p:nvPr/>
        </p:nvSpPr>
        <p:spPr>
          <a:xfrm>
            <a:off x="250920" y="549360"/>
            <a:ext cx="6892920" cy="13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Book"/>
              </a:rPr>
              <a:t>Лес    да     растения -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Book"/>
              <a:ea typeface="Franklin Gothic Book"/>
            </a:endParaRPr>
          </a:p>
        </p:txBody>
      </p:sp>
      <p:pic>
        <p:nvPicPr>
          <p:cNvPr id="138" name="WordArt 5" descr=""/>
          <p:cNvPicPr/>
          <p:nvPr/>
        </p:nvPicPr>
        <p:blipFill>
          <a:blip r:embed="rId2"/>
          <a:stretch/>
        </p:blipFill>
        <p:spPr>
          <a:xfrm>
            <a:off x="2346480" y="1962000"/>
            <a:ext cx="6711840" cy="1195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AN044"/>
          <p:cNvPicPr/>
          <p:nvPr/>
        </p:nvPicPr>
        <p:blipFill>
          <a:blip r:embed="rId3"/>
          <a:stretch/>
        </p:blipFill>
        <p:spPr>
          <a:xfrm flipH="1">
            <a:off x="-973440" y="1773360"/>
            <a:ext cx="2663640" cy="216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C:\Documents and Settings\Admin\Мои документы\картинки\Животный мир\Медведи\Звери (29).gif"/>
          <p:cNvPicPr/>
          <p:nvPr/>
        </p:nvPicPr>
        <p:blipFill>
          <a:blip r:embed="rId4"/>
          <a:stretch/>
        </p:blipFill>
        <p:spPr>
          <a:xfrm>
            <a:off x="5435640" y="4869000"/>
            <a:ext cx="1731960" cy="1989000"/>
          </a:xfrm>
          <a:prstGeom prst="rect">
            <a:avLst/>
          </a:prstGeom>
          <a:ln w="0">
            <a:noFill/>
          </a:ln>
        </p:spPr>
      </p:pic>
      <p:pic>
        <p:nvPicPr>
          <p:cNvPr id="141" name="10-Дождь.mp3" descr=""/>
          <p:cNvPicPr/>
          <p:nvPr/>
        </p:nvPicPr>
        <p:blipFill>
          <a:blip r:embed="rId5"/>
          <a:stretch/>
        </p:blipFill>
        <p:spPr>
          <a:xfrm>
            <a:off x="53964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ете ли вы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мага брошенная вами , будет лежать более двух лет , консервные банки – более тридцати лет , полиэтиленовый пакет – более двухсот лет , а стекло – 1000 лет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глобус 4"/>
          <p:cNvPicPr/>
          <p:nvPr/>
        </p:nvPicPr>
        <p:blipFill>
          <a:blip r:embed="rId1"/>
          <a:stretch/>
        </p:blipFill>
        <p:spPr>
          <a:xfrm>
            <a:off x="6659640" y="4697280"/>
            <a:ext cx="230508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48:40Z</dcterms:created>
  <dc:creator>User</dc:creator>
  <dc:description/>
  <dc:language>en-US</dc:language>
  <cp:lastModifiedBy>LEGION</cp:lastModifiedBy>
  <dcterms:modified xsi:type="dcterms:W3CDTF">2015-05-06T08:41:10Z</dcterms:modified>
  <cp:revision>52</cp:revision>
  <dc:subject/>
  <dc:title>Классный час на тему «Что вы могли бы сделать «здесь и сейчас» для улучшения окружающей жизни»</dc:title>
</cp:coreProperties>
</file>