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18.gif" ContentType="image/gif"/>
  <Override PartName="/ppt/media/image13.jpeg" ContentType="image/jpeg"/>
  <Override PartName="/ppt/media/image20.gif" ContentType="image/gif"/>
  <Override PartName="/ppt/media/image5.png" ContentType="image/png"/>
  <Override PartName="/ppt/media/image29.jpeg" ContentType="image/jpeg"/>
  <Override PartName="/ppt/media/image30.png" ContentType="image/png"/>
  <Override PartName="/ppt/media/image10.png" ContentType="image/png"/>
  <Override PartName="/ppt/media/image27.jpeg" ContentType="image/jpeg"/>
  <Override PartName="/ppt/media/image7.png" ContentType="image/png"/>
  <Override PartName="/ppt/media/image8.gif" ContentType="image/gif"/>
  <Override PartName="/ppt/media/image6.gif" ContentType="image/gif"/>
  <Override PartName="/ppt/media/image9.png" ContentType="image/png"/>
  <Override PartName="/ppt/media/image11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3.gif" ContentType="image/gif"/>
  <Override PartName="/ppt/media/image2.png" ContentType="image/png"/>
  <Override PartName="/ppt/media/image25.jpeg" ContentType="image/jpeg"/>
  <Override PartName="/ppt/media/image1.png" ContentType="image/png"/>
  <Override PartName="/ppt/media/image21.gif" ContentType="image/gif"/>
  <Override PartName="/ppt/media/image14.jpeg" ContentType="image/jpeg"/>
  <Override PartName="/ppt/media/image15.jpeg" ContentType="image/jpeg"/>
  <Override PartName="/ppt/media/image16.jpeg" ContentType="image/jpeg"/>
  <Override PartName="/ppt/media/image19.png" ContentType="image/png"/>
  <Override PartName="/ppt/media/image22.png" ContentType="image/png"/>
  <Override PartName="/ppt/media/image24.jpeg" ContentType="image/jpe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0E50-56CE-4A96-935D-C43231566A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Классный час на тем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вы могли бы сделать «здесь и сейчас» для улучшения окружающей жизни»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BA8C-06B3-4DFB-B496-BBDCAC0855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ре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е пробл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Загрязнение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Уничтожение ле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Загрязнение возду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зрушение, истощение зем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B4D1-4463-4DD0-875F-C26AC8A7FC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линная перспектива выхода из экологического кризиса – в изменении производственной деятельности человека, его образа жизни, его сознания. Научно-технический прогресс создаёт не только перегрузки для природы, но и  даёт средства предотвращения негативных воздействий, создаёт возможности экологически чистого производ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622D-6D06-45F3-926A-6C9A5676A0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EDF0-AB3A-4FF5-9DB0-B98B780280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Я часть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й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риро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чтобы изменить её к лучшему нужно в первую очередь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изменить себя в лучшую сторону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ь человек с добрыми намерениями стремиться к лучшему и никогда не сделает плохо окружающему миру, так как этот мир даёт ему счастье, радость, здоровье, благополучие. Значит ,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я люблю и берегу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, без чего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моя жизнь невозмож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F93C-7D21-478E-90CB-A8BE594FE1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1E3B-06B9-46B8-9ED0-845862C50C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Мы можем сделать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что-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изменения окружающей жизн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 можем сделать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десь и сейча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имеется ввиду в настоящий момент, пока мы реально существуем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Можем ли мы сделать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это для улучшения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ей жизн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9F59-67E7-4DD3-A0DB-E77E1AF8E9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ая жиз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(среда обита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простран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творный мир(сделано руками чело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A1BF-64A0-405E-9120-DCDEF5377E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B8C1-EC39-4743-8910-760B7D2096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ЭКОЛОГИЯ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, это слово происходит от греческих слов «ойкос» - дом и «логос» - учение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– наука о месте обитания , об окружающей среде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48C4-83F5-4D8B-B2A0-7E4FA4D0EC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е проблем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грязнение вод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ничтожение лесов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грязнение воздуха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еградация земель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6625-01DE-4F99-B253-13D950CB0F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логическая ситуация в России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расывается 184тонны загрязненной вод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зопылевые выбросы составляют 0,48 тонн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аждого жителя России ежегодно добывается примерно 42 тонны горной массы , из них 13 тонн идёт в отвал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годно в России сгорает от 1 до 7 млн. га лесов , 80 % лесных пожаров происходят по вине человека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1EC8-2316-4301-868D-0914B99F1F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общей жизни зёрна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й судьбы родня 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пировать позор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чёт будущего дня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9F3A-7F1E-4DDF-8F9E-F3D160B571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00"/>
                </a:solidFill>
                <a:latin typeface="Franklin Gothic Book"/>
              </a:rPr>
              <a:t>Лес    да     растения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1582-8462-49F5-A740-EBF5F43293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ете ли вы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мага брошенная вами , будет лежать более двух лет , консервные банки – более тридцати лет , полиэтиленовый пакет – более двухсот лет , а стекло – 1000 лет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1CEE-0DFC-4BEB-9E15-986E4895F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B788-0D3F-40D6-A6B3-D422A385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56B9-DCEB-451A-A6BE-C04137A6A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7B3D-A60B-457D-B288-9315A457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8E9C-72AA-419B-AE03-3A84D67F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8FD2-EF40-45EA-844C-6961350B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BFF0-A9F3-4CC5-A742-AFB655A4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40D2-8805-48A5-BA04-170C1CFC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0F80-6B3D-4B07-A970-E765D264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69FA-93E0-4AA8-9AF7-B943EB16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4836-AE8B-4FC5-BA46-F65123AE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5CBA-F868-428B-B4BB-318A38D0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B664-BEDE-41D7-9FFC-ED529676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3F66-3559-47BD-8EDE-7850F870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CCA7-CEE4-42D2-9BA8-6B53553E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71B8-329D-4632-B9A1-8F74E3BB0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3F82-57D3-4F7E-A27D-A9CC129A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895A-3575-4A61-85BE-CA60F7B7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8A83-84C5-4701-9A26-7E03733D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7DD9-7EC4-470D-B9B3-FB3F23DD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A8A1-D7E6-42B5-BFAC-19151CCB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1FBF-0EEC-4E80-9708-46365302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2556-0BFB-447E-ABEE-80EB2810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8487-3F0F-42DE-A8F9-50CB33A8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0A07-6C55-45CA-8F46-E9B774BA7C5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8D2E-5F4A-40BF-A0B2-40E770094B8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3"/>
          <p:cNvSpPr/>
          <p:nvPr/>
        </p:nvSpPr>
        <p:spPr>
          <a:xfrm>
            <a:off x="1214280" y="1357200"/>
            <a:ext cx="770436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лассный час на тем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Что вы могли бы сделать «здесь и сейчас» для улучшения окружающей жизни»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2876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ти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8320" y="691920"/>
            <a:ext cx="403848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логические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Загрязнение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Уничтожение ле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Загрязнение возду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Разрушение, истощение зем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линная перспектива выхода из экологического кризиса – в изменении производственной деятельности человека, его образа жизни, его сознания. Научно-технический прогресс создаёт не только перегрузки для природы, но и  даёт средства предотвращения негативных воздействий, создаёт возможности экологически чистого производ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E:\экология\fon lend .jpg"/>
          <p:cNvPicPr/>
          <p:nvPr/>
        </p:nvPicPr>
        <p:blipFill>
          <a:blip r:embed="rId1"/>
          <a:stretch/>
        </p:blipFill>
        <p:spPr>
          <a:xfrm>
            <a:off x="4648320" y="1557360"/>
            <a:ext cx="4038480" cy="43927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4"/>
          <p:cNvSpPr txBox="1"/>
          <p:nvPr/>
        </p:nvSpPr>
        <p:spPr>
          <a:xfrm>
            <a:off x="468360" y="404640"/>
            <a:ext cx="799128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 марта - Всемирный день воды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539640" y="1628640"/>
            <a:ext cx="79898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апреля - Международный день птиц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539640" y="3068640"/>
            <a:ext cx="799308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 апреля - День Земли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684360" y="4221000"/>
            <a:ext cx="237492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 июня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WordArt 9"/>
          <p:cNvSpPr txBox="1"/>
          <p:nvPr/>
        </p:nvSpPr>
        <p:spPr>
          <a:xfrm>
            <a:off x="611280" y="5373720"/>
            <a:ext cx="835344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емирный день окружающей среды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Picture 10" descr="038_1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синич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029_146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098_184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093680" y="1203120"/>
            <a:ext cx="80503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Я час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й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ирод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чтобы изменить её к лучшему нужно в первую очеред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зменить себя в лучшую сторону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дь человек с добрыми намерениями стремиться к лучшему и никогда не сделает плохо окружающему миру, так как этот мир даёт ему счастье, радость, здоровье, благополучие. Значит ,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я люблю и берегу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, без чего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оя жизнь невозмож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D:\Школьная\Рамки\мультяшк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WordArt 4" descr="Частый вертикальный"/>
          <p:cNvPicPr/>
          <p:nvPr/>
        </p:nvPicPr>
        <p:blipFill>
          <a:blip r:embed="rId2"/>
          <a:stretch/>
        </p:blipFill>
        <p:spPr>
          <a:xfrm>
            <a:off x="1432080" y="1352520"/>
            <a:ext cx="5657760" cy="31892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99680" y="1214280"/>
            <a:ext cx="86439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Мы можем сделат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что-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ля изменения окружающей жизн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А можем сделат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десь и сейча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имеется ввиду в настоящий момент, пока мы реально существуе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Можем ли мы сделат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это для улучшения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ающей жизн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4786200" y="1785960"/>
            <a:ext cx="785880" cy="571320"/>
          </a:xfrm>
          <a:prstGeom prst="rect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5072040" y="3357720"/>
            <a:ext cx="914400" cy="571320"/>
          </a:xfrm>
          <a:prstGeom prst="rect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Прямоугольник 5"/>
          <p:cNvSpPr/>
          <p:nvPr/>
        </p:nvSpPr>
        <p:spPr>
          <a:xfrm>
            <a:off x="4500720" y="4500720"/>
            <a:ext cx="1000080" cy="714240"/>
          </a:xfrm>
          <a:prstGeom prst="rect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кружающая жизн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рода(среда обита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ое простра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котворный мир(сделано руками челове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Управляющая кнопка: фильм 3"/>
          <p:cNvSpPr/>
          <p:nvPr/>
        </p:nvSpPr>
        <p:spPr>
          <a:xfrm>
            <a:off x="214200" y="5929200"/>
            <a:ext cx="785880" cy="714600"/>
          </a:xfrm>
          <a:custGeom>
            <a:avLst/>
            <a:gdLst>
              <a:gd name="textAreaLeft" fmla="*/ 46080 w 785880"/>
              <a:gd name="textAreaRight" fmla="*/ 739800 w 785880"/>
              <a:gd name="textAreaTop" fmla="*/ 46080 h 714600"/>
              <a:gd name="textAreaBottom" fmla="*/ 668520 h 714600"/>
            </a:gdLst>
            <a:ahLst/>
            <a:rect l="textAreaLeft" t="textAreaTop" r="textAreaRight" b="textAreaBottom"/>
            <a:pathLst>
              <a:path w="23753" h="21600">
                <a:moveTo>
                  <a:pt x="0" y="0"/>
                </a:moveTo>
                <a:lnTo>
                  <a:pt x="23753" y="0"/>
                </a:lnTo>
                <a:lnTo>
                  <a:pt x="23753" y="21600"/>
                </a:lnTo>
                <a:lnTo>
                  <a:pt x="0" y="21600"/>
                </a:lnTo>
                <a:close/>
              </a:path>
              <a:path fill="lightenLess" w="23753" h="21600">
                <a:moveTo>
                  <a:pt x="0" y="0"/>
                </a:moveTo>
                <a:lnTo>
                  <a:pt x="23753" y="0"/>
                </a:lnTo>
                <a:lnTo>
                  <a:pt x="22353" y="1400"/>
                </a:lnTo>
                <a:lnTo>
                  <a:pt x="1400" y="1400"/>
                </a:lnTo>
                <a:close/>
              </a:path>
              <a:path fill="darken" w="23753" h="21600">
                <a:moveTo>
                  <a:pt x="23753" y="0"/>
                </a:moveTo>
                <a:lnTo>
                  <a:pt x="23753" y="21600"/>
                </a:lnTo>
                <a:lnTo>
                  <a:pt x="22353" y="20200"/>
                </a:lnTo>
                <a:lnTo>
                  <a:pt x="22353" y="1400"/>
                </a:lnTo>
                <a:close/>
              </a:path>
              <a:path fill="darkenLess" w="23753" h="21600">
                <a:moveTo>
                  <a:pt x="237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3" y="20200"/>
                </a:lnTo>
                <a:close/>
              </a:path>
              <a:path fill="lighten" w="237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3" h="21600">
                <a:moveTo>
                  <a:pt x="4870" y="7301"/>
                </a:moveTo>
                <a:lnTo>
                  <a:pt x="5784" y="7301"/>
                </a:lnTo>
                <a:lnTo>
                  <a:pt x="6167" y="7667"/>
                </a:lnTo>
                <a:lnTo>
                  <a:pt x="15376" y="7667"/>
                </a:lnTo>
                <a:lnTo>
                  <a:pt x="15933" y="8224"/>
                </a:lnTo>
                <a:lnTo>
                  <a:pt x="15933" y="8772"/>
                </a:lnTo>
                <a:lnTo>
                  <a:pt x="17778" y="8772"/>
                </a:lnTo>
                <a:lnTo>
                  <a:pt x="18143" y="8224"/>
                </a:lnTo>
                <a:lnTo>
                  <a:pt x="18883" y="8224"/>
                </a:lnTo>
                <a:lnTo>
                  <a:pt x="18883" y="13376"/>
                </a:lnTo>
                <a:lnTo>
                  <a:pt x="18143" y="13376"/>
                </a:lnTo>
                <a:lnTo>
                  <a:pt x="17778" y="12828"/>
                </a:lnTo>
                <a:lnTo>
                  <a:pt x="15933" y="12828"/>
                </a:lnTo>
                <a:lnTo>
                  <a:pt x="15933" y="14107"/>
                </a:lnTo>
                <a:lnTo>
                  <a:pt x="6350" y="14107"/>
                </a:lnTo>
                <a:lnTo>
                  <a:pt x="6350" y="9877"/>
                </a:lnTo>
                <a:lnTo>
                  <a:pt x="6167" y="9877"/>
                </a:lnTo>
                <a:lnTo>
                  <a:pt x="5784" y="10243"/>
                </a:lnTo>
                <a:lnTo>
                  <a:pt x="4870" y="10243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ЭКОЛОГИЯ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4000" y="2636640"/>
            <a:ext cx="800244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, это слово происходит от греческих слов «ойкос» - дом и «логос» - учение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– наука о месте обитания , об окружающей среде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ческие проблемы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58920" y="2349360"/>
            <a:ext cx="8229600" cy="34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Загрязнение вод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Уничтожение лесов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Загрязнение воздуха 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еградация земель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Ахтубинское водохранилищ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отражение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Дно бывшего озера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6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кологическая ситуация в России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расывается 184тонны загрязненной вод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зопылевые выбросы составляют 0,48 тонн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аждого жителя России ежегодно добывается примерно 42 тонны горной массы , из них 13 тонн идёт в отвал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жегодно в России сгорает от 1 до 7 млн. га лесов , 80 % лесных пожаров происходят по вине человека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гибел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Небо и земл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755387_20050517102636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28400" y="1500120"/>
            <a:ext cx="728316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общей жизни зёрна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й судьбы родня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 пировать позор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чёт будущего дня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Utilisation_Ramc"/>
          <p:cNvPicPr/>
          <p:nvPr/>
        </p:nvPicPr>
        <p:blipFill>
          <a:blip r:embed="rId1"/>
          <a:stretch/>
        </p:blipFill>
        <p:spPr>
          <a:xfrm>
            <a:off x="5429160" y="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Небо и земля"/>
          <p:cNvPicPr/>
          <p:nvPr/>
        </p:nvPicPr>
        <p:blipFill>
          <a:blip r:embed="rId2"/>
          <a:stretch/>
        </p:blipFill>
        <p:spPr>
          <a:xfrm>
            <a:off x="500040" y="3786120"/>
            <a:ext cx="3333600" cy="25005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3909960" y="3786120"/>
            <a:ext cx="523404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ймите, это люди 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то Земли не будет 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каждого из нас 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0" descr="C:\Documents and Settings\Admin\Рабочий стол\1250606523_bestgif.narod.ru_1310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137" name="WordArt 4"/>
          <p:cNvSpPr txBox="1"/>
          <p:nvPr/>
        </p:nvSpPr>
        <p:spPr>
          <a:xfrm>
            <a:off x="250920" y="549360"/>
            <a:ext cx="6892920" cy="131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Franklin Gothic Book"/>
              </a:rPr>
              <a:t>Лес    да     растения -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Franklin Gothic Book"/>
              <a:ea typeface="Franklin Gothic Book"/>
            </a:endParaRPr>
          </a:p>
        </p:txBody>
      </p:sp>
      <p:pic>
        <p:nvPicPr>
          <p:cNvPr id="138" name="WordArt 5" descr=""/>
          <p:cNvPicPr/>
          <p:nvPr/>
        </p:nvPicPr>
        <p:blipFill>
          <a:blip r:embed="rId2"/>
          <a:stretch/>
        </p:blipFill>
        <p:spPr>
          <a:xfrm>
            <a:off x="2346480" y="1962000"/>
            <a:ext cx="6711840" cy="1195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AN044"/>
          <p:cNvPicPr/>
          <p:nvPr/>
        </p:nvPicPr>
        <p:blipFill>
          <a:blip r:embed="rId3"/>
          <a:stretch/>
        </p:blipFill>
        <p:spPr>
          <a:xfrm flipH="1">
            <a:off x="-973440" y="1773360"/>
            <a:ext cx="2663640" cy="2163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C:\Documents and Settings\Admin\Мои документы\картинки\Животный мир\Медведи\Звери (29).gif"/>
          <p:cNvPicPr/>
          <p:nvPr/>
        </p:nvPicPr>
        <p:blipFill>
          <a:blip r:embed="rId4"/>
          <a:stretch/>
        </p:blipFill>
        <p:spPr>
          <a:xfrm>
            <a:off x="5435640" y="4869000"/>
            <a:ext cx="1731960" cy="1989000"/>
          </a:xfrm>
          <a:prstGeom prst="rect">
            <a:avLst/>
          </a:prstGeom>
          <a:ln w="0">
            <a:noFill/>
          </a:ln>
        </p:spPr>
      </p:pic>
      <p:pic>
        <p:nvPicPr>
          <p:cNvPr id="141" name="10-Дождь.mp3" descr=""/>
          <p:cNvPicPr/>
          <p:nvPr/>
        </p:nvPicPr>
        <p:blipFill>
          <a:blip r:embed="rId5"/>
          <a:stretch/>
        </p:blipFill>
        <p:spPr>
          <a:xfrm>
            <a:off x="53964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наете ли вы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мага брошенная вами , будет лежать более двух лет , консервные банки – более тридцати лет , полиэтиленовый пакет – более двухсот лет , а стекло – 1000 лет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глобус 4"/>
          <p:cNvPicPr/>
          <p:nvPr/>
        </p:nvPicPr>
        <p:blipFill>
          <a:blip r:embed="rId1"/>
          <a:stretch/>
        </p:blipFill>
        <p:spPr>
          <a:xfrm>
            <a:off x="6659640" y="4697280"/>
            <a:ext cx="2305080" cy="21607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7:48:40Z</dcterms:created>
  <dc:creator>User</dc:creator>
  <dc:description/>
  <dc:language>en-US</dc:language>
  <cp:lastModifiedBy>LEGION</cp:lastModifiedBy>
  <dcterms:modified xsi:type="dcterms:W3CDTF">2015-05-06T08:41:10Z</dcterms:modified>
  <cp:revision>52</cp:revision>
  <dc:subject/>
  <dc:title>Классный час на тему «Что вы могли бы сделать «здесь и сейчас» для улучшения окружающей жизни»</dc:title>
</cp:coreProperties>
</file>