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18.gif" ContentType="image/gif"/>
  <Override PartName="/ppt/media/image13.jpeg" ContentType="image/jpeg"/>
  <Override PartName="/ppt/media/image20.gif" ContentType="image/gif"/>
  <Override PartName="/ppt/media/image5.png" ContentType="image/png"/>
  <Override PartName="/ppt/media/image29.jpeg" ContentType="image/jpeg"/>
  <Override PartName="/ppt/media/image30.png" ContentType="image/png"/>
  <Override PartName="/ppt/media/image10.png" ContentType="image/png"/>
  <Override PartName="/ppt/media/image27.jpeg" ContentType="image/jpeg"/>
  <Override PartName="/ppt/media/image7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3.gif" ContentType="image/gif"/>
  <Override PartName="/ppt/media/image2.png" ContentType="image/png"/>
  <Override PartName="/ppt/media/image25.jpeg" ContentType="image/jpeg"/>
  <Override PartName="/ppt/media/image1.png" ContentType="image/png"/>
  <Override PartName="/ppt/media/image21.gif" ContentType="image/gif"/>
  <Override PartName="/ppt/media/image14.jpeg" ContentType="image/jpeg"/>
  <Override PartName="/ppt/media/image15.jpeg" ContentType="image/jpeg"/>
  <Override PartName="/ppt/media/image16.jpeg" ContentType="image/jpeg"/>
  <Override PartName="/ppt/media/image19.png" ContentType="image/png"/>
  <Override PartName="/ppt/media/image22.png" ContentType="image/png"/>
  <Override PartName="/ppt/media/image24.jpeg" ContentType="image/jpe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54C8-BCCF-454E-8401-A7C50604D4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4DF9-5E6A-4903-9BCC-E70FED068D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AE81-4248-4E76-B456-D90F80724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46B6-B4F7-42A6-8B28-5B8C2CA005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31E5-1AB4-4B98-8D09-D1447E6B0B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0C9E-BD56-45CD-9FB0-E497219E3A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820-7FFA-49C2-B929-9232970938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DBD2-C45D-4781-B5C7-6558B6BC3E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35CAF-D016-43FC-9EE1-7DAD1FE201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D23A-BCB8-441A-B78E-6F8D15D96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DCAB-3A6C-474A-B9BB-A9713E6497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665D-E01D-4D40-8469-ACE1C6C4D1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2E0D-5644-4815-9D61-42C1B82C60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D5043-FC64-42EA-BFCC-71F74E6792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ff00"/>
                </a:solidFill>
                <a:latin typeface="Franklin Gothic Book"/>
              </a:rPr>
              <a:t>Лес    да     растения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000F-D53E-436C-B9F9-64670498EE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573A-F76B-46BA-969A-D2646298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C30F-DB96-4089-ABB1-D65B2F39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AEE1-6EE8-4B22-8C40-06F22AE7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028-8684-4BF0-BE06-7FCEF44A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B5E7C-E95E-4232-AE2F-833EA0005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AB68-A663-43C5-A32A-23403B12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2408-5987-456C-9A1A-AFC87FD0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DC2E-787A-4171-BF33-7BCF1C7A5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16654-BB4F-41D3-8A17-32E59653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7004-65D9-48C3-A5D2-5DCCB342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D5EC-ED70-47A6-9A15-35592623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33F7-3482-4E40-BB81-9E03A28E5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8AEE-1891-4D94-9F32-03B4D6CB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89F8-4C7C-41BB-B1B5-F3EA88F6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087F2-D651-49CF-9C2D-FA29F4B3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0DF4-7FFC-457E-B350-380E92851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CBF38-9EF5-4719-AF21-4BA4F586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18A8-FF5E-4138-9058-81F8C47E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7A0-44B3-4D95-A5B9-C71E0A291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A777-EB0F-41D1-8FFA-854CCCAD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1113-B5FB-4F7C-BC97-5E45F9D1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C27F-C77E-44F0-A2AE-ABA0DB7D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5A2-9FB9-4C89-9CD3-B89508CA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A6B-5FB1-4255-913B-86773A4D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EC12-5F8A-43EB-9A2C-965684EB7862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94D2D-6E7E-4F8E-8817-215A0D6F0C9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1214280" y="1357200"/>
            <a:ext cx="7704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лассный час на тем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то вы могли бы сделать «здесь и сейчас» для улучшения окружающей жизни»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2876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ма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Цель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ти реш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648320" y="691920"/>
            <a:ext cx="403848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ие пробле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Уничтожение л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агрязнение возд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Разрушение, истощение зем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линная перспектива выхода из экологического кризиса – в изменении производственной деятельности человека, его образа жизни, его сознания. Научно-технический прогресс создаёт не только перегрузки для природы, но и  даёт средства предотвращения негативных воздействий, создаёт возможности экологически чистого производ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E:\экология\fon lend .jpg"/>
          <p:cNvPicPr/>
          <p:nvPr/>
        </p:nvPicPr>
        <p:blipFill>
          <a:blip r:embed="rId1"/>
          <a:stretch/>
        </p:blipFill>
        <p:spPr>
          <a:xfrm>
            <a:off x="4648320" y="1557360"/>
            <a:ext cx="4038480" cy="439272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4"/>
          <p:cNvSpPr txBox="1"/>
          <p:nvPr/>
        </p:nvSpPr>
        <p:spPr>
          <a:xfrm>
            <a:off x="468360" y="404640"/>
            <a:ext cx="799128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марта - Всемирный день во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1628640"/>
            <a:ext cx="798984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 апреля - Международный день птиц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7"/>
          <p:cNvSpPr txBox="1"/>
          <p:nvPr/>
        </p:nvSpPr>
        <p:spPr>
          <a:xfrm>
            <a:off x="539640" y="3068640"/>
            <a:ext cx="7993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2 апреля - День Земли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84360" y="4221000"/>
            <a:ext cx="2374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 июня -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9"/>
          <p:cNvSpPr txBox="1"/>
          <p:nvPr/>
        </p:nvSpPr>
        <p:spPr>
          <a:xfrm>
            <a:off x="611280" y="5373720"/>
            <a:ext cx="8353440" cy="12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семирный день окружающей среды 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10" descr="038_1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синич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2" descr="029_14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098_184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093680" y="1203120"/>
            <a:ext cx="805032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часть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й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ироды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а чтобы изменить её к лучшему нужно в первую очеред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изменить себя в лучшую сторону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дь человек с добрыми намерениями стремиться к лучшему и никогда не сделает плохо окружающему миру, так как этот мир даёт ему счастье, радость, здоровье, благополучие. Значит ,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я люблю и берегу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без чего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оя жизнь невозмож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D:\Школьная\Рамки\мультяшк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7" name="WordArt 4" descr="Частый вертикальный"/>
          <p:cNvPicPr/>
          <p:nvPr/>
        </p:nvPicPr>
        <p:blipFill>
          <a:blip r:embed="rId2"/>
          <a:stretch/>
        </p:blipFill>
        <p:spPr>
          <a:xfrm>
            <a:off x="1432080" y="1352520"/>
            <a:ext cx="5657760" cy="318924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99680" y="1214280"/>
            <a:ext cx="86439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ы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что-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ля изменения 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А можем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десь и сейча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имеется ввиду в настоящий момент, пока мы реально существуем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Можем ли мы сделать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это для улучшения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кружающей жизн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3"/>
          <p:cNvSpPr/>
          <p:nvPr/>
        </p:nvSpPr>
        <p:spPr>
          <a:xfrm>
            <a:off x="4786200" y="1785960"/>
            <a:ext cx="78588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Прямоугольник 4"/>
          <p:cNvSpPr/>
          <p:nvPr/>
        </p:nvSpPr>
        <p:spPr>
          <a:xfrm>
            <a:off x="5072040" y="3357720"/>
            <a:ext cx="914400" cy="57132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Прямоугольник 5"/>
          <p:cNvSpPr/>
          <p:nvPr/>
        </p:nvSpPr>
        <p:spPr>
          <a:xfrm>
            <a:off x="4500720" y="4500720"/>
            <a:ext cx="1000080" cy="714240"/>
          </a:xfrm>
          <a:prstGeom prst="rect">
            <a:avLst/>
          </a:prstGeom>
          <a:solidFill>
            <a:srgbClr val="00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кружающая жизн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рода(среда обит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ое простран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укотворный мир(сделано руками человек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фильм 3"/>
          <p:cNvSpPr/>
          <p:nvPr/>
        </p:nvSpPr>
        <p:spPr>
          <a:xfrm>
            <a:off x="214200" y="5929200"/>
            <a:ext cx="785880" cy="714600"/>
          </a:xfrm>
          <a:custGeom>
            <a:avLst/>
            <a:gdLst>
              <a:gd name="textAreaLeft" fmla="*/ 46080 w 785880"/>
              <a:gd name="textAreaRight" fmla="*/ 739800 w 785880"/>
              <a:gd name="textAreaTop" fmla="*/ 46080 h 714600"/>
              <a:gd name="textAreaBottom" fmla="*/ 668520 h 714600"/>
            </a:gdLst>
            <a:ahLst/>
            <a:rect l="textAreaLeft" t="textAreaTop" r="textAreaRight" b="textAreaBottom"/>
            <a:pathLst>
              <a:path w="23753" h="21600">
                <a:moveTo>
                  <a:pt x="0" y="0"/>
                </a:moveTo>
                <a:lnTo>
                  <a:pt x="23753" y="0"/>
                </a:lnTo>
                <a:lnTo>
                  <a:pt x="23753" y="21600"/>
                </a:lnTo>
                <a:lnTo>
                  <a:pt x="0" y="21600"/>
                </a:lnTo>
                <a:close/>
              </a:path>
              <a:path fill="lightenLess" w="23753" h="21600">
                <a:moveTo>
                  <a:pt x="0" y="0"/>
                </a:moveTo>
                <a:lnTo>
                  <a:pt x="23753" y="0"/>
                </a:lnTo>
                <a:lnTo>
                  <a:pt x="22353" y="1400"/>
                </a:lnTo>
                <a:lnTo>
                  <a:pt x="1400" y="1400"/>
                </a:lnTo>
                <a:close/>
              </a:path>
              <a:path fill="darken" w="23753" h="21600">
                <a:moveTo>
                  <a:pt x="23753" y="0"/>
                </a:moveTo>
                <a:lnTo>
                  <a:pt x="23753" y="21600"/>
                </a:lnTo>
                <a:lnTo>
                  <a:pt x="22353" y="20200"/>
                </a:lnTo>
                <a:lnTo>
                  <a:pt x="22353" y="1400"/>
                </a:lnTo>
                <a:close/>
              </a:path>
              <a:path fill="darkenLess" w="23753" h="21600">
                <a:moveTo>
                  <a:pt x="23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3" y="20200"/>
                </a:lnTo>
                <a:close/>
              </a:path>
              <a:path fill="lighten" w="23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3" h="21600">
                <a:moveTo>
                  <a:pt x="4870" y="7301"/>
                </a:moveTo>
                <a:lnTo>
                  <a:pt x="5784" y="7301"/>
                </a:lnTo>
                <a:lnTo>
                  <a:pt x="6167" y="7667"/>
                </a:lnTo>
                <a:lnTo>
                  <a:pt x="15376" y="7667"/>
                </a:lnTo>
                <a:lnTo>
                  <a:pt x="15933" y="8224"/>
                </a:lnTo>
                <a:lnTo>
                  <a:pt x="15933" y="8772"/>
                </a:lnTo>
                <a:lnTo>
                  <a:pt x="17778" y="8772"/>
                </a:lnTo>
                <a:lnTo>
                  <a:pt x="18143" y="8224"/>
                </a:lnTo>
                <a:lnTo>
                  <a:pt x="18883" y="8224"/>
                </a:lnTo>
                <a:lnTo>
                  <a:pt x="18883" y="13376"/>
                </a:lnTo>
                <a:lnTo>
                  <a:pt x="18143" y="13376"/>
                </a:lnTo>
                <a:lnTo>
                  <a:pt x="17778" y="12828"/>
                </a:lnTo>
                <a:lnTo>
                  <a:pt x="15933" y="12828"/>
                </a:lnTo>
                <a:lnTo>
                  <a:pt x="15933" y="14107"/>
                </a:lnTo>
                <a:lnTo>
                  <a:pt x="6350" y="14107"/>
                </a:lnTo>
                <a:lnTo>
                  <a:pt x="6350" y="9877"/>
                </a:lnTo>
                <a:lnTo>
                  <a:pt x="6167" y="9877"/>
                </a:lnTo>
                <a:lnTo>
                  <a:pt x="5784" y="10243"/>
                </a:lnTo>
                <a:lnTo>
                  <a:pt x="4870" y="10243"/>
                </a:lnTo>
                <a:close/>
              </a:path>
            </a:pathLst>
          </a:cu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ЭКОЛОГИЯ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4000" y="2636640"/>
            <a:ext cx="800244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, это слово происходит от греческих слов «ойкос» - дом и «логос» - учени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я – наука о месте обитания , об окружающей среде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Экологические проблемы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58920" y="2349360"/>
            <a:ext cx="822960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д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Уничтожение лесов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Загрязнение воздуха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Деградация земель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Ахтубинское водохранилище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отражение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Дно бывшего озера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6" nodeType="afterEffect" fill="hold" presetClass="entr" presetID="18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кологическая ситуация в России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брасывается 184тонны загрязненной вод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зопылевые выбросы составляют 0,48 тонн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каждого жителя России ежегодно добывается примерно 42 тонны горной массы , из них 13 тонн идёт в отвал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годно в России сгорает от 1 до 7 млн. га лесов , 80 % лесных пожаров происходят по вине человек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гибел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Небо и земля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755387_20050517102636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0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28400" y="1500120"/>
            <a:ext cx="728316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общей жизни зёрна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ой судьбы родня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м пировать позор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счёт будущего дня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Utilisation_Ramc"/>
          <p:cNvPicPr/>
          <p:nvPr/>
        </p:nvPicPr>
        <p:blipFill>
          <a:blip r:embed="rId1"/>
          <a:stretch/>
        </p:blipFill>
        <p:spPr>
          <a:xfrm>
            <a:off x="5429160" y="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Небо и земля"/>
          <p:cNvPicPr/>
          <p:nvPr/>
        </p:nvPicPr>
        <p:blipFill>
          <a:blip r:embed="rId2"/>
          <a:stretch/>
        </p:blipFill>
        <p:spPr>
          <a:xfrm>
            <a:off x="500040" y="3786120"/>
            <a:ext cx="3333600" cy="25005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3909960" y="3786120"/>
            <a:ext cx="5234040" cy="24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ймите, это люди ,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то Земли не будет 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каждого из нас 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" descr="C:\Documents and Settings\Admin\Рабочий стол\1250606523_bestgif.narod.ru_13107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137" name="WordArt 4"/>
          <p:cNvSpPr txBox="1"/>
          <p:nvPr/>
        </p:nvSpPr>
        <p:spPr>
          <a:xfrm>
            <a:off x="250920" y="549360"/>
            <a:ext cx="6892920" cy="131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Book"/>
              </a:rPr>
              <a:t>Лес    да     растения -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Book"/>
              <a:ea typeface="Franklin Gothic Book"/>
            </a:endParaRPr>
          </a:p>
        </p:txBody>
      </p:sp>
      <p:pic>
        <p:nvPicPr>
          <p:cNvPr id="138" name="WordArt 5" descr=""/>
          <p:cNvPicPr/>
          <p:nvPr/>
        </p:nvPicPr>
        <p:blipFill>
          <a:blip r:embed="rId2"/>
          <a:stretch/>
        </p:blipFill>
        <p:spPr>
          <a:xfrm>
            <a:off x="2346480" y="1962000"/>
            <a:ext cx="6711840" cy="1195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AN044"/>
          <p:cNvPicPr/>
          <p:nvPr/>
        </p:nvPicPr>
        <p:blipFill>
          <a:blip r:embed="rId3"/>
          <a:stretch/>
        </p:blipFill>
        <p:spPr>
          <a:xfrm flipH="1">
            <a:off x="-973440" y="1773360"/>
            <a:ext cx="2663640" cy="216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C:\Documents and Settings\Admin\Мои документы\картинки\Животный мир\Медведи\Звери (29).gif"/>
          <p:cNvPicPr/>
          <p:nvPr/>
        </p:nvPicPr>
        <p:blipFill>
          <a:blip r:embed="rId4"/>
          <a:stretch/>
        </p:blipFill>
        <p:spPr>
          <a:xfrm>
            <a:off x="5435640" y="4869000"/>
            <a:ext cx="1731960" cy="1989000"/>
          </a:xfrm>
          <a:prstGeom prst="rect">
            <a:avLst/>
          </a:prstGeom>
          <a:ln w="0">
            <a:noFill/>
          </a:ln>
        </p:spPr>
      </p:pic>
      <p:pic>
        <p:nvPicPr>
          <p:cNvPr id="141" name="10-Дождь.mp3" descr=""/>
          <p:cNvPicPr/>
          <p:nvPr/>
        </p:nvPicPr>
        <p:blipFill>
          <a:blip r:embed="rId5"/>
          <a:stretch/>
        </p:blipFill>
        <p:spPr>
          <a:xfrm>
            <a:off x="53964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наете ли вы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мага брошенная вами , будет лежать более двух лет , консервные банки – более тридцати лет , полиэтиленовый пакет – более двухсот лет , а стекло – 1000 лет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глобус 4"/>
          <p:cNvPicPr/>
          <p:nvPr/>
        </p:nvPicPr>
        <p:blipFill>
          <a:blip r:embed="rId1"/>
          <a:stretch/>
        </p:blipFill>
        <p:spPr>
          <a:xfrm>
            <a:off x="6659640" y="4697280"/>
            <a:ext cx="230508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7:48:40Z</dcterms:created>
  <dc:creator>User</dc:creator>
  <dc:description/>
  <dc:language>en-US</dc:language>
  <cp:lastModifiedBy>LEGION</cp:lastModifiedBy>
  <dcterms:modified xsi:type="dcterms:W3CDTF">2015-05-06T08:41:10Z</dcterms:modified>
  <cp:revision>52</cp:revision>
  <dc:subject/>
  <dc:title>Классный час на тему «Что вы могли бы сделать «здесь и сейчас» для улучшения окружающей жизни»</dc:title>
</cp:coreProperties>
</file>