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856A-60F1-403E-9C68-523493FE2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ACC1-8333-41F2-A73F-F1DB46F13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C1AD-A79D-481D-A564-D652B2A31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4216-03C4-4838-AEAD-F2387CF05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3F65-E6B8-40C6-BF69-097AF0DB3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E26B-8EA3-4197-9894-2B9BD40E5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9770-1196-4AD1-88F6-9EEBB905E9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B0A9-5FFB-4C7F-B6D5-740700DF4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D5E4-8515-4C2E-B693-D309B154D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0104-42B1-48FE-A39F-B9A3EE93B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5F60-9818-4A36-BC4C-AA4C04AEE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1541-EC99-4F85-BD73-99F31ECF3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E155-7884-48BC-8CEF-0B6394E70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203D-80A9-468B-91E5-E02CFDAC0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Franklin Gothic Book"/>
              </a:rPr>
              <a:t>Лес    да     растения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C78-B133-46F3-8CEB-7D4CA7371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B0F-32C4-4606-AD93-7FF49B13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349-C7F1-49A3-9223-DFB15A97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4BB-7D67-4D93-91B0-250ABA1D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5D3-E30F-47BF-A8DC-583F4A82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AAEA-D3D8-4926-A30E-89C519C7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79F8-AE22-4280-87D8-61D5DF75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82C1-6144-43AE-9ADF-AD0DE1E4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0ABB-C651-4823-8626-56EA54AF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E132-0831-46D4-8BAF-81E5446E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6AD5-9F9B-436E-9BC0-CC1FA738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1090-CC2A-461E-85F9-3B28E4C1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DB0-ED6F-4439-8ABF-0D9C2A2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FBF9-4CBA-4E1A-8747-7CCDA842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AC5B-C7DC-4EB3-9E67-E5FFF811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F494-B281-4219-8D60-AE521C9B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CFA2-3A89-4A07-B0F4-8FE26DED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CE33-A080-45FF-AA87-C04C982A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DA1-A10A-47F0-A871-3BD3F6F6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D95-B78B-4C9D-995C-71F0423D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533-548D-402B-8BC2-89F5601C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BA8-657B-4E43-AF53-8A933E34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8E6-EA50-4C19-8DE2-B0F68692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AF6-57E3-42D6-A15E-03C50389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EC9-8AC0-4096-8A37-0CD827EE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9E3C-5C4F-4CB3-8BE9-9BD2F4BFAAE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EBE4-424C-4682-A012-279E027B838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:\экология\fon lend .jpg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2636640"/>
            <a:ext cx="80024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8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LEGION</cp:lastModifiedBy>
  <dcterms:modified xsi:type="dcterms:W3CDTF">2015-05-06T08:41:10Z</dcterms:modified>
  <cp:revision>52</cp:revision>
  <dc:subject/>
  <dc:title>Классный час на тему «Что вы могли бы сделать «здесь и сейчас» для улучшения окружающей жизни»</dc:title>
</cp:coreProperties>
</file>