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61E5-FC9A-40B5-84B7-67F1FE840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ктика 1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мет и структура эк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рионова Екатерина Владимировна, доцент каф. ЭБ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21D2-3580-4927-A325-E0B5D94561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процедур и действий либо слайд лекции с м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объект изучения в эколог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осистем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функционирования экосистем и оценка пределов антропоген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тимедийными ма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96B1-C8C6-450E-8F9E-14331C283B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оследовательного внедрения идей сохранения природы и устойчивой окружающей среды в сферы законодательства, управления, разработки технологий, экономики, образова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E2D5-358D-495A-84D0-CB98D9A40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ое мировоззр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– это система представлений о взаимоотношениях в мире, способствующая самосознанию, развитию мышления, отражающееся в отношении к природе, обществу, людям. Экологическое мировозз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ое экологическое 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центрическое экологическое 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0CF7-9EEB-49BA-8C9E-A5DB77A36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решить глобальные экологические проблемы с помощью антропоцентрического и экоцентрического подх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хватка энерго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удшение здоровь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000A-87F3-4D94-B5BD-A5895C43D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зучения дисципл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экологического мировоззрения и умения использовать экологические законы и принципы для принятия проектных решений в своей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CEE9-46B5-4339-BD96-D4C7E8C65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ли сделать вывод о необходимости всеобщей экологической образованност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ите необходимость экологических знаний для инженера и вашей профессиональной деятель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7A11-9E51-4F5E-9150-3E9654EE58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по направлению 280700 «Техносферная безопасность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ъект проф. деятельност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57A3-9504-43BC-A1B3-92CD66D9B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удент должен обладать компетенц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екультурные компетен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нием культурой безопасности и риск-ориентированным мышлением, при котором вопросы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зопасности и сохранения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ются в качестве важнейших приоритетов в жизни и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26C0-0E1B-45EB-B6D8-7BF0F5067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удент должен обладать компетенци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перспективах развития техники и технологи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щи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ка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генного и природного харак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основных методах и системах обеспечения техносферной безопасности, обоснованно выбирать известные устройства, системы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тоды защи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ю использовать знания по организации охраны труда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храны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езопасности в чрезвычайных ситуациях на объектах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использовать методы определен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ормативных уров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пустимых негативных воздействий на человека и природную сре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х проблемах техносферн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F820-9D0C-473E-B8D4-A8DA0772B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логические законы Коммон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вязано со вс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куда-нибудь де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то-нибудь да стоит (ничто не дается дар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знает лучш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09F5-BF2B-4CB1-A401-CCB19485C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ые сведе</a:t>
            </a:r>
            <a:r>
              <a:rPr b="0" lang="ru-RU" sz="1200" spc="-1" strike="noStrike">
                <a:solidFill>
                  <a:srgbClr val="444d26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и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и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Р во время К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ИД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т по результатам 2 К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tal.tpu.ru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ые сайты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арионова Е.В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е пособие, практику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программа, рейтинг-ли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ки в виде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я о курсе, пособия и материалы, необходимые для занятий или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F08F-F3B4-4703-87D6-7F904F2717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умайте сложную цепь экологических взаимодействий, которая начинается с того, что вы роняете семечко яблони, а в итоге реализации сложных биоцентрических связей у вашего отца оказываются испорченными кожаные туф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CBE1-547D-4562-B263-A9E255037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блон расписания с необязательными пер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ми и задач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B4A7-AF7C-4167-A494-8326C012D44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ные замет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ветственность студ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твержденным руководящим материалам по текущему контролю успеваемости, промежуточной и итоговой аттестации студентов ТПУ, студент несет ответствен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 выполнение треб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ОП, выраженной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становлен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вокупности результ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BB4C-B1E7-4B59-A897-E8140732FA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урса, ожидаемые результаты и навыки, котор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туд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обяза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ать занятия, осуществлять самостоятельную подготовку, выполнять задания, выданные преподава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несут полную ответственность 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утствие на оценочных испытаниях в установленные сро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работ для оценки в установленные сроки и в соответствии с требованиям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преподавателям или экзаменаторам информации, которая должна быть принята во вним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шпаргалок, подсказывание и другие виды обмана в процедурах оцен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ы быть получены в ходе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2773-8A92-43E0-9009-CADEBD43E5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рактики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ознать необходимость экологических знаний в частной жизни и сфере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ология, экологическое мировоззрение, экологизация, популяция, экосистема, биосфера, биоэкология, социальная экология, прикладная (инженерная экология) эк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132F-B17C-47C3-890C-C7809FAB1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Что такое экология и что она изучае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городе плохая эк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ю необходимо охран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в нашем городе испорч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основа природо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DD97-6961-4D39-811E-995AA552A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вы понимаете смысл приведенных понятий? Чем вызвано их появлени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ое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ами стали в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ледовательно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т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(Реймерс, 19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FBEC-EB59-4DB3-A542-0E6630773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словарных терминов. </a:t>
            </a:r>
            <a:r>
              <a:rPr b="0" lang="ru-RU" sz="12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схему экологии как науки, учитывая предмет, задачи и объект исследования экологии. Уяснить структуру экологии как науки и историю развития экологии как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ADB4-82F7-4A9C-AFE2-DCF3E6D9D7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F21B-8ECA-4032-89BE-915ABB00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6C40-C128-432E-A877-A49C53EB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20485-16FF-48CD-99FD-09E74066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2295F-8ED5-4A59-925F-771937E1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9E16A-BC50-4D1B-82A7-50B4987D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BCEA0-E432-47ED-B7A9-B11A084B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0505D-C165-4F38-ABB0-84B6DAD8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A2D38-4754-4643-ABF2-D0FE4F19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02BCD-D552-4161-839B-6A3DB2C7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63FBF-F09D-4CE5-A26B-A5DAE08D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62458-9C69-489F-A1FC-FAF68C18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1B1E81-F101-4F3F-ADAA-FEF551E7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745-C4A8-41A5-B64A-6471BFD3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1EA052-D24E-44EA-965A-8697C113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75FAA5-A5A6-4CC4-89E2-2C10FF4A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5A6474-2323-423C-9EDA-1E11C8F8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480640-2CCB-4514-B2E3-2AD9EC2C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C5DB89-57AD-451F-8BFA-0B2D0F7B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542567-93D8-4068-9F9B-B33D774D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2CEB69-60DE-4A60-9259-A972F395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08C4BA-B0AB-499C-B433-27E9FE8A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845BA9-16DF-49E2-80A2-EA48DD31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14A352-9706-4D81-9105-73AF1CBE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168-447B-432E-B45C-D3290345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0E4F1F-6B41-4AC9-B7B8-C7024E82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18EDF-0798-4B1E-9E09-05AA103E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2B544-075A-482D-89CB-FC6FBDC3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EF9C3-21CB-49AE-A021-AA36FA56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5DB77-9141-479F-9B1C-7881316F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BAD1F-D218-4D2C-B6AA-B169842B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DB4C7-12E3-44C1-A07A-055C6F9B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A241B-61E4-496F-9999-08B591A1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19EFE-95B8-4035-B3D1-CDD14C59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01FC9-66F2-4D26-8019-B9C88D33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DD73-4AB4-4C5D-BF80-D075F06C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36321-9552-4964-AD48-E7535685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831B5-1570-45FE-86EF-F81510AF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9439D-8610-4B0B-8751-3821F090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3385-241C-491C-81A9-2C228CF2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76D1-FC7A-4A85-BAC8-E394983B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19E9-13A6-4F0E-92FB-0F24CEC0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9858-316B-4490-A3E5-30A9B5B8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AC77-1C06-4B7A-92A1-749D48A5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3053-E0B7-4FFA-9126-23B8101C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9EC-A401-4C93-87E7-0D5695DC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09BC-B8F8-4705-82CB-ADFB5D3F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E7B1-89A2-4F59-A697-9C375916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42E6-E8AA-49FD-9804-45801E03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DC9A-A450-434F-BAD3-6126C1F6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253E-A1C8-43B0-BEA3-71A9A21B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565F1-34FE-41FB-9942-2686630B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270A9-0554-4A1C-91E6-D1512583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A0442-A66B-451D-8B62-F713E072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95E92-390D-46F8-8820-E0EF95D2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7D5A3-8836-48CC-BFB9-3897BCB9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49E-8057-43C1-BFC8-F2F4D094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48723-A478-410C-BCFD-03D6292B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6E43E-BBD3-47E1-8380-A6FD4156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F7AE-15EC-4DB9-8605-CDB75A76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D6878-22A2-450D-B316-2D8A25EC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6E15D-403D-42E3-8DAA-DB36FBB8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12B5B-9AD5-4A14-B8C1-05A19034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DEA3A-E143-4EE3-A843-E70FCDFD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7A5163-9CD6-4426-B576-1DC427E5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8E8633-6CEB-4AE5-95E1-D88DFF28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5E449C-FEC9-4356-B82E-018278FD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AB3-E1AD-4FBA-A87C-7AF0AC28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09B63-DAA4-4078-A874-1CC93037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8FF722-2761-44A5-BCA4-EEFFD492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6F1195-AC45-42BB-99C2-A12E0F77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FEC84-127E-40C2-B94D-E1D2316F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3FDCE1-E7CA-4D1B-B2AB-B98D8874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2E20B-F513-48A6-A90D-4448D40A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F05316-58FA-4D17-8A93-7D72BC3C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4003D9-1385-41B9-94FC-63C78E0B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275B68-B622-4ED5-9BA1-AFF6D99A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18E70-D140-4D3C-BAC3-4766968B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7C1-C039-4168-A9B8-9FF7754B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EBEF6-D5FB-470D-8DE0-418ED769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4B67A-889D-4598-BA65-EFE6BA96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74F3BE-0161-487D-8626-2A25C5F7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236B3-D2A5-4353-BA6F-50D67D26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76CA4-6C29-417C-A5F4-A6F788D5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87B778-F698-40B2-963B-2EBC6BF1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40992-6D0D-4486-988D-91498447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B511CA-0C19-4C90-8254-0EF4CFD6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F3CDA5-529A-45EA-927E-8E67D6D5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E36A13-575A-431F-964B-3643815A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9639-B749-4982-BC1A-7BEEF4FD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892CCD-FC32-4AA7-B594-28599ABE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8077B-E670-4E0D-97BD-D01CBEF3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E04E6B-084C-4F4E-A195-79C8436E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E5103-6096-417C-B034-096D8668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8ABB6C-0C96-4740-82CC-1A519F95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B9DAEA-04DA-4E2C-A9DD-49C76258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59DC46-12C9-496D-B2F3-6B3CE6C1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10FBD-1F0C-4D80-BF93-E04102AB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F402C4-7BB6-4D95-B42D-C582F9E9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4EF525-20F9-43D4-B9D5-8B3D765A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32C-CA1F-4B3D-A7F7-25D2F48C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11B168-70AB-40F1-9C30-9563A7A2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00C7F1-C3E7-4F86-863A-9B9D7D3E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CF74E3-70CA-43F3-B778-16F6D998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4D6C9-A1A9-4F62-8791-D35B7113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E25AE-B989-49B6-8D94-3C682979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E4E41-C151-48E9-8EF6-52698CA6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FA675-416B-4DAE-B45B-3DF2CB96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D4CBF-64E9-40F3-B506-0E982090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54A80-D745-4ABF-BD15-3FACB2A0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1D6E0-7D43-404A-A12F-AF73B2F5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FEA-25D6-4050-AD16-C9BD791D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1E070-E905-45D1-8A3E-44F31F5A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4E3A6-9067-4AC1-A1C3-28D120F0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92FAC-32EF-4842-9410-E4813EE5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50D67-D3DF-4B29-8307-E3F849DD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A38E8-3185-4AAE-B911-2B8A8DA1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E0E41-567B-49FE-8B36-8BEDC7E0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CF908-81BC-4455-AA43-F88C68E0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C63FE-9625-4A23-9633-FF73ED90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BEAC9-2673-4D54-9327-EBE62D59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015B2-E637-419F-9BBA-0FD53674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653-20FF-4000-B6B4-CC169605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5E07F-2F70-451D-A10A-325F82E5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7120E-FC42-4449-8EE6-5A5460E3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57936-415C-40C4-AA3B-6853C162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3A667-1621-48F8-A4BB-E682DC81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48AEE-16C4-4406-83FB-885B43B6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1D312-898A-416B-999E-DAA1D3A2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551C5-500D-4CD4-938E-32505E46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B02C7-6865-423C-82DC-1774B284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C7555-7889-4D09-96A9-1260A706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42C2C-6E78-47C3-9A09-585E4286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7914-2D81-4E59-BAEC-25DF6193054C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EAE272C4-AAFC-43E7-A618-E778D98775A9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0:5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952E-25D4-463A-B276-7D3410C0089D}" type="slidenum">
              <a:rPr b="1" lang="en-US" sz="12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768D-8D04-434F-A5A8-9361D179BC69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2EA5098D-6F8A-4392-A395-81F44EDFBCAE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0:5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0469-457E-4340-87C5-C53FF039214C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0A8F-10EC-4E57-92C6-853663E1DB25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120C15AB-DE7D-4279-A9D8-96188A40B373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0:5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F260-FE3F-403D-8838-F3C281C5914B}" type="slidenum">
              <a:rPr b="1" lang="en-US" sz="12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0522-BD57-43E9-AAAB-F5ECF0FC0C6B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026A657F-7ADE-4ACF-B66D-E128C8985102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:57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1AB2-B999-451A-8CD2-73A3D0177F4B}" type="slidenum">
              <a:rPr b="1" lang="en-US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C277-3FC9-4C2B-BBC1-22086A54BF86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8E9F296A-9650-4975-B0FD-1827DB6E52F7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0:5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8B1D-2697-42FF-826D-9E52AEADB9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0645-BD33-4928-B9E2-1D0B8E220E0C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EC002617-5ECF-4A89-8FA1-D616404224A1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0:5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5770-0AF3-4B95-935B-DEFC904C7356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4452-3AC4-4F47-9DF7-FA8C7BB6E1ED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E27DE2BA-0359-4A98-9A42-C463DBDD319C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0:5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132F-E042-4EBD-8E61-7E6FCBBD612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F951-128E-48E1-AF86-739BD248FF4A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55EE4C28-BA5D-4083-AA3E-125833B02FFD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0:5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DA86-4AA4-47B3-A51A-D695096989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565C-43B2-43B2-B0E7-1E43732C0176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6353D750-0573-4AE3-9CB9-FEFBE05BFA95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0:5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5F57-91E0-46AF-9139-C10899CDD7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EA47-4ABF-479B-9ABF-D521FBA4D746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61115BC5-61B3-4DDD-9A37-30E81A162620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0:5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B524-0288-4BD9-853F-7FA8C4AF72F6}" type="slidenum">
              <a:rPr b="1" lang="en-US" sz="1400" spc="-1" strike="noStrike">
                <a:solidFill>
                  <a:srgbClr val="444d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2" name="Picture 9" descr="sm_book.png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cap="sq" w="50760">
            <a:solidFill>
              <a:srgbClr val="f3a447"/>
            </a:solidFill>
            <a:miter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4d2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a5b59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3a4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7bc2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092a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A832-8AAC-4078-95DF-C07EC9FA72A9}" type="datetime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 </a:t>
            </a:r>
            <a:fld id="{4FFD82C9-9B26-492B-A7D1-852103320A32}" type="datetime10"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20:57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44d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3F0B-4CF8-407A-8EB6-C535FFA60E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aforizmer.ru/aforizmi/genri-devid-toro" TargetMode="External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0" y="4173120"/>
            <a:ext cx="647712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ПРАКТИКА 1.</a:t>
            </a:r>
            <a:br>
              <a:rPr sz="3600"/>
            </a:b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ПРЕДМЕТ И СТРУКТУРА ЭКОЛОГИ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2362320" y="5813280"/>
            <a:ext cx="67053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Ларионова Екатерина Владимировна, доцент каф. ЭБЖ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2" name="Picture 5" descr="&amp;Kcy;&amp;acy;&amp;rcy;&amp;tcy;&amp;icy;&amp;ncy;&amp;kcy;&amp;acy; 6 &amp;icy;&amp;zcy; 1135"/>
          <p:cNvPicPr/>
          <p:nvPr/>
        </p:nvPicPr>
        <p:blipFill>
          <a:blip r:embed="rId1"/>
          <a:stretch/>
        </p:blipFill>
        <p:spPr>
          <a:xfrm>
            <a:off x="179280" y="111240"/>
            <a:ext cx="3183120" cy="3332160"/>
          </a:xfrm>
          <a:prstGeom prst="rect">
            <a:avLst/>
          </a:prstGeom>
          <a:ln w="0">
            <a:noFill/>
          </a:ln>
        </p:spPr>
      </p:pic>
      <p:sp>
        <p:nvSpPr>
          <p:cNvPr id="493" name="Місце для нижнього колонтитула 2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Главный объект изучения в экологии</a:t>
            </a:r>
            <a:r>
              <a:rPr b="0" lang="ru-RU" sz="4800" spc="-1" strike="noStrike">
                <a:solidFill>
                  <a:srgbClr val="444d26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78920" y="16286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Экосистема.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учение функционирования экосистем и оценка пределов антропогенного воздействия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6" name="Content Placeholder 4" descr="book.png"/>
          <p:cNvPicPr/>
          <p:nvPr/>
        </p:nvPicPr>
        <p:blipFill>
          <a:blip r:embed="rId1"/>
          <a:stretch/>
        </p:blipFill>
        <p:spPr>
          <a:xfrm>
            <a:off x="4449600" y="1554120"/>
            <a:ext cx="4481640" cy="48960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&amp;Kcy;&amp;acy;&amp;rcy;&amp;tcy;&amp;icy;&amp;ncy;&amp;kcy;&amp;acy; 3 &amp;icy;&amp;zcy; 134011"/>
          <p:cNvPicPr/>
          <p:nvPr/>
        </p:nvPicPr>
        <p:blipFill>
          <a:blip r:embed="rId2"/>
          <a:stretch/>
        </p:blipFill>
        <p:spPr>
          <a:xfrm>
            <a:off x="3875040" y="1670040"/>
            <a:ext cx="2832120" cy="25192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&amp;Kcy;&amp;acy;&amp;rcy;&amp;tcy;&amp;icy;&amp;ncy;&amp;kcy;&amp;acy; 6 &amp;icy;&amp;zcy; 402"/>
          <p:cNvPicPr/>
          <p:nvPr/>
        </p:nvPicPr>
        <p:blipFill>
          <a:blip r:embed="rId3"/>
          <a:stretch/>
        </p:blipFill>
        <p:spPr>
          <a:xfrm>
            <a:off x="6804000" y="1484280"/>
            <a:ext cx="2635200" cy="2890800"/>
          </a:xfrm>
          <a:prstGeom prst="rect">
            <a:avLst/>
          </a:prstGeom>
          <a:ln w="0">
            <a:noFill/>
          </a:ln>
        </p:spPr>
      </p:pic>
      <p:sp>
        <p:nvSpPr>
          <p:cNvPr id="529" name="Прямоугольник 1"/>
          <p:cNvSpPr/>
          <p:nvPr/>
        </p:nvSpPr>
        <p:spPr>
          <a:xfrm>
            <a:off x="4427640" y="4714920"/>
            <a:ext cx="45720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«Много ли пользы от дома, если у вас нет сносной планеты, на которой можно его поставить?» </a:t>
            </a:r>
            <a:r>
              <a:rPr b="0" lang="ru-RU" sz="1800" spc="-1" strike="noStrike" u="sng">
                <a:solidFill>
                  <a:srgbClr val="8e58b6"/>
                </a:solidFill>
                <a:uFillTx/>
                <a:latin typeface="Tw Cen MT"/>
                <a:ea typeface="Arial"/>
                <a:hlinkClick r:id="rId4"/>
              </a:rPr>
              <a:t>Генри Дэвид Торо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Экологизация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50560" y="160020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последовательного внедрения идей сохранения природы и устойчивой окружающей среды в сферы законодательства, управления, разработки технологий, экономики, образования и т.д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3" name="Picture 5" descr="&amp;Kcy;&amp;acy;&amp;rcy;&amp;tcy;&amp;icy;&amp;ncy;&amp;kcy;&amp;acy; 11 &amp;icy;&amp;zcy; 1396"/>
          <p:cNvPicPr/>
          <p:nvPr/>
        </p:nvPicPr>
        <p:blipFill>
          <a:blip r:embed="rId1"/>
          <a:stretch/>
        </p:blipFill>
        <p:spPr>
          <a:xfrm>
            <a:off x="4284720" y="1595520"/>
            <a:ext cx="4859280" cy="4859280"/>
          </a:xfrm>
          <a:prstGeom prst="rect">
            <a:avLst/>
          </a:prstGeom>
          <a:ln w="0">
            <a:noFill/>
          </a:ln>
        </p:spPr>
      </p:pic>
      <p:sp>
        <p:nvSpPr>
          <p:cNvPr id="53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Экологическое мировоззре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нтропоцентрическое экологическое созн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txBody>
          <a:bodyPr anchor="ctr">
            <a:normAutofit fontScale="8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Экоцентрическое экологическое сознани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8" name="Picture 5" descr="s640x480"/>
          <p:cNvPicPr/>
          <p:nvPr/>
        </p:nvPicPr>
        <p:blipFill>
          <a:blip r:embed="rId1"/>
          <a:stretch/>
        </p:blipFill>
        <p:spPr>
          <a:xfrm>
            <a:off x="-3205080" y="476280"/>
            <a:ext cx="2949480" cy="4076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32"/>
          <p:cNvPicPr/>
          <p:nvPr/>
        </p:nvPicPr>
        <p:blipFill>
          <a:blip r:embed="rId2"/>
          <a:stretch/>
        </p:blipFill>
        <p:spPr>
          <a:xfrm>
            <a:off x="755640" y="2658960"/>
            <a:ext cx="3678120" cy="37879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http://t3.gstatic.com/images?q=tbn:ANd9GcTN2pQo29Gu1vBW4IKEe7CmkebmrnfpwL6Php0Rd5yVZefaZyweug&amp;t=1"/>
          <p:cNvPicPr/>
          <p:nvPr/>
        </p:nvPicPr>
        <p:blipFill>
          <a:blip r:embed="rId3"/>
          <a:stretch/>
        </p:blipFill>
        <p:spPr>
          <a:xfrm>
            <a:off x="4943520" y="3027240"/>
            <a:ext cx="3805200" cy="284976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можно решить глобальные экологические проблемы с помощью антропоцентрического и экоцентрического подхода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мографический взрыв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грязнение окружающей среды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ехватка энергоресурсов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худшение здоровья человек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Цель изучения дисциплины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ормирование экологического мировоззрения и умения использовать экологические законы и принципы для принятия проектных решений в своей профессиональной деятельност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8" name="Picture 5" descr="24"/>
          <p:cNvPicPr/>
          <p:nvPr/>
        </p:nvPicPr>
        <p:blipFill>
          <a:blip r:embed="rId1"/>
          <a:stretch/>
        </p:blipFill>
        <p:spPr>
          <a:xfrm>
            <a:off x="6516720" y="414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7" descr="18552b437c4e0e0c64e47edcf415fe17674b7cca"/>
          <p:cNvPicPr/>
          <p:nvPr/>
        </p:nvPicPr>
        <p:blipFill>
          <a:blip r:embed="rId2"/>
          <a:stretch/>
        </p:blipFill>
        <p:spPr>
          <a:xfrm>
            <a:off x="108000" y="4221000"/>
            <a:ext cx="3025800" cy="20098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ricunok22"/>
          <p:cNvPicPr/>
          <p:nvPr/>
        </p:nvPicPr>
        <p:blipFill>
          <a:blip r:embed="rId3"/>
          <a:stretch/>
        </p:blipFill>
        <p:spPr>
          <a:xfrm>
            <a:off x="3564000" y="4508640"/>
            <a:ext cx="2449440" cy="217008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54520" y="1483920"/>
            <a:ext cx="5145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ctr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ли сделать вывод о необходимости всеобщей экологической образованности?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ctr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ажите необходимость экологических знаний для инженера и вашей профессиональной деятельности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4" name="Picture 5" descr="http://t1.gstatic.com/images?q=tbn:ANd9GcQAEfgYmlUT1kYq0biDnohoCPzS9-EI8NBR2GIlrioi29XVsz5Qsw"/>
          <p:cNvPicPr/>
          <p:nvPr/>
        </p:nvPicPr>
        <p:blipFill>
          <a:blip r:embed="rId1"/>
          <a:stretch/>
        </p:blipFill>
        <p:spPr>
          <a:xfrm>
            <a:off x="30240" y="3213000"/>
            <a:ext cx="1909800" cy="2087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ANd9GcTDuX6YUkwCKEDRdnsrGOdNnlbN0TqrvqoVPaV58u0Zb0qKtlTJ"/>
          <p:cNvPicPr/>
          <p:nvPr/>
        </p:nvPicPr>
        <p:blipFill>
          <a:blip r:embed="rId2"/>
          <a:stretch/>
        </p:blipFill>
        <p:spPr>
          <a:xfrm>
            <a:off x="390600" y="1557360"/>
            <a:ext cx="2905200" cy="15717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ANd9GcSnNWaznMKBHETsJh-OmIml1AruvXei-KzSI8aPs3GrWHU73KwH"/>
          <p:cNvPicPr/>
          <p:nvPr/>
        </p:nvPicPr>
        <p:blipFill>
          <a:blip r:embed="rId3"/>
          <a:stretch/>
        </p:blipFill>
        <p:spPr>
          <a:xfrm>
            <a:off x="806400" y="50990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3" descr="1337864773_vospitatel"/>
          <p:cNvPicPr/>
          <p:nvPr/>
        </p:nvPicPr>
        <p:blipFill>
          <a:blip r:embed="rId4"/>
          <a:stretch/>
        </p:blipFill>
        <p:spPr>
          <a:xfrm>
            <a:off x="1843200" y="3290760"/>
            <a:ext cx="2043000" cy="1930680"/>
          </a:xfrm>
          <a:prstGeom prst="rect">
            <a:avLst/>
          </a:prstGeom>
          <a:ln w="0">
            <a:noFill/>
          </a:ln>
        </p:spPr>
      </p:pic>
      <p:sp>
        <p:nvSpPr>
          <p:cNvPr id="55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4d26"/>
                </a:solidFill>
                <a:latin typeface="Calibri"/>
              </a:rPr>
              <a:t>Основная образовательная программа </a:t>
            </a:r>
            <a:r>
              <a:rPr b="0" lang="ru-RU" sz="2800" spc="-1" strike="noStrike">
                <a:solidFill>
                  <a:srgbClr val="444d26"/>
                </a:solidFill>
                <a:latin typeface="Calibri"/>
                <a:ea typeface="HGPｺﾞｼｯｸE"/>
              </a:rPr>
              <a:t>по направлению 280700 «Техносферная безопасность» </a:t>
            </a:r>
            <a:endParaRPr b="0" lang="en-US" sz="28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123640" y="2088720"/>
            <a:ext cx="49690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кт проф. деятельност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0" y="1412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Научно-исследователь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3873600" y="1699560"/>
            <a:ext cx="53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Проектно-конструктор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71280" y="6175440"/>
            <a:ext cx="44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Организационно-управленческ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Rectangle 9"/>
          <p:cNvSpPr/>
          <p:nvPr/>
        </p:nvSpPr>
        <p:spPr>
          <a:xfrm>
            <a:off x="6443640" y="4080240"/>
            <a:ext cx="29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Сервисно-эксплутационная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HGPｺﾞｼｯｸ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65" name="Picture 15" descr="201"/>
          <p:cNvPicPr/>
          <p:nvPr/>
        </p:nvPicPr>
        <p:blipFill>
          <a:blip r:embed="rId1"/>
          <a:stretch/>
        </p:blipFill>
        <p:spPr>
          <a:xfrm>
            <a:off x="6583320" y="2044800"/>
            <a:ext cx="2424240" cy="1817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9" descr="http://abiturient.ispu.ru/su/spec/102.jpg"/>
          <p:cNvPicPr/>
          <p:nvPr/>
        </p:nvPicPr>
        <p:blipFill>
          <a:blip r:embed="rId2"/>
          <a:stretch/>
        </p:blipFill>
        <p:spPr>
          <a:xfrm>
            <a:off x="0" y="177336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1" descr="http://abiturient.ispu.ru/su/spec/503.jpg"/>
          <p:cNvPicPr/>
          <p:nvPr/>
        </p:nvPicPr>
        <p:blipFill>
          <a:blip r:embed="rId3"/>
          <a:stretch/>
        </p:blipFill>
        <p:spPr>
          <a:xfrm>
            <a:off x="0" y="44038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http://www.bmstu-kaluga.ru/files/images/43ef5f030d09b854b5b9c016e1d7f064.jpg"/>
          <p:cNvPicPr/>
          <p:nvPr/>
        </p:nvPicPr>
        <p:blipFill>
          <a:blip r:embed="rId4"/>
          <a:stretch/>
        </p:blipFill>
        <p:spPr>
          <a:xfrm>
            <a:off x="2552760" y="2492280"/>
            <a:ext cx="3568680" cy="239076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1"/>
          <p:cNvSpPr/>
          <p:nvPr/>
        </p:nvSpPr>
        <p:spPr>
          <a:xfrm>
            <a:off x="2340000" y="5073480"/>
            <a:ext cx="34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Экспертная, надзорная и инспекционно-аудиторская деятельность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70" name="Picture 6" descr="http://seat-avtodina.ru/images/seat/service/service_title.jpg"/>
          <p:cNvPicPr/>
          <p:nvPr/>
        </p:nvPicPr>
        <p:blipFill>
          <a:blip r:embed="rId5"/>
          <a:stretch/>
        </p:blipFill>
        <p:spPr>
          <a:xfrm>
            <a:off x="5867280" y="5184720"/>
            <a:ext cx="3252960" cy="1422360"/>
          </a:xfrm>
          <a:prstGeom prst="rect">
            <a:avLst/>
          </a:prstGeom>
          <a:ln w="0">
            <a:noFill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Студент должен обладать компетенциям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щекультурные компетенции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ением культурой безопасности и риск-ориентированным мышлением, при котором вопросы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езопасности и сохранения окружающей сре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атриваются в качестве важнейших приоритетов в жизни и деятельности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4d26"/>
                </a:solidFill>
                <a:latin typeface="Calibri"/>
              </a:rPr>
              <a:t>Студент должен обладать компетенциями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перспективах развития техники и технологи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защи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человека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генного и природного характер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основных методах и системах обеспечения техносферной безопасности, обоснованно выбирать известные устройства, системы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методы защит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овека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родной среды от опасностей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товностью использовать знания по организации охраны труда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храны окружающей сред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безопасности в чрезвычайных ситуациях на объектах экономики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использовать методы определени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ормативных уровне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опустимых негативных воздействий на человека и природную среду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ностью ориентировать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сновных проблемах техносферной безопасност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44d26"/>
                </a:solidFill>
                <a:latin typeface="Calibri"/>
              </a:rPr>
              <a:t>Экологические законы Коммонера</a:t>
            </a:r>
            <a:endParaRPr b="0" lang="en-US" sz="40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203280" y="1752120"/>
            <a:ext cx="5559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связано со всем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куда-нибудь деваетс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 что-нибудь да стоит (ничто не дается даром)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рода знает лучше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2" name="Picture 6" descr="Барри Коммонер"/>
          <p:cNvPicPr/>
          <p:nvPr/>
        </p:nvPicPr>
        <p:blipFill>
          <a:blip r:embed="rId1"/>
          <a:stretch/>
        </p:blipFill>
        <p:spPr>
          <a:xfrm>
            <a:off x="307800" y="1628640"/>
            <a:ext cx="2711520" cy="2305080"/>
          </a:xfrm>
          <a:prstGeom prst="rect">
            <a:avLst/>
          </a:prstGeom>
          <a:ln w="0">
            <a:noFill/>
          </a:ln>
        </p:spPr>
      </p:pic>
      <p:sp>
        <p:nvSpPr>
          <p:cNvPr id="583" name="Прямоугольник 3"/>
          <p:cNvSpPr/>
          <p:nvPr/>
        </p:nvSpPr>
        <p:spPr>
          <a:xfrm>
            <a:off x="192240" y="4149720"/>
            <a:ext cx="2827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  <a:ea typeface="Arial"/>
              </a:rPr>
              <a:t>Барри Коммонер (1917) - американский эколог и биолог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Информация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09120" y="1752480"/>
            <a:ext cx="3886200" cy="4572000"/>
          </a:xfrm>
          <a:prstGeom prst="rect">
            <a:avLst/>
          </a:prstGeom>
          <a:noFill/>
          <a:ln w="19080">
            <a:solidFill>
              <a:srgbClr val="dd7e0e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Лекции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актики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 КР во время КН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 ИДЗ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ворческая работа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11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чет по результатам 2 КР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844520" y="1752480"/>
            <a:ext cx="3886200" cy="4572000"/>
          </a:xfrm>
          <a:prstGeom prst="rect">
            <a:avLst/>
          </a:prstGeom>
          <a:noFill/>
          <a:ln w="12600">
            <a:solidFill>
              <a:srgbClr val="dd7e0e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rtal.tpu.ru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сональные сайты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Ларионова Е.В.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чебное пособие, практикум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бочая программа, рейтинг-лист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актики в виде презентации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ДЗ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думайте сложную цепь экологических взаимодействий, которая начинается с того, что вы роняете семечко яблони, а в итоге реализации сложных биоцентрических связей у вашего отца оказываются испорченными кожаные туфл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Рейтинг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971640" y="1557360"/>
          <a:ext cx="7561080" cy="5273640"/>
        </p:xfrm>
        <a:graphic>
          <a:graphicData uri="http://schemas.openxmlformats.org/drawingml/2006/table">
            <a:tbl>
              <a:tblPr/>
              <a:tblGrid>
                <a:gridCol w="3779640"/>
                <a:gridCol w="3781440"/>
              </a:tblGrid>
              <a:tr h="36504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a447"/>
                    </a:solidFill>
                  </a:tcPr>
                </a:tc>
              </a:tr>
              <a:tr h="6415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и (6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42696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овые игры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 бал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З (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 б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1 (контрольная работа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415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2 (контрольная работа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</a:tr>
              <a:tr h="639720"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бал - допуск к зачет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3ee"/>
                    </a:solidFill>
                  </a:tcPr>
                </a:tc>
              </a:tr>
              <a:tr h="639720">
                <a:tc gridSpan="2">
                  <a:txBody>
                    <a:bodyPr lIns="95760" rIns="95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о результатам 2 КН: 40 бал (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&gt; 22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бал - зач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5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0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Ответственность студента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752560" y="1752120"/>
            <a:ext cx="6010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гласно утвержденным руководящим материалам по текущему контролю успеваемости, промежуточной и итоговой аттестации студентов ТПУ, студент несет ответственность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За выполнение требований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ОП, выраженной в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становленной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совокупности результатов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546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бучения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3" name="Picture 2" descr="http://img0.liveinternet.ru/images/attach/c/1/50/689/50689845_0_1d898_6d84dc46_XL.jpg"/>
          <p:cNvPicPr/>
          <p:nvPr/>
        </p:nvPicPr>
        <p:blipFill>
          <a:blip r:embed="rId1"/>
          <a:stretch/>
        </p:blipFill>
        <p:spPr>
          <a:xfrm>
            <a:off x="6480" y="1628640"/>
            <a:ext cx="2746080" cy="1960560"/>
          </a:xfrm>
          <a:prstGeom prst="rect">
            <a:avLst/>
          </a:prstGeom>
          <a:ln w="0">
            <a:noFill/>
          </a:ln>
        </p:spPr>
      </p:pic>
      <p:sp>
        <p:nvSpPr>
          <p:cNvPr id="50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Права и обязанности студентов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067280" y="1600200"/>
            <a:ext cx="4695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ы обязаны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ещать занятия, осуществлять самостоятельную подготовку, выполнять задания, выданные преподавателям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уденты несут полную ответственность за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утствие на оценочных испытаниях в установленные сроки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ение работ для оценки в установленные сроки и в соответствии с требованиями,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реподавателям или экзаменаторам информации, которая должна быть принята во внимание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ование шпаргалок, подсказывание и другие виды обмана в процедурах оценивани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7" name="Picture 5" descr="&amp;Kcy;&amp;acy;&amp;rcy;&amp;tcy;&amp;icy;&amp;ncy;&amp;kcy;&amp;acy; 15 &amp;icy;&amp;zcy; 21347"/>
          <p:cNvPicPr/>
          <p:nvPr/>
        </p:nvPicPr>
        <p:blipFill>
          <a:blip r:embed="rId1"/>
          <a:stretch/>
        </p:blipFill>
        <p:spPr>
          <a:xfrm>
            <a:off x="289080" y="2205000"/>
            <a:ext cx="3671640" cy="2749680"/>
          </a:xfrm>
          <a:prstGeom prst="rect">
            <a:avLst/>
          </a:prstGeom>
          <a:ln w="0">
            <a:noFill/>
          </a:ln>
        </p:spPr>
      </p:pic>
      <p:sp>
        <p:nvSpPr>
          <p:cNvPr id="50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Цель практики 1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– осознать необходимость экологических знаний в частной жизни и сфере профессиональной деятельност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экология, экологическое мировоззрение, экологизация, популяция, экосистема, биосфера, биоэкология, социальная экология, прикладная (инженерная экология) экология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1" name="Picture 5" descr="07"/>
          <p:cNvPicPr/>
          <p:nvPr/>
        </p:nvPicPr>
        <p:blipFill>
          <a:blip r:embed="rId1"/>
          <a:stretch/>
        </p:blipFill>
        <p:spPr>
          <a:xfrm>
            <a:off x="6372360" y="4869000"/>
            <a:ext cx="2087280" cy="1995480"/>
          </a:xfrm>
          <a:prstGeom prst="rect">
            <a:avLst/>
          </a:prstGeom>
          <a:ln w="0">
            <a:noFill/>
          </a:ln>
        </p:spPr>
      </p:pic>
      <p:sp>
        <p:nvSpPr>
          <p:cNvPr id="51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44d26"/>
                </a:solidFill>
                <a:uFillTx/>
                <a:latin typeface="Calibri"/>
              </a:rPr>
              <a:t>Что такое экология и что она изучает?</a:t>
            </a:r>
            <a:endParaRPr b="0" lang="en-US" sz="36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шем городе плохая экологи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ю необходимо охранять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я в нашем городе испорчена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логия – основа природопользовани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5" name="Picture 7" descr="40"/>
          <p:cNvPicPr/>
          <p:nvPr/>
        </p:nvPicPr>
        <p:blipFill>
          <a:blip r:embed="rId1"/>
          <a:stretch/>
        </p:blipFill>
        <p:spPr>
          <a:xfrm>
            <a:off x="108000" y="3689280"/>
            <a:ext cx="3157560" cy="3168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&amp;Icy; &amp;vcy;&amp;scy;&amp;iecy;-&amp;tcy;&amp;acy;&amp;kcy;&amp;icy; &amp;chcy;&amp;tcy;&amp;ocy; &amp;tcy;&amp;acy;&amp;kcy;&amp;ocy;&amp;iecy; &amp;ecy;&amp;kcy;&amp;ocy;&amp;lcy;&amp;ocy;&amp;gcy;&amp;icy;&amp;yacy;"/>
          <p:cNvPicPr/>
          <p:nvPr/>
        </p:nvPicPr>
        <p:blipFill>
          <a:blip r:embed="rId2"/>
          <a:stretch/>
        </p:blipFill>
        <p:spPr>
          <a:xfrm>
            <a:off x="3672000" y="3963960"/>
            <a:ext cx="4103640" cy="2679840"/>
          </a:xfrm>
          <a:prstGeom prst="rect">
            <a:avLst/>
          </a:prstGeom>
          <a:ln w="0">
            <a:noFill/>
          </a:ln>
        </p:spPr>
      </p:pic>
      <p:sp>
        <p:nvSpPr>
          <p:cNvPr id="51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вы понимаете смысл приведенных понятий? Чем вызвано их появление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е проблемы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 политик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ое образование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 катастроф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й кризи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зация промышленност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й транспорт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Экологами стали все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следовательно 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никто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» (Реймерс, 1994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44d26"/>
                </a:solidFill>
                <a:latin typeface="Calibri"/>
              </a:rPr>
              <a:t>Задание</a:t>
            </a:r>
            <a:endParaRPr b="0" lang="en-US" sz="4400" spc="-1" strike="noStrike">
              <a:solidFill>
                <a:srgbClr val="444d26"/>
              </a:solidFill>
              <a:latin typeface="Tw Cen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3a4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арисовать схему экологии как науки, учитывая предмет, задачи и объект исследования экологии. Уяснить структуру экологии как науки и историю развития экологии как науки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4d26"/>
                </a:solidFill>
                <a:latin typeface="Tw Cen MT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2:10:16Z</dcterms:created>
  <dc:creator/>
  <dc:description/>
  <dc:language>en-US</dc:language>
  <cp:lastModifiedBy/>
  <dcterms:modified xsi:type="dcterms:W3CDTF">2015-05-06T08:42:25Z</dcterms:modified>
  <cp:revision>2</cp:revision>
  <dc:subject/>
  <dc:title>Практика 1. Предмет и структура эк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1049</vt:lpwstr>
  </property>
</Properties>
</file>