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957A-084D-4586-90A0-BB8850B53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ктика 1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 и структура эк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рионова Екатерина Владимировна, доцент каф. ЭБ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A005-FCB9-49F0-8B02-A179915E1C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процедур и действий либо слайд лекции с м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объект изучения в эколог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осистем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функционирования экосистем и оценка пределов антропогенн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ьтимедийными ма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0000-0AF4-4F0A-BE5E-5F5415CB04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последовательного внедрения идей сохранения природы и устойчивой окружающей среды в сферы законодательства, управления, разработки технологий, экономики, образован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0DF7-FB66-4E63-9636-60FD3FC21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ое мировоззр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– это система представлений о взаимоотношениях в мире, способствующая самосознанию, развитию мышления, отражающееся в отношении к природе, обществу, людям. Экологическое мировозз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ческое экологическое 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центрическое экологическое 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E4F0-67DA-457E-9F02-BC86652ED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решить глобальные экологические проблемы с помощью антропоцентрического и экоцентрического подхо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хватка энерго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удшение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7EE7-6931-49AE-B117-A2FA6770E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изучения дисципл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экологического мировоззрения и умения использовать экологические законы и принципы для принятия проектных решений в свое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173D-1AD9-475C-9964-6CF328CBF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ли сделать вывод о необходимости всеобщей экологической образованност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ите необходимость экологических знаний для инженера и вашей профессиональной деятель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74F2-D932-4C35-8189-16D5F6F85E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PGothic"/>
              </a:rPr>
              <a:t>по направлению 280700 «Техносферная безопасность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ъект проф. деятельност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D518-8A43-42BB-A90B-7F5436AC1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удент должен обладать компетенц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екультурные компетен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нием культурой безопасности и риск-ориентированным мышлением, при котором вопросы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зопасности и сохранения окружающе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ются в качестве важнейших приоритетов в жизни и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19AF-9B3C-4E9B-8F59-19455BC2E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удент должен обладать компетенци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перспективах развития техники и технологи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щи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ловека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генного и природного характ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основных методах и системах обеспечения техносферной безопасности, обоснованно выбирать известные устройства, системы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тоды защи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ю использовать знания по организации охраны труда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храны окружающе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безопасности в чрезвычайных ситуациях на объектах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использовать методы определен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тивных уров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пустимых негативных воздействий на человека и природную сре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х проблемах техносферн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382A-4B20-460E-AEDA-53DD4BC8C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ологические законы Коммон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вязано со вс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куда-нибудь де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то-нибудь да стоит (ничто не дается дар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знает лучш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4272-9253-4A22-93B6-36CF894E7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ые сведе</a:t>
            </a:r>
            <a:r>
              <a:rPr b="0" lang="ru-RU" sz="1200" spc="-1" strike="noStrike">
                <a:solidFill>
                  <a:srgbClr val="444d26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и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и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Р во время К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ИД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т по результатам 2 К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tal.tpu.ru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ые сайты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арионова Е.В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е пособие, практику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программа, рейтинг-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ки в виде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я о курсе, пособия и материалы, необходимые для занятий или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470B-EF3B-4EEF-8119-287F20817C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умайте сложную цепь экологических взаимодействий, которая начинается с того, что вы роняете семечко яблони, а в итоге реализации сложных биоцентрических связей у вашего отца оказываются испорченными кожаные туф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3FA9-73EA-40FA-AFEA-603EE7FDC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блон расписания с необязательными пер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йт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ми и задач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5CB3-7AC7-431C-BA3B-E55D32B9D6A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ые замет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ветственность студ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твержденным руководящим материалам по текущему контролю успеваемости, промежуточной и итоговой аттестации студентов ТПУ, студент несет ответствен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 выполнение треб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ОП, выраженной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становлен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вокупности результ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09B2-E083-4FCE-BACC-1A337C06F7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урса, ожидаемые результаты и навыки, котор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туд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обяза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ать занятия, осуществлять самостоятельную подготовку, выполнять задания, выданные преподава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несут полную ответственность 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утствие на оценочных испытаниях в установленные сро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работ для оценки в установленные сроки и в соответствии с требованиям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преподавателям или экзаменаторам информации, которая должна быть принята во внима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шпаргалок, подсказывание и другие виды обмана в процедурах оцени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ы быть получены в ходе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E7D6-2C09-43B5-8CBF-F36C288F72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практики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ознать необходимость экологических знаний в частной жизни и сфере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кология, экологическое мировоззрение, экологизация, популяция, экосистема, биосфера, биоэкология, социальная экология, прикладная (инженерная экология) эколо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C08A-C3CE-4980-A27A-7ACD927BF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Что такое экология и что она изучает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м городе плохая эк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ю необходимо охран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в нашем городе испорч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основа природо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5341-82FB-4DC2-B6CA-02A5BB6E3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вы понимаете смысл приведенных понятий? Чем вызвано их появлени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ое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ами стали в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ледовательно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т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(Реймерс, 19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FC26-D6B1-4554-905B-064F3B8AC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словарных терминов. </a:t>
            </a:r>
            <a:r>
              <a:rPr b="0" lang="ru-RU" sz="12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ть схему экологии как науки, учитывая предмет, задачи и объект исследования экологии. Уяснить структуру экологии как науки и историю развития экологии как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B1B3-DF85-4912-B663-495949344D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3434-65EC-48CD-8799-CB7CB31E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2CA0-284D-47F7-BC7B-0383C83D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F90DC-4B45-46B4-B866-E6B5000C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BC353-9033-43BD-A96E-FE13FCCD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4DF26-F8CB-463F-84EC-FB0F9A23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954B9-4BB3-4E03-A842-5E350198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62F07-DF24-4DDC-AECC-C611F5DB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22B71-573A-478A-99BC-BCA958DE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1735B-DD0D-44AD-8FCE-EA02D290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85F72-E5BB-4B81-9116-223B3F01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7BAAC-96BE-4C6E-9727-811FFDCF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208557-05A3-465A-B786-05D3FEDB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64A-627A-483A-8742-9F4C172D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13E574-7A13-43E6-A18B-09DAA385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C9B0CA-3FD3-471F-8F0B-A18E5231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E38DE0-B199-49AD-B776-280840AC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8C4C12-C363-446F-81CB-E6C4F318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43B815-6039-4BCA-A886-B13A0F4A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8D0926-BBD6-45E0-92D3-E954490E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FE7485-A48B-4961-A831-97FFBC17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B1EF1D-9236-4118-8037-B0F3F7AA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712544-B372-4832-9551-6AD104AB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CC825A-2C43-479F-84D8-7A7B1D7B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4F1-3CB2-4C05-9E51-A1C6E074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EA2FC3-2498-4C75-8004-56B7C6D7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7BE7E-EC3A-4815-9C27-762F8151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964CA-ECEF-4C8E-9392-B6AC4B00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F89D8-EECE-4F6E-ACB2-A6B2427A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4D911-A907-4670-A994-A5250693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1889B-FE03-40D5-8776-60F31874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FA9D8-36F9-4122-A677-40B99FCA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CD74E-769C-42FC-AA0A-2FEEB642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490FA-B48B-4533-8C7C-168D09FF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A6097-531D-4D4A-99A8-7BC98093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D7A2-6E7C-4820-A2E7-E46BA04E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59C0E-F31F-4783-9718-75042E91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90BF5-2F9D-44C8-A2E0-405D4927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219ED-0F63-4436-BE67-23BB2D03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2B43-315E-4C08-A9BC-683DE5FF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0C30-6F22-4612-80A1-B2091928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BA09-1775-4291-BA90-34B9BD33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D0F1-B9A7-46F5-A8BA-AD8F02D3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7E30-3524-44D3-BFBD-A4040EB2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3314-1E84-40BD-BB05-F8EAAD13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CFEA-1D4F-4117-B10B-253AB26E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5AFD-C138-44CF-9140-4812C96B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146C-7B09-4B34-8028-F0C04710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63EB-BC40-443B-A807-6D642204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A7DA-2161-4242-92A3-3CC1B9F6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D9F2-E304-4E3F-9A8A-D3DBA427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621E1-D141-4E9E-8BF2-A315B97D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7DEF1-D8FD-4638-8C3E-AC4EDC1E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8F73F-8B2E-40F1-8709-5364F03D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2A598-FFA8-445C-8001-4B890CEF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3AE38-1CE5-4AF3-BACB-C8FB5711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A51-630A-407E-B0DF-C1D8D2ED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A75A9-7AC8-4AC1-BE14-CC9BF0F0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61C89-70CD-4CCF-8439-1BACC617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50275-6273-41E2-9917-1D4F0985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BE010-CD5B-46E5-9238-09E4145F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4A65F-B78A-41BD-8649-78AC9D01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C0A2B-9A9D-44C7-9DDB-F079F7CC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EA4A1-A6DC-4A50-A7B1-A384C43B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031271-2B83-4AC9-A79C-5FF61D33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21BC03-3C1B-4CB4-B8FE-3427E205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DF70B5-9B92-4BF1-B75E-64D6AA4B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B59-29C6-4327-9341-879602B1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282294-6E43-4202-890D-0C98AB98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09A615-EB0F-45B9-A2EE-4B253EF9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8CF770-740E-44D0-B4DE-050BCC8D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A567D3-88A4-49EC-BFB9-C7A21581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C92E1C-D98C-4DB2-8670-4E8CD4F2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B7DF2-DF57-4F3A-A4E3-3333E5F2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680509-30DA-4C47-AF78-294192D3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419397-D363-4A53-8653-D007D8B4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920CF3-7723-4169-82DB-EFDC238F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8B6287-08F7-465D-8183-0049C673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02DB-CF97-475E-9943-4552E77D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95BF1-2560-471B-A73D-24906AF6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1B374F-37D2-41B4-8E1E-72EB2984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C62E73-FDB1-4602-9D2B-B7B747DA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9678B2-8854-4D6A-8DF8-8F62824A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C641FE-E0A8-41C5-9101-5D88D842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B1E603-C0B6-4210-BDD1-4564F932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2925E0-7EE4-4FE2-B25B-605515A7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3A6AB8-D174-47DA-88CD-CA14E73F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6F9A7-DC24-4683-9861-C47F19CE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3948CC-5EE0-4002-A087-3346ACE4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BEF-C995-4E5C-8150-F62BF4A5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F85036-6611-4EDC-829D-B452EC63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EFCE38-C6CC-4F3F-A746-2ECBF441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E40D44-F56D-4217-8CD3-4D36C00F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541E95-C1C5-4F0F-9867-1D7FA659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D133FB-ED22-42FF-86C4-03C90B09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EB2820-3C81-4993-B116-C7A6E775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D41B13-E172-4343-8418-E89E2E14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6DD448-E7A2-4027-B87D-C0EFBB02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D181D3-5F86-46D7-A3D2-F82C2112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F85B9E-B8BD-4F77-AA29-5801F7B9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87C3-77CB-454F-87A2-E75A8052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33DA90-ED35-45EF-81FA-7A4D6817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ADD21C-7679-4F4D-B48D-BACC9021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546D48-4EA1-4F5E-81CB-FCBD42AE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C9B93-31D9-4489-9B4B-A050753F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69B63-AB1B-4740-8ACB-E49DA2D3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B501E-70B7-45C6-B705-134A62AE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154BF-7B63-42C2-BAB6-5843E805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EA3C5-46A4-43AE-9CEB-3BE6F446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ABBA8-87BC-49CE-8939-482954BC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F1F01-BF48-496A-9E56-9C6D5AAD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CA00-6EBA-4622-B83B-6703E331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84D95-1E57-4C79-BE14-66A15C0B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D6762-DF08-48D3-A559-2BABF232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00026-AD3D-42CA-9737-C3B5F590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1EB0D-F787-4DB1-B6A5-434332DC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D58E6-A396-4616-824A-59E39348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457EF-E749-45E1-BDC7-AB7E4EF7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D0A55-C157-4281-A4BE-146BC214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C8DC5-1D4C-4FE1-A1D3-14E6579F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88D83-B9B7-4DC2-8C7B-D76094F7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00ED2-234C-4CE6-BCC1-888067E3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846-EC3C-470E-9E38-98D45FE3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4885B-0D19-4EE3-A390-03805FE5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89C51-AECF-4EAB-98B6-A50F3E16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5BF35-1867-4710-919B-05C36B75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9A721-979B-42F0-B90F-FC47E507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02DC6-3E84-4A54-8EDE-5BBA3A5D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615FE-A30B-4C64-96DF-81AD02FA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DAA60-49D0-452B-B7AB-CB992F5B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C8572-F348-46B9-91E5-0BCCB969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F52AF-6A9F-4BE8-8263-C3509407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6F2E5-8C74-4A4D-9940-FD5A6536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98AF-5B22-4BE4-A1F8-338DCC90AFBD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89E49DD8-20AF-437D-8098-EDEC927989AF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5:2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6D4E-0016-470E-B48A-731C5536D9D7}" type="slidenum">
              <a:rPr b="1" lang="en-US" sz="12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47AC-EE9A-427D-84FD-716B0FB8C5EB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61E02CE2-4625-42AD-9DB9-A602A51F600D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5:2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4E58-F59B-4F38-818A-5587B5F3DF30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3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2CB6-4707-4178-AAFC-6D64E1418C69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CF63FC69-4D47-4C4B-B842-88075C65E764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5:2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CA0D-146E-48E1-8D5E-38B7AAA1DAEB}" type="slidenum">
              <a:rPr b="1" lang="en-US" sz="12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61C5-FCE1-4841-8C05-BB8B74418217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E10601F7-BFCD-408F-8306-A8D7CE5D90CA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5:25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83D1-5ED8-47F0-9246-15F3F456F99E}" type="slidenum">
              <a:rPr b="1" lang="en-US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EA95-AA76-43FD-9A45-28E779DBD800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99C5D331-6918-4048-8E26-7F70C51B2DE8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5:2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6836-5854-495E-87E8-64CC9E4B886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9F8A-4814-4066-A42F-FE67EC9C046D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6BF70741-D96E-4F2B-BF97-304ACD9C8C90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5:2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952C-D9FC-4D59-A5D2-6802F393BDC0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EC24-3052-45D6-AC89-C1FFE04F1CEA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86CB599F-B1DA-4B9C-A328-0B19ECBAF418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5:2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E572-0786-432D-9294-225FFA748D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1AC6-4290-4C51-804E-929429CB4C9F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F609D07F-477C-46B3-870C-091EB3DE0A97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5:2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D0B1-1D6B-4C7F-B56A-DE1C8110D4B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9252-CDAE-48B4-B5C9-E9B3E3234C4A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11379ED7-8777-46F9-936E-7EDBC94C64C4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5:2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3D14-F0EA-4710-8A0D-2704F82483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44A1-146E-404F-9200-03264EF7173A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EBD86E1B-38D7-45CA-B574-B41FFEBE85F7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5:2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8391-03E0-4214-B06E-34A7C7F7419D}" type="slidenum">
              <a:rPr b="1" lang="en-US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2" name="Picture 9" descr="sm_book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cap="sq" w="50760">
            <a:solidFill>
              <a:srgbClr val="f3a447"/>
            </a:solidFill>
            <a:miter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3209-3248-4E4F-8121-7A546A8A1A32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7B237122-72C7-4C1C-A106-C0CAA6F769C2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15:2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B819-B6B2-43D5-AB62-CD49DA935B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aforizmer.ru/aforizmi/genri-devid-toro" TargetMode="External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0" y="4173120"/>
            <a:ext cx="6477120" cy="13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ПРАКТИКА 1.</a:t>
            </a:r>
            <a:br>
              <a:rPr sz="3600"/>
            </a:b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ПРЕДМЕТ И СТРУКТУРА ЭКОЛОГИ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2362320" y="5813280"/>
            <a:ext cx="67053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Ларионова Екатерина Владимировна, доцент каф. ЭБЖ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2" name="Picture 5" descr="&amp;Kcy;&amp;acy;&amp;rcy;&amp;tcy;&amp;icy;&amp;ncy;&amp;kcy;&amp;acy; 6 &amp;icy;&amp;zcy; 1135"/>
          <p:cNvPicPr/>
          <p:nvPr/>
        </p:nvPicPr>
        <p:blipFill>
          <a:blip r:embed="rId1"/>
          <a:stretch/>
        </p:blipFill>
        <p:spPr>
          <a:xfrm>
            <a:off x="179280" y="111240"/>
            <a:ext cx="3183120" cy="3332160"/>
          </a:xfrm>
          <a:prstGeom prst="rect">
            <a:avLst/>
          </a:prstGeom>
          <a:ln w="0">
            <a:noFill/>
          </a:ln>
        </p:spPr>
      </p:pic>
      <p:sp>
        <p:nvSpPr>
          <p:cNvPr id="493" name="Місце для нижнього колонтитула 2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Главный объект изучения в экологии</a:t>
            </a:r>
            <a:r>
              <a:rPr b="0" lang="ru-RU" sz="4800" spc="-1" strike="noStrike">
                <a:solidFill>
                  <a:srgbClr val="444d26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78920" y="16286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косистема.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зучение функционирования экосистем и оценка пределов антропогенного воздействия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6" name="Content Placeholder 4" descr="book.png"/>
          <p:cNvPicPr/>
          <p:nvPr/>
        </p:nvPicPr>
        <p:blipFill>
          <a:blip r:embed="rId1"/>
          <a:stretch/>
        </p:blipFill>
        <p:spPr>
          <a:xfrm>
            <a:off x="4449600" y="1554120"/>
            <a:ext cx="4481640" cy="4896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&amp;Kcy;&amp;acy;&amp;rcy;&amp;tcy;&amp;icy;&amp;ncy;&amp;kcy;&amp;acy; 3 &amp;icy;&amp;zcy; 134011"/>
          <p:cNvPicPr/>
          <p:nvPr/>
        </p:nvPicPr>
        <p:blipFill>
          <a:blip r:embed="rId2"/>
          <a:stretch/>
        </p:blipFill>
        <p:spPr>
          <a:xfrm>
            <a:off x="3875040" y="1670040"/>
            <a:ext cx="2832120" cy="25192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7" descr="&amp;Kcy;&amp;acy;&amp;rcy;&amp;tcy;&amp;icy;&amp;ncy;&amp;kcy;&amp;acy; 6 &amp;icy;&amp;zcy; 402"/>
          <p:cNvPicPr/>
          <p:nvPr/>
        </p:nvPicPr>
        <p:blipFill>
          <a:blip r:embed="rId3"/>
          <a:stretch/>
        </p:blipFill>
        <p:spPr>
          <a:xfrm>
            <a:off x="6804000" y="1484280"/>
            <a:ext cx="2635200" cy="2890800"/>
          </a:xfrm>
          <a:prstGeom prst="rect">
            <a:avLst/>
          </a:prstGeom>
          <a:ln w="0">
            <a:noFill/>
          </a:ln>
        </p:spPr>
      </p:pic>
      <p:sp>
        <p:nvSpPr>
          <p:cNvPr id="529" name="Прямоугольник 1"/>
          <p:cNvSpPr/>
          <p:nvPr/>
        </p:nvSpPr>
        <p:spPr>
          <a:xfrm>
            <a:off x="4427640" y="4714920"/>
            <a:ext cx="45720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«Много ли пользы от дома, если у вас нет сносной планеты, на которой можно его поставить?»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Tw Cen MT"/>
                <a:ea typeface="Arial"/>
                <a:hlinkClick r:id="rId4"/>
              </a:rPr>
              <a:t>Генри Дэвид Торо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Экологизация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250560" y="1600200"/>
            <a:ext cx="42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оследовательного внедрения идей сохранения природы и устойчивой окружающей среды в сферы законодательства, управления, разработки технологий, экономики, образования и т.д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3" name="Picture 5" descr="&amp;Kcy;&amp;acy;&amp;rcy;&amp;tcy;&amp;icy;&amp;ncy;&amp;kcy;&amp;acy; 11 &amp;icy;&amp;zcy; 1396"/>
          <p:cNvPicPr/>
          <p:nvPr/>
        </p:nvPicPr>
        <p:blipFill>
          <a:blip r:embed="rId1"/>
          <a:stretch/>
        </p:blipFill>
        <p:spPr>
          <a:xfrm>
            <a:off x="4284720" y="1595520"/>
            <a:ext cx="4859280" cy="4859280"/>
          </a:xfrm>
          <a:prstGeom prst="rect">
            <a:avLst/>
          </a:prstGeom>
          <a:ln w="0">
            <a:noFill/>
          </a:ln>
        </p:spPr>
      </p:pic>
      <p:sp>
        <p:nvSpPr>
          <p:cNvPr id="53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Экологическое мировоззре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нтропоцентрическое экологическое созна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коцентрическое экологическое созна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8" name="Picture 5" descr="s640x480"/>
          <p:cNvPicPr/>
          <p:nvPr/>
        </p:nvPicPr>
        <p:blipFill>
          <a:blip r:embed="rId1"/>
          <a:stretch/>
        </p:blipFill>
        <p:spPr>
          <a:xfrm>
            <a:off x="-3205080" y="476280"/>
            <a:ext cx="2949480" cy="4076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32"/>
          <p:cNvPicPr/>
          <p:nvPr/>
        </p:nvPicPr>
        <p:blipFill>
          <a:blip r:embed="rId2"/>
          <a:stretch/>
        </p:blipFill>
        <p:spPr>
          <a:xfrm>
            <a:off x="755640" y="2658960"/>
            <a:ext cx="3678120" cy="37879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http://t3.gstatic.com/images?q=tbn:ANd9GcTN2pQo29Gu1vBW4IKEe7CmkebmrnfpwL6Php0Rd5yVZefaZyweug&amp;t=1"/>
          <p:cNvPicPr/>
          <p:nvPr/>
        </p:nvPicPr>
        <p:blipFill>
          <a:blip r:embed="rId3"/>
          <a:stretch/>
        </p:blipFill>
        <p:spPr>
          <a:xfrm>
            <a:off x="4943520" y="3027240"/>
            <a:ext cx="3805200" cy="284976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можно решить глобальные экологические проблемы с помощью антропоцентрического и экоцентрического подхода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емографический взрыв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грязнение окружающей среды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хватка энергоресурсов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худшение здоровья человек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Цель изучения дисциплины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ормирование экологического мировоззрения и умения использовать экологические законы и принципы для принятия проектных решений в своей профессиональной деятельност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48" name="Picture 5" descr="24"/>
          <p:cNvPicPr/>
          <p:nvPr/>
        </p:nvPicPr>
        <p:blipFill>
          <a:blip r:embed="rId1"/>
          <a:stretch/>
        </p:blipFill>
        <p:spPr>
          <a:xfrm>
            <a:off x="6516720" y="414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7" descr="18552b437c4e0e0c64e47edcf415fe17674b7cca"/>
          <p:cNvPicPr/>
          <p:nvPr/>
        </p:nvPicPr>
        <p:blipFill>
          <a:blip r:embed="rId2"/>
          <a:stretch/>
        </p:blipFill>
        <p:spPr>
          <a:xfrm>
            <a:off x="108000" y="4221000"/>
            <a:ext cx="3025800" cy="20098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ricunok22"/>
          <p:cNvPicPr/>
          <p:nvPr/>
        </p:nvPicPr>
        <p:blipFill>
          <a:blip r:embed="rId3"/>
          <a:stretch/>
        </p:blipFill>
        <p:spPr>
          <a:xfrm>
            <a:off x="3564000" y="4508640"/>
            <a:ext cx="2449440" cy="217008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54520" y="1483920"/>
            <a:ext cx="5145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ctr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ли сделать вывод о необходимости всеобщей экологической образованности?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ctr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ажите необходимость экологических знаний для инженера и вашей профессиональной деятельности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54" name="Picture 5" descr="http://t1.gstatic.com/images?q=tbn:ANd9GcQAEfgYmlUT1kYq0biDnohoCPzS9-EI8NBR2GIlrioi29XVsz5Qsw"/>
          <p:cNvPicPr/>
          <p:nvPr/>
        </p:nvPicPr>
        <p:blipFill>
          <a:blip r:embed="rId1"/>
          <a:stretch/>
        </p:blipFill>
        <p:spPr>
          <a:xfrm>
            <a:off x="30240" y="3213000"/>
            <a:ext cx="1909800" cy="2087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ANd9GcTDuX6YUkwCKEDRdnsrGOdNnlbN0TqrvqoVPaV58u0Zb0qKtlTJ"/>
          <p:cNvPicPr/>
          <p:nvPr/>
        </p:nvPicPr>
        <p:blipFill>
          <a:blip r:embed="rId2"/>
          <a:stretch/>
        </p:blipFill>
        <p:spPr>
          <a:xfrm>
            <a:off x="390600" y="1557360"/>
            <a:ext cx="2905200" cy="1571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ANd9GcSnNWaznMKBHETsJh-OmIml1AruvXei-KzSI8aPs3GrWHU73KwH"/>
          <p:cNvPicPr/>
          <p:nvPr/>
        </p:nvPicPr>
        <p:blipFill>
          <a:blip r:embed="rId3"/>
          <a:stretch/>
        </p:blipFill>
        <p:spPr>
          <a:xfrm>
            <a:off x="806400" y="50990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3" descr="1337864773_vospitatel"/>
          <p:cNvPicPr/>
          <p:nvPr/>
        </p:nvPicPr>
        <p:blipFill>
          <a:blip r:embed="rId4"/>
          <a:stretch/>
        </p:blipFill>
        <p:spPr>
          <a:xfrm>
            <a:off x="1843200" y="3290760"/>
            <a:ext cx="2043000" cy="1930680"/>
          </a:xfrm>
          <a:prstGeom prst="rect">
            <a:avLst/>
          </a:prstGeom>
          <a:ln w="0">
            <a:noFill/>
          </a:ln>
        </p:spPr>
      </p:pic>
      <p:sp>
        <p:nvSpPr>
          <p:cNvPr id="55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4d26"/>
                </a:solidFill>
                <a:latin typeface="Calibri"/>
              </a:rPr>
              <a:t>Основная образовательная программа </a:t>
            </a:r>
            <a:r>
              <a:rPr b="0" lang="ru-RU" sz="2800" spc="-1" strike="noStrike">
                <a:solidFill>
                  <a:srgbClr val="444d26"/>
                </a:solidFill>
                <a:latin typeface="Calibri"/>
                <a:ea typeface="HGPｺﾞｼｯｸE"/>
              </a:rPr>
              <a:t>по направлению 280700 «Техносферная безопасность» </a:t>
            </a:r>
            <a:endParaRPr b="0" lang="en-US" sz="28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123640" y="2088720"/>
            <a:ext cx="49690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кт проф. деятельност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0" y="1412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Научно-исследователь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3873600" y="1699560"/>
            <a:ext cx="53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Проектно-конструктор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71280" y="6175440"/>
            <a:ext cx="44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Организационно-управленче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Rectangle 9"/>
          <p:cNvSpPr/>
          <p:nvPr/>
        </p:nvSpPr>
        <p:spPr>
          <a:xfrm>
            <a:off x="6443640" y="4080240"/>
            <a:ext cx="29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Сервисно-эксплутационн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65" name="Picture 15" descr="201"/>
          <p:cNvPicPr/>
          <p:nvPr/>
        </p:nvPicPr>
        <p:blipFill>
          <a:blip r:embed="rId1"/>
          <a:stretch/>
        </p:blipFill>
        <p:spPr>
          <a:xfrm>
            <a:off x="6583320" y="2044800"/>
            <a:ext cx="2424240" cy="1817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9" descr="http://abiturient.ispu.ru/su/spec/102.jpg"/>
          <p:cNvPicPr/>
          <p:nvPr/>
        </p:nvPicPr>
        <p:blipFill>
          <a:blip r:embed="rId2"/>
          <a:stretch/>
        </p:blipFill>
        <p:spPr>
          <a:xfrm>
            <a:off x="0" y="177336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1" descr="http://abiturient.ispu.ru/su/spec/503.jpg"/>
          <p:cNvPicPr/>
          <p:nvPr/>
        </p:nvPicPr>
        <p:blipFill>
          <a:blip r:embed="rId3"/>
          <a:stretch/>
        </p:blipFill>
        <p:spPr>
          <a:xfrm>
            <a:off x="0" y="440388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http://www.bmstu-kaluga.ru/files/images/43ef5f030d09b854b5b9c016e1d7f064.jpg"/>
          <p:cNvPicPr/>
          <p:nvPr/>
        </p:nvPicPr>
        <p:blipFill>
          <a:blip r:embed="rId4"/>
          <a:stretch/>
        </p:blipFill>
        <p:spPr>
          <a:xfrm>
            <a:off x="2552760" y="2492280"/>
            <a:ext cx="3568680" cy="239076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1"/>
          <p:cNvSpPr/>
          <p:nvPr/>
        </p:nvSpPr>
        <p:spPr>
          <a:xfrm>
            <a:off x="2340000" y="5073480"/>
            <a:ext cx="34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Экспертная, надзорная и инспекционно-аудиторская деятельност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70" name="Picture 6" descr="http://seat-avtodina.ru/images/seat/service/service_title.jpg"/>
          <p:cNvPicPr/>
          <p:nvPr/>
        </p:nvPicPr>
        <p:blipFill>
          <a:blip r:embed="rId5"/>
          <a:stretch/>
        </p:blipFill>
        <p:spPr>
          <a:xfrm>
            <a:off x="5867280" y="5184720"/>
            <a:ext cx="3252960" cy="1422360"/>
          </a:xfrm>
          <a:prstGeom prst="rect">
            <a:avLst/>
          </a:prstGeom>
          <a:ln w="0">
            <a:noFill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Студент должен обладать компетенциям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щекультурные компетенции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адением культурой безопасности и риск-ориентированным мышлением, при котором вопросы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езопасности и сохранения окружающей сре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атриваются в качестве важнейших приоритетов в жизни и деятельности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Студент должен обладать компетенциям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перспективах развития техники и технологи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щи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человека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генного и природного характер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основных методах и системах обеспечения техносферной безопасности, обоснованно выбирать известные устройства, системы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методы защит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ловека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товностью использовать знания по организации охраны труда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храны окружающей сред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безопасности в чрезвычайных ситуациях на объектах экономики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использовать методы определени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ормативных уровне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опустимых негативных воздействий на человека и природную среду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сновных проблемах техносферной безопасност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Экологические законы Коммонера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203280" y="1752120"/>
            <a:ext cx="5559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связано со всем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куда-нибудь деваетс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что-нибудь да стоит (ничто не дается даром)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рода знает лучше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2" name="Picture 6" descr="Барри Коммонер"/>
          <p:cNvPicPr/>
          <p:nvPr/>
        </p:nvPicPr>
        <p:blipFill>
          <a:blip r:embed="rId1"/>
          <a:stretch/>
        </p:blipFill>
        <p:spPr>
          <a:xfrm>
            <a:off x="307800" y="1628640"/>
            <a:ext cx="2711520" cy="2305080"/>
          </a:xfrm>
          <a:prstGeom prst="rect">
            <a:avLst/>
          </a:prstGeom>
          <a:ln w="0">
            <a:noFill/>
          </a:ln>
        </p:spPr>
      </p:pic>
      <p:sp>
        <p:nvSpPr>
          <p:cNvPr id="583" name="Прямоугольник 3"/>
          <p:cNvSpPr/>
          <p:nvPr/>
        </p:nvSpPr>
        <p:spPr>
          <a:xfrm>
            <a:off x="192240" y="4149720"/>
            <a:ext cx="2827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Барри Коммонер (1917) - американский эколог и биолог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Информация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09120" y="1752480"/>
            <a:ext cx="3886200" cy="4572000"/>
          </a:xfrm>
          <a:prstGeom prst="rect">
            <a:avLst/>
          </a:prstGeom>
          <a:noFill/>
          <a:ln w="19080">
            <a:solidFill>
              <a:srgbClr val="dd7e0e"/>
            </a:solidFill>
            <a:miter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Лекции 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актики 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 КР во время КН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 ИДЗ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ворческая работ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чет по результатам 2 КР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844520" y="1752480"/>
            <a:ext cx="3886200" cy="4572000"/>
          </a:xfrm>
          <a:prstGeom prst="rect">
            <a:avLst/>
          </a:prstGeom>
          <a:noFill/>
          <a:ln w="12600">
            <a:solidFill>
              <a:srgbClr val="dd7e0e"/>
            </a:solidFill>
            <a:miter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rtal.tpu.ru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сональные сайты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Ларионова Е.В.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чебное пособие, практикум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бочая программа, рейтинг-лист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актики в виде презентации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ДЗ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думайте сложную цепь экологических взаимодействий, которая начинается с того, что вы роняете семечко яблони, а в итоге реализации сложных биоцентрических связей у вашего отца оказываются испорченными кожаные туфл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Рейтинг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971640" y="1557360"/>
          <a:ext cx="7561080" cy="5273640"/>
        </p:xfrm>
        <a:graphic>
          <a:graphicData uri="http://schemas.openxmlformats.org/drawingml/2006/table">
            <a:tbl>
              <a:tblPr/>
              <a:tblGrid>
                <a:gridCol w="3779640"/>
                <a:gridCol w="3781440"/>
              </a:tblGrid>
              <a:tr h="36504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a447"/>
                    </a:solidFill>
                  </a:tcPr>
                </a:tc>
              </a:tr>
              <a:tr h="6415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и (6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42696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овые игры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 ба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к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З (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 б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1 (контрольная работа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415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2 (контрольная работа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бал - допуск к зачет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39720">
                <a:tc gridSpan="2"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о результатам 2 КН: 40 бал (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 22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бал - зач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Ответственность студента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752560" y="1752120"/>
            <a:ext cx="6010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гласно утвержденным руководящим материалам по текущему контролю успеваемости, промежуточной и итоговой аттестации студентов ТПУ, студент несет ответственность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За выполнение требований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ОП, выраженной в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установленной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совокупности результатов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бучения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3" name="Picture 2" descr="http://img0.liveinternet.ru/images/attach/c/1/50/689/50689845_0_1d898_6d84dc46_XL.jpg"/>
          <p:cNvPicPr/>
          <p:nvPr/>
        </p:nvPicPr>
        <p:blipFill>
          <a:blip r:embed="rId1"/>
          <a:stretch/>
        </p:blipFill>
        <p:spPr>
          <a:xfrm>
            <a:off x="6480" y="1628640"/>
            <a:ext cx="2746080" cy="1960560"/>
          </a:xfrm>
          <a:prstGeom prst="rect">
            <a:avLst/>
          </a:prstGeom>
          <a:ln w="0">
            <a:noFill/>
          </a:ln>
        </p:spPr>
      </p:pic>
      <p:sp>
        <p:nvSpPr>
          <p:cNvPr id="50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Права и обязанности студентов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067280" y="1600200"/>
            <a:ext cx="4695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уденты обязаны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ещать занятия, осуществлять самостоятельную подготовку, выполнять задания, выданные преподавателям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уденты несут полную ответственность за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утствие на оценочных испытаниях в установленные сроки,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ление работ для оценки в установленные сроки и в соответствии с требованиями,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ие преподавателям или экзаменаторам информации, которая должна быть принята во внимание,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ование шпаргалок, подсказывание и другие виды обмана в процедурах оценивания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7" name="Picture 5" descr="&amp;Kcy;&amp;acy;&amp;rcy;&amp;tcy;&amp;icy;&amp;ncy;&amp;kcy;&amp;acy; 15 &amp;icy;&amp;zcy; 21347"/>
          <p:cNvPicPr/>
          <p:nvPr/>
        </p:nvPicPr>
        <p:blipFill>
          <a:blip r:embed="rId1"/>
          <a:stretch/>
        </p:blipFill>
        <p:spPr>
          <a:xfrm>
            <a:off x="289080" y="2205000"/>
            <a:ext cx="3671640" cy="2749680"/>
          </a:xfrm>
          <a:prstGeom prst="rect">
            <a:avLst/>
          </a:prstGeom>
          <a:ln w="0">
            <a:noFill/>
          </a:ln>
        </p:spPr>
      </p:pic>
      <p:sp>
        <p:nvSpPr>
          <p:cNvPr id="50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Цель практики 1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– осознать необходимость экологических знаний в частной жизни и сфере профессиональной деятельност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экология, экологическое мировоззрение, экологизация, популяция, экосистема, биосфера, биоэкология, социальная экология, прикладная (инженерная экология) экология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1" name="Picture 5" descr="07"/>
          <p:cNvPicPr/>
          <p:nvPr/>
        </p:nvPicPr>
        <p:blipFill>
          <a:blip r:embed="rId1"/>
          <a:stretch/>
        </p:blipFill>
        <p:spPr>
          <a:xfrm>
            <a:off x="6372360" y="4869000"/>
            <a:ext cx="2087280" cy="1995480"/>
          </a:xfrm>
          <a:prstGeom prst="rect">
            <a:avLst/>
          </a:prstGeom>
          <a:ln w="0">
            <a:noFill/>
          </a:ln>
        </p:spPr>
      </p:pic>
      <p:sp>
        <p:nvSpPr>
          <p:cNvPr id="51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44d26"/>
                </a:solidFill>
                <a:uFillTx/>
                <a:latin typeface="Calibri"/>
              </a:rPr>
              <a:t>Что такое экология и что она изучает?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шем городе плохая экологи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ю необходимо охранять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я в нашем городе испорчена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я – основа природопользовани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5" name="Picture 7" descr="40"/>
          <p:cNvPicPr/>
          <p:nvPr/>
        </p:nvPicPr>
        <p:blipFill>
          <a:blip r:embed="rId1"/>
          <a:stretch/>
        </p:blipFill>
        <p:spPr>
          <a:xfrm>
            <a:off x="108000" y="3689280"/>
            <a:ext cx="3157560" cy="31687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&amp;Icy; &amp;vcy;&amp;scy;&amp;iecy;-&amp;tcy;&amp;acy;&amp;kcy;&amp;icy; &amp;chcy;&amp;tcy;&amp;ocy; &amp;tcy;&amp;acy;&amp;kcy;&amp;ocy;&amp;iecy; &amp;ecy;&amp;kcy;&amp;ocy;&amp;lcy;&amp;ocy;&amp;gcy;&amp;icy;&amp;yacy;"/>
          <p:cNvPicPr/>
          <p:nvPr/>
        </p:nvPicPr>
        <p:blipFill>
          <a:blip r:embed="rId2"/>
          <a:stretch/>
        </p:blipFill>
        <p:spPr>
          <a:xfrm>
            <a:off x="3672000" y="3963960"/>
            <a:ext cx="4103640" cy="2679840"/>
          </a:xfrm>
          <a:prstGeom prst="rect">
            <a:avLst/>
          </a:prstGeom>
          <a:ln w="0">
            <a:noFill/>
          </a:ln>
        </p:spPr>
      </p:pic>
      <p:sp>
        <p:nvSpPr>
          <p:cNvPr id="51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вы понимаете смысл приведенных понятий? Чем вызвано их появление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е проблемы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 политик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ое образование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 катастроф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зация промышленност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й транспорт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Экологами стали все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следовательно 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никто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» (Реймерс, 1994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арисовать схему экологии как науки, учитывая предмет, задачи и объект исследования экологии. Уяснить структуру экологии как науки и историю развития экологии как наук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2:10:16Z</dcterms:created>
  <dc:creator/>
  <dc:description/>
  <dc:language>en-US</dc:language>
  <cp:lastModifiedBy/>
  <dcterms:modified xsi:type="dcterms:W3CDTF">2015-05-06T08:42:25Z</dcterms:modified>
  <cp:revision>2</cp:revision>
  <dc:subject/>
  <dc:title>Практика 1. Предмет и структура эк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1049</vt:lpwstr>
  </property>
</Properties>
</file>