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B612-8334-4EC4-8192-A04E8E41F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ктика 1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 и структура эк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рионова Екатерина Владимировна, доцент каф. ЭБ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2F41-F84C-452F-A373-59E72D385F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процедур и действий либо слайд лекции с м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объект изучения в эколог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осистем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функционирования экосистем и оценка пределов антропоген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тимедийными ма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63E3-5F90-4695-94DE-B82661B65B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оследовательного внедрения идей сохранения природы и устойчивой окружающей среды в сферы законодательства, управления, разработки технологий, экономики, образован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C0F8-FA17-4E0E-9BA3-CF7090C60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ое мировоззр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– это система представлений о взаимоотношениях в мире, способствующая самосознанию, развитию мышления, отражающееся в отношении к природе, обществу, людям. Экологическое мировозз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ческое экологическое 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центрическое экологическое 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7835-D0C1-4F58-93A0-F3A498DA6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решить глобальные экологические проблемы с помощью антропоцентрического и экоцентрического подхо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хватка энерго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удшение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FDF8-9147-4C37-A791-26FF63239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изучения дисципл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экологического мировоззрения и умения использовать экологические законы и принципы для принятия проектных решений в свое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A71C-8C01-43E4-AF49-B15A46669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ли сделать вывод о необходимости всеобщей экологической образованност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ите необходимость экологических знаний для инженера и вашей профессиональной деятель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4169-9C16-406E-AC9B-84D8052875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PGothic"/>
              </a:rPr>
              <a:t>по направлению 280700 «Техносферная безопасность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ъект проф. деятельност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E731-D317-4358-B385-D11626637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удент должен обладать компетенц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екультурные компетен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нием культурой безопасности и риск-ориентированным мышлением, при котором вопросы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зопасности и сохранения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ются в качестве важнейших приоритетов в жизни и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A4FA-DE2F-4CFF-A9D7-1E2495E86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удент должен обладать компетенци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перспективах развития техники и технологи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щи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ка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генного и природного харак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основных методах и системах обеспечения техносферной безопасности, обоснованно выбирать известные устройства, системы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тоды защи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ю использовать знания по организации охраны труда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храны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безопасности в чрезвычайных ситуациях на объектах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использовать методы определен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тивных уров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пустимых негативных воздействий на человека и природную сре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х проблемах техносферн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94AB-7B9B-41AB-87D6-0FDB9529B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ологические законы Коммон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вязано со вс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куда-нибудь де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то-нибудь да стоит (ничто не дается дар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знает лучш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8A56-3D4D-4478-8D86-184768975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ые сведе</a:t>
            </a:r>
            <a:r>
              <a:rPr b="0" lang="ru-RU" sz="1200" spc="-1" strike="noStrike">
                <a:solidFill>
                  <a:srgbClr val="444d26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и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и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Р во время К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ИД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т по результатам 2 К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tal.tpu.ru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ые сайты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арионова Е.В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е пособие, практику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программа, рейтинг-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ки в виде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я о курсе, пособия и материалы, необходимые для занятий или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7907-54D0-4853-A88B-3AA99E356B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умайте сложную цепь экологических взаимодействий, которая начинается с того, что вы роняете семечко яблони, а в итоге реализации сложных биоцентрических связей у вашего отца оказываются испорченными кожаные туф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BDB4-F68D-4A56-9DC1-78B87C0B6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блон расписания с необязательными пер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ми и задач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1E76-D828-46B6-90A9-A2B59AC0111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ые замет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ветственность студ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твержденным руководящим материалам по текущему контролю успеваемости, промежуточной и итоговой аттестации студентов ТПУ, студент несет ответствен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 выполнение треб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ОП, выраженной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становлен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вокупности результ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383B-910F-4F9D-8ADA-A8BC00BE06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урса, ожидаемые результаты и навыки, котор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туд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обяза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ать занятия, осуществлять самостоятельную подготовку, выполнять задания, выданные преподава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несут полную ответственность 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утствие на оценочных испытаниях в установленные сро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работ для оценки в установленные сроки и в соответствии с требованиям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преподавателям или экзаменаторам информации, которая должна быть принята во вним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шпаргалок, подсказывание и другие виды обмана в процедурах оцен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ы быть получены в ходе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7F8A-C0F9-4381-B017-B05840B32F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практики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ознать необходимость экологических знаний в частной жизни и сфере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кология, экологическое мировоззрение, экологизация, популяция, экосистема, биосфера, биоэкология, социальная экология, прикладная (инженерная экология) эк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655A-2828-421B-AB0E-A8963B6AB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Что такое экология и что она изучае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городе плохая эк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ю необходимо охран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в нашем городе испорч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основа природо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BA42-D876-458A-9E70-DCFA4EAD0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вы понимаете смысл приведенных понятий? Чем вызвано их появлени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ое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ами стали в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ледовательно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т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(Реймерс, 19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18F2-0EF1-4121-9B4C-14F9F8FC5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словарных терминов. </a:t>
            </a:r>
            <a:r>
              <a:rPr b="0" lang="ru-RU" sz="12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ть схему экологии как науки, учитывая предмет, задачи и объект исследования экологии. Уяснить структуру экологии как науки и историю развития экологии как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17DA-69E0-4F3D-BC13-EB58D084E4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423-2B1A-40EC-8BDB-E1936738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080-981D-4861-9667-C8B9D035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0ACA6-6F14-4B72-B1A9-46F3D8FE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98DDA-3CD9-4256-8E4A-EFF515F5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60F5A-C858-484B-92EF-A4BD9EDA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C3D74-0B60-45A1-A6B6-CD65C4D0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BECB4-FFE9-4A8B-81B0-A5B576A3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88017-5D58-4D1A-976A-0EFE2331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9B6A6-A772-483E-90B4-F2293221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8CD9D-FB1D-459A-81A5-751F98D5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7C42D-F8CB-4B8B-B657-8FBDF1C1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FC918E-8375-49B7-9ABA-4BDCD36E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1E4-6002-4A48-B1F7-B2F7C394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5B03CE-E823-4B16-BCB3-4816717A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C99965-C41F-4E62-B3CB-DC11610C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670D92-5504-4A93-8F91-C56D8067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9700BF-8150-4629-9087-2F755EA0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A88DB3-C806-47AC-B265-7747CB66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531E4F-9D23-4AC8-BAA7-102656D2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8AD9DD-1F7B-41D8-A286-DDF1FD5F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16ABEE-0729-4AF9-AE26-1585EB08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7A26D6-9D13-4BAE-B1B9-D5E02834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2CE1CA-37DB-4CFA-9AAC-26697298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7EA-B55B-46CF-95A9-6713FCAC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B9322E-75A5-4773-BF5D-3A75401D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5069F-11BA-4743-86B0-259F57E0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B5F11-4F07-4EEC-AC4F-DBA3A24F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05FCF-4CA4-43F9-8086-81C82253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D6358-CE3A-443D-B81F-8E5A8DA8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39FFA-F44F-47F1-B3CE-82F38E0D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A862A-35A7-4491-AB63-0C4DFC19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30AF1-A463-441F-B095-14B3E458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8369F-E774-4136-8EF1-AAF8DBCA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42FD9-8E4E-4B8A-A54D-B005B5DF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433C-2A59-4D91-808D-B256673E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14476-0C9B-4772-808C-4F8948C3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B40BF-0699-498F-8F88-8CA0814A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B9966-E00C-49AC-9122-0BB41C88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5E91-2DBC-4D2F-8E54-1D6EF62A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A886-6F59-4B4D-AA90-695AFDC1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CD64-AB3C-4A71-BF7B-07D186D4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2C00-B2AE-4871-A800-65ABE90C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F5B3-7C2D-4499-8058-D376333F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08A6-FFFF-45D2-BD02-91208D3A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656D-0F8D-4500-9B2A-A85BC79A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073D-7DB8-4CC4-9C50-FA2CD214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75EB-6B90-4971-AB7E-FB4E513A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1DAC-87A0-4F33-A0C9-B2DE5607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A8D1-4987-489C-BE39-C7B69D09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6F2D-3BCE-406B-80BF-32A02555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D877B-4D99-4D3F-BE0F-29586436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E7F36-0C0D-40A1-BAB0-DA43373D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5D5E3-EDD3-40D1-A263-1701D243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F32A6-3CAC-4277-A788-780FAD13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CFE9E-F7B4-4FC1-AEF5-D76166BC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BBDE-7133-4777-A9AD-C90E43DF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EDB41-CA4C-40BB-B274-1701AE88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F085A-3C9F-498D-842A-51A38906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0E69B-5118-4840-A79A-6B5CCEA3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698E1-B878-4784-AD46-AB5AFE48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88BAA-BF69-4BC1-B661-E1A157C9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9E432-B536-4163-BA94-3A0E1217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49F14-DC56-41AB-8EC4-726056F8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A0BBE-A4F3-4BC0-8A9F-BE476213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2BC1B6-7662-4BD5-BA37-1ADC7C64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AEE3A-06BC-4E7B-8AB6-8034FE3C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B423-7D5B-4BFA-9B17-06EC55BD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620B5C-6D2D-4D32-A2FD-C612A750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91B31F-A0C2-47A1-8F37-AC6BC730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4C9887-2035-4228-B292-A3375CC2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AED7B4-2B3D-4F78-8B33-C17B4910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D9D6BF-102E-4143-BEC1-1AB94551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758270-38E0-4C7E-96B4-28877F0C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7AF654-241F-40BA-8A00-59352F71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55DEB9-FC8C-44C1-AB89-A52F03A8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B74678-DE82-4E1E-8312-EEF1F47D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5A502E-4F66-40BF-934B-C6FF9EB4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7C33-2FC5-4FC9-A484-4F35ECCA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D0D58C-6715-4BC7-9E6B-175AB966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8EAAB3-A71A-470C-94C7-49D95ACD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70BE61-ADA1-494B-8F32-898815D0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B2449B-1610-4C0E-8219-68255E4B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D017B-D469-44C5-9496-5E995A40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401F3-941F-417B-BA3F-9461EE34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4FF650-F8F0-4164-8340-84F9043E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3C03E-8F7D-4090-BA2B-45C5AB8C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CDA307-2049-4B78-9DB5-FA4FA583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9734EA-385D-493B-AF17-3125B8A8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166-FCB2-4FD3-820D-F475D737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D9BDD1-5197-4664-9F09-FD3D0F0D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973035-99AC-451E-BB1A-2DB8C566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7B80BB-9EF4-4631-984D-5B72420E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DCC568-D916-49A3-8C75-C7BD6A77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DA6AC6-A088-4831-B76E-71255322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D0163A-287A-4B9B-AAF0-C653A98E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22419F-E014-4F18-AAD6-E85FA966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D2770A-081B-4DA4-B96D-FCA49BAC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2ECEAB-152B-4AD7-A80F-6AE8A1AB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E4B3F1-C108-4DC2-B4F6-B4C265BD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67D-1180-4A8B-A3DD-BB6AA225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BB63F6-5A82-42A2-B47E-9644C1DE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FD8BD-34E6-4749-8A07-1D00A957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B5016-AA93-4AC5-AB60-8BD27B68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79BA3-F23E-44AC-85BE-B3934571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6FCDA-EC2C-43CC-8ECC-1656327E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7A46B-1D65-4CEF-B743-A0DBC9B2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2753D-ACA3-43BD-903E-064C8941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83A29-4798-4298-9B28-CB3EF3AA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E1582-98D2-4A01-9E38-9BF3A195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F65DB-0036-4D23-ACA0-1FDF3E79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E67-79A8-4BAD-A67E-5AAF4A78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D565E-70DE-4245-9FF3-8511602E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B1C0D-A96B-4C9F-9806-5D1F7BAA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FA047-2B48-4333-BE59-2A4F690C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0970C-FF91-4796-837F-54F3F336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12096-CA52-4C0A-90EF-DD3C01EE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A059A-32CD-42D0-82CF-BDB7239F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3BA45-347F-4D19-B4DA-5AC47DCF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0F0C0-BC7C-4BF7-816D-7E1B8418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934B1-DD7D-469F-9034-B900EE0B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48564-A1D2-4F66-B962-3CFFA5FF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A27-287A-4B9C-93FC-A21150A9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75620-0512-4781-A744-655B9DC7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4B588-0E28-4CA2-8706-FDDCE4BC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E91CB-02C0-44C3-83F3-12606A57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50820-BC4F-43F3-9016-EA80DD64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C7F2D-C619-420A-9868-7A8FDC14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1DD9C-5543-479A-925E-4B78BDA0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73ECD-D2D0-4E9A-9977-CF4EA1DD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A5A1B-7968-453A-B3E2-05BC3BDC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E4009-5456-41A7-8398-7CC61739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A1016-FAD4-43AF-B7DA-1EDB1B4B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E9CD-7489-4CC2-97AD-C55915F620B4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CF494D93-F89E-4951-A764-F4B7B59CD1A9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7:5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AB09-F586-44B1-A051-81A2363DDF28}" type="slidenum">
              <a:rPr b="1" lang="en-US" sz="12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718D-6229-426F-B4E6-69DC2313E148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76A3F3FF-0706-476B-8C1F-60C368210DBA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7:5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0C2D-AF31-47D0-8E2D-B7D261CBFDC0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3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1D90-68A9-43D7-92EC-8D9826FF4639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F748C24A-79B1-4481-8621-0E62C4DC2484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7:5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1340-C2FC-4B05-980F-72323210EADE}" type="slidenum">
              <a:rPr b="1" lang="en-US" sz="12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5ADC-F274-4105-85DA-B1D7D48D5651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2D4B017B-483E-4B19-A89C-D56ED344364E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7:59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5260-A698-42F4-933C-7167D5459933}" type="slidenum">
              <a:rPr b="1" lang="en-US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3B76-CA38-41A7-BE17-38BF22751226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B30357EB-ABAF-48F1-9AE1-5F5A36ABAF27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7:5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C289-AFD4-4447-A18A-6B887B1D1BB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BCAC-3924-486B-9737-B4A566881700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F6BA5183-F985-4DBD-B0E4-2F9474CA8488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7:5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2590-22E4-4688-AB6A-11AC7B6487F8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9250-759D-4B02-8F46-E30DF412C9AE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818D3F3B-2BD3-47C4-B1EB-A6736DC3BBF5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7:5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FEAB-CA6A-43DA-B6E5-FA9B825392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0781-D372-4219-A124-EA53C84D9165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381729C6-2975-406E-AE02-AEE0FD81D241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7:5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B983-3C9F-4372-BF31-D586B3D94E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AFE0-6169-4F97-A2FB-53062450CFEE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47DCC520-34A9-4CB5-AE5C-1A7C758C41FF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7:5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62B5-C99D-4527-A4C8-15C82CBCAA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E6FC-5DF5-4B59-88F7-51DCED72FDA0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0779C30B-4666-42B0-9D5C-81DAB956FF6B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7:5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E673-E80F-43A7-BAA3-74BD20F0B108}" type="slidenum">
              <a:rPr b="1" lang="en-US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2" name="Picture 9" descr="sm_book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cap="sq" w="50760">
            <a:solidFill>
              <a:srgbClr val="f3a447"/>
            </a:solidFill>
            <a:miter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056C-0BC4-4F59-A87E-78437AF7B68C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F5DB6703-3A26-493E-8E76-5D638D7E5DE3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7:5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31A6-304F-46D5-9CF7-BAD1CFAEFF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aforizmer.ru/aforizmi/genri-devid-toro" TargetMode="External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0" y="4173120"/>
            <a:ext cx="6477120" cy="13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ПРАКТИКА 1.</a:t>
            </a:r>
            <a:br>
              <a:rPr sz="3600"/>
            </a:b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ПРЕДМЕТ И СТРУКТУРА ЭКОЛОГИ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2362320" y="5813280"/>
            <a:ext cx="67053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Ларионова Екатерина Владимировна, доцент каф. ЭБЖ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2" name="Picture 5" descr="&amp;Kcy;&amp;acy;&amp;rcy;&amp;tcy;&amp;icy;&amp;ncy;&amp;kcy;&amp;acy; 6 &amp;icy;&amp;zcy; 1135"/>
          <p:cNvPicPr/>
          <p:nvPr/>
        </p:nvPicPr>
        <p:blipFill>
          <a:blip r:embed="rId1"/>
          <a:stretch/>
        </p:blipFill>
        <p:spPr>
          <a:xfrm>
            <a:off x="179280" y="111240"/>
            <a:ext cx="3183120" cy="3332160"/>
          </a:xfrm>
          <a:prstGeom prst="rect">
            <a:avLst/>
          </a:prstGeom>
          <a:ln w="0">
            <a:noFill/>
          </a:ln>
        </p:spPr>
      </p:pic>
      <p:sp>
        <p:nvSpPr>
          <p:cNvPr id="493" name="Місце для нижнього колонтитула 2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Главный объект изучения в экологии</a:t>
            </a:r>
            <a:r>
              <a:rPr b="0" lang="ru-RU" sz="4800" spc="-1" strike="noStrike">
                <a:solidFill>
                  <a:srgbClr val="444d26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78920" y="16286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косистема.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зучение функционирования экосистем и оценка пределов антропогенного воздействия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6" name="Content Placeholder 4" descr="book.png"/>
          <p:cNvPicPr/>
          <p:nvPr/>
        </p:nvPicPr>
        <p:blipFill>
          <a:blip r:embed="rId1"/>
          <a:stretch/>
        </p:blipFill>
        <p:spPr>
          <a:xfrm>
            <a:off x="4449600" y="1554120"/>
            <a:ext cx="4481640" cy="4896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&amp;Kcy;&amp;acy;&amp;rcy;&amp;tcy;&amp;icy;&amp;ncy;&amp;kcy;&amp;acy; 3 &amp;icy;&amp;zcy; 134011"/>
          <p:cNvPicPr/>
          <p:nvPr/>
        </p:nvPicPr>
        <p:blipFill>
          <a:blip r:embed="rId2"/>
          <a:stretch/>
        </p:blipFill>
        <p:spPr>
          <a:xfrm>
            <a:off x="3875040" y="1670040"/>
            <a:ext cx="2832120" cy="25192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7" descr="&amp;Kcy;&amp;acy;&amp;rcy;&amp;tcy;&amp;icy;&amp;ncy;&amp;kcy;&amp;acy; 6 &amp;icy;&amp;zcy; 402"/>
          <p:cNvPicPr/>
          <p:nvPr/>
        </p:nvPicPr>
        <p:blipFill>
          <a:blip r:embed="rId3"/>
          <a:stretch/>
        </p:blipFill>
        <p:spPr>
          <a:xfrm>
            <a:off x="6804000" y="1484280"/>
            <a:ext cx="2635200" cy="2890800"/>
          </a:xfrm>
          <a:prstGeom prst="rect">
            <a:avLst/>
          </a:prstGeom>
          <a:ln w="0">
            <a:noFill/>
          </a:ln>
        </p:spPr>
      </p:pic>
      <p:sp>
        <p:nvSpPr>
          <p:cNvPr id="529" name="Прямоугольник 1"/>
          <p:cNvSpPr/>
          <p:nvPr/>
        </p:nvSpPr>
        <p:spPr>
          <a:xfrm>
            <a:off x="4427640" y="4714920"/>
            <a:ext cx="45720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«Много ли пользы от дома, если у вас нет сносной планеты, на которой можно его поставить?»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Tw Cen MT"/>
                <a:ea typeface="Arial"/>
                <a:hlinkClick r:id="rId4"/>
              </a:rPr>
              <a:t>Генри Дэвид Торо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Экологизация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250560" y="1600200"/>
            <a:ext cx="42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оследовательного внедрения идей сохранения природы и устойчивой окружающей среды в сферы законодательства, управления, разработки технологий, экономики, образования и т.д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3" name="Picture 5" descr="&amp;Kcy;&amp;acy;&amp;rcy;&amp;tcy;&amp;icy;&amp;ncy;&amp;kcy;&amp;acy; 11 &amp;icy;&amp;zcy; 1396"/>
          <p:cNvPicPr/>
          <p:nvPr/>
        </p:nvPicPr>
        <p:blipFill>
          <a:blip r:embed="rId1"/>
          <a:stretch/>
        </p:blipFill>
        <p:spPr>
          <a:xfrm>
            <a:off x="4284720" y="1595520"/>
            <a:ext cx="4859280" cy="4859280"/>
          </a:xfrm>
          <a:prstGeom prst="rect">
            <a:avLst/>
          </a:prstGeom>
          <a:ln w="0">
            <a:noFill/>
          </a:ln>
        </p:spPr>
      </p:pic>
      <p:sp>
        <p:nvSpPr>
          <p:cNvPr id="53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Экологическое мировоззре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нтропоцентрическое экологическое созна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коцентрическое экологическое созна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8" name="Picture 5" descr="s640x480"/>
          <p:cNvPicPr/>
          <p:nvPr/>
        </p:nvPicPr>
        <p:blipFill>
          <a:blip r:embed="rId1"/>
          <a:stretch/>
        </p:blipFill>
        <p:spPr>
          <a:xfrm>
            <a:off x="-3205080" y="476280"/>
            <a:ext cx="2949480" cy="4076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32"/>
          <p:cNvPicPr/>
          <p:nvPr/>
        </p:nvPicPr>
        <p:blipFill>
          <a:blip r:embed="rId2"/>
          <a:stretch/>
        </p:blipFill>
        <p:spPr>
          <a:xfrm>
            <a:off x="755640" y="2658960"/>
            <a:ext cx="3678120" cy="3787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http://t3.gstatic.com/images?q=tbn:ANd9GcTN2pQo29Gu1vBW4IKEe7CmkebmrnfpwL6Php0Rd5yVZefaZyweug&amp;t=1"/>
          <p:cNvPicPr/>
          <p:nvPr/>
        </p:nvPicPr>
        <p:blipFill>
          <a:blip r:embed="rId3"/>
          <a:stretch/>
        </p:blipFill>
        <p:spPr>
          <a:xfrm>
            <a:off x="4943520" y="3027240"/>
            <a:ext cx="3805200" cy="284976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можно решить глобальные экологические проблемы с помощью антропоцентрического и экоцентрического подхода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емографический взрыв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грязнение окружающей среды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хватка энергоресурсов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худшение здоровья человек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Цель изучения дисциплины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ормирование экологического мировоззрения и умения использовать экологические законы и принципы для принятия проектных решений в своей профессиональной деятельност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48" name="Picture 5" descr="24"/>
          <p:cNvPicPr/>
          <p:nvPr/>
        </p:nvPicPr>
        <p:blipFill>
          <a:blip r:embed="rId1"/>
          <a:stretch/>
        </p:blipFill>
        <p:spPr>
          <a:xfrm>
            <a:off x="6516720" y="414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7" descr="18552b437c4e0e0c64e47edcf415fe17674b7cca"/>
          <p:cNvPicPr/>
          <p:nvPr/>
        </p:nvPicPr>
        <p:blipFill>
          <a:blip r:embed="rId2"/>
          <a:stretch/>
        </p:blipFill>
        <p:spPr>
          <a:xfrm>
            <a:off x="108000" y="4221000"/>
            <a:ext cx="3025800" cy="20098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ricunok22"/>
          <p:cNvPicPr/>
          <p:nvPr/>
        </p:nvPicPr>
        <p:blipFill>
          <a:blip r:embed="rId3"/>
          <a:stretch/>
        </p:blipFill>
        <p:spPr>
          <a:xfrm>
            <a:off x="3564000" y="4508640"/>
            <a:ext cx="2449440" cy="217008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54520" y="1483920"/>
            <a:ext cx="5145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ctr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ли сделать вывод о необходимости всеобщей экологической образованности?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ctr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ажите необходимость экологических знаний для инженера и вашей профессиональной деятельности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4" name="Picture 5" descr="http://t1.gstatic.com/images?q=tbn:ANd9GcQAEfgYmlUT1kYq0biDnohoCPzS9-EI8NBR2GIlrioi29XVsz5Qsw"/>
          <p:cNvPicPr/>
          <p:nvPr/>
        </p:nvPicPr>
        <p:blipFill>
          <a:blip r:embed="rId1"/>
          <a:stretch/>
        </p:blipFill>
        <p:spPr>
          <a:xfrm>
            <a:off x="30240" y="3213000"/>
            <a:ext cx="1909800" cy="2087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ANd9GcTDuX6YUkwCKEDRdnsrGOdNnlbN0TqrvqoVPaV58u0Zb0qKtlTJ"/>
          <p:cNvPicPr/>
          <p:nvPr/>
        </p:nvPicPr>
        <p:blipFill>
          <a:blip r:embed="rId2"/>
          <a:stretch/>
        </p:blipFill>
        <p:spPr>
          <a:xfrm>
            <a:off x="390600" y="1557360"/>
            <a:ext cx="2905200" cy="1571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ANd9GcSnNWaznMKBHETsJh-OmIml1AruvXei-KzSI8aPs3GrWHU73KwH"/>
          <p:cNvPicPr/>
          <p:nvPr/>
        </p:nvPicPr>
        <p:blipFill>
          <a:blip r:embed="rId3"/>
          <a:stretch/>
        </p:blipFill>
        <p:spPr>
          <a:xfrm>
            <a:off x="806400" y="50990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3" descr="1337864773_vospitatel"/>
          <p:cNvPicPr/>
          <p:nvPr/>
        </p:nvPicPr>
        <p:blipFill>
          <a:blip r:embed="rId4"/>
          <a:stretch/>
        </p:blipFill>
        <p:spPr>
          <a:xfrm>
            <a:off x="1843200" y="3290760"/>
            <a:ext cx="2043000" cy="1930680"/>
          </a:xfrm>
          <a:prstGeom prst="rect">
            <a:avLst/>
          </a:prstGeom>
          <a:ln w="0">
            <a:noFill/>
          </a:ln>
        </p:spPr>
      </p:pic>
      <p:sp>
        <p:nvSpPr>
          <p:cNvPr id="55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4d26"/>
                </a:solidFill>
                <a:latin typeface="Calibri"/>
              </a:rPr>
              <a:t>Основная образовательная программа </a:t>
            </a:r>
            <a:r>
              <a:rPr b="0" lang="ru-RU" sz="2800" spc="-1" strike="noStrike">
                <a:solidFill>
                  <a:srgbClr val="444d26"/>
                </a:solidFill>
                <a:latin typeface="Calibri"/>
                <a:ea typeface="HGPｺﾞｼｯｸE"/>
              </a:rPr>
              <a:t>по направлению 280700 «Техносферная безопасность» </a:t>
            </a:r>
            <a:endParaRPr b="0" lang="en-US" sz="28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123640" y="2088720"/>
            <a:ext cx="49690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кт проф. деятельност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0" y="1412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Научно-исследователь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3873600" y="1699560"/>
            <a:ext cx="53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Проектно-конструктор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71280" y="6175440"/>
            <a:ext cx="44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Организационно-управленче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6443640" y="4080240"/>
            <a:ext cx="29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Сервисно-эксплутационн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65" name="Picture 15" descr="201"/>
          <p:cNvPicPr/>
          <p:nvPr/>
        </p:nvPicPr>
        <p:blipFill>
          <a:blip r:embed="rId1"/>
          <a:stretch/>
        </p:blipFill>
        <p:spPr>
          <a:xfrm>
            <a:off x="6583320" y="2044800"/>
            <a:ext cx="2424240" cy="1817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9" descr="http://abiturient.ispu.ru/su/spec/102.jpg"/>
          <p:cNvPicPr/>
          <p:nvPr/>
        </p:nvPicPr>
        <p:blipFill>
          <a:blip r:embed="rId2"/>
          <a:stretch/>
        </p:blipFill>
        <p:spPr>
          <a:xfrm>
            <a:off x="0" y="177336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1" descr="http://abiturient.ispu.ru/su/spec/503.jpg"/>
          <p:cNvPicPr/>
          <p:nvPr/>
        </p:nvPicPr>
        <p:blipFill>
          <a:blip r:embed="rId3"/>
          <a:stretch/>
        </p:blipFill>
        <p:spPr>
          <a:xfrm>
            <a:off x="0" y="440388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http://www.bmstu-kaluga.ru/files/images/43ef5f030d09b854b5b9c016e1d7f064.jpg"/>
          <p:cNvPicPr/>
          <p:nvPr/>
        </p:nvPicPr>
        <p:blipFill>
          <a:blip r:embed="rId4"/>
          <a:stretch/>
        </p:blipFill>
        <p:spPr>
          <a:xfrm>
            <a:off x="2552760" y="2492280"/>
            <a:ext cx="3568680" cy="239076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1"/>
          <p:cNvSpPr/>
          <p:nvPr/>
        </p:nvSpPr>
        <p:spPr>
          <a:xfrm>
            <a:off x="2340000" y="5073480"/>
            <a:ext cx="34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Экспертная, надзорная и инспекционно-аудиторская деятельност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70" name="Picture 6" descr="http://seat-avtodina.ru/images/seat/service/service_title.jpg"/>
          <p:cNvPicPr/>
          <p:nvPr/>
        </p:nvPicPr>
        <p:blipFill>
          <a:blip r:embed="rId5"/>
          <a:stretch/>
        </p:blipFill>
        <p:spPr>
          <a:xfrm>
            <a:off x="5867280" y="5184720"/>
            <a:ext cx="3252960" cy="1422360"/>
          </a:xfrm>
          <a:prstGeom prst="rect">
            <a:avLst/>
          </a:prstGeom>
          <a:ln w="0">
            <a:noFill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Студент должен обладать компетенциям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щекультурные компетенции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ением культурой безопасности и риск-ориентированным мышлением, при котором вопросы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езопасности и сохранения окружающей сре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атриваются в качестве важнейших приоритетов в жизни и деятельности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Студент должен обладать компетенциям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перспективах развития техники и технологи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щи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человека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генного и природного характер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основных методах и системах обеспечения техносферной безопасности, обоснованно выбирать известные устройства, системы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етоды защит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ловека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ностью использовать знания по организации охраны труда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храны окружающей сред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безопасности в чрезвычайных ситуациях на объектах экономики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использовать методы определени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ормативных уровне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опустимых негативных воздействий на человека и природную среду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сновных проблемах техносферной безопасност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Экологические законы Коммонера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203280" y="1752120"/>
            <a:ext cx="5559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связано со всем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куда-нибудь деваетс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что-нибудь да стоит (ничто не дается даром)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рода знает лучше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2" name="Picture 6" descr="Барри Коммонер"/>
          <p:cNvPicPr/>
          <p:nvPr/>
        </p:nvPicPr>
        <p:blipFill>
          <a:blip r:embed="rId1"/>
          <a:stretch/>
        </p:blipFill>
        <p:spPr>
          <a:xfrm>
            <a:off x="307800" y="1628640"/>
            <a:ext cx="2711520" cy="2305080"/>
          </a:xfrm>
          <a:prstGeom prst="rect">
            <a:avLst/>
          </a:prstGeom>
          <a:ln w="0">
            <a:noFill/>
          </a:ln>
        </p:spPr>
      </p:pic>
      <p:sp>
        <p:nvSpPr>
          <p:cNvPr id="583" name="Прямоугольник 3"/>
          <p:cNvSpPr/>
          <p:nvPr/>
        </p:nvSpPr>
        <p:spPr>
          <a:xfrm>
            <a:off x="192240" y="4149720"/>
            <a:ext cx="2827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Барри Коммонер (1917) - американский эколог и биолог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Информация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09120" y="1752480"/>
            <a:ext cx="3886200" cy="4572000"/>
          </a:xfrm>
          <a:prstGeom prst="rect">
            <a:avLst/>
          </a:prstGeom>
          <a:noFill/>
          <a:ln w="19080">
            <a:solidFill>
              <a:srgbClr val="dd7e0e"/>
            </a:solidFill>
            <a:miter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Лекции 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актики 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 КР во время КН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 ИДЗ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ворческая работ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чет по результатам 2 КР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844520" y="1752480"/>
            <a:ext cx="3886200" cy="4572000"/>
          </a:xfrm>
          <a:prstGeom prst="rect">
            <a:avLst/>
          </a:prstGeom>
          <a:noFill/>
          <a:ln w="12600">
            <a:solidFill>
              <a:srgbClr val="dd7e0e"/>
            </a:solidFill>
            <a:miter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rtal.tpu.ru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сональные сайты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Ларионова Е.В.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чебное пособие, практикум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бочая программа, рейтинг-лист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актики в виде презентации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ДЗ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думайте сложную цепь экологических взаимодействий, которая начинается с того, что вы роняете семечко яблони, а в итоге реализации сложных биоцентрических связей у вашего отца оказываются испорченными кожаные туфл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Рейтинг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971640" y="1557360"/>
          <a:ext cx="7561080" cy="5273640"/>
        </p:xfrm>
        <a:graphic>
          <a:graphicData uri="http://schemas.openxmlformats.org/drawingml/2006/table">
            <a:tbl>
              <a:tblPr/>
              <a:tblGrid>
                <a:gridCol w="3779640"/>
                <a:gridCol w="3781440"/>
              </a:tblGrid>
              <a:tr h="36504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a447"/>
                    </a:solidFill>
                  </a:tcPr>
                </a:tc>
              </a:tr>
              <a:tr h="6415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и (6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42696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овые игры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 ба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З (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 б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1 (контрольная работа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415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2 (контрольная работа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бал - допуск к зачет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39720">
                <a:tc gridSpan="2"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о результатам 2 КН: 40 бал (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 22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бал - зач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Ответственность студента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752560" y="1752120"/>
            <a:ext cx="6010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гласно утвержденным руководящим материалам по текущему контролю успеваемости, промежуточной и итоговой аттестации студентов ТПУ, студент несет ответственность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За выполнение требований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ОП, выраженной в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установленной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совокупности результатов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бучения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3" name="Picture 2" descr="http://img0.liveinternet.ru/images/attach/c/1/50/689/50689845_0_1d898_6d84dc46_XL.jpg"/>
          <p:cNvPicPr/>
          <p:nvPr/>
        </p:nvPicPr>
        <p:blipFill>
          <a:blip r:embed="rId1"/>
          <a:stretch/>
        </p:blipFill>
        <p:spPr>
          <a:xfrm>
            <a:off x="6480" y="1628640"/>
            <a:ext cx="2746080" cy="1960560"/>
          </a:xfrm>
          <a:prstGeom prst="rect">
            <a:avLst/>
          </a:prstGeom>
          <a:ln w="0">
            <a:noFill/>
          </a:ln>
        </p:spPr>
      </p:pic>
      <p:sp>
        <p:nvSpPr>
          <p:cNvPr id="50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Права и обязанности студентов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067280" y="1600200"/>
            <a:ext cx="4695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денты обязаны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ещать занятия, осуществлять самостоятельную подготовку, выполнять задания, выданные преподавателям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денты несут полную ответственность за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утствие на оценочных испытаниях в установленные сроки,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ление работ для оценки в установленные сроки и в соответствии с требованиями,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ие преподавателям или экзаменаторам информации, которая должна быть принята во внимание,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ование шпаргалок, подсказывание и другие виды обмана в процедурах оценивани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7" name="Picture 5" descr="&amp;Kcy;&amp;acy;&amp;rcy;&amp;tcy;&amp;icy;&amp;ncy;&amp;kcy;&amp;acy; 15 &amp;icy;&amp;zcy; 21347"/>
          <p:cNvPicPr/>
          <p:nvPr/>
        </p:nvPicPr>
        <p:blipFill>
          <a:blip r:embed="rId1"/>
          <a:stretch/>
        </p:blipFill>
        <p:spPr>
          <a:xfrm>
            <a:off x="289080" y="2205000"/>
            <a:ext cx="3671640" cy="2749680"/>
          </a:xfrm>
          <a:prstGeom prst="rect">
            <a:avLst/>
          </a:prstGeom>
          <a:ln w="0">
            <a:noFill/>
          </a:ln>
        </p:spPr>
      </p:pic>
      <p:sp>
        <p:nvSpPr>
          <p:cNvPr id="50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Цель практики 1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– осознать необходимость экологических знаний в частной жизни и сфере профессиональной деятельност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экология, экологическое мировоззрение, экологизация, популяция, экосистема, биосфера, биоэкология, социальная экология, прикладная (инженерная экология) экология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1" name="Picture 5" descr="07"/>
          <p:cNvPicPr/>
          <p:nvPr/>
        </p:nvPicPr>
        <p:blipFill>
          <a:blip r:embed="rId1"/>
          <a:stretch/>
        </p:blipFill>
        <p:spPr>
          <a:xfrm>
            <a:off x="6372360" y="4869000"/>
            <a:ext cx="2087280" cy="1995480"/>
          </a:xfrm>
          <a:prstGeom prst="rect">
            <a:avLst/>
          </a:prstGeom>
          <a:ln w="0">
            <a:noFill/>
          </a:ln>
        </p:spPr>
      </p:pic>
      <p:sp>
        <p:nvSpPr>
          <p:cNvPr id="51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44d26"/>
                </a:solidFill>
                <a:uFillTx/>
                <a:latin typeface="Calibri"/>
              </a:rPr>
              <a:t>Что такое экология и что она изучает?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шем городе плохая экологи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ю необходимо охранять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я в нашем городе испорчена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я – основа природопользовани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5" name="Picture 7" descr="40"/>
          <p:cNvPicPr/>
          <p:nvPr/>
        </p:nvPicPr>
        <p:blipFill>
          <a:blip r:embed="rId1"/>
          <a:stretch/>
        </p:blipFill>
        <p:spPr>
          <a:xfrm>
            <a:off x="108000" y="3689280"/>
            <a:ext cx="3157560" cy="31687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&amp;Icy; &amp;vcy;&amp;scy;&amp;iecy;-&amp;tcy;&amp;acy;&amp;kcy;&amp;icy; &amp;chcy;&amp;tcy;&amp;ocy; &amp;tcy;&amp;acy;&amp;kcy;&amp;ocy;&amp;iecy; &amp;ecy;&amp;kcy;&amp;ocy;&amp;lcy;&amp;ocy;&amp;gcy;&amp;icy;&amp;yacy;"/>
          <p:cNvPicPr/>
          <p:nvPr/>
        </p:nvPicPr>
        <p:blipFill>
          <a:blip r:embed="rId2"/>
          <a:stretch/>
        </p:blipFill>
        <p:spPr>
          <a:xfrm>
            <a:off x="3672000" y="3963960"/>
            <a:ext cx="4103640" cy="2679840"/>
          </a:xfrm>
          <a:prstGeom prst="rect">
            <a:avLst/>
          </a:prstGeom>
          <a:ln w="0">
            <a:noFill/>
          </a:ln>
        </p:spPr>
      </p:pic>
      <p:sp>
        <p:nvSpPr>
          <p:cNvPr id="51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вы понимаете смысл приведенных понятий? Чем вызвано их появление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е проблемы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 политик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ое образование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 катастроф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зация промышленност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й транспорт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Экологами стали все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следовательно 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никто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» (Реймерс, 1994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арисовать схему экологии как науки, учитывая предмет, задачи и объект исследования экологии. Уяснить структуру экологии как науки и историю развития экологии как наук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2:10:16Z</dcterms:created>
  <dc:creator/>
  <dc:description/>
  <dc:language>en-US</dc:language>
  <cp:lastModifiedBy/>
  <dcterms:modified xsi:type="dcterms:W3CDTF">2015-05-06T08:42:25Z</dcterms:modified>
  <cp:revision>2</cp:revision>
  <dc:subject/>
  <dc:title>Практика 1. Предмет и структура эк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1049</vt:lpwstr>
  </property>
</Properties>
</file>