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31D1-BB89-4DD6-9302-02B15353C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Глоб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0DAD-EEDE-4F4B-A0E9-68EBD55B26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оявление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2FAF-3E9A-41C7-996A-B4AFBC491F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1380-EF4A-4E56-A421-77D1A025FB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75A6-9FB3-46A5-A209-406CE96C1F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1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4103-8BE7-4363-930A-E1D1CC9280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363C-D0C4-4291-A98C-60232344B7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11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A0EB-0A53-499C-A4AB-390973C95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9340-E43A-4394-85BA-11EAC0D77D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4824-EB62-4522-B045-7AE160AF18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DF64-06C0-4695-828C-2AD724B291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Что может сделать каждый из нас для решения проблемы бытовых отходов?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6AEF-0BCA-42EA-82A5-FF3016CC84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EABE-6599-4F32-956C-735644FA65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FA8B-374E-40BC-8421-AFE2FD693A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27C6-5CE2-4680-881E-2BE8915D65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1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01B4-7C2D-494E-AB8A-05851A49F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8330-1247-4A21-80B4-657FF5B125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D473-A5D5-4510-A431-D461E4419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Духо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9317-0493-4653-88F7-121A0D9E5D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оли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104D-3E28-434C-8140-D31C9B3DFE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3858-EEBB-49B5-85B6-50B0F84251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ЭКОЛОГИЧЕ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980A-DFF0-4B92-91A2-93AD7E180F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9541-ED7C-4951-905A-E2169D12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4C3-5581-429E-B22D-2DB6983D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03D-6A3F-42DC-AB88-D0AC8861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1C9-81EB-4F41-981C-14E2447E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23AD-AE9C-412F-A55E-C0072325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0167-E3F6-4AC3-80D9-82FCE9C5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6388-962B-40BB-89D5-6C2FE91B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8C8C-45BB-4BF2-89E4-8607F8E6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D1EE-3B5A-466A-992D-38450B67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52B7-0E64-4708-AFB2-A2E9A9F3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BA80-4ECD-46B1-94A7-A8D8563D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AA4-D58A-4E54-BC33-A5793346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6591-112A-4AE6-83F5-351A3E11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F23E-7CB3-44A1-BDF7-65F86B13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F980-36D6-4025-B7B4-1C519EA8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394F-75FD-4D4E-962C-75CFC2BF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588C-D4B5-4F0B-BDE9-338313DA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35853-0AC5-44AA-8986-EA45F3DF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E90F-29A1-4389-8FAA-C493D62F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A53E6-E01D-41EC-B21F-0D932B01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F3FB-C325-4C49-8B8C-9FE807A3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D007C-E822-4FF4-95C8-66F518E3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B78-B673-4D4C-ABB9-CC6F774C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3E45-F034-45DD-956F-5E71A52A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CC5B0-DCA7-4B54-8A52-138966CA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1F513-E2F7-4F20-B8B4-EA55BF5C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A61B8-A9C1-447F-BE46-1A028E93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0BEE8-78CD-4C3A-8905-8BA21376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690E4-DA20-41B4-BE5F-E2465FB6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4B164-6D94-45E3-91F9-4D900AC3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95E2-6917-4504-A2CF-466DC2C9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1D3-FFD3-4036-84CE-4A3AC7CD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EC5-A99B-416A-A3F2-C478DFEF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938-EEE7-4EB6-AB90-4FB90D79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CF8-0865-445E-A4F3-0892FA9C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5AD-65B5-41A3-8450-FA0667C6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9239-408E-4CA6-9226-79BF65FC6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isual_new_4"/>
          <p:cNvPicPr/>
          <p:nvPr/>
        </p:nvPicPr>
        <p:blipFill>
          <a:blip r:embed="rId2"/>
          <a:stretch/>
        </p:blipFill>
        <p:spPr>
          <a:xfrm>
            <a:off x="0" y="0"/>
            <a:ext cx="2158920" cy="188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3B95-7808-4F8A-B0B9-253E84F02FD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visual_new_4"/>
          <p:cNvPicPr/>
          <p:nvPr/>
        </p:nvPicPr>
        <p:blipFill>
          <a:blip r:embed="rId2"/>
          <a:stretch/>
        </p:blipFill>
        <p:spPr>
          <a:xfrm>
            <a:off x="466560" y="2184480"/>
            <a:ext cx="2659320" cy="2316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273A-9711-469A-A968-EF257D34507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324000" y="1125360"/>
            <a:ext cx="8496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лобальные 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блемы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 </a:t>
            </a: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человечества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0" y="-81000"/>
            <a:ext cx="9144000" cy="693900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5280" y="105264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250920" y="0"/>
            <a:ext cx="8713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618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Проявление экологической проблемы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0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7"/>
          <p:cNvSpPr/>
          <p:nvPr/>
        </p:nvSpPr>
        <p:spPr>
          <a:xfrm>
            <a:off x="0" y="476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24000" y="2802240"/>
            <a:ext cx="8820000" cy="362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6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0" y="407160"/>
            <a:ext cx="914400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1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6"/>
          <p:cNvSpPr/>
          <p:nvPr/>
        </p:nvSpPr>
        <p:spPr>
          <a:xfrm>
            <a:off x="2335320" y="26028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68360" y="981000"/>
            <a:ext cx="8675640" cy="21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7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5"/>
          <p:cNvSpPr/>
          <p:nvPr/>
        </p:nvSpPr>
        <p:spPr>
          <a:xfrm>
            <a:off x="324000" y="692280"/>
            <a:ext cx="882468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7"/>
          <p:cNvSpPr/>
          <p:nvPr/>
        </p:nvSpPr>
        <p:spPr>
          <a:xfrm>
            <a:off x="468360" y="2205000"/>
            <a:ext cx="86756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5"/>
          <p:cNvSpPr/>
          <p:nvPr/>
        </p:nvSpPr>
        <p:spPr>
          <a:xfrm>
            <a:off x="395280" y="692280"/>
            <a:ext cx="874872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24000" y="692280"/>
            <a:ext cx="882468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418840"/>
            <a:ext cx="5977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«</a:t>
            </a: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Что может сделать каждый из нас для решения проблемы бытовых отходов?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3" descr="Sasha_09 copy"/>
          <p:cNvPicPr/>
          <p:nvPr/>
        </p:nvPicPr>
        <p:blipFill>
          <a:blip r:embed="rId1"/>
          <a:stretch/>
        </p:blipFill>
        <p:spPr>
          <a:xfrm>
            <a:off x="6516720" y="2276640"/>
            <a:ext cx="1933560" cy="3598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Sasha_09 copy"/>
          <p:cNvPicPr/>
          <p:nvPr/>
        </p:nvPicPr>
        <p:blipFill>
          <a:blip r:embed="rId1"/>
          <a:stretch/>
        </p:blipFill>
        <p:spPr>
          <a:xfrm>
            <a:off x="6948360" y="2421000"/>
            <a:ext cx="1933560" cy="359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2761920" y="189000"/>
            <a:ext cx="57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087640" y="620640"/>
            <a:ext cx="70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79280" y="1916280"/>
            <a:ext cx="7058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276720" y="189000"/>
            <a:ext cx="2808000" cy="172872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лог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5651640" y="4724280"/>
            <a:ext cx="280800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ном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7928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литические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633564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оциаль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1332000" y="472428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ухов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V="1">
            <a:off x="3059280" y="2852280"/>
            <a:ext cx="3241440" cy="187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3059280" y="1916280"/>
            <a:ext cx="1728720" cy="28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 flipH="1" flipV="1">
            <a:off x="4788000" y="1915920"/>
            <a:ext cx="2016000" cy="281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 flipH="1" flipV="1">
            <a:off x="1835280" y="3716280"/>
            <a:ext cx="129672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979280" y="1052640"/>
            <a:ext cx="129708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 flipH="1" flipV="1">
            <a:off x="6011640" y="1052280"/>
            <a:ext cx="143964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 flipH="1">
            <a:off x="6803640" y="3716280"/>
            <a:ext cx="64764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 flipH="1">
            <a:off x="4140000" y="5516640"/>
            <a:ext cx="1439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7"/>
          <p:cNvSpPr/>
          <p:nvPr/>
        </p:nvSpPr>
        <p:spPr>
          <a:xfrm flipH="1" flipV="1">
            <a:off x="2987280" y="2852640"/>
            <a:ext cx="3745080" cy="1873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8"/>
          <p:cNvSpPr/>
          <p:nvPr/>
        </p:nvSpPr>
        <p:spPr>
          <a:xfrm flipV="1">
            <a:off x="2916360" y="2781360"/>
            <a:ext cx="3456000" cy="71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Masha_03 copy"/>
          <p:cNvPicPr/>
          <p:nvPr/>
        </p:nvPicPr>
        <p:blipFill>
          <a:blip r:embed="rId1"/>
          <a:stretch/>
        </p:blipFill>
        <p:spPr>
          <a:xfrm>
            <a:off x="324000" y="1989000"/>
            <a:ext cx="2030400" cy="3867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2286000" y="69228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4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5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53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0" y="49680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5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5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1639440"/>
            <a:ext cx="914400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716360" y="3573360"/>
            <a:ext cx="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WordArt 4"/>
            <p:cNvSpPr txBox="1"/>
            <p:nvPr/>
          </p:nvSpPr>
          <p:spPr>
            <a:xfrm>
              <a:off x="2195640" y="333360"/>
              <a:ext cx="489564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1908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Социальные</a:t>
              </a:r>
              <a:endPara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179280" y="2060640"/>
            <a:ext cx="896472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8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WordArt 6"/>
          <p:cNvSpPr txBox="1"/>
          <p:nvPr/>
        </p:nvSpPr>
        <p:spPr>
          <a:xfrm>
            <a:off x="1835280" y="549360"/>
            <a:ext cx="6121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ном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276640"/>
            <a:ext cx="882000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4"/>
          <p:cNvGrpSpPr/>
          <p:nvPr/>
        </p:nvGrpSpPr>
        <p:grpSpPr>
          <a:xfrm>
            <a:off x="0" y="-52560"/>
            <a:ext cx="9144000" cy="6910560"/>
            <a:chOff x="0" y="-52560"/>
            <a:chExt cx="9144000" cy="6910560"/>
          </a:xfrm>
        </p:grpSpPr>
        <p:pic>
          <p:nvPicPr>
            <p:cNvPr id="174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-5256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3"/>
            <p:cNvSpPr/>
            <p:nvPr/>
          </p:nvSpPr>
          <p:spPr>
            <a:xfrm>
              <a:off x="0" y="-5256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WordArt 5"/>
          <p:cNvSpPr txBox="1"/>
          <p:nvPr/>
        </p:nvSpPr>
        <p:spPr>
          <a:xfrm>
            <a:off x="2987640" y="404640"/>
            <a:ext cx="331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ы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95280" y="177336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ит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95280" y="1341360"/>
            <a:ext cx="874872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8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WordArt 5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4000" y="1214280"/>
            <a:ext cx="8820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900000" y="112536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ЭКОЛОГИЧЕСКАЯ 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ПРОБЛЕМА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5:55:06Z</dcterms:created>
  <dc:creator>admin</dc:creator>
  <dc:description/>
  <dc:language>en-US</dc:language>
  <cp:lastModifiedBy>LEGION</cp:lastModifiedBy>
  <dcterms:modified xsi:type="dcterms:W3CDTF">2015-05-06T08:44:50Z</dcterms:modified>
  <cp:revision>19</cp:revision>
  <dc:subject/>
  <dc:title>Глобальные проблемы человечества</dc:title>
</cp:coreProperties>
</file>