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ED2C-45F5-4B27-8C08-BE259A119B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Глоба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FE09-93B9-40E3-869D-512706CB5C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роявление экологической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«парниковый» эффект (глобальное потеплени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.ТБ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E76A-2417-4EE0-A6DC-847E795C80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Тема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 Т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3300"/>
                </a:solidFill>
                <a:latin typeface="Arial Black"/>
              </a:rPr>
              <a:t>Цель урок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дать понятие “твердые бытовые отходы”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акцентировать внимание на проблем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возникающих с увеличением количества ТБ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совместно с  учащимися найти возможные варианты решения данной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7F1E-62C8-4017-8D55-FCD69DE900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 Black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зучим проблему твердых бытовых отходов и предложим пути ее решен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Определим общее количество бытовых отходов населенного пункта – города Чебоксары и их процентное распределение по разным категори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остараемся дать ответ на вопрос “Что могу сделать я в решении данной проблемы?”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23A3-D2EA-4589-B889-0F93452ADC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Выберите цитату,  которая с вашей точки зрения, наиболее полно отражает смысл нашего урока, и подумайте, как прокомментировать данное выражение. </a:t>
            </a:r>
            <a:r>
              <a:rPr b="0" i="1" lang="ru-RU" sz="1000" spc="-1" strike="noStrike">
                <a:solidFill>
                  <a:srgbClr val="ffffff"/>
                </a:solidFill>
                <a:latin typeface="Arial Black"/>
              </a:rPr>
              <a:t>(Все мнения детей принимаются без комментариев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375A-F3E7-4630-908F-F69F895767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«Экскурсия по городу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1C07-D5F5-48E3-B559-12A3503989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Проблема ТБ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в микрорайоне МОУ «СОШ 33»</a:t>
            </a:r>
            <a:r>
              <a:rPr b="0" lang="ru-RU" sz="11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Количество отходов, приходящееся на 1 человека – 0,7 кг в су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Примерное количество отходов, приходящееся на жилой микрорайон /600 жителей / – 480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отходов много, основная часть их приходится на бумагу,  пищевые отходы и пластиковые от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F70F-E5DC-4A22-A11B-25677C46B3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«Фотофак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33DA-352E-4A97-9F6D-668304B877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«Способы избавления отходов в город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F6F3-075C-457D-A6F8-46078560A5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BFED-BFC3-42C5-9589-DCE67D4F72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Arial"/>
              </a:rPr>
              <a:t>«</a:t>
            </a:r>
            <a:r>
              <a:rPr b="1" i="1" lang="ru-RU" sz="1200" spc="-1" strike="noStrike">
                <a:solidFill>
                  <a:srgbClr val="cc3300"/>
                </a:solidFill>
                <a:latin typeface="Arial"/>
              </a:rPr>
              <a:t>Что может сделать каждый из нас для решения проблемы бытовых отходов?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60E9-331D-46EC-81BD-2E17F05496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Старайтесь сократить количество отход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место предметов одноразового использования старайтесь использовать более стойкие (например, вместо пластиковой посуды – керамическую или стеклянну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нужные Вам вещи перепродайте или передайте нуждающимся (например, через благотворительные организа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ри выборе покупки отдайте предпочтение товару в упаковке многоразового использ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сегда имейте с собой в сумке или портфеле матерчатую сумку с ручками для покуп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овторно используйте полиэтиленовые паке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Сократите расходы бумаги, используя обе стороны ли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8D03-684D-4F85-B2D1-CDDC744003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 Black"/>
              </a:rPr>
              <a:t>Улучшите систему обращения с бытовыми отхо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Сортируйте отходы и сдавайте мусор, который можно использовать повторно или перерабатывать (стеклянные бутылки, макулатуру, жестяные банки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ищевые отходы (особенно на садовом участке) используйте для приготовления компо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 Black"/>
              </a:rPr>
              <a:t>Будьте культурны и дисциплинирован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бросайте мусор мимо ур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оставляйте пакеты с мусором в не отведенных для этого местах (в подъездах, на улицах, во двора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создавайте «несанкционированных» свалок вблизи жилья или садов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поджигайте мусор в урнах и мусорных контейне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Практическая раб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Карта п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24F3-83DB-46A1-8039-485D8D01AB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6E94-A2F4-446C-A06A-2CD985C9C4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Найдите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Глобальные проблемы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Проявления глобальных проблем</a:t>
            </a:r>
            <a:r>
              <a:rPr b="0" i="1" lang="ru-RU" sz="11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9D0A-4208-4A41-B7AA-88DD728E9A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охраны здоровья (распространение опасных заболеваний: рака, СПИДа, атипичной пневмонии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образования  (1 миллиард неграмотных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этнические, межконфессиональные конфли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64D4-FC09-40DA-A5E2-F09825843D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Эконо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довольственн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олюса развития: «Север—Юг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пределов экономического ро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стощение ресур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экономический глобализ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645A-78E1-467F-B5A8-79911502F6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Духо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деградация «массовой культуры», девальвация моральных и нравственных цен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уход людей от реальности в мир иллюзий (нарком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рост агрессии, нервно-психических заболеваний, в т.ч. из-за массовой компьюте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ответственности учёных за последствия своих откры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FF68-5780-414C-977C-6C8B2FAED0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Поли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войны и мира: возможность перерастания локальных конфликтов в глобальные, опасность ядерной вой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сохраняющиеся полюса противостояния, борьба за сферы влияния (США – Европа – Россия – Азиатско - Тихоокеанский регио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различия политических систем (демократия, авторитаризм, тоталитариз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терроризм (международный, внутриполитический, уголовны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DA01-93F0-4AB1-9D3F-4B42D1A0C6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Эк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«парниковый» эфф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загрязнение окружающей среды: атмосферы, почвы, вод Мирового океана, продуктов пит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3C68-678F-4380-B863-93CAE6155C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be0e3"/>
                </a:solidFill>
                <a:latin typeface="Impact"/>
              </a:rPr>
              <a:t>ЭКОЛОГИЧЕС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be0e3"/>
                </a:solidFill>
                <a:latin typeface="Impact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9660-B4C9-4612-B397-58364C8848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7B0F-A66F-4815-913A-91AF7AB7C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33BD-5976-443D-8966-F98A8E23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EACB-B55D-43BD-9238-8ED6590E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0E6B-7592-496B-AC10-5D31DFDD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B48D-6CF4-4E53-BFCD-78DA3CE8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C5B7-E665-49AD-B8D2-5C508798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11D4-853F-45C4-A074-6C67903B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AF67-6B65-48CC-8964-F8D9DECE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52B6-A7C7-4E52-AA77-B9D20DC8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147C-9E7A-4D7F-97CF-85F42DC0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DB46-356E-49E1-9873-DD8F1530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25DA-F71E-46F7-BBA2-C7B0ECB7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7306-641D-4FA9-9D9D-EBE15E89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78EE-2F34-4EDD-9986-38F3EA76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A831-FEF8-49DC-B4D6-1C03F570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0C4D-08DA-4587-8119-7509AE60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0F2E-E0F7-4396-9C0C-19B0BF24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307AA-8207-441A-82D7-73566F89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42500-224B-430B-9FAE-C16EFEB8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685EF-6A55-4F80-955F-679202C2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E624B-0EE4-4FCA-A4D2-917CEF59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2BEB2-0099-4950-8516-BC1E7309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9E15-1181-4636-81FC-8F8EAE92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701EF-DABE-43EA-A3A5-A10B3866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2DE45-CD24-458A-937E-C3931E30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D7360-0BED-4AFB-AA44-15693E0F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54CDF-2D56-417D-9B11-3873E901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C7355-D945-437D-97A7-3C64DC26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1E148-3F08-445D-9F92-91A95D2F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E8162-3526-4050-9BE7-87F0B308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9D68-40CF-4B0F-BA9C-9708D7A3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468D-E755-40D1-BFE7-C024B9BB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1338-24BC-4FE9-ABE1-06A0C4DE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B141-9437-49DA-9766-6A1A92E0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C8D8-71E3-46E5-B774-86305CA4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4C52-EC3F-4505-BC1E-DFA890C8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65A2-A543-40B7-8BFF-EF067FD416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isual_new_4"/>
          <p:cNvPicPr/>
          <p:nvPr/>
        </p:nvPicPr>
        <p:blipFill>
          <a:blip r:embed="rId2"/>
          <a:stretch/>
        </p:blipFill>
        <p:spPr>
          <a:xfrm>
            <a:off x="0" y="0"/>
            <a:ext cx="2158920" cy="1881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D9F2-914F-445B-971B-103622EFE98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visual_new_4"/>
          <p:cNvPicPr/>
          <p:nvPr/>
        </p:nvPicPr>
        <p:blipFill>
          <a:blip r:embed="rId2"/>
          <a:stretch/>
        </p:blipFill>
        <p:spPr>
          <a:xfrm>
            <a:off x="466560" y="2184480"/>
            <a:ext cx="2659320" cy="2316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4A5D-2234-4E0E-96AB-B6810F479BE4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324000" y="1125360"/>
            <a:ext cx="84960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Глобальные </a:t>
            </a:r>
            <a:endParaRPr b="1" lang="en-US" sz="1800" spc="1" strike="noStrike">
              <a:ln w="5724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роблемы</a:t>
            </a:r>
            <a:endParaRPr b="1" lang="en-US" sz="1800" spc="1" strike="noStrike">
              <a:ln w="5724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 </a:t>
            </a: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человечества</a:t>
            </a:r>
            <a:endParaRPr b="1" lang="en-US" sz="1800" spc="1" strike="noStrike">
              <a:ln w="57240">
                <a:solidFill>
                  <a:srgbClr val="ffff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0" y="-81000"/>
            <a:ext cx="9144000" cy="693900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95280" y="1052640"/>
            <a:ext cx="874872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«парниковый» эффект (глобальное потеплени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.Т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5"/>
          <p:cNvSpPr txBox="1"/>
          <p:nvPr/>
        </p:nvSpPr>
        <p:spPr>
          <a:xfrm>
            <a:off x="250920" y="0"/>
            <a:ext cx="87138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7618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Проявление экологической проблемы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7618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5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00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7"/>
          <p:cNvSpPr/>
          <p:nvPr/>
        </p:nvSpPr>
        <p:spPr>
          <a:xfrm>
            <a:off x="0" y="476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Тема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 ТБ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324000" y="2802240"/>
            <a:ext cx="8820000" cy="362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Arial Black"/>
              </a:rPr>
              <a:t>Цель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дать понятие “твердые бытовые отходы”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акцентировать внимание на проблем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озникающих с увеличением количества ТБ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овместно с  учащимися найти возможные варианты решения данной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06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0" y="407160"/>
            <a:ext cx="9144000" cy="478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 Black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зучим проблему твердых бытовых отходов и предложим пути ее реш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пределим общее количество бытовых отходов населенного пункта – города Чебоксары и их процентное распределение по разным категори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стараемся дать ответ на вопрос “Что могу сделать я в решении данной проблемы?”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5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11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6"/>
          <p:cNvSpPr/>
          <p:nvPr/>
        </p:nvSpPr>
        <p:spPr>
          <a:xfrm>
            <a:off x="2335320" y="260280"/>
            <a:ext cx="39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468360" y="981000"/>
            <a:ext cx="8675640" cy="21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ыберите цитату,  которая с вашей точки зрения, наиболее полно отражает смысл нашего урока, и подумайте, как прокомментировать данное выражение. </a:t>
            </a:r>
            <a:r>
              <a:rPr b="0" i="1" lang="ru-RU" sz="2000" spc="-1" strike="noStrike">
                <a:solidFill>
                  <a:srgbClr val="ffffff"/>
                </a:solidFill>
                <a:latin typeface="Arial Black"/>
              </a:rPr>
              <a:t>(Все мнения детей принимаются без комментарие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17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5"/>
          <p:cNvSpPr/>
          <p:nvPr/>
        </p:nvSpPr>
        <p:spPr>
          <a:xfrm>
            <a:off x="324000" y="692280"/>
            <a:ext cx="882468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«Экскурсия по город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5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22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7"/>
          <p:cNvSpPr/>
          <p:nvPr/>
        </p:nvSpPr>
        <p:spPr>
          <a:xfrm>
            <a:off x="468360" y="2205000"/>
            <a:ext cx="867564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Количество отходов, приходящееся на 1 человека – 0,7 кг в су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имерное количество отходов, приходящееся на жилой микрорайон /600 жителей / – 480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отходов много, основная часть их приходится на бумагу,  пищевые отходы и пластиковые отх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Проблема ТБ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в микрорайоне МОУ «СОШ 33»</a:t>
            </a: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28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5"/>
          <p:cNvSpPr/>
          <p:nvPr/>
        </p:nvSpPr>
        <p:spPr>
          <a:xfrm>
            <a:off x="395280" y="692280"/>
            <a:ext cx="874872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«Фотофак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24000" y="692280"/>
            <a:ext cx="882468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«Способы избавления отходов в городах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418840"/>
            <a:ext cx="597708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Verdana"/>
              </a:rPr>
              <a:t>«</a:t>
            </a:r>
            <a:r>
              <a:rPr b="1" i="1" lang="ru-RU" sz="2000" spc="-1" strike="noStrike">
                <a:solidFill>
                  <a:srgbClr val="cc3300"/>
                </a:solidFill>
                <a:latin typeface="Verdana"/>
              </a:rPr>
              <a:t>Что может сделать каждый из нас для решения проблемы бытовых отходов?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3" descr="Sasha_09 copy"/>
          <p:cNvPicPr/>
          <p:nvPr/>
        </p:nvPicPr>
        <p:blipFill>
          <a:blip r:embed="rId1"/>
          <a:stretch/>
        </p:blipFill>
        <p:spPr>
          <a:xfrm>
            <a:off x="6516720" y="2276640"/>
            <a:ext cx="1933560" cy="35985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Sasha_09 copy"/>
          <p:cNvPicPr/>
          <p:nvPr/>
        </p:nvPicPr>
        <p:blipFill>
          <a:blip r:embed="rId1"/>
          <a:stretch/>
        </p:blipFill>
        <p:spPr>
          <a:xfrm>
            <a:off x="6948360" y="2421000"/>
            <a:ext cx="1933560" cy="3598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2761920" y="189000"/>
            <a:ext cx="57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тарайтесь сократить количество отходов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2087640" y="620640"/>
            <a:ext cx="70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место предметов одноразового использования старайтесь использовать более стойкие (например, вместо пластиковой посуды – керамическую или стеклянную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79280" y="1916280"/>
            <a:ext cx="7058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нужные Вам вещи перепродайте или передайте нуждающимся (например, через благотворительные организа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и выборе покупки отдайте предпочтение товару в упаковке многоразового исполь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сегда имейте с собой в сумке или портфеле матерчатую сумку с ручками для покуп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вторно используйте полиэтиленовые пак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ократите расходы бумаги, используя обе стороны ли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3276720" y="189000"/>
            <a:ext cx="2808000" cy="172872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кологически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5651640" y="4724280"/>
            <a:ext cx="280800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кономически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179280" y="1989000"/>
            <a:ext cx="280836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литические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6335640" y="1989000"/>
            <a:ext cx="280836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оциальны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1332000" y="4724280"/>
            <a:ext cx="280836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Духовны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 flipV="1">
            <a:off x="3059280" y="2852280"/>
            <a:ext cx="3241440" cy="187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3059280" y="1916280"/>
            <a:ext cx="1728720" cy="2808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 flipH="1" flipV="1">
            <a:off x="4788000" y="1915920"/>
            <a:ext cx="2016000" cy="28112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 flipH="1" flipV="1">
            <a:off x="1835280" y="3716280"/>
            <a:ext cx="1296720" cy="1008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1979280" y="1052640"/>
            <a:ext cx="1297080" cy="936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4"/>
          <p:cNvSpPr/>
          <p:nvPr/>
        </p:nvSpPr>
        <p:spPr>
          <a:xfrm flipH="1" flipV="1">
            <a:off x="6011640" y="1052280"/>
            <a:ext cx="1439640" cy="936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5"/>
          <p:cNvSpPr/>
          <p:nvPr/>
        </p:nvSpPr>
        <p:spPr>
          <a:xfrm flipH="1">
            <a:off x="6803640" y="3716280"/>
            <a:ext cx="647640" cy="1008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6"/>
          <p:cNvSpPr/>
          <p:nvPr/>
        </p:nvSpPr>
        <p:spPr>
          <a:xfrm flipH="1">
            <a:off x="4140000" y="5516640"/>
            <a:ext cx="14396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7"/>
          <p:cNvSpPr/>
          <p:nvPr/>
        </p:nvSpPr>
        <p:spPr>
          <a:xfrm flipH="1" flipV="1">
            <a:off x="2987280" y="2852640"/>
            <a:ext cx="3745080" cy="18734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8"/>
          <p:cNvSpPr/>
          <p:nvPr/>
        </p:nvSpPr>
        <p:spPr>
          <a:xfrm flipV="1">
            <a:off x="2916360" y="2781360"/>
            <a:ext cx="3456000" cy="71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Masha_03 copy"/>
          <p:cNvPicPr/>
          <p:nvPr/>
        </p:nvPicPr>
        <p:blipFill>
          <a:blip r:embed="rId1"/>
          <a:stretch/>
        </p:blipFill>
        <p:spPr>
          <a:xfrm>
            <a:off x="324000" y="1989000"/>
            <a:ext cx="2030400" cy="38671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2286000" y="692280"/>
            <a:ext cx="685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Black"/>
              </a:rPr>
              <a:t>Улучшите систему обращения с бытовыми от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Сортируйте отходы и сдавайте мусор, который можно использовать повторно или перерабатывать (стеклянные бутылки, макулатуру, жестяные банки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Пищевые отходы (особенно на садовом участке) используйте для приготовления компо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Black"/>
              </a:rPr>
              <a:t>Будьте культурны и дисциплинирован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бросайте мусор мимо у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оставляйте пакеты с мусором в не отведенных для этого местах (в подъездах, на улицах, во двора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создавайте «несанкционированных» свалок вблизи жилья или садового учас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поджигайте мусор в урнах и мусорных контейне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48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5"/>
          <p:cNvSpPr/>
          <p:nvPr/>
        </p:nvSpPr>
        <p:spPr>
          <a:xfrm>
            <a:off x="0" y="40464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Практическ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Карта по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6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53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0" y="49680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55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5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1639440"/>
            <a:ext cx="914400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Найдите соотве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Глобальные проблемы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Проявления глобальных проблем</a:t>
            </a:r>
            <a:r>
              <a:rPr b="0" i="1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4716360" y="3573360"/>
            <a:ext cx="0" cy="1150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6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62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WordArt 4"/>
            <p:cNvSpPr txBox="1"/>
            <p:nvPr/>
          </p:nvSpPr>
          <p:spPr>
            <a:xfrm>
              <a:off x="2195640" y="333360"/>
              <a:ext cx="489564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19080">
                    <a:solidFill>
                      <a:srgbClr val="ff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Социальные</a:t>
              </a:r>
              <a:endPara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65" name="Text Box 7"/>
          <p:cNvSpPr/>
          <p:nvPr/>
        </p:nvSpPr>
        <p:spPr>
          <a:xfrm>
            <a:off x="179280" y="2060640"/>
            <a:ext cx="896472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емографическая пробл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охраны здоровья (распространение опасных заболеваний: рака, СПИДа, атипичной пневмонии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образования  (1 миллиард неграмотных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этнические, межконфессиональные конфли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68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WordArt 6"/>
          <p:cNvSpPr txBox="1"/>
          <p:nvPr/>
        </p:nvSpPr>
        <p:spPr>
          <a:xfrm>
            <a:off x="1835280" y="549360"/>
            <a:ext cx="6121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ономически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24000" y="2276640"/>
            <a:ext cx="882000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довольственная пробл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люса развития: «Север—Юг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пределов экономического ро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стощение ресур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экономический глобализ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4"/>
          <p:cNvGrpSpPr/>
          <p:nvPr/>
        </p:nvGrpSpPr>
        <p:grpSpPr>
          <a:xfrm>
            <a:off x="0" y="-52560"/>
            <a:ext cx="9144000" cy="6910560"/>
            <a:chOff x="0" y="-52560"/>
            <a:chExt cx="9144000" cy="6910560"/>
          </a:xfrm>
        </p:grpSpPr>
        <p:pic>
          <p:nvPicPr>
            <p:cNvPr id="174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-5256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3"/>
            <p:cNvSpPr/>
            <p:nvPr/>
          </p:nvSpPr>
          <p:spPr>
            <a:xfrm>
              <a:off x="0" y="-5256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WordArt 5"/>
          <p:cNvSpPr txBox="1"/>
          <p:nvPr/>
        </p:nvSpPr>
        <p:spPr>
          <a:xfrm>
            <a:off x="2987640" y="404640"/>
            <a:ext cx="3311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уховны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95280" y="1773360"/>
            <a:ext cx="874872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еградация «массовой культуры», девальвация моральных и нравственных це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уход людей от реальности в мир иллюзий (нарком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ост агрессии, нервно-психических заболеваний, в т.ч. из-за массовой компьютер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ответственности учёных за последствия своих откры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1692360" y="260280"/>
            <a:ext cx="612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итически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95280" y="1341360"/>
            <a:ext cx="8748720" cy="478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войны и мира: возможность перерастания локальных конфликтов в глобальные, опасность ядерной вой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охраняющиеся полюса противостояния, борьба за сферы влияния (США – Европа – Россия – Азиатско - Тихоокеанский регио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азличия политических систем (демократия, авторитаризм, тоталитариз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терроризм (международный, внутриполитический, уголовны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85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WordArt 5"/>
          <p:cNvSpPr txBox="1"/>
          <p:nvPr/>
        </p:nvSpPr>
        <p:spPr>
          <a:xfrm>
            <a:off x="1692360" y="260280"/>
            <a:ext cx="612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ологически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24000" y="1214280"/>
            <a:ext cx="882000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«парниковый» эфф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загрязнение окружающей среды: атмосферы, почвы, вод Мирового океана, продуктов пи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5"/>
          <p:cNvSpPr txBox="1"/>
          <p:nvPr/>
        </p:nvSpPr>
        <p:spPr>
          <a:xfrm>
            <a:off x="900000" y="1125360"/>
            <a:ext cx="76201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339966"/>
                  </a:solidFill>
                  <a:miter/>
                </a:ln>
                <a:solidFill>
                  <a:srgbClr val="bbe0e3"/>
                </a:solidFill>
                <a:latin typeface="Impact"/>
              </a:rPr>
              <a:t>ЭКОЛОГИЧЕСКАЯ </a:t>
            </a:r>
            <a:endParaRPr b="1" lang="en-US" sz="1800" spc="1" strike="noStrike">
              <a:ln w="57240">
                <a:solidFill>
                  <a:srgbClr val="339966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57240">
                <a:solidFill>
                  <a:srgbClr val="339966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339966"/>
                  </a:solidFill>
                  <a:miter/>
                </a:ln>
                <a:solidFill>
                  <a:srgbClr val="bbe0e3"/>
                </a:solidFill>
                <a:latin typeface="Impact"/>
              </a:rPr>
              <a:t>ПРОБЛЕМА</a:t>
            </a:r>
            <a:endParaRPr b="1" lang="en-US" sz="1800" spc="1" strike="noStrike">
              <a:ln w="57240">
                <a:solidFill>
                  <a:srgbClr val="339966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5:55:06Z</dcterms:created>
  <dc:creator>admin</dc:creator>
  <dc:description/>
  <dc:language>en-US</dc:language>
  <cp:lastModifiedBy>LEGION</cp:lastModifiedBy>
  <dcterms:modified xsi:type="dcterms:W3CDTF">2015-05-06T08:44:50Z</dcterms:modified>
  <cp:revision>19</cp:revision>
  <dc:subject/>
  <dc:title>Глобальные проблемы человечества</dc:title>
</cp:coreProperties>
</file>