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D0EB-9EF3-44F1-A93A-8CBECD6030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A6B5-DBF0-46D4-8391-FEAB52543D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оявление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9BCF-27F2-4EF0-A29B-8B946386D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19C5-EA9B-4BF6-842B-F77A069A5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BB9B-6E2A-44E0-AB88-BF46B7FB0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1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BE2E-EBA7-46D3-BFEB-8DA00B152B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FD9D-A0E7-46EA-86BF-0EF224F31A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11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FE1A-92DA-425E-B2AC-182AA6428C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238F-EF35-4993-AADF-416639C43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74D6-2228-40C7-B48A-4A7A4C3B0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0885-E703-442C-8289-E502A0D949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Что может сделать каждый из нас для решения проблемы бытовых отходов?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D4D6-3947-4B18-B72E-8EC658E2C2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DED9-9204-48A3-BBA8-CDD7E2875E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D03E-1A01-4594-B38C-8E93C0EC6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B2D3-A0D5-41A3-91E6-C7C4F0D271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1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C0E2-CE91-4CFE-977C-7DF8C54166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900A-1567-46CD-A2BE-5FB0A7C833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6FA1-C8D8-4202-B6F8-AFA9BE10DA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Духо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3A07-C7A3-43A9-9F19-6AAF3C42DD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оли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F4C1-D6FD-4593-9333-BFAE1928A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13C9-0BD9-44DF-B38E-376634F746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ЭКОЛОГИЧЕ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9D53-D328-4C50-915B-E150CF91B5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3966-84E6-4B22-A1F6-5AF5613A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03F-2E66-4734-90EE-F24003D9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6A5-C982-4A81-B432-6E4B5131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63A-93AB-41C0-B333-1DDFB777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BCF1-EC3C-4841-8FC5-C5EC0C26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5628-60AE-431D-B737-0F91067E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9C1D-1F66-4C9D-B0BF-CCA3473E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1350-0106-48FF-A67A-FFBAB437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24C9-41CC-4DC1-BDA4-40CE45E0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6226-C379-4592-866B-8DD7D0D7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0A05-2ED6-40A7-A261-CA8129E1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0AE-188F-498B-B1AF-0F19D229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111F-6840-48CC-8136-6A2F4814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E672-2131-48CE-9C4D-9A1A4ACC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B8B5-6802-4CA9-A61A-098F5D63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B792-4D9C-41FE-90D8-4F090E63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6671-3214-4319-80EE-27AFE25B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96BA9-9A30-4030-AA1E-B36DB178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9B1C1-52E0-48BA-BA2A-D8810DA1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A764C-B78D-461A-B2D0-369DF929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E6AB7-D750-4824-BF33-209EC863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9B5B-3605-4F99-A999-5C17B178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29F-104F-4EBF-AC9A-F92E70B8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A0F9A-9A8F-48BC-93D3-F4B6B623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2E8F8-BC65-45B0-9BCF-1FB94B01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1F3D-2674-403E-B426-353D5EAC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C2FC6-7665-438C-AC22-DE4CAFF9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43D2-F448-4D67-A0B0-55698B64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9CFA-916A-4791-B321-24C07B8C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584D5-B2A6-4CAB-96C9-1CD060B6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1B1-D32A-4D79-AA85-22BAE4DF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3F08-DA0D-4361-9E79-77EF9C1D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FAF-78F0-4BCD-8768-346467D6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6BA-7946-4BBC-840C-D44DEC7E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07E-2734-4440-9DBA-F45E4D67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CFC-B038-48AE-8522-24DFCEC2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428A-F3E4-4466-80EF-09CE96AD1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isual_new_4"/>
          <p:cNvPicPr/>
          <p:nvPr/>
        </p:nvPicPr>
        <p:blipFill>
          <a:blip r:embed="rId2"/>
          <a:stretch/>
        </p:blipFill>
        <p:spPr>
          <a:xfrm>
            <a:off x="0" y="0"/>
            <a:ext cx="2158920" cy="188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3B46-F931-4656-9030-842ADC80CA0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visual_new_4"/>
          <p:cNvPicPr/>
          <p:nvPr/>
        </p:nvPicPr>
        <p:blipFill>
          <a:blip r:embed="rId2"/>
          <a:stretch/>
        </p:blipFill>
        <p:spPr>
          <a:xfrm>
            <a:off x="466560" y="2184480"/>
            <a:ext cx="2659320" cy="2316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7325-DA22-49C8-B81A-4B5CF6944CB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324000" y="1125360"/>
            <a:ext cx="8496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лобальные 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блемы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 </a:t>
            </a: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человечества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0" y="-81000"/>
            <a:ext cx="9144000" cy="693900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5280" y="105264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250920" y="0"/>
            <a:ext cx="8713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618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роявление экологической проблемы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0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7"/>
          <p:cNvSpPr/>
          <p:nvPr/>
        </p:nvSpPr>
        <p:spPr>
          <a:xfrm>
            <a:off x="0" y="476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24000" y="2802240"/>
            <a:ext cx="8820000" cy="362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6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0" y="407160"/>
            <a:ext cx="914400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1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6"/>
          <p:cNvSpPr/>
          <p:nvPr/>
        </p:nvSpPr>
        <p:spPr>
          <a:xfrm>
            <a:off x="2335320" y="26028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68360" y="981000"/>
            <a:ext cx="8675640" cy="21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7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5"/>
          <p:cNvSpPr/>
          <p:nvPr/>
        </p:nvSpPr>
        <p:spPr>
          <a:xfrm>
            <a:off x="324000" y="692280"/>
            <a:ext cx="882468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7"/>
          <p:cNvSpPr/>
          <p:nvPr/>
        </p:nvSpPr>
        <p:spPr>
          <a:xfrm>
            <a:off x="468360" y="2205000"/>
            <a:ext cx="86756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5"/>
          <p:cNvSpPr/>
          <p:nvPr/>
        </p:nvSpPr>
        <p:spPr>
          <a:xfrm>
            <a:off x="395280" y="692280"/>
            <a:ext cx="874872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24000" y="692280"/>
            <a:ext cx="882468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418840"/>
            <a:ext cx="5977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«</a:t>
            </a: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Что может сделать каждый из нас для решения проблемы бытовых отходов?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3" descr="Sasha_09 copy"/>
          <p:cNvPicPr/>
          <p:nvPr/>
        </p:nvPicPr>
        <p:blipFill>
          <a:blip r:embed="rId1"/>
          <a:stretch/>
        </p:blipFill>
        <p:spPr>
          <a:xfrm>
            <a:off x="6516720" y="2276640"/>
            <a:ext cx="1933560" cy="3598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Sasha_09 copy"/>
          <p:cNvPicPr/>
          <p:nvPr/>
        </p:nvPicPr>
        <p:blipFill>
          <a:blip r:embed="rId1"/>
          <a:stretch/>
        </p:blipFill>
        <p:spPr>
          <a:xfrm>
            <a:off x="6948360" y="2421000"/>
            <a:ext cx="1933560" cy="359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2761920" y="189000"/>
            <a:ext cx="57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087640" y="620640"/>
            <a:ext cx="70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79280" y="1916280"/>
            <a:ext cx="7058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276720" y="189000"/>
            <a:ext cx="2808000" cy="172872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лог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5651640" y="4724280"/>
            <a:ext cx="280800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ном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7928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литические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633564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оциаль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1332000" y="472428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ухов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V="1">
            <a:off x="3059280" y="2852280"/>
            <a:ext cx="3241440" cy="187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3059280" y="1916280"/>
            <a:ext cx="1728720" cy="28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 flipH="1" flipV="1">
            <a:off x="4788000" y="1915920"/>
            <a:ext cx="2016000" cy="281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 flipH="1" flipV="1">
            <a:off x="1835280" y="3716280"/>
            <a:ext cx="129672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79280" y="1052640"/>
            <a:ext cx="129708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H="1" flipV="1">
            <a:off x="6011640" y="1052280"/>
            <a:ext cx="143964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 flipH="1">
            <a:off x="6803640" y="3716280"/>
            <a:ext cx="64764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 flipH="1">
            <a:off x="4140000" y="551664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 flipH="1" flipV="1">
            <a:off x="2987280" y="2852640"/>
            <a:ext cx="3745080" cy="1873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 flipV="1">
            <a:off x="2916360" y="2781360"/>
            <a:ext cx="3456000" cy="71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Masha_03 copy"/>
          <p:cNvPicPr/>
          <p:nvPr/>
        </p:nvPicPr>
        <p:blipFill>
          <a:blip r:embed="rId1"/>
          <a:stretch/>
        </p:blipFill>
        <p:spPr>
          <a:xfrm>
            <a:off x="324000" y="1989000"/>
            <a:ext cx="2030400" cy="3867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2286000" y="69228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4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5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53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0" y="49680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5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5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1639440"/>
            <a:ext cx="914400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716360" y="3573360"/>
            <a:ext cx="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WordArt 4"/>
            <p:cNvSpPr txBox="1"/>
            <p:nvPr/>
          </p:nvSpPr>
          <p:spPr>
            <a:xfrm>
              <a:off x="2195640" y="333360"/>
              <a:ext cx="489564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1908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Социальные</a:t>
              </a:r>
              <a:endPara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179280" y="2060640"/>
            <a:ext cx="896472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8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WordArt 6"/>
          <p:cNvSpPr txBox="1"/>
          <p:nvPr/>
        </p:nvSpPr>
        <p:spPr>
          <a:xfrm>
            <a:off x="1835280" y="549360"/>
            <a:ext cx="6121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ном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276640"/>
            <a:ext cx="882000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4"/>
          <p:cNvGrpSpPr/>
          <p:nvPr/>
        </p:nvGrpSpPr>
        <p:grpSpPr>
          <a:xfrm>
            <a:off x="0" y="-52560"/>
            <a:ext cx="9144000" cy="6910560"/>
            <a:chOff x="0" y="-52560"/>
            <a:chExt cx="9144000" cy="6910560"/>
          </a:xfrm>
        </p:grpSpPr>
        <p:pic>
          <p:nvPicPr>
            <p:cNvPr id="174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-5256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3"/>
            <p:cNvSpPr/>
            <p:nvPr/>
          </p:nvSpPr>
          <p:spPr>
            <a:xfrm>
              <a:off x="0" y="-5256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WordArt 5"/>
          <p:cNvSpPr txBox="1"/>
          <p:nvPr/>
        </p:nvSpPr>
        <p:spPr>
          <a:xfrm>
            <a:off x="2987640" y="404640"/>
            <a:ext cx="331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ы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95280" y="177336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ит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95280" y="1341360"/>
            <a:ext cx="874872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8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WordArt 5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4000" y="1214280"/>
            <a:ext cx="8820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900000" y="112536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ЭКОЛОГИЧЕСКАЯ 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ПРОБЛЕМА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5:55:06Z</dcterms:created>
  <dc:creator>admin</dc:creator>
  <dc:description/>
  <dc:language>en-US</dc:language>
  <cp:lastModifiedBy>LEGION</cp:lastModifiedBy>
  <dcterms:modified xsi:type="dcterms:W3CDTF">2015-05-06T08:44:50Z</dcterms:modified>
  <cp:revision>19</cp:revision>
  <dc:subject/>
  <dc:title>Глобальные проблемы человечества</dc:title>
</cp:coreProperties>
</file>