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25.png" ContentType="image/png"/>
  <Override PartName="/ppt/media/image42.jpeg" ContentType="image/jpeg"/>
  <Override PartName="/ppt/media/image5.png" ContentType="image/png"/>
  <Override PartName="/ppt/media/image36.wmf" ContentType="image/x-wmf"/>
  <Override PartName="/ppt/media/image8.png" ContentType="image/png"/>
  <Override PartName="/ppt/media/image39.jpeg" ContentType="image/jpeg"/>
  <Override PartName="/ppt/media/image37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43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FEEB-95F6-4449-B6C0-EA010FA4D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9E8C-7672-44FC-A77D-A33D33E7E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EAA0-D417-446D-B694-FF9F98902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53C4-D591-4F20-8CD9-F74577EB7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2F03-DDA3-465B-AECE-D87CA4DD0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7D79-131E-4C01-9F0F-9362CF718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A14-A764-4400-809C-A47842848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к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2C91-6735-4A19-84AF-C5DD1D638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7F5B-CAE8-42C5-BEFF-0E3408A12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25B3-B0A7-41EE-AB9F-4CE6DAD91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8DCC-CA00-44CF-B7C5-BD000E08F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9046-9A95-4629-B1F3-6FDE22BC3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7E89-467A-4B3A-92B0-72A93C2E3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B518-5CDF-48CB-A61D-2F0CD1913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58CF-2B94-4283-B7E1-1FF48EC3E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B9EA-CAC4-474C-B248-1F4865E0A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F31-1E8C-470B-803C-8D24BB246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28E4-5221-4789-8039-F99554FBE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199C-86BB-42A7-BB32-AACC5A1B5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CE9A-F90F-4B52-B204-6980F6DFC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(1739-17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(1741-1742/17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(1748/17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(17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F117-703E-4BD1-94A8-D2B92B144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6B34-2B68-4058-935C-2DE37E18C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D743-0C2A-4CCD-95AE-9B8BBC966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4F37-E06E-4D4B-90DC-BB36BE6AE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новой теории зрения (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(17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(17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4EEB-9B3C-4B3A-AFD0-53FACFF29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1760-9EFC-404C-8313-FDE0BB337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951B-7D1A-4374-90B0-1D7E944DD2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545-7EAE-46AE-8166-6BC96BB19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437E-7394-4247-AAC1-21AAA52E6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457-7E79-4DA8-932E-B35D9BEE7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ADEE-CDB6-471E-B168-2B1E56D67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12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F358-CA3E-4041-A219-7E61E3D17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11AF-A639-48FB-8394-4AD504E91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ACB7-A2AD-4F04-8247-744C9529D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0E42-47F6-4F6E-AACE-F590CC056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2E56-C60F-4633-9801-6AEDA9C72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56F2-0B82-46F6-8A2F-E15F3EA0E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A2A2-B494-4C11-A43C-5582A4DB9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95F-29CE-4622-AD2B-B35B8401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F36-648A-44E0-8D8C-E25166C6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E4F-FB6F-40D2-810F-59C2B29F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A68-B286-438C-8698-4CCF084B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244-D5CA-45CD-9FD8-18D86DA5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93C-A951-4962-B50B-956453AC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C8F-0D07-4CA5-AB4C-E516BE02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869-0772-4141-A834-11E47096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EAE-3CF4-4826-9195-F6184719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D96-0CBC-4776-9954-32FEA57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B5E-C565-4DFA-90B1-510246D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267-AD72-46B1-8CA1-29304F82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65A-6FFA-47FC-BB7A-2D1C17763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2.wmf"/><Relationship Id="rId9" Type="http://schemas.openxmlformats.org/officeDocument/2006/relationships/image" Target="../media/image31.wmf"/><Relationship Id="rId10" Type="http://schemas.openxmlformats.org/officeDocument/2006/relationships/image" Target="../media/image33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0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07180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1928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757840" y="2517840"/>
            <a:ext cx="2519280" cy="25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5829480" y="2602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829480" y="3321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829480" y="404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17840" y="2986200"/>
            <a:ext cx="2519280" cy="215640"/>
          </a:xfrm>
          <a:prstGeom prst="rightArrow">
            <a:avLst>
              <a:gd name="adj1" fmla="val 50000"/>
              <a:gd name="adj2" fmla="val 29207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417840" y="36702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17840" y="438948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974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Бер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 вне ду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енных, имеющих фор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движных субстан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их нашим идея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лах, то как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 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ть о них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олжны были бы знать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наших 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дают нам 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наших ощущения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деях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х вещах, которые, как бы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и называли,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нимаются в ощущ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не удостоверяют нас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т вне дух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сприняты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ход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ми, которые воспринимают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ризнаётся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 rot="10800000">
            <a:off x="179280" y="1977840"/>
            <a:ext cx="6010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таётся допусти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скольку мы облад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знанием внеш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в, это знание приобрет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даря рассудку, умозаключающ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 их существовании и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посредственно восприн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щущении. Но я не виж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ассудок может привести на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выводу о существовании те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духа, исходя из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мы восприним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78200" y="2517840"/>
            <a:ext cx="410220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54200" y="1619280"/>
            <a:ext cx="144000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к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1619280"/>
            <a:ext cx="1439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2517840"/>
            <a:ext cx="410184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230560" y="1978200"/>
            <a:ext cx="4678200" cy="2519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бстракт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существ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158920" y="5037120"/>
            <a:ext cx="482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идея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что едини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266920" y="2158920"/>
            <a:ext cx="4678560" cy="21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кт и ощущение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ытие вещей состоит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их восприним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165480" y="4678200"/>
            <a:ext cx="287964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perci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8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094200" y="3381480"/>
            <a:ext cx="2339640" cy="23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 rot="21540000">
            <a:off x="3579480" y="2536560"/>
            <a:ext cx="2184480" cy="75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 rot="180000">
            <a:off x="5519520" y="3003480"/>
            <a:ext cx="752400" cy="228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81" name="Oval 12"/>
          <p:cNvSpPr/>
          <p:nvPr/>
        </p:nvSpPr>
        <p:spPr>
          <a:xfrm>
            <a:off x="3454560" y="2878200"/>
            <a:ext cx="1079280" cy="10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994200" y="1943280"/>
            <a:ext cx="1079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533840" y="2878200"/>
            <a:ext cx="107964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352680" y="1924200"/>
            <a:ext cx="2363760" cy="2363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675160" y="5037120"/>
            <a:ext cx="38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 могут существовать лиш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е (духе)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но ум и «поддерживает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о и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338560" y="384984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483000" y="186372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624560" y="384984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61080" y="1978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комплексы иде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щи), котор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 перестал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336000" y="1978200"/>
            <a:ext cx="260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сле перерыва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яты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овали ли, 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время, когда он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осприним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7400" y="1672920"/>
            <a:ext cx="377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val 5"/>
          <p:cNvSpPr/>
          <p:nvPr/>
        </p:nvSpPr>
        <p:spPr>
          <a:xfrm>
            <a:off x="5559480" y="2662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254120" y="2230560"/>
            <a:ext cx="1386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маста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684760" y="2554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874120" y="2205000"/>
            <a:ext cx="1035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б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261120" y="3040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378120" y="3213000"/>
            <a:ext cx="1224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с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468760" y="27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22480" y="2852640"/>
            <a:ext cx="884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Гоццоли, Аристотель"/>
          <p:cNvPicPr/>
          <p:nvPr/>
        </p:nvPicPr>
        <p:blipFill>
          <a:blip r:embed="rId2"/>
          <a:stretch/>
        </p:blipFill>
        <p:spPr>
          <a:xfrm>
            <a:off x="1079640" y="1978200"/>
            <a:ext cx="1542960" cy="40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оццоли, Платон"/>
          <p:cNvPicPr/>
          <p:nvPr/>
        </p:nvPicPr>
        <p:blipFill>
          <a:blip r:embed="rId3"/>
          <a:stretch/>
        </p:blipFill>
        <p:spPr>
          <a:xfrm>
            <a:off x="6477120" y="1978200"/>
            <a:ext cx="1590480" cy="4105080"/>
          </a:xfrm>
          <a:prstGeom prst="rect">
            <a:avLst/>
          </a:prstGeom>
          <a:ln w="0">
            <a:noFill/>
          </a:ln>
        </p:spPr>
      </p:pic>
      <p:sp>
        <p:nvSpPr>
          <p:cNvPr id="198" name="Tree"/>
          <p:cNvSpPr/>
          <p:nvPr/>
        </p:nvSpPr>
        <p:spPr>
          <a:xfrm>
            <a:off x="3708360" y="323856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j0304933"/>
          <p:cNvPicPr/>
          <p:nvPr/>
        </p:nvPicPr>
        <p:blipFill>
          <a:blip r:embed="rId4"/>
          <a:stretch/>
        </p:blipFill>
        <p:spPr>
          <a:xfrm>
            <a:off x="1258920" y="4497480"/>
            <a:ext cx="1819080" cy="166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3432240" y="55767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всегда кем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770200" y="1619280"/>
            <a:ext cx="359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а ви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тальных сущ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97164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id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528948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mi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5"/>
          <p:cNvCxnSpPr/>
          <p:nvPr/>
        </p:nvCxnSpPr>
        <p:spPr>
          <a:xfrm>
            <a:off x="4570560" y="2877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6" name="Line 6"/>
          <p:cNvSpPr/>
          <p:nvPr/>
        </p:nvSpPr>
        <p:spPr>
          <a:xfrm>
            <a:off x="2409840" y="3238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/>
          <p:nvPr/>
        </p:nvCxnSpPr>
        <p:spPr>
          <a:xfrm>
            <a:off x="240984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8" name="AutoShape 8"/>
          <p:cNvCxnSpPr/>
          <p:nvPr/>
        </p:nvCxnSpPr>
        <p:spPr>
          <a:xfrm>
            <a:off x="672948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97164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асс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 их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ним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28948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кт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я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97164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i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528948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er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63800" y="4102200"/>
            <a:ext cx="1101600" cy="182376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3760"/>
              <a:gd name="textAreaBottom" fmla="*/ 132228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236600" y="2517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719280" y="1727280"/>
            <a:ext cx="4317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духи восприни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ни ведь не со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чувственных свой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7480" y="4894200"/>
            <a:ext cx="4318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вытекает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позиции Берк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38560" y="3309840"/>
            <a:ext cx="431784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куда берётс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ообще та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другого дух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727280" y="1943280"/>
            <a:ext cx="5686200" cy="374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712476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0300912"/>
          <p:cNvPicPr/>
          <p:nvPr/>
        </p:nvPicPr>
        <p:blipFill>
          <a:blip r:embed="rId1"/>
          <a:stretch/>
        </p:blipFill>
        <p:spPr>
          <a:xfrm>
            <a:off x="3670200" y="28782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Oval 5"/>
          <p:cNvSpPr/>
          <p:nvPr/>
        </p:nvSpPr>
        <p:spPr>
          <a:xfrm>
            <a:off x="35892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0800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978200" y="4821120"/>
            <a:ext cx="161892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741840" y="492912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505480" y="482112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737712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2268360" y="1295280"/>
            <a:ext cx="161928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5145120" y="1295280"/>
            <a:ext cx="1619280" cy="16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000803_1059_1305_v__v"/>
          <p:cNvPicPr/>
          <p:nvPr/>
        </p:nvPicPr>
        <p:blipFill>
          <a:blip r:embed="rId2"/>
          <a:stretch/>
        </p:blipFill>
        <p:spPr>
          <a:xfrm>
            <a:off x="5415120" y="1511280"/>
            <a:ext cx="1054080" cy="1184400"/>
          </a:xfrm>
          <a:prstGeom prst="rect">
            <a:avLst/>
          </a:prstGeom>
          <a:ln w="0">
            <a:noFill/>
          </a:ln>
        </p:spPr>
      </p:pic>
      <p:sp>
        <p:nvSpPr>
          <p:cNvPr id="237" name="Oval 14"/>
          <p:cNvSpPr/>
          <p:nvPr/>
        </p:nvSpPr>
        <p:spPr>
          <a:xfrm>
            <a:off x="21600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726912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187020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561348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000"/>
          <p:cNvPicPr/>
          <p:nvPr/>
        </p:nvPicPr>
        <p:blipFill>
          <a:blip r:embed="rId3"/>
          <a:stretch/>
        </p:blipFill>
        <p:spPr>
          <a:xfrm>
            <a:off x="7629480" y="4857840"/>
            <a:ext cx="914400" cy="122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z9344"/>
          <p:cNvPicPr/>
          <p:nvPr/>
        </p:nvPicPr>
        <p:blipFill>
          <a:blip r:embed="rId4"/>
          <a:stretch/>
        </p:blipFill>
        <p:spPr>
          <a:xfrm>
            <a:off x="574560" y="4857840"/>
            <a:ext cx="88596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nc03244a"/>
          <p:cNvPicPr/>
          <p:nvPr/>
        </p:nvPicPr>
        <p:blipFill>
          <a:blip r:embed="rId5"/>
          <a:stretch/>
        </p:blipFill>
        <p:spPr>
          <a:xfrm>
            <a:off x="7413480" y="1384200"/>
            <a:ext cx="1054080" cy="11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j0195534"/>
          <p:cNvPicPr/>
          <p:nvPr/>
        </p:nvPicPr>
        <p:blipFill>
          <a:blip r:embed="rId6"/>
          <a:stretch/>
        </p:blipFill>
        <p:spPr>
          <a:xfrm>
            <a:off x="611280" y="1187280"/>
            <a:ext cx="1108080" cy="136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n09870"/>
          <p:cNvPicPr/>
          <p:nvPr/>
        </p:nvPicPr>
        <p:blipFill>
          <a:blip r:embed="rId7"/>
          <a:stretch/>
        </p:blipFill>
        <p:spPr>
          <a:xfrm>
            <a:off x="2230560" y="5091120"/>
            <a:ext cx="109692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010409_0713_0091_v__v"/>
          <p:cNvPicPr/>
          <p:nvPr/>
        </p:nvPicPr>
        <p:blipFill>
          <a:blip r:embed="rId8"/>
          <a:stretch/>
        </p:blipFill>
        <p:spPr>
          <a:xfrm>
            <a:off x="5792760" y="5073480"/>
            <a:ext cx="1047600" cy="109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rtch076"/>
          <p:cNvPicPr/>
          <p:nvPr/>
        </p:nvPicPr>
        <p:blipFill>
          <a:blip r:embed="rId9"/>
          <a:stretch/>
        </p:blipFill>
        <p:spPr>
          <a:xfrm>
            <a:off x="7556400" y="334656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000803_1076_5867_v__v"/>
          <p:cNvPicPr/>
          <p:nvPr/>
        </p:nvPicPr>
        <p:blipFill>
          <a:blip r:embed="rId10"/>
          <a:stretch/>
        </p:blipFill>
        <p:spPr>
          <a:xfrm>
            <a:off x="503280" y="313056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nd01153a"/>
          <p:cNvPicPr/>
          <p:nvPr/>
        </p:nvPicPr>
        <p:blipFill>
          <a:blip r:embed="rId11"/>
          <a:stretch/>
        </p:blipFill>
        <p:spPr>
          <a:xfrm>
            <a:off x="5973840" y="3238560"/>
            <a:ext cx="92376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nc01146a"/>
          <p:cNvPicPr/>
          <p:nvPr/>
        </p:nvPicPr>
        <p:blipFill>
          <a:blip r:embed="rId12"/>
          <a:stretch/>
        </p:blipFill>
        <p:spPr>
          <a:xfrm>
            <a:off x="2230560" y="3273480"/>
            <a:ext cx="90324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000803_1076_0768_v__v"/>
          <p:cNvPicPr/>
          <p:nvPr/>
        </p:nvPicPr>
        <p:blipFill>
          <a:blip r:embed="rId13"/>
          <a:stretch/>
        </p:blipFill>
        <p:spPr>
          <a:xfrm>
            <a:off x="2517840" y="1565280"/>
            <a:ext cx="109692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000803_1090_4273_v__v"/>
          <p:cNvPicPr/>
          <p:nvPr/>
        </p:nvPicPr>
        <p:blipFill>
          <a:blip r:embed="rId14"/>
          <a:stretch/>
        </p:blipFill>
        <p:spPr>
          <a:xfrm>
            <a:off x="3957480" y="5218200"/>
            <a:ext cx="115920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7" name="Oval 5"/>
          <p:cNvSpPr/>
          <p:nvPr/>
        </p:nvSpPr>
        <p:spPr>
          <a:xfrm>
            <a:off x="6156360" y="215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6840" y="2060640"/>
            <a:ext cx="1270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д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4000" y="6045120"/>
            <a:ext cx="262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Рамсэй. Дэвид Юм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Эдинбур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281480" y="3057480"/>
            <a:ext cx="47862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9-17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1-1742/17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8/17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Рамсэй, Юм"/>
          <p:cNvPicPr/>
          <p:nvPr/>
        </p:nvPicPr>
        <p:blipFill>
          <a:blip r:embed="rId1"/>
          <a:stretch/>
        </p:blipFill>
        <p:spPr>
          <a:xfrm>
            <a:off x="539640" y="1619280"/>
            <a:ext cx="356868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4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274320"/>
            <a:ext cx="830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j0183290"/>
          <p:cNvPicPr/>
          <p:nvPr/>
        </p:nvPicPr>
        <p:blipFill>
          <a:blip r:embed="rId1"/>
          <a:stretch/>
        </p:blipFill>
        <p:spPr>
          <a:xfrm>
            <a:off x="665640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5534"/>
          <p:cNvPicPr/>
          <p:nvPr/>
        </p:nvPicPr>
        <p:blipFill>
          <a:blip r:embed="rId2"/>
          <a:stretch/>
        </p:blipFill>
        <p:spPr>
          <a:xfrm>
            <a:off x="3994200" y="367020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300912"/>
          <p:cNvPicPr/>
          <p:nvPr/>
        </p:nvPicPr>
        <p:blipFill>
          <a:blip r:embed="rId3"/>
          <a:stretch/>
        </p:blipFill>
        <p:spPr>
          <a:xfrm>
            <a:off x="900000" y="1798560"/>
            <a:ext cx="1798920" cy="170676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3780000" y="161928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95534"/>
          <p:cNvPicPr/>
          <p:nvPr/>
        </p:nvPicPr>
        <p:blipFill>
          <a:blip r:embed="rId4"/>
          <a:stretch/>
        </p:blipFill>
        <p:spPr>
          <a:xfrm>
            <a:off x="4317840" y="1835280"/>
            <a:ext cx="741600" cy="91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23880" y="39830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ше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липсисты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977880" y="407844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ркл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494160" y="576900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ьная вещ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окк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4641840" y="32734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505480" y="2554200"/>
            <a:ext cx="1440000" cy="144720"/>
          </a:xfrm>
          <a:prstGeom prst="leftArrow">
            <a:avLst>
              <a:gd name="adj1" fmla="val 50000"/>
              <a:gd name="adj2" fmla="val 2487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2124000" y="2554200"/>
            <a:ext cx="1763640" cy="144720"/>
          </a:xfrm>
          <a:prstGeom prst="rightArrow">
            <a:avLst>
              <a:gd name="adj1" fmla="val 50000"/>
              <a:gd name="adj2" fmla="val 30466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14"/>
          <p:cNvSpPr/>
          <p:nvPr/>
        </p:nvSpPr>
        <p:spPr>
          <a:xfrm>
            <a:off x="7269120" y="5056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1136520" y="505620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92912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347508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87020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че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74984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ми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чув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70040" y="208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7269120" y="2085840"/>
            <a:ext cx="1101600" cy="182088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4452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говоря –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ощущени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этом случае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ётся без отве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6424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торые чувст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ются непознанны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1798560" y="1582560"/>
            <a:ext cx="5542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кольку, согласно принципам эмпиризм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ым источником наших знани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вляются чувственные ощущения, вопро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причинах ощущений не имеет смысл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как такие причины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1870200" y="5468760"/>
            <a:ext cx="53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 том, и в другом случа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ивный (идеальный) мир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енных ощущений остаё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ом доступной нам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8560" y="615312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новой теории 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Беркли (3)"/>
          <p:cNvPicPr/>
          <p:nvPr/>
        </p:nvPicPr>
        <p:blipFill>
          <a:blip r:embed="rId1"/>
          <a:stretch/>
        </p:blipFill>
        <p:spPr>
          <a:xfrm>
            <a:off x="5397480" y="1619280"/>
            <a:ext cx="3292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6548400" y="305748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752148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554184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52148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557676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6548400" y="431784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57676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752148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j0297185"/>
          <p:cNvPicPr/>
          <p:nvPr/>
        </p:nvPicPr>
        <p:blipFill>
          <a:blip r:embed="rId1"/>
          <a:stretch/>
        </p:blipFill>
        <p:spPr>
          <a:xfrm>
            <a:off x="3059280" y="4400640"/>
            <a:ext cx="1357200" cy="10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293828"/>
          <p:cNvPicPr/>
          <p:nvPr/>
        </p:nvPicPr>
        <p:blipFill>
          <a:blip r:embed="rId2"/>
          <a:stretch/>
        </p:blipFill>
        <p:spPr>
          <a:xfrm>
            <a:off x="2843280" y="2673360"/>
            <a:ext cx="1309680" cy="137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85604"/>
          <p:cNvPicPr/>
          <p:nvPr/>
        </p:nvPicPr>
        <p:blipFill>
          <a:blip r:embed="rId3"/>
          <a:stretch/>
        </p:blipFill>
        <p:spPr>
          <a:xfrm>
            <a:off x="611280" y="411336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j0183328"/>
          <p:cNvPicPr/>
          <p:nvPr/>
        </p:nvPicPr>
        <p:blipFill>
          <a:blip r:embed="rId4"/>
          <a:stretch/>
        </p:blipFill>
        <p:spPr>
          <a:xfrm>
            <a:off x="611280" y="2457360"/>
            <a:ext cx="1352520" cy="135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j0211949"/>
          <p:cNvPicPr/>
          <p:nvPr/>
        </p:nvPicPr>
        <p:blipFill>
          <a:blip r:embed="rId5"/>
          <a:stretch/>
        </p:blipFill>
        <p:spPr>
          <a:xfrm>
            <a:off x="3635280" y="5408640"/>
            <a:ext cx="1425600" cy="873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1222200" y="1654200"/>
            <a:ext cx="2267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j0211949"/>
          <p:cNvPicPr/>
          <p:nvPr/>
        </p:nvPicPr>
        <p:blipFill>
          <a:blip r:embed="rId6"/>
          <a:stretch/>
        </p:blipFill>
        <p:spPr>
          <a:xfrm>
            <a:off x="5684760" y="519264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j0297185"/>
          <p:cNvPicPr/>
          <p:nvPr/>
        </p:nvPicPr>
        <p:blipFill>
          <a:blip r:embed="rId7"/>
          <a:stretch/>
        </p:blipFill>
        <p:spPr>
          <a:xfrm>
            <a:off x="7667640" y="26733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j0185604"/>
          <p:cNvPicPr/>
          <p:nvPr/>
        </p:nvPicPr>
        <p:blipFill>
          <a:blip r:embed="rId8"/>
          <a:stretch/>
        </p:blipFill>
        <p:spPr>
          <a:xfrm>
            <a:off x="6764400" y="4545000"/>
            <a:ext cx="690480" cy="692280"/>
          </a:xfrm>
          <a:prstGeom prst="rect">
            <a:avLst/>
          </a:prstGeom>
          <a:ln w="0">
            <a:noFill/>
          </a:ln>
        </p:spPr>
      </p:pic>
      <p:sp>
        <p:nvSpPr>
          <p:cNvPr id="314" name="Tree"/>
          <p:cNvSpPr/>
          <p:nvPr/>
        </p:nvSpPr>
        <p:spPr>
          <a:xfrm>
            <a:off x="1763640" y="4976640"/>
            <a:ext cx="1357560" cy="1357560"/>
          </a:xfrm>
          <a:custGeom>
            <a:avLst/>
            <a:gdLst>
              <a:gd name="textAreaLeft" fmla="*/ 47520 w 1357560"/>
              <a:gd name="textAreaRight" fmla="*/ 1324440 w 1357560"/>
              <a:gd name="textAreaTop" fmla="*/ 1411560 h 1357560"/>
              <a:gd name="textAreaBottom" fmla="*/ 177768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j0293828"/>
          <p:cNvPicPr/>
          <p:nvPr/>
        </p:nvPicPr>
        <p:blipFill>
          <a:blip r:embed="rId9"/>
          <a:stretch/>
        </p:blipFill>
        <p:spPr>
          <a:xfrm>
            <a:off x="5649840" y="3814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j0183328"/>
          <p:cNvPicPr/>
          <p:nvPr/>
        </p:nvPicPr>
        <p:blipFill>
          <a:blip r:embed="rId10"/>
          <a:stretch/>
        </p:blipFill>
        <p:spPr>
          <a:xfrm>
            <a:off x="7667640" y="504828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17" name="Tree"/>
          <p:cNvSpPr/>
          <p:nvPr/>
        </p:nvSpPr>
        <p:spPr>
          <a:xfrm>
            <a:off x="5796000" y="260208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5900760" y="1619280"/>
            <a:ext cx="2266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nt"/>
          <p:cNvSpPr/>
          <p:nvPr/>
        </p:nvSpPr>
        <p:spPr>
          <a:xfrm>
            <a:off x="611280" y="5479920"/>
            <a:ext cx="903240" cy="903240"/>
          </a:xfrm>
          <a:custGeom>
            <a:avLst/>
            <a:gdLst>
              <a:gd name="textAreaLeft" fmla="*/ 297000 w 903240"/>
              <a:gd name="textAreaRight" fmla="*/ 608400 w 903240"/>
              <a:gd name="textAreaTop" fmla="*/ 421920 h 903240"/>
              <a:gd name="textAreaBottom" fmla="*/ 567720 h 9032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nt"/>
          <p:cNvSpPr/>
          <p:nvPr/>
        </p:nvSpPr>
        <p:spPr>
          <a:xfrm>
            <a:off x="7740720" y="389736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7" descr="j0298897"/>
          <p:cNvPicPr/>
          <p:nvPr/>
        </p:nvPicPr>
        <p:blipFill>
          <a:blip r:embed="rId11"/>
          <a:stretch/>
        </p:blipFill>
        <p:spPr>
          <a:xfrm>
            <a:off x="1979640" y="368136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j0298897"/>
          <p:cNvPicPr/>
          <p:nvPr/>
        </p:nvPicPr>
        <p:blipFill>
          <a:blip r:embed="rId12"/>
          <a:stretch/>
        </p:blipFill>
        <p:spPr>
          <a:xfrm>
            <a:off x="6659640" y="3273480"/>
            <a:ext cx="903240" cy="7887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5720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единяются у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его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572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5720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572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ются в уме пос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я ощущений или предвосхищают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572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ся в процессе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572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4572000" y="160020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457200" y="2732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57200" y="3863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457200" y="4994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3309840" y="3849840"/>
            <a:ext cx="251964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61128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11280" y="3849840"/>
            <a:ext cx="251928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11280" y="248292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j0211949"/>
          <p:cNvPicPr/>
          <p:nvPr/>
        </p:nvPicPr>
        <p:blipFill>
          <a:blip r:embed="rId1"/>
          <a:stretch/>
        </p:blipFill>
        <p:spPr>
          <a:xfrm>
            <a:off x="1978200" y="284148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0297185"/>
          <p:cNvPicPr/>
          <p:nvPr/>
        </p:nvPicPr>
        <p:blipFill>
          <a:blip r:embed="rId2"/>
          <a:stretch/>
        </p:blipFill>
        <p:spPr>
          <a:xfrm>
            <a:off x="898560" y="41385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j0185604"/>
          <p:cNvPicPr/>
          <p:nvPr/>
        </p:nvPicPr>
        <p:blipFill>
          <a:blip r:embed="rId3"/>
          <a:stretch/>
        </p:blipFill>
        <p:spPr>
          <a:xfrm>
            <a:off x="2085840" y="4138560"/>
            <a:ext cx="690840" cy="69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j0183328"/>
          <p:cNvPicPr/>
          <p:nvPr/>
        </p:nvPicPr>
        <p:blipFill>
          <a:blip r:embed="rId4"/>
          <a:stretch/>
        </p:blipFill>
        <p:spPr>
          <a:xfrm>
            <a:off x="898560" y="266220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ree"/>
          <p:cNvSpPr/>
          <p:nvPr/>
        </p:nvSpPr>
        <p:spPr>
          <a:xfrm>
            <a:off x="4643280" y="4148280"/>
            <a:ext cx="679680" cy="679320"/>
          </a:xfrm>
          <a:custGeom>
            <a:avLst/>
            <a:gdLst>
              <a:gd name="textAreaLeft" fmla="*/ 23760 w 679680"/>
              <a:gd name="textAreaRight" fmla="*/ 663120 w 67968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3309840" y="248292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600876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5" descr="j0211949"/>
          <p:cNvPicPr/>
          <p:nvPr/>
        </p:nvPicPr>
        <p:blipFill>
          <a:blip r:embed="rId5"/>
          <a:stretch/>
        </p:blipFill>
        <p:spPr>
          <a:xfrm>
            <a:off x="4533840" y="2997360"/>
            <a:ext cx="954000" cy="58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j0297185"/>
          <p:cNvPicPr/>
          <p:nvPr/>
        </p:nvPicPr>
        <p:blipFill>
          <a:blip r:embed="rId6"/>
          <a:stretch/>
        </p:blipFill>
        <p:spPr>
          <a:xfrm>
            <a:off x="3564000" y="2637000"/>
            <a:ext cx="90324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j0185604"/>
          <p:cNvPicPr/>
          <p:nvPr/>
        </p:nvPicPr>
        <p:blipFill>
          <a:blip r:embed="rId7"/>
          <a:stretch/>
        </p:blipFill>
        <p:spPr>
          <a:xfrm>
            <a:off x="3708360" y="414828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0" descr="j0293828"/>
          <p:cNvPicPr/>
          <p:nvPr/>
        </p:nvPicPr>
        <p:blipFill>
          <a:blip r:embed="rId8"/>
          <a:stretch/>
        </p:blipFill>
        <p:spPr>
          <a:xfrm>
            <a:off x="6300720" y="537228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j0298897"/>
          <p:cNvPicPr/>
          <p:nvPr/>
        </p:nvPicPr>
        <p:blipFill>
          <a:blip r:embed="rId9"/>
          <a:stretch/>
        </p:blipFill>
        <p:spPr>
          <a:xfrm>
            <a:off x="7308720" y="544356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62" name="Tree"/>
          <p:cNvSpPr/>
          <p:nvPr/>
        </p:nvSpPr>
        <p:spPr>
          <a:xfrm>
            <a:off x="971640" y="551664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nt"/>
          <p:cNvSpPr/>
          <p:nvPr/>
        </p:nvSpPr>
        <p:spPr>
          <a:xfrm>
            <a:off x="1979640" y="551664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5792760" y="2446200"/>
            <a:ext cx="1144440" cy="114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3492360" y="2446200"/>
            <a:ext cx="1144800" cy="1144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692360" y="2446200"/>
            <a:ext cx="1144440" cy="1144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j0183328"/>
          <p:cNvPicPr/>
          <p:nvPr/>
        </p:nvPicPr>
        <p:blipFill>
          <a:blip r:embed="rId1"/>
          <a:stretch/>
        </p:blipFill>
        <p:spPr>
          <a:xfrm>
            <a:off x="1835280" y="2536920"/>
            <a:ext cx="903240" cy="90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j0185604"/>
          <p:cNvPicPr/>
          <p:nvPr/>
        </p:nvPicPr>
        <p:blipFill>
          <a:blip r:embed="rId2"/>
          <a:stretch/>
        </p:blipFill>
        <p:spPr>
          <a:xfrm>
            <a:off x="3708360" y="2662200"/>
            <a:ext cx="690480" cy="69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j0293828"/>
          <p:cNvPicPr/>
          <p:nvPr/>
        </p:nvPicPr>
        <p:blipFill>
          <a:blip r:embed="rId3"/>
          <a:stretch/>
        </p:blipFill>
        <p:spPr>
          <a:xfrm>
            <a:off x="5905440" y="2536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j0301252"/>
          <p:cNvPicPr/>
          <p:nvPr/>
        </p:nvPicPr>
        <p:blipFill>
          <a:blip r:embed="rId4"/>
          <a:stretch/>
        </p:blipFill>
        <p:spPr>
          <a:xfrm>
            <a:off x="6908760" y="356220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Tree"/>
          <p:cNvSpPr/>
          <p:nvPr/>
        </p:nvSpPr>
        <p:spPr>
          <a:xfrm>
            <a:off x="3489480" y="5037120"/>
            <a:ext cx="1357200" cy="1357200"/>
          </a:xfrm>
          <a:custGeom>
            <a:avLst/>
            <a:gdLst>
              <a:gd name="textAreaLeft" fmla="*/ 47520 w 1357200"/>
              <a:gd name="textAreaRight" fmla="*/ 1324080 w 1357200"/>
              <a:gd name="textAreaTop" fmla="*/ 1411200 h 1357200"/>
              <a:gd name="textAreaBottom" fmla="*/ 17773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j0211949"/>
          <p:cNvPicPr/>
          <p:nvPr/>
        </p:nvPicPr>
        <p:blipFill>
          <a:blip r:embed="rId5"/>
          <a:stretch/>
        </p:blipFill>
        <p:spPr>
          <a:xfrm>
            <a:off x="1116000" y="518148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j0298897"/>
          <p:cNvPicPr/>
          <p:nvPr/>
        </p:nvPicPr>
        <p:blipFill>
          <a:blip r:embed="rId6"/>
          <a:stretch/>
        </p:blipFill>
        <p:spPr>
          <a:xfrm>
            <a:off x="6224760" y="5181480"/>
            <a:ext cx="1357200" cy="1185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j0291984"/>
          <p:cNvPicPr/>
          <p:nvPr/>
        </p:nvPicPr>
        <p:blipFill>
          <a:blip r:embed="rId7"/>
          <a:stretch/>
        </p:blipFill>
        <p:spPr>
          <a:xfrm>
            <a:off x="468360" y="316548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j0285698"/>
          <p:cNvPicPr/>
          <p:nvPr/>
        </p:nvPicPr>
        <p:blipFill>
          <a:blip r:embed="rId8"/>
          <a:stretch/>
        </p:blipFill>
        <p:spPr>
          <a:xfrm>
            <a:off x="4281480" y="3346560"/>
            <a:ext cx="1706400" cy="18237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1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j0298897"/>
          <p:cNvPicPr/>
          <p:nvPr/>
        </p:nvPicPr>
        <p:blipFill>
          <a:blip r:embed="rId1"/>
          <a:stretch/>
        </p:blipFill>
        <p:spPr>
          <a:xfrm>
            <a:off x="1042920" y="429264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j0293828"/>
          <p:cNvPicPr/>
          <p:nvPr/>
        </p:nvPicPr>
        <p:blipFill>
          <a:blip r:embed="rId2"/>
          <a:stretch/>
        </p:blipFill>
        <p:spPr>
          <a:xfrm>
            <a:off x="684360" y="179856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6"/>
          <p:cNvSpPr/>
          <p:nvPr/>
        </p:nvSpPr>
        <p:spPr>
          <a:xfrm>
            <a:off x="3706920" y="5037120"/>
            <a:ext cx="43178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 ho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n est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ter ho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3346560" y="3957480"/>
            <a:ext cx="503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сле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 знач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следств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46560" y="1798560"/>
            <a:ext cx="505620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аключение о налич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узальной связи на основа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и во времен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 логической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8"/>
          <p:cNvSpPr/>
          <p:nvPr/>
        </p:nvSpPr>
        <p:spPr>
          <a:xfrm>
            <a:off x="6656400" y="1978200"/>
            <a:ext cx="114444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j0298897"/>
          <p:cNvPicPr/>
          <p:nvPr/>
        </p:nvPicPr>
        <p:blipFill>
          <a:blip r:embed="rId1"/>
          <a:stretch/>
        </p:blipFill>
        <p:spPr>
          <a:xfrm>
            <a:off x="6764400" y="215892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91" name="Oval 5"/>
          <p:cNvSpPr/>
          <p:nvPr/>
        </p:nvSpPr>
        <p:spPr>
          <a:xfrm>
            <a:off x="4859280" y="1978200"/>
            <a:ext cx="114480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93828"/>
          <p:cNvPicPr/>
          <p:nvPr/>
        </p:nvPicPr>
        <p:blipFill>
          <a:blip r:embed="rId2"/>
          <a:stretch/>
        </p:blipFill>
        <p:spPr>
          <a:xfrm>
            <a:off x="4965840" y="2050920"/>
            <a:ext cx="874440" cy="920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/>
          <p:cNvSpPr/>
          <p:nvPr/>
        </p:nvSpPr>
        <p:spPr>
          <a:xfrm flipH="1">
            <a:off x="597312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597384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973840" y="2374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5973840" y="230184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973840" y="2230560"/>
            <a:ext cx="718920" cy="57600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j0301252"/>
          <p:cNvPicPr/>
          <p:nvPr/>
        </p:nvPicPr>
        <p:blipFill>
          <a:blip r:embed="rId3"/>
          <a:stretch/>
        </p:blipFill>
        <p:spPr>
          <a:xfrm>
            <a:off x="5651640" y="371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j0293828"/>
          <p:cNvPicPr/>
          <p:nvPr/>
        </p:nvPicPr>
        <p:blipFill>
          <a:blip r:embed="rId4"/>
          <a:stretch/>
        </p:blipFill>
        <p:spPr>
          <a:xfrm>
            <a:off x="900000" y="179856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j0298897"/>
          <p:cNvPicPr/>
          <p:nvPr/>
        </p:nvPicPr>
        <p:blipFill>
          <a:blip r:embed="rId5"/>
          <a:stretch/>
        </p:blipFill>
        <p:spPr>
          <a:xfrm>
            <a:off x="2411280" y="429264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nodeType="clickEffect" fill="hold">
                      <p:stCondLst>
                        <p:cond delay="indefinite"/>
                      </p:stCondLst>
                      <p:childTnLst>
                        <p:par>
                          <p:cTn id="2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7"/>
          <p:cNvSpPr/>
          <p:nvPr/>
        </p:nvSpPr>
        <p:spPr>
          <a:xfrm>
            <a:off x="3094200" y="122220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гносеологического оптимизма Бэко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324000" y="615312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гносеологическому пессимизму Ю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057480" y="1727280"/>
            <a:ext cx="43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ние –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науки – залог будущего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благоденствия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055680" y="492912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стоверное знание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невозможно и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ремление к нему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порой даже в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NPG_520_Vanderbank_after_Unknown_Bacon_Francis_10"/>
          <p:cNvPicPr/>
          <p:nvPr/>
        </p:nvPicPr>
        <p:blipFill>
          <a:blip r:embed="rId1"/>
          <a:stretch/>
        </p:blipFill>
        <p:spPr>
          <a:xfrm>
            <a:off x="358920" y="1222200"/>
            <a:ext cx="2298600" cy="288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8" name="Picture 14" descr="Рамсэй, Юм_red"/>
          <p:cNvPicPr/>
          <p:nvPr/>
        </p:nvPicPr>
        <p:blipFill>
          <a:blip r:embed="rId2"/>
          <a:stretch/>
        </p:blipFill>
        <p:spPr>
          <a:xfrm>
            <a:off x="6440400" y="3741840"/>
            <a:ext cx="2374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3094200" y="2824200"/>
            <a:ext cx="2987640" cy="19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све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нсуализму (Лок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лиминаци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го предме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и (Беркли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Locke_red_10"/>
          <p:cNvPicPr/>
          <p:nvPr/>
        </p:nvPicPr>
        <p:blipFill>
          <a:blip r:embed="rId3"/>
          <a:stretch/>
        </p:blipFill>
        <p:spPr>
          <a:xfrm>
            <a:off x="7675560" y="1978200"/>
            <a:ext cx="1141560" cy="14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Picture 22" descr="NPG_653_Smibert_Berkeley_10"/>
          <p:cNvPicPr/>
          <p:nvPr/>
        </p:nvPicPr>
        <p:blipFill>
          <a:blip r:embed="rId4"/>
          <a:stretch/>
        </p:blipFill>
        <p:spPr>
          <a:xfrm>
            <a:off x="358920" y="4425840"/>
            <a:ext cx="1056960" cy="14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nodeType="clickEffect" fill="hold">
                      <p:stCondLst>
                        <p:cond delay="indefinite"/>
                      </p:stCondLst>
                      <p:childTnLst>
                        <p:par>
                          <p:cTn id="2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0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1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6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7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8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nodeType="clickEffect" fill="hold">
                      <p:stCondLst>
                        <p:cond delay="0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4120" y="1798560"/>
            <a:ext cx="8364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0840" y="1600200"/>
            <a:ext cx="830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их т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92912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47508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05092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4984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949320" y="2446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088040" y="2446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488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м, в сущ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ч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6424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е восприним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о н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зн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870200" y="2050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ак называемы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ичны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качества: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тяжённость, форма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тность, подвижност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446200" y="3201840"/>
            <a:ext cx="3167280" cy="316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 rot="21540000">
            <a:off x="3076200" y="2120760"/>
            <a:ext cx="29876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 rot="180000">
            <a:off x="5697360" y="2712600"/>
            <a:ext cx="971640" cy="30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338560" y="399420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454560" y="201456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624560" y="399420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19280" y="2158920"/>
            <a:ext cx="287964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576760" y="2158920"/>
            <a:ext cx="288000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684760" y="2662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798560" y="431784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548400" y="2733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417840" y="46782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7413480" y="28065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5037120" y="50371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20100000">
            <a:off x="3419280" y="3824280"/>
            <a:ext cx="2519280" cy="108000"/>
          </a:xfrm>
          <a:prstGeom prst="rightArrow">
            <a:avLst>
              <a:gd name="adj1" fmla="val 50000"/>
              <a:gd name="adj2" fmla="val 5831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rot="19200000">
            <a:off x="4939920" y="4068360"/>
            <a:ext cx="2050920" cy="108000"/>
          </a:xfrm>
          <a:prstGeom prst="rightArrow">
            <a:avLst>
              <a:gd name="adj1" fmla="val 50000"/>
              <a:gd name="adj2" fmla="val 47475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8120000">
            <a:off x="6341760" y="4295160"/>
            <a:ext cx="1800360" cy="108000"/>
          </a:xfrm>
          <a:prstGeom prst="rightArrow">
            <a:avLst>
              <a:gd name="adj1" fmla="val 50000"/>
              <a:gd name="adj2" fmla="val 416750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 rot="2520000">
            <a:off x="934560" y="3957480"/>
            <a:ext cx="1187640" cy="216000"/>
          </a:xfrm>
          <a:prstGeom prst="rightArrow">
            <a:avLst>
              <a:gd name="adj1" fmla="val 50000"/>
              <a:gd name="adj2" fmla="val 1374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rot="2520000">
            <a:off x="2077920" y="413856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520000">
            <a:off x="3130560" y="4317480"/>
            <a:ext cx="2411280" cy="216000"/>
          </a:xfrm>
          <a:prstGeom prst="rightArrow">
            <a:avLst>
              <a:gd name="adj1" fmla="val 50000"/>
              <a:gd name="adj2" fmla="val 2790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192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Ло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3:42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09:56:10Z</dcterms:modified>
  <cp:revision>109</cp:revision>
  <dc:subject>Основы философии - Тема 13</dc:subject>
  <dc:title>Беркли и Юм: субъективный идеализм</dc:title>
</cp:coreProperties>
</file>