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6.jpeg" ContentType="image/jpeg"/>
  <Override PartName="/ppt/media/image35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25.png" ContentType="image/png"/>
  <Override PartName="/ppt/media/image42.jpeg" ContentType="image/jpeg"/>
  <Override PartName="/ppt/media/image5.png" ContentType="image/png"/>
  <Override PartName="/ppt/media/image36.wmf" ContentType="image/x-wmf"/>
  <Override PartName="/ppt/media/image8.png" ContentType="image/png"/>
  <Override PartName="/ppt/media/image39.jpeg" ContentType="image/jpeg"/>
  <Override PartName="/ppt/media/image37.wmf" ContentType="image/x-wmf"/>
  <Override PartName="/ppt/media/image29.jpeg" ContentType="image/jpeg"/>
  <Override PartName="/ppt/media/image33.wmf" ContentType="image/x-wmf"/>
  <Override PartName="/ppt/media/image40.jpeg" ContentType="image/jpeg"/>
  <Override PartName="/ppt/media/image30.wmf" ContentType="image/x-wmf"/>
  <Override PartName="/ppt/media/image10.png" ContentType="image/png"/>
  <Override PartName="/ppt/media/image13.wmf" ContentType="image/x-wmf"/>
  <Override PartName="/ppt/media/image27.jpeg" ContentType="image/jpeg"/>
  <Override PartName="/ppt/media/image43.png" ContentType="image/png"/>
  <Override PartName="/ppt/media/image7.png" ContentType="image/png"/>
  <Override PartName="/ppt/media/image41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media/image6.png" ContentType="image/png"/>
  <Override PartName="/ppt/media/image14.wmf" ContentType="image/x-wmf"/>
  <Override PartName="/ppt/media/image38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CDF4-E605-44F8-BA81-FABAA954D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8E09-9EC8-4E95-9985-C38544F4ED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ркли и Юм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24F1-0230-4A6C-B2CB-EE4AF5422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ECC4-F0C1-4E38-A079-C7DCCA7A56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16C6-CFEF-4E74-AFC8-CF12E31608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DB2A-26A0-4011-9A8C-7041DA6D1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5F7A-CC99-47DB-85AF-AB33525218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к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ве не нужны усилия 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собности, чтобы составить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ую идею треугольн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бо она не должна бы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деей ни косоугольного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прямоугольного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равностороннег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угольников;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должна быть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сем и ничем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одно и то же врем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рк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может быть легче дл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ждого, чем немного вникну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свои собственные мысли 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 испытать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ожет ли он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остигнуть идеи, котора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ответствовала бы данному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десь описанию идеи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еугольни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й н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соуголен, ни прямоуголен, н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вносторонен, ни равнобедрен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неравносторонен, но которы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ть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месте и всякий,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 никакой из 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78F2-8B97-46B9-9066-4E0478D37A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дикальный номи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F3D9-0A9A-4957-852F-CBA517F559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9BF3-AA72-42FA-B43B-435B55BD9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4DC9-1DD2-46EC-81C7-757FCBCAD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D0FF-B855-46A2-892C-B3A5D582B0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AEF9-102C-4F9E-AFEC-AD68C1863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2 марта 1685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стях замка Дайзерт близ Томастауна (Ирлан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Дублинском университете (1700-17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в Дублинском университете (Тринити-колледж) (1707-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Италию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13-1714, 1716-17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сионерская работа в Америке (Ньюпор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-Айленд) (1728-17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пископ клойнский (с 17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января 1753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сф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0377-C49E-4A8E-B593-9DA5D76B27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2C6C-A7D7-4CBF-BFFF-11FD2166B4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C9A0-B61E-48F9-8326-88BC0A59B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C0DD-FFD6-4303-9642-22D606F46A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solus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ственны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ipse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м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ое учение, согласно которому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сомненно данным является лиш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ственный субъективный опыт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 всё, что считается существующим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зависимо от нег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включая тело, мир внешних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знанию вещей, других людей)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ействительности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шь часть эт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4514-AED2-4D17-B36B-A52A61C9A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лип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1163-937C-42FB-9787-7C1B35AD3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7 мая 1711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Эдинбур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ёба в Эдинбургском университете (1723-17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5 августа 1776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Эдинбург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EC93-A83B-4666-BF9B-749BEC2B18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ктат о человеческой природе (1739-17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ы моральные и политические (1741-1742/17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следование человеческого познания (1748/17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оги о естественной религии (17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E39E-4567-48FB-AE30-3D490629AC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критика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: гносеологическ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ощущений, а следовательно – и природа реальности, непознава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вида восприятий (перцеп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A9CF-1B47-4B97-88B0-26E2BE10B3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носеологическая в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A4C6-AD54-4D10-AFA2-D3C8C5E4D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в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0734-3856-4752-90F2-5BE396D7A8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новой теории зрения (17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ктат о принципах человеческого знания (17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разговора между Гиласом и Филонусом (17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EB52-F173-47FB-8F4E-FA09FA5FA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F2BD-8A9F-4CC0-8CA3-1A230744F9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FA66-3816-4A10-B352-9EFD4CCF59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C3E8-CAB2-4218-BC9B-B07A9571DC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8B99-6E58-4CF0-BF11-CC47D7FC4C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5B22-6661-4A55-9D88-334B8BF1E3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ъективность причи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B7AB-73DF-4DD6-A0BE-5F7727576A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волюция британского эмпиризма </a:t>
            </a:r>
            <a:br>
              <a:rPr sz="1200"/>
            </a:b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XVII-XVIII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6FDC-367A-430A-9340-B248184F28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7894-F8C0-40B1-A6A1-64D9F47D8B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епосредственно не воспринимаемого «носителя» объективных чувственных качеств ве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действующей причины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абсолютной субстанции, существующей вне нашего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ида ментальных сущ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A55C-B0C3-4171-8C21-01452F56A0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122F-AD57-4D7F-8A0E-F349473CC9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ABB9-69EB-4936-94D9-83AF6B2E3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2199-292F-4E48-8E31-D93040212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E213-5D55-401C-ACC4-4DCF87C16E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F87-72CF-41DD-85FA-F33934D0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2C3-F425-478A-B39A-4F48B384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762-D838-446D-8131-B6A690BB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E9C-890A-4D18-8725-AA5594C5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A33-FD8A-4A07-B4D5-4091E00B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CFF-243D-4FB5-9199-8E56910F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AAC-FDFE-4E35-901C-C53EBEE1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364-F1D4-4D91-9B90-DCA60C5D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2C4-E20E-4399-B24E-A8815FD8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9D9-77D1-4049-93F2-7F4545DC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05E-F188-47B4-A5A2-4A6A0BE7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C900-C1C5-4B89-9D4F-E193C23E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13E1-7D0D-4521-A702-3B2F76AE7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0.wmf"/><Relationship Id="rId3" Type="http://schemas.openxmlformats.org/officeDocument/2006/relationships/image" Target="../media/image15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4.wmf"/><Relationship Id="rId7" Type="http://schemas.openxmlformats.org/officeDocument/2006/relationships/image" Target="../media/image30.wmf"/><Relationship Id="rId8" Type="http://schemas.openxmlformats.org/officeDocument/2006/relationships/image" Target="../media/image32.wmf"/><Relationship Id="rId9" Type="http://schemas.openxmlformats.org/officeDocument/2006/relationships/image" Target="../media/image31.wmf"/><Relationship Id="rId10" Type="http://schemas.openxmlformats.org/officeDocument/2006/relationships/image" Target="../media/image33.wmf"/><Relationship Id="rId11" Type="http://schemas.openxmlformats.org/officeDocument/2006/relationships/image" Target="../media/image35.wmf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0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0.wmf"/><Relationship Id="rId7" Type="http://schemas.openxmlformats.org/officeDocument/2006/relationships/image" Target="../media/image32.wmf"/><Relationship Id="rId8" Type="http://schemas.openxmlformats.org/officeDocument/2006/relationships/image" Target="../media/image31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2.wmf"/><Relationship Id="rId3" Type="http://schemas.openxmlformats.org/officeDocument/2006/relationships/image" Target="../media/image31.wmf"/><Relationship Id="rId4" Type="http://schemas.openxmlformats.org/officeDocument/2006/relationships/image" Target="../media/image36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image" Target="../media/image36.wmf"/><Relationship Id="rId4" Type="http://schemas.openxmlformats.org/officeDocument/2006/relationships/image" Target="../media/image31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07180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ркли и Юм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71928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5757840" y="2517840"/>
            <a:ext cx="2519280" cy="25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5829480" y="2602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5829480" y="3321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5829480" y="4040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417840" y="2986200"/>
            <a:ext cx="2519280" cy="215640"/>
          </a:xfrm>
          <a:prstGeom prst="rightArrow">
            <a:avLst>
              <a:gd name="adj1" fmla="val 50000"/>
              <a:gd name="adj2" fmla="val 292070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3417840" y="367020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17840" y="438948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397480" y="5937120"/>
            <a:ext cx="2879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чка зрения Берк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6"/>
          <p:cNvSpPr/>
          <p:nvPr/>
        </p:nvSpPr>
        <p:spPr>
          <a:xfrm rot="10800000">
            <a:off x="358920" y="1977840"/>
            <a:ext cx="575784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 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я вне дух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ественных, имеющих фор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движных субстанц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щих нашим идея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телах, то как было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можно 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ть о них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олжны были бы знать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6"/>
          <p:cNvSpPr/>
          <p:nvPr/>
        </p:nvSpPr>
        <p:spPr>
          <a:xfrm rot="10800000">
            <a:off x="358920" y="1977840"/>
            <a:ext cx="575784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касается наших 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и дают нам 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наших ощущения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деях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тех вещах, которые, как бы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ни называли,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нимаются в ощущения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не удостоверяют нас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т вне дух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спринятые вещ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ход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ми, которые воспринимают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ризнаётся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ист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6"/>
          <p:cNvSpPr/>
          <p:nvPr/>
        </p:nvSpPr>
        <p:spPr>
          <a:xfrm rot="10800000">
            <a:off x="179280" y="1977840"/>
            <a:ext cx="6010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остаётся допусти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скольку мы облад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нибудь знанием внеш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в, это знание приобрет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даря рассудку, умозаключающе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 их существовании из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епосредственно восприня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щущении. Но я не виж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ассудок может привести на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выводу о существовании те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духа, исходя из т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мы воспринима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78200" y="2517840"/>
            <a:ext cx="4102200" cy="37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может быть легче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го, чем немного вникну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вои собственные мысли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 испытать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жет ли о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игнуть идеи, которая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ответствовала бы данному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десь описанию иде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реугольник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й 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оуголен, ни прямоуголен, 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торонен, ни равнобедре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неравносторонен, но котор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месте и всякий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никакой из н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654200" y="1619280"/>
            <a:ext cx="144000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ок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008760" y="1619280"/>
            <a:ext cx="1439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рк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2517840"/>
            <a:ext cx="4101840" cy="37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е не нужны усилия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, чтобы составить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ую идею треугольн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она не должна бы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ей ни косоугольно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прямоугольно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равносторонн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угольников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должна быть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ем и ничем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дикальный номи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2230560" y="1978200"/>
            <a:ext cx="4678200" cy="2519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бстрактные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и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 существу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158920" y="5037120"/>
            <a:ext cx="4822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е. идея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что едини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266920" y="2158920"/>
            <a:ext cx="4678560" cy="21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ъект и ощущение –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 и то 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ытие вещей состоит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 их воспринимае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165480" y="4678200"/>
            <a:ext cx="287964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se est perci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8"/>
          <p:cNvSpPr/>
          <p:nvPr/>
        </p:nvSpPr>
        <p:spPr>
          <a:xfrm>
            <a:off x="3057480" y="2517840"/>
            <a:ext cx="3238560" cy="32385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057480" y="2517840"/>
            <a:ext cx="3238560" cy="323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094200" y="3381480"/>
            <a:ext cx="2339640" cy="23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 rot="21540000">
            <a:off x="3579480" y="2536560"/>
            <a:ext cx="2184480" cy="75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 rot="180000">
            <a:off x="5519520" y="3003480"/>
            <a:ext cx="752400" cy="228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Гоццоли, Аристотель"/>
          <p:cNvPicPr/>
          <p:nvPr/>
        </p:nvPicPr>
        <p:blipFill>
          <a:blip r:embed="rId1"/>
          <a:stretch/>
        </p:blipFill>
        <p:spPr>
          <a:xfrm>
            <a:off x="539640" y="1978200"/>
            <a:ext cx="1543320" cy="4066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Гоццоли, Платон"/>
          <p:cNvPicPr/>
          <p:nvPr/>
        </p:nvPicPr>
        <p:blipFill>
          <a:blip r:embed="rId2"/>
          <a:stretch/>
        </p:blipFill>
        <p:spPr>
          <a:xfrm>
            <a:off x="7016760" y="1978200"/>
            <a:ext cx="1590840" cy="41050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0" descr="Гоццоли, Аристотель"/>
          <p:cNvPicPr/>
          <p:nvPr/>
        </p:nvPicPr>
        <p:blipFill>
          <a:blip r:embed="rId1"/>
          <a:stretch/>
        </p:blipFill>
        <p:spPr>
          <a:xfrm>
            <a:off x="539640" y="1978200"/>
            <a:ext cx="1543320" cy="406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Гоццоли, Платон"/>
          <p:cNvPicPr/>
          <p:nvPr/>
        </p:nvPicPr>
        <p:blipFill>
          <a:blip r:embed="rId2"/>
          <a:stretch/>
        </p:blipFill>
        <p:spPr>
          <a:xfrm>
            <a:off x="7016760" y="1978200"/>
            <a:ext cx="1590840" cy="4105080"/>
          </a:xfrm>
          <a:prstGeom prst="rect">
            <a:avLst/>
          </a:prstGeom>
          <a:ln w="0">
            <a:noFill/>
          </a:ln>
        </p:spPr>
      </p:pic>
      <p:sp>
        <p:nvSpPr>
          <p:cNvPr id="181" name="Oval 12"/>
          <p:cNvSpPr/>
          <p:nvPr/>
        </p:nvSpPr>
        <p:spPr>
          <a:xfrm>
            <a:off x="3454560" y="2878200"/>
            <a:ext cx="1079280" cy="1079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3994200" y="1943280"/>
            <a:ext cx="1079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4533840" y="2878200"/>
            <a:ext cx="1079640" cy="1079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3352680" y="1924200"/>
            <a:ext cx="2363760" cy="2363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2675160" y="5037120"/>
            <a:ext cx="381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 могут существовать лиш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е (духе)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енно ум и «поддерживает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о их компле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2338560" y="3849840"/>
            <a:ext cx="2286000" cy="228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3483000" y="1863720"/>
            <a:ext cx="2286000" cy="228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4624560" y="384984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61080" y="1978200"/>
            <a:ext cx="249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комплексы иде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щи), котор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л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 перестал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336000" y="1978200"/>
            <a:ext cx="260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осле перерыва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яты внов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овали ли, 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 время, когда он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оспринимал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7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7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7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7400" y="1672920"/>
            <a:ext cx="377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2 марта 1685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стях замка Дайзерт близ Томастауна (Ирлан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Дублинском университете (1700-17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в Дублинском университете (Тринити-колледж) (1707-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Италию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13-1714, 1716-17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сионерская работа в Америке (Ньюпор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-Айленд) (1728-17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пископ клойнский (с 17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января 1753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сф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Oval 5"/>
          <p:cNvSpPr/>
          <p:nvPr/>
        </p:nvSpPr>
        <p:spPr>
          <a:xfrm>
            <a:off x="5559480" y="2662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254120" y="2230560"/>
            <a:ext cx="13863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маста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5684760" y="2554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874120" y="2205000"/>
            <a:ext cx="10357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б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6261120" y="3040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378120" y="3213000"/>
            <a:ext cx="12247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сф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5468760" y="27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722480" y="2852640"/>
            <a:ext cx="884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о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3" descr="j0183290"/>
          <p:cNvPicPr/>
          <p:nvPr/>
        </p:nvPicPr>
        <p:blipFill>
          <a:blip r:embed="rId1"/>
          <a:stretch/>
        </p:blipFill>
        <p:spPr>
          <a:xfrm>
            <a:off x="6837480" y="1798560"/>
            <a:ext cx="1724040" cy="1849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Гоццоли, Аристотель"/>
          <p:cNvPicPr/>
          <p:nvPr/>
        </p:nvPicPr>
        <p:blipFill>
          <a:blip r:embed="rId2"/>
          <a:stretch/>
        </p:blipFill>
        <p:spPr>
          <a:xfrm>
            <a:off x="1079640" y="1978200"/>
            <a:ext cx="1542960" cy="406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Гоццоли, Платон"/>
          <p:cNvPicPr/>
          <p:nvPr/>
        </p:nvPicPr>
        <p:blipFill>
          <a:blip r:embed="rId3"/>
          <a:stretch/>
        </p:blipFill>
        <p:spPr>
          <a:xfrm>
            <a:off x="6477120" y="1978200"/>
            <a:ext cx="1590480" cy="4105080"/>
          </a:xfrm>
          <a:prstGeom prst="rect">
            <a:avLst/>
          </a:prstGeom>
          <a:ln w="0">
            <a:noFill/>
          </a:ln>
        </p:spPr>
      </p:pic>
      <p:sp>
        <p:nvSpPr>
          <p:cNvPr id="198" name="Tree"/>
          <p:cNvSpPr/>
          <p:nvPr/>
        </p:nvSpPr>
        <p:spPr>
          <a:xfrm>
            <a:off x="3708360" y="323856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j0304933"/>
          <p:cNvPicPr/>
          <p:nvPr/>
        </p:nvPicPr>
        <p:blipFill>
          <a:blip r:embed="rId4"/>
          <a:stretch/>
        </p:blipFill>
        <p:spPr>
          <a:xfrm>
            <a:off x="1258920" y="4497480"/>
            <a:ext cx="1819080" cy="16682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4"/>
          <p:cNvSpPr/>
          <p:nvPr/>
        </p:nvSpPr>
        <p:spPr>
          <a:xfrm>
            <a:off x="3432240" y="557676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всегда кем-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770200" y="1619280"/>
            <a:ext cx="359892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а вид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ентальных сущ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971640" y="3598920"/>
            <a:ext cx="287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деи</a:t>
            </a:r>
            <a:br>
              <a:rPr sz="20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id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5289480" y="3598920"/>
            <a:ext cx="287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и</a:t>
            </a:r>
            <a:br>
              <a:rPr sz="20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mi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5"/>
          <p:cNvCxnSpPr/>
          <p:nvPr/>
        </p:nvCxnSpPr>
        <p:spPr>
          <a:xfrm>
            <a:off x="4570560" y="2877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6" name="Line 6"/>
          <p:cNvSpPr/>
          <p:nvPr/>
        </p:nvSpPr>
        <p:spPr>
          <a:xfrm>
            <a:off x="2409840" y="3238560"/>
            <a:ext cx="431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7"/>
          <p:cNvCxnSpPr/>
          <p:nvPr/>
        </p:nvCxnSpPr>
        <p:spPr>
          <a:xfrm>
            <a:off x="2409840" y="3238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08" name="AutoShape 8"/>
          <p:cNvCxnSpPr/>
          <p:nvPr/>
        </p:nvCxnSpPr>
        <p:spPr>
          <a:xfrm>
            <a:off x="6729480" y="3238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971640" y="4678200"/>
            <a:ext cx="2879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ассивны: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бытие состоит в их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ринимае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5289480" y="4678200"/>
            <a:ext cx="2879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ктивны: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бытие состоит в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рия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971640" y="5757840"/>
            <a:ext cx="287964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sse es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ercipi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5289480" y="5757840"/>
            <a:ext cx="287964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se es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ercipere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2863800" y="4102200"/>
            <a:ext cx="1101600" cy="182376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3760"/>
              <a:gd name="textAreaBottom" fmla="*/ 1322280 h 182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1236600" y="2517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719280" y="1727280"/>
            <a:ext cx="431784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духи восприни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оспри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ни ведь не составл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чувственных свой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957480" y="4894200"/>
            <a:ext cx="431820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вытекает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позиции Берк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псиз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2338560" y="3309840"/>
            <a:ext cx="431784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куда берётся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вообще та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другого дух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числ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727280" y="1943280"/>
            <a:ext cx="5686200" cy="374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olus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енны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ipse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е учение, согласно которому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омненно данным является лиш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ственный субъективный опыт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сё, что считается существующ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зависимо от н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включая тело, мир внешни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нанию вещей, других людей)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ействительности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шь часть эт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0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2"/>
          <p:cNvSpPr/>
          <p:nvPr/>
        </p:nvSpPr>
        <p:spPr>
          <a:xfrm>
            <a:off x="7124760" y="115092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пс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0300912"/>
          <p:cNvPicPr/>
          <p:nvPr/>
        </p:nvPicPr>
        <p:blipFill>
          <a:blip r:embed="rId1"/>
          <a:stretch/>
        </p:blipFill>
        <p:spPr>
          <a:xfrm>
            <a:off x="3670200" y="2878200"/>
            <a:ext cx="1798560" cy="1706400"/>
          </a:xfrm>
          <a:prstGeom prst="rect">
            <a:avLst/>
          </a:prstGeom>
          <a:ln w="0">
            <a:noFill/>
          </a:ln>
        </p:spPr>
      </p:pic>
      <p:sp>
        <p:nvSpPr>
          <p:cNvPr id="228" name="Oval 5"/>
          <p:cNvSpPr/>
          <p:nvPr/>
        </p:nvSpPr>
        <p:spPr>
          <a:xfrm>
            <a:off x="358920" y="115092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108000" y="291456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1978200" y="4821120"/>
            <a:ext cx="161892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741840" y="492912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505480" y="482112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7377120" y="291456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2268360" y="1295280"/>
            <a:ext cx="161928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5145120" y="1295280"/>
            <a:ext cx="1619280" cy="161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000803_1059_1305_v__v"/>
          <p:cNvPicPr/>
          <p:nvPr/>
        </p:nvPicPr>
        <p:blipFill>
          <a:blip r:embed="rId2"/>
          <a:stretch/>
        </p:blipFill>
        <p:spPr>
          <a:xfrm>
            <a:off x="5415120" y="1511280"/>
            <a:ext cx="1054080" cy="1184400"/>
          </a:xfrm>
          <a:prstGeom prst="rect">
            <a:avLst/>
          </a:prstGeom>
          <a:ln w="0">
            <a:noFill/>
          </a:ln>
        </p:spPr>
      </p:pic>
      <p:sp>
        <p:nvSpPr>
          <p:cNvPr id="237" name="Oval 14"/>
          <p:cNvSpPr/>
          <p:nvPr/>
        </p:nvSpPr>
        <p:spPr>
          <a:xfrm>
            <a:off x="216000" y="467820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7269120" y="467820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1870200" y="30574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7"/>
          <p:cNvSpPr/>
          <p:nvPr/>
        </p:nvSpPr>
        <p:spPr>
          <a:xfrm>
            <a:off x="5613480" y="30574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8" descr="000"/>
          <p:cNvPicPr/>
          <p:nvPr/>
        </p:nvPicPr>
        <p:blipFill>
          <a:blip r:embed="rId3"/>
          <a:stretch/>
        </p:blipFill>
        <p:spPr>
          <a:xfrm>
            <a:off x="7629480" y="4857840"/>
            <a:ext cx="914400" cy="1222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9" descr="z9344"/>
          <p:cNvPicPr/>
          <p:nvPr/>
        </p:nvPicPr>
        <p:blipFill>
          <a:blip r:embed="rId4"/>
          <a:stretch/>
        </p:blipFill>
        <p:spPr>
          <a:xfrm>
            <a:off x="574560" y="4857840"/>
            <a:ext cx="885960" cy="1285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" descr="nc03244a"/>
          <p:cNvPicPr/>
          <p:nvPr/>
        </p:nvPicPr>
        <p:blipFill>
          <a:blip r:embed="rId5"/>
          <a:stretch/>
        </p:blipFill>
        <p:spPr>
          <a:xfrm>
            <a:off x="7413480" y="1384200"/>
            <a:ext cx="1054080" cy="11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" descr="j0195534"/>
          <p:cNvPicPr/>
          <p:nvPr/>
        </p:nvPicPr>
        <p:blipFill>
          <a:blip r:embed="rId6"/>
          <a:stretch/>
        </p:blipFill>
        <p:spPr>
          <a:xfrm>
            <a:off x="611280" y="1187280"/>
            <a:ext cx="1108080" cy="1363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an09870"/>
          <p:cNvPicPr/>
          <p:nvPr/>
        </p:nvPicPr>
        <p:blipFill>
          <a:blip r:embed="rId7"/>
          <a:stretch/>
        </p:blipFill>
        <p:spPr>
          <a:xfrm>
            <a:off x="2230560" y="5091120"/>
            <a:ext cx="1096920" cy="108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3" descr="010409_0713_0091_v__v"/>
          <p:cNvPicPr/>
          <p:nvPr/>
        </p:nvPicPr>
        <p:blipFill>
          <a:blip r:embed="rId8"/>
          <a:stretch/>
        </p:blipFill>
        <p:spPr>
          <a:xfrm>
            <a:off x="5792760" y="5073480"/>
            <a:ext cx="1047600" cy="1098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4" descr="crtch076"/>
          <p:cNvPicPr/>
          <p:nvPr/>
        </p:nvPicPr>
        <p:blipFill>
          <a:blip r:embed="rId9"/>
          <a:stretch/>
        </p:blipFill>
        <p:spPr>
          <a:xfrm>
            <a:off x="7556400" y="3346560"/>
            <a:ext cx="1285920" cy="771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5" descr="000803_1076_5867_v__v"/>
          <p:cNvPicPr/>
          <p:nvPr/>
        </p:nvPicPr>
        <p:blipFill>
          <a:blip r:embed="rId10"/>
          <a:stretch/>
        </p:blipFill>
        <p:spPr>
          <a:xfrm>
            <a:off x="503280" y="313056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nd01153a"/>
          <p:cNvPicPr/>
          <p:nvPr/>
        </p:nvPicPr>
        <p:blipFill>
          <a:blip r:embed="rId11"/>
          <a:stretch/>
        </p:blipFill>
        <p:spPr>
          <a:xfrm>
            <a:off x="5973840" y="3238560"/>
            <a:ext cx="92376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7" descr="nc01146a"/>
          <p:cNvPicPr/>
          <p:nvPr/>
        </p:nvPicPr>
        <p:blipFill>
          <a:blip r:embed="rId12"/>
          <a:stretch/>
        </p:blipFill>
        <p:spPr>
          <a:xfrm>
            <a:off x="2230560" y="3273480"/>
            <a:ext cx="903240" cy="1219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000803_1076_0768_v__v"/>
          <p:cNvPicPr/>
          <p:nvPr/>
        </p:nvPicPr>
        <p:blipFill>
          <a:blip r:embed="rId13"/>
          <a:stretch/>
        </p:blipFill>
        <p:spPr>
          <a:xfrm>
            <a:off x="2517840" y="1565280"/>
            <a:ext cx="1096920" cy="1071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000803_1090_4273_v__v"/>
          <p:cNvPicPr/>
          <p:nvPr/>
        </p:nvPicPr>
        <p:blipFill>
          <a:blip r:embed="rId14"/>
          <a:stretch/>
        </p:blipFill>
        <p:spPr>
          <a:xfrm>
            <a:off x="3957480" y="5218200"/>
            <a:ext cx="1159200" cy="9874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7 мая 1711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дин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Эдинбургском университете (1723-17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5 августа 1776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динбург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7" name="Oval 5"/>
          <p:cNvSpPr/>
          <p:nvPr/>
        </p:nvSpPr>
        <p:spPr>
          <a:xfrm>
            <a:off x="6156360" y="2158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6306840" y="2060640"/>
            <a:ext cx="12704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д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044000" y="6045120"/>
            <a:ext cx="262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Рамсэй. Дэвид Юм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Эдинбур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281480" y="3057480"/>
            <a:ext cx="47862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ктат о человеческой природ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9-17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 моральные и политическ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1-1742/17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следовани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8/17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оги о естественной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3" descr="Рамсэй, Юм"/>
          <p:cNvPicPr/>
          <p:nvPr/>
        </p:nvPicPr>
        <p:blipFill>
          <a:blip r:embed="rId1"/>
          <a:stretch/>
        </p:blipFill>
        <p:spPr>
          <a:xfrm>
            <a:off x="539640" y="1619280"/>
            <a:ext cx="356868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42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2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критика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12480" y="160020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: гносеологическ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ощущений, а следовательно – и природа реальности, непознава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вида восприятий (перцеп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0840" y="274320"/>
            <a:ext cx="8302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носеологическая 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j0183290"/>
          <p:cNvPicPr/>
          <p:nvPr/>
        </p:nvPicPr>
        <p:blipFill>
          <a:blip r:embed="rId1"/>
          <a:stretch/>
        </p:blipFill>
        <p:spPr>
          <a:xfrm>
            <a:off x="6656400" y="179856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j0195534"/>
          <p:cNvPicPr/>
          <p:nvPr/>
        </p:nvPicPr>
        <p:blipFill>
          <a:blip r:embed="rId2"/>
          <a:stretch/>
        </p:blipFill>
        <p:spPr>
          <a:xfrm>
            <a:off x="3994200" y="367020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j0300912"/>
          <p:cNvPicPr/>
          <p:nvPr/>
        </p:nvPicPr>
        <p:blipFill>
          <a:blip r:embed="rId3"/>
          <a:stretch/>
        </p:blipFill>
        <p:spPr>
          <a:xfrm>
            <a:off x="900000" y="1798560"/>
            <a:ext cx="1798920" cy="1706760"/>
          </a:xfrm>
          <a:prstGeom prst="rect">
            <a:avLst/>
          </a:prstGeom>
          <a:ln w="0">
            <a:noFill/>
          </a:ln>
        </p:spPr>
      </p:pic>
      <p:sp>
        <p:nvSpPr>
          <p:cNvPr id="273" name="Oval 6"/>
          <p:cNvSpPr/>
          <p:nvPr/>
        </p:nvSpPr>
        <p:spPr>
          <a:xfrm>
            <a:off x="3780000" y="1619280"/>
            <a:ext cx="18288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j0195534"/>
          <p:cNvPicPr/>
          <p:nvPr/>
        </p:nvPicPr>
        <p:blipFill>
          <a:blip r:embed="rId4"/>
          <a:stretch/>
        </p:blipFill>
        <p:spPr>
          <a:xfrm>
            <a:off x="4317840" y="1835280"/>
            <a:ext cx="741600" cy="9126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23880" y="398304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ше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олипсисты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6977880" y="407844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Беркли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3494160" y="576900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ьная вещ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Локк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4641840" y="327348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5505480" y="2554200"/>
            <a:ext cx="1440000" cy="144720"/>
          </a:xfrm>
          <a:prstGeom prst="leftArrow">
            <a:avLst>
              <a:gd name="adj1" fmla="val 50000"/>
              <a:gd name="adj2" fmla="val 24875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2124000" y="2554200"/>
            <a:ext cx="1763640" cy="144720"/>
          </a:xfrm>
          <a:prstGeom prst="rightArrow">
            <a:avLst>
              <a:gd name="adj1" fmla="val 50000"/>
              <a:gd name="adj2" fmla="val 30466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14"/>
          <p:cNvSpPr/>
          <p:nvPr/>
        </p:nvSpPr>
        <p:spPr>
          <a:xfrm>
            <a:off x="7269120" y="5056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1136520" y="5056200"/>
            <a:ext cx="733680" cy="117648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"/>
          <p:cNvSpPr/>
          <p:nvPr/>
        </p:nvSpPr>
        <p:spPr>
          <a:xfrm>
            <a:off x="4929120" y="3832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3475080" y="3832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1870200" y="3022560"/>
            <a:ext cx="251928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че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аем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749840" y="3022560"/>
            <a:ext cx="251928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какими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чув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770040" y="208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7269120" y="2085840"/>
            <a:ext cx="1101600" cy="182088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344520" y="4246560"/>
            <a:ext cx="3130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говоря –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ощущени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этом случае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ётся без ответ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5664240" y="4246560"/>
            <a:ext cx="3130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торые чувст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ются непознанны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1798560" y="1582560"/>
            <a:ext cx="554220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скольку, согласно принципам эмпиризм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ственным источником наших знани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вляются чувственные ощущения, вопро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 причинах ощущений не имеет смысл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ак как такие причины должны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/>
          <p:cNvSpPr/>
          <p:nvPr/>
        </p:nvSpPr>
        <p:spPr>
          <a:xfrm>
            <a:off x="1870200" y="5468760"/>
            <a:ext cx="53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 том, и в другом случа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ивный (идеальный) мир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енных ощущений остаё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ственном доступной нам реа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118560" y="615312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87280" y="3238560"/>
            <a:ext cx="4749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новой теории 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ктат о принципах человеческого 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азговора между Гиласом и Филонус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Беркли (3)"/>
          <p:cNvPicPr/>
          <p:nvPr/>
        </p:nvPicPr>
        <p:blipFill>
          <a:blip r:embed="rId1"/>
          <a:stretch/>
        </p:blipFill>
        <p:spPr>
          <a:xfrm>
            <a:off x="5397480" y="1619280"/>
            <a:ext cx="3292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4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14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Oval 2"/>
          <p:cNvSpPr/>
          <p:nvPr/>
        </p:nvSpPr>
        <p:spPr>
          <a:xfrm>
            <a:off x="6548400" y="305748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"/>
          <p:cNvSpPr/>
          <p:nvPr/>
        </p:nvSpPr>
        <p:spPr>
          <a:xfrm>
            <a:off x="7521480" y="368784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5541840" y="368784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7521480" y="242892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5576760" y="242892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6548400" y="431784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5576760" y="494820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7521480" y="494820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1" descr="j0297185"/>
          <p:cNvPicPr/>
          <p:nvPr/>
        </p:nvPicPr>
        <p:blipFill>
          <a:blip r:embed="rId1"/>
          <a:stretch/>
        </p:blipFill>
        <p:spPr>
          <a:xfrm>
            <a:off x="3059280" y="4400640"/>
            <a:ext cx="1357200" cy="1081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j0293828"/>
          <p:cNvPicPr/>
          <p:nvPr/>
        </p:nvPicPr>
        <p:blipFill>
          <a:blip r:embed="rId2"/>
          <a:stretch/>
        </p:blipFill>
        <p:spPr>
          <a:xfrm>
            <a:off x="2843280" y="2673360"/>
            <a:ext cx="1309680" cy="1379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j0185604"/>
          <p:cNvPicPr/>
          <p:nvPr/>
        </p:nvPicPr>
        <p:blipFill>
          <a:blip r:embed="rId3"/>
          <a:stretch/>
        </p:blipFill>
        <p:spPr>
          <a:xfrm>
            <a:off x="611280" y="4113360"/>
            <a:ext cx="1150920" cy="115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j0183328"/>
          <p:cNvPicPr/>
          <p:nvPr/>
        </p:nvPicPr>
        <p:blipFill>
          <a:blip r:embed="rId4"/>
          <a:stretch/>
        </p:blipFill>
        <p:spPr>
          <a:xfrm>
            <a:off x="611280" y="2457360"/>
            <a:ext cx="1352520" cy="1359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j0211949"/>
          <p:cNvPicPr/>
          <p:nvPr/>
        </p:nvPicPr>
        <p:blipFill>
          <a:blip r:embed="rId5"/>
          <a:stretch/>
        </p:blipFill>
        <p:spPr>
          <a:xfrm>
            <a:off x="3635280" y="5408640"/>
            <a:ext cx="1425600" cy="873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6"/>
          <p:cNvSpPr/>
          <p:nvPr/>
        </p:nvSpPr>
        <p:spPr>
          <a:xfrm>
            <a:off x="1222200" y="1654200"/>
            <a:ext cx="2267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7" descr="j0211949"/>
          <p:cNvPicPr/>
          <p:nvPr/>
        </p:nvPicPr>
        <p:blipFill>
          <a:blip r:embed="rId6"/>
          <a:stretch/>
        </p:blipFill>
        <p:spPr>
          <a:xfrm>
            <a:off x="5684760" y="5192640"/>
            <a:ext cx="954000" cy="584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8" descr="j0297185"/>
          <p:cNvPicPr/>
          <p:nvPr/>
        </p:nvPicPr>
        <p:blipFill>
          <a:blip r:embed="rId7"/>
          <a:stretch/>
        </p:blipFill>
        <p:spPr>
          <a:xfrm>
            <a:off x="7667640" y="2673360"/>
            <a:ext cx="903240" cy="719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9" descr="j0185604"/>
          <p:cNvPicPr/>
          <p:nvPr/>
        </p:nvPicPr>
        <p:blipFill>
          <a:blip r:embed="rId8"/>
          <a:stretch/>
        </p:blipFill>
        <p:spPr>
          <a:xfrm>
            <a:off x="6764400" y="4545000"/>
            <a:ext cx="690480" cy="692280"/>
          </a:xfrm>
          <a:prstGeom prst="rect">
            <a:avLst/>
          </a:prstGeom>
          <a:ln w="0">
            <a:noFill/>
          </a:ln>
        </p:spPr>
      </p:pic>
      <p:sp>
        <p:nvSpPr>
          <p:cNvPr id="314" name="Tree"/>
          <p:cNvSpPr/>
          <p:nvPr/>
        </p:nvSpPr>
        <p:spPr>
          <a:xfrm>
            <a:off x="1763640" y="4976640"/>
            <a:ext cx="1357560" cy="1357560"/>
          </a:xfrm>
          <a:custGeom>
            <a:avLst/>
            <a:gdLst>
              <a:gd name="textAreaLeft" fmla="*/ 47520 w 1357560"/>
              <a:gd name="textAreaRight" fmla="*/ 1324440 w 1357560"/>
              <a:gd name="textAreaTop" fmla="*/ 1411560 h 1357560"/>
              <a:gd name="textAreaBottom" fmla="*/ 177768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1" descr="j0293828"/>
          <p:cNvPicPr/>
          <p:nvPr/>
        </p:nvPicPr>
        <p:blipFill>
          <a:blip r:embed="rId9"/>
          <a:stretch/>
        </p:blipFill>
        <p:spPr>
          <a:xfrm>
            <a:off x="5649840" y="381492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2" descr="j0183328"/>
          <p:cNvPicPr/>
          <p:nvPr/>
        </p:nvPicPr>
        <p:blipFill>
          <a:blip r:embed="rId10"/>
          <a:stretch/>
        </p:blipFill>
        <p:spPr>
          <a:xfrm>
            <a:off x="7667640" y="5048280"/>
            <a:ext cx="903240" cy="907920"/>
          </a:xfrm>
          <a:prstGeom prst="rect">
            <a:avLst/>
          </a:prstGeom>
          <a:ln w="0">
            <a:noFill/>
          </a:ln>
        </p:spPr>
      </p:pic>
      <p:sp>
        <p:nvSpPr>
          <p:cNvPr id="317" name="Tree"/>
          <p:cNvSpPr/>
          <p:nvPr/>
        </p:nvSpPr>
        <p:spPr>
          <a:xfrm>
            <a:off x="5796000" y="2602080"/>
            <a:ext cx="679320" cy="679320"/>
          </a:xfrm>
          <a:custGeom>
            <a:avLst/>
            <a:gdLst>
              <a:gd name="textAreaLeft" fmla="*/ 23760 w 679320"/>
              <a:gd name="textAreaRight" fmla="*/ 662760 w 67932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5900760" y="1619280"/>
            <a:ext cx="2266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nt"/>
          <p:cNvSpPr/>
          <p:nvPr/>
        </p:nvSpPr>
        <p:spPr>
          <a:xfrm>
            <a:off x="611280" y="5479920"/>
            <a:ext cx="903240" cy="903240"/>
          </a:xfrm>
          <a:custGeom>
            <a:avLst/>
            <a:gdLst>
              <a:gd name="textAreaLeft" fmla="*/ 297000 w 903240"/>
              <a:gd name="textAreaRight" fmla="*/ 608400 w 903240"/>
              <a:gd name="textAreaTop" fmla="*/ 421920 h 903240"/>
              <a:gd name="textAreaBottom" fmla="*/ 567720 h 9032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nt"/>
          <p:cNvSpPr/>
          <p:nvPr/>
        </p:nvSpPr>
        <p:spPr>
          <a:xfrm>
            <a:off x="7740720" y="3897360"/>
            <a:ext cx="676080" cy="676080"/>
          </a:xfrm>
          <a:custGeom>
            <a:avLst/>
            <a:gdLst>
              <a:gd name="textAreaLeft" fmla="*/ 222120 w 676080"/>
              <a:gd name="textAreaRight" fmla="*/ 455400 w 676080"/>
              <a:gd name="textAreaTop" fmla="*/ 315720 h 676080"/>
              <a:gd name="textAreaBottom" fmla="*/ 424800 h 67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7" descr="j0298897"/>
          <p:cNvPicPr/>
          <p:nvPr/>
        </p:nvPicPr>
        <p:blipFill>
          <a:blip r:embed="rId11"/>
          <a:stretch/>
        </p:blipFill>
        <p:spPr>
          <a:xfrm>
            <a:off x="1979640" y="3681360"/>
            <a:ext cx="903240" cy="789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" descr="j0298897"/>
          <p:cNvPicPr/>
          <p:nvPr/>
        </p:nvPicPr>
        <p:blipFill>
          <a:blip r:embed="rId12"/>
          <a:stretch/>
        </p:blipFill>
        <p:spPr>
          <a:xfrm>
            <a:off x="6659640" y="3273480"/>
            <a:ext cx="903240" cy="7887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7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0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0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nodeType="clickEffect" fill="hold">
                      <p:stCondLst>
                        <p:cond delay="indefinite"/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2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4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7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572000" y="4994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единяются ум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его усмот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57200" y="4994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яза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пы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4572000" y="386388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ые и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57200" y="386388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ые и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4572000" y="27320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ются в уме посл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я ощущений или предвосхищают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57200" y="27320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аются в процессе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572000" y="160020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457200" y="160020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4572000" y="160020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457200" y="2732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8"/>
          <p:cNvSpPr/>
          <p:nvPr/>
        </p:nvSpPr>
        <p:spPr>
          <a:xfrm>
            <a:off x="457200" y="38638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>
            <a:off x="457200" y="4994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nodeType="clickEffect" fill="hold">
                      <p:stCondLst>
                        <p:cond delay="indefinite"/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nodeType="clickEffect" fill="hold">
                      <p:stCondLst>
                        <p:cond delay="indefinite"/>
                      </p:stCondLst>
                      <p:childTnLst>
                        <p:par>
                          <p:cTn id="1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nodeType="clickEffect" fill="hold">
                      <p:stCondLst>
                        <p:cond delay="indefinite"/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2"/>
          <p:cNvSpPr/>
          <p:nvPr/>
        </p:nvSpPr>
        <p:spPr>
          <a:xfrm>
            <a:off x="3309840" y="3849840"/>
            <a:ext cx="2519640" cy="1258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61128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611280" y="3849840"/>
            <a:ext cx="2519280" cy="1258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611280" y="248292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j0211949"/>
          <p:cNvPicPr/>
          <p:nvPr/>
        </p:nvPicPr>
        <p:blipFill>
          <a:blip r:embed="rId1"/>
          <a:stretch/>
        </p:blipFill>
        <p:spPr>
          <a:xfrm>
            <a:off x="1978200" y="2841480"/>
            <a:ext cx="954000" cy="584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j0297185"/>
          <p:cNvPicPr/>
          <p:nvPr/>
        </p:nvPicPr>
        <p:blipFill>
          <a:blip r:embed="rId2"/>
          <a:stretch/>
        </p:blipFill>
        <p:spPr>
          <a:xfrm>
            <a:off x="898560" y="4138560"/>
            <a:ext cx="903240" cy="719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j0185604"/>
          <p:cNvPicPr/>
          <p:nvPr/>
        </p:nvPicPr>
        <p:blipFill>
          <a:blip r:embed="rId3"/>
          <a:stretch/>
        </p:blipFill>
        <p:spPr>
          <a:xfrm>
            <a:off x="2085840" y="4138560"/>
            <a:ext cx="690840" cy="692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j0183328"/>
          <p:cNvPicPr/>
          <p:nvPr/>
        </p:nvPicPr>
        <p:blipFill>
          <a:blip r:embed="rId4"/>
          <a:stretch/>
        </p:blipFill>
        <p:spPr>
          <a:xfrm>
            <a:off x="898560" y="2662200"/>
            <a:ext cx="903240" cy="907920"/>
          </a:xfrm>
          <a:prstGeom prst="rect">
            <a:avLst/>
          </a:prstGeom>
          <a:ln w="0">
            <a:noFill/>
          </a:ln>
        </p:spPr>
      </p:pic>
      <p:sp>
        <p:nvSpPr>
          <p:cNvPr id="351" name="Tree"/>
          <p:cNvSpPr/>
          <p:nvPr/>
        </p:nvSpPr>
        <p:spPr>
          <a:xfrm>
            <a:off x="4643280" y="4148280"/>
            <a:ext cx="679680" cy="679320"/>
          </a:xfrm>
          <a:custGeom>
            <a:avLst/>
            <a:gdLst>
              <a:gd name="textAreaLeft" fmla="*/ 23760 w 679680"/>
              <a:gd name="textAreaRight" fmla="*/ 663120 w 67968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1928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3309840" y="248292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600876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5" descr="j0211949"/>
          <p:cNvPicPr/>
          <p:nvPr/>
        </p:nvPicPr>
        <p:blipFill>
          <a:blip r:embed="rId5"/>
          <a:stretch/>
        </p:blipFill>
        <p:spPr>
          <a:xfrm>
            <a:off x="4533840" y="2997360"/>
            <a:ext cx="954000" cy="583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6" descr="j0297185"/>
          <p:cNvPicPr/>
          <p:nvPr/>
        </p:nvPicPr>
        <p:blipFill>
          <a:blip r:embed="rId6"/>
          <a:stretch/>
        </p:blipFill>
        <p:spPr>
          <a:xfrm>
            <a:off x="3564000" y="2637000"/>
            <a:ext cx="903240" cy="71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7" descr="j0185604"/>
          <p:cNvPicPr/>
          <p:nvPr/>
        </p:nvPicPr>
        <p:blipFill>
          <a:blip r:embed="rId7"/>
          <a:stretch/>
        </p:blipFill>
        <p:spPr>
          <a:xfrm>
            <a:off x="3708360" y="414828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18"/>
          <p:cNvSpPr/>
          <p:nvPr/>
        </p:nvSpPr>
        <p:spPr>
          <a:xfrm>
            <a:off x="3417840" y="1619280"/>
            <a:ext cx="2303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611676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0" descr="j0293828"/>
          <p:cNvPicPr/>
          <p:nvPr/>
        </p:nvPicPr>
        <p:blipFill>
          <a:blip r:embed="rId8"/>
          <a:stretch/>
        </p:blipFill>
        <p:spPr>
          <a:xfrm>
            <a:off x="6300720" y="537228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j0298897"/>
          <p:cNvPicPr/>
          <p:nvPr/>
        </p:nvPicPr>
        <p:blipFill>
          <a:blip r:embed="rId9"/>
          <a:stretch/>
        </p:blipFill>
        <p:spPr>
          <a:xfrm>
            <a:off x="7308720" y="5443560"/>
            <a:ext cx="903240" cy="789120"/>
          </a:xfrm>
          <a:prstGeom prst="rect">
            <a:avLst/>
          </a:prstGeom>
          <a:ln w="0">
            <a:noFill/>
          </a:ln>
        </p:spPr>
      </p:pic>
      <p:sp>
        <p:nvSpPr>
          <p:cNvPr id="362" name="Tree"/>
          <p:cNvSpPr/>
          <p:nvPr/>
        </p:nvSpPr>
        <p:spPr>
          <a:xfrm>
            <a:off x="971640" y="5516640"/>
            <a:ext cx="679320" cy="679320"/>
          </a:xfrm>
          <a:custGeom>
            <a:avLst/>
            <a:gdLst>
              <a:gd name="textAreaLeft" fmla="*/ 23760 w 679320"/>
              <a:gd name="textAreaRight" fmla="*/ 662760 w 67932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nt"/>
          <p:cNvSpPr/>
          <p:nvPr/>
        </p:nvSpPr>
        <p:spPr>
          <a:xfrm>
            <a:off x="1979640" y="5516640"/>
            <a:ext cx="676080" cy="676080"/>
          </a:xfrm>
          <a:custGeom>
            <a:avLst/>
            <a:gdLst>
              <a:gd name="textAreaLeft" fmla="*/ 222120 w 676080"/>
              <a:gd name="textAreaRight" fmla="*/ 455400 w 676080"/>
              <a:gd name="textAreaTop" fmla="*/ 315720 h 676080"/>
              <a:gd name="textAreaBottom" fmla="*/ 424800 h 67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8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9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2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3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8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4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5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3" dur="8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6" dur="8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7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nodeType="clickEffect" fill="hold">
                      <p:stCondLst>
                        <p:cond delay="indefinite"/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nodeType="clickEffect" fill="hold">
                      <p:stCondLst>
                        <p:cond delay="indefinite"/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8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7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Oval 2"/>
          <p:cNvSpPr/>
          <p:nvPr/>
        </p:nvSpPr>
        <p:spPr>
          <a:xfrm>
            <a:off x="5792760" y="2446200"/>
            <a:ext cx="1144440" cy="1144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3492360" y="2446200"/>
            <a:ext cx="1144800" cy="1144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4"/>
          <p:cNvSpPr/>
          <p:nvPr/>
        </p:nvSpPr>
        <p:spPr>
          <a:xfrm>
            <a:off x="1692360" y="2446200"/>
            <a:ext cx="1144440" cy="1144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j0183328"/>
          <p:cNvPicPr/>
          <p:nvPr/>
        </p:nvPicPr>
        <p:blipFill>
          <a:blip r:embed="rId1"/>
          <a:stretch/>
        </p:blipFill>
        <p:spPr>
          <a:xfrm>
            <a:off x="1835280" y="2536920"/>
            <a:ext cx="903240" cy="907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j0185604"/>
          <p:cNvPicPr/>
          <p:nvPr/>
        </p:nvPicPr>
        <p:blipFill>
          <a:blip r:embed="rId2"/>
          <a:stretch/>
        </p:blipFill>
        <p:spPr>
          <a:xfrm>
            <a:off x="3708360" y="2662200"/>
            <a:ext cx="690480" cy="692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j0293828"/>
          <p:cNvPicPr/>
          <p:nvPr/>
        </p:nvPicPr>
        <p:blipFill>
          <a:blip r:embed="rId3"/>
          <a:stretch/>
        </p:blipFill>
        <p:spPr>
          <a:xfrm>
            <a:off x="5905440" y="253692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j0301252"/>
          <p:cNvPicPr/>
          <p:nvPr/>
        </p:nvPicPr>
        <p:blipFill>
          <a:blip r:embed="rId4"/>
          <a:stretch/>
        </p:blipFill>
        <p:spPr>
          <a:xfrm>
            <a:off x="6908760" y="3562200"/>
            <a:ext cx="183060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Tree"/>
          <p:cNvSpPr/>
          <p:nvPr/>
        </p:nvSpPr>
        <p:spPr>
          <a:xfrm>
            <a:off x="3489480" y="5037120"/>
            <a:ext cx="1357200" cy="1357200"/>
          </a:xfrm>
          <a:custGeom>
            <a:avLst/>
            <a:gdLst>
              <a:gd name="textAreaLeft" fmla="*/ 47520 w 1357200"/>
              <a:gd name="textAreaRight" fmla="*/ 1324080 w 1357200"/>
              <a:gd name="textAreaTop" fmla="*/ 1411200 h 1357200"/>
              <a:gd name="textAreaBottom" fmla="*/ 177732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4" descr="j0211949"/>
          <p:cNvPicPr/>
          <p:nvPr/>
        </p:nvPicPr>
        <p:blipFill>
          <a:blip r:embed="rId5"/>
          <a:stretch/>
        </p:blipFill>
        <p:spPr>
          <a:xfrm>
            <a:off x="1116000" y="5181480"/>
            <a:ext cx="1900080" cy="1165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j0298897"/>
          <p:cNvPicPr/>
          <p:nvPr/>
        </p:nvPicPr>
        <p:blipFill>
          <a:blip r:embed="rId6"/>
          <a:stretch/>
        </p:blipFill>
        <p:spPr>
          <a:xfrm>
            <a:off x="6224760" y="5181480"/>
            <a:ext cx="1357200" cy="1185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j0291984"/>
          <p:cNvPicPr/>
          <p:nvPr/>
        </p:nvPicPr>
        <p:blipFill>
          <a:blip r:embed="rId7"/>
          <a:stretch/>
        </p:blipFill>
        <p:spPr>
          <a:xfrm>
            <a:off x="468360" y="316548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7" descr="j0285698"/>
          <p:cNvPicPr/>
          <p:nvPr/>
        </p:nvPicPr>
        <p:blipFill>
          <a:blip r:embed="rId8"/>
          <a:stretch/>
        </p:blipFill>
        <p:spPr>
          <a:xfrm>
            <a:off x="4281480" y="3346560"/>
            <a:ext cx="1706400" cy="18237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21"/>
          <p:cNvSpPr/>
          <p:nvPr/>
        </p:nvSpPr>
        <p:spPr>
          <a:xfrm>
            <a:off x="71928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3417840" y="1619280"/>
            <a:ext cx="2303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3"/>
          <p:cNvSpPr/>
          <p:nvPr/>
        </p:nvSpPr>
        <p:spPr>
          <a:xfrm>
            <a:off x="611676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nodeType="clickEffect" fill="hold">
                      <p:stCondLst>
                        <p:cond delay="indefinite"/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3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4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nodeType="clickEffect" fill="hold">
                      <p:stCondLst>
                        <p:cond delay="indefinite"/>
                      </p:stCondLst>
                      <p:childTnLst>
                        <p:par>
                          <p:cTn id="2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nodeType="clickEffect" fill="hold">
                      <p:stCondLst>
                        <p:cond delay="indefinite"/>
                      </p:stCondLst>
                      <p:childTnLst>
                        <p:par>
                          <p:cTn id="2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0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j0298897"/>
          <p:cNvPicPr/>
          <p:nvPr/>
        </p:nvPicPr>
        <p:blipFill>
          <a:blip r:embed="rId1"/>
          <a:stretch/>
        </p:blipFill>
        <p:spPr>
          <a:xfrm>
            <a:off x="1042920" y="429264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j0293828"/>
          <p:cNvPicPr/>
          <p:nvPr/>
        </p:nvPicPr>
        <p:blipFill>
          <a:blip r:embed="rId2"/>
          <a:stretch/>
        </p:blipFill>
        <p:spPr>
          <a:xfrm>
            <a:off x="684360" y="1798560"/>
            <a:ext cx="1744560" cy="183672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6"/>
          <p:cNvSpPr/>
          <p:nvPr/>
        </p:nvSpPr>
        <p:spPr>
          <a:xfrm>
            <a:off x="3706920" y="5037120"/>
            <a:ext cx="43178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st ho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on est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pter hoc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3346560" y="3957480"/>
            <a:ext cx="50385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осле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е значи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следств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346560" y="1798560"/>
            <a:ext cx="505620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аключение о налич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узальной связи на основа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овательности во времени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ультат логической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6" dur="indefinite" restart="never" nodeType="tmRoot">
          <p:childTnLst>
            <p:seq>
              <p:cTn id="2177" dur="indefinite" nodeType="mainSeq">
                <p:childTnLst>
                  <p:par>
                    <p:cTn id="2178" nodeType="clickEffect" fill="hold">
                      <p:stCondLst>
                        <p:cond delay="indefinite"/>
                      </p:stCondLst>
                      <p:childTnLst>
                        <p:par>
                          <p:cTn id="2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nodeType="clickEffect" fill="hold">
                      <p:stCondLst>
                        <p:cond delay="indefinite"/>
                      </p:stCondLst>
                      <p:childTnLst>
                        <p:par>
                          <p:cTn id="2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3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nodeType="clickEffect" fill="hold">
                      <p:stCondLst>
                        <p:cond delay="indefinite"/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2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8"/>
          <p:cNvSpPr/>
          <p:nvPr/>
        </p:nvSpPr>
        <p:spPr>
          <a:xfrm>
            <a:off x="6656400" y="1978200"/>
            <a:ext cx="1144440" cy="1144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j0298897"/>
          <p:cNvPicPr/>
          <p:nvPr/>
        </p:nvPicPr>
        <p:blipFill>
          <a:blip r:embed="rId1"/>
          <a:stretch/>
        </p:blipFill>
        <p:spPr>
          <a:xfrm>
            <a:off x="6764400" y="2158920"/>
            <a:ext cx="903240" cy="789120"/>
          </a:xfrm>
          <a:prstGeom prst="rect">
            <a:avLst/>
          </a:prstGeom>
          <a:ln w="0">
            <a:noFill/>
          </a:ln>
        </p:spPr>
      </p:pic>
      <p:sp>
        <p:nvSpPr>
          <p:cNvPr id="391" name="Oval 5"/>
          <p:cNvSpPr/>
          <p:nvPr/>
        </p:nvSpPr>
        <p:spPr>
          <a:xfrm>
            <a:off x="4859280" y="1978200"/>
            <a:ext cx="1144800" cy="1144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j0293828"/>
          <p:cNvPicPr/>
          <p:nvPr/>
        </p:nvPicPr>
        <p:blipFill>
          <a:blip r:embed="rId2"/>
          <a:stretch/>
        </p:blipFill>
        <p:spPr>
          <a:xfrm>
            <a:off x="4965840" y="2050920"/>
            <a:ext cx="874440" cy="92088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15"/>
          <p:cNvSpPr/>
          <p:nvPr/>
        </p:nvSpPr>
        <p:spPr>
          <a:xfrm flipH="1">
            <a:off x="5973120" y="244620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5973840" y="244620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5973840" y="237492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"/>
          <p:cNvSpPr/>
          <p:nvPr/>
        </p:nvSpPr>
        <p:spPr>
          <a:xfrm>
            <a:off x="5973840" y="2301840"/>
            <a:ext cx="718920" cy="432000"/>
          </a:xfrm>
          <a:prstGeom prst="rightArrow">
            <a:avLst>
              <a:gd name="adj1" fmla="val 50000"/>
              <a:gd name="adj2" fmla="val 4160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5973840" y="2230560"/>
            <a:ext cx="718920" cy="57600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ость прич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" descr="j0301252"/>
          <p:cNvPicPr/>
          <p:nvPr/>
        </p:nvPicPr>
        <p:blipFill>
          <a:blip r:embed="rId3"/>
          <a:stretch/>
        </p:blipFill>
        <p:spPr>
          <a:xfrm>
            <a:off x="5651640" y="371628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j0293828"/>
          <p:cNvPicPr/>
          <p:nvPr/>
        </p:nvPicPr>
        <p:blipFill>
          <a:blip r:embed="rId4"/>
          <a:stretch/>
        </p:blipFill>
        <p:spPr>
          <a:xfrm>
            <a:off x="900000" y="1798560"/>
            <a:ext cx="1744920" cy="1836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j0298897"/>
          <p:cNvPicPr/>
          <p:nvPr/>
        </p:nvPicPr>
        <p:blipFill>
          <a:blip r:embed="rId5"/>
          <a:stretch/>
        </p:blipFill>
        <p:spPr>
          <a:xfrm>
            <a:off x="2411280" y="4292640"/>
            <a:ext cx="1806840" cy="157788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nodeType="clickEffect" fill="hold">
                      <p:stCondLst>
                        <p:cond delay="indefinite"/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2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nodeType="clickEffect" fill="hold">
                      <p:stCondLst>
                        <p:cond delay="indefinite"/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0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nodeType="clickEffect" fill="hold">
                      <p:stCondLst>
                        <p:cond delay="indefinite"/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nodeType="clickEffect" fill="hold">
                      <p:stCondLst>
                        <p:cond delay="indefinite"/>
                      </p:stCondLst>
                      <p:childTnLst>
                        <p:par>
                          <p:cTn id="2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8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nodeType="clickEffect" fill="hold">
                      <p:stCondLst>
                        <p:cond delay="indefinite"/>
                      </p:stCondLst>
                      <p:childTnLst>
                        <p:par>
                          <p:cTn id="2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8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nodeType="clickEffect" fill="hold">
                      <p:stCondLst>
                        <p:cond delay="indefinite"/>
                      </p:stCondLst>
                      <p:childTnLst>
                        <p:par>
                          <p:cTn id="2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nodeType="clickEffect" fill="hold">
                      <p:stCondLst>
                        <p:cond delay="indefinite"/>
                      </p:stCondLst>
                      <p:childTnLst>
                        <p:par>
                          <p:cTn id="2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6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nodeType="clickEffect" fill="hold">
                      <p:stCondLst>
                        <p:cond delay="indefinite"/>
                      </p:stCondLst>
                      <p:childTnLst>
                        <p:par>
                          <p:cTn id="2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nodeType="clickEffect" fill="hold">
                      <p:stCondLst>
                        <p:cond delay="indefinite"/>
                      </p:stCondLst>
                      <p:childTnLst>
                        <p:par>
                          <p:cTn id="2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nodeType="clickEffect" fill="hold">
                      <p:stCondLst>
                        <p:cond delay="indefinite"/>
                      </p:stCondLst>
                      <p:childTnLst>
                        <p:par>
                          <p:cTn id="2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4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0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nodeType="clickEffect" fill="hold">
                      <p:stCondLst>
                        <p:cond delay="indefinite"/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2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nodeType="clickEffect" fill="hold">
                      <p:stCondLst>
                        <p:cond delay="indefinite"/>
                      </p:stCondLst>
                      <p:childTnLst>
                        <p:par>
                          <p:cTn id="2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4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5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0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2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3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7"/>
          <p:cNvSpPr/>
          <p:nvPr/>
        </p:nvSpPr>
        <p:spPr>
          <a:xfrm>
            <a:off x="3094200" y="1222200"/>
            <a:ext cx="57578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гносеологического оптимизма Бэкон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324000" y="6153120"/>
            <a:ext cx="57578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гносеологическому пессимизму Ю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057480" y="1727280"/>
            <a:ext cx="434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нание – с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витие науки – залог будущего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благоденствия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3055680" y="4929120"/>
            <a:ext cx="30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стоверное знание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невозможно и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ремление к нему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порой даже вре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2" descr="NPG_520_Vanderbank_after_Unknown_Bacon_Francis_10"/>
          <p:cNvPicPr/>
          <p:nvPr/>
        </p:nvPicPr>
        <p:blipFill>
          <a:blip r:embed="rId1"/>
          <a:stretch/>
        </p:blipFill>
        <p:spPr>
          <a:xfrm>
            <a:off x="358920" y="1222200"/>
            <a:ext cx="2298600" cy="288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08" name="Picture 14" descr="Рамсэй, Юм_red"/>
          <p:cNvPicPr/>
          <p:nvPr/>
        </p:nvPicPr>
        <p:blipFill>
          <a:blip r:embed="rId2"/>
          <a:stretch/>
        </p:blipFill>
        <p:spPr>
          <a:xfrm>
            <a:off x="6440400" y="3741840"/>
            <a:ext cx="2374920" cy="28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волюция британского эмпиризма 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VII-XVIII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3094200" y="2824200"/>
            <a:ext cx="2987640" cy="19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ез свед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сенсуализму (Локк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элиминаци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го предме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ки (Беркли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9" descr="Locke_red_10"/>
          <p:cNvPicPr/>
          <p:nvPr/>
        </p:nvPicPr>
        <p:blipFill>
          <a:blip r:embed="rId3"/>
          <a:stretch/>
        </p:blipFill>
        <p:spPr>
          <a:xfrm>
            <a:off x="7675560" y="1978200"/>
            <a:ext cx="1141560" cy="143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12" name="Picture 22" descr="NPG_653_Smibert_Berkeley_10"/>
          <p:cNvPicPr/>
          <p:nvPr/>
        </p:nvPicPr>
        <p:blipFill>
          <a:blip r:embed="rId4"/>
          <a:stretch/>
        </p:blipFill>
        <p:spPr>
          <a:xfrm>
            <a:off x="358920" y="4425840"/>
            <a:ext cx="1056960" cy="143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nodeType="clickEffect" fill="hold">
                      <p:stCondLst>
                        <p:cond delay="indefinite"/>
                      </p:stCondLst>
                      <p:childTnLst>
                        <p:par>
                          <p:cTn id="2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3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4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5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nodeType="clickEffect" fill="hold">
                      <p:stCondLst>
                        <p:cond delay="indefinite"/>
                      </p:stCondLst>
                      <p:childTnLst>
                        <p:par>
                          <p:cTn id="2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0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1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nodeType="clickEffect" fill="hold">
                      <p:stCondLst>
                        <p:cond delay="indefinite"/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nodeType="clickEffect" fill="hold">
                      <p:stCondLst>
                        <p:cond delay="indefinite"/>
                      </p:stCondLst>
                      <p:childTnLst>
                        <p:par>
                          <p:cTn id="2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9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0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1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nodeType="clickEffect" fill="hold">
                      <p:stCondLst>
                        <p:cond delay="indefinite"/>
                      </p:stCondLst>
                      <p:childTnLst>
                        <p:par>
                          <p:cTn id="2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6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7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8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9" dur="indefinite" restart="never" nodeType="tmRoot">
          <p:childTnLst>
            <p:seq>
              <p:cTn id="2560" dur="indefinite" nodeType="mainSeq">
                <p:childTnLst>
                  <p:par>
                    <p:cTn id="2561" nodeType="clickEffect" fill="hold">
                      <p:stCondLst>
                        <p:cond delay="0"/>
                      </p:stCondLst>
                      <p:childTnLst>
                        <p:par>
                          <p:cTn id="2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nodeType="clickEffect" fill="hold">
                      <p:stCondLst>
                        <p:cond delay="indefinite"/>
                      </p:stCondLst>
                      <p:childTnLst>
                        <p:par>
                          <p:cTn id="2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7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84120" y="1798560"/>
            <a:ext cx="83646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0840" y="1600200"/>
            <a:ext cx="83023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епосредственно не воспринимаемого «носителя» объективных чувственных качеств ве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действующей причины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абсолютной субстанции, существующей вне нашего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ида ментальных сущ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1079640" y="2878200"/>
            <a:ext cx="295092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яжён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, плот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181480" y="2878200"/>
            <a:ext cx="295128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вет, звук, вкус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пах, теп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349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в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ны с сам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ми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0371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тор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одивших их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079640" y="4246560"/>
            <a:ext cx="2950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амих те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181480" y="4246560"/>
            <a:ext cx="2951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 в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ганах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6081840" y="5218200"/>
            <a:ext cx="1214280" cy="12142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943280" y="5218200"/>
            <a:ext cx="1214280" cy="1214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ye (1-tr)"/>
          <p:cNvPicPr/>
          <p:nvPr/>
        </p:nvPicPr>
        <p:blipFill>
          <a:blip r:embed="rId2"/>
          <a:stretch/>
        </p:blipFill>
        <p:spPr>
          <a:xfrm>
            <a:off x="4605480" y="511020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ear"/>
          <p:cNvPicPr/>
          <p:nvPr/>
        </p:nvPicPr>
        <p:blipFill>
          <a:blip r:embed="rId3"/>
          <a:stretch/>
        </p:blipFill>
        <p:spPr>
          <a:xfrm>
            <a:off x="7448400" y="58294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nose (1)"/>
          <p:cNvPicPr/>
          <p:nvPr/>
        </p:nvPicPr>
        <p:blipFill>
          <a:blip r:embed="rId4"/>
          <a:stretch/>
        </p:blipFill>
        <p:spPr>
          <a:xfrm>
            <a:off x="5219640" y="5757840"/>
            <a:ext cx="66672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fingers"/>
          <p:cNvPicPr/>
          <p:nvPr/>
        </p:nvPicPr>
        <p:blipFill>
          <a:blip r:embed="rId5"/>
          <a:stretch/>
        </p:blipFill>
        <p:spPr>
          <a:xfrm>
            <a:off x="7448400" y="5073480"/>
            <a:ext cx="1162080" cy="6764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4929120" y="4192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475080" y="4192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2050920" y="3346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х орган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749840" y="3346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х орган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949320" y="2446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088040" y="2446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704880" y="4605480"/>
            <a:ext cx="277164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этом случа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м, в сущ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ы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че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64240" y="4605480"/>
            <a:ext cx="277164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этом случае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не восприним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о н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зн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1870200" y="2050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ак называемы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вичные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качества: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ротяжённость, форма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лотность, подвижност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7"/>
          <p:cNvSpPr/>
          <p:nvPr/>
        </p:nvSpPr>
        <p:spPr>
          <a:xfrm>
            <a:off x="2409840" y="2097000"/>
            <a:ext cx="4317840" cy="43182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2409840" y="2097000"/>
            <a:ext cx="4317840" cy="43182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2446200" y="3201840"/>
            <a:ext cx="3167280" cy="316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 rot="21540000">
            <a:off x="3076200" y="2120760"/>
            <a:ext cx="2987640" cy="100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 rot="180000">
            <a:off x="5697360" y="2712600"/>
            <a:ext cx="971640" cy="30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2338560" y="3994200"/>
            <a:ext cx="2286000" cy="228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3454560" y="2014560"/>
            <a:ext cx="2286000" cy="228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4624560" y="399420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719280" y="2158920"/>
            <a:ext cx="2879640" cy="162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576760" y="2158920"/>
            <a:ext cx="2880000" cy="162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5684760" y="26622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798560" y="431784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548400" y="2733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417840" y="467820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7413480" y="28065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5037120" y="503712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 rot="20100000">
            <a:off x="3419280" y="3824280"/>
            <a:ext cx="2519280" cy="108000"/>
          </a:xfrm>
          <a:prstGeom prst="rightArrow">
            <a:avLst>
              <a:gd name="adj1" fmla="val 50000"/>
              <a:gd name="adj2" fmla="val 58316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 rot="19200000">
            <a:off x="4939920" y="4068360"/>
            <a:ext cx="2050920" cy="108000"/>
          </a:xfrm>
          <a:prstGeom prst="rightArrow">
            <a:avLst>
              <a:gd name="adj1" fmla="val 50000"/>
              <a:gd name="adj2" fmla="val 474750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 rot="18120000">
            <a:off x="6341760" y="4295160"/>
            <a:ext cx="1800360" cy="108000"/>
          </a:xfrm>
          <a:prstGeom prst="rightArrow">
            <a:avLst>
              <a:gd name="adj1" fmla="val 50000"/>
              <a:gd name="adj2" fmla="val 416750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 rot="2520000">
            <a:off x="934560" y="3957480"/>
            <a:ext cx="1187640" cy="216000"/>
          </a:xfrm>
          <a:prstGeom prst="rightArrow">
            <a:avLst>
              <a:gd name="adj1" fmla="val 50000"/>
              <a:gd name="adj2" fmla="val 137458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5"/>
          <p:cNvSpPr/>
          <p:nvPr/>
        </p:nvSpPr>
        <p:spPr>
          <a:xfrm rot="2520000">
            <a:off x="2077920" y="4138560"/>
            <a:ext cx="1727280" cy="216000"/>
          </a:xfrm>
          <a:prstGeom prst="rightArrow">
            <a:avLst>
              <a:gd name="adj1" fmla="val 50000"/>
              <a:gd name="adj2" fmla="val 199917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 rot="2520000">
            <a:off x="3130560" y="4317480"/>
            <a:ext cx="2411280" cy="216000"/>
          </a:xfrm>
          <a:prstGeom prst="rightArrow">
            <a:avLst>
              <a:gd name="adj1" fmla="val 50000"/>
              <a:gd name="adj2" fmla="val 279083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19280" y="5937120"/>
            <a:ext cx="2879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чка зрения Лок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3:42Z</dcterms:created>
  <dc:creator>Николай Бирюков / Nikolai Biryukov</dc:creator>
  <dc:description>Редакция марта 2009 г.</dc:description>
  <dc:language>en-US</dc:language>
  <cp:lastModifiedBy>LEGION</cp:lastModifiedBy>
  <dcterms:modified xsi:type="dcterms:W3CDTF">2014-11-11T09:56:10Z</dcterms:modified>
  <cp:revision>109</cp:revision>
  <dc:subject>Основы философии - Тема 13</dc:subject>
  <dc:title>Беркли и Юм: субъективный идеализм</dc:title>
</cp:coreProperties>
</file>