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B780-1D51-4A02-8029-A76D6FA9F2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товская область                                               г. Балаково                                              МОУ СОШ № 16                                                                         Солонина Елена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3439-C33E-4C27-AA6F-BCAC06FDE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итамин E (токоферола ацета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выявили роль витамина Е в репродуктивном процессе в 1920 г. У белой крысы, обычно очень плодовитой, было отмечено прекращение размножения при длительной молочной диете (снятое молоко) с развитием авитаминоза Е. При дальнейших исследованиях выявилось, что роль витамина Е не ограничивается только контролем за репродуктивной функцией. Витамин Е также улучшает циркуляцию крови, необходим для регенерации тканей. Он обеспечивает нормальную свертываемость крови и заживление; снижает возможность образования шрамов от некоторых ран; снижает кровяное давление; способствует предупреждению катаракт; улучшает атлетические достижения; снимает судороги ног; поддерживает здоровье нервов и мускулов; укрепляя стенки капилляров; предотвращает анем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масла, печень, молоко, овсян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CDB8-74E6-4713-AA66-786115A49F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тамин К (синтетический фитоменадио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К является жирорастворимым витамином, запасаемым в небольших количествах в печени, он разрушается на свету и в щелочных растворах. Впервые было высказано предположение о наличии фактора, влияющего на свертываемость крови, в 1929 г. Датский биохимик Хенрик Дам (Henrik Dam) выделил жирорастворимый витамин, который в 1935 г. назвали витамином К (koagulations vitamin) из-за его роли в свертываемости крови. За эту работу ему в 1943 г. была присуждена Нобелевская пре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К также играет важню роль в формировании и восстановлении костей, обеспечивает синтез остеокальцина - белка костной ткани, на котором кристаллизуется кальций. Он способствует предупреждению остеопороза, участвует в регуляции окислительно-восстановительных процессов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C322-C148-46CB-9931-381DDFBBCC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итамины были открыты на рубеже 19-20 веков в результате исследований роли различных пищевых веществ в жизнедеятельности организма. Основоположником витаминологии можно считать русского ученого Н.И.Лунина, который в 1880 году первым доказал, что помимо белков, жиров, углеводов, воды и минеральных веществ необходимы еще какие-то вещества, без которых организм не может существовать. Эти вещества были названы витаминами (vita + amin - "амины жизни" в дословном переводе с латинского), так как первые выделенные в чистом виде витамины содержали в своем составе аминогруппу. И хотя в дальнейшем выяснилось, что далеко не все витаминные вещества содержат в своем составе аминогруппу и вообщ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зот, термин "витамин" укоренился в наук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D418-2E31-4A6C-B85E-00EB4DF3C7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гласно классическому определению, витамины - это необходимые для нормальной жизнедеятельности низкомолекулярные органические вещества, которые не синтезируются организмом данного вида или синтезируются в количестве, недостаточном для обеспечения жизнедеятельности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итамины необходимы для нормального протекания практически всех биохимических процессов в нашем организме. Они обеспечивают функции желез внутренней секреции, то есть выработку гормонов, повышение умственной и физической работоспособности, поддерживают устойчивость организма к воздействию неблагоприятных факторов внешней среды (жара, холод, инфекции, интоксикации)... Этот список далеко не полон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55BF-3F70-442C-9563-4ABD518D28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итамин C (аскорбиновая кислота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тамин C, или аскорбиновая кислота, относится к водорастворимым витаминам. Всасывание аскорбиновой кислоты происходит на всем протяжении желудочно-кишечного тракта, но большей частью - в тонком кишечнике, путем простой диффузии. В крови и в тканях аскорбиновая кислота находится как в свободном виде, так и в связанном с белкам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046F-EF3F-49D7-9B3A-E12BD8F31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оль витамина С в организме челове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скорбиновая кислота участвует в процессах превращения ароматических аминокислот, в процессах кроветворения и в образовании коллагена - основного внеклеточного компонента соединительной тк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достаточность витамина C вызывает цингу - заболевание, приводящее к нарушениям образования коллагена и ряда других компонент соединительных тканей, к постепенному их разрушению. Внешне цинга проявляется такими симптомами, как расшатывание и выпадение зубов, кровоточивость десен, отеки и боли в суставах, бледность кожных покровов, кровоизлияния, плохое заживление ран, различные поражения к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ой источник витамина C для человека - свежие овощи, фрукты, ягоды. Особенно богаты им плоды шиповника. Лекарственные препараты, содержащие аскорбиновую кислоту, применяют для лечения гиповитаминозов, при нарушениях и для стимуляции процессов кроветворения (совместно с фолиевой кислотой, витамином B12 и железом), для укрепления капилляров, стимуляции процессов регенерации тканей, при острых заболеваниях дыхательных путей и при ряде друг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C9CC-56CE-482A-BFD1-03EC859149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ь витамина 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А выполняет в организме следующие фун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нормальный рост и дифференциацию клеток развивающегося организма (эмбриона, ребен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процессы деления и дифференциации клеток, быстро обновляющихся тканей - хрящей и костной ткани, сперматогенного эпителия и плаценты, эпителия кожи и слизист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фотохимический процесс акта з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7E12-27AE-463A-ADCD-1578DD7B50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достаток витамина А приводит к следующим последствия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ушение темновой адаптации, ночная слепота (то есть резкое ухудшение зрения в сумерках и в темноте, очень долгое "привыкание" глаз к снижению освещенности) - эти последствия нехватки витамина А проявляются в первую очеред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ержка роста в молодом возрас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лликулярный гиперкератоз (избыточное ороговение кожи, вызванное задержкой смены эпител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хость слизистых (также вследствие замедленного обновления эпител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серофтальмия (сухость конъюнктивы глаза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мутнение и размягчение роговицы глаза (кератомаляц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ушение функции размножения (оплодотворяющей активности сперматозоидов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DB2F-83A5-4FEA-B1E7-712DFDCBD4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в свою группу восемь витами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1 (тиам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2 (рибофлав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3 (ниац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5 (пантотеновая кисло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6 (пиридокс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7 (биот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12 (цианкобалам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лиевая кисл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В восстанавливает энергию,  помогает бороться с лишним весом, улучшает работу сердечной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ится в печени, почках, мясе и мол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1B25-FBB1-42E8-ACD2-D2F8B3BA24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Р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EAB7-ED24-40B6-A9A1-EDD543624D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6D7E-5BF2-4F90-B40F-9B89562B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5DBA-0B5F-4AB7-8901-25E742ED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5D35-7A02-48DD-AC56-2C29774D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14D2-4D23-4FA6-A92A-700D0C35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5637-6887-42E0-9BFB-A79052F9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D6D6-719B-487F-ACCD-10431D49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468C-A227-4F57-9B97-57EF1768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2162-2F08-4B1F-A05E-FBFC3362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3D45-13DB-46D4-8205-6585A2C3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B2B6-EE6A-4310-A12D-14625214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6499-AB45-43E3-915F-D8422B66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4475-D9E0-40C7-85F8-D4E95732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2E76-F46C-4BF7-A4C3-C15925BA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2C30-7259-4677-AB01-CB887E8A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12C7-7E7A-40E0-891F-41D529B5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D609-336D-4DDE-AFCD-FA76E63A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026B-E6F3-434E-83F6-F93BD215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4A81-9100-45B2-9A3D-5FAFED2B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28D9-8AE6-4A17-9FEA-0593A24F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16C3-294D-492E-B6D0-4408E08F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87D4-FB1B-42AC-AE22-906EB7B4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CACC-4199-4FE7-8F80-75E4FDB7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4F0A-853A-4A8F-889E-D17B0152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1052-1142-46B7-82CB-B4102103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E526-8652-4781-8BB5-3EBC669D65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A38D-B1E4-4473-8EF0-535544201A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22160" y="2857320"/>
            <a:ext cx="77724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071440" y="0"/>
            <a:ext cx="485748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ратовская область                                               г. Балаково                                              МОУ СОШ № 16                                                                         Солонина Еле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7000920" y="28584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784160" cy="1800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"/>
          <p:cNvPicPr/>
          <p:nvPr/>
        </p:nvPicPr>
        <p:blipFill>
          <a:blip r:embed="rId3"/>
          <a:stretch/>
        </p:blipFill>
        <p:spPr>
          <a:xfrm>
            <a:off x="1403280" y="4292640"/>
            <a:ext cx="2649600" cy="2016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1" descr=""/>
          <p:cNvPicPr/>
          <p:nvPr/>
        </p:nvPicPr>
        <p:blipFill>
          <a:blip r:embed="rId4"/>
          <a:stretch/>
        </p:blipFill>
        <p:spPr>
          <a:xfrm>
            <a:off x="5003640" y="4508640"/>
            <a:ext cx="2808360" cy="1590480"/>
          </a:xfrm>
          <a:prstGeom prst="rect">
            <a:avLst/>
          </a:prstGeom>
          <a:ln w="0">
            <a:noFill/>
          </a:ln>
        </p:spPr>
      </p:pic>
      <p:sp>
        <p:nvSpPr>
          <p:cNvPr id="5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тамин E (токоферола ацет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79280" y="1599840"/>
            <a:ext cx="670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выявили роль витамина Е в репродуктивном процессе в 1920 г. У белой крысы, обычно очень плодовитой, было отмечено прекращение размножения при длительной молочной диете (снятое молоко) с развитием авитаминоза Е. При дальнейших исследованиях выявилось, что роль витамина Е не ограничивается только контролем за репродуктивной функцией. Витамин Е также улучшает циркуляцию крови, необходим для регенерации тканей. Он обеспечивает нормальную свертываемость крови и заживление; снижает возможность образования шрамов от некоторых ран; снижает кровяное давление; способствует предупреждению катаракт; улучшает атлетические достижения; снимает судороги ног; поддерживает здоровье нервов и мускулов; укрепляя стенки капилляров; предотвращает анем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чник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ительные масла, печень, молоко, овся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0" descr=""/>
          <p:cNvPicPr/>
          <p:nvPr/>
        </p:nvPicPr>
        <p:blipFill>
          <a:blip r:embed="rId2"/>
          <a:stretch/>
        </p:blipFill>
        <p:spPr>
          <a:xfrm>
            <a:off x="324000" y="1936800"/>
            <a:ext cx="1511280" cy="1347840"/>
          </a:xfrm>
          <a:prstGeom prst="rect">
            <a:avLst/>
          </a:prstGeom>
          <a:ln w="0">
            <a:noFill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8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тамин К (синтетический фитоменади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К является жирорастворимым витамином, запасаемым в небольших количествах в печени, он разрушается на свету и в щелочных растворах. Впервые было высказано предположение о наличии фактора, влияющего на свертываемость крови, в 1929 г. Датский биохимик Хенрик Дам (Henrik Dam) выделил жирорастворимый витамин, который в 1935 г. назвали витамином К (koagulations vitamin) из-за его роли в свертываемости крови. За эту работу ему в 1943 г. была присуждена Нобелевская прем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К также играет важню роль в формировании и восстановлении костей, обеспечивает синтез остеокальцина - белка костной ткани, на котором кристаллизуется кальций. Он способствует предупреждению остеопороза, участвует в регуляции окислительно-восстановительных процессов в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1" descr=""/>
          <p:cNvPicPr/>
          <p:nvPr/>
        </p:nvPicPr>
        <p:blipFill>
          <a:blip r:embed="rId1"/>
          <a:stretch/>
        </p:blipFill>
        <p:spPr>
          <a:xfrm>
            <a:off x="363600" y="1700280"/>
            <a:ext cx="1369800" cy="15145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2" descr=""/>
          <p:cNvPicPr/>
          <p:nvPr/>
        </p:nvPicPr>
        <p:blipFill>
          <a:blip r:embed="rId2"/>
          <a:stretch/>
        </p:blipFill>
        <p:spPr>
          <a:xfrm>
            <a:off x="404640" y="3789360"/>
            <a:ext cx="1214640" cy="1481040"/>
          </a:xfrm>
          <a:prstGeom prst="rect">
            <a:avLst/>
          </a:prstGeom>
          <a:ln w="0">
            <a:noFill/>
          </a:ln>
        </p:spPr>
      </p:pic>
      <p:sp>
        <p:nvSpPr>
          <p:cNvPr id="57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5870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амины были открыты на рубеже 19-20 веков в результате исследований роли различных пищевых веществ в жизнедеятельности организма. Основоположником витаминологии можно считать русского ученого Н.И.Лунина, который в 1880 году первым доказал, что помимо белков, жиров, углеводов, воды и минеральных веществ необходимы еще какие-то вещества, без которых организм не может существовать. Эти вещества были названы витаминами (vita + amin - "амины жизни" в дословном переводе с латинского), так как первые выделенные в чистом виде витамины содержали в своем составе аминогруппу. И хотя в дальнейшем выяснилось, что далеко не все витаминные вещества содержат в своем составе аминогруппу и вообщ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зот, термин "витамин" укоренился в наук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6372360" y="1700280"/>
            <a:ext cx="2592360" cy="1942920"/>
          </a:xfrm>
          <a:prstGeom prst="rect">
            <a:avLst/>
          </a:prstGeom>
          <a:ln w="0">
            <a:noFill/>
          </a:ln>
        </p:spPr>
      </p:pic>
      <p:sp>
        <p:nvSpPr>
          <p:cNvPr id="53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590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гласно классическому определению, витамины - это необходимые для нормальной жизнедеятельности низкомолекулярные органические вещества, которые не синтезируются организмом данного вида или синтезируются в количестве, недостаточном для обеспечения жизнедеятельност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амины необходимы для нормального протекания практически всех биохимических процессов в нашем организме. Они обеспечивают функции желез внутренней секреции, то есть выработку гормонов, повышение умственной и физической работоспособности, поддерживают устойчивость организма к воздействию неблагоприятных факторов внешней среды (жара, холод, инфекции, интоксикации)... Этот список далеко не полон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0" descr="D:\мама\картинки\еда\j0182665.jpg"/>
          <p:cNvPicPr/>
          <p:nvPr/>
        </p:nvPicPr>
        <p:blipFill>
          <a:blip r:embed="rId1"/>
          <a:stretch/>
        </p:blipFill>
        <p:spPr>
          <a:xfrm>
            <a:off x="5929200" y="2714760"/>
            <a:ext cx="3027600" cy="2643120"/>
          </a:xfrm>
          <a:prstGeom prst="rect">
            <a:avLst/>
          </a:prstGeom>
          <a:ln w="0">
            <a:noFill/>
          </a:ln>
        </p:spPr>
      </p:pic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итамин C (аскорбиновая кислота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7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1905120" cy="15145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тамин C, или аскорбиновая кислота, относится к водорастворимым витаминам. Всасывание аскорбиновой кислоты происходит на всем протяжении желудочно-кишечного тракта, но большей частью - в тонком кишечнике, путем простой диффузии. В крови и в тканях аскорбиновая кислота находится как в свободном виде, так и в связанном с белк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0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2016000" cy="133992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8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оль витамина С в организме чело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6337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скорбиновая кислота участвует в процессах превращения ароматических аминокислот, в процессах кроветворения и в образовании коллагена - основного внеклеточного компонента соединительной тк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достаточность витамина C вызывает цингу - заболевание, приводящее к нарушениям образования коллагена и ряда других компонент соединительных тканей, к постепенному их разрушению. Внешне цинга проявляется такими симптомами, как расшатывание и выпадение зубов, кровоточивость десен, отеки и боли в суставах, бледность кожных покровов, кровоизлияния, плохое заживление ран, различные поражения к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новной источник витамина C для человека - свежие овощи, фрукты, ягоды. Особенно богаты им плоды шиповника. Лекарственные препараты, содержащие аскорбиновую кислоту, применяют для лечения гиповитаминозов, при нарушениях и для стимуляции процессов кроветворения (совместно с фолиевой кислотой, витамином B12 и железом), для укрепления капилляров, стимуляции процессов регенерации тканей, при острых заболеваниях дыхательных путей и при ряде других заболе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D:\мама\картинки\еда\0031.jpg"/>
          <p:cNvPicPr/>
          <p:nvPr/>
        </p:nvPicPr>
        <p:blipFill>
          <a:blip r:embed="rId1"/>
          <a:stretch/>
        </p:blipFill>
        <p:spPr>
          <a:xfrm>
            <a:off x="6359400" y="2214720"/>
            <a:ext cx="2427480" cy="3429000"/>
          </a:xfrm>
          <a:prstGeom prst="rect">
            <a:avLst/>
          </a:prstGeom>
          <a:ln w="0">
            <a:noFill/>
          </a:ln>
        </p:spPr>
      </p:pic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14440" y="42840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ль витамина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785760" y="1357200"/>
            <a:ext cx="5072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А выполняет в организме следующ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 нормальный рост и дифференциацию клеток развивающегося организма (эмбриона, ребен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 процессы деления и дифференциации клеток, быстро обновляющихся тканей - хрящей и костной ткани, сперматогенного эпителия и плаценты, эпителия кожи и слизист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фотохимический процесс акта з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8" descr="D:\мама\картинки\еда\j0177963.jpg"/>
          <p:cNvPicPr/>
          <p:nvPr/>
        </p:nvPicPr>
        <p:blipFill>
          <a:blip r:embed="rId4"/>
          <a:stretch/>
        </p:blipFill>
        <p:spPr>
          <a:xfrm>
            <a:off x="285840" y="3357720"/>
            <a:ext cx="2857320" cy="292896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 txBox="1"/>
          <p:nvPr/>
        </p:nvSpPr>
        <p:spPr>
          <a:xfrm>
            <a:off x="714240" y="1285560"/>
            <a:ext cx="1857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9" descr="D:\мама\картинки\еда\j0202062.jpg"/>
          <p:cNvPicPr/>
          <p:nvPr/>
        </p:nvPicPr>
        <p:blipFill>
          <a:blip r:embed="rId6"/>
          <a:stretch/>
        </p:blipFill>
        <p:spPr>
          <a:xfrm>
            <a:off x="285840" y="357120"/>
            <a:ext cx="2857320" cy="2714760"/>
          </a:xfrm>
          <a:prstGeom prst="rect">
            <a:avLst/>
          </a:prstGeom>
          <a:ln w="0">
            <a:noFill/>
          </a:ln>
        </p:spPr>
      </p:pic>
      <p:sp>
        <p:nvSpPr>
          <p:cNvPr id="5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ок витамина А приводит к следующим последствия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7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4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рушение темновой адаптации, ночная слепота (то есть резкое ухудшение зрения в сумерках и в темноте, очень долгое "привыкание" глаз к снижению освещенности) - эти последствия нехватки витамина А проявляются в первую очередь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задержка роста в молодом возраст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олликулярный гиперкератоз (избыточное ороговение кожи, вызванное задержкой смены эпител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ухость слизистых (также вследствие замедленного обновления эпител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серофтальмия (сухость конъюнктивы глаз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мутнение и размягчение роговицы глаза (кератомаляц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рушение функции размножения (оплодотворяющей активности сперматозоидов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1" descr="D:\мама\картинки\еда\j0289726.jpg"/>
          <p:cNvPicPr/>
          <p:nvPr/>
        </p:nvPicPr>
        <p:blipFill>
          <a:blip r:embed="rId2"/>
          <a:stretch/>
        </p:blipFill>
        <p:spPr>
          <a:xfrm>
            <a:off x="285840" y="3857760"/>
            <a:ext cx="2011320" cy="25002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57440" y="213840"/>
            <a:ext cx="450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0" y="11430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в свою группу восемь витами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1 (тиам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2 (рибофлав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3 (ниац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5 (пантотеновая кисло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6 (пиридокс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7 (биот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12 (цианкобалам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лиевая кис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мин В восстанавливает энергию,  помогает бороться с лишним весом, улучшает работу сердечной мыш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ся в печени, почках, мясе и мол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D:\мама\картинки\еда\indeyka.jpg"/>
          <p:cNvPicPr/>
          <p:nvPr/>
        </p:nvPicPr>
        <p:blipFill>
          <a:blip r:embed="rId12"/>
          <a:stretch/>
        </p:blipFill>
        <p:spPr>
          <a:xfrm>
            <a:off x="357120" y="1214280"/>
            <a:ext cx="3143160" cy="25164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D:\мама\картинки\еда\j0177957.jpg"/>
          <p:cNvPicPr/>
          <p:nvPr/>
        </p:nvPicPr>
        <p:blipFill>
          <a:blip r:embed="rId13"/>
          <a:stretch/>
        </p:blipFill>
        <p:spPr>
          <a:xfrm>
            <a:off x="333360" y="3929040"/>
            <a:ext cx="3238560" cy="2108160"/>
          </a:xfrm>
          <a:prstGeom prst="rect">
            <a:avLst/>
          </a:prstGeom>
          <a:ln w="0">
            <a:noFill/>
          </a:ln>
        </p:spPr>
      </p:pic>
      <p:sp>
        <p:nvSpPr>
          <p:cNvPr id="560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74437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 РР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Содержимое 6" descr="j0177956.jpg"/>
          <p:cNvPicPr/>
          <p:nvPr/>
        </p:nvPicPr>
        <p:blipFill>
          <a:blip r:embed="rId1"/>
          <a:stretch/>
        </p:blipFill>
        <p:spPr>
          <a:xfrm>
            <a:off x="1643040" y="2214720"/>
            <a:ext cx="6357960" cy="4357440"/>
          </a:xfrm>
          <a:prstGeom prst="rect">
            <a:avLst/>
          </a:prstGeom>
          <a:ln w="0">
            <a:noFill/>
          </a:ln>
        </p:spPr>
      </p:pic>
      <p:pic>
        <p:nvPicPr>
          <p:cNvPr id="563" name="Содержимое 3" descr=""/>
          <p:cNvPicPr/>
          <p:nvPr/>
        </p:nvPicPr>
        <p:blipFill>
          <a:blip r:embed="rId2"/>
          <a:stretch/>
        </p:blipFill>
        <p:spPr>
          <a:xfrm>
            <a:off x="420840" y="4425840"/>
            <a:ext cx="4054320" cy="1895760"/>
          </a:xfrm>
          <a:prstGeom prst="rect">
            <a:avLst/>
          </a:prstGeom>
          <a:ln w="0">
            <a:noFill/>
          </a:ln>
        </p:spPr>
      </p:pic>
      <p:pic>
        <p:nvPicPr>
          <p:cNvPr id="564" name="Текст 4" descr=""/>
          <p:cNvPicPr/>
          <p:nvPr/>
        </p:nvPicPr>
        <p:blipFill>
          <a:blip r:embed="rId3"/>
          <a:stretch/>
        </p:blipFill>
        <p:spPr>
          <a:xfrm>
            <a:off x="719280" y="1146240"/>
            <a:ext cx="7759440" cy="10173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"/>
          <p:cNvPicPr/>
          <p:nvPr/>
        </p:nvPicPr>
        <p:blipFill>
          <a:blip r:embed="rId4"/>
          <a:stretch/>
        </p:blipFill>
        <p:spPr>
          <a:xfrm>
            <a:off x="6877080" y="2637000"/>
            <a:ext cx="1809720" cy="1912680"/>
          </a:xfrm>
          <a:prstGeom prst="rect">
            <a:avLst/>
          </a:prstGeom>
          <a:ln w="0">
            <a:noFill/>
          </a:ln>
        </p:spPr>
      </p:pic>
      <p:sp>
        <p:nvSpPr>
          <p:cNvPr id="566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7:01:34Z</dcterms:created>
  <dc:creator>Zver</dc:creator>
  <dc:description/>
  <dc:language>en-US</dc:language>
  <cp:lastModifiedBy>LEGION</cp:lastModifiedBy>
  <dcterms:modified xsi:type="dcterms:W3CDTF">2015-05-12T08:09:55Z</dcterms:modified>
  <cp:revision>20</cp:revision>
  <dc:subject/>
  <dc:title>Витамин 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16000000000001024140</vt:lpwstr>
  </property>
</Properties>
</file>