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6C06-49B3-4545-AB5C-820F26FDE5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товская область                                               г. Балаково                                              МОУ СОШ № 16                                                                         Солонина Елена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3860-32F3-41C6-9C4F-077F2A7081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итамин E (токоферола ацета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выявили роль витамина Е в репродуктивном процессе в 1920 г. У белой крысы, обычно очень плодовитой, было отмечено прекращение размножения при длительной молочной диете (снятое молоко) с развитием авитаминоза Е. При дальнейших исследованиях выявилось, что роль витамина Е не ограничивается только контролем за репродуктивной функцией. Витамин Е также улучшает циркуляцию крови, необходим для регенерации тканей. Он обеспечивает нормальную свертываемость крови и заживление; снижает возможность образования шрамов от некоторых ран; снижает кровяное давление; способствует предупреждению катаракт; улучшает атлетические достижения; снимает судороги ног; поддерживает здоровье нервов и мускулов; укрепляя стенки капилляров; предотвращает анем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масла, печень, молоко, овсян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D23F-FC07-4550-A6E2-D73B6D125F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тамин К (синтетический фитоменадион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К является жирорастворимым витамином, запасаемым в небольших количествах в печени, он разрушается на свету и в щелочных растворах. Впервые было высказано предположение о наличии фактора, влияющего на свертываемость крови, в 1929 г. Датский биохимик Хенрик Дам (Henrik Dam) выделил жирорастворимый витамин, который в 1935 г. назвали витамином К (koagulations vitamin) из-за его роли в свертываемости крови. За эту работу ему в 1943 г. была присуждена Нобелевская пре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К также играет важню роль в формировании и восстановлении костей, обеспечивает синтез остеокальцина - белка костной ткани, на котором кристаллизуется кальций. Он способствует предупреждению остеопороза, участвует в регуляции окислительно-восстановительных процессов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CB6E-4AE7-4D34-8F1B-B140985061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итамины были открыты на рубеже 19-20 веков в результате исследований роли различных пищевых веществ в жизнедеятельности организма. Основоположником витаминологии можно считать русского ученого Н.И.Лунина, который в 1880 году первым доказал, что помимо белков, жиров, углеводов, воды и минеральных веществ необходимы еще какие-то вещества, без которых организм не может существовать. Эти вещества были названы витаминами (vita + amin - "амины жизни" в дословном переводе с латинского), так как первые выделенные в чистом виде витамины содержали в своем составе аминогруппу. И хотя в дальнейшем выяснилось, что далеко не все витаминные вещества содержат в своем составе аминогруппу и вообщ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зот, термин "витамин" укоренился в наук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CC95-01EB-4F64-A268-28B8B9BB22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гласно классическому определению, витамины - это необходимые для нормальной жизнедеятельности низкомолекулярные органические вещества, которые не синтезируются организмом данного вида или синтезируются в количестве, недостаточном для обеспечения жизнедеятельности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итамины необходимы для нормального протекания практически всех биохимических процессов в нашем организме. Они обеспечивают функции желез внутренней секреции, то есть выработку гормонов, повышение умственной и физической работоспособности, поддерживают устойчивость организма к воздействию неблагоприятных факторов внешней среды (жара, холод, инфекции, интоксикации)... Этот список далеко не полон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B048-618A-4351-86DE-D8D697D52A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итамин C (аскорбиновая кислота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тамин C, или аскорбиновая кислота, относится к водорастворимым витаминам. Всасывание аскорбиновой кислоты происходит на всем протяжении желудочно-кишечного тракта, но большей частью - в тонком кишечнике, путем простой диффузии. В крови и в тканях аскорбиновая кислота находится как в свободном виде, так и в связанном с белкам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A7F9-2584-4F96-A3A4-F341C539C9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оль витамина С в организме челове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скорбиновая кислота участвует в процессах превращения ароматических аминокислот, в процессах кроветворения и в образовании коллагена - основного внеклеточного компонента соединительной тк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достаточность витамина C вызывает цингу - заболевание, приводящее к нарушениям образования коллагена и ряда других компонент соединительных тканей, к постепенному их разрушению. Внешне цинга проявляется такими симптомами, как расшатывание и выпадение зубов, кровоточивость десен, отеки и боли в суставах, бледность кожных покровов, кровоизлияния, плохое заживление ран, различные поражения к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ой источник витамина C для человека - свежие овощи, фрукты, ягоды. Особенно богаты им плоды шиповника. Лекарственные препараты, содержащие аскорбиновую кислоту, применяют для лечения гиповитаминозов, при нарушениях и для стимуляции процессов кроветворения (совместно с фолиевой кислотой, витамином B12 и железом), для укрепления капилляров, стимуляции процессов регенерации тканей, при острых заболеваниях дыхательных путей и при ряде друг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C6AE-D664-4571-A8CA-45C6F25936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ь витамина 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А выполняет в организме следующие фун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нормальный рост и дифференциацию клеток развивающегося организма (эмбриона, ребен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процессы деления и дифференциации клеток, быстро обновляющихся тканей - хрящей и костной ткани, сперматогенного эпителия и плаценты, эпителия кожи и слизист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фотохимический процесс акта з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A19A-96EE-44A7-94EB-83E5A9AA9E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достаток витамина А приводит к следующим последствия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рушение темновой адаптации, ночная слепота (то есть резкое ухудшение зрения в сумерках и в темноте, очень долгое "привыкание" глаз к снижению освещенности) - эти последствия нехватки витамина А проявляются в первую очеред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ержка роста в молодом возраст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лликулярный гиперкератоз (избыточное ороговение кожи, вызванное задержкой смены эпителия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хость слизистых (также вследствие замедленного обновления эпителия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серофтальмия (сухость конъюнктивы глаза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мутнение и размягчение роговицы глаза (кератомаляция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рушение функции размножения (оплодотворяющей активности сперматозоидов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DE0C-2027-45D0-8CD8-7670F44AB9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в свою группу восемь витами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1 (тиам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2 (рибофлав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3 (ниац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5 (пантотеновая кисло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6 (пиридокс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7 (биот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12 (цианкобалам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лиевая кисл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В восстанавливает энергию,  помогает бороться с лишним весом, улучшает работу сердечной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ится в печени, почках, мясе и мол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7902-79AE-419F-8F4A-7798A03085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Р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F9D0-DD17-4107-AC6F-685E3F0B9F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2330-3C31-489B-8111-8DE0B580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EAFC6-AD6F-41B1-A9DE-B00C86D1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93F5-E08B-4EE6-AAD7-F7E2503C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CE9F0-1D42-4FEB-8AFD-54E0F6EE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6A65-71FC-4E9B-B888-4284E888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BCC8-CBFC-4F8B-B949-CA7435FF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2735-2D9E-42EB-B58F-5883B1BB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37DD-F410-4A42-91D7-B94BF2BD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7E7B-3D01-4211-95AE-7136F6F8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9357-E97D-40BA-935C-EF4E6C66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68F1-4410-4ACC-BCDD-CF2812EB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6D94-CE03-4DC4-92AA-7DA90068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004C-49FF-45FA-BB77-F3A83635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13BB-15F9-453F-9A31-3B8401D4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C76A-F73E-4728-8553-BF098D3D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D83D-55E6-454E-A800-F8CE7B94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0A9B-677F-4311-A102-1623D6C8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E061D-57A3-476D-9D4F-159CEDAF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04A8-FCE9-4DEC-8B2B-62DBC889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4700-BF3D-4810-A8B8-F4AD6F5B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9D11-6283-4EBD-A448-53EA434D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F77EE-1306-45D5-8082-99C4D3B0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ED87-F8C4-4D65-ADEA-F08E970F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2C093-905D-4FB4-8D24-847B5866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D9D7-7FC0-4194-A306-11BFAE8AD9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23DA-4E0F-44F0-A00D-3C7FCEC707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22160" y="2857320"/>
            <a:ext cx="77724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071440" y="0"/>
            <a:ext cx="485748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ратовская область                                               г. Балаково                                              МОУ СОШ № 16                                                                         Солонина Еле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7" descr=""/>
          <p:cNvPicPr/>
          <p:nvPr/>
        </p:nvPicPr>
        <p:blipFill>
          <a:blip r:embed="rId1"/>
          <a:stretch/>
        </p:blipFill>
        <p:spPr>
          <a:xfrm>
            <a:off x="7000920" y="28584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784160" cy="1800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0" descr=""/>
          <p:cNvPicPr/>
          <p:nvPr/>
        </p:nvPicPr>
        <p:blipFill>
          <a:blip r:embed="rId3"/>
          <a:stretch/>
        </p:blipFill>
        <p:spPr>
          <a:xfrm>
            <a:off x="1403280" y="4292640"/>
            <a:ext cx="2649600" cy="2016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1" descr=""/>
          <p:cNvPicPr/>
          <p:nvPr/>
        </p:nvPicPr>
        <p:blipFill>
          <a:blip r:embed="rId4"/>
          <a:stretch/>
        </p:blipFill>
        <p:spPr>
          <a:xfrm>
            <a:off x="5003640" y="4508640"/>
            <a:ext cx="2808360" cy="1590480"/>
          </a:xfrm>
          <a:prstGeom prst="rect">
            <a:avLst/>
          </a:prstGeom>
          <a:ln w="0">
            <a:noFill/>
          </a:ln>
        </p:spPr>
      </p:pic>
      <p:sp>
        <p:nvSpPr>
          <p:cNvPr id="5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тамин E (токоферола ацета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8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1368360" cy="133848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79280" y="1599840"/>
            <a:ext cx="6707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выявили роль витамина Е в репродуктивном процессе в 1920 г. У белой крысы, обычно очень плодовитой, было отмечено прекращение размножения при длительной молочной диете (снятое молоко) с развитием авитаминоза Е. При дальнейших исследованиях выявилось, что роль витамина Е не ограничивается только контролем за репродуктивной функцией. Витамин Е также улучшает циркуляцию крови, необходим для регенерации тканей. Он обеспечивает нормальную свертываемость крови и заживление; снижает возможность образования шрамов от некоторых ран; снижает кровяное давление; способствует предупреждению катаракт; улучшает атлетические достижения; снимает судороги ног; поддерживает здоровье нервов и мускулов; укрепляя стенки капилляров; предотвращает анеми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чник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ительные масла, печень, молоко, овся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0" descr=""/>
          <p:cNvPicPr/>
          <p:nvPr/>
        </p:nvPicPr>
        <p:blipFill>
          <a:blip r:embed="rId2"/>
          <a:stretch/>
        </p:blipFill>
        <p:spPr>
          <a:xfrm>
            <a:off x="324000" y="1936800"/>
            <a:ext cx="1511280" cy="1347840"/>
          </a:xfrm>
          <a:prstGeom prst="rect">
            <a:avLst/>
          </a:prstGeom>
          <a:ln w="0">
            <a:noFill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8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тамин К (синтетический фитоменади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050560" y="1599840"/>
            <a:ext cx="66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К является жирорастворимым витамином, запасаемым в небольших количествах в печени, он разрушается на свету и в щелочных растворах. Впервые было высказано предположение о наличии фактора, влияющего на свертываемость крови, в 1929 г. Датский биохимик Хенрик Дам (Henrik Dam) выделил жирорастворимый витамин, который в 1935 г. назвали витамином К (koagulations vitamin) из-за его роли в свертываемости крови. За эту работу ему в 1943 г. была присуждена Нобелевская прем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К также играет важню роль в формировании и восстановлении костей, обеспечивает синтез остеокальцина - белка костной ткани, на котором кристаллизуется кальций. Он способствует предупреждению остеопороза, участвует в регуляции окислительно-восстановительных процессов в органи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1" descr=""/>
          <p:cNvPicPr/>
          <p:nvPr/>
        </p:nvPicPr>
        <p:blipFill>
          <a:blip r:embed="rId1"/>
          <a:stretch/>
        </p:blipFill>
        <p:spPr>
          <a:xfrm>
            <a:off x="363600" y="1700280"/>
            <a:ext cx="1369800" cy="15145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2" descr=""/>
          <p:cNvPicPr/>
          <p:nvPr/>
        </p:nvPicPr>
        <p:blipFill>
          <a:blip r:embed="rId2"/>
          <a:stretch/>
        </p:blipFill>
        <p:spPr>
          <a:xfrm>
            <a:off x="404640" y="3789360"/>
            <a:ext cx="1214640" cy="1481040"/>
          </a:xfrm>
          <a:prstGeom prst="rect">
            <a:avLst/>
          </a:prstGeom>
          <a:ln w="0">
            <a:noFill/>
          </a:ln>
        </p:spPr>
      </p:pic>
      <p:sp>
        <p:nvSpPr>
          <p:cNvPr id="57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5870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тамины были открыты на рубеже 19-20 веков в результате исследований роли различных пищевых веществ в жизнедеятельности организма. Основоположником витаминологии можно считать русского ученого Н.И.Лунина, который в 1880 году первым доказал, что помимо белков, жиров, углеводов, воды и минеральных веществ необходимы еще какие-то вещества, без которых организм не может существовать. Эти вещества были названы витаминами (vita + amin - "амины жизни" в дословном переводе с латинского), так как первые выделенные в чистом виде витамины содержали в своем составе аминогруппу. И хотя в дальнейшем выяснилось, что далеко не все витаминные вещества содержат в своем составе аминогруппу и вообщ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зот, термин "витамин" укоренился в наук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8" descr=""/>
          <p:cNvPicPr/>
          <p:nvPr/>
        </p:nvPicPr>
        <p:blipFill>
          <a:blip r:embed="rId1"/>
          <a:stretch/>
        </p:blipFill>
        <p:spPr>
          <a:xfrm>
            <a:off x="6372360" y="1700280"/>
            <a:ext cx="2592360" cy="1942920"/>
          </a:xfrm>
          <a:prstGeom prst="rect">
            <a:avLst/>
          </a:prstGeom>
          <a:ln w="0">
            <a:noFill/>
          </a:ln>
        </p:spPr>
      </p:pic>
      <p:sp>
        <p:nvSpPr>
          <p:cNvPr id="53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590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гласно классическому определению, витамины - это необходимые для нормальной жизнедеятельности низкомолекулярные органические вещества, которые не синтезируются организмом данного вида или синтезируются в количестве, недостаточном для обеспечения жизнедеятельности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тамины необходимы для нормального протекания практически всех биохимических процессов в нашем организме. Они обеспечивают функции желез внутренней секреции, то есть выработку гормонов, повышение умственной и физической работоспособности, поддерживают устойчивость организма к воздействию неблагоприятных факторов внешней среды (жара, холод, инфекции, интоксикации)... Этот список далеко не полон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0" descr="D:\мама\картинки\еда\j0182665.jpg"/>
          <p:cNvPicPr/>
          <p:nvPr/>
        </p:nvPicPr>
        <p:blipFill>
          <a:blip r:embed="rId1"/>
          <a:stretch/>
        </p:blipFill>
        <p:spPr>
          <a:xfrm>
            <a:off x="5929200" y="2714760"/>
            <a:ext cx="3027600" cy="2643120"/>
          </a:xfrm>
          <a:prstGeom prst="rect">
            <a:avLst/>
          </a:prstGeom>
          <a:ln w="0">
            <a:noFill/>
          </a:ln>
        </p:spPr>
      </p:pic>
      <p:sp>
        <p:nvSpPr>
          <p:cNvPr id="53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218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итамин C (аскорбиновая кислота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7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1905120" cy="15145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тамин C, или аскорбиновая кислота, относится к водорастворимым витаминам. Всасывание аскорбиновой кислоты происходит на всем протяжении желудочно-кишечного тракта, но большей частью - в тонком кишечнике, путем простой диффузии. В крови и в тканях аскорбиновая кислота находится как в свободном виде, так и в связанном с белка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0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2016000" cy="133992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8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оль витамина С в организме челове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6337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скорбиновая кислота участвует в процессах превращения ароматических аминокислот, в процессах кроветворения и в образовании коллагена - основного внеклеточного компонента соединительной тка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достаточность витамина C вызывает цингу - заболевание, приводящее к нарушениям образования коллагена и ряда других компонент соединительных тканей, к постепенному их разрушению. Внешне цинга проявляется такими симптомами, как расшатывание и выпадение зубов, кровоточивость десен, отеки и боли в суставах, бледность кожных покровов, кровоизлияния, плохое заживление ран, различные поражения к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новной источник витамина C для человека - свежие овощи, фрукты, ягоды. Особенно богаты им плоды шиповника. Лекарственные препараты, содержащие аскорбиновую кислоту, применяют для лечения гиповитаминозов, при нарушениях и для стимуляции процессов кроветворения (совместно с фолиевой кислотой, витамином B12 и железом), для укрепления капилляров, стимуляции процессов регенерации тканей, при острых заболеваниях дыхательных путей и при ряде других заболе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D:\мама\картинки\еда\0031.jpg"/>
          <p:cNvPicPr/>
          <p:nvPr/>
        </p:nvPicPr>
        <p:blipFill>
          <a:blip r:embed="rId1"/>
          <a:stretch/>
        </p:blipFill>
        <p:spPr>
          <a:xfrm>
            <a:off x="6359400" y="2214720"/>
            <a:ext cx="2427480" cy="3429000"/>
          </a:xfrm>
          <a:prstGeom prst="rect">
            <a:avLst/>
          </a:prstGeom>
          <a:ln w="0">
            <a:noFill/>
          </a:ln>
        </p:spPr>
      </p:pic>
      <p:sp>
        <p:nvSpPr>
          <p:cNvPr id="54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14440" y="42840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ль витамина 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785760" y="1357200"/>
            <a:ext cx="50720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А выполняет в организме следующи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 нормальный рост и дифференциацию клеток развивающегося организма (эмбриона, ребен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 процессы деления и дифференциации клеток, быстро обновляющихся тканей - хрящей и костной ткани, сперматогенного эпителия и плаценты, эпителия кожи и слизист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ет фотохимический процесс акта з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8" descr="D:\мама\картинки\еда\j0177963.jpg"/>
          <p:cNvPicPr/>
          <p:nvPr/>
        </p:nvPicPr>
        <p:blipFill>
          <a:blip r:embed="rId4"/>
          <a:stretch/>
        </p:blipFill>
        <p:spPr>
          <a:xfrm>
            <a:off x="285840" y="3357720"/>
            <a:ext cx="2857320" cy="292896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 txBox="1"/>
          <p:nvPr/>
        </p:nvSpPr>
        <p:spPr>
          <a:xfrm>
            <a:off x="714240" y="1285560"/>
            <a:ext cx="18576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9" descr="D:\мама\картинки\еда\j0202062.jpg"/>
          <p:cNvPicPr/>
          <p:nvPr/>
        </p:nvPicPr>
        <p:blipFill>
          <a:blip r:embed="rId6"/>
          <a:stretch/>
        </p:blipFill>
        <p:spPr>
          <a:xfrm>
            <a:off x="285840" y="357120"/>
            <a:ext cx="2857320" cy="2714760"/>
          </a:xfrm>
          <a:prstGeom prst="rect">
            <a:avLst/>
          </a:prstGeom>
          <a:ln w="0">
            <a:noFill/>
          </a:ln>
        </p:spPr>
      </p:pic>
      <p:sp>
        <p:nvSpPr>
          <p:cNvPr id="55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ок витамина А приводит к следующим последствия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7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2000160" cy="2286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4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рушение темновой адаптации, ночная слепота (то есть резкое ухудшение зрения в сумерках и в темноте, очень долгое "привыкание" глаз к снижению освещенности) - эти последствия нехватки витамина А проявляются в первую очередь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задержка роста в молодом возраст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олликулярный гиперкератоз (избыточное ороговение кожи, вызванное задержкой смены эпител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ухость слизистых (также вследствие замедленного обновления эпител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серофтальмия (сухость конъюнктивы глаза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мутнение и размягчение роговицы глаза (кератомаляц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рушение функции размножения (оплодотворяющей активности сперматозоидов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1" descr="D:\мама\картинки\еда\j0289726.jpg"/>
          <p:cNvPicPr/>
          <p:nvPr/>
        </p:nvPicPr>
        <p:blipFill>
          <a:blip r:embed="rId2"/>
          <a:stretch/>
        </p:blipFill>
        <p:spPr>
          <a:xfrm>
            <a:off x="285840" y="3857760"/>
            <a:ext cx="2011320" cy="2500200"/>
          </a:xfrm>
          <a:prstGeom prst="rect">
            <a:avLst/>
          </a:prstGeom>
          <a:ln w="0">
            <a:noFill/>
          </a:ln>
        </p:spPr>
      </p:pic>
      <p:sp>
        <p:nvSpPr>
          <p:cNvPr id="55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357440" y="213840"/>
            <a:ext cx="450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 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0" y="11430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в свою группу восемь витами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1 (тиам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2 (рибофлав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3 (ниац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5 (пантотеновая кислот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6 (пиридокс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7 (биот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12 (цианкобалам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лиевая кисл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амин В восстанавливает энергию,  помогает бороться с лишним весом, улучшает работу сердечной мыш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ся в печени, почках, мясе и мол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D:\мама\картинки\еда\indeyka.jpg"/>
          <p:cNvPicPr/>
          <p:nvPr/>
        </p:nvPicPr>
        <p:blipFill>
          <a:blip r:embed="rId12"/>
          <a:stretch/>
        </p:blipFill>
        <p:spPr>
          <a:xfrm>
            <a:off x="357120" y="1214280"/>
            <a:ext cx="3143160" cy="25164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" descr="D:\мама\картинки\еда\j0177957.jpg"/>
          <p:cNvPicPr/>
          <p:nvPr/>
        </p:nvPicPr>
        <p:blipFill>
          <a:blip r:embed="rId13"/>
          <a:stretch/>
        </p:blipFill>
        <p:spPr>
          <a:xfrm>
            <a:off x="333360" y="3929040"/>
            <a:ext cx="3238560" cy="2108160"/>
          </a:xfrm>
          <a:prstGeom prst="rect">
            <a:avLst/>
          </a:prstGeom>
          <a:ln w="0">
            <a:noFill/>
          </a:ln>
        </p:spPr>
      </p:pic>
      <p:sp>
        <p:nvSpPr>
          <p:cNvPr id="560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744372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 РР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Содержимое 6" descr="j0177956.jpg"/>
          <p:cNvPicPr/>
          <p:nvPr/>
        </p:nvPicPr>
        <p:blipFill>
          <a:blip r:embed="rId1"/>
          <a:stretch/>
        </p:blipFill>
        <p:spPr>
          <a:xfrm>
            <a:off x="1643040" y="2214720"/>
            <a:ext cx="6357960" cy="4357440"/>
          </a:xfrm>
          <a:prstGeom prst="rect">
            <a:avLst/>
          </a:prstGeom>
          <a:ln w="0">
            <a:noFill/>
          </a:ln>
        </p:spPr>
      </p:pic>
      <p:pic>
        <p:nvPicPr>
          <p:cNvPr id="563" name="Содержимое 3" descr=""/>
          <p:cNvPicPr/>
          <p:nvPr/>
        </p:nvPicPr>
        <p:blipFill>
          <a:blip r:embed="rId2"/>
          <a:stretch/>
        </p:blipFill>
        <p:spPr>
          <a:xfrm>
            <a:off x="420840" y="4425840"/>
            <a:ext cx="4054320" cy="1895760"/>
          </a:xfrm>
          <a:prstGeom prst="rect">
            <a:avLst/>
          </a:prstGeom>
          <a:ln w="0">
            <a:noFill/>
          </a:ln>
        </p:spPr>
      </p:pic>
      <p:pic>
        <p:nvPicPr>
          <p:cNvPr id="564" name="Текст 4" descr=""/>
          <p:cNvPicPr/>
          <p:nvPr/>
        </p:nvPicPr>
        <p:blipFill>
          <a:blip r:embed="rId3"/>
          <a:stretch/>
        </p:blipFill>
        <p:spPr>
          <a:xfrm>
            <a:off x="719280" y="1146240"/>
            <a:ext cx="7759440" cy="10173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" descr=""/>
          <p:cNvPicPr/>
          <p:nvPr/>
        </p:nvPicPr>
        <p:blipFill>
          <a:blip r:embed="rId4"/>
          <a:stretch/>
        </p:blipFill>
        <p:spPr>
          <a:xfrm>
            <a:off x="6877080" y="2637000"/>
            <a:ext cx="1809720" cy="1912680"/>
          </a:xfrm>
          <a:prstGeom prst="rect">
            <a:avLst/>
          </a:prstGeom>
          <a:ln w="0">
            <a:noFill/>
          </a:ln>
        </p:spPr>
      </p:pic>
      <p:sp>
        <p:nvSpPr>
          <p:cNvPr id="566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7:01:34Z</dcterms:created>
  <dc:creator>Zver</dc:creator>
  <dc:description/>
  <dc:language>en-US</dc:language>
  <cp:lastModifiedBy>LEGION</cp:lastModifiedBy>
  <dcterms:modified xsi:type="dcterms:W3CDTF">2015-05-12T08:09:55Z</dcterms:modified>
  <cp:revision>20</cp:revision>
  <dc:subject/>
  <dc:title>Витамин 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16000000000001024140</vt:lpwstr>
  </property>
</Properties>
</file>