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32.jpeg" ContentType="image/jpeg"/>
  <Override PartName="/ppt/media/image41.jpeg" ContentType="image/jpeg"/>
  <Override PartName="/ppt/media/image14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49.jpeg" ContentType="image/jpeg"/>
  <Override PartName="/ppt/media/image16.png" ContentType="image/png"/>
  <Override PartName="/ppt/media/image5.jpeg" ContentType="image/jpeg"/>
  <Override PartName="/ppt/media/image26.jpeg" ContentType="image/jpeg"/>
  <Override PartName="/ppt/media/image63.png" ContentType="image/png"/>
  <Override PartName="/ppt/media/image51.jpeg" ContentType="image/jpeg"/>
  <Override PartName="/ppt/media/image27.png" ContentType="image/png"/>
  <Override PartName="/ppt/media/image33.jpeg" ContentType="image/jpeg"/>
  <Override PartName="/ppt/media/image2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0.jpeg" ContentType="image/jpeg"/>
  <Override PartName="/ppt/media/image12.png" ContentType="image/png"/>
  <Override PartName="/ppt/media/image6.jpeg" ContentType="image/jpeg"/>
  <Override PartName="/ppt/media/image36.jpeg" ContentType="image/jpeg"/>
  <Override PartName="/ppt/media/image10.png" ContentType="image/png"/>
  <Override PartName="/ppt/media/image5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4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23.png" ContentType="image/png"/>
  <Override PartName="/ppt/media/image53.jpeg" ContentType="image/jpeg"/>
  <Override PartName="/ppt/media/image54.jpeg" ContentType="image/jpeg"/>
  <Override PartName="/ppt/media/image40.jpeg" ContentType="image/jpeg"/>
  <Override PartName="/ppt/media/image5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30C8-6DE4-4F8B-BF6B-B5DD8E134F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Клещевой</a:t>
            </a:r>
            <a:r>
              <a:rPr b="1" lang="en-US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энцефал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F034-1018-45ED-8C8C-718EC5867B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8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849A-00DB-4759-A598-9A8A145A1B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иммуноглобули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но стоит ли рисковать?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Arial"/>
                <a:ea typeface="Arial"/>
              </a:rPr>
              <a:t>Стоит ли риск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8AA6-B245-49E9-B42D-DA23C9751E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тоит ввести и привитому человеку, если клещей присосалось м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01AC-7793-4058-BE10-7EBB88A57B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моментно прием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циклоферо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4 таблетки в первый день, 2 таблетки на 2, 4, 6 дней профилактическ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00C5-2DA6-4D3D-BCEC-BABFBDA51B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Само и взаимопомощ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D7F5-D04B-4088-AEBC-A5BE289191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едует избегать разрушения клеща, так как может произойти заражение вирусом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Место укуса обработать йодом или спи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8B0A-CD2B-4B20-A15C-F502321772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Экстренная профилактика в первые 72 часа после укуса кле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D51E-9ABA-407B-8B36-8C853868C4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ланов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Без прививки - не допустят к раб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13FE-45CB-4B86-B8E9-19A02FF24E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ияние клещевого энцефалита на организм и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C113-2B40-46C0-A551-B1FB558DAB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80000"/>
                </a:solidFill>
                <a:latin typeface="Calibri"/>
              </a:rPr>
              <a:t>Ревакцинация через каждые 3 года.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AAE9-3620-430C-AFF4-82E1995292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рошлом году в лечебно – профилактические учреждения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Иркутской обла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укусами клещей обратилис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2246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человек. Эт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на 15 % больш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чем в 2004 году. За этот период зарегистрирован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19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лучаев заболевания клещевым энцефалитом и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37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боррелиоз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94 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2,1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EA4A-7D31-4B3C-9BBC-36E2F12A54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ародные средства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тпугивания кл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) и увеличением количества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мыш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F660-9989-4AB2-A63F-72D6336C66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лесные муравь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Вырабатываемая ими кислота является природны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репеллент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2FA9-58B5-4FCE-B657-CE88F55623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28F9-89AC-4857-BB70-6DBDDB9188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1C3C-0EC3-474C-9F9E-3F78E2FBD3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DA61-E183-4FE7-8127-D4E866A73D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80000"/>
                </a:solidFill>
                <a:latin typeface="Calibri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BE6A-0DB8-42E4-AD31-95A6D63444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a003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Альская Т.В. Советы по разным поводам // Предупреждение. Библиотечка ЗОЖ. М.: - 2003. - №2/14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5. Покровский В. И. Энциклопедия здоровья в 4 томах. Том 2. - М. : ИПО «Автор», 1992. – С.2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B6F3-D2A0-4258-8FA2-C6EB3C4337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Выяснить степень влияния клещевого энцефалита на здоровь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Познакомить учащихся с профилактикой против клещей – возбу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63FB-50C1-4BE2-84DF-D9EB2E3C1B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втор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1392-7378-40B6-8664-F88A36382D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E1D5-6C93-4408-9B43-AD19E4BEF0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ой энцефали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0451-3408-46D1-BA1D-F3D3EA6DDC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ирусная инфекция передается в основном клещ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езонность  -  весенняя – лет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ражает нерв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отсутствии должной профилактики и лечения, приводит к инвалидизации (8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тальность составляет от 2%  до 20%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6F12-C1FD-4838-904F-9227209CBF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рта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энцефалитного клещ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200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BF8F-3289-4D9F-97D4-9A548EB06C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нужно быть предельно осторожн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стараться ходить по тропинкам, подальше от высокой травы и   кустар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B85B-A11E-4352-B0EA-261F0FA79F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D0D-8DD5-4978-9410-4241F5B0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EEE-95FB-4394-9F9B-72376261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408-B218-403E-BE7A-A7C4EADB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ED7-637A-4C35-90CE-BBDF2458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364-6FF3-43F1-B046-AF72B454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29C-B7A9-49AA-8A85-816270F1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325-C56A-4EA5-AD01-48CF02D0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448-24DF-44A4-BD52-D0D09891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75E-4E81-40E0-AE82-E21CBBA0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E89-142F-4187-876D-9FF76559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4F3-C213-424A-8EF2-28EDC9A5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B7C-0276-403C-AAC9-2285A12C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C8EA-4F62-46C5-B49E-D0FC492743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258920" y="4991040"/>
            <a:ext cx="7632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энцефалит 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851280" y="185760"/>
            <a:ext cx="5041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Клещевой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foto_0001389"/>
          <p:cNvPicPr/>
          <p:nvPr/>
        </p:nvPicPr>
        <p:blipFill>
          <a:blip r:embed="rId1"/>
          <a:stretch/>
        </p:blipFill>
        <p:spPr>
          <a:xfrm>
            <a:off x="250920" y="333360"/>
            <a:ext cx="4167000" cy="511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2" name="Picture 4" descr="22"/>
          <p:cNvPicPr/>
          <p:nvPr/>
        </p:nvPicPr>
        <p:blipFill>
          <a:blip r:embed="rId2"/>
          <a:stretch/>
        </p:blipFill>
        <p:spPr>
          <a:xfrm>
            <a:off x="5076720" y="333360"/>
            <a:ext cx="3783240" cy="511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pSp>
        <p:nvGrpSpPr>
          <p:cNvPr id="83" name="Group 8"/>
          <p:cNvGrpSpPr/>
          <p:nvPr/>
        </p:nvGrpSpPr>
        <p:grpSpPr>
          <a:xfrm>
            <a:off x="5364000" y="189000"/>
            <a:ext cx="3384720" cy="5400720"/>
            <a:chOff x="5364000" y="189000"/>
            <a:chExt cx="3384720" cy="5400720"/>
          </a:xfrm>
        </p:grpSpPr>
        <p:sp>
          <p:nvSpPr>
            <p:cNvPr id="84" name="Line 5"/>
            <p:cNvSpPr/>
            <p:nvPr/>
          </p:nvSpPr>
          <p:spPr>
            <a:xfrm>
              <a:off x="5364000" y="189000"/>
              <a:ext cx="338472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 flipH="1">
              <a:off x="5589720" y="189000"/>
              <a:ext cx="298908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7" descr="49008751"/>
          <p:cNvPicPr/>
          <p:nvPr/>
        </p:nvPicPr>
        <p:blipFill>
          <a:blip r:embed="rId3"/>
          <a:stretch/>
        </p:blipFill>
        <p:spPr>
          <a:xfrm>
            <a:off x="3414600" y="4724280"/>
            <a:ext cx="2311560" cy="1946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image002"/>
          <p:cNvPicPr/>
          <p:nvPr/>
        </p:nvPicPr>
        <p:blipFill>
          <a:blip r:embed="rId1"/>
          <a:srcRect l="0" t="0" r="12557" b="8717"/>
          <a:stretch/>
        </p:blipFill>
        <p:spPr>
          <a:xfrm>
            <a:off x="1258920" y="189000"/>
            <a:ext cx="676764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24360" y="189000"/>
            <a:ext cx="504036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c8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kl"/>
          <p:cNvPicPr/>
          <p:nvPr/>
        </p:nvPicPr>
        <p:blipFill>
          <a:blip r:embed="rId1"/>
          <a:stretch/>
        </p:blipFill>
        <p:spPr>
          <a:xfrm>
            <a:off x="250920" y="260280"/>
            <a:ext cx="3600360" cy="2892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2" name="Picture 4" descr="319"/>
          <p:cNvPicPr/>
          <p:nvPr/>
        </p:nvPicPr>
        <p:blipFill>
          <a:blip r:embed="rId2"/>
          <a:stretch/>
        </p:blipFill>
        <p:spPr>
          <a:xfrm>
            <a:off x="250920" y="3500280"/>
            <a:ext cx="3816360" cy="3100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4284720" y="1413000"/>
            <a:ext cx="4716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иммуноглобул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но стоит ли рисковать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324000" y="189000"/>
            <a:ext cx="84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Picture 9" descr="doctors_0004062919"/>
          <p:cNvPicPr/>
          <p:nvPr/>
        </p:nvPicPr>
        <p:blipFill>
          <a:blip r:embed="rId1"/>
          <a:stretch/>
        </p:blipFill>
        <p:spPr>
          <a:xfrm>
            <a:off x="179280" y="3933720"/>
            <a:ext cx="2521080" cy="1954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7" name="WordArt 10"/>
          <p:cNvSpPr txBox="1"/>
          <p:nvPr/>
        </p:nvSpPr>
        <p:spPr>
          <a:xfrm>
            <a:off x="250920" y="6021360"/>
            <a:ext cx="424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80000"/>
                </a:solidFill>
                <a:latin typeface="Arial"/>
              </a:rPr>
              <a:t>Стоит ли рисковат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80000"/>
              </a:solidFill>
              <a:latin typeface="Arial"/>
              <a:ea typeface="Arial"/>
            </a:endParaRPr>
          </a:p>
        </p:txBody>
      </p:sp>
      <p:pic>
        <p:nvPicPr>
          <p:cNvPr id="98" name="Picture 13" descr="m_1531"/>
          <p:cNvPicPr/>
          <p:nvPr/>
        </p:nvPicPr>
        <p:blipFill>
          <a:blip r:embed="rId2"/>
          <a:stretch/>
        </p:blipFill>
        <p:spPr>
          <a:xfrm>
            <a:off x="2124000" y="3068640"/>
            <a:ext cx="2305080" cy="1655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9" name="Picture 14" descr="фф"/>
          <p:cNvPicPr/>
          <p:nvPr/>
        </p:nvPicPr>
        <p:blipFill>
          <a:blip r:embed="rId3"/>
          <a:stretch/>
        </p:blipFill>
        <p:spPr>
          <a:xfrm>
            <a:off x="468360" y="1484280"/>
            <a:ext cx="2736720" cy="1955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995640" y="1413000"/>
            <a:ext cx="493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тоит ввести и привитому человеку, если клещей присосалось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324000" y="189000"/>
            <a:ext cx="84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03" name="Picture 4" descr="2007-05-23-klesch%CA40"/>
          <p:cNvPicPr/>
          <p:nvPr/>
        </p:nvPicPr>
        <p:blipFill>
          <a:blip r:embed="rId1"/>
          <a:stretch/>
        </p:blipFill>
        <p:spPr>
          <a:xfrm>
            <a:off x="324000" y="1916280"/>
            <a:ext cx="4037040" cy="411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моментно прием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циклоферо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4 таблетки в первый день, 2 таблетки на 2, 4, 6 дней профилактического ле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24"/>
          <p:cNvPicPr/>
          <p:nvPr/>
        </p:nvPicPr>
        <p:blipFill>
          <a:blip r:embed="rId1"/>
          <a:stretch/>
        </p:blipFill>
        <p:spPr>
          <a:xfrm>
            <a:off x="5148360" y="4005360"/>
            <a:ext cx="3527280" cy="2633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7" name="Picture 6" descr="trumbnail_big"/>
          <p:cNvPicPr/>
          <p:nvPr/>
        </p:nvPicPr>
        <p:blipFill>
          <a:blip r:embed="rId2"/>
          <a:stretch/>
        </p:blipFill>
        <p:spPr>
          <a:xfrm>
            <a:off x="468360" y="4005360"/>
            <a:ext cx="3382920" cy="2651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8" name="Picture 7" descr="n67n-s25"/>
          <p:cNvPicPr/>
          <p:nvPr/>
        </p:nvPicPr>
        <p:blipFill>
          <a:blip r:embed="rId3"/>
          <a:stretch/>
        </p:blipFill>
        <p:spPr>
          <a:xfrm>
            <a:off x="539640" y="1628640"/>
            <a:ext cx="3168720" cy="2157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9" name="Picture 8" descr="m_63885"/>
          <p:cNvPicPr/>
          <p:nvPr/>
        </p:nvPicPr>
        <p:blipFill>
          <a:blip r:embed="rId4"/>
          <a:stretch/>
        </p:blipFill>
        <p:spPr>
          <a:xfrm>
            <a:off x="5364000" y="1601640"/>
            <a:ext cx="3240360" cy="2187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Само и взаимопомощ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445_big"/>
          <p:cNvPicPr/>
          <p:nvPr/>
        </p:nvPicPr>
        <p:blipFill>
          <a:blip r:embed="rId1"/>
          <a:stretch/>
        </p:blipFill>
        <p:spPr>
          <a:xfrm>
            <a:off x="611280" y="2060640"/>
            <a:ext cx="3024000" cy="2252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3" name="Picture 5" descr="5630132E48D08C04kleshc_0712"/>
          <p:cNvPicPr/>
          <p:nvPr/>
        </p:nvPicPr>
        <p:blipFill>
          <a:blip r:embed="rId2"/>
          <a:stretch/>
        </p:blipFill>
        <p:spPr>
          <a:xfrm>
            <a:off x="5508720" y="4724280"/>
            <a:ext cx="2950920" cy="1928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4" name="Picture 6" descr="kles42-300"/>
          <p:cNvPicPr/>
          <p:nvPr/>
        </p:nvPicPr>
        <p:blipFill>
          <a:blip r:embed="rId3"/>
          <a:stretch/>
        </p:blipFill>
        <p:spPr>
          <a:xfrm>
            <a:off x="5508720" y="2048040"/>
            <a:ext cx="2950920" cy="2360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5" name="Picture 7" descr="Схема удаления энцефалитного клеща"/>
          <p:cNvPicPr/>
          <p:nvPr/>
        </p:nvPicPr>
        <p:blipFill>
          <a:blip r:embed="rId4"/>
          <a:stretch/>
        </p:blipFill>
        <p:spPr>
          <a:xfrm>
            <a:off x="826920" y="4581360"/>
            <a:ext cx="266400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едует избегать разрушения клеща, так как может произойти заражение вирусом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Место укуса обработать йодом или спи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527_Untitled8"/>
          <p:cNvPicPr/>
          <p:nvPr/>
        </p:nvPicPr>
        <p:blipFill>
          <a:blip r:embed="rId1"/>
          <a:stretch/>
        </p:blipFill>
        <p:spPr>
          <a:xfrm>
            <a:off x="5219640" y="3789360"/>
            <a:ext cx="3598920" cy="2836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9" name="Picture 4" descr="20"/>
          <p:cNvPicPr/>
          <p:nvPr/>
        </p:nvPicPr>
        <p:blipFill>
          <a:blip r:embed="rId2"/>
          <a:stretch/>
        </p:blipFill>
        <p:spPr>
          <a:xfrm>
            <a:off x="395280" y="3789360"/>
            <a:ext cx="3857760" cy="2876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0" name="Picture 5" descr="1180975956_encefalit_rs"/>
          <p:cNvPicPr/>
          <p:nvPr/>
        </p:nvPicPr>
        <p:blipFill>
          <a:blip r:embed="rId3"/>
          <a:stretch/>
        </p:blipFill>
        <p:spPr>
          <a:xfrm>
            <a:off x="2556000" y="1484280"/>
            <a:ext cx="4032000" cy="2073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95280" y="189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00"/>
                </a:solidFill>
                <a:latin typeface="Arial"/>
              </a:rPr>
              <a:t>Экстренная профилактика в первые 72 часа после укуса клещ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Экстренная профилактика (в первые 72 часа после укуса клеща"/>
          <p:cNvPicPr/>
          <p:nvPr/>
        </p:nvPicPr>
        <p:blipFill>
          <a:blip r:embed="rId1"/>
          <a:srcRect l="0" t="0" r="0" b="501"/>
          <a:stretch/>
        </p:blipFill>
        <p:spPr>
          <a:xfrm>
            <a:off x="1979640" y="2205000"/>
            <a:ext cx="5040360" cy="439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557360"/>
            <a:ext cx="500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Без прививки - не допустят к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ланов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27" name="Picture 6" descr="foto_10"/>
          <p:cNvPicPr/>
          <p:nvPr/>
        </p:nvPicPr>
        <p:blipFill>
          <a:blip r:embed="rId1"/>
          <a:stretch/>
        </p:blipFill>
        <p:spPr>
          <a:xfrm>
            <a:off x="5435640" y="1773360"/>
            <a:ext cx="3203640" cy="485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18900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лияние клещевого энцефалита на организм и здоровье чело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b653cfceeb7a91a5395b"/>
          <p:cNvPicPr/>
          <p:nvPr/>
        </p:nvPicPr>
        <p:blipFill>
          <a:blip r:embed="rId1"/>
          <a:stretch/>
        </p:blipFill>
        <p:spPr>
          <a:xfrm>
            <a:off x="2484360" y="3068640"/>
            <a:ext cx="3922920" cy="3349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79280" y="189000"/>
            <a:ext cx="8785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Ревакцинация через каждые 3 года.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net_07"/>
          <p:cNvPicPr/>
          <p:nvPr/>
        </p:nvPicPr>
        <p:blipFill>
          <a:blip r:embed="rId1"/>
          <a:stretch/>
        </p:blipFill>
        <p:spPr>
          <a:xfrm>
            <a:off x="1042920" y="4556160"/>
            <a:ext cx="3168720" cy="212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1" name="Picture 5" descr="Laboratoria"/>
          <p:cNvPicPr/>
          <p:nvPr/>
        </p:nvPicPr>
        <p:blipFill>
          <a:blip r:embed="rId2"/>
          <a:stretch/>
        </p:blipFill>
        <p:spPr>
          <a:xfrm>
            <a:off x="5435640" y="4581360"/>
            <a:ext cx="237636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рошлом году в лечебно – профилактические учреждения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ркутской обла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 укусами клещей обратились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2246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человек. Эт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на 15 % больш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чем в 2004 году. За этот период зарегистрирован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19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лучаев заболевания клещевым энцефалитом и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37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лещевы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ррелиозо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94 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2,1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8343_2"/>
          <p:cNvPicPr/>
          <p:nvPr/>
        </p:nvPicPr>
        <p:blipFill>
          <a:blip r:embed="rId1"/>
          <a:stretch/>
        </p:blipFill>
        <p:spPr>
          <a:xfrm>
            <a:off x="250920" y="4437000"/>
            <a:ext cx="2950920" cy="223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5" name="Picture 6" descr="250806_22"/>
          <p:cNvPicPr/>
          <p:nvPr/>
        </p:nvPicPr>
        <p:blipFill>
          <a:blip r:embed="rId2"/>
          <a:stretch/>
        </p:blipFill>
        <p:spPr>
          <a:xfrm>
            <a:off x="5940360" y="4437000"/>
            <a:ext cx="2879640" cy="216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6" name="Picture 7" descr="yun_914"/>
          <p:cNvPicPr/>
          <p:nvPr/>
        </p:nvPicPr>
        <p:blipFill>
          <a:blip r:embed="rId3"/>
          <a:stretch/>
        </p:blipFill>
        <p:spPr>
          <a:xfrm>
            <a:off x="3780000" y="4437000"/>
            <a:ext cx="1504800" cy="2241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37355"/>
          <p:cNvPicPr/>
          <p:nvPr/>
        </p:nvPicPr>
        <p:blipFill>
          <a:blip r:embed="rId1"/>
          <a:stretch/>
        </p:blipFill>
        <p:spPr>
          <a:xfrm>
            <a:off x="2627280" y="189000"/>
            <a:ext cx="60627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9" name="Picture 4" descr="43662"/>
          <p:cNvPicPr/>
          <p:nvPr/>
        </p:nvPicPr>
        <p:blipFill>
          <a:blip r:embed="rId2"/>
          <a:stretch/>
        </p:blipFill>
        <p:spPr>
          <a:xfrm>
            <a:off x="179280" y="333360"/>
            <a:ext cx="2160720" cy="1268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0" name="Picture 6" descr="kleok"/>
          <p:cNvPicPr/>
          <p:nvPr/>
        </p:nvPicPr>
        <p:blipFill>
          <a:blip r:embed="rId3"/>
          <a:stretch/>
        </p:blipFill>
        <p:spPr>
          <a:xfrm>
            <a:off x="179280" y="4653000"/>
            <a:ext cx="2171880" cy="1771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1" name="Picture 7" descr="klesh(12476)"/>
          <p:cNvPicPr/>
          <p:nvPr/>
        </p:nvPicPr>
        <p:blipFill>
          <a:blip r:embed="rId4"/>
          <a:stretch/>
        </p:blipFill>
        <p:spPr>
          <a:xfrm>
            <a:off x="250920" y="2133720"/>
            <a:ext cx="2016000" cy="201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2" name="Oval 8"/>
          <p:cNvSpPr/>
          <p:nvPr/>
        </p:nvSpPr>
        <p:spPr>
          <a:xfrm>
            <a:off x="2195640" y="6021360"/>
            <a:ext cx="6769080" cy="620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-252360" y="1484280"/>
            <a:ext cx="6985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и увеличением количества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мыш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Народные средства для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тпугивания клещей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46" name="Picture 9" descr="nature"/>
          <p:cNvPicPr/>
          <p:nvPr/>
        </p:nvPicPr>
        <p:blipFill>
          <a:blip r:embed="rId1"/>
          <a:stretch/>
        </p:blipFill>
        <p:spPr>
          <a:xfrm>
            <a:off x="6588000" y="1628640"/>
            <a:ext cx="2409840" cy="1525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7" name="Picture 10" descr="m_4695"/>
          <p:cNvPicPr/>
          <p:nvPr/>
        </p:nvPicPr>
        <p:blipFill>
          <a:blip r:embed="rId2"/>
          <a:stretch/>
        </p:blipFill>
        <p:spPr>
          <a:xfrm>
            <a:off x="6804000" y="3573360"/>
            <a:ext cx="2000160" cy="296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-252360" y="0"/>
            <a:ext cx="93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есные муравь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ырабатываемая ими кислота является природным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пеллент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s_16075"/>
          <p:cNvPicPr/>
          <p:nvPr/>
        </p:nvPicPr>
        <p:blipFill>
          <a:blip r:embed="rId1"/>
          <a:stretch/>
        </p:blipFill>
        <p:spPr>
          <a:xfrm>
            <a:off x="6227640" y="4597560"/>
            <a:ext cx="2737080" cy="205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1" name="Picture 5" descr="укусах (осы, комаров, клеща, змеи, паука"/>
          <p:cNvPicPr/>
          <p:nvPr/>
        </p:nvPicPr>
        <p:blipFill>
          <a:blip r:embed="rId2"/>
          <a:stretch/>
        </p:blipFill>
        <p:spPr>
          <a:xfrm>
            <a:off x="250920" y="4546440"/>
            <a:ext cx="2305080" cy="2122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2" name="Picture 6" descr="klehs"/>
          <p:cNvPicPr/>
          <p:nvPr/>
        </p:nvPicPr>
        <p:blipFill>
          <a:blip r:embed="rId3"/>
          <a:stretch/>
        </p:blipFill>
        <p:spPr>
          <a:xfrm>
            <a:off x="3276720" y="4941720"/>
            <a:ext cx="2232000" cy="1785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4485326acc0b8big"/>
          <p:cNvPicPr/>
          <p:nvPr/>
        </p:nvPicPr>
        <p:blipFill>
          <a:blip r:embed="rId1"/>
          <a:stretch/>
        </p:blipFill>
        <p:spPr>
          <a:xfrm>
            <a:off x="4788000" y="3500280"/>
            <a:ext cx="388764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8" name="Picture 10" descr="getfoto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1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18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защиты от клеща до момента укуса"/>
          <p:cNvPicPr/>
          <p:nvPr/>
        </p:nvPicPr>
        <p:blipFill>
          <a:blip r:embed="rId1"/>
          <a:stretch/>
        </p:blipFill>
        <p:spPr>
          <a:xfrm>
            <a:off x="2195640" y="2133720"/>
            <a:ext cx="3431880" cy="3927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4" name="Picture 7" descr="flacony_1"/>
          <p:cNvPicPr/>
          <p:nvPr/>
        </p:nvPicPr>
        <p:blipFill>
          <a:blip r:embed="rId2"/>
          <a:stretch/>
        </p:blipFill>
        <p:spPr>
          <a:xfrm>
            <a:off x="5940360" y="1844640"/>
            <a:ext cx="2943360" cy="474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5" name="Picture 8" descr="1045880b"/>
          <p:cNvPicPr/>
          <p:nvPr/>
        </p:nvPicPr>
        <p:blipFill>
          <a:blip r:embed="rId3"/>
          <a:stretch/>
        </p:blipFill>
        <p:spPr>
          <a:xfrm>
            <a:off x="250920" y="1844640"/>
            <a:ext cx="1638360" cy="47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79280" y="9774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2124000" y="189000"/>
            <a:ext cx="46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ключ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69" name="Picture 9" descr="3605"/>
          <p:cNvPicPr/>
          <p:nvPr/>
        </p:nvPicPr>
        <p:blipFill>
          <a:blip r:embed="rId1"/>
          <a:stretch/>
        </p:blipFill>
        <p:spPr>
          <a:xfrm>
            <a:off x="3203640" y="4437000"/>
            <a:ext cx="2665440" cy="225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0" name="Picture 10" descr="d834a39e-431f-4ac2-8def-cb9241af1af3"/>
          <p:cNvPicPr/>
          <p:nvPr/>
        </p:nvPicPr>
        <p:blipFill>
          <a:blip r:embed="rId2"/>
          <a:stretch/>
        </p:blipFill>
        <p:spPr>
          <a:xfrm>
            <a:off x="6300720" y="4221000"/>
            <a:ext cx="2638440" cy="22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1" name="Picture 11" descr="s_15177"/>
          <p:cNvPicPr/>
          <p:nvPr/>
        </p:nvPicPr>
        <p:blipFill>
          <a:blip r:embed="rId3"/>
          <a:stretch/>
        </p:blipFill>
        <p:spPr>
          <a:xfrm>
            <a:off x="250920" y="4221000"/>
            <a:ext cx="2593800" cy="2229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3015360"/>
            <a:ext cx="914400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REG1193093256"/>
          <p:cNvPicPr/>
          <p:nvPr/>
        </p:nvPicPr>
        <p:blipFill>
          <a:blip r:embed="rId1"/>
          <a:stretch/>
        </p:blipFill>
        <p:spPr>
          <a:xfrm>
            <a:off x="2771640" y="189000"/>
            <a:ext cx="3672000" cy="275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5" name="Picture 7" descr="kles4_sn"/>
          <p:cNvPicPr/>
          <p:nvPr/>
        </p:nvPicPr>
        <p:blipFill>
          <a:blip r:embed="rId2"/>
          <a:stretch/>
        </p:blipFill>
        <p:spPr>
          <a:xfrm>
            <a:off x="6732720" y="620640"/>
            <a:ext cx="2253960" cy="2087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6" name="Picture 8" descr="33"/>
          <p:cNvPicPr/>
          <p:nvPr/>
        </p:nvPicPr>
        <p:blipFill>
          <a:blip r:embed="rId3"/>
          <a:stretch/>
        </p:blipFill>
        <p:spPr>
          <a:xfrm>
            <a:off x="179280" y="549360"/>
            <a:ext cx="2305080" cy="2077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3"/>
          <p:cNvSpPr txBox="1"/>
          <p:nvPr/>
        </p:nvSpPr>
        <p:spPr>
          <a:xfrm>
            <a:off x="971640" y="333360"/>
            <a:ext cx="540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ИСТОЧНИК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79280" y="112536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Альская Т.В. Советы по разным поводам // Предупреждение. Библиотечка ЗОЖ. М.: - 2003. - №2/14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Покровский В. И. Энциклопедия здоровья в 4 томах. Том 2. - М. : ИПО «Автор», 1992. – С.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j0356673"/>
          <p:cNvPicPr/>
          <p:nvPr/>
        </p:nvPicPr>
        <p:blipFill>
          <a:blip r:embed="rId1"/>
          <a:stretch/>
        </p:blipFill>
        <p:spPr>
          <a:xfrm>
            <a:off x="7812000" y="189000"/>
            <a:ext cx="1190880" cy="1190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79280" y="3068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564000" y="476280"/>
            <a:ext cx="540072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Выяснить степень влияния клещевого энцефалита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Познакомить учащихся с профилактикой против клещей – возбудите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4de3d2f9b206764ec345b637058c71d8-053012cada7dc08b2a24e7674c78d04e"/>
          <p:cNvPicPr/>
          <p:nvPr/>
        </p:nvPicPr>
        <p:blipFill>
          <a:blip r:embed="rId1"/>
          <a:stretch/>
        </p:blipFill>
        <p:spPr>
          <a:xfrm>
            <a:off x="250920" y="189000"/>
            <a:ext cx="3600360" cy="270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7" name="Picture 13" descr="inj"/>
          <p:cNvPicPr/>
          <p:nvPr/>
        </p:nvPicPr>
        <p:blipFill>
          <a:blip r:embed="rId2"/>
          <a:stretch/>
        </p:blipFill>
        <p:spPr>
          <a:xfrm>
            <a:off x="395280" y="4149720"/>
            <a:ext cx="3313080" cy="248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324000" y="33336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втор презентации</a:t>
            </a:r>
            <a:endParaRPr b="0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79280" y="1484280"/>
            <a:ext cx="5616720" cy="50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адыгина Оксана Викторов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читель ИВТ и ИКТ МОУ «СОШ №42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рода Братска, Иркут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378160" cy="367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250920" y="836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ктуальность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2879640"/>
            <a:ext cx="914400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rticle06img01"/>
          <p:cNvPicPr/>
          <p:nvPr/>
        </p:nvPicPr>
        <p:blipFill>
          <a:blip r:embed="rId1"/>
          <a:stretch/>
        </p:blipFill>
        <p:spPr>
          <a:xfrm>
            <a:off x="5724360" y="189000"/>
            <a:ext cx="3202200" cy="2627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4-1"/>
          <p:cNvPicPr/>
          <p:nvPr/>
        </p:nvPicPr>
        <p:blipFill>
          <a:blip r:embed="rId1"/>
          <a:stretch/>
        </p:blipFill>
        <p:spPr>
          <a:xfrm>
            <a:off x="1187280" y="260280"/>
            <a:ext cx="6337440" cy="6265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5796000" y="189000"/>
            <a:ext cx="31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Введ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79280" y="189000"/>
            <a:ext cx="61214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лещевой энцефалит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O-Klesh"/>
          <p:cNvPicPr/>
          <p:nvPr/>
        </p:nvPicPr>
        <p:blipFill>
          <a:blip r:embed="rId1"/>
          <a:stretch/>
        </p:blipFill>
        <p:spPr>
          <a:xfrm>
            <a:off x="6227640" y="1197000"/>
            <a:ext cx="2395800" cy="540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79280" y="907920"/>
            <a:ext cx="8964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ирусная инфекция передается в основном клещ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езонность  -  весенняя – летня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ражает нервную сис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отсутствии должной профилактики и лечения, приводит к инвалидизации (8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тальность составляет от 2%  до 20%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358920" y="189000"/>
            <a:ext cx="84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бщая характеристика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8" descr="klesch65"/>
          <p:cNvPicPr/>
          <p:nvPr/>
        </p:nvPicPr>
        <p:blipFill>
          <a:blip r:embed="rId1"/>
          <a:stretch/>
        </p:blipFill>
        <p:spPr>
          <a:xfrm>
            <a:off x="6084720" y="3933720"/>
            <a:ext cx="2816280" cy="2662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2" name="Picture 9" descr="klez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2614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3" name="Picture 10" descr="419290_20020506082845"/>
          <p:cNvPicPr/>
          <p:nvPr/>
        </p:nvPicPr>
        <p:blipFill>
          <a:blip r:embed="rId3"/>
          <a:stretch/>
        </p:blipFill>
        <p:spPr>
          <a:xfrm>
            <a:off x="3203640" y="4213080"/>
            <a:ext cx="2592360" cy="2275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3"/>
          <p:cNvSpPr txBox="1"/>
          <p:nvPr/>
        </p:nvSpPr>
        <p:spPr>
          <a:xfrm>
            <a:off x="539640" y="189000"/>
            <a:ext cx="820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та распространения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нцефалитного клещ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территории Росси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2007 год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6" name="Picture 4" descr="Карта распространения энцефалитного клеща по территории России этим летом"/>
          <p:cNvPicPr/>
          <p:nvPr/>
        </p:nvPicPr>
        <p:blipFill>
          <a:blip r:embed="rId1"/>
          <a:stretch/>
        </p:blipFill>
        <p:spPr>
          <a:xfrm>
            <a:off x="1332000" y="2565360"/>
            <a:ext cx="6553080" cy="4145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700360" y="189000"/>
            <a:ext cx="622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нужно быть предельно осторожным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стараться ходить по тропинкам, подальше от высокой травы и   кустарник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kle"/>
          <p:cNvPicPr/>
          <p:nvPr/>
        </p:nvPicPr>
        <p:blipFill>
          <a:blip r:embed="rId1"/>
          <a:srcRect l="0" t="0" r="93" b="26"/>
          <a:stretch/>
        </p:blipFill>
        <p:spPr>
          <a:xfrm>
            <a:off x="324000" y="260280"/>
            <a:ext cx="23349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25:15Z</dcterms:created>
  <dc:creator>РОкся</dc:creator>
  <dc:description/>
  <dc:language>en-US</dc:language>
  <cp:lastModifiedBy>LEGION</cp:lastModifiedBy>
  <dcterms:modified xsi:type="dcterms:W3CDTF">2015-05-12T08:12:16Z</dcterms:modified>
  <cp:revision>115</cp:revision>
  <dc:subject/>
  <dc:title>Клещевой энцефали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c000000000001024140</vt:lpwstr>
  </property>
</Properties>
</file>