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png" ContentType="image/png"/>
  <Override PartName="/ppt/media/image46.jpeg" ContentType="image/jpeg"/>
  <Override PartName="/ppt/media/image32.jpeg" ContentType="image/jpeg"/>
  <Override PartName="/ppt/media/image41.jpeg" ContentType="image/jpeg"/>
  <Override PartName="/ppt/media/image14.jpeg" ContentType="image/jpeg"/>
  <Override PartName="/ppt/media/image8.png" ContentType="image/png"/>
  <Override PartName="/ppt/media/image17.png" ContentType="image/png"/>
  <Override PartName="/ppt/media/image39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2.jpeg" ContentType="image/jpeg"/>
  <Override PartName="/ppt/media/image57.png" ContentType="image/pn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1.png" ContentType="image/png"/>
  <Override PartName="/ppt/media/image15.jpeg" ContentType="image/jpeg"/>
  <Override PartName="/ppt/media/image49.jpeg" ContentType="image/jpeg"/>
  <Override PartName="/ppt/media/image16.png" ContentType="image/png"/>
  <Override PartName="/ppt/media/image5.jpeg" ContentType="image/jpeg"/>
  <Override PartName="/ppt/media/image26.jpeg" ContentType="image/jpeg"/>
  <Override PartName="/ppt/media/image63.png" ContentType="image/png"/>
  <Override PartName="/ppt/media/image51.jpeg" ContentType="image/jpeg"/>
  <Override PartName="/ppt/media/image27.png" ContentType="image/png"/>
  <Override PartName="/ppt/media/image33.jpeg" ContentType="image/jpeg"/>
  <Override PartName="/ppt/media/image29.jpeg" ContentType="image/jpeg"/>
  <Override PartName="/ppt/media/image21.jpeg" ContentType="image/jpeg"/>
  <Override PartName="/ppt/media/image62.gif" ContentType="image/gif"/>
  <Override PartName="/ppt/media/image45.jpeg" ContentType="image/jpeg"/>
  <Override PartName="/ppt/media/image19.jpeg" ContentType="image/jpeg"/>
  <Override PartName="/ppt/media/image18.jpeg" ContentType="image/jpeg"/>
  <Override PartName="/ppt/media/image28.jpeg" ContentType="image/jpeg"/>
  <Override PartName="/ppt/media/image11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20.jpeg" ContentType="image/jpeg"/>
  <Override PartName="/ppt/media/image12.png" ContentType="image/png"/>
  <Override PartName="/ppt/media/image6.jpeg" ContentType="image/jpeg"/>
  <Override PartName="/ppt/media/image36.jpeg" ContentType="image/jpeg"/>
  <Override PartName="/ppt/media/image10.png" ContentType="image/png"/>
  <Override PartName="/ppt/media/image55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35.png" ContentType="image/png"/>
  <Override PartName="/ppt/media/image43.jpeg" ContentType="image/jpeg"/>
  <Override PartName="/ppt/media/image38.jpeg" ContentType="image/jpeg"/>
  <Override PartName="/ppt/media/image44.jpeg" ContentType="image/jpeg"/>
  <Override PartName="/ppt/media/image47.jpeg" ContentType="image/jpeg"/>
  <Override PartName="/ppt/media/image48.jpeg" ContentType="image/jpeg"/>
  <Override PartName="/ppt/media/image50.jpeg" ContentType="image/jpeg"/>
  <Override PartName="/ppt/media/image52.png" ContentType="image/png"/>
  <Override PartName="/ppt/media/image23.png" ContentType="image/png"/>
  <Override PartName="/ppt/media/image53.jpeg" ContentType="image/jpeg"/>
  <Override PartName="/ppt/media/image54.jpeg" ContentType="image/jpeg"/>
  <Override PartName="/ppt/media/image40.jpeg" ContentType="image/jpeg"/>
  <Override PartName="/ppt/media/image5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4530-DB42-4DBC-8946-545088E5C6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c80000"/>
                </a:solidFill>
                <a:latin typeface="Times New Roman"/>
                <a:ea typeface="Times New Roman"/>
              </a:rPr>
              <a:t>Клещевой</a:t>
            </a:r>
            <a:r>
              <a:rPr b="1" lang="en-US" sz="1200" spc="-1" strike="noStrike">
                <a:solidFill>
                  <a:srgbClr val="c80000"/>
                </a:solidFill>
                <a:latin typeface="Times New Roman"/>
                <a:ea typeface="Times New Roman"/>
              </a:rPr>
              <a:t> </a:t>
            </a:r>
            <a:r>
              <a:rPr b="1" lang="uk-UA" sz="1200" spc="-1" strike="noStrike">
                <a:solidFill>
                  <a:srgbClr val="c80000"/>
                </a:solidFill>
                <a:latin typeface="Times New Roman"/>
                <a:ea typeface="Times New Roman"/>
              </a:rPr>
              <a:t>энцефал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139E-F79C-4764-BA2B-F19FAEA3D1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51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само и взаимоосмотры при выходе из леса, возвращении домой – необходимо раздеться и тщательно осмотреть кожу  - не присосался ли где клещ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c8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возможность заражения – употребление сырого молока коз или коров (при  кипячении вирус погибает  через 2 минуты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E868-0001-4977-B903-18AFAC91B0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Экстренная профил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клещевого энцефал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ля предотвращения развития заболевания, при обнаружении впившегося в тело клеща в течение первых 3-х дней (лучше в течение суток) необходимо обратиться  в медицинское учреждение для введения донорского </a:t>
            </a:r>
            <a:r>
              <a:rPr b="1" i="1" lang="ru-RU" sz="1200" spc="-1" strike="noStrike" u="sng">
                <a:solidFill>
                  <a:srgbClr val="c80000"/>
                </a:solidFill>
                <a:uFillTx/>
                <a:latin typeface="Calibri"/>
              </a:rPr>
              <a:t>иммуноглобулина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Там же вам удалят присосавшегося паразита. Не каждый клещ является «заразным», </a:t>
            </a:r>
            <a:r>
              <a:rPr b="1" i="1" lang="ru-RU" sz="1200" spc="-1" strike="noStrike" u="sng">
                <a:solidFill>
                  <a:srgbClr val="c80000"/>
                </a:solidFill>
                <a:uFillTx/>
                <a:latin typeface="Calibri"/>
              </a:rPr>
              <a:t>но стоит ли рисковать?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c80000"/>
                </a:solidFill>
                <a:latin typeface="Arial"/>
                <a:ea typeface="Arial"/>
              </a:rPr>
              <a:t>Стоит ли рискова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DE45-6E8B-4C48-A520-E9E2A3A8F9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Экстренная профил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клещевого энцефал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Иммуноглобулин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в течение нескольких недель (до месяца) предохраняет от заражения. Если через несколько дней вас укусит клещ, повторно укол делать не нужно. 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Иммуноглобулин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стоит ввести и привитому человеку, если клещей присосалось м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E947-68D7-4D75-A837-6EB77E8405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дномоментно прием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циклоферона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4 таблетки в первый день, 2 таблетки на 2, 4, 6 дней профилактического ле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BA33-5034-4D1B-8FCE-DF60E783CD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c80000"/>
                </a:solidFill>
                <a:uFillTx/>
                <a:latin typeface="Calibri"/>
              </a:rPr>
              <a:t>Само и взаимопомощь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(если вы не в городе) – это удаление клеща: место укуса предварительно смазать жиром (вазелином, подсолнечным маслом), через 15 минут осторожно вытянуть сделанной из нити петлей, покачивая из стороны в сторо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01EF-6B0D-4847-83A2-50A7D75AB4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ледует избегать разрушения клеща, так как может произойти заражение вирусом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Место укуса обработать йодом или спир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06FE-01AA-46E0-A1EF-1A652FF89A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Экстренная профилактика в первые 72 часа после укуса клещ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BDE4-6D08-4682-B72C-B0414D8C52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Плановая профил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клещевого энцефал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юдям, чья работа связана с пребыванием в лесу (геодезистам, лесникам, дачникам) надо сделать прививку против клещевого энцефали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Без прививки - не допустят к рабо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F612-0A89-4835-8583-9B835BC0D6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лияние клещевого энцефалита на организм и здоровье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1D5E-094D-4678-A23A-68B3037235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ивитые болеют реже, у них в случае заболевания отмечаются легкие формы. Полный курс вакцинации состоит из 3-х прививок, поэтому лучше всего осенью сделать 2 прививки, а последнюю – 3 прививку сделать весной за 2 недели до выхода в лес. Можно привиться по сокращенной схеме – двумя прививками, но эффективность такой вакцинации ниже. Чтобы невосприимчивость к клещевому энцефалиту сохранялась, необходимо на следующую весну прививку повтори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80000"/>
                </a:solidFill>
                <a:latin typeface="Calibri"/>
              </a:rPr>
              <a:t>Ревакцинация через каждые 3 года.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71FC-2EDA-4D92-B6BA-3C996B90E2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 прошлом году в лечебно – профилактические учреждения </a:t>
            </a:r>
            <a:r>
              <a:rPr b="1" i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Иркутской области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с укусами клещей обратились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12246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человек. Это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на 15 % больш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чем в 2004 году. За этот период зарегистрировано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119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случаев заболевания клещевым энцефалитом и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137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клещевы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боррелиозо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94 %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заболевших – жители городов и районов, выезжающие в лес отдыхать, а также дачники. Среди неорганизованных отдыхающих крайне низкий охват прививками  – 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2,1%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9622-77CB-4112-89BA-6C534B7319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Народные средства д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отпугивания клещ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аспространение клещей, переносчиков вируса энцефалита, в последнее время претерпевает подъем, в том числе связанный с хозяйственной деятельностью человека (лучше сказать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с бесхозяйственной деятельностью – организация стихийных свалок и мусорных куч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) и увеличением количества </a:t>
            </a:r>
            <a:r>
              <a:rPr b="1" i="1" lang="ru-RU" sz="1200" spc="-1" strike="noStrike" u="sng">
                <a:solidFill>
                  <a:srgbClr val="c80000"/>
                </a:solidFill>
                <a:uFillTx/>
                <a:latin typeface="Calibri"/>
              </a:rPr>
              <a:t>мышей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переносчиков клещей. Посещение пригородов и лесозон всегда сопряжено с риском укуса клещом и заболеванием клещевым энцефалитом. Существуют некоторые простые народные способы отпугивания клещей.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18DB-D12F-4894-B6C1-2FEEF12BA1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меется опыт высокоэффективного использования импрегнации одежды выхлопными газами дизельных двигателей автомобилей и тракторов в течение 30 секунд. После такой обработки клещи не встречаются на одежде 4-5 часов. Естественный природный враг клещей –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лесные муравьи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Вырабатываемая ими кислота является природным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репелленто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и может быть использована для защиты от клещей. Муравьиный спирт, которым после разведения водой в 20-30 раз, можно обработать одежду и кожу нижних конечностей перед посещением лесных массивов, дачных и рекреационных зон. Запах муравьиного спирта отпугивает клещей.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5245-75D3-4F06-944F-8BBFEA8CA1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 лесной зоне, можно прибегнуть к иному способу обработки одежды и кожи, конечностей этим средством. В муравейник из красных муравьев на несколько секунд можно положить ладошки и затем обработать ими гачи штанин, так как клещи обитают, преимущественно на кустарниках и в травяной зоне не выше 70 см. над землей. Следует повторить прием несколько раз, причем можно обработать рукава и воротник одежды для большей надежности защитных мероприят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6B84-63CB-4877-8A20-43FD357FC5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онечно, все перечисленное не исключает возможности применения репеллентов, продающихся в аптеках. Но если их нет, не пренебрегайте нашими простыми, но очень эффективными средст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4DF9-7167-4475-B02A-7190C42C76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лещи встречаются не в каждом лесу и не на каждом участке леса. Жизнь клеща тесно связана с дикими животными и птицами, которые являются постоянными его прокормителями – «хозяевами». Только при питании кровью возможна жизнь клеща и его размножение. Поэтому, где больше диких животных и птиц, там больше и клещей, а где больше клещей, там и увеличивается опасность заражения клещевым энцефалит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4AFA-C93C-46D0-A9EB-10271F0418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 счастью, не каждый клещ опасен. Однако по внешнему виду нельзя отличить зараженного клеща от незараженного. Поэтому необходимо охранять себя от присасывания любых клещей. Клещи являются не только переносчиками, но и основными хранителями возбудителя боле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80000"/>
                </a:solidFill>
                <a:latin typeface="Calibri"/>
              </a:rPr>
              <a:t>Поэтому необходимо твердо знать: где, когда и как можно оградить себя от присасывания клеще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5F89-C748-4EE8-90F3-F329C501A1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a003a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Альская Т.В. Советы по разным поводам // Предупреждение. Библиотечка ЗОЖ. М.: - 2003. - №2/14/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2. Квашин В.Н. Осторожно. Клещевой энцефалит // Вестник реабилитолога. М.: - 2007. - №3 (август). – С.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3. Морозова О.А. Домашний врачеватель или книга о том, как помочь больному человеку. – Иркутск: РИО «СТРОКА», 199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4. Петрищева П. А. Не допускать заражения клещевым энцефалитом (памятка.).- М. : Медгиз, 195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5. Покровский В. И. Энциклопедия здоровья в 4 томах. Том 2. - М. : ИПО «Автор», 1992. – С.2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6. Райков Б. Е. , Римский – Корфаков М. Н. Зоологические экскурсии. - М. : Топикал, 1994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9B62-A1F2-4FC7-8BF6-AA03755BBE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1. Выяснить степень влияния клещевого энцефалита на здоровье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2. Познакомить учащихся с профилактикой против клещей – возбуди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BC00-17BE-457C-B93D-8AE3BF3D6C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Автор през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F951-047C-4C61-A539-E71D0C9D01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 приходом весны население посещает лесные зоны с целью сбора березового сока, первых цветов, организации досуга, при этом забывает о мерах предосторож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сещение пригородов и лесозон всегда сопряжено с риском укуса клещом, что вызывает вспышку заболевания клещевым энцефали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2177-97EB-4CE4-B565-C7E773B81B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Клещевой энцефалит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тяжелая болезнь, при которой происходит воспаление мозга. Ее возбудителем является мельчайший организм из группы вирусов, который можно увидеть только с помощью электронного микроскопа, дающего увеличение в десятки и сотни тысяч раз. Величина вируса клещевого энцефалита составляет 30 миллимикронов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тот мельчайший организм живет в теле лесного клеща до 4 лет. Клещ и является основным хранителем возбудителя болезни в природе и основным источником заражения человека. Поэтому болезнь получила название «Клещевой энцефали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FCEE-77D2-4E0C-926C-36EC01D125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Общая характери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ирусная инфекция передается в основном клещ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езонность  -  весенняя – летня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ражает нервную сист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и отсутствии должной профилактики и лечения, приводит к инвалидизации (80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етальность составляет от 2%  до 20%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ED49-E173-4894-951F-8E5E4E39C6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Карта распрост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энцефалитного клещ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о территори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летом 2007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618C-2AF1-40AA-9945-B5576375DA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ктивнее всего клещи весной и летом (в некоторых районах – осенью). В это время, находясь на природе (не важно  - в лесу, на загородной даче, на рыбалке)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нужно быть предельно осторожны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- стараться ходить по тропинкам, подальше от высокой травы и   кустарни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- на голову следует надеть косынку или кепку, а лучше всего гулять в куртке с капюшоном, брюки нужно заправить в сапоги или прижать резинками к щиколот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3FF5-CC13-4A3E-9152-8691CE10BA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D079-37E2-4AB9-9452-A465CFCBD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78E9-7A0B-4BF7-8A6D-CCFC12FE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C11A-4918-4FFA-AB9A-4E7CEA05A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5840-9799-436A-A04C-BDB52153B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5B50-130C-4C2A-BBE1-8798C5A9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FCDB-354F-461A-AFFD-7E5B84A8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2DD0-D00A-45D0-B61A-9F58813C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DC59-62BC-4F77-8C4A-39FD56B8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9666-F214-4D77-84A5-9F754678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DD9B-050E-4ADF-9A15-1185EDD8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395F-A0AF-488B-AA15-EFA802B8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CEE1-A9D7-4596-AE41-353DCFE1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B3DC-7472-4A45-9C83-694BC27FCE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1258920" y="4991040"/>
            <a:ext cx="763272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c80000"/>
                </a:solidFill>
                <a:latin typeface="Times New Roman"/>
              </a:rPr>
              <a:t>энцефалит </a:t>
            </a:r>
            <a:endParaRPr b="1" lang="en-US" sz="1800" spc="1" strike="noStrike">
              <a:ln w="25560">
                <a:solidFill>
                  <a:srgbClr val="ffff00"/>
                </a:solidFill>
                <a:miter/>
              </a:ln>
              <a:solidFill>
                <a:srgbClr val="c80000"/>
              </a:solidFill>
              <a:latin typeface="Times New Roman"/>
              <a:ea typeface="Times New Roman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3851280" y="185760"/>
            <a:ext cx="504180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c80000"/>
                </a:solidFill>
                <a:latin typeface="Times New Roman"/>
              </a:rPr>
              <a:t>Клещевой</a:t>
            </a:r>
            <a:endParaRPr b="1" lang="en-US" sz="1800" spc="1" strike="noStrike">
              <a:ln w="25560">
                <a:solidFill>
                  <a:srgbClr val="ffff00"/>
                </a:solidFill>
                <a:miter/>
              </a:ln>
              <a:solidFill>
                <a:srgbClr val="c80000"/>
              </a:solidFill>
              <a:latin typeface="Times New Roman"/>
              <a:ea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foto_0001389"/>
          <p:cNvPicPr/>
          <p:nvPr/>
        </p:nvPicPr>
        <p:blipFill>
          <a:blip r:embed="rId1"/>
          <a:stretch/>
        </p:blipFill>
        <p:spPr>
          <a:xfrm>
            <a:off x="250920" y="333360"/>
            <a:ext cx="4167000" cy="5113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82" name="Picture 4" descr="22"/>
          <p:cNvPicPr/>
          <p:nvPr/>
        </p:nvPicPr>
        <p:blipFill>
          <a:blip r:embed="rId2"/>
          <a:stretch/>
        </p:blipFill>
        <p:spPr>
          <a:xfrm>
            <a:off x="5076720" y="333360"/>
            <a:ext cx="3783240" cy="5116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grpSp>
        <p:nvGrpSpPr>
          <p:cNvPr id="83" name="Group 8"/>
          <p:cNvGrpSpPr/>
          <p:nvPr/>
        </p:nvGrpSpPr>
        <p:grpSpPr>
          <a:xfrm>
            <a:off x="5364000" y="189000"/>
            <a:ext cx="3384720" cy="5400720"/>
            <a:chOff x="5364000" y="189000"/>
            <a:chExt cx="3384720" cy="5400720"/>
          </a:xfrm>
        </p:grpSpPr>
        <p:sp>
          <p:nvSpPr>
            <p:cNvPr id="84" name="Line 5"/>
            <p:cNvSpPr/>
            <p:nvPr/>
          </p:nvSpPr>
          <p:spPr>
            <a:xfrm>
              <a:off x="5364000" y="189000"/>
              <a:ext cx="3384720" cy="5400720"/>
            </a:xfrm>
            <a:prstGeom prst="line">
              <a:avLst/>
            </a:prstGeom>
            <a:ln w="76320">
              <a:solidFill>
                <a:srgbClr val="c8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6"/>
            <p:cNvSpPr/>
            <p:nvPr/>
          </p:nvSpPr>
          <p:spPr>
            <a:xfrm flipH="1">
              <a:off x="5589720" y="189000"/>
              <a:ext cx="2989080" cy="5400720"/>
            </a:xfrm>
            <a:prstGeom prst="line">
              <a:avLst/>
            </a:prstGeom>
            <a:ln w="76320">
              <a:solidFill>
                <a:srgbClr val="c8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7" descr="49008751"/>
          <p:cNvPicPr/>
          <p:nvPr/>
        </p:nvPicPr>
        <p:blipFill>
          <a:blip r:embed="rId3"/>
          <a:stretch/>
        </p:blipFill>
        <p:spPr>
          <a:xfrm>
            <a:off x="3414600" y="4724280"/>
            <a:ext cx="2311560" cy="1946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image002"/>
          <p:cNvPicPr/>
          <p:nvPr/>
        </p:nvPicPr>
        <p:blipFill>
          <a:blip r:embed="rId1"/>
          <a:srcRect l="0" t="0" r="12557" b="8717"/>
          <a:stretch/>
        </p:blipFill>
        <p:spPr>
          <a:xfrm>
            <a:off x="1258920" y="189000"/>
            <a:ext cx="6767640" cy="6480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924360" y="189000"/>
            <a:ext cx="504036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c80000"/>
                </a:solidFill>
                <a:latin typeface="Arial"/>
              </a:rPr>
              <a:t>само и взаимоосмотры при выходе из леса, возвращении домой – необходимо раздеться и тщательно осмотреть кожу  - не присосался ли где клещ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c8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8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c80000"/>
                </a:solidFill>
                <a:latin typeface="Arial"/>
              </a:rPr>
              <a:t>возможность заражения – употребление сырого молока коз или коров (при  кипячении вирус погибает  через 2 минуты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kl"/>
          <p:cNvPicPr/>
          <p:nvPr/>
        </p:nvPicPr>
        <p:blipFill>
          <a:blip r:embed="rId1"/>
          <a:stretch/>
        </p:blipFill>
        <p:spPr>
          <a:xfrm>
            <a:off x="250920" y="260280"/>
            <a:ext cx="3600360" cy="28926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92" name="Picture 4" descr="319"/>
          <p:cNvPicPr/>
          <p:nvPr/>
        </p:nvPicPr>
        <p:blipFill>
          <a:blip r:embed="rId2"/>
          <a:stretch/>
        </p:blipFill>
        <p:spPr>
          <a:xfrm>
            <a:off x="250920" y="3500280"/>
            <a:ext cx="3816360" cy="3100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4284720" y="1413000"/>
            <a:ext cx="471636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ля предотвращения развития заболевания, при обнаружении впившегося в тело клеща в течение первых 3-х дней (лучше в течение суток) необходимо обратиться  в медицинское учреждение для введения донорского </a:t>
            </a:r>
            <a:r>
              <a:rPr b="1" i="1" lang="ru-RU" sz="2400" spc="-1" strike="noStrike" u="sng">
                <a:solidFill>
                  <a:srgbClr val="c80000"/>
                </a:solidFill>
                <a:uFillTx/>
                <a:latin typeface="Arial"/>
              </a:rPr>
              <a:t>иммуноглобулин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Там же вам удалят присосавшегося паразита. Не каждый клещ является «заразным», </a:t>
            </a:r>
            <a:r>
              <a:rPr b="1" i="1" lang="ru-RU" sz="2400" spc="-1" strike="noStrike" u="sng">
                <a:solidFill>
                  <a:srgbClr val="c80000"/>
                </a:solidFill>
                <a:uFillTx/>
                <a:latin typeface="Arial"/>
              </a:rPr>
              <a:t>но стоит ли рисковать?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6"/>
          <p:cNvSpPr txBox="1"/>
          <p:nvPr/>
        </p:nvSpPr>
        <p:spPr>
          <a:xfrm>
            <a:off x="324000" y="189000"/>
            <a:ext cx="846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Экстренная профилактика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клещевого энцефалита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pic>
        <p:nvPicPr>
          <p:cNvPr id="96" name="Picture 9" descr="doctors_0004062919"/>
          <p:cNvPicPr/>
          <p:nvPr/>
        </p:nvPicPr>
        <p:blipFill>
          <a:blip r:embed="rId1"/>
          <a:stretch/>
        </p:blipFill>
        <p:spPr>
          <a:xfrm>
            <a:off x="179280" y="3933720"/>
            <a:ext cx="2521080" cy="1954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97" name="WordArt 10"/>
          <p:cNvSpPr txBox="1"/>
          <p:nvPr/>
        </p:nvSpPr>
        <p:spPr>
          <a:xfrm>
            <a:off x="250920" y="6021360"/>
            <a:ext cx="4249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80000"/>
                </a:solidFill>
                <a:latin typeface="Arial"/>
              </a:rPr>
              <a:t>Стоит ли рисковать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80000"/>
              </a:solidFill>
              <a:latin typeface="Arial"/>
              <a:ea typeface="Arial"/>
            </a:endParaRPr>
          </a:p>
        </p:txBody>
      </p:sp>
      <p:pic>
        <p:nvPicPr>
          <p:cNvPr id="98" name="Picture 13" descr="m_1531"/>
          <p:cNvPicPr/>
          <p:nvPr/>
        </p:nvPicPr>
        <p:blipFill>
          <a:blip r:embed="rId2"/>
          <a:stretch/>
        </p:blipFill>
        <p:spPr>
          <a:xfrm>
            <a:off x="2124000" y="3068640"/>
            <a:ext cx="2305080" cy="1655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99" name="Picture 14" descr="фф"/>
          <p:cNvPicPr/>
          <p:nvPr/>
        </p:nvPicPr>
        <p:blipFill>
          <a:blip r:embed="rId3"/>
          <a:stretch/>
        </p:blipFill>
        <p:spPr>
          <a:xfrm>
            <a:off x="468360" y="1484280"/>
            <a:ext cx="2736720" cy="19558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995640" y="1413000"/>
            <a:ext cx="4932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Иммуноглобулин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 течение нескольких недель (до месяца) предохраняет от заражения. Если через несколько дней вас укусит клещ, повторно укол делать не нужно.  </a:t>
            </a: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Иммуноглобулин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стоит ввести и привитому человеку, если клещей присосалось м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3"/>
          <p:cNvSpPr txBox="1"/>
          <p:nvPr/>
        </p:nvSpPr>
        <p:spPr>
          <a:xfrm>
            <a:off x="324000" y="189000"/>
            <a:ext cx="8461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Экстренная профилактика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клещевого энцефалита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pic>
        <p:nvPicPr>
          <p:cNvPr id="103" name="Picture 4" descr="2007-05-23-klesch%CA40"/>
          <p:cNvPicPr/>
          <p:nvPr/>
        </p:nvPicPr>
        <p:blipFill>
          <a:blip r:embed="rId1"/>
          <a:stretch/>
        </p:blipFill>
        <p:spPr>
          <a:xfrm>
            <a:off x="324000" y="1916280"/>
            <a:ext cx="4037040" cy="4119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дномоментно прием </a:t>
            </a:r>
            <a:r>
              <a:rPr b="1" lang="ru-RU" sz="3200" spc="-1" strike="noStrike">
                <a:solidFill>
                  <a:srgbClr val="c80000"/>
                </a:solidFill>
                <a:latin typeface="Arial"/>
              </a:rPr>
              <a:t>циклоферон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4 таблетки в первый день, 2 таблетки на 2, 4, 6 дней профилактического леч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24"/>
          <p:cNvPicPr/>
          <p:nvPr/>
        </p:nvPicPr>
        <p:blipFill>
          <a:blip r:embed="rId1"/>
          <a:stretch/>
        </p:blipFill>
        <p:spPr>
          <a:xfrm>
            <a:off x="5148360" y="4005360"/>
            <a:ext cx="3527280" cy="26334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07" name="Picture 6" descr="trumbnail_big"/>
          <p:cNvPicPr/>
          <p:nvPr/>
        </p:nvPicPr>
        <p:blipFill>
          <a:blip r:embed="rId2"/>
          <a:stretch/>
        </p:blipFill>
        <p:spPr>
          <a:xfrm>
            <a:off x="468360" y="4005360"/>
            <a:ext cx="3382920" cy="2651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08" name="Picture 7" descr="n67n-s25"/>
          <p:cNvPicPr/>
          <p:nvPr/>
        </p:nvPicPr>
        <p:blipFill>
          <a:blip r:embed="rId3"/>
          <a:stretch/>
        </p:blipFill>
        <p:spPr>
          <a:xfrm>
            <a:off x="539640" y="1628640"/>
            <a:ext cx="3168720" cy="2157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09" name="Picture 8" descr="m_63885"/>
          <p:cNvPicPr/>
          <p:nvPr/>
        </p:nvPicPr>
        <p:blipFill>
          <a:blip r:embed="rId4"/>
          <a:stretch/>
        </p:blipFill>
        <p:spPr>
          <a:xfrm>
            <a:off x="5364000" y="1601640"/>
            <a:ext cx="3240360" cy="2187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80000"/>
                </a:solidFill>
                <a:uFillTx/>
                <a:latin typeface="Arial"/>
              </a:rPr>
              <a:t>Само и взаимопомощ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если вы не в городе) – это удаление клеща: место укуса предварительно смазать жиром (вазелином, подсолнечным маслом), через 15 минут осторожно вытянуть сделанной из нити петлей, покачивая из стороны в сторо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445_big"/>
          <p:cNvPicPr/>
          <p:nvPr/>
        </p:nvPicPr>
        <p:blipFill>
          <a:blip r:embed="rId1"/>
          <a:stretch/>
        </p:blipFill>
        <p:spPr>
          <a:xfrm>
            <a:off x="611280" y="2060640"/>
            <a:ext cx="3024000" cy="2252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13" name="Picture 5" descr="5630132E48D08C04kleshc_0712"/>
          <p:cNvPicPr/>
          <p:nvPr/>
        </p:nvPicPr>
        <p:blipFill>
          <a:blip r:embed="rId2"/>
          <a:stretch/>
        </p:blipFill>
        <p:spPr>
          <a:xfrm>
            <a:off x="5508720" y="4724280"/>
            <a:ext cx="2950920" cy="19288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14" name="Picture 6" descr="kles42-300"/>
          <p:cNvPicPr/>
          <p:nvPr/>
        </p:nvPicPr>
        <p:blipFill>
          <a:blip r:embed="rId3"/>
          <a:stretch/>
        </p:blipFill>
        <p:spPr>
          <a:xfrm>
            <a:off x="5508720" y="2048040"/>
            <a:ext cx="2950920" cy="2360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15" name="Picture 7" descr="Схема удаления энцефалитного клеща"/>
          <p:cNvPicPr/>
          <p:nvPr/>
        </p:nvPicPr>
        <p:blipFill>
          <a:blip r:embed="rId4"/>
          <a:stretch/>
        </p:blipFill>
        <p:spPr>
          <a:xfrm>
            <a:off x="826920" y="4581360"/>
            <a:ext cx="2664000" cy="2049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ледует избегать разрушения клеща, так как может произойти заражение вирусом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Место укуса обработать йодом или спир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527_Untitled8"/>
          <p:cNvPicPr/>
          <p:nvPr/>
        </p:nvPicPr>
        <p:blipFill>
          <a:blip r:embed="rId1"/>
          <a:stretch/>
        </p:blipFill>
        <p:spPr>
          <a:xfrm>
            <a:off x="5219640" y="3789360"/>
            <a:ext cx="3598920" cy="2836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19" name="Picture 4" descr="20"/>
          <p:cNvPicPr/>
          <p:nvPr/>
        </p:nvPicPr>
        <p:blipFill>
          <a:blip r:embed="rId2"/>
          <a:stretch/>
        </p:blipFill>
        <p:spPr>
          <a:xfrm>
            <a:off x="395280" y="3789360"/>
            <a:ext cx="3857760" cy="28764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20" name="Picture 5" descr="1180975956_encefalit_rs"/>
          <p:cNvPicPr/>
          <p:nvPr/>
        </p:nvPicPr>
        <p:blipFill>
          <a:blip r:embed="rId3"/>
          <a:stretch/>
        </p:blipFill>
        <p:spPr>
          <a:xfrm>
            <a:off x="2556000" y="1484280"/>
            <a:ext cx="4032000" cy="2073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95280" y="189000"/>
            <a:ext cx="820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00"/>
                </a:solidFill>
                <a:latin typeface="Arial"/>
              </a:rPr>
              <a:t>Экстренная профилактика в первые 72 часа после укуса клещ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Экстренная профилактика (в первые 72 часа после укуса клеща"/>
          <p:cNvPicPr/>
          <p:nvPr/>
        </p:nvPicPr>
        <p:blipFill>
          <a:blip r:embed="rId1"/>
          <a:srcRect l="0" t="0" r="0" b="501"/>
          <a:stretch/>
        </p:blipFill>
        <p:spPr>
          <a:xfrm>
            <a:off x="1979640" y="2205000"/>
            <a:ext cx="5040360" cy="4392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179280" y="1557360"/>
            <a:ext cx="5005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юдям, чья работа связана с пребыванием в лесу (геодезистам, лесникам, дачникам) надо сделать прививку против клещевого энцефали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80000"/>
                </a:solidFill>
                <a:latin typeface="Arial"/>
              </a:rPr>
              <a:t>Без прививки - не допустят к рабо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5"/>
          <p:cNvSpPr txBox="1"/>
          <p:nvPr/>
        </p:nvSpPr>
        <p:spPr>
          <a:xfrm>
            <a:off x="324000" y="189000"/>
            <a:ext cx="8461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Плановая профилактика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клещевого энцефалита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pic>
        <p:nvPicPr>
          <p:cNvPr id="127" name="Picture 6" descr="foto_10"/>
          <p:cNvPicPr/>
          <p:nvPr/>
        </p:nvPicPr>
        <p:blipFill>
          <a:blip r:embed="rId1"/>
          <a:stretch/>
        </p:blipFill>
        <p:spPr>
          <a:xfrm>
            <a:off x="5435640" y="1773360"/>
            <a:ext cx="3203640" cy="4856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79280" y="189000"/>
            <a:ext cx="871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Влияние клещевого энцефалита на организм и здоровье челове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b653cfceeb7a91a5395b"/>
          <p:cNvPicPr/>
          <p:nvPr/>
        </p:nvPicPr>
        <p:blipFill>
          <a:blip r:embed="rId1"/>
          <a:stretch/>
        </p:blipFill>
        <p:spPr>
          <a:xfrm>
            <a:off x="2484360" y="3068640"/>
            <a:ext cx="3922920" cy="3349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79280" y="189000"/>
            <a:ext cx="878544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витые болеют реже, у них в случае заболевания отмечаются легкие формы. Полный курс вакцинации состоит из 3-х прививок, поэтому лучше всего осенью сделать 2 прививки, а последнюю – 3 прививку сделать весной за 2 недели до выхода в лес. Можно привиться по сокращенной схеме – двумя прививками, но эффективность такой вакцинации ниже. Чтобы невосприимчивость к клещевому энцефалиту сохранялась, необходимо на следующую весну прививку повтор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0000"/>
                </a:solidFill>
                <a:latin typeface="Arial"/>
              </a:rPr>
              <a:t>Ревакцинация через каждые 3 года.</a:t>
            </a:r>
            <a:r>
              <a:rPr b="1" lang="ru-RU" sz="2400" spc="-1" strike="noStrike">
                <a:solidFill>
                  <a:srgbClr val="c8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inet_07"/>
          <p:cNvPicPr/>
          <p:nvPr/>
        </p:nvPicPr>
        <p:blipFill>
          <a:blip r:embed="rId1"/>
          <a:stretch/>
        </p:blipFill>
        <p:spPr>
          <a:xfrm>
            <a:off x="1042920" y="4556160"/>
            <a:ext cx="3168720" cy="2128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31" name="Picture 5" descr="Laboratoria"/>
          <p:cNvPicPr/>
          <p:nvPr/>
        </p:nvPicPr>
        <p:blipFill>
          <a:blip r:embed="rId2"/>
          <a:stretch/>
        </p:blipFill>
        <p:spPr>
          <a:xfrm>
            <a:off x="5435640" y="4581360"/>
            <a:ext cx="2376360" cy="2049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0" y="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прошлом году в лечебно – профилактические учреждения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ркутской област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с укусами клещей обратились </a:t>
            </a: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12246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человек. Это </a:t>
            </a: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на 15 % больше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чем в 2004 году. За этот период зарегистрировано </a:t>
            </a: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119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случаев заболевания клещевым энцефалитом и </a:t>
            </a: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137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клещевым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боррелиозом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94 %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заболевших – жители городов и районов, выезжающие в лес отдыхать, а также дачники. Среди неорганизованных отдыхающих крайне низкий охват прививками  –  </a:t>
            </a: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2,1%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18343_2"/>
          <p:cNvPicPr/>
          <p:nvPr/>
        </p:nvPicPr>
        <p:blipFill>
          <a:blip r:embed="rId1"/>
          <a:stretch/>
        </p:blipFill>
        <p:spPr>
          <a:xfrm>
            <a:off x="250920" y="4437000"/>
            <a:ext cx="2950920" cy="2236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35" name="Picture 6" descr="250806_22"/>
          <p:cNvPicPr/>
          <p:nvPr/>
        </p:nvPicPr>
        <p:blipFill>
          <a:blip r:embed="rId2"/>
          <a:stretch/>
        </p:blipFill>
        <p:spPr>
          <a:xfrm>
            <a:off x="5940360" y="4437000"/>
            <a:ext cx="2879640" cy="2160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36" name="Picture 7" descr="yun_914"/>
          <p:cNvPicPr/>
          <p:nvPr/>
        </p:nvPicPr>
        <p:blipFill>
          <a:blip r:embed="rId3"/>
          <a:stretch/>
        </p:blipFill>
        <p:spPr>
          <a:xfrm>
            <a:off x="3780000" y="4437000"/>
            <a:ext cx="1504800" cy="2241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37355"/>
          <p:cNvPicPr/>
          <p:nvPr/>
        </p:nvPicPr>
        <p:blipFill>
          <a:blip r:embed="rId1"/>
          <a:stretch/>
        </p:blipFill>
        <p:spPr>
          <a:xfrm>
            <a:off x="2627280" y="189000"/>
            <a:ext cx="6062760" cy="6334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39" name="Picture 4" descr="43662"/>
          <p:cNvPicPr/>
          <p:nvPr/>
        </p:nvPicPr>
        <p:blipFill>
          <a:blip r:embed="rId2"/>
          <a:stretch/>
        </p:blipFill>
        <p:spPr>
          <a:xfrm>
            <a:off x="179280" y="333360"/>
            <a:ext cx="2160720" cy="1268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40" name="Picture 6" descr="kleok"/>
          <p:cNvPicPr/>
          <p:nvPr/>
        </p:nvPicPr>
        <p:blipFill>
          <a:blip r:embed="rId3"/>
          <a:stretch/>
        </p:blipFill>
        <p:spPr>
          <a:xfrm>
            <a:off x="179280" y="4653000"/>
            <a:ext cx="2171880" cy="1771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41" name="Picture 7" descr="klesh(12476)"/>
          <p:cNvPicPr/>
          <p:nvPr/>
        </p:nvPicPr>
        <p:blipFill>
          <a:blip r:embed="rId4"/>
          <a:stretch/>
        </p:blipFill>
        <p:spPr>
          <a:xfrm>
            <a:off x="250920" y="2133720"/>
            <a:ext cx="2016000" cy="2016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42" name="Oval 8"/>
          <p:cNvSpPr/>
          <p:nvPr/>
        </p:nvSpPr>
        <p:spPr>
          <a:xfrm>
            <a:off x="2195640" y="6021360"/>
            <a:ext cx="6769080" cy="620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-252360" y="1484280"/>
            <a:ext cx="698508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спространение клещей, переносчиков вируса энцефалита, в последнее время претерпевает подъем, в том числе связанный с хозяйственной деятельностью человека (лучше сказать </a:t>
            </a:r>
            <a:r>
              <a:rPr b="1" lang="ru-RU" sz="2400" spc="-1" strike="noStrike">
                <a:solidFill>
                  <a:srgbClr val="c80000"/>
                </a:solidFill>
                <a:latin typeface="Arial"/>
              </a:rPr>
              <a:t>с бесхозяйственной деятельностью – организация стихийных свалок и мусорных куч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) и увеличением количества </a:t>
            </a:r>
            <a:r>
              <a:rPr b="1" i="1" lang="ru-RU" sz="2400" spc="-1" strike="noStrike" u="sng">
                <a:solidFill>
                  <a:srgbClr val="c80000"/>
                </a:solidFill>
                <a:uFillTx/>
                <a:latin typeface="Arial"/>
              </a:rPr>
              <a:t>мыше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переносчиков клещей. Посещение пригородов и лесозон всегда сопряжено с риском укуса клещом и заболеванием клещевым энцефалитом. Существуют некоторые простые народные способы отпугивания клещей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8"/>
          <p:cNvSpPr txBox="1"/>
          <p:nvPr/>
        </p:nvSpPr>
        <p:spPr>
          <a:xfrm>
            <a:off x="324000" y="189000"/>
            <a:ext cx="8461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Народные средства для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отпугивания клещей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pic>
        <p:nvPicPr>
          <p:cNvPr id="146" name="Picture 9" descr="nature"/>
          <p:cNvPicPr/>
          <p:nvPr/>
        </p:nvPicPr>
        <p:blipFill>
          <a:blip r:embed="rId1"/>
          <a:stretch/>
        </p:blipFill>
        <p:spPr>
          <a:xfrm>
            <a:off x="6588000" y="1628640"/>
            <a:ext cx="2409840" cy="1525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47" name="Picture 10" descr="m_4695"/>
          <p:cNvPicPr/>
          <p:nvPr/>
        </p:nvPicPr>
        <p:blipFill>
          <a:blip r:embed="rId2"/>
          <a:stretch/>
        </p:blipFill>
        <p:spPr>
          <a:xfrm>
            <a:off x="6804000" y="3573360"/>
            <a:ext cx="2000160" cy="2968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-252360" y="0"/>
            <a:ext cx="939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меется опыт высокоэффективного использования импрегнации одежды выхлопными газами дизельных двигателей автомобилей и тракторов в течение 30 секунд. После такой обработки клещи не встречаются на одежде 4-5 часов. Естественный природный враг клещей –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лесные муравь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Вырабатываемая ими кислота является природным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епелленто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 может быть использована для защиты от клещей. Муравьиный спирт, которым после разведения водой в 20-30 раз, можно обработать одежду и кожу нижних конечностей перед посещением лесных массивов, дачных и рекреационных зон. Запах муравьиного спирта отпугивает клещей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s_16075"/>
          <p:cNvPicPr/>
          <p:nvPr/>
        </p:nvPicPr>
        <p:blipFill>
          <a:blip r:embed="rId1"/>
          <a:stretch/>
        </p:blipFill>
        <p:spPr>
          <a:xfrm>
            <a:off x="6227640" y="4597560"/>
            <a:ext cx="2737080" cy="2054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51" name="Picture 5" descr="укусах (осы, комаров, клеща, змеи, паука"/>
          <p:cNvPicPr/>
          <p:nvPr/>
        </p:nvPicPr>
        <p:blipFill>
          <a:blip r:embed="rId2"/>
          <a:stretch/>
        </p:blipFill>
        <p:spPr>
          <a:xfrm>
            <a:off x="250920" y="4546440"/>
            <a:ext cx="2305080" cy="2122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52" name="Picture 6" descr="klehs"/>
          <p:cNvPicPr/>
          <p:nvPr/>
        </p:nvPicPr>
        <p:blipFill>
          <a:blip r:embed="rId3"/>
          <a:stretch/>
        </p:blipFill>
        <p:spPr>
          <a:xfrm>
            <a:off x="3276720" y="4941720"/>
            <a:ext cx="2232000" cy="17859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179280" y="1052640"/>
            <a:ext cx="89647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0" y="260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0" y="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лесной зоне, можно прибегнуть к иному способу обработки одежды и кожи, конечностей этим средством. В муравейник из красных муравьев на несколько секунд можно положить ладошки и затем обработать ими гачи штанин, так как клещи обитают, преимущественно на кустарниках и в травяной зоне не выше 70 см. над землей. Следует повторить прием несколько раз, причем можно обработать рукава и воротник одежды для большей надежности защитных мероприят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9" descr="4485326acc0b8big"/>
          <p:cNvPicPr/>
          <p:nvPr/>
        </p:nvPicPr>
        <p:blipFill>
          <a:blip r:embed="rId1"/>
          <a:stretch/>
        </p:blipFill>
        <p:spPr>
          <a:xfrm>
            <a:off x="4788000" y="3500280"/>
            <a:ext cx="3887640" cy="3157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58" name="Picture 10" descr="getfoto"/>
          <p:cNvPicPr/>
          <p:nvPr/>
        </p:nvPicPr>
        <p:blipFill>
          <a:blip r:embed="rId2"/>
          <a:stretch/>
        </p:blipFill>
        <p:spPr>
          <a:xfrm>
            <a:off x="468360" y="3500280"/>
            <a:ext cx="3743280" cy="3132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179280" y="1052640"/>
            <a:ext cx="89647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260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1890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ечно, все перечисленное не исключает возможности применения репеллентов, продающихся в аптеках. Но если их нет, не пренебрегайте нашими простыми, но очень эффективными средст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защиты от клеща до момента укуса"/>
          <p:cNvPicPr/>
          <p:nvPr/>
        </p:nvPicPr>
        <p:blipFill>
          <a:blip r:embed="rId1"/>
          <a:stretch/>
        </p:blipFill>
        <p:spPr>
          <a:xfrm>
            <a:off x="2195640" y="2133720"/>
            <a:ext cx="3431880" cy="3927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64" name="Picture 7" descr="flacony_1"/>
          <p:cNvPicPr/>
          <p:nvPr/>
        </p:nvPicPr>
        <p:blipFill>
          <a:blip r:embed="rId2"/>
          <a:stretch/>
        </p:blipFill>
        <p:spPr>
          <a:xfrm>
            <a:off x="5940360" y="1844640"/>
            <a:ext cx="2943360" cy="4749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65" name="Picture 8" descr="1045880b"/>
          <p:cNvPicPr/>
          <p:nvPr/>
        </p:nvPicPr>
        <p:blipFill>
          <a:blip r:embed="rId3"/>
          <a:stretch/>
        </p:blipFill>
        <p:spPr>
          <a:xfrm>
            <a:off x="250920" y="1844640"/>
            <a:ext cx="1638360" cy="4762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79280" y="977400"/>
            <a:ext cx="878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лещи встречаются не в каждом лесу и не на каждом участке леса. Жизнь клеща тесно связана с дикими животными и птицами, которые являются постоянными его прокормителями – «хозяевами». Только при питании кровью возможна жизнь клеща и его размножение. Поэтому, где больше диких животных и птиц, там больше и клещей, а где больше клещей, там и увеличивается опасность заражения клещевым энцефалит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WordArt 8"/>
          <p:cNvSpPr txBox="1"/>
          <p:nvPr/>
        </p:nvSpPr>
        <p:spPr>
          <a:xfrm>
            <a:off x="2124000" y="189000"/>
            <a:ext cx="468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Заключение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pic>
        <p:nvPicPr>
          <p:cNvPr id="169" name="Picture 9" descr="3605"/>
          <p:cNvPicPr/>
          <p:nvPr/>
        </p:nvPicPr>
        <p:blipFill>
          <a:blip r:embed="rId1"/>
          <a:stretch/>
        </p:blipFill>
        <p:spPr>
          <a:xfrm>
            <a:off x="3203640" y="4437000"/>
            <a:ext cx="2665440" cy="22528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70" name="Picture 10" descr="d834a39e-431f-4ac2-8def-cb9241af1af3"/>
          <p:cNvPicPr/>
          <p:nvPr/>
        </p:nvPicPr>
        <p:blipFill>
          <a:blip r:embed="rId2"/>
          <a:stretch/>
        </p:blipFill>
        <p:spPr>
          <a:xfrm>
            <a:off x="6300720" y="4221000"/>
            <a:ext cx="2638440" cy="2235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71" name="Picture 11" descr="s_15177"/>
          <p:cNvPicPr/>
          <p:nvPr/>
        </p:nvPicPr>
        <p:blipFill>
          <a:blip r:embed="rId3"/>
          <a:stretch/>
        </p:blipFill>
        <p:spPr>
          <a:xfrm>
            <a:off x="250920" y="4221000"/>
            <a:ext cx="2593800" cy="22291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0" y="3015360"/>
            <a:ext cx="9144000" cy="38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К счастью, не каждый клещ опасен. Однако по внешнему виду нельзя отличить зараженного клеща от незараженного. Поэтому необходимо охранять себя от присасывания любых клещей. Клещи являются не только переносчиками, но и основными хранителями возбудителя болезн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80000"/>
                </a:solidFill>
                <a:latin typeface="Arial"/>
              </a:rPr>
              <a:t>Поэтому необходимо твердо знать: где, когда и как можно оградить себя от присасывания клещ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REG1193093256"/>
          <p:cNvPicPr/>
          <p:nvPr/>
        </p:nvPicPr>
        <p:blipFill>
          <a:blip r:embed="rId1"/>
          <a:stretch/>
        </p:blipFill>
        <p:spPr>
          <a:xfrm>
            <a:off x="2771640" y="189000"/>
            <a:ext cx="3672000" cy="2754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75" name="Picture 7" descr="kles4_sn"/>
          <p:cNvPicPr/>
          <p:nvPr/>
        </p:nvPicPr>
        <p:blipFill>
          <a:blip r:embed="rId2"/>
          <a:stretch/>
        </p:blipFill>
        <p:spPr>
          <a:xfrm>
            <a:off x="6732720" y="620640"/>
            <a:ext cx="2253960" cy="2087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76" name="Picture 8" descr="33"/>
          <p:cNvPicPr/>
          <p:nvPr/>
        </p:nvPicPr>
        <p:blipFill>
          <a:blip r:embed="rId3"/>
          <a:stretch/>
        </p:blipFill>
        <p:spPr>
          <a:xfrm>
            <a:off x="179280" y="549360"/>
            <a:ext cx="2305080" cy="20779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3"/>
          <p:cNvSpPr txBox="1"/>
          <p:nvPr/>
        </p:nvSpPr>
        <p:spPr>
          <a:xfrm>
            <a:off x="971640" y="333360"/>
            <a:ext cx="54007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ИСТОЧНИКИ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179280" y="1125360"/>
            <a:ext cx="8785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a003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Альская Т.В. Советы по разным поводам // Предупреждение. Библиотечка ЗОЖ. М.: - 2003. - №2/14/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Квашин В.Н. Осторожно. Клещевой энцефалит // Вестник реабилитолога. М.: - 2007. - №3 (август). – С.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 Морозова О.А. Домашний врачеватель или книга о том, как помочь больному человеку. – Иркутск: РИО «СТРОКА», 199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 Петрищева П. А. Не допускать заражения клещевым энцефалитом (памятка.).- М. : Медгиз, 1957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. Покровский В. И. Энциклопедия здоровья в 4 томах. Том 2. - М. : ИПО «Автор», 1992. – С.2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6. Райков Б. Е. , Римский – Корфаков М. Н. Зоологические экскурсии. - М. : Топикал, 1994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j0356673"/>
          <p:cNvPicPr/>
          <p:nvPr/>
        </p:nvPicPr>
        <p:blipFill>
          <a:blip r:embed="rId1"/>
          <a:stretch/>
        </p:blipFill>
        <p:spPr>
          <a:xfrm>
            <a:off x="7812000" y="189000"/>
            <a:ext cx="1190880" cy="119052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"/>
          <p:cNvSpPr txBox="1"/>
          <p:nvPr/>
        </p:nvSpPr>
        <p:spPr>
          <a:xfrm>
            <a:off x="179280" y="3068640"/>
            <a:ext cx="367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Задачи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564000" y="476280"/>
            <a:ext cx="540072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. Выяснить степень влияния клещевого энцефалита на здоровье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2. Познакомить учащихся с профилактикой против клещей – возбудителе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4de3d2f9b206764ec345b637058c71d8-053012cada7dc08b2a24e7674c78d04e"/>
          <p:cNvPicPr/>
          <p:nvPr/>
        </p:nvPicPr>
        <p:blipFill>
          <a:blip r:embed="rId1"/>
          <a:stretch/>
        </p:blipFill>
        <p:spPr>
          <a:xfrm>
            <a:off x="250920" y="189000"/>
            <a:ext cx="3600360" cy="2700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57" name="Picture 13" descr="inj"/>
          <p:cNvPicPr/>
          <p:nvPr/>
        </p:nvPicPr>
        <p:blipFill>
          <a:blip r:embed="rId2"/>
          <a:stretch/>
        </p:blipFill>
        <p:spPr>
          <a:xfrm>
            <a:off x="395280" y="4149720"/>
            <a:ext cx="3313080" cy="2484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10"/>
          <p:cNvSpPr txBox="1"/>
          <p:nvPr/>
        </p:nvSpPr>
        <p:spPr>
          <a:xfrm>
            <a:off x="324000" y="333360"/>
            <a:ext cx="5905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Автор презентации</a:t>
            </a:r>
            <a:endParaRPr b="0" lang="en-US" sz="1800" spc="1" strike="noStrike">
              <a:ln w="324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179280" y="1484280"/>
            <a:ext cx="5616720" cy="50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Радыгина Оксана Викторовн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учитель ИВТ и ИКТ МОУ «СОШ №42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города Братска, Иркут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3" descr=""/>
          <p:cNvPicPr/>
          <p:nvPr/>
        </p:nvPicPr>
        <p:blipFill>
          <a:blip r:embed="rId1"/>
          <a:stretch/>
        </p:blipFill>
        <p:spPr>
          <a:xfrm>
            <a:off x="6156360" y="1700280"/>
            <a:ext cx="2378160" cy="3672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2"/>
          <p:cNvSpPr txBox="1"/>
          <p:nvPr/>
        </p:nvSpPr>
        <p:spPr>
          <a:xfrm>
            <a:off x="250920" y="836640"/>
            <a:ext cx="4824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Актуальность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0" y="2879640"/>
            <a:ext cx="9144000" cy="39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С приходом весны население посещает лесные зоны с целью сбора березового сока, первых цветов, организации досуга, при этом забывает о мерах предосторожнос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осещение пригородов и лесозон всегда сопряжено с риском укуса клещом, что вызывает вспышку заболевания клещевым энцефалит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article06img01"/>
          <p:cNvPicPr/>
          <p:nvPr/>
        </p:nvPicPr>
        <p:blipFill>
          <a:blip r:embed="rId1"/>
          <a:stretch/>
        </p:blipFill>
        <p:spPr>
          <a:xfrm>
            <a:off x="5724360" y="189000"/>
            <a:ext cx="3202200" cy="2627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8" descr="4-1"/>
          <p:cNvPicPr/>
          <p:nvPr/>
        </p:nvPicPr>
        <p:blipFill>
          <a:blip r:embed="rId1"/>
          <a:stretch/>
        </p:blipFill>
        <p:spPr>
          <a:xfrm>
            <a:off x="1187280" y="260280"/>
            <a:ext cx="6337440" cy="6265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2"/>
          <p:cNvSpPr txBox="1"/>
          <p:nvPr/>
        </p:nvSpPr>
        <p:spPr>
          <a:xfrm>
            <a:off x="5796000" y="189000"/>
            <a:ext cx="3168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Введение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79280" y="189000"/>
            <a:ext cx="6121440" cy="63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2300" spc="-1" strike="noStrike" u="sng">
                <a:solidFill>
                  <a:srgbClr val="ffffff"/>
                </a:solidFill>
                <a:uFillTx/>
                <a:latin typeface="Arial"/>
              </a:rPr>
              <a:t>Клещевой энцефалит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 – тяжелая болезнь, при которой происходит воспаление мозга. Ее возбудителем является мельчайший организм из группы вирусов, который можно увидеть только с помощью электронного микроскопа, дающего увеличение в десятки и сотни тысяч раз. Величина вируса клещевого энцефалита составляет 30 миллимикронов»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Этот мельчайший организм живет в теле лесного клеща до 4 лет. Клещ и является основным хранителем возбудителя болезни в природе и основным источником заражения человека. Поэтому болезнь получила название «Клещевой энцефалит»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O-Klesh"/>
          <p:cNvPicPr/>
          <p:nvPr/>
        </p:nvPicPr>
        <p:blipFill>
          <a:blip r:embed="rId1"/>
          <a:stretch/>
        </p:blipFill>
        <p:spPr>
          <a:xfrm>
            <a:off x="6227640" y="1197000"/>
            <a:ext cx="2395800" cy="5400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179280" y="907920"/>
            <a:ext cx="89647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Вирусная инфекция передается в основном клеща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Сезонность  -  весенняя – летня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Поражает нервную систем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При отсутствии должной профилактики и лечения, приводит к инвалидизации (80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Летальность составляет от 2%  до 20%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6"/>
          <p:cNvSpPr txBox="1"/>
          <p:nvPr/>
        </p:nvSpPr>
        <p:spPr>
          <a:xfrm>
            <a:off x="358920" y="189000"/>
            <a:ext cx="8461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Общая характеристика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pic>
        <p:nvPicPr>
          <p:cNvPr id="71" name="Picture 8" descr="klesch65"/>
          <p:cNvPicPr/>
          <p:nvPr/>
        </p:nvPicPr>
        <p:blipFill>
          <a:blip r:embed="rId1"/>
          <a:stretch/>
        </p:blipFill>
        <p:spPr>
          <a:xfrm>
            <a:off x="6084720" y="3933720"/>
            <a:ext cx="2816280" cy="2662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72" name="Picture 9" descr="klez"/>
          <p:cNvPicPr/>
          <p:nvPr/>
        </p:nvPicPr>
        <p:blipFill>
          <a:blip r:embed="rId2"/>
          <a:stretch/>
        </p:blipFill>
        <p:spPr>
          <a:xfrm>
            <a:off x="250920" y="4005360"/>
            <a:ext cx="2663640" cy="2614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73" name="Picture 10" descr="419290_20020506082845"/>
          <p:cNvPicPr/>
          <p:nvPr/>
        </p:nvPicPr>
        <p:blipFill>
          <a:blip r:embed="rId3"/>
          <a:stretch/>
        </p:blipFill>
        <p:spPr>
          <a:xfrm>
            <a:off x="3203640" y="4213080"/>
            <a:ext cx="2592360" cy="2275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3"/>
          <p:cNvSpPr txBox="1"/>
          <p:nvPr/>
        </p:nvSpPr>
        <p:spPr>
          <a:xfrm>
            <a:off x="539640" y="189000"/>
            <a:ext cx="82090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рта распространения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энцефалитного клеща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 территории России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том 2007 года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76" name="Picture 4" descr="Карта распространения энцефалитного клеща по территории России этим летом"/>
          <p:cNvPicPr/>
          <p:nvPr/>
        </p:nvPicPr>
        <p:blipFill>
          <a:blip r:embed="rId1"/>
          <a:stretch/>
        </p:blipFill>
        <p:spPr>
          <a:xfrm>
            <a:off x="1332000" y="2565360"/>
            <a:ext cx="6553080" cy="4145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700360" y="189000"/>
            <a:ext cx="6227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Активнее всего клещи весной и летом (в некоторых районах – осенью). В это время, находясь на природе (не важно  - в лесу, на загородной даче, на рыбалке) </a:t>
            </a:r>
            <a:r>
              <a:rPr b="1" lang="ru-RU" sz="2700" spc="-1" strike="noStrike" u="sng">
                <a:solidFill>
                  <a:srgbClr val="ffffff"/>
                </a:solidFill>
                <a:uFillTx/>
                <a:latin typeface="Arial"/>
              </a:rPr>
              <a:t>нужно быть предельно осторожным</a:t>
            </a: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80000"/>
                </a:solidFill>
                <a:latin typeface="Arial"/>
              </a:rPr>
              <a:t>- стараться ходить по тропинкам, подальше от высокой травы и   кустарника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80000"/>
                </a:solidFill>
                <a:latin typeface="Arial"/>
              </a:rPr>
              <a:t>- на голову следует надеть косынку или кепку, а лучше всего гулять в куртке с капюшоном, брюки нужно заправить в сапоги или прижать резинками к щиколотке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kle"/>
          <p:cNvPicPr/>
          <p:nvPr/>
        </p:nvPicPr>
        <p:blipFill>
          <a:blip r:embed="rId1"/>
          <a:srcRect l="0" t="0" r="93" b="26"/>
          <a:stretch/>
        </p:blipFill>
        <p:spPr>
          <a:xfrm>
            <a:off x="324000" y="260280"/>
            <a:ext cx="2334960" cy="6334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4:25:15Z</dcterms:created>
  <dc:creator>РОкся</dc:creator>
  <dc:description/>
  <dc:language>en-US</dc:language>
  <cp:lastModifiedBy>LEGION</cp:lastModifiedBy>
  <dcterms:modified xsi:type="dcterms:W3CDTF">2015-05-12T08:12:16Z</dcterms:modified>
  <cp:revision>115</cp:revision>
  <dc:subject/>
  <dc:title>Клещевой энцефали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c000000000001024140</vt:lpwstr>
  </property>
</Properties>
</file>