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11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9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12.wmf" ContentType="image/x-wmf"/>
  <Override PartName="/ppt/media/image7.png" ContentType="image/png"/>
  <Override PartName="/ppt/media/image15.wmf" ContentType="image/x-wmf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F2AF-7F5F-4D62-80A0-C609CC05A9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ход за кожей лица, рук, ног, уход за ног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ОЖ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7B97-215F-4F59-A5B6-593B9D3CB94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ое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EEB3-540D-4411-AC9F-23D2F160EFF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УКЦИОН ИДЕЙ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человеку кож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5058-8C89-4B5D-B978-D139A6D2063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1 кв.см. кожи име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точки, чувствительные к теп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 точек, чувствительных к хол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точек осяз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0 болевых то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D026-8A75-4AC1-ACDC-4A9434BADFA9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различных заболеваниях на коже может появиться сыпь и даже яз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B337-500D-45F8-9466-B51A6B986261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ги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5DE5-4BAB-46B7-815F-3DD3A992E22B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D07-0887-4823-8E6A-213E37199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05D-DA70-43C2-8D57-CD18098D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F70-12C9-49A4-9384-865B2AF8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356B-6699-484B-A7F2-CC02DF4A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B445-6090-4313-B882-F2514DEF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AD19-2CE0-4A0F-93AD-C99FA605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A015-3EBE-480C-9850-02E5EAE2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A527-3356-49B3-A620-C7390FA3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751B-6C97-454C-ABC0-2824D8D0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7203-6829-4E4F-8A59-52A4CF3D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87278-091A-4A50-9750-45837F6D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13C2-907D-4E19-82F9-E0C1911C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CE19-712B-49C6-A522-C8876D02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3228-3694-4532-830A-3A27DF2C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C7C0-8721-4DC5-A7D0-10B001B2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704E-8811-47ED-90D0-A068CDBCD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C87D-63F9-431C-94F4-3FDC770A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DE4-C0BF-49D1-961A-7334FCEC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EF02-0728-42B2-AB33-E709D900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019-3DE9-4AA5-8754-79608C5F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8729-550D-4667-84A1-01B8408F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D12-69C0-42C4-9BFB-88E792AE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69B-FBE2-468C-B3F4-6F52C92C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2E0-2758-446B-95E2-CD6453F7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8f00"/>
            </a:gs>
            <a:gs pos="100000">
              <a:srgbClr val="54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2A31-186E-4769-89AE-67AC515E9FC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8f00"/>
            </a:gs>
            <a:gs pos="100000">
              <a:srgbClr val="543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8f00"/>
                  </a:gs>
                  <a:gs pos="100000">
                    <a:srgbClr val="8f5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7c3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d68f00"/>
                </a:gs>
                <a:gs pos="100000">
                  <a:srgbClr val="c98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d68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d68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d68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6301-6176-42F8-BBEB-4848A7BA661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6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Уход за кожей лица, рук, ног, уход за ногтям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773160"/>
            <a:ext cx="640080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ЗО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5 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№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887480" y="5581800"/>
            <a:ext cx="58532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р: Борисова Людмила Викторовн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подаватель-организатор ОБЖ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У СОШ № 12 г.Томс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116000" y="242100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доровое питание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6227640" y="476280"/>
            <a:ext cx="2318040" cy="1755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"/>
          <p:cNvPicPr/>
          <p:nvPr/>
        </p:nvPicPr>
        <p:blipFill>
          <a:blip r:embed="rId2"/>
          <a:stretch/>
        </p:blipFill>
        <p:spPr>
          <a:xfrm>
            <a:off x="5508720" y="4724280"/>
            <a:ext cx="2306520" cy="1755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"/>
          <p:cNvPicPr/>
          <p:nvPr/>
        </p:nvPicPr>
        <p:blipFill>
          <a:blip r:embed="rId3"/>
          <a:stretch/>
        </p:blipFill>
        <p:spPr>
          <a:xfrm>
            <a:off x="611280" y="3284640"/>
            <a:ext cx="2317680" cy="3049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4"/>
          <a:stretch/>
        </p:blipFill>
        <p:spPr>
          <a:xfrm>
            <a:off x="7740720" y="3068640"/>
            <a:ext cx="140328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5"/>
          <a:stretch/>
        </p:blipFill>
        <p:spPr>
          <a:xfrm>
            <a:off x="539640" y="0"/>
            <a:ext cx="2318040" cy="23176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6"/>
          <a:stretch/>
        </p:blipFill>
        <p:spPr>
          <a:xfrm>
            <a:off x="3059280" y="3213000"/>
            <a:ext cx="2306520" cy="23400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788000" y="3405240"/>
            <a:ext cx="3614760" cy="2473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6300720" y="333360"/>
            <a:ext cx="2317680" cy="2227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468360" y="2997360"/>
            <a:ext cx="3105000" cy="345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2824200" cy="2306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"/>
          <p:cNvPicPr/>
          <p:nvPr/>
        </p:nvPicPr>
        <p:blipFill>
          <a:blip r:embed="rId5"/>
          <a:stretch/>
        </p:blipFill>
        <p:spPr>
          <a:xfrm>
            <a:off x="3348000" y="260280"/>
            <a:ext cx="2441520" cy="23176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1922400" y="262584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порт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451480" y="2914560"/>
            <a:ext cx="32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здушные и солнечные ванны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3995640" y="602136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одные процедуры, бан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cc"/>
                </a:solidFill>
                <a:latin typeface="Arial"/>
              </a:rPr>
              <a:t>АУКЦИОН ИДЕЙ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Verdana"/>
              </a:rPr>
              <a:t>Зачем человеку кожа?</a:t>
            </a:r>
            <a:endParaRPr b="0" lang="en-US" sz="9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900000" y="0"/>
            <a:ext cx="7056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На 1 кв.см. кожи имеются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2 точки, чувствительные к тепл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2 точек, чувствительных к холоду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25 точек осязательных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1100"/>
              </a:spcBef>
              <a:buClr>
                <a:srgbClr val="fadf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Verdana"/>
              </a:rPr>
              <a:t>150 болевых точек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"/>
          <p:cNvPicPr/>
          <p:nvPr/>
        </p:nvPicPr>
        <p:blipFill>
          <a:blip r:embed="rId1"/>
          <a:srcRect l="0" t="0" r="0" b="-59"/>
          <a:stretch/>
        </p:blipFill>
        <p:spPr>
          <a:xfrm>
            <a:off x="2124000" y="260280"/>
            <a:ext cx="5029200" cy="587700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rcRect l="0" t="0" r="0" b="-93"/>
          <a:stretch/>
        </p:blipFill>
        <p:spPr>
          <a:xfrm>
            <a:off x="395280" y="620640"/>
            <a:ext cx="8353440" cy="49690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0" t="0" r="103" b="0"/>
          <a:stretch/>
        </p:blipFill>
        <p:spPr>
          <a:xfrm>
            <a:off x="539640" y="549360"/>
            <a:ext cx="3600720" cy="5616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100760" cy="561636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55640" y="1268280"/>
            <a:ext cx="3152880" cy="3810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3810240" cy="31719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1979640" y="5300640"/>
            <a:ext cx="552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При различных заболеваниях на коже может появиться сыпь и даже язвы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rcRect l="0" t="0" r="0" b="54"/>
          <a:stretch/>
        </p:blipFill>
        <p:spPr>
          <a:xfrm>
            <a:off x="971640" y="701640"/>
            <a:ext cx="7416720" cy="48880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3276720" y="6093000"/>
            <a:ext cx="444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гиен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09:17:39Z</dcterms:created>
  <dc:creator>Obj</dc:creator>
  <dc:description/>
  <dc:language>en-US</dc:language>
  <cp:lastModifiedBy>LEGION</cp:lastModifiedBy>
  <dcterms:modified xsi:type="dcterms:W3CDTF">2015-05-12T08:13:09Z</dcterms:modified>
  <cp:revision>8</cp:revision>
  <dc:subject/>
  <dc:title>Уход за кож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5000000000001024140</vt:lpwstr>
  </property>
</Properties>
</file>