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11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5.wmf" ContentType="image/x-wmf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3C6F-E634-47A2-A52B-A3FBB323D2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ход за кожей лица, рук, ног, уход за ног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О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9592-8D94-4CDC-B03D-81215EE82E0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4F81-77A8-42CB-8F1D-D2CF4C9F015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УКЦИОН ИДЕЙ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человеку кож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26B5-9CBB-400A-AFEA-1622BD07A1E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1 кв.см. кожи име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точки, чувствительные к теп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точек, чувствительных к хол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точек осяз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0 болевых 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8746-567E-49EC-A74B-860980E5A30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различных заболеваниях на коже может появиться сыпь и даже яз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46BF-88B1-4374-859A-D504898DDB6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ги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1CBE-2B26-4C4C-911A-A01B4AAE0F4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7CF-7E82-44C9-AD12-A98EB05C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00D9-C7CE-45BF-8313-D9A5CAA7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27B-52D2-49B9-8488-C93E2205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E04-52F0-458B-92D0-7CEF887B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6C4F-14A1-4CFD-854A-CA2EA511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0888-8134-484F-BF27-EE4017D2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3E63-1885-47D5-B601-54C7487C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DEE7-BA31-440E-860B-3A56AA3B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0EED-4A83-48D8-B522-2F036707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0308-36EA-48BA-BA7E-4FDA42DD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F58C-DD14-473C-B471-B5A4EBCF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2CE-99E7-48B4-AE56-03F89F49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E4EF-F0EF-4E94-AC92-AC2D2DB5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631F-7F83-4DD1-9AAB-6188D208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CF44-73FB-4FE9-8714-16EC6CB6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C486-A10E-4520-B866-A2E1E302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5A2F-E588-4C5C-B959-28CFD081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505-0C33-4D47-B96C-AE7C3BA6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F60-0949-403E-B630-E4CBFC5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EDD-A3AE-4C3D-A1FC-50308A87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FF1-045F-4551-BA16-26A8169E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B88-3106-47EF-A355-4B3F8FB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EC7-F0B6-4985-8F4C-90BF614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38F-33ED-458E-AD51-02CC0449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8f00"/>
            </a:gs>
            <a:gs pos="100000">
              <a:srgbClr val="54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5619-4CCB-4994-8CA6-C2D9D1B57D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8f00"/>
            </a:gs>
            <a:gs pos="100000">
              <a:srgbClr val="54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F48C-5A28-4117-9BCB-28921E6991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6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Уход за кожей лица, рук, ног, уход за ногтям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773160"/>
            <a:ext cx="640080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О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№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887480" y="5581800"/>
            <a:ext cx="58532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р: Борисова Людмила Виктор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подаватель-организатор ОБЖ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У СОШ № 12 г.Томс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16000" y="242100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доровое питани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227640" y="476280"/>
            <a:ext cx="2318040" cy="1755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2306520" cy="175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2317680" cy="3049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4"/>
          <a:stretch/>
        </p:blipFill>
        <p:spPr>
          <a:xfrm>
            <a:off x="7740720" y="3068640"/>
            <a:ext cx="140328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>
            <a:off x="539640" y="0"/>
            <a:ext cx="2318040" cy="2317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6"/>
          <a:stretch/>
        </p:blipFill>
        <p:spPr>
          <a:xfrm>
            <a:off x="3059280" y="3213000"/>
            <a:ext cx="2306520" cy="2340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788000" y="3405240"/>
            <a:ext cx="3614760" cy="2473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317680" cy="22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468360" y="2997360"/>
            <a:ext cx="3105000" cy="345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2824200" cy="230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5"/>
          <a:stretch/>
        </p:blipFill>
        <p:spPr>
          <a:xfrm>
            <a:off x="3348000" y="260280"/>
            <a:ext cx="2441520" cy="2317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1922400" y="262584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пор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451480" y="2914560"/>
            <a:ext cx="32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здушные и солнечные ван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995640" y="6021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дные процедуры, бан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АУКЦИОН ИДЕЙ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Verdana"/>
              </a:rPr>
              <a:t>Зачем человеку кожа?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900000" y="0"/>
            <a:ext cx="7056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На 1 кв.см. кожи имею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2 точки, чувствительные к тепл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2 точек, чувствительных к холод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25 точек осязательны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50 болевых точек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rcRect l="0" t="0" r="0" b="-59"/>
          <a:stretch/>
        </p:blipFill>
        <p:spPr>
          <a:xfrm>
            <a:off x="2124000" y="260280"/>
            <a:ext cx="5029200" cy="5877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rcRect l="0" t="0" r="0" b="-93"/>
          <a:stretch/>
        </p:blipFill>
        <p:spPr>
          <a:xfrm>
            <a:off x="395280" y="620640"/>
            <a:ext cx="8353440" cy="4969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0" t="0" r="103" b="0"/>
          <a:stretch/>
        </p:blipFill>
        <p:spPr>
          <a:xfrm>
            <a:off x="539640" y="549360"/>
            <a:ext cx="3600720" cy="5616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100760" cy="56163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5640" y="1268280"/>
            <a:ext cx="3152880" cy="3810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810240" cy="3171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1979640" y="5300640"/>
            <a:ext cx="552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различных заболеваниях на коже может появиться сыпь и даже язв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rcRect l="0" t="0" r="0" b="54"/>
          <a:stretch/>
        </p:blipFill>
        <p:spPr>
          <a:xfrm>
            <a:off x="971640" y="701640"/>
            <a:ext cx="7416720" cy="4888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3276720" y="609300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гие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9:17:39Z</dcterms:created>
  <dc:creator>Obj</dc:creator>
  <dc:description/>
  <dc:language>en-US</dc:language>
  <cp:lastModifiedBy>LEGION</cp:lastModifiedBy>
  <dcterms:modified xsi:type="dcterms:W3CDTF">2015-05-12T08:13:09Z</dcterms:modified>
  <cp:revision>8</cp:revision>
  <dc:subject/>
  <dc:title>Уход за кож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5000000000001024140</vt:lpwstr>
  </property>
</Properties>
</file>