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wmf" ContentType="image/x-wmf"/>
  <Override PartName="/ppt/media/image4.jpeg" ContentType="image/jpeg"/>
  <Override PartName="/ppt/media/image11.wmf" ContentType="image/x-wmf"/>
  <Override PartName="/ppt/media/image19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9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12.wmf" ContentType="image/x-wmf"/>
  <Override PartName="/ppt/media/image7.png" ContentType="image/png"/>
  <Override PartName="/ppt/media/image15.wmf" ContentType="image/x-wmf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058E-4282-4CF4-84FC-F0687626ABE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ход за кожей лица, рук, ног, уход за ногт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О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E1A4-FC03-4A92-965C-36C7ED8CF58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ое 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B150-C745-45C4-AA0C-FB6EFA78B5D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УКЦИОН ИДЕЙ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человеку кож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FAF1-1C03-4577-BB74-AE53B7256E9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1 кв.см. кожи име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точки, чувствительные к теп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 точек, чувствительных к хол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точек осяза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0 болевых т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E74E-81F9-4751-AFD2-04078470D08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различных заболеваниях на коже может появиться сыпь и даже яз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212A-9D31-4365-AB33-33F814C2CCB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ги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B97C-CFEB-4E89-AEDA-FFAE4387B6F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65FB-105B-43F5-982D-436BD926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AEA8-610A-4B32-B3AC-6087504B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631-F9C6-4AE2-810B-08B3FB76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9D20-89F0-4F8F-A660-89A62666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256D-19E4-4E17-A65B-0D2B1872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CB26-CF30-4C9B-9288-BCB0EE0C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B5F5-B5BD-467D-B9CF-E939021C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976D-A36A-430E-A764-2710BE71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03BA-A025-4C71-AE88-48C7DAF8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2E97-9BB1-4806-85FE-2C799440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4B5A-0B65-4923-9109-75260A90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70F-F0F0-4DAB-A923-00C23817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AE06-76CA-4E77-9BBD-F28A5954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C140-D21A-45D8-BF8F-52F866EC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9B19-08BA-40EB-8C64-F442B7C8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C7DC-50DB-4B02-9252-69B37815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5D09-BC9A-4C43-82E9-8F012A87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86DF-A98F-4A1F-BB12-0139B47D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D57D-D009-4A51-9639-6A8EF8BD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472-0D37-44AB-AACF-29FC1008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BBF8-49ED-45CF-8062-104EDD6A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265-ADFD-40DE-852F-0117DC3D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68D4-2FF7-4B46-8827-4331D84A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C2C0-D57B-4C1C-92E0-973C47E4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8f00"/>
            </a:gs>
            <a:gs pos="100000">
              <a:srgbClr val="543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d68f00"/>
                </a:gs>
                <a:gs pos="100000">
                  <a:srgbClr val="c98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d68f00"/>
                </a:gs>
                <a:gs pos="100000">
                  <a:srgbClr val="c98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d6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d6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7BCE-230E-45B6-B83E-F635251255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8f00"/>
            </a:gs>
            <a:gs pos="100000">
              <a:srgbClr val="543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d68f00"/>
                </a:gs>
                <a:gs pos="100000">
                  <a:srgbClr val="c98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d68f00"/>
                </a:gs>
                <a:gs pos="100000">
                  <a:srgbClr val="c98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d6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d6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331A-9266-45AF-BB3E-D9E5E9C40AD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42680"/>
            <a:ext cx="7772400" cy="1685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Уход за кожей лица, рук, ног, уход за ногтями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773160"/>
            <a:ext cx="640080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О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5 клас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рок №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887480" y="5581800"/>
            <a:ext cx="58532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втор: Борисова Людмила Викторов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подаватель-организатор ОБЖ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ОУ СОШ № 12 г.Томс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16000" y="242100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доровое питани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6227640" y="476280"/>
            <a:ext cx="2318040" cy="1755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2"/>
          <a:stretch/>
        </p:blipFill>
        <p:spPr>
          <a:xfrm>
            <a:off x="5508720" y="4724280"/>
            <a:ext cx="2306520" cy="1755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3"/>
          <a:stretch/>
        </p:blipFill>
        <p:spPr>
          <a:xfrm>
            <a:off x="611280" y="3284640"/>
            <a:ext cx="2317680" cy="3049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4"/>
          <a:stretch/>
        </p:blipFill>
        <p:spPr>
          <a:xfrm>
            <a:off x="7740720" y="3068640"/>
            <a:ext cx="1403280" cy="2016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5"/>
          <a:stretch/>
        </p:blipFill>
        <p:spPr>
          <a:xfrm>
            <a:off x="539640" y="0"/>
            <a:ext cx="2318040" cy="2317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6"/>
          <a:stretch/>
        </p:blipFill>
        <p:spPr>
          <a:xfrm>
            <a:off x="3059280" y="3213000"/>
            <a:ext cx="2306520" cy="23400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4788000" y="3405240"/>
            <a:ext cx="3614760" cy="2473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6300720" y="333360"/>
            <a:ext cx="2317680" cy="2227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468360" y="2997360"/>
            <a:ext cx="3105000" cy="3456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4"/>
          <a:stretch/>
        </p:blipFill>
        <p:spPr>
          <a:xfrm>
            <a:off x="179280" y="333360"/>
            <a:ext cx="2824200" cy="2306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"/>
          <p:cNvPicPr/>
          <p:nvPr/>
        </p:nvPicPr>
        <p:blipFill>
          <a:blip r:embed="rId5"/>
          <a:stretch/>
        </p:blipFill>
        <p:spPr>
          <a:xfrm>
            <a:off x="3348000" y="260280"/>
            <a:ext cx="2441520" cy="23176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9"/>
          <p:cNvSpPr/>
          <p:nvPr/>
        </p:nvSpPr>
        <p:spPr>
          <a:xfrm>
            <a:off x="1922400" y="262584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пор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5451480" y="2914560"/>
            <a:ext cx="32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оздушные и солнечные ван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3995640" y="602136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одные процедуры, бан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АУКЦИОН ИДЕЙ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Verdana"/>
              </a:rPr>
              <a:t>Зачем человеку кожа?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900000" y="0"/>
            <a:ext cx="705672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На 1 кв.см. кожи имеются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2 точки, чувствительные к теплу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11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12 точек, чувствительных к холоду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11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25 точек осязательны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11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150 болевых точек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rcRect l="0" t="0" r="0" b="-59"/>
          <a:stretch/>
        </p:blipFill>
        <p:spPr>
          <a:xfrm>
            <a:off x="2124000" y="260280"/>
            <a:ext cx="5029200" cy="58770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rcRect l="0" t="0" r="0" b="-93"/>
          <a:stretch/>
        </p:blipFill>
        <p:spPr>
          <a:xfrm>
            <a:off x="395280" y="620640"/>
            <a:ext cx="8353440" cy="49690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rcRect l="0" t="0" r="103" b="0"/>
          <a:stretch/>
        </p:blipFill>
        <p:spPr>
          <a:xfrm>
            <a:off x="539640" y="549360"/>
            <a:ext cx="3600720" cy="5616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4100760" cy="561636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755640" y="1268280"/>
            <a:ext cx="3152880" cy="3810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3810240" cy="31719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1979640" y="5300640"/>
            <a:ext cx="552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и различных заболеваниях на коже может появиться сыпь и даже язв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"/>
          <p:cNvPicPr/>
          <p:nvPr/>
        </p:nvPicPr>
        <p:blipFill>
          <a:blip r:embed="rId1"/>
          <a:srcRect l="0" t="0" r="0" b="54"/>
          <a:stretch/>
        </p:blipFill>
        <p:spPr>
          <a:xfrm>
            <a:off x="971640" y="701640"/>
            <a:ext cx="7416720" cy="48880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3276720" y="6093000"/>
            <a:ext cx="44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игиен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09:17:39Z</dcterms:created>
  <dc:creator>Obj</dc:creator>
  <dc:description/>
  <dc:language>en-US</dc:language>
  <cp:lastModifiedBy>LEGION</cp:lastModifiedBy>
  <dcterms:modified xsi:type="dcterms:W3CDTF">2015-05-12T08:13:09Z</dcterms:modified>
  <cp:revision>8</cp:revision>
  <dc:subject/>
  <dc:title>Уход за кож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5000000000001024140</vt:lpwstr>
  </property>
</Properties>
</file>