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5.jpeg" ContentType="image/jpeg"/>
  <Override PartName="/ppt/media/image31.jpeg" ContentType="image/jpeg"/>
  <Override PartName="/ppt/media/image38.jpeg" ContentType="image/jpeg"/>
  <Override PartName="/ppt/media/image12.jpeg" ContentType="image/jpeg"/>
  <Override PartName="/ppt/media/image44.png" ContentType="image/png"/>
  <Override PartName="/ppt/media/image13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66F3-9872-41C6-8D1D-D16DC5D957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Ожоги. Виды ожо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Солнечные ож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Тепловой уд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74EC-53DB-487F-A19E-BBD4BEC382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крыть сухой чистой тка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верх ткани приложить холод (пузырь со льдом или пакет с холодной водой или сне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крывать пузыри и удалять прилипшую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96D3-C180-4670-BF71-C6C4B3B68B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на повреждённую поверхность чистую пленку или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оверх плёнки приложить пакеты со ль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Дать пострадавшему таблетку анальгина (если он в сознан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0ECD-375B-4E72-BEE2-8F54CFF58B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7981-78C1-419A-B545-64E5D8E1EC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хи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1)Если ожог вызван кислот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2)Если же ожог от щёло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3)Если на кожу попал фосф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4)Когда на кожу попадает негашеная изве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D40F-FC40-43F6-A6A4-150D7D9A0A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1A29-19EA-447B-B8F9-6CD67502A0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1618-44D8-4FD2-B762-C999ABFECE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Удар молн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ар молнией – это мощнейшая электротрав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8303-478A-4081-B60D-F1C41D1BB7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ак избежать удара молн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34AC-7A44-41F7-8AE8-C96DACF230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ом метод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применяют в двух вид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з обработки поверхности ожога дубящими веществ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5918-46E5-4F79-9751-9974B69B4A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73E3-2C28-4DC6-8D41-B375F8BF7D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1A5F-73C1-4161-9AE5-C17D409505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жоговая болезн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2EEB-7C40-41C2-9768-12787F591D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AFC9-3074-437A-AE66-3CC4E70372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тапы помощи при тяжелы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возвращение больного к его обычному образу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5C65-79B4-4710-9761-4DE6AF1B35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ермическ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ер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16A6-C36C-41FB-8406-9A9C072DFA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Хи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кислотными и щелочным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Симптомы и те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B0AD-9974-435C-84F4-7F77FC26A2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Щелоч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2370-F1DA-4450-B11C-47DAA3E897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олнечный ож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15D2-ED84-4609-AA63-F3F5552B63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рофилактическ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содержат вещества, частично отражающие ультрафиолетовые лу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08C3-E9C6-4F3D-933C-25C1D7EE63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6B9A-1539-4F88-96D7-BF29B0CEA1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ED28-E473-4508-B580-640B070225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зникают в результате соприкосновения кожи с тверд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ми. Они возникают в 10% случа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D827-D7CB-4976-993E-7F04E4EA98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Реакция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на жаркую по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FEFD-AD42-4D9B-928D-562C245174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ходен с ожогом пламенем. Кожа становится черной из-за импрегнации металл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5917-4FD1-4739-80B5-01C787852A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7)Ожоги электрическим то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E140-D227-4757-9ADA-6A1C03D474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Хи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0) Ожоги фосфором и изве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085C-1762-4D9C-895E-38349901A2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Лучевы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11)Радиацион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ключаются в себя: ожоги УФ-излуч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EC0D-8410-4B52-B330-EF1C667EB1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лассификация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традают все слои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ное разрушение кожи и нижележащего мышечного сло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02E3-1DF7-41E3-A6DB-2B1DA605DB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ля 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иагноза нужно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щадь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лад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девя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Глубина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лощадь поражения кожи превышает 10% - следует ожидать развития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7630-1672-45A2-B660-3EF7EED0D9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46C0-83BA-40C9-A257-15548D66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665-180B-43DD-99F6-81054919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64D-A5C5-47CB-B0E5-370125FC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DBB4-FE53-43D2-97C2-1037B2FD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4C9F-AD55-4A3C-8E7B-63A024A6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6B28-6949-4636-9C3F-182755F3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08D0-3F2F-479E-B502-2ACC39E6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FE28-C269-4D1F-9E9E-7DB9DE55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619F-43D0-4043-AB26-BEA722DB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08C6-0381-43A0-AF05-C125986A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7065-AF9D-46FF-9710-0FACDA35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FB61-259F-4A9B-9DA9-BCE5FC98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A88D-41E6-4524-9844-50733574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FDF1-2663-495D-AC5C-E5A660D3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C162-1272-4576-859A-C55443D3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9C93-D57E-4CDE-AE71-4CA96C04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1E4F-7C4E-40BF-B385-DFC270AD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6635-3105-4966-8AAF-2B08F529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46DE-8C55-43C8-A566-F1DB416F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D5F-9F18-4E45-870F-7DBDAAFB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A33-3013-49EA-85AD-0FCBEB32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F7EF-5D82-4E1C-BA28-0407F221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9F0-2454-45AE-AAA2-61F74949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3F8-E28B-449D-AC76-14744D0D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B6B0-F786-45E8-8A27-D74468B1A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8C03-8666-4551-9A8C-51FA9D3E9A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971640" y="213372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жоги. Виды ожогов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ые ожоги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пловой удар.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39528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403280" y="177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179856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798560" cy="136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2484360" y="256536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56000" y="3789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Накрыть сухой чистой тка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556000" y="4508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верх ткани приложить холод (пузырь со льдом или пакет с холодной водой или сне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187280" y="5661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крывать пузыри и удалять прилипшую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2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1332000" y="1700280"/>
            <a:ext cx="705636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1187280" y="5661000"/>
            <a:ext cx="684072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1614240" y="1557360"/>
            <a:ext cx="59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00000" y="2205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ить на повреждённую поверхность чистую пленку или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564000" y="378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верх плёнки приложить пакеты со ль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835280" y="4941720"/>
            <a:ext cx="64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Дать пострадавшему таблетку анальгина (если он в созна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80000" y="2060640"/>
            <a:ext cx="1817640" cy="1751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1846440" cy="1714320"/>
          </a:xfrm>
          <a:prstGeom prst="rect">
            <a:avLst/>
          </a:prstGeom>
          <a:ln w="0">
            <a:noFill/>
          </a:ln>
        </p:spPr>
      </p:pic>
      <p:sp>
        <p:nvSpPr>
          <p:cNvPr id="184" name="WordArt 9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1619280" y="1484280"/>
            <a:ext cx="5905440" cy="504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1547640" y="2133720"/>
            <a:ext cx="60501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1332000" y="54936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547640" y="2133720"/>
            <a:ext cx="6120000" cy="374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1042920" y="333360"/>
            <a:ext cx="68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хи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24000" y="1197000"/>
            <a:ext cx="561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Если ожог вызван кисло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2843280" y="2564640"/>
            <a:ext cx="6551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Если же ожог от щёло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179280" y="393300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Если на кожу попал фосф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2195640" y="5012280"/>
            <a:ext cx="6589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Когда на кожу попадает негашеная изве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гл"/>
          <p:cNvPicPr/>
          <p:nvPr/>
        </p:nvPicPr>
        <p:blipFill>
          <a:blip r:embed="rId1"/>
          <a:stretch/>
        </p:blipFill>
        <p:spPr>
          <a:xfrm>
            <a:off x="6156360" y="119700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фосфор"/>
          <p:cNvPicPr/>
          <p:nvPr/>
        </p:nvPicPr>
        <p:blipFill>
          <a:blip r:embed="rId2"/>
          <a:stretch/>
        </p:blipFill>
        <p:spPr>
          <a:xfrm>
            <a:off x="6588000" y="378936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известь"/>
          <p:cNvPicPr/>
          <p:nvPr/>
        </p:nvPicPr>
        <p:blipFill>
          <a:blip r:embed="rId3"/>
          <a:stretch/>
        </p:blipFill>
        <p:spPr>
          <a:xfrm>
            <a:off x="611280" y="501336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джэ"/>
          <p:cNvPicPr/>
          <p:nvPr/>
        </p:nvPicPr>
        <p:blipFill>
          <a:blip r:embed="rId4"/>
          <a:stretch/>
        </p:blipFill>
        <p:spPr>
          <a:xfrm>
            <a:off x="611280" y="249228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042920" y="19238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971640" y="4239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971640" y="2111400"/>
            <a:ext cx="770580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900000" y="4843440"/>
            <a:ext cx="808848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2195640" y="549360"/>
            <a:ext cx="446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ар молни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484360" y="4653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258920" y="15573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 молнией – это мощнейшая электротрав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611280" y="21337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мол"/>
          <p:cNvPicPr/>
          <p:nvPr/>
        </p:nvPicPr>
        <p:blipFill>
          <a:blip r:embed="rId1"/>
          <a:stretch/>
        </p:blipFill>
        <p:spPr>
          <a:xfrm>
            <a:off x="4932360" y="2060640"/>
            <a:ext cx="3240000" cy="2422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мол1"/>
          <p:cNvPicPr/>
          <p:nvPr/>
        </p:nvPicPr>
        <p:blipFill>
          <a:blip r:embed="rId2"/>
          <a:stretch/>
        </p:blipFill>
        <p:spPr>
          <a:xfrm>
            <a:off x="755640" y="3789360"/>
            <a:ext cx="1528920" cy="21607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1332000" y="404640"/>
            <a:ext cx="6410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избежать удара молнией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68360" y="155700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W12"/>
          <p:cNvPicPr/>
          <p:nvPr/>
        </p:nvPicPr>
        <p:blipFill>
          <a:blip r:embed="rId1"/>
          <a:stretch/>
        </p:blipFill>
        <p:spPr>
          <a:xfrm>
            <a:off x="5940360" y="1268280"/>
            <a:ext cx="2774880" cy="20815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3276720" y="3428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File0107"/>
          <p:cNvPicPr/>
          <p:nvPr/>
        </p:nvPicPr>
        <p:blipFill>
          <a:blip r:embed="rId2"/>
          <a:stretch/>
        </p:blipFill>
        <p:spPr>
          <a:xfrm>
            <a:off x="468360" y="2997360"/>
            <a:ext cx="2663640" cy="2232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1258920" y="5444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Утес"/>
          <p:cNvPicPr/>
          <p:nvPr/>
        </p:nvPicPr>
        <p:blipFill>
          <a:blip r:embed="rId3"/>
          <a:stretch/>
        </p:blipFill>
        <p:spPr>
          <a:xfrm>
            <a:off x="5940360" y="4365720"/>
            <a:ext cx="2671920" cy="20876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539640" y="1557360"/>
            <a:ext cx="4969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ытом мет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708360" y="3860640"/>
            <a:ext cx="52196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й мет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применяют в двух вид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ез обработки поверхности ожога дубящими веще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050920" y="659772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00000" y="5950080"/>
            <a:ext cx="40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9" name="Picture 8" descr="9851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32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445315_20020714153547"/>
          <p:cNvPicPr/>
          <p:nvPr/>
        </p:nvPicPr>
        <p:blipFill>
          <a:blip r:embed="rId2"/>
          <a:stretch/>
        </p:blipFill>
        <p:spPr>
          <a:xfrm>
            <a:off x="611280" y="3933720"/>
            <a:ext cx="2879640" cy="2151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2195640" y="4292640"/>
            <a:ext cx="5041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1916280"/>
            <a:ext cx="4392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5" name="Picture 6" descr="ит"/>
          <p:cNvPicPr/>
          <p:nvPr/>
        </p:nvPicPr>
        <p:blipFill>
          <a:blip r:embed="rId1"/>
          <a:stretch/>
        </p:blipFill>
        <p:spPr>
          <a:xfrm>
            <a:off x="5435640" y="1916280"/>
            <a:ext cx="2663640" cy="21207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411280" y="476280"/>
            <a:ext cx="3889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8920" y="1772640"/>
            <a:ext cx="878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788000" y="529992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т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64000" y="2781360"/>
            <a:ext cx="2592720" cy="217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шрамы от ожогов 3 степени"/>
          <p:cNvPicPr/>
          <p:nvPr/>
        </p:nvPicPr>
        <p:blipFill>
          <a:blip r:embed="rId2"/>
          <a:stretch/>
        </p:blipFill>
        <p:spPr>
          <a:xfrm>
            <a:off x="1116000" y="3357720"/>
            <a:ext cx="2344680" cy="2735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395280" y="1700280"/>
            <a:ext cx="543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6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2987640" y="4005360"/>
            <a:ext cx="5797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жоговая болезн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лдлжож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5651640" y="1700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images"/>
          <p:cNvPicPr/>
          <p:nvPr/>
        </p:nvPicPr>
        <p:blipFill>
          <a:blip r:embed="rId2"/>
          <a:stretch/>
        </p:blipFill>
        <p:spPr>
          <a:xfrm>
            <a:off x="684360" y="3716280"/>
            <a:ext cx="1942920" cy="19242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68360" y="1557360"/>
            <a:ext cx="5400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51280" y="4005360"/>
            <a:ext cx="5040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ораьлор"/>
          <p:cNvPicPr/>
          <p:nvPr/>
        </p:nvPicPr>
        <p:blipFill>
          <a:blip r:embed="rId1"/>
          <a:stretch/>
        </p:blipFill>
        <p:spPr>
          <a:xfrm>
            <a:off x="5867280" y="1773360"/>
            <a:ext cx="2409840" cy="1971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аологдл"/>
          <p:cNvPicPr/>
          <p:nvPr/>
        </p:nvPicPr>
        <p:blipFill>
          <a:blip r:embed="rId2"/>
          <a:stretch/>
        </p:blipFill>
        <p:spPr>
          <a:xfrm>
            <a:off x="1187280" y="3500280"/>
            <a:ext cx="2073600" cy="25927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1042920" y="1699920"/>
            <a:ext cx="72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995640" y="2637000"/>
            <a:ext cx="48974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116000" y="5084280"/>
            <a:ext cx="770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возвращение больного к его обычному образу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755640" y="549360"/>
            <a:ext cx="7677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апы помощи при тяжелы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3" name="Picture 11" descr="огл"/>
          <p:cNvPicPr/>
          <p:nvPr/>
        </p:nvPicPr>
        <p:blipFill>
          <a:blip r:embed="rId1"/>
          <a:stretch/>
        </p:blipFill>
        <p:spPr>
          <a:xfrm>
            <a:off x="1258920" y="2565360"/>
            <a:ext cx="2160720" cy="205272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3059280" y="1268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рм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68360" y="1560240"/>
            <a:ext cx="84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р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427640" y="2923920"/>
            <a:ext cx="4321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324000" y="5013360"/>
            <a:ext cx="864072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9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0" name="Picture 10" descr="хим ож"/>
          <p:cNvPicPr/>
          <p:nvPr/>
        </p:nvPicPr>
        <p:blipFill>
          <a:blip r:embed="rId1"/>
          <a:stretch/>
        </p:blipFill>
        <p:spPr>
          <a:xfrm>
            <a:off x="1547640" y="2637000"/>
            <a:ext cx="1944720" cy="19443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1549800" y="1340640"/>
            <a:ext cx="61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и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кислотными и щелочны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24000" y="184428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95640" y="2736360"/>
            <a:ext cx="48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мптомы и те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5084640"/>
            <a:ext cx="8532720" cy="119124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ьбоб"/>
          <p:cNvPicPr/>
          <p:nvPr/>
        </p:nvPicPr>
        <p:blipFill>
          <a:blip r:embed="rId1"/>
          <a:stretch/>
        </p:blipFill>
        <p:spPr>
          <a:xfrm>
            <a:off x="826920" y="285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WordArt 8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468360" y="1512000"/>
            <a:ext cx="8675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Щелоч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24000" y="4784760"/>
            <a:ext cx="8497800" cy="177048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2" name="Picture 6" descr="ожог глаз канцелярским клеем"/>
          <p:cNvPicPr/>
          <p:nvPr/>
        </p:nvPicPr>
        <p:blipFill>
          <a:blip r:embed="rId1"/>
          <a:stretch/>
        </p:blipFill>
        <p:spPr>
          <a:xfrm>
            <a:off x="5940360" y="256536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ернп"/>
          <p:cNvPicPr/>
          <p:nvPr/>
        </p:nvPicPr>
        <p:blipFill>
          <a:blip r:embed="rId2"/>
          <a:stretch/>
        </p:blipFill>
        <p:spPr>
          <a:xfrm>
            <a:off x="1979640" y="2708280"/>
            <a:ext cx="1728720" cy="18003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1042920" y="1844640"/>
            <a:ext cx="7201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427640" y="335772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3056040" cy="3074760"/>
          </a:xfrm>
          <a:prstGeom prst="rect">
            <a:avLst/>
          </a:prstGeom>
          <a:ln w="0">
            <a:noFill/>
          </a:ln>
        </p:spPr>
      </p:pic>
      <p:sp>
        <p:nvSpPr>
          <p:cNvPr id="278" name="WordArt 6"/>
          <p:cNvSpPr txBox="1"/>
          <p:nvPr/>
        </p:nvSpPr>
        <p:spPr>
          <a:xfrm>
            <a:off x="2340000" y="620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ечный ожо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903600" y="134064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711240" y="3715560"/>
            <a:ext cx="46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68360" y="53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468360" y="1916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419640" y="42919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одержат вещества, частично отражающие ультрафиолетовые лу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специальный аква гель от солнечныхожогов"/>
          <p:cNvPicPr/>
          <p:nvPr/>
        </p:nvPicPr>
        <p:blipFill>
          <a:blip r:embed="rId1"/>
          <a:stretch/>
        </p:blipFill>
        <p:spPr>
          <a:xfrm>
            <a:off x="1258920" y="3429000"/>
            <a:ext cx="1730520" cy="1627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солнцезащитный крем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724360" y="1413000"/>
            <a:ext cx="2170440" cy="217008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0"/>
          <p:cNvSpPr txBox="1"/>
          <p:nvPr/>
        </p:nvSpPr>
        <p:spPr>
          <a:xfrm>
            <a:off x="154764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филактические сред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8360" y="5229360"/>
            <a:ext cx="8280360" cy="1368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611280" y="1341000"/>
            <a:ext cx="817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500720" y="2708280"/>
            <a:ext cx="4319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пр"/>
          <p:cNvPicPr/>
          <p:nvPr/>
        </p:nvPicPr>
        <p:blipFill>
          <a:blip r:embed="rId1"/>
          <a:stretch/>
        </p:blipFill>
        <p:spPr>
          <a:xfrm>
            <a:off x="1187280" y="2565360"/>
            <a:ext cx="2953080" cy="3457440"/>
          </a:xfrm>
          <a:prstGeom prst="rect">
            <a:avLst/>
          </a:prstGeom>
          <a:ln w="0">
            <a:noFill/>
          </a:ln>
        </p:spPr>
      </p:pic>
      <p:sp>
        <p:nvSpPr>
          <p:cNvPr id="293" name="WordArt 6"/>
          <p:cNvSpPr txBox="1"/>
          <p:nvPr/>
        </p:nvSpPr>
        <p:spPr>
          <a:xfrm>
            <a:off x="2556000" y="404640"/>
            <a:ext cx="3743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пловой уд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971640" y="191628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692360" y="494172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5"/>
          <p:cNvSpPr txBox="1"/>
          <p:nvPr/>
        </p:nvSpPr>
        <p:spPr>
          <a:xfrm>
            <a:off x="2556000" y="404640"/>
            <a:ext cx="421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971640" y="1844640"/>
            <a:ext cx="7056360" cy="2376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692360" y="4869000"/>
            <a:ext cx="597528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26920" y="1268280"/>
            <a:ext cx="21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24000" y="1700280"/>
            <a:ext cx="59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73528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348000" y="3644640"/>
            <a:ext cx="5616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12" descr="лд"/>
          <p:cNvPicPr/>
          <p:nvPr/>
        </p:nvPicPr>
        <p:blipFill>
          <a:blip r:embed="rId2"/>
          <a:stretch/>
        </p:blipFill>
        <p:spPr>
          <a:xfrm>
            <a:off x="1042920" y="3141720"/>
            <a:ext cx="1717920" cy="2232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3"/>
          <p:cNvSpPr/>
          <p:nvPr/>
        </p:nvSpPr>
        <p:spPr>
          <a:xfrm>
            <a:off x="755640" y="5516280"/>
            <a:ext cx="7559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ают в результате соприкосновения кожи с тверды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ами. Они возникают в 10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755640" y="198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284720" y="2852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68360" y="544464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032360" y="4005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ы"/>
          <p:cNvPicPr/>
          <p:nvPr/>
        </p:nvPicPr>
        <p:blipFill>
          <a:blip r:embed="rId1"/>
          <a:stretch/>
        </p:blipFill>
        <p:spPr>
          <a:xfrm>
            <a:off x="611280" y="2924280"/>
            <a:ext cx="3238560" cy="2185920"/>
          </a:xfrm>
          <a:prstGeom prst="rect">
            <a:avLst/>
          </a:prstGeom>
          <a:ln w="0">
            <a:noFill/>
          </a:ln>
        </p:spPr>
      </p:pic>
      <p:sp>
        <p:nvSpPr>
          <p:cNvPr id="306" name="WordArt 8"/>
          <p:cNvSpPr txBox="1"/>
          <p:nvPr/>
        </p:nvSpPr>
        <p:spPr>
          <a:xfrm>
            <a:off x="1835280" y="40464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кция организ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жаркую погод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2627280" y="1413000"/>
            <a:ext cx="58690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042920" y="4365360"/>
            <a:ext cx="4535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ходен с ожогом пламенем. Кожа становится черной из-за импрегнации металл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"/>
          <p:cNvPicPr/>
          <p:nvPr/>
        </p:nvPicPr>
        <p:blipFill>
          <a:blip r:embed="rId1"/>
          <a:stretch/>
        </p:blipFill>
        <p:spPr>
          <a:xfrm>
            <a:off x="539640" y="1341360"/>
            <a:ext cx="170208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р"/>
          <p:cNvPicPr/>
          <p:nvPr/>
        </p:nvPicPr>
        <p:blipFill>
          <a:blip r:embed="rId2"/>
          <a:stretch/>
        </p:blipFill>
        <p:spPr>
          <a:xfrm>
            <a:off x="6012000" y="4221000"/>
            <a:ext cx="2590560" cy="1656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8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06440" y="342828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979640" y="692280"/>
            <a:ext cx="49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00000" y="1989000"/>
            <a:ext cx="575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)Ожоги электрическим то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молн"/>
          <p:cNvPicPr/>
          <p:nvPr/>
        </p:nvPicPr>
        <p:blipFill>
          <a:blip r:embed="rId1"/>
          <a:stretch/>
        </p:blipFill>
        <p:spPr>
          <a:xfrm>
            <a:off x="2987640" y="3573360"/>
            <a:ext cx="3371760" cy="25956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684360" y="1484280"/>
            <a:ext cx="59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76720" y="3284280"/>
            <a:ext cx="568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826920" y="5229000"/>
            <a:ext cx="53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) Ожоги фосфором и изве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ь"/>
          <p:cNvPicPr/>
          <p:nvPr/>
        </p:nvPicPr>
        <p:blipFill>
          <a:blip r:embed="rId1"/>
          <a:stretch/>
        </p:blipFill>
        <p:spPr>
          <a:xfrm>
            <a:off x="971640" y="3213000"/>
            <a:ext cx="1917720" cy="1871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8"/>
          <p:cNvSpPr txBox="1"/>
          <p:nvPr/>
        </p:nvSpPr>
        <p:spPr>
          <a:xfrm>
            <a:off x="2124000" y="404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7" name="Picture 10" descr="известь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580000" y="4365720"/>
            <a:ext cx="2808360" cy="185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P+O2"/>
          <p:cNvPicPr/>
          <p:nvPr/>
        </p:nvPicPr>
        <p:blipFill>
          <a:blip r:embed="rId3"/>
          <a:stretch/>
        </p:blipFill>
        <p:spPr>
          <a:xfrm>
            <a:off x="6516720" y="1557360"/>
            <a:ext cx="2089080" cy="157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2124000" y="620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учевы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971640" y="1923120"/>
            <a:ext cx="655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)Радиацион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ключаются в себя: ожоги УФ-излу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ло"/>
          <p:cNvPicPr/>
          <p:nvPr/>
        </p:nvPicPr>
        <p:blipFill>
          <a:blip r:embed="rId1"/>
          <a:stretch/>
        </p:blipFill>
        <p:spPr>
          <a:xfrm>
            <a:off x="1403280" y="299736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4788000" y="2852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2470320" cy="1598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91448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5796000" y="4005360"/>
            <a:ext cx="2468520" cy="15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009520" cy="2667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3203640" y="1483920"/>
            <a:ext cx="57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276720" y="24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68360" y="4142880"/>
            <a:ext cx="42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традают все сло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68360" y="4868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ное разрушение кожи и нижележащего мышечного сло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95280" y="56606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12"/>
          <p:cNvSpPr txBox="1"/>
          <p:nvPr/>
        </p:nvSpPr>
        <p:spPr>
          <a:xfrm>
            <a:off x="161928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ификация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187280" y="2205000"/>
            <a:ext cx="352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лад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девя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Глубина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846760" y="1916280"/>
            <a:ext cx="1893960" cy="47527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042920" y="5013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лощадь поражения кожи превышает 10% - следует ожидать развития ожогового ш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1619280" y="404640"/>
            <a:ext cx="57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определ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агноза нужно знать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1042920" y="5013360"/>
            <a:ext cx="0" cy="107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1042920" y="6093000"/>
            <a:ext cx="38894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1042920" y="5013360"/>
            <a:ext cx="3889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4932360" y="501336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06:16:37Z</dcterms:created>
  <dc:creator>Киска</dc:creator>
  <dc:description>dmsuslin.narod.ru</dc:description>
  <dc:language>en-US</dc:language>
  <cp:lastModifiedBy>LEGION</cp:lastModifiedBy>
  <dcterms:modified xsi:type="dcterms:W3CDTF">2015-05-12T08:17:55Z</dcterms:modified>
  <cp:revision>17</cp:revision>
  <dc:subject/>
  <dc:title>Ожог на кож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5000000000001024140</vt:lpwstr>
  </property>
</Properties>
</file>