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5.jpeg" ContentType="image/jpeg"/>
  <Override PartName="/ppt/media/image31.jpeg" ContentType="image/jpeg"/>
  <Override PartName="/ppt/media/image38.jpeg" ContentType="image/jpeg"/>
  <Override PartName="/ppt/media/image12.jpeg" ContentType="image/jpeg"/>
  <Override PartName="/ppt/media/image44.png" ContentType="image/png"/>
  <Override PartName="/ppt/media/image13.jpeg" ContentType="image/jpeg"/>
  <Override PartName="/ppt/media/image33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6.jpeg" ContentType="image/jpeg"/>
  <Override PartName="/ppt/media/image11.png" ContentType="image/png"/>
  <Override PartName="/ppt/media/image9.jpeg" ContentType="image/jpeg"/>
  <Override PartName="/ppt/media/image4.jpeg" ContentType="image/jpeg"/>
  <Override PartName="/ppt/media/image40.png" ContentType="image/png"/>
  <Override PartName="/ppt/media/image30.jpeg" ContentType="image/jpeg"/>
  <Override PartName="/ppt/media/image43.png" ContentType="image/png"/>
  <Override PartName="/ppt/media/image47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54E1-BAD1-4035-A583-1F54186C3A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Ожоги. Виды ожог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Солнечные ожо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Тепловой уд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413B-D090-4F89-AC36-F44C6C1B29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Первая помощь п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х ожог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ьшить боль и предупредить опасные для жизни ослож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омощи при ожога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Обожженную поверхность поскорее подставить под струю холодной воды и подержать 5-10 мин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Накрыть сухой чистой ткан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оверх ткани приложить холод (пузырь со льдом или пакет с холодной водой или снег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допустимо смазывать повреждённые участки кремами и жирами,  присыпать мукой и крахма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скрывать пузыри и удалять прилипшую тка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CCA3-EEFA-4005-B51F-A9E35EF55F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Первая помощь п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х ожог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омощи при ожога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на повреждённую поверхность чистую пленку или тка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оверх плёнки приложить пакеты со ль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Дать пострадавшему таблетку анальгина (если он в сознан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При длительном ожидании скорой помощи обеспечить пострадавшего обильным тёплым питьё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3EE5-409D-4A45-BEAB-5D302697CE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Первая помощь п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х ожог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допустим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дирать с поверхности кожи одеж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крывать пузы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нтовать обожженную поверх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мывать грязь и сажу с поверхности ко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рабатывать повреждённую поверхность присыпками и спиртосодержащими раство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0D77-35B5-4150-B07F-9B4C8B4B00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Помощь при химических ожог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1)Если ожог вызван кислот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только не серной), то можно промыть место ожога струёй холодной воды, а затем щелочным раствором: мыльной водой или раствором пищевой с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2)Если же ожог от щёлоч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после промывания водой хорошо приложить ткань, смоченную слабым  уксусом или лимонным соком. Перед отправлением в больницу ожог закрывают повязк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3)Если на кожу попал фосфо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он вспыхивает. Обожжённое место нужно опустить под воду. Палочкой удалить кусочки фосфора, наложить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4)Когда на кожу попадает негашеная изве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и в коем случае нельзя допускать попадание туда влаги – пойдёт бурная химическая реакция. Обработку ожога производят любым мас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C668-000E-432D-A476-186F47ED45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Помощь при действ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электрического т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лектротравме происходит поражение не только в месте непосредственного воздействия  тока, но страдает и весь организ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есте удара может быть покраснение и потеря чувствительности. Но если сила тока была большой, если действовал он достаточно долго, если кожа была влажной и по ряду других причин, в месте входа и выхода тока могут возникнуть глубокие ожоги, напоминающие крате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ED9E-D439-4D53-80EF-B672F435D6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Помощь при действ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электрического т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ую очередь необходимо прекратить действие электротока. При этом нужно помнить, что тело поражённого является проводником, и если неосторожно прикоснуться к нему, то оказывающий помощь также получит электротравму. Поэтому лучше всего выключить ток, используя рубильник, электропроб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это невозможно, нужно отвести провод от поражённого при помощи непроводящих ток предметов: деревянной вещи, хлопчатобумажного изделия. Ожоги прикрывают повязкой. В тяжёлых случаях делают искусственное дыхание и непрямой массаж сердца. И как можно скорее в больницу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7A0A-7934-4D8B-92F7-4713ECD78A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Удар молн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дар молнией – это мощнейшая электротрав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се явления, происходящие при поражении бытовым электричеством, будут наблюдаться и в этом случае. Но есть и отлич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ражении молнией на коже появляются пятна тёмно-синего цвета, напоминающие разветвление дерева. Это происходит из-за паралича сосудов. Общие явления при поражении молнией также выражены значительнее. Характерно развитие параличей, глухоты, немоты и паралича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61F9-FA7C-4C0F-AD38-CF3A2B6C41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Как избежать удара молни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гроза  застаёт в лесу, не следует прятаться под высокими деревьями. Особенно опасны отдельно стоящие дуб , тополь , ель и сосна. В берёзу и клён молния ударяет редк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ходясь в грозу на открытом месте, лучше присесть в сухую яму или канаву. Тело должно иметь как можно меньший контакт с землё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грозы в горах следует избегать гребней, скальных выступов и других возвышенных точ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49B8-5917-4715-8110-BEBB18CC7C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Специализированное лечение ож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1)Закрытый мет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рытом метод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ечения на поверхность ожога накладывают повязки с различными веществами (противоожоговая мазь, эмульсия синтомицина, диоксидиновая мазь и др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2) Открытый мет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крытый мет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ечения применяют в двух видах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без обработки поверхности ожога дубящими веществ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с созданием на поверхности ожога корочки (струпа) путем обработки коагулирующими препара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7966-12E0-41E8-A73D-743F8036FF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Специализированное лечение ож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3) Смешенный мет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нагноения ожоговой поверхности заставляет переходить от открытого к закрытому методу и применению повязок с различными препара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4) Оперативный мет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мопластические пересадки кожи производят для временного закрытия обширных дефектов при тяжелом состоянии пострадавш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FF57-94B4-4B85-B997-339BB713EC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Ожогами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ывают повреждения, вызванные термической, химической или лучевой энергией. Тяжесть ожога определяется величиной площади и глубиной повреждения тка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ка изучающая ожоги называетс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мбустиологи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01A3-20F5-4675-BB1F-E74F070A57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сновные причины смер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Ожоговый шок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ется в связи с раздражением огромного количества нервных элементов обширной области поражения. Чем больше площадь ожога, тем чаще бывает и тяжелее протекает ш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жоговая болезнь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ёткой границы между ожоговым шоком и ожоговой болезнью нет. По существу речь идёт об одном и том же явлении. В первые 2-3 суток говорят об ожоговом шоке. На 3-5е сутки, как правило, полностью проявляются перечисленные выше осложнения, и врачи ставят диагноз: ожоговая боле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CFE5-641E-4658-9BE5-ACFCA23D83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сновные причины смер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нфекц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развитии инфекции на обожженной поверхности возникают септические явления (септическая фаза болезни), повышается температура тела, появляются ознобы, нарастает лейкоцитоз и нейтрофилез, развивается анемия, язвы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Токсемия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инается с первых часов после ожога, постепенно усиливается и после выхода из шока определяет в дальнейшем состояние пострадавшего. В развитии токсемии играет роль всасывание из, зоны ожога продуктов распада тканей, токси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993A-2F2C-4A4F-A12E-026793621B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Этапы помощи при тяжелых ожог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Неотложный пери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зависимости от тяжести повреждения занимает от двух дней до двух недель после ожо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Острый пери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чинается сразу же по окончании неотложного и продолжается до тех пор, пока все глубокие повреждения не будут покрыты аутотрансплантатами (лоскутами кожи, взятыми с других участков тела больного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Реабилитац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это возвращение больного к его обычному образу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180B-668B-4EC4-BA82-56EEC93757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жоги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термическ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Термические 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зываются пламенем, горячим воздухом и жидкостями, расплавленным металлом, нагретыми или горящими частиц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импто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: резкая боль в глазу, блефароспазм, слезотечение, отек век и конъюнктивы, снижение зрения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ложная помощь: необходимо промыть глаза водой, закапать в глаза 20 % раствор сульфацил -натрия; 20 % суль – фапиридазин - натрия; раненую поверхность кожи смазать мазью антибиотика. На глаз накладывается асептическая повязка. Внутримышечно вводят противостолбнячную сыворотку (1500-ЗОООМЕ)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9A82-17EA-43CB-9B01-3769CAEACC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жоги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Химические 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ывают кислотными и щелочными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оги кислотой вызывают быстрое свертывание белка, поэтому в первые часы формируется ограниченный струп. Это предохраняет подлежащиеткани от дальнейшего поражения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Симптомы и течени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Жалобы на боль, светобоязнь, слезотечение, снижение зрения. Веки гиперемированы, отечны. Роговица становится отечной, тусклой, с сероватым оттенком, в тяжелых случаях приобретает молочный оттенок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ложная помощь: как можно быстрее, в течение 10-15 минут промыть глаза струей воды. В конъюнктивальную полость закапывают 20 % раствор сульфацил-натрия, 10 % раствор сульфапирида-зин-натрия, раствор фурацил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8844-4430-4CD0-A335-59E052DA74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жоги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Щелочные 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нее благоприятны. Щелочь растворяет белок и беспрепятственно проникает внутрь тканей. Страдает не только кожа, конъюнктива и роговица. Воздействию подвергается радужка, хрусталик и другие ткани гла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отложная помощь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ильное промывание глаз водой в течении 15-30 минут. Если имеются частицы поражающего агента, то необходимо их удалить с помощью тугого ватного тампона или пинцетом, повторно промьггь водой. После этого закапать в глаз раствор антибиотиков, сульфаниламидов. Накладывается сухая асептическая повязка,больной направляется в стациона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7964-E5A7-426D-93D6-EF5D1A6EDA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Солнечный ож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имптомы солнечного ожог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ывают разные - от порозовения кожи, начинающей "гореть", до покраснения, когда она опухает, покрывается волдырями и становится крайне болезнен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ечные ожоги вовсе не так безобидны, как думают многие. Доказано, что они могут приводить не только к преждевременному старению кожи и развитию фотодерматита (аллергии к солнечным лучам), но и к снижению зрения и даже к онкологическим заболеваниям (раку кож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F137-99AB-4608-B050-348C307549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Профилактические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Солнцезащитные кре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онепроницаемые кремы содержат окисел цинка или диоксид титана, практически полностью блокирующие ультрафиолетовую радиацию. Они хороши для чувствительных участков кожи, таких, как нос и губ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Солнцеотражающие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содержат вещества, частично отражающие ультрафиолетовые луч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частая причина солнечных ожогов - ажиотаж первого дня. Увеличивайте время пребывания на солнце постепенно: переходите от получаса на первый раз до не более чем 2 часа в день. Самое активное солнце с полудня до 2 часов, так что в это время лучше не загор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088F-69BC-4273-AB5E-352BFD0270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Теплово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ТЕПЛОВОЙ УДА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болезненное состояние, обусловленное общим перегреванием организма и возникающее в результате воздействия внешних тепловых факторов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импто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больного наблюдается чувство общей слабости, разбитости, головная боль, головокружение, шум в ушах, сонливость, жажда, тошнота. При осмотре выявляется гиперемия кожных покров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A72D-98EB-4C6D-96CD-686C9A5CF0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ного срочно выносят в прохладное место, обеспечивают доступ свежего воздуха, освобождают от одежды, дают выпить холодной воды, накладывают холодный компресс на голо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олее тяжелых случаях показано обертывание простыней, смоченной холодной водой, обливание прохладной водой, лед на голову и паховые обла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о не в коем случае нельзя давать алкоголь, напитки, содержащие теин и кофеин (чай, кофе, кака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A8F5-03C9-4D03-8F39-1D366B2068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Пла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получает ожоги, в основном, от загоревшейся одежды. Синтетические материалы расплавляются и проникают глубоко в кожу, и их потом очень тяжело отделить. Ожоги пламенем неравномерны, носят пятнистый характе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2)В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жа хорошо впитывает воду, поэтому такие ожоги обычно большие, значительные по площади и больше, чем при первичном контак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3)Контактные 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озникают в результате соприкосновения кожи с твердым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ами. Они возникают в 10% случа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71B6-8065-48F2-A117-BF8FA96E02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Реакция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на жаркую по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ературу 71°С человек выдерживает в течение 1 часа, 82°С - 49 минут, 93°С - 33 минут, а 104°С - только 26 мину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28 году был описан случай 14-минутного пребывания мужчины в печи, где температура достигала 170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ельгии в 1958 году был зарегистрирован случай, когда человек несколько минут находился в термокамере при температуре 200°С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наженном состоянии человек может выдержать быстрое нарастание температуры до 210°С, а в ватной одежде - до 270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A174-03F8-4450-B232-C8F70C78AF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4)Ожоги, возникающие при контакте с различными другими веществ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жирами, маслами. Ожоги небольшие по глубине и по площади, так как жиры и масла не растекаются по поверхности кожи, имеют пятнистый характер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5)Вязкие Веществ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(смолой, гудроно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6)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Ожог вольтовой дугой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ходен с ожогом пламенем. Кожа становится черной из-за импрегнации металл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BCDE-28F0-4224-9CA3-797A4B3823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7)Ожоги электрическим ток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могут быть от молнии и бытовой (от электроприборов). Ожоги по площади незначительные, о глубокие, повреждаются мышцы и к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01C4-C3A4-4A05-9D16-BB6CB98BA2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Химически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8) Ожоги щелочью и кислот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оги щелочью значительно опаснее, чем кислотой, при котором происходит коагуляция белков и образуется корочка, струп, предотвращающая проникновение в глубокие сло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9)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званные алкалоидами растений, например относящихся к семейству лютиковых подснежни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10) Ожоги фосфором и извест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9579-DEFD-4406-9A4F-780742BB50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Лучевы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11)Радиационные 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ключаются в себя: ожоги УФ-излучен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Ф-излучение вызывает 2 вида повреждений: рак кожи и подавление иммунной систем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ационное излучение оказывает основное действие на кроветворную, иммунную, центральную нервную систем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2D5F-C51C-4419-BBE5-EECADDB48A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Классификация ож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жоги 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 проявляются резко выраженной краснотой кожи и отеком тканей, сопровождаются жгучей болью и поражением верхних слоёв кож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жоги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 - Кроме выраженных симптомов, отмеченных при 1степени, отмечается образование пузырей наполненных серозной жидк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жоги 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 страдают все слои кож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жоги I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лное разрушение кожи и нижележащего мышечного сло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жоги 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 сопровождаются некрозом более глубоких слоев тканей и обугливанием кожи или даже органа, омертвением не только кожи, но и глубжележащих тка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B2E3-CA6A-4CAA-8282-25889B0BEA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Для опред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диагноза нужно зн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ож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щадь ож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ило ладо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ило девя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Глубина ож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площадь поражения кожи превышает 10% - следует ожидать развития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3332-FC6C-4FA8-BFAA-CD3E61CE66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517B-CE67-4CE6-A1F9-D5BD8A2A1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B6B9-4211-4239-9A56-54D1682C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1F13-4639-4571-8554-5809AC850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B1A8-432C-4CFA-89D2-FEBF4DE1F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E155-2A57-4AFD-9BB6-F193146CF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51CA-A6ED-4200-BCC3-60BE600C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F0F7-1451-4297-93DC-3E138C41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AC6A-E7C1-45A5-9708-205DD130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FA15-3226-4B0C-8950-C842456C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52BF2-D90C-45B6-A7F1-25B2E86E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013B-BFA7-4374-B134-3E415F25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D7CF-35BC-4119-B34C-8A316199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0762-EF0C-4F0E-AE74-9A5CD5C7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1069-4534-499B-B0EA-7FE418CA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9069-F79F-4E0E-B2D0-6D161D5B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EDF7-EB20-4AF1-9C5B-DB9A2DF6A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59E7-64B8-44B2-9020-AF8CB62DF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A3A1-35A4-4D82-99B4-16A56FE1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4EEB-4641-4D8A-AEA9-7FD84410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A9EE-6EE1-4D39-A51D-4BAA802A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9FDC-D534-420D-BD62-A991287A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3F20-1B35-4E7A-97B9-AB316FCA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17AC-B250-4F69-922E-01D4E854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BAEA-88C7-49DC-A35A-F363305A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BDDD-4852-4C4A-9F91-6F86297E9B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B0A2-3652-4E49-B74D-A546B82F4D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971640" y="2133720"/>
            <a:ext cx="7632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жоги. Виды ожогов. 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лнечные ожоги. 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пловой удар.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3"/>
          <p:cNvSpPr/>
          <p:nvPr/>
        </p:nvSpPr>
        <p:spPr>
          <a:xfrm>
            <a:off x="395280" y="1197000"/>
            <a:ext cx="92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меньшить боль и предупредить опасные для жизни ослож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1403280" y="177336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зание помощи при ожога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епе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1798560" cy="1295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2"/>
          <a:stretch/>
        </p:blipFill>
        <p:spPr>
          <a:xfrm>
            <a:off x="6659640" y="3284640"/>
            <a:ext cx="1871640" cy="1439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"/>
          <p:cNvPicPr/>
          <p:nvPr/>
        </p:nvPicPr>
        <p:blipFill>
          <a:blip r:embed="rId3"/>
          <a:stretch/>
        </p:blipFill>
        <p:spPr>
          <a:xfrm>
            <a:off x="611280" y="4076640"/>
            <a:ext cx="1798560" cy="13669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8"/>
          <p:cNvSpPr/>
          <p:nvPr/>
        </p:nvSpPr>
        <p:spPr>
          <a:xfrm>
            <a:off x="2484360" y="2565360"/>
            <a:ext cx="44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Обожженную поверхность поскорее подставить под струю холодной воды и подержать 5-10 мин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556000" y="378936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Накрыть сухой чистой ткан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2556000" y="450864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Поверх ткани приложить холод (пузырь со льдом или пакет с холодной водой или снег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1187280" y="5661000"/>
            <a:ext cx="68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едопустимо смазывать повреждённые участки кремами и жирами,  присыпать мукой и крахма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скрывать пузыри и удалять прилипшую тка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12"/>
          <p:cNvSpPr txBox="1"/>
          <p:nvPr/>
        </p:nvSpPr>
        <p:spPr>
          <a:xfrm>
            <a:off x="1332000" y="260280"/>
            <a:ext cx="6276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 пр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1332000" y="1700280"/>
            <a:ext cx="7056360" cy="6490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4"/>
          <p:cNvSpPr/>
          <p:nvPr/>
        </p:nvSpPr>
        <p:spPr>
          <a:xfrm>
            <a:off x="1187280" y="5661000"/>
            <a:ext cx="6840720" cy="93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1614240" y="1557360"/>
            <a:ext cx="59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азание помощи при ожога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епе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900000" y="220500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ожить на повреждённую поверхность чистую пленку или тка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564000" y="378936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Поверх плёнки приложить пакеты со ль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835280" y="4941720"/>
            <a:ext cx="6408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Дать пострадавшему таблетку анальгина (если он в сознан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При длительном ожидании скорой помощи обеспечить пострадавшего обильным тёплым питьё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580000" y="2060640"/>
            <a:ext cx="1817640" cy="1751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"/>
          <p:cNvPicPr/>
          <p:nvPr/>
        </p:nvPicPr>
        <p:blipFill>
          <a:blip r:embed="rId2"/>
          <a:stretch/>
        </p:blipFill>
        <p:spPr>
          <a:xfrm>
            <a:off x="1476360" y="3068640"/>
            <a:ext cx="1846440" cy="1714320"/>
          </a:xfrm>
          <a:prstGeom prst="rect">
            <a:avLst/>
          </a:prstGeom>
          <a:ln w="0">
            <a:noFill/>
          </a:ln>
        </p:spPr>
      </p:pic>
      <p:sp>
        <p:nvSpPr>
          <p:cNvPr id="184" name="WordArt 9"/>
          <p:cNvSpPr txBox="1"/>
          <p:nvPr/>
        </p:nvSpPr>
        <p:spPr>
          <a:xfrm>
            <a:off x="1332000" y="260280"/>
            <a:ext cx="6276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 пр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1619280" y="1484280"/>
            <a:ext cx="5905440" cy="504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3"/>
          <p:cNvSpPr/>
          <p:nvPr/>
        </p:nvSpPr>
        <p:spPr>
          <a:xfrm>
            <a:off x="1547640" y="2133720"/>
            <a:ext cx="605016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допустим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дирать с поверхности кожи одежд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скрывать пузы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бинтовать обожженную поверх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мывать грязь и сажу с поверхности кож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брабатывать повреждённую поверхность присыпками и спиртосодержащими раствор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WordArt 4"/>
          <p:cNvSpPr txBox="1"/>
          <p:nvPr/>
        </p:nvSpPr>
        <p:spPr>
          <a:xfrm>
            <a:off x="1332000" y="549360"/>
            <a:ext cx="6276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 пр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547640" y="2133720"/>
            <a:ext cx="6120000" cy="374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4"/>
          <p:cNvSpPr txBox="1"/>
          <p:nvPr/>
        </p:nvSpPr>
        <p:spPr>
          <a:xfrm>
            <a:off x="1042920" y="333360"/>
            <a:ext cx="6858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мощь при хи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324000" y="1197000"/>
            <a:ext cx="5616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)Если ожог вызван кислот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только не серной), то можно промыть место ожога струёй холодной воды, а затем щелочным раствором: мыльной водой или раствором пищевой с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2843280" y="2564640"/>
            <a:ext cx="6551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)Если же ожог от щёлоч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после промывания водой хорошо приложить ткань, смоченную слабым  уксусом или лимонным соком. Перед отправлением в больницу ожог закрывают повязк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179280" y="3933000"/>
            <a:ext cx="68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)Если на кожу попал фосф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он вспыхивает. Обожжённое место нужно опустить под воду. Палочкой удалить кусочки фосфора, наложить повяз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2195640" y="5012280"/>
            <a:ext cx="65894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)Когда на кожу попадает негашеная изве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и в коем случае нельзя допускать попадание туда влаги – пойдёт бурная химическая реакция. Обработку ожога производят любым мас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9" descr="гл"/>
          <p:cNvPicPr/>
          <p:nvPr/>
        </p:nvPicPr>
        <p:blipFill>
          <a:blip r:embed="rId1"/>
          <a:stretch/>
        </p:blipFill>
        <p:spPr>
          <a:xfrm>
            <a:off x="6156360" y="1197000"/>
            <a:ext cx="1224000" cy="1440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фосфор"/>
          <p:cNvPicPr/>
          <p:nvPr/>
        </p:nvPicPr>
        <p:blipFill>
          <a:blip r:embed="rId2"/>
          <a:stretch/>
        </p:blipFill>
        <p:spPr>
          <a:xfrm>
            <a:off x="6588000" y="3789360"/>
            <a:ext cx="1727280" cy="1224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1" descr="известь"/>
          <p:cNvPicPr/>
          <p:nvPr/>
        </p:nvPicPr>
        <p:blipFill>
          <a:blip r:embed="rId3"/>
          <a:stretch/>
        </p:blipFill>
        <p:spPr>
          <a:xfrm>
            <a:off x="611280" y="5013360"/>
            <a:ext cx="1485720" cy="1485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2" descr="джэ"/>
          <p:cNvPicPr/>
          <p:nvPr/>
        </p:nvPicPr>
        <p:blipFill>
          <a:blip r:embed="rId4"/>
          <a:stretch/>
        </p:blipFill>
        <p:spPr>
          <a:xfrm>
            <a:off x="611280" y="2492280"/>
            <a:ext cx="1871640" cy="140328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4"/>
          <p:cNvSpPr txBox="1"/>
          <p:nvPr/>
        </p:nvSpPr>
        <p:spPr>
          <a:xfrm>
            <a:off x="1187280" y="47628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мощь при действи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ктрического то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1042920" y="192384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лектротравме происходит поражение не только в месте непосредственного воздействия  тока, но страдает и весь организ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971640" y="423900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есте удара может быть покраснение и потеря чувствительности. Но если сила тока была большой, если действовал он достаточно долго, если кожа была влажной и по ряду других причин, в месте входа и выхода тока могут возникнуть глубокие ожоги, напоминающие крате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4"/>
          <p:cNvSpPr txBox="1"/>
          <p:nvPr/>
        </p:nvSpPr>
        <p:spPr>
          <a:xfrm>
            <a:off x="1187280" y="47628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мощь при действи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ктрического то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971640" y="2111400"/>
            <a:ext cx="7705800" cy="146556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ервую очередь необходимо прекратить действие электротока. При этом нужно помнить, что тело поражённого является проводником, и если неосторожно прикоснуться к нему, то оказывающий помощь также получит электротравму. Поэтому лучше всего выключить ток, используя рубильник, электропроб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900000" y="4843440"/>
            <a:ext cx="8088480" cy="146556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это невозможно, нужно отвести провод от поражённого при помощи непроводящих ток предметов: деревянной вещи, хлопчатобумажного изделия. Ожоги прикрывают повязкой. В тяжёлых случаях делают искусственное дыхание и непрямой массаж сердца. И как можно скорее в больницу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4"/>
          <p:cNvSpPr txBox="1"/>
          <p:nvPr/>
        </p:nvSpPr>
        <p:spPr>
          <a:xfrm>
            <a:off x="2195640" y="549360"/>
            <a:ext cx="4465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дар молние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2484360" y="465300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оражении молнией на коже появляются пятна тёмно-синего цвета, напоминающие разветвление дерева. Это происходит из-за паралича сосудов. Общие явления при поражении молнией также выражены значительнее. Характерно развитие параличей, глухоты, немоты и паралича дых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1258920" y="155736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дар молнией – это мощнейшая электротрав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611280" y="213372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се явления, происходящие при поражении бытовым электричеством, будут наблюдаться и в этом случае. Но есть и отлич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8" descr="мол"/>
          <p:cNvPicPr/>
          <p:nvPr/>
        </p:nvPicPr>
        <p:blipFill>
          <a:blip r:embed="rId1"/>
          <a:stretch/>
        </p:blipFill>
        <p:spPr>
          <a:xfrm>
            <a:off x="4932360" y="2060640"/>
            <a:ext cx="3240000" cy="2422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мол1"/>
          <p:cNvPicPr/>
          <p:nvPr/>
        </p:nvPicPr>
        <p:blipFill>
          <a:blip r:embed="rId2"/>
          <a:stretch/>
        </p:blipFill>
        <p:spPr>
          <a:xfrm>
            <a:off x="755640" y="3789360"/>
            <a:ext cx="1528920" cy="216072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WordArt 4"/>
          <p:cNvSpPr txBox="1"/>
          <p:nvPr/>
        </p:nvSpPr>
        <p:spPr>
          <a:xfrm>
            <a:off x="1332000" y="404640"/>
            <a:ext cx="6410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 избежать удара молнией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468360" y="155700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гроза  застаёт в лесу, не следует прятаться под высокими деревьями. Особенно опасны отдельно стоящие дуб , тополь , ель и сосна. В берёзу и клён молния ударяет ред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W12"/>
          <p:cNvPicPr/>
          <p:nvPr/>
        </p:nvPicPr>
        <p:blipFill>
          <a:blip r:embed="rId1"/>
          <a:stretch/>
        </p:blipFill>
        <p:spPr>
          <a:xfrm>
            <a:off x="5940360" y="1268280"/>
            <a:ext cx="2774880" cy="208152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7"/>
          <p:cNvSpPr/>
          <p:nvPr/>
        </p:nvSpPr>
        <p:spPr>
          <a:xfrm>
            <a:off x="3276720" y="342864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ходясь в грозу на открытом месте, лучше присесть в сухую яму или канаву. Тело должно иметь как можно меньший контакт с землё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" descr="File0107"/>
          <p:cNvPicPr/>
          <p:nvPr/>
        </p:nvPicPr>
        <p:blipFill>
          <a:blip r:embed="rId2"/>
          <a:stretch/>
        </p:blipFill>
        <p:spPr>
          <a:xfrm>
            <a:off x="468360" y="2997360"/>
            <a:ext cx="2663640" cy="22320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9"/>
          <p:cNvSpPr/>
          <p:nvPr/>
        </p:nvSpPr>
        <p:spPr>
          <a:xfrm>
            <a:off x="1258920" y="544464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время грозы в горах следует избегать гребней, скальных выступов и других возвышенных точ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0" descr="Утес"/>
          <p:cNvPicPr/>
          <p:nvPr/>
        </p:nvPicPr>
        <p:blipFill>
          <a:blip r:embed="rId3"/>
          <a:stretch/>
        </p:blipFill>
        <p:spPr>
          <a:xfrm>
            <a:off x="5940360" y="4365720"/>
            <a:ext cx="2671920" cy="208764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3"/>
          <p:cNvSpPr/>
          <p:nvPr/>
        </p:nvSpPr>
        <p:spPr>
          <a:xfrm>
            <a:off x="539640" y="1557360"/>
            <a:ext cx="496908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1)Закрыт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рытом метод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чения на поверхность ожога накладывают повязки с различными веществами (противоожоговая мазь, эмульсия синтомицина, диоксидиновая мазь и др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3708360" y="3860640"/>
            <a:ext cx="521964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) Открыт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рытый мет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чения применяют в двух видах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без обработки поверхности ожога дубящими веществ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с созданием на поверхности ожога корочки (струпа) путем обработки коагулирующими препарат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2050920" y="6597720"/>
            <a:ext cx="417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00000" y="5950080"/>
            <a:ext cx="403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WordArt 7"/>
          <p:cNvSpPr txBox="1"/>
          <p:nvPr/>
        </p:nvSpPr>
        <p:spPr>
          <a:xfrm>
            <a:off x="468360" y="549360"/>
            <a:ext cx="8191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ециализированное лечение ожог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9" name="Picture 8" descr="9851"/>
          <p:cNvPicPr/>
          <p:nvPr/>
        </p:nvPicPr>
        <p:blipFill>
          <a:blip r:embed="rId1"/>
          <a:stretch/>
        </p:blipFill>
        <p:spPr>
          <a:xfrm>
            <a:off x="5651640" y="1628640"/>
            <a:ext cx="2808000" cy="2232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445315_20020714153547"/>
          <p:cNvPicPr/>
          <p:nvPr/>
        </p:nvPicPr>
        <p:blipFill>
          <a:blip r:embed="rId2"/>
          <a:stretch/>
        </p:blipFill>
        <p:spPr>
          <a:xfrm>
            <a:off x="611280" y="3933720"/>
            <a:ext cx="2879640" cy="215100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2195640" y="4292640"/>
            <a:ext cx="504180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4) Оперативн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мопластические пересадки кожи производят для временного закрытия обширных дефектов при тяжелом состоянии пострадавш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468360" y="1916280"/>
            <a:ext cx="439272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3) Смешенн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нагноения ожоговой поверхности заставляет переходить от открытого к закрытому методу и применению повязок с различными препарат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WordArt 5"/>
          <p:cNvSpPr txBox="1"/>
          <p:nvPr/>
        </p:nvSpPr>
        <p:spPr>
          <a:xfrm>
            <a:off x="468360" y="549360"/>
            <a:ext cx="8191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ециализированное лечение ожог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5" name="Picture 6" descr="ит"/>
          <p:cNvPicPr/>
          <p:nvPr/>
        </p:nvPicPr>
        <p:blipFill>
          <a:blip r:embed="rId1"/>
          <a:stretch/>
        </p:blipFill>
        <p:spPr>
          <a:xfrm>
            <a:off x="5435640" y="1916280"/>
            <a:ext cx="2663640" cy="212076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2411280" y="476280"/>
            <a:ext cx="38894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58920" y="1772640"/>
            <a:ext cx="8785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жогами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зывают повреждения, вызванные термической, химической или лучевой энергией. Тяжесть ожога определяется величиной площади и глубиной повреждения ткан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4788000" y="529992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ука изучающая ожоги называетс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бустиолог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т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364000" y="2781360"/>
            <a:ext cx="2592720" cy="2176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шрамы от ожогов 3 степени"/>
          <p:cNvPicPr/>
          <p:nvPr/>
        </p:nvPicPr>
        <p:blipFill>
          <a:blip r:embed="rId2"/>
          <a:stretch/>
        </p:blipFill>
        <p:spPr>
          <a:xfrm>
            <a:off x="1116000" y="3357720"/>
            <a:ext cx="2344680" cy="27352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395280" y="1700280"/>
            <a:ext cx="543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жоговый шок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ется в связи с раздражением огромного количества нервных элементов обширной области поражения. Чем больше площадь ожога, тем чаще бывает и тяжелее протекает ш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6"/>
          <p:cNvSpPr txBox="1"/>
          <p:nvPr/>
        </p:nvSpPr>
        <p:spPr>
          <a:xfrm>
            <a:off x="1763640" y="620640"/>
            <a:ext cx="5715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ные причины смерт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2987640" y="4005360"/>
            <a:ext cx="579744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жоговая болезн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ёткой границы между ожоговым шоком и ожоговой болезнью нет. По существу речь идёт об одном и том же явлении. В первые 2-3 суток говорят об ожоговом шоке. На 3-5е сутки, как правило, полностью проявляются перечисленные выше осложнения, и врачи ставят диагноз: ожоговая боле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8" descr="лдлжож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5651640" y="170028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images"/>
          <p:cNvPicPr/>
          <p:nvPr/>
        </p:nvPicPr>
        <p:blipFill>
          <a:blip r:embed="rId2"/>
          <a:stretch/>
        </p:blipFill>
        <p:spPr>
          <a:xfrm>
            <a:off x="684360" y="3716280"/>
            <a:ext cx="1942920" cy="192420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4"/>
          <p:cNvSpPr txBox="1"/>
          <p:nvPr/>
        </p:nvSpPr>
        <p:spPr>
          <a:xfrm>
            <a:off x="1763640" y="620640"/>
            <a:ext cx="5715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ные причины смерт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468360" y="1557360"/>
            <a:ext cx="540072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нфекц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развитии инфекции на обожженной поверхности возникают септические явления (септическая фаза болезни), повышается температура тела, появляются ознобы, нарастает лейкоцитоз и нейтрофилез, развивается анемия, язвы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3851280" y="4005360"/>
            <a:ext cx="504036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оксемия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инается с первых часов после ожога, постепенно усиливается и после выхода из шока определяет в дальнейшем состояние пострадавшего. В развитии токсемии играет роль всасывание из, зоны ожога продуктов распада тканей, токси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8" descr="ораьлор"/>
          <p:cNvPicPr/>
          <p:nvPr/>
        </p:nvPicPr>
        <p:blipFill>
          <a:blip r:embed="rId1"/>
          <a:stretch/>
        </p:blipFill>
        <p:spPr>
          <a:xfrm>
            <a:off x="5867280" y="1773360"/>
            <a:ext cx="2409840" cy="1971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9" descr="аологдл"/>
          <p:cNvPicPr/>
          <p:nvPr/>
        </p:nvPicPr>
        <p:blipFill>
          <a:blip r:embed="rId2"/>
          <a:stretch/>
        </p:blipFill>
        <p:spPr>
          <a:xfrm>
            <a:off x="1187280" y="3500280"/>
            <a:ext cx="2073600" cy="259272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3"/>
          <p:cNvSpPr/>
          <p:nvPr/>
        </p:nvSpPr>
        <p:spPr>
          <a:xfrm>
            <a:off x="1042920" y="1699920"/>
            <a:ext cx="72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еотложный пери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зависимости от тяжести повреждения занимает от двух дней до двух недель после ожо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3995640" y="2637000"/>
            <a:ext cx="489744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Острый пери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чинается сразу же по окончании неотложного и продолжается до тех пор, пока все глубокие повреждения не будут покрыты аутотрансплантатами (лоскутами кожи, взятыми с других участков тела больного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1116000" y="5084280"/>
            <a:ext cx="770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Реабилита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это возвращение больного к его обычному образу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WordArt 7"/>
          <p:cNvSpPr txBox="1"/>
          <p:nvPr/>
        </p:nvSpPr>
        <p:spPr>
          <a:xfrm>
            <a:off x="755640" y="549360"/>
            <a:ext cx="7677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тапы помощи при тяжелы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3" name="Picture 11" descr="огл"/>
          <p:cNvPicPr/>
          <p:nvPr/>
        </p:nvPicPr>
        <p:blipFill>
          <a:blip r:embed="rId1"/>
          <a:stretch/>
        </p:blipFill>
        <p:spPr>
          <a:xfrm>
            <a:off x="1258920" y="2565360"/>
            <a:ext cx="2160720" cy="205272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5"/>
          <p:cNvSpPr/>
          <p:nvPr/>
        </p:nvSpPr>
        <p:spPr>
          <a:xfrm>
            <a:off x="3059280" y="126828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термиче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468360" y="1560240"/>
            <a:ext cx="8424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ермически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зываются пламенем, горячим воздухом и жидкостями, расплавленным металлом, нагретыми или горящими частиц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4427640" y="2923920"/>
            <a:ext cx="4321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импто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: резкая боль в глазу, блефароспазм, слезотечение, отек век и конъюнктивы, снижение зрения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324000" y="5013360"/>
            <a:ext cx="8640720" cy="146556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тложная помощь: необходимо промыть глаза водой, закапать в глаза 20 % раствор сульфацил -натрия; 20 % суль – фапиридазин - натрия; раненую поверхность кожи смазать мазью антибиотика. На глаз накладывается асептическая повязка. Внутримышечно вводят противостолбнячную сыворотку (1500-ЗОООМЕ)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WordArt 9"/>
          <p:cNvSpPr txBox="1"/>
          <p:nvPr/>
        </p:nvSpPr>
        <p:spPr>
          <a:xfrm>
            <a:off x="2484360" y="260280"/>
            <a:ext cx="396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 гла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60" name="Picture 10" descr="хим ож"/>
          <p:cNvPicPr/>
          <p:nvPr/>
        </p:nvPicPr>
        <p:blipFill>
          <a:blip r:embed="rId1"/>
          <a:stretch/>
        </p:blipFill>
        <p:spPr>
          <a:xfrm>
            <a:off x="1547640" y="2637000"/>
            <a:ext cx="1944720" cy="194436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3"/>
          <p:cNvSpPr/>
          <p:nvPr/>
        </p:nvSpPr>
        <p:spPr>
          <a:xfrm>
            <a:off x="1549800" y="1340640"/>
            <a:ext cx="61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имически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ывают кислотными и щелочными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324000" y="1844280"/>
            <a:ext cx="86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жоги кислотой вызывают быстрое свертывание белка, поэтому в первые часы формируется ограниченный струп. Это предохраняет подлежащиеткани от дальнейшего поражения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3995640" y="2736360"/>
            <a:ext cx="482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имптомы и течен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Жалобы на боль, светобоязнь, слезотечение, снижение зрения. Веки гиперемированы, отечны. Роговица становится отечной, тусклой, с сероватым оттенком, в тяжелых случаях приобретает молочный оттенок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95280" y="5084640"/>
            <a:ext cx="8532720" cy="119124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тложная помощь: как можно быстрее, в течение 10-15 минут промыть глаза струей воды. В конъюнктивальную полость закапывают 20 % раствор сульфацил-натрия, 10 % раствор сульфапирида-зин-натрия, раствор фурацил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ьбоб"/>
          <p:cNvPicPr/>
          <p:nvPr/>
        </p:nvPicPr>
        <p:blipFill>
          <a:blip r:embed="rId1"/>
          <a:stretch/>
        </p:blipFill>
        <p:spPr>
          <a:xfrm>
            <a:off x="826920" y="2852640"/>
            <a:ext cx="2880000" cy="1944720"/>
          </a:xfrm>
          <a:prstGeom prst="rect">
            <a:avLst/>
          </a:prstGeom>
          <a:ln w="0">
            <a:noFill/>
          </a:ln>
        </p:spPr>
      </p:pic>
      <p:sp>
        <p:nvSpPr>
          <p:cNvPr id="267" name="WordArt 8"/>
          <p:cNvSpPr txBox="1"/>
          <p:nvPr/>
        </p:nvSpPr>
        <p:spPr>
          <a:xfrm>
            <a:off x="2484360" y="260280"/>
            <a:ext cx="396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 гла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"/>
          <p:cNvSpPr/>
          <p:nvPr/>
        </p:nvSpPr>
        <p:spPr>
          <a:xfrm>
            <a:off x="468360" y="1512000"/>
            <a:ext cx="8675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Щелочны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енее благоприятны. Щелочь растворяет белок и беспрепятственно проникает внутрь тканей. Страдает не только кожа, конъюнктива и роговица. Воздействию подвергается радужка, хрусталик и другие ткани глаз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324000" y="4784760"/>
            <a:ext cx="8497800" cy="177048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отложная помощ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ильное промывание глаз водой в течении 15-30 минут. Если имеются частицы поражающего агента, то необходимо их удалить с помощью тугого ватного тампона или пинцетом, повторно промьггь водой. После этого закапать в глаз раствор антибиотиков, сульфаниламидов. Накладывается сухая асептическая повязка,больной направляется в стациона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5"/>
          <p:cNvSpPr txBox="1"/>
          <p:nvPr/>
        </p:nvSpPr>
        <p:spPr>
          <a:xfrm>
            <a:off x="2484360" y="260280"/>
            <a:ext cx="396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 гла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72" name="Picture 6" descr="ожог глаз канцелярским клеем"/>
          <p:cNvPicPr/>
          <p:nvPr/>
        </p:nvPicPr>
        <p:blipFill>
          <a:blip r:embed="rId1"/>
          <a:stretch/>
        </p:blipFill>
        <p:spPr>
          <a:xfrm>
            <a:off x="5940360" y="2565360"/>
            <a:ext cx="2025720" cy="2025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ернп"/>
          <p:cNvPicPr/>
          <p:nvPr/>
        </p:nvPicPr>
        <p:blipFill>
          <a:blip r:embed="rId2"/>
          <a:stretch/>
        </p:blipFill>
        <p:spPr>
          <a:xfrm>
            <a:off x="1979640" y="2708280"/>
            <a:ext cx="1728720" cy="180036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1042920" y="1844640"/>
            <a:ext cx="72010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имптомы солнечного ожо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ывают разные - от порозовения кожи, начинающей "гореть", до покраснения, когда она опухает, покрывается волдырями и становится крайне болезнен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4427640" y="3357720"/>
            <a:ext cx="47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нечные ожоги вовсе не так безобидны, как думают многие. Доказано, что они могут приводить не только к преждевременному старению кожи и развитию фотодерматита (аллергии к солнечным лучам), но и к снижению зрения и даже к онкологическим заболеваниям (раку кож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5" descr=""/>
          <p:cNvPicPr/>
          <p:nvPr/>
        </p:nvPicPr>
        <p:blipFill>
          <a:blip r:embed="rId1"/>
          <a:stretch/>
        </p:blipFill>
        <p:spPr>
          <a:xfrm>
            <a:off x="1042920" y="3284640"/>
            <a:ext cx="3056040" cy="3074760"/>
          </a:xfrm>
          <a:prstGeom prst="rect">
            <a:avLst/>
          </a:prstGeom>
          <a:ln w="0">
            <a:noFill/>
          </a:ln>
        </p:spPr>
      </p:pic>
      <p:sp>
        <p:nvSpPr>
          <p:cNvPr id="278" name="WordArt 6"/>
          <p:cNvSpPr txBox="1"/>
          <p:nvPr/>
        </p:nvSpPr>
        <p:spPr>
          <a:xfrm>
            <a:off x="2340000" y="620640"/>
            <a:ext cx="410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лнечный ожог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903600" y="1340640"/>
            <a:ext cx="39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олнцезащитные кре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3711240" y="3715560"/>
            <a:ext cx="46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олнцеотражающие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68360" y="5300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частая причина солнечных ожогов - ажиотаж первого дня. Увеличивайте время пребывания на солнце постепенно: переходите от получаса на первый раз до не более чем 2 часа в день. Самое активное солнце с полудня до 2 часов, так что в это время лучше не загор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468360" y="1916280"/>
            <a:ext cx="51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онепроницаемые кремы содержат окисел цинка или диоксид титана, практически полностью блокирующие ультрафиолетовую радиацию. Они хороши для чувствительных участков кожи, таких, как нос и губ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419640" y="429192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содержат вещества, частично отражающие ультрафиолетовые луч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8" descr="специальный аква гель от солнечныхожогов"/>
          <p:cNvPicPr/>
          <p:nvPr/>
        </p:nvPicPr>
        <p:blipFill>
          <a:blip r:embed="rId1"/>
          <a:stretch/>
        </p:blipFill>
        <p:spPr>
          <a:xfrm>
            <a:off x="1258920" y="3429000"/>
            <a:ext cx="1730520" cy="16272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солнцезащитный крем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5724360" y="1413000"/>
            <a:ext cx="2170440" cy="2170080"/>
          </a:xfrm>
          <a:prstGeom prst="rect">
            <a:avLst/>
          </a:prstGeom>
          <a:ln w="0">
            <a:noFill/>
          </a:ln>
        </p:spPr>
      </p:pic>
      <p:sp>
        <p:nvSpPr>
          <p:cNvPr id="287" name="WordArt 10"/>
          <p:cNvSpPr txBox="1"/>
          <p:nvPr/>
        </p:nvSpPr>
        <p:spPr>
          <a:xfrm>
            <a:off x="1547640" y="404640"/>
            <a:ext cx="619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филактические средств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468360" y="5229360"/>
            <a:ext cx="8280360" cy="13683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611280" y="1341000"/>
            <a:ext cx="817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ПЛОВОЙ УДА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болезненное состояние, обусловленное общим перегреванием организма и возникающее в результате воздействия внешних тепловых факторов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4500720" y="2708280"/>
            <a:ext cx="431928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импто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больного наблюдается чувство общей слабости, разбитости, головная боль, головокружение, шум в ушах, сонливость, жажда, тошнота. При осмотре выявляется гиперемия кожных покров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пр"/>
          <p:cNvPicPr/>
          <p:nvPr/>
        </p:nvPicPr>
        <p:blipFill>
          <a:blip r:embed="rId1"/>
          <a:stretch/>
        </p:blipFill>
        <p:spPr>
          <a:xfrm>
            <a:off x="1187280" y="2565360"/>
            <a:ext cx="2953080" cy="3457440"/>
          </a:xfrm>
          <a:prstGeom prst="rect">
            <a:avLst/>
          </a:prstGeom>
          <a:ln w="0">
            <a:noFill/>
          </a:ln>
        </p:spPr>
      </p:pic>
      <p:sp>
        <p:nvSpPr>
          <p:cNvPr id="293" name="WordArt 6"/>
          <p:cNvSpPr txBox="1"/>
          <p:nvPr/>
        </p:nvSpPr>
        <p:spPr>
          <a:xfrm>
            <a:off x="2556000" y="404640"/>
            <a:ext cx="37432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пловой уда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971640" y="1916280"/>
            <a:ext cx="70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ного срочно выносят в прохладное место, обеспечивают доступ свежего воздуха, освобождают от одежды, дают выпить холодной воды, накладывают холодный компресс на голо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олее тяжелых случаях показано обертывание простыней, смоченной холодной водой, обливание прохладной водой, лед на голову и паховые обла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1692360" y="4941720"/>
            <a:ext cx="59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о не в коем случае нельзя давать алкоголь, напитки, содержащие теин и кофеин (чай, кофе, кака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WordArt 5"/>
          <p:cNvSpPr txBox="1"/>
          <p:nvPr/>
        </p:nvSpPr>
        <p:spPr>
          <a:xfrm>
            <a:off x="2556000" y="404640"/>
            <a:ext cx="4211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971640" y="1844640"/>
            <a:ext cx="7056360" cy="23763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1692360" y="4869000"/>
            <a:ext cx="5975280" cy="10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826920" y="1268280"/>
            <a:ext cx="21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ла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324000" y="1700280"/>
            <a:ext cx="59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к получает ожоги, в основном, от загоревшейся одежды. Синтетические материалы расплавляются и проникают глубоко в кожу, и их потом очень тяжело отделить. Ожоги пламенем неравномерны, носят пятнистый характе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557360"/>
            <a:ext cx="2735280" cy="21430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3348000" y="3644640"/>
            <a:ext cx="56167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)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жа хорошо впитывает воду, поэтому такие ожоги обычно большие, значительные по площади и больше, чем при первичном контак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9"/>
          <p:cNvSpPr txBox="1"/>
          <p:nvPr/>
        </p:nvSpPr>
        <p:spPr>
          <a:xfrm>
            <a:off x="1835280" y="404640"/>
            <a:ext cx="496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8" name="Picture 12" descr="лд"/>
          <p:cNvPicPr/>
          <p:nvPr/>
        </p:nvPicPr>
        <p:blipFill>
          <a:blip r:embed="rId2"/>
          <a:stretch/>
        </p:blipFill>
        <p:spPr>
          <a:xfrm>
            <a:off x="1042920" y="3141720"/>
            <a:ext cx="1717920" cy="2232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3"/>
          <p:cNvSpPr/>
          <p:nvPr/>
        </p:nvSpPr>
        <p:spPr>
          <a:xfrm>
            <a:off x="755640" y="5516280"/>
            <a:ext cx="7559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3)Контактны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озникают в результате соприкосновения кожи с твердым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ами. Они возникают в 10% случа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3"/>
          <p:cNvSpPr/>
          <p:nvPr/>
        </p:nvSpPr>
        <p:spPr>
          <a:xfrm>
            <a:off x="755640" y="1988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туру 71°С человек выдерживает в течение 1 часа, 82°С - 49 минут, 93°С - 33 минут, а 104°С - только 26 мин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4284720" y="285228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28 году был описан случай 14-минутного пребывания мужчины в печи, где температура достигала 170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468360" y="5444640"/>
            <a:ext cx="84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наженном состоянии человек может выдержать быстрое нарастание температуры до 210°С, а в ватной одежде - до 270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4032360" y="400500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ельгии в 1958 году был зарегистрирован случай, когда человек несколько минут находился в термокамере при температуре 200°С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ы"/>
          <p:cNvPicPr/>
          <p:nvPr/>
        </p:nvPicPr>
        <p:blipFill>
          <a:blip r:embed="rId1"/>
          <a:stretch/>
        </p:blipFill>
        <p:spPr>
          <a:xfrm>
            <a:off x="611280" y="2924280"/>
            <a:ext cx="3238560" cy="2185920"/>
          </a:xfrm>
          <a:prstGeom prst="rect">
            <a:avLst/>
          </a:prstGeom>
          <a:ln w="0">
            <a:noFill/>
          </a:ln>
        </p:spPr>
      </p:pic>
      <p:sp>
        <p:nvSpPr>
          <p:cNvPr id="306" name="WordArt 8"/>
          <p:cNvSpPr txBox="1"/>
          <p:nvPr/>
        </p:nvSpPr>
        <p:spPr>
          <a:xfrm>
            <a:off x="1835280" y="404640"/>
            <a:ext cx="51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акция организм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 жаркую погоду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2627280" y="1413000"/>
            <a:ext cx="586908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4)Ожоги, возникающие при контакте с различными другими веществ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жирами, маслами. Ожоги небольшие по глубине и по площади, так как жиры и масла не растекаются по поверхности кожи, имеют пятнистый характер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042920" y="4365360"/>
            <a:ext cx="453564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6)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Ожог вольтовой дугой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ходен с ожогом пламенем. Кожа становится черной из-за импрегнации металл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i"/>
          <p:cNvPicPr/>
          <p:nvPr/>
        </p:nvPicPr>
        <p:blipFill>
          <a:blip r:embed="rId1"/>
          <a:stretch/>
        </p:blipFill>
        <p:spPr>
          <a:xfrm>
            <a:off x="539640" y="1341360"/>
            <a:ext cx="170208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р"/>
          <p:cNvPicPr/>
          <p:nvPr/>
        </p:nvPicPr>
        <p:blipFill>
          <a:blip r:embed="rId2"/>
          <a:stretch/>
        </p:blipFill>
        <p:spPr>
          <a:xfrm>
            <a:off x="6012000" y="4221000"/>
            <a:ext cx="2590560" cy="1656000"/>
          </a:xfrm>
          <a:prstGeom prst="rect">
            <a:avLst/>
          </a:prstGeom>
          <a:ln w="0">
            <a:noFill/>
          </a:ln>
        </p:spPr>
      </p:pic>
      <p:sp>
        <p:nvSpPr>
          <p:cNvPr id="125" name="WordArt 8"/>
          <p:cNvSpPr txBox="1"/>
          <p:nvPr/>
        </p:nvSpPr>
        <p:spPr>
          <a:xfrm>
            <a:off x="1835280" y="404640"/>
            <a:ext cx="496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406440" y="3428280"/>
            <a:ext cx="58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5)Вязкие Веществ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смолой, гудроном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4"/>
          <p:cNvSpPr txBox="1"/>
          <p:nvPr/>
        </p:nvSpPr>
        <p:spPr>
          <a:xfrm>
            <a:off x="1979640" y="692280"/>
            <a:ext cx="4968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900000" y="1989000"/>
            <a:ext cx="5759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7)Ожоги электрическим то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могут быть от молнии и бытовой (от электроприборов). Ожоги по площади незначительные, о глубокие, повреждаются мышцы и 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молн"/>
          <p:cNvPicPr/>
          <p:nvPr/>
        </p:nvPicPr>
        <p:blipFill>
          <a:blip r:embed="rId1"/>
          <a:stretch/>
        </p:blipFill>
        <p:spPr>
          <a:xfrm>
            <a:off x="2987640" y="3573360"/>
            <a:ext cx="3371760" cy="25956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684360" y="1484280"/>
            <a:ext cx="59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8) Ожоги щелочью и кисло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жоги щелочью значительно опаснее, чем кислотой, при котором происходит коагуляция белков и образуется корочка, струп, предотвращающая проникновение в глубокие сло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276720" y="3284280"/>
            <a:ext cx="568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9)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званные алкалоидами растений, например относящихся к семейству лютиковых подснеж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826920" y="5229000"/>
            <a:ext cx="539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0) Ожоги фосфором и извест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ь"/>
          <p:cNvPicPr/>
          <p:nvPr/>
        </p:nvPicPr>
        <p:blipFill>
          <a:blip r:embed="rId1"/>
          <a:stretch/>
        </p:blipFill>
        <p:spPr>
          <a:xfrm>
            <a:off x="971640" y="3213000"/>
            <a:ext cx="1917720" cy="1871640"/>
          </a:xfrm>
          <a:prstGeom prst="rect">
            <a:avLst/>
          </a:prstGeom>
          <a:ln w="0">
            <a:noFill/>
          </a:ln>
        </p:spPr>
      </p:pic>
      <p:sp>
        <p:nvSpPr>
          <p:cNvPr id="136" name="WordArt 8"/>
          <p:cNvSpPr txBox="1"/>
          <p:nvPr/>
        </p:nvSpPr>
        <p:spPr>
          <a:xfrm>
            <a:off x="2124000" y="404640"/>
            <a:ext cx="46814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и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7" name="Picture 10" descr="известь1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5580000" y="4365720"/>
            <a:ext cx="2808360" cy="1854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P+O2"/>
          <p:cNvPicPr/>
          <p:nvPr/>
        </p:nvPicPr>
        <p:blipFill>
          <a:blip r:embed="rId3"/>
          <a:stretch/>
        </p:blipFill>
        <p:spPr>
          <a:xfrm>
            <a:off x="6516720" y="1557360"/>
            <a:ext cx="2089080" cy="15732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4"/>
          <p:cNvSpPr txBox="1"/>
          <p:nvPr/>
        </p:nvSpPr>
        <p:spPr>
          <a:xfrm>
            <a:off x="2124000" y="620640"/>
            <a:ext cx="46814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учевы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971640" y="1923120"/>
            <a:ext cx="6553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1)Радиационны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ключаются в себя: ожоги УФ-излуче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ло"/>
          <p:cNvPicPr/>
          <p:nvPr/>
        </p:nvPicPr>
        <p:blipFill>
          <a:blip r:embed="rId1"/>
          <a:stretch/>
        </p:blipFill>
        <p:spPr>
          <a:xfrm>
            <a:off x="1403280" y="2997360"/>
            <a:ext cx="2808360" cy="2808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7"/>
          <p:cNvSpPr/>
          <p:nvPr/>
        </p:nvSpPr>
        <p:spPr>
          <a:xfrm>
            <a:off x="4788000" y="2852640"/>
            <a:ext cx="36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Ф-излучение вызывает 2 вида повреждений: рак кожи и подавление иммунной систем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иационное излучение оказывает основное действие на кроветворную, иммунную, центральную нервную систем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39640" y="1989000"/>
            <a:ext cx="2470320" cy="1598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191448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5796000" y="4005360"/>
            <a:ext cx="2468520" cy="1584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6012000" y="3645000"/>
            <a:ext cx="2009520" cy="2667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7"/>
          <p:cNvSpPr/>
          <p:nvPr/>
        </p:nvSpPr>
        <p:spPr>
          <a:xfrm>
            <a:off x="3203640" y="1483920"/>
            <a:ext cx="573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проявляются резко выраженной краснотой кожи и отеком тканей, сопровождаются жгучей болью и поражением верхних слоёв кож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3276720" y="249228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- Кроме выраженных симптомов, отмеченных при 1степени, отмечается образование пузырей наполненных серозной жидкост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468360" y="4142880"/>
            <a:ext cx="422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страдают все слои кож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468360" y="486828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ное разрушение кожи и нижележащего мышечного сло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395280" y="566064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сопровождаются некрозом более глубоких слоев тканей и обугливанием кожи или даже органа, омертвением не только кожи, но и глубжележащих тка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12"/>
          <p:cNvSpPr txBox="1"/>
          <p:nvPr/>
        </p:nvSpPr>
        <p:spPr>
          <a:xfrm>
            <a:off x="1619280" y="404640"/>
            <a:ext cx="5761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лассификация ожог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1187280" y="2205000"/>
            <a:ext cx="35290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ор ож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щадь ож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авило лад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авило девя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Глубина ож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5846760" y="1916280"/>
            <a:ext cx="1893960" cy="47527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1042920" y="5013360"/>
            <a:ext cx="39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площадь поражения кожи превышает 10% - следует ожидать развития ожогового ш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6"/>
          <p:cNvSpPr txBox="1"/>
          <p:nvPr/>
        </p:nvSpPr>
        <p:spPr>
          <a:xfrm>
            <a:off x="1619280" y="404640"/>
            <a:ext cx="576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ля определен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иагноза нужно знать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Line 9"/>
          <p:cNvSpPr/>
          <p:nvPr/>
        </p:nvSpPr>
        <p:spPr>
          <a:xfrm>
            <a:off x="1042920" y="5013360"/>
            <a:ext cx="0" cy="1079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0"/>
          <p:cNvSpPr/>
          <p:nvPr/>
        </p:nvSpPr>
        <p:spPr>
          <a:xfrm>
            <a:off x="1042920" y="6093000"/>
            <a:ext cx="38894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1"/>
          <p:cNvSpPr/>
          <p:nvPr/>
        </p:nvSpPr>
        <p:spPr>
          <a:xfrm>
            <a:off x="1042920" y="5013360"/>
            <a:ext cx="3889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2"/>
          <p:cNvSpPr/>
          <p:nvPr/>
        </p:nvSpPr>
        <p:spPr>
          <a:xfrm>
            <a:off x="4932360" y="5013360"/>
            <a:ext cx="0" cy="1079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2T06:16:37Z</dcterms:created>
  <dc:creator>Киска</dc:creator>
  <dc:description>dmsuslin.narod.ru</dc:description>
  <dc:language>en-US</dc:language>
  <cp:lastModifiedBy>LEGION</cp:lastModifiedBy>
  <dcterms:modified xsi:type="dcterms:W3CDTF">2015-05-12T08:17:55Z</dcterms:modified>
  <cp:revision>17</cp:revision>
  <dc:subject/>
  <dc:title>Ожог на кож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205000000000001024140</vt:lpwstr>
  </property>
</Properties>
</file>