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9.wmf" ContentType="image/x-wmf"/>
  <Override PartName="/ppt/media/image8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CAMERA.WAV" ContentType="audio/x-wav"/>
  <Override PartName="/ppt/media/image5.png" ContentType="image/png"/>
  <Override PartName="/ppt/media/image13.wmf" ContentType="image/x-wmf"/>
  <Override PartName="/ppt/media/image6.jpeg" ContentType="image/jpeg"/>
  <Override PartName="/ppt/media/image7.wmf" ContentType="image/x-wmf"/>
  <Override PartName="/ppt/media/image2.jpeg" ContentType="image/jpeg"/>
  <Override PartName="/ppt/media/image3.png" ContentType="image/png"/>
  <Override PartName="/ppt/media/image12.wmf" ContentType="image/x-wmf"/>
  <Override PartName="/ppt/media/TYP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D6C5-FC5D-4890-B7B7-CD0E63C3A6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вредных привычек у де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4ACB-DBC8-4B9A-AD65-D6E0B03755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ящие ежедневно мужчины и женщины (в процентах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1985-66C0-439F-A901-A95FBAB6BB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действие табака на организ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нсульт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губ, полости рта, горла и горта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ается риск сердечного присту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лёгк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зва и рак желудка, поджелудочной желе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сплод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ангрена, вызванная закупоркой сосу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EE9B-A620-4DB4-B041-3D96917D94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7038-0F08-4E79-AEAC-B84837034A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наете ли вы, что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бак ежегодно уносит 5 млн. жиз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13,5 тыс. ежеднев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ильщики составляют 96 - 100 % всех больных раком лёгк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90 % онкологических заболеваний вызвано курен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игареты подорожают всего на  10 %, в мире станет на 40 млн. курильщиков меньш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ление алкоголя в европейских и центрально-азиатских странах, (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 пересчёте на литры чистого спирта на одного взрослого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ее 10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рмания, Дания, Молдова, Россия, Украина, Франци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-10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стрия, Беларусь, Болгария, Польша, Норвегия, Швейца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е 5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ербайджан, Турция, Кыргызст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E924-0822-42DA-ABCB-5E86F5FC55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DEDF-04B0-4BEA-A353-2FF5ED3284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действия спиртных напит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ст «Хороший ли вы воспитатель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е ли Вы на иные вопросы ребёнка: «Я скажу тебе, когда ты подрастёшь»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е ли Вы ребёнку деньги на мелкие расход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отказываете в чём-нибудь ребёнку, объясняете ли Вы причин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детям помогать Вам по хозяйству, даже зная, что пользы от этой помощи мало или совсем не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 допустимым небольшую ложь в отношениях с деть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етесь ли Вы всяким случаем, чтобы способствовать развитию наблюдательности у ребён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себе в присутствии ребёнка критиковать своих знакомы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ребёнка нельзя обманы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маленьким детям следует объяснять все житейские факт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и ли Вы книги по воспитани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я, что даже самые маленькие дети имеют право на свои тайн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тся ли Вам грозить наказанием ребёнку, если он оставит что-нибудь на тарелк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етесь ли Вы способствовать тому, чтобы у детей развивались чувства независимости и уверенности в себ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разделить радость ребён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но ли Вы проводите своё свободное время с деть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ли Вы демонстрировать таланты своих де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сказать так, чтобы Вас тотчас же послушалис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ш ребёнок раскапризничался, способны ли Вы сохранить полное спокойств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ли Вы завязываете дружбу с товарищами Ваших де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такие примерно предположения о педагогических талантах участников теста можно сделать после подсчёта сумм набранных ими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еньше 25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гость не единственный элемент хорошего воспитания. С Вашими принципами Вам трудно будет сделать ребёнка веселым и уравновешенным челове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25 – 56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у Вас, в общем правильные. Но не кажется ли Вам, что быть только логичным недостаточно, надо быть реалистич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выше 56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е терпение и Ваше понимание детской психологии, безусловно, увенчаются успехом. Думается, что те, кто считает Вас хорошим воспитателем, пра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1BC7-2D20-45DB-B487-39E0ADB296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де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B75B-C90F-448B-8DD8-FCD611A2AE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ычки которые наиболее сильно раздражают вас в окружающи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E44B-E49D-4C3B-9F54-D0764783DB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1630-A8B2-4EA9-90CF-2D1294396C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свои вредные привы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часто вы сквернословит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E234-6C8F-4ED9-9C29-02567FFD2B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D7A6-EBBB-4CA8-A82A-DA912FBC52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оровый образ жизни, несовместимость здоровья и вредных привыч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тельское собр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ком возрасте вы первый раз закурил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E060-714D-4F50-864C-E387F396B5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то наиболее сильно оказывает влияние на стиль вашего общения и повед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E16C-CC46-4F6C-8D12-7EE41CBBE1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Разбор различных житейских ситу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2BB1-2B60-48A9-8467-FA58C1AA7C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№ 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Ребёнок пришёл домой в нетрезвом состоя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говор отложите на завтра, когда подросток протрезве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дростку плохо, нужно дать ему возможность пережить эту ситуацию самостоятель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едующий день следует в спокойной обстановке поговорить о случившемся. Выяснить причины, узнать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казать о губительном влиянии алкоголя на организ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елиться собственным опы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DED8-842C-442B-95CE-86B8A44948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№ 2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бёнок пришёл накуренный дом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ближайшее время организовать доверительные разговоры в семейном кругу, где затронуть данную тему и случа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свободное время ребёнка (спорт, музык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времяпрепровождения (посещение театра, кино, выезд в лес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BF3E-F7BF-4A43-959A-ABB0EA5485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ажаемые  родители! Как  мы  с  вами можем помочь нашим детям отказаться от вредных привычек и привить любовь к здоровому образу жизн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BF7E-FBD8-409F-8F99-413E3E800D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чаще смотрите на своих детей, когда они спя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мотрите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Отдыхайте душой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умайте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9ECC-B1B5-4F9A-B229-3C908CE518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45A8-16E5-4FE5-98FD-AEC848FDC4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доровь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стояние полного физического, душевного и социального благополучия, сопровождаемое фактическим отсутствием болезней и индивидуально фрустирующих (выводящих из состояния внутреннего спокойствия) недостат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ыть здоровы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значит не иметь проблем с самочувствием, быть физически и духовно полноценным человеко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6478-8EA6-4967-B88C-CEB19C7039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доровье человека зависит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10 % от уровня развития медицинской помощ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т условий окружающей сре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EFC2-8B16-4DFE-A121-D606B7E0F2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способствует сохранению и укреплению здоровь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авильное питани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ал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людение режима труда и отды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ическая и эмоциональная устойчив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ая гиги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альный уровень двигательной актив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опасное поведение дома, на улице, на рабо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саморазрушающего пове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оровое сексуаль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666B-AE66-43CB-B61F-CDA176B562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E186-4994-4517-ADAE-0B650C1E42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редные  привыч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 сложившиеся  способы деструктивного (саморазрушающего) поведения, осуществление     которого    в    определённых ситуациях   приобретает   характер   потреб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редные привычки могут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ладываться стихий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побочным продуктом направленного воспитания и об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тать в устойчивые черты харак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обретать черты автоматиз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социально обусловлен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F84C-7D18-4B6A-A146-4D4DF44C4E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Феномен адик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пагубного пристрастия к чему-либо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 стремится благодаря использованию тех или иных средств (веществ) заместить естественные для конкретных социальных ситуаций чувства и эмоции, избежать стрес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33BA-6A02-40C7-8210-42DFA95480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5656-5B31-4D40-8DBF-135F776D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66B-5B07-4715-97B0-AC1793E1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834-129F-4A0E-A1B7-41B6E081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94E-1AB5-4C4F-9B3A-37EA9D9A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30FB-DC89-489C-AD1C-CE36A468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3729-04C3-49DB-B9A2-63A4AFFF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DBB8-6AF6-4114-889B-A1B41CF7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77C2-9625-4912-BD63-BFAB441A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5E4E-E8DE-4026-898E-05E120B5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BF36-088B-4DF4-A8F2-B220D321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B128-DFBB-415C-AA60-D6B0B0AC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ED5-82A8-4568-A9B8-2EFB5CCD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4B36-F9DB-4B58-AB67-D3979C10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E775-2FF4-4129-856E-7C97BCE1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C621-A6C9-4E36-9F8A-0A00E386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9476-F60B-4669-93F8-CA68F410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C1DC-604B-41AB-9730-12ECF45F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386-2484-41F8-8362-D7B22813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84D-AF26-4A7D-88AD-AE5AF7B6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079-ACFC-49E6-8187-16B2A5C6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5AE-F1B8-4C3F-8759-DEBE57DE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30F-A264-4EF3-AFB1-760BE591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B8E-7705-4D84-BDAC-D101AF88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B121-441F-458E-8ECD-DF98DA63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E44D-FCF0-4AF8-B694-E98F3F5991B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219F-6BC7-471D-83D5-172A3E2D776C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c2b"/>
                </a:solidFill>
                <a:latin typeface="Times New Roman"/>
              </a:rPr>
              <a:t>Профилактика вредных привычек у детей.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1095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Курящие ежедневно мужчины и женщины (в процентах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762120" y="1752480"/>
          <a:ext cx="779616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79616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оздействие табака на организм.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инсульт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85800" y="2362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губ, полости рта, горла и гортан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85800" y="2743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вышается риск сердечного приступ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685800" y="31240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лёгких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85800" y="35053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печен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85800" y="3809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язва и рак желудка, поджелудочной железы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85800" y="4191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есплод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685800" y="4572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ангрена, вызванная закупоркой сосуд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2880" y="8236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Знаете ли вы, что: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табак ежегодно уносит 5 млн. жизней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68580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это 13,5 тыс. ежедневно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85800" y="23623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курильщики составляют 96 - 100 % всех больных раком лёгких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85800" y="3429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о 90 % онкологических заболеваний вызвано курением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85800" y="449568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если сигареты подорожают всего на  10 %, в мире станет на 40 млн. курильщиков меньше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9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Потребление алкоголя в европейских и центрально-азиатских странах, (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в пересчёте на литры чистого спирта на одного взрослого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80880" y="2209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олее 10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29000" y="21337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ермания, Дания, Молдова, Россия, Украина, Франция, 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914400" y="3505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-10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352680" y="34290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встрия, Беларусь, Болгария, Польша, Норвегия, Швейцар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33520" y="4724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енее 5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429000" y="4724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зербайджан, Турция, Кыргызстан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38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ремя действия спиртных напитков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69" name="Object 3"/>
          <p:cNvGraphicFramePr/>
          <p:nvPr/>
        </p:nvGraphicFramePr>
        <p:xfrm>
          <a:off x="685800" y="1582560"/>
          <a:ext cx="7753320" cy="48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82560"/>
                    <a:ext cx="775332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714240" y="-731880"/>
            <a:ext cx="8143920" cy="79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760" rIns="-522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Тест «Хороший ли вы воспитатель»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е ли Вы на иные вопросы ребёнка: «Я скажу тебе, когда ты подрастёшь»!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е ли Вы ребёнку деньги на мелкие расход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отказываете в чём-нибудь ребёнку, объясняете ли Вы причину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детям помогать Вам по хозяйству, даже зная, что пользы от этой помощи мало или совсем нет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 допустимым небольшую ложь в отношениях с детьми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етесь ли Вы всяким случаем, чтобы способствовать развитию наблюдательности у ребёнка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себе в присутствии ребёнка критиковать своих знакомых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ребёнка нельзя обманывать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маленьким детям следует объяснять все житейские факт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и ли Вы книги по воспитанию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я, что даже самые маленькие дети имеют право на свои тайн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тся ли Вам грозить наказанием ребёнку, если он оставит что-нибудь на тарелк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етесь ли Вы способствовать тому, чтобы у детей развивались чувства независимости и уверенности в себ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разделить радость ребёнка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но ли Вы проводите своё свободное время с детьми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ли Вы демонстрировать таланты своих детей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сказать так, чтобы Вас тотчас же послушались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ш ребёнок раскапризничался, способны ли Вы сохранить полное спокойстви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ли Вы завязываете дружбу с товарищами Ваших детей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Вот такие примерно предположения о педагогических талантах участников теста можно сделать после подсчёта сумм набранных ими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Меньше 25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Строгость не единственный элемент хорошего воспитания. С Вашими принципами Вам трудно будет сделать ребёнка веселым и уравновешенным человеком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25 – 56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Принципы у Вас, в общем правильные. Но не кажется ли Вам, что быть только логичным недостаточно, надо быть реалистичным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Свыше 56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Ваше терпение и Ваше понимание детской психологии, безусловно, увенчаются успехом. Думается, что те, кто считает Вас хорошим воспитателем, правы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Результаты анкетирования детей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c2b"/>
                </a:solidFill>
                <a:latin typeface="Times New Roman"/>
              </a:rPr>
              <a:t>Привычки которые наиболее сильно раздражают вас в окружающих?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77" name="Object 3"/>
          <p:cNvGraphicFramePr/>
          <p:nvPr/>
        </p:nvGraphicFramePr>
        <p:xfrm>
          <a:off x="685800" y="2000160"/>
          <a:ext cx="777096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00160"/>
                    <a:ext cx="777096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Назовите свои вредные привычки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704880" y="2019240"/>
          <a:ext cx="7772400" cy="40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019240"/>
                    <a:ext cx="777240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Как часто вы сквернословите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c2b"/>
                </a:solidFill>
                <a:latin typeface="Times New Roman"/>
              </a:rPr>
              <a:t>Здоровый образ жизни, несовместимость здоровья и вредных привычек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0920" y="3428640"/>
            <a:ext cx="8281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Родительское собрание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Скругленный прямоугольник 4"/>
          <p:cNvSpPr/>
          <p:nvPr/>
        </p:nvSpPr>
        <p:spPr>
          <a:xfrm>
            <a:off x="0" y="214200"/>
            <a:ext cx="9144000" cy="571680"/>
          </a:xfrm>
          <a:prstGeom prst="roundRect">
            <a:avLst>
              <a:gd name="adj" fmla="val 16667"/>
            </a:avLst>
          </a:prstGeom>
          <a:solidFill>
            <a:srgbClr val="92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744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 каком возрасте вы первый раз закурили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9" name="Object 0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Кто наиболее сильно оказывает влияние на стиль вашего общения и поведения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4"/>
          <p:cNvSpPr txBox="1"/>
          <p:nvPr/>
        </p:nvSpPr>
        <p:spPr>
          <a:xfrm>
            <a:off x="1295280" y="1905120"/>
            <a:ext cx="637236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Разбор различных 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житейских ситуаций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Ситуация № 1</a:t>
            </a: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    Ребёнок пришёл домой в нетрезвом состояни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зговор отложите на завтра, когда подросток протрезвее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если подростку плохо, нужно дать ему возможность пережить эту ситуацию самостоятельн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следующий день следует в спокойной обстановке поговорить о случившемся. Выяснить причины, узнать проблем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ссказать о губительном влиянии алкоголя на организ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делиться собственным опыто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Ситуация № 2</a:t>
            </a:r>
            <a:br>
              <a:rPr sz="24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                </a:t>
            </a: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Ребёнок пришёл накуренный домой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ближайшее время организовать доверительные разговоры в семейном кругу, где затронуть данную тему и случа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рганизовать свободное время ребёнка (спорт, музыка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емейное времяпрепровождения (посещение театра, кино, выезд в лес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533520" y="12952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Уважаемые  родители! Как  мы  с  вами можем помочь нашим детям отказаться от вредных привычек и привить любовь к здоровому образу жизни?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685800" y="765000"/>
            <a:ext cx="80629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Почаще смотрите на своих детей, когда они спят. 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Смотрите…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               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Отдыхайте душой…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                                           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Думайте… 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5"/>
          <p:cNvSpPr txBox="1"/>
          <p:nvPr/>
        </p:nvSpPr>
        <p:spPr>
          <a:xfrm>
            <a:off x="755640" y="1484280"/>
            <a:ext cx="7632720" cy="28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агодарю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c4e4a"/>
                  </a:gs>
                  <a:gs pos="50000">
                    <a:srgbClr val="f7e76d"/>
                  </a:gs>
                  <a:gs pos="100000">
                    <a:srgbClr val="fc4e4a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внимание!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c4e4a"/>
                  </a:gs>
                  <a:gs pos="50000">
                    <a:srgbClr val="f7e76d"/>
                  </a:gs>
                  <a:gs pos="100000">
                    <a:srgbClr val="fc4e4a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37236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916360" y="3429000"/>
            <a:ext cx="622764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0" y="3429000"/>
            <a:ext cx="291636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tretch/>
        </p:blipFill>
        <p:spPr>
          <a:xfrm>
            <a:off x="6372360" y="0"/>
            <a:ext cx="277164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Documents and Settings\Admin\Мои документы\Мои рисунки\учителя\Фотографии\P1013863.JPG"/>
          <p:cNvPicPr/>
          <p:nvPr/>
        </p:nvPicPr>
        <p:blipFill>
          <a:blip r:embed="rId5"/>
          <a:stretch/>
        </p:blipFill>
        <p:spPr>
          <a:xfrm>
            <a:off x="-1930320" y="-144792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12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4c2b"/>
                </a:solidFill>
                <a:latin typeface="Times New Roman"/>
              </a:rPr>
              <a:t>Здоровье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4c2b"/>
                </a:solidFill>
                <a:latin typeface="Times New Roman"/>
              </a:rPr>
              <a:t>это состояние полного физического, душевного и социального благополучия, сопровождаемое фактическим отсутствием болезней и индивидуально фрустирующих (выводящих из состояния внутреннего спокойствия) недостатков.</a:t>
            </a:r>
            <a:endParaRPr b="0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33520" y="28191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Быть здоровы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значит не иметь проблем с самочувствием, быть физически и духовно полноценным человеком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Скругленный прямоугольник 4"/>
          <p:cNvSpPr/>
          <p:nvPr/>
        </p:nvSpPr>
        <p:spPr>
          <a:xfrm>
            <a:off x="0" y="214200"/>
            <a:ext cx="9144000" cy="571680"/>
          </a:xfrm>
          <a:prstGeom prst="roundRect">
            <a:avLst>
              <a:gd name="adj" fmla="val 16667"/>
            </a:avLst>
          </a:prstGeom>
          <a:solidFill>
            <a:srgbClr val="92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744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Здоровье человека зависит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10 % от уровня развития медицинской помощи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85800" y="2666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20 % от условий окружающей среды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85800" y="3429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85800" y="4191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Что способствует сохранению и укреплению здоровья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авильное питани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62120" y="2133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акаливан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62120" y="2514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блюдение режима труда и отдых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62120" y="2895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сихическая и эмоциональная устойчивость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62120" y="32767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личная гигиен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762120" y="3657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птимальный уровень двигательной активност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62120" y="4038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езопасное поведение дома, на улице, на работ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762120" y="4419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тказ от саморазрушающего поведен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762120" y="4800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доровое сексуальное поведен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200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1000"/>
            </a:br>
            <a:br>
              <a:rPr sz="1000"/>
            </a:br>
            <a:br>
              <a:rPr sz="12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Вредные привычки могут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1532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кладываться стихийн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09480" y="10573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Вредные  привычки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- это  сложившиеся  способы деструктивного (саморазрушающего) поведения, осуществление     которого    в    определённых ситуациях   приобретает   характер   потребност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57200" y="3962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ть побочным продуктом направленного воспитания и обучен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4648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ерерастать в устойчивые черты характер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57200" y="5029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иобретать черты автоматизм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5334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ть социально обусловленным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4c2b"/>
                </a:solidFill>
                <a:latin typeface="Times New Roman"/>
              </a:rPr>
              <a:t>Феномен адикции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(пагубного пристрастия к чему-либо).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38080" y="281952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Человек стремится благодаря использованию тех или иных средств (веществ) заместить естественные для конкретных социальных ситуаций чувства и эмоции, избежать стресса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1209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Что   лежит   в   основе   процессов  формирования вредных  привычек?</a:t>
            </a:r>
            <a:br>
              <a:rPr sz="24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3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3"/>
          <p:cNvGraphicFramePr/>
          <p:nvPr/>
        </p:nvGraphicFramePr>
        <p:xfrm>
          <a:off x="685800" y="1479600"/>
          <a:ext cx="777240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79600"/>
                    <a:ext cx="77724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4:55:06Z</dcterms:created>
  <dc:creator>user</dc:creator>
  <dc:description/>
  <dc:language>en-US</dc:language>
  <cp:lastModifiedBy>LEGION</cp:lastModifiedBy>
  <dcterms:modified xsi:type="dcterms:W3CDTF">2015-05-12T08:20:28Z</dcterms:modified>
  <cp:revision>32</cp:revision>
  <dc:subject/>
  <dc:title>Здоровый образ жизни, несовместимость здоровья и вредных привычек</dc:title>
</cp:coreProperties>
</file>