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9.wmf" ContentType="image/x-wmf"/>
  <Override PartName="/ppt/media/image8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CAMERA.WAV" ContentType="audio/x-wav"/>
  <Override PartName="/ppt/media/image5.png" ContentType="image/png"/>
  <Override PartName="/ppt/media/image13.wmf" ContentType="image/x-wmf"/>
  <Override PartName="/ppt/media/image6.jpeg" ContentType="image/jpeg"/>
  <Override PartName="/ppt/media/image7.wmf" ContentType="image/x-wmf"/>
  <Override PartName="/ppt/media/image2.jpeg" ContentType="image/jpeg"/>
  <Override PartName="/ppt/media/image3.png" ContentType="image/png"/>
  <Override PartName="/ppt/media/image12.wmf" ContentType="image/x-wmf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1DD4-8EBF-42E7-A01F-AEB0C247A9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вредных привычек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6648-C460-494A-A91F-699B470850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13AA-6701-4235-840A-668537211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действие табака на организ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нсуль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губ, полости рта, горла и горта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риск сердечного присту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к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сплод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нгрена, вызванная закупоркой сосу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854D-9469-4ABA-8521-22F103A4F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868-7F41-4A93-94C7-92BC8BB066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наете ли вы, ч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ак ежегодно уносит 5 млн. жиз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13,5 тыс. ежеднев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ее 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-10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е 5 литр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ербайджан, Турция, Кыргызст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1237-C3E1-4190-8147-B9AE250D1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B4DA-607F-4CAA-9FA1-13EB52515A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действия спиртных напит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еньше 25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5 –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ыше 56 очк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068-F08D-4851-ADC1-27CFE1122D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д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7D5C-751A-4327-AF06-0AA73E18D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ABE-3282-433F-A939-66CED8011C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CC50-45E0-4734-B462-8EEB56BFCE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свои вредные привы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часто вы сквернослови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3267-6761-48F0-BD8F-60D0482F0F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EBE7-36C5-4F37-9402-A0130FD74E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тельское собр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ком возрасте вы первый раз закурил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366-8216-4D48-9FDB-99182C9A8D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1E3-F968-48C2-8626-BF09C13A71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ор различных житейских ситу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96C-7B88-483C-AA48-7240B7BA2E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елиться собственным опы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4ABE-D2A3-40E2-A997-310F76A4E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туация № 2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бёнок пришёл накуренный дом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FBD1-B7B0-4AB5-9DE8-EA1FC3DFE0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A06E-524C-401C-9F6A-6FCF66E55B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мотрит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Отдыхайте душой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умайте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CEA-9E02-4391-8D80-FBCD38AEEC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2E6-0882-49EB-9C11-0AF904C75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доровь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Быть здоров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3B7D-85F5-48F6-91E8-F9B72BCD4F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человека зависи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 от уровня развития медицинской помощ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т условий окружающей сре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BC0B-8B10-4940-B92C-495F2539C9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авильное питани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ал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людение режима труда и отды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саморазрушающего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доровое сексуаль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7EC3-D92E-4656-AF36-BD46E39BA9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0788-4AAC-4186-AA25-3652A1C5D1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редные  привыч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дные привычки могут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ладываться стихий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ретать черты автома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социально обуслов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559-66D9-4A3F-8B37-F13C5F50E9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еномен ади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пагубного пристрастия к чему-либо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BAE8-5B5B-4EDE-B1E0-32B68E54B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23-3439-4AAF-A05B-7A3FA0CF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D93-79B7-4A4D-AF3D-C0DAF6EE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245B-B752-41CE-9C7A-342A6309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D6C-05BF-4C8D-A250-5BECD55A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B22-E61C-49F9-B0E8-D57F9E0E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143C-5995-4794-B23D-A9F2708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91F8-8605-4C2E-BC41-733E121A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521B-5FFD-4AFA-AECA-1D8577E6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4FD1-7188-4C51-B9F8-C9894A9B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8BE-C7F7-4136-AC60-1A7995EF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83C-5374-4291-8BA3-1657F01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B4C-0538-40B7-9ED5-8400781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AD7F-BEDF-4E76-8E9A-AE010218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DF17-4694-4343-8228-C72E886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F50-56BA-45AA-97E0-7BE71F83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4C3A-9EE0-4B0D-BE87-74A5A211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8EF9-803F-4322-B110-1E785F8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AD6-25F3-4E64-AB35-FA0DC83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922-7099-4E2A-8256-CBB8F1FE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6ED-AD16-4BED-8ABC-6753BBD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3C4-46E2-499D-8961-7BAB127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E61-BE10-428A-A9E8-2B1ECA9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3B8-0F62-4C4B-BAEC-187E5C0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EBC-7A74-49E9-98E7-5F74F73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2DA0-374C-4812-9745-35A24427D32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1316-E152-4C85-9188-B31B31D9076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c2b"/>
                </a:solidFill>
                <a:latin typeface="Times New Roman"/>
              </a:rPr>
              <a:t>Профилактика вредных привычек у детей.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95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Курящие ежедневно мужчины и женщины (в процентах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762120" y="1752480"/>
          <a:ext cx="77961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961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оздействие табака на организм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инсульт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2362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губ, полости рта, горла и горта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743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вышается риск сердечного приступ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685800" y="312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лёгких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5800" y="35053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к печен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5800" y="3809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язва и рак желудка, поджелудочной желез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сплод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685800" y="4572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ангрена, вызванная закупоркой сосуд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880" y="82368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Times New Roman"/>
              </a:rPr>
              <a:t>Знаете ли вы, что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абак ежегодно уносит 5 млн. жизней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8580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это 13,5 тыс. ежедневно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курильщики составляют 96 - 100 % всех больных раком лёгких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3429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о 90 % онкологических заболеваний вызвано курением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5800" y="4495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сли сигареты подорожают всего на  10 %, в мире станет на 40 млн. курильщиков меньше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Потребление алкоголя в европейских и центрально-азиатских странах, (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в пересчёте на литры чистого спирта на одного взрослого)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209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ермания, Дания, Молдова, Россия, Украина, Франция,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9144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-10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352680" y="3429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стрия, Беларусь, Болгария, Польша, Норвегия, Швейцар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352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нее 5 литров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429000" y="4724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зербайджан, Турция, Кыргызстан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38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ремя действия спиртных напитков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9" name="Object 3"/>
          <p:cNvGraphicFramePr/>
          <p:nvPr/>
        </p:nvGraphicFramePr>
        <p:xfrm>
          <a:off x="685800" y="1582560"/>
          <a:ext cx="7753320" cy="48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82560"/>
                    <a:ext cx="77533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714240" y="-731880"/>
            <a:ext cx="8143920" cy="79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760" rIns="-522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Тест «Хороший ли вы воспитатель»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те ли Вы на иные вопросы ребёнка: «Я скажу тебе, когда ты подрастёшь»!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е ли Вы ребёнку деньги на мелкие расход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тказываете в чём-нибудь ребёнку, объясняете ли Вы причину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детям помогать Вам по хозяйству, даже зная, что пользы от этой помощи мало или совсем нет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 допустимым небольшую ложь в отношениях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уетесь ли Вы всяким случаем, чтобы способствовать развитию наблюдательности у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е ли Вы себе в присутствии ребёнка критиковать своих знакомых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ребёнка нельзя обманыват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маленьким детям следует объяснять все житейские факт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ли ли Вы книги по воспитанию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я, что даже самые маленькие дети имеют право на свои тайны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ется ли Вам грозить наказанием ребёнку, если он оставит что-нибудь на тарелк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етесь ли Вы способствовать тому, чтобы у детей развивались чувства независимости и уверенности в себ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разделить радость ребёнка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о ли Вы проводите своё свободное время с детьми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те ли Вы демонстрировать таланты сво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е ли Вы сказать так, чтобы Вас тотчас же послушались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ёнок раскапризничался, способны ли Вы сохранить полное спокойствие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ли Вы завязываете дружбу с товарищами Ваших детей?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от такие примерно предположения о педагогических талантах участников теста можно сделать после подсчёта сумм набранных ими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Меньше 25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Строгость не единственный элемент хорошего воспитания. С Вашими принципами Вам трудно будет сделать ребёнка веселым и уравновешенным человеко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25 –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Принципы у Вас, в общем правильные. Но не кажется ли Вам, что быть только логичным недостаточно, надо быть реалистичным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i="1" lang="ru-RU" sz="1300" spc="-1" strike="noStrike">
                <a:solidFill>
                  <a:srgbClr val="004c2b"/>
                </a:solidFill>
                <a:latin typeface="Times New Roman"/>
              </a:rPr>
              <a:t>Свыше 56 очков: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ru-RU" sz="1300" spc="-1" strike="noStrike">
                <a:solidFill>
                  <a:srgbClr val="004c2b"/>
                </a:solidFill>
                <a:latin typeface="Times New Roman"/>
              </a:rPr>
              <a:t>Ваше терпение и Ваше понимание детской психологии, безусловно, увенчаются успехом. Думается, что те, кто считает Вас хорошим воспитателем, правы.</a:t>
            </a: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езультаты анкетирования дете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Привычки которые наиболее сильно раздражают вас в окружающих?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685800" y="2000160"/>
          <a:ext cx="777096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00160"/>
                    <a:ext cx="77709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Назовите свои вредные привычки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704880" y="2019240"/>
          <a:ext cx="7772400" cy="40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ак часто вы сквернословите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c2b"/>
                </a:solidFill>
                <a:latin typeface="Times New Roman"/>
              </a:rPr>
              <a:t>Здоровый образ жизни, несовместимость здоровья и вредных привычек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428640"/>
            <a:ext cx="8281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Родительское собрание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В каком возрасте вы первый раз закурили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9" name="Object 0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c2b"/>
                </a:solidFill>
                <a:latin typeface="Times New Roman"/>
              </a:rPr>
              <a:t>Кто наиболее сильно оказывает влияние на стиль вашего общения и поведения?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1295280" y="1905120"/>
            <a:ext cx="63723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Разбор различных 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житейских ситуаци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1</a:t>
            </a: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Ребёнок пришёл домой в нетрезвом состояни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зговор отложите на завтра, когда подросток протрезвее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если подростку плохо, нужно дать ему возможность пережить эту ситуацию самостоятель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следующий день следует в спокойной обстановке поговорить о случившемся. Выяснить причины, узнать проблем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сказать о губительном влиянии алкоголя на организ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оделиться собственным опы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итуация № 2</a:t>
            </a:r>
            <a:br>
              <a:rPr sz="24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Ребёнок пришёл накуренный домой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ближайшее время организовать доверительные разговоры в семейном кругу, где затронуть данную тему и случа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рганизовать свободное время ребёнка (спорт, музыка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емейное времяпрепровождения (посещение театра, кино, выезд в лес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533520" y="1295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Уважаемые  родители! Как  мы  с  вами можем помочь нашим детям отказаться от вредных привычек и привить любовь к здоровому образу жизни?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685800" y="765000"/>
            <a:ext cx="80629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Почаще смотрите на своих детей, когда они спят.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Смотрите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Отдыхайте душой…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                                             </a:t>
            </a:r>
            <a:r>
              <a:rPr b="1" lang="ru-RU" sz="4000" spc="-1" strike="noStrike">
                <a:solidFill>
                  <a:srgbClr val="333333"/>
                </a:solidFill>
                <a:latin typeface="Monotype Corsiva"/>
              </a:rPr>
              <a:t>Думайте…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5"/>
          <p:cNvSpPr txBox="1"/>
          <p:nvPr/>
        </p:nvSpPr>
        <p:spPr>
          <a:xfrm>
            <a:off x="755640" y="1484280"/>
            <a:ext cx="7632720" cy="28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годарю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c4e4a"/>
                    </a:gs>
                    <a:gs pos="50000">
                      <a:srgbClr val="f7e76d"/>
                    </a:gs>
                    <a:gs pos="100000">
                      <a:srgbClr val="fc4e4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c4e4a"/>
                  </a:gs>
                  <a:gs pos="50000">
                    <a:srgbClr val="f7e76d"/>
                  </a:gs>
                  <a:gs pos="100000">
                    <a:srgbClr val="fc4e4a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622764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0" y="3429000"/>
            <a:ext cx="29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Documents and Settings\Admin\Мои документы\Мои рисунки\учителя\Фотографии\P1013863.JPG"/>
          <p:cNvPicPr/>
          <p:nvPr/>
        </p:nvPicPr>
        <p:blipFill>
          <a:blip r:embed="rId5"/>
          <a:stretch/>
        </p:blipFill>
        <p:spPr>
          <a:xfrm>
            <a:off x="-1930320" y="-144792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2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4c2b"/>
                </a:solidFill>
                <a:latin typeface="Times New Roman"/>
              </a:rPr>
              <a:t>это состояние полного физического, душевного и социального благополучия, сопровождаемое фактическим отсутствием болезней и индивидуально фрустирующих (выводящих из состояния внутреннего спокойствия) недостатков.</a:t>
            </a:r>
            <a:endParaRPr b="0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Быть здоровым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значит не иметь проблем с самочувствием, быть физически и духовно полноценным человеко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Скругленный прямоугольник 4"/>
          <p:cNvSpPr/>
          <p:nvPr/>
        </p:nvSpPr>
        <p:spPr>
          <a:xfrm>
            <a:off x="0" y="214200"/>
            <a:ext cx="9144000" cy="571680"/>
          </a:xfrm>
          <a:prstGeom prst="roundRect">
            <a:avLst>
              <a:gd name="adj" fmla="val 16667"/>
            </a:avLst>
          </a:prstGeom>
          <a:solidFill>
            <a:srgbClr val="92f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744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Здоровье человека зависи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10 % от уровня развития медицинской помощи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2666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т условий окружающей среды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85800" y="3429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 20 % обуславливается наследственностью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85800" y="4191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Что способствует сохранению и укреплению здоровья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621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калива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514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облюдение режима труда и отдых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2895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сихическая и эмоциональная устойчивость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62120" y="32767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личная гигиен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птимальный уровень двигательной активност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621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езопасное поведение дома, на улице, на работ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тказ от саморазрушающего повед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762120" y="4800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доровое сексуальное поведение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000"/>
            </a:br>
            <a:br>
              <a:rPr sz="1000"/>
            </a:br>
            <a:br>
              <a:rPr sz="1200"/>
            </a:b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Вредные привычки могут: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1532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кладываться стихийн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09480" y="1057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Вредные  привычк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- это  сложившиеся  способы деструктивного (саморазрушающего) поведения, осуществление     которого    в    определённых ситуациях   приобретает   характер   потребности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57200" y="3962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побочным продуктом направленного воспитания и обучения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4648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растать в устойчивые черты характер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7200" y="5029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иобретать черты автоматизма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53341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ть социально обусловленными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4c2b"/>
                </a:solidFill>
                <a:latin typeface="Times New Roman"/>
              </a:rPr>
              <a:t>Феномен адикции</a:t>
            </a: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 (пагубного пристрастия к чему-либо).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Человек стремится благодаря использованию тех или иных средств (веществ) заместить естественные для конкретных социальных ситуаций чувства и эмоции, избежать стресс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209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Что   лежит   в   основе   процессов  формирования вредных  привычек?</a:t>
            </a:r>
            <a:br>
              <a:rPr sz="2400"/>
            </a:b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3"/>
          <p:cNvGraphicFramePr/>
          <p:nvPr/>
        </p:nvGraphicFramePr>
        <p:xfrm>
          <a:off x="685800" y="1479600"/>
          <a:ext cx="777240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79600"/>
                    <a:ext cx="77724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4:55:06Z</dcterms:created>
  <dc:creator>user</dc:creator>
  <dc:description/>
  <dc:language>en-US</dc:language>
  <cp:lastModifiedBy>LEGION</cp:lastModifiedBy>
  <dcterms:modified xsi:type="dcterms:W3CDTF">2015-05-12T08:20:28Z</dcterms:modified>
  <cp:revision>32</cp:revision>
  <dc:subject/>
  <dc:title>Здоровый образ жизни, несовместимость здоровья и вредных привычек</dc:title>
</cp:coreProperties>
</file>