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9.wmf" ContentType="image/x-wmf"/>
  <Override PartName="/ppt/media/image8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CAMERA.WAV" ContentType="audio/x-wav"/>
  <Override PartName="/ppt/media/image5.png" ContentType="image/png"/>
  <Override PartName="/ppt/media/image13.wmf" ContentType="image/x-wmf"/>
  <Override PartName="/ppt/media/image6.jpeg" ContentType="image/jpeg"/>
  <Override PartName="/ppt/media/image7.wmf" ContentType="image/x-wmf"/>
  <Override PartName="/ppt/media/image2.jpeg" ContentType="image/jpeg"/>
  <Override PartName="/ppt/media/image3.png" ContentType="image/png"/>
  <Override PartName="/ppt/media/image12.wmf" ContentType="image/x-wmf"/>
  <Override PartName="/ppt/media/TYP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F74C-33B7-46E1-A803-CFE26E7E4B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вредных привычек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6C95-0C1C-4066-B79B-409C17F6C3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A9CE-F98D-420D-81DB-DDB31C1D75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действие табака на организ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нсуль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губ, полости рта, горла и горта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риск сердечного присту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сплод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нгрена, вызванная закупоркой сосу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C90C-BF37-48C5-8D66-B4EBFBF815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ED4C-A834-46D5-B73E-BB2AEBDBF4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наете ли вы, ч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ак ежегодно уносит 5 млн. жиз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13,5 тыс. ежеднев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ее 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-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е 5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ербайджан, Турция, Кыргызс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7626-E2B9-403A-B32C-4A9611883E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F5BA-642E-417B-A544-F30EBD1229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действия спиртных напит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еньше 25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5 –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ыше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3791-DAD0-47D1-8510-EC20FC2801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д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740C-7DB0-464E-9A28-BD364E5A3B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6C96-5BB8-42AA-BA25-638DB188F2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D359-0FD9-40F9-938C-12B94A50BF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свои вредные привы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часто вы сквернослови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B688-992B-452A-B589-C18B6E0EA4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985D-463B-4BD2-B17F-85146F3E3C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ьское собр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возрасте вы первый раз закурил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C114-67AD-481F-9EE9-4CDED00112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C0C7-713D-44C9-818E-491136E04E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ор различных житейских ситу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D3F1-5FFD-4164-9D5C-7C95BEBBB7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елиться собственным опы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83AE-0628-444D-900F-72103FC788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2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бёнок пришёл накуренный до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231F-3176-4FB0-9671-E65020CDC5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EEC5-593E-4603-AC93-7E5BF9A313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мотрит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Отдыхайте душой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умай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F0FB-E9E6-4200-89A7-1506CB17B3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6277-69DA-44E8-A666-A4E471C529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ыть здоров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DDE6-BC17-4BDE-8CF4-3FDD8AF154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ье человека зависи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 от уровня развития медицинской помощ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т условий окружающей ср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C9C9-A541-4089-B1E9-67C7CFE28B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авильное питани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ал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людение режима труда и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саморазрушающего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ое сексуаль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E067-8308-4F68-80A2-99BD9CAB61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CBCF-DDF9-4821-AD3A-5300A0A91B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редные  привыч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редные привычки могу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ться стихи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ретать черты автома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социально обуслов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7A1A-1912-4558-9C57-9D2E05E781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еномен адик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пагубного пристрастия к чему-либо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1A70-A8FD-43C6-9130-85C40C9A1C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5CA-3FB5-4E36-8DBB-F74E089C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799-1C7F-4F4C-A06C-05AD5618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9BA-1E40-48F9-9604-EB15305E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C38-E150-44E3-AC73-AE2C5F85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649D-BAAA-42D2-B38D-633BA860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F501-6CED-4018-B247-6C101365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EEFF-99A4-473F-B375-70966439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CA9E-0A36-495F-BD38-B4EBA9DF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6759-1016-4B51-B35A-F9704412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F59B-6F25-4D83-911D-25DD303C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3C47-2988-4B1C-B3DE-4B324AA7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A86-A85E-4FDC-A3E2-4C2B6665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308E-C649-4361-982A-DC82BC7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1CE4-F8D8-4C7B-B360-60D39A01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0FBB-E1A8-45A6-BDFB-C1CA056F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E40B-FC0C-4763-9847-20A25327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1071-29C8-417E-90EA-2E5DD22E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D33-C498-442E-9E85-664F1378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725-0BFC-4894-9E47-4EF99B82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BD1-B61D-4EA5-90DC-EB703344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2D4-E2C8-4B2F-B879-0FD54D0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249-F7D3-4BFB-B7A2-BE794A9F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2B6-29EC-491E-8E3D-A410397B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063-09F9-402D-BDA8-210BA51B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2D6B-3F07-4C7C-83D9-0F52D0CCC1DE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D24D-4799-4CC0-B08F-CC298158F02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c2b"/>
                </a:solidFill>
                <a:latin typeface="Times New Roman"/>
              </a:rPr>
              <a:t>Профилактика вредных привычек у детей.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09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762120" y="1752480"/>
          <a:ext cx="779616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9616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оздействие табака на организм.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инсульт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губ, полости рта, горла и горта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5800" y="2743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ышается риск сердечного приступ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85800" y="3124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лёгких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5800" y="3505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пече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85800" y="3809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4191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сплод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68580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нгрена, вызванная закупоркой сосуд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2880" y="8236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Знаете ли вы, что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абак ежегодно уносит 5 млн. жизней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8580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это 13,5 тыс. ежедневно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5800" y="23623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580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5800" y="44956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880" y="2209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олее 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29000" y="2133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91440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-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352680" y="3429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3352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нее 5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429000" y="4724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зербайджан, Турция, Кыргызстан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38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ремя действия спиртных напитко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685800" y="1582560"/>
          <a:ext cx="7753320" cy="48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82560"/>
                    <a:ext cx="775332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714240" y="-731880"/>
            <a:ext cx="8143920" cy="79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760" rIns="-522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Меньше 25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25 –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Свыше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Результаты анкетирования детей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685800" y="2000160"/>
          <a:ext cx="777096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0160"/>
                    <a:ext cx="77709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Назовите свои вредные привычк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704880" y="2019240"/>
          <a:ext cx="777240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1924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ак часто вы сквернословите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c2b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0920" y="3428640"/>
            <a:ext cx="8281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Родительское собрание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 каком возрасте вы первый раз закурили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9" name="Object 0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1295280" y="1905120"/>
            <a:ext cx="63723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Разбор различных 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житейских ситуаций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1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делиться собственным опыто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2</a:t>
            </a:r>
            <a:br>
              <a:rPr sz="24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Ребёнок пришёл накуренный домой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33520" y="12952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685800" y="765000"/>
            <a:ext cx="80629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Смотрите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Отдыхайте душой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           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Думайте…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5"/>
          <p:cNvSpPr txBox="1"/>
          <p:nvPr/>
        </p:nvSpPr>
        <p:spPr>
          <a:xfrm>
            <a:off x="755640" y="1484280"/>
            <a:ext cx="7632720" cy="28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ю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916360" y="3429000"/>
            <a:ext cx="622764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0" y="3429000"/>
            <a:ext cx="291636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Admin\Мои документы\Мои рисунки\учителя\Фотографии\P1013863.JPG"/>
          <p:cNvPicPr/>
          <p:nvPr/>
        </p:nvPicPr>
        <p:blipFill>
          <a:blip r:embed="rId5"/>
          <a:stretch/>
        </p:blipFill>
        <p:spPr>
          <a:xfrm>
            <a:off x="-1930320" y="-14479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12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Здоровье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4c2b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Быть здоровы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Здоровье человека зависи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10 % от уровня развития медицинской помощ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2666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т условий окружающей сред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85800" y="3429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580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авильное пита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62120" y="2133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калива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621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блюдение режима труда и отдых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2895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62120" y="3276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личная гигиен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62120" y="4038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каз от саморазрушающего повед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762120" y="4800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доровое сексуальное поведе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000"/>
            </a:br>
            <a:br>
              <a:rPr sz="1000"/>
            </a:br>
            <a:br>
              <a:rPr sz="12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Вредные привычки могу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153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кладываться стихий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9480" y="1057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Вредные  привычк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962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4648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7200" y="5029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обретать черты автоматизм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5334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социально обусловленным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Феномен адикции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(пагубного пристрастия к чему-либо).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28195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1209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Что   лежит   в   основе   процессов  формирования вредных  привычек?</a:t>
            </a:r>
            <a:br>
              <a:rPr sz="24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3"/>
          <p:cNvGraphicFramePr/>
          <p:nvPr/>
        </p:nvGraphicFramePr>
        <p:xfrm>
          <a:off x="685800" y="1479600"/>
          <a:ext cx="77724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79600"/>
                    <a:ext cx="77724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4:55:06Z</dcterms:created>
  <dc:creator>user</dc:creator>
  <dc:description/>
  <dc:language>en-US</dc:language>
  <cp:lastModifiedBy>LEGION</cp:lastModifiedBy>
  <dcterms:modified xsi:type="dcterms:W3CDTF">2015-05-12T08:20:28Z</dcterms:modified>
  <cp:revision>32</cp:revision>
  <dc:subject/>
  <dc:title>Здоровый образ жизни, несовместимость здоровья и вредных привычек</dc:title>
</cp:coreProperties>
</file>