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9.wmf" ContentType="image/x-wmf"/>
  <Override PartName="/ppt/media/image8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CAMERA.WAV" ContentType="audio/x-wav"/>
  <Override PartName="/ppt/media/image5.png" ContentType="image/png"/>
  <Override PartName="/ppt/media/image13.wmf" ContentType="image/x-wmf"/>
  <Override PartName="/ppt/media/image6.jpeg" ContentType="image/jpeg"/>
  <Override PartName="/ppt/media/image7.wmf" ContentType="image/x-wmf"/>
  <Override PartName="/ppt/media/image2.jpeg" ContentType="image/jpeg"/>
  <Override PartName="/ppt/media/image3.png" ContentType="image/png"/>
  <Override PartName="/ppt/media/image12.wmf" ContentType="image/x-wmf"/>
  <Override PartName="/ppt/media/TYP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CAB3-460B-43A7-8B08-66B0A2FB11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вредных привычек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F840-0D32-4BD3-ADE9-9CFB0A53CE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CB33-CE35-4614-9C19-6B2E354747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действие табака на организ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нсуль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губ, полости рта, горла и горта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риск сердечного присту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сплод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нгрена, вызванная закупоркой сосу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330C-59BE-48AA-9C7E-8EE42F2B14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7399-CDF6-4CB8-9557-A1D4ABBB40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наете ли вы, ч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ак ежегодно уносит 5 млн. жиз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13,5 тыс. ежеднев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ее 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-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е 5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ербайджан, Турция, Кыргызс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FCA3-58D1-4A4E-90C0-B90FC5C674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8A76-AC7D-41FE-BF8B-D2FB3B80C7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действия спиртных напит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еньше 25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5 –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ыше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358D-FC03-493F-9902-7D56D0B8EC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д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5C1A-8D0C-4DC2-8B9C-37B505BDEB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66C4-48AF-439E-9389-A7D11F7CF6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D395-5920-4CDD-ADF1-237AAA606E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свои вредные привы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часто вы сквернослови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9653-B29F-4D4C-813B-FA25524F05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ECFC-B0DA-4A88-A85A-1635242392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ьское собр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возрасте вы первый раз закурил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9850-D7BD-4C09-9B73-1135E04B13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2452-FC17-4C87-87B9-FC2C2BE9E4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ор различных житейских ситу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8F67-D1EB-45AE-BCFE-4F058D1608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елиться собственным опы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4F48-9701-455B-8FA9-CC5AA807CF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2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бёнок пришёл накуренный до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4E0C-2104-44CB-889D-084F4C4D78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4468-8522-4C0E-AF82-52595E1FC3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мотрит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Отдыхайте душой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умай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FC14-A431-4C5A-B73C-D44D6D11C2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9C5F-6358-409E-A011-F51A4F685C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ыть здоров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469A-C796-48BA-B5A3-83FA44A80A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ье человека зависи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 от уровня развития медицинской помощ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т условий окружающей ср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C5AF-5365-4735-A446-C51089B4AE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авильное питани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ал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людение режима труда и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саморазрушающего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ое сексуаль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EC12-978D-454B-AAB3-8F7CBAFBF1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3A85-0506-46E0-A634-0CDAF1DA8A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редные  привыч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редные привычки могу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ться стихи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ретать черты автома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социально обуслов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E794-B62A-4C97-8094-1DE61AA643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еномен адик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пагубного пристрастия к чему-либо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ED06-8DFE-4314-8952-5483114DE4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037-E29B-41F5-AC31-B00E3825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F00-D980-439F-9C51-EC8206ED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75D-6EB5-4C03-B745-E2521168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10B-D10C-4BB0-8EF0-3A64BA75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E1FB-E275-40F3-A67A-13CAB001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A44B-2464-473D-B003-A9B9A77B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579E-5460-4256-92E5-5A399175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E596-D7DC-433E-9232-12A0D935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AF77-0F96-4054-A4C6-04153AFF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8585-22EE-4C6D-B08D-149009E0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DDDB-3C67-4365-9D21-11EE9613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544-C035-4E25-AF54-28201C1E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5F58-BE22-4355-A9B6-349E6A4B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B9AA-0EC4-4BDA-A1B7-9F48E2AC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D93D-0E2F-417A-8C94-C8665C75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268F-3860-47AF-BFDB-D4090640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40A6-8384-4AED-978C-6617EA8A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D10-5A1C-4C5F-A324-2B0E4D79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F5F-545E-4E36-A475-0575A08F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467-CA46-461E-B89F-208190E7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A05-6A64-418E-A438-C18739FD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77F-A31A-416A-98AF-83E1A517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AFC-4747-43E9-8630-D5A889B4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353-3055-4923-A9C2-046E169E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54C7-B77C-41D5-B9E5-97F6E4168BC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F545-AB10-4AD5-88A8-36C53B6008C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c2b"/>
                </a:solidFill>
                <a:latin typeface="Times New Roman"/>
              </a:rPr>
              <a:t>Профилактика вредных привычек у детей.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09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762120" y="1752480"/>
          <a:ext cx="779616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9616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оздействие табака на организм.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инсульт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губ, полости рта, горла и горта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5800" y="2743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ышается риск сердечного приступ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85800" y="3124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лёгких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5800" y="3505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пече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85800" y="3809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4191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сплод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68580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нгрена, вызванная закупоркой сосуд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2880" y="8236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Знаете ли вы, что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абак ежегодно уносит 5 млн. жизней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8580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это 13,5 тыс. ежедневно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5800" y="23623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580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5800" y="44956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880" y="2209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олее 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29000" y="2133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91440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-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352680" y="3429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3352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нее 5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429000" y="4724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зербайджан, Турция, Кыргызстан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38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ремя действия спиртных напитко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685800" y="1582560"/>
          <a:ext cx="7753320" cy="48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82560"/>
                    <a:ext cx="775332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714240" y="-731880"/>
            <a:ext cx="8143920" cy="79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760" rIns="-522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Меньше 25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25 –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Свыше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Результаты анкетирования детей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685800" y="2000160"/>
          <a:ext cx="777096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0160"/>
                    <a:ext cx="77709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Назовите свои вредные привычк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704880" y="2019240"/>
          <a:ext cx="777240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1924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ак часто вы сквернословите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c2b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0920" y="3428640"/>
            <a:ext cx="8281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Родительское собрание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 каком возрасте вы первый раз закурили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9" name="Object 0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1295280" y="1905120"/>
            <a:ext cx="63723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Разбор различных 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житейских ситуаций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1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делиться собственным опыто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2</a:t>
            </a:r>
            <a:br>
              <a:rPr sz="24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Ребёнок пришёл накуренный домой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33520" y="12952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685800" y="765000"/>
            <a:ext cx="80629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Смотрите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Отдыхайте душой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           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Думайте…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5"/>
          <p:cNvSpPr txBox="1"/>
          <p:nvPr/>
        </p:nvSpPr>
        <p:spPr>
          <a:xfrm>
            <a:off x="755640" y="1484280"/>
            <a:ext cx="7632720" cy="28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ю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916360" y="3429000"/>
            <a:ext cx="622764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0" y="3429000"/>
            <a:ext cx="291636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Admin\Мои документы\Мои рисунки\учителя\Фотографии\P1013863.JPG"/>
          <p:cNvPicPr/>
          <p:nvPr/>
        </p:nvPicPr>
        <p:blipFill>
          <a:blip r:embed="rId5"/>
          <a:stretch/>
        </p:blipFill>
        <p:spPr>
          <a:xfrm>
            <a:off x="-1930320" y="-14479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12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Здоровье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4c2b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Быть здоровы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Здоровье человека зависи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10 % от уровня развития медицинской помощ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2666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т условий окружающей сред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85800" y="3429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580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авильное пита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62120" y="2133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калива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621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блюдение режима труда и отдых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2895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62120" y="3276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личная гигиен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62120" y="4038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каз от саморазрушающего повед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762120" y="4800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доровое сексуальное поведе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000"/>
            </a:br>
            <a:br>
              <a:rPr sz="1000"/>
            </a:br>
            <a:br>
              <a:rPr sz="12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Вредные привычки могу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153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кладываться стихий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9480" y="1057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Вредные  привычк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962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4648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7200" y="5029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обретать черты автоматизм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5334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социально обусловленным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Феномен адикции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(пагубного пристрастия к чему-либо).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28195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1209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Что   лежит   в   основе   процессов  формирования вредных  привычек?</a:t>
            </a:r>
            <a:br>
              <a:rPr sz="24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3"/>
          <p:cNvGraphicFramePr/>
          <p:nvPr/>
        </p:nvGraphicFramePr>
        <p:xfrm>
          <a:off x="685800" y="1479600"/>
          <a:ext cx="77724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79600"/>
                    <a:ext cx="77724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4:55:06Z</dcterms:created>
  <dc:creator>user</dc:creator>
  <dc:description/>
  <dc:language>en-US</dc:language>
  <cp:lastModifiedBy>LEGION</cp:lastModifiedBy>
  <dcterms:modified xsi:type="dcterms:W3CDTF">2015-05-12T08:20:28Z</dcterms:modified>
  <cp:revision>32</cp:revision>
  <dc:subject/>
  <dc:title>Здоровый образ жизни, несовместимость здоровья и вредных привычек</dc:title>
</cp:coreProperties>
</file>