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D54BF-4167-44E3-9612-8765AC1C067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рок ОБЖ в 6 классе</a:t>
            </a:r>
            <a:br>
              <a:rPr sz="1800"/>
            </a:b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тема урока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Укусы животных»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готовил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чалова О. 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2656B-1B8F-4889-8DCA-F5F0D6E7B09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МП при сдавливани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влечь пострадавшего из зав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жить тугую повяз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ожить поврежденное место холо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1B0FC-0963-4EE9-A2A1-E561BFF4A7C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МП при переломах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закрыты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сти иммобилизацию(обездвижить место перелома, наложив шин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ь обезболивающее сред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открыты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ановить кровоте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бласти перелома наложить стерильную повяз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ь обезболивающее сред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сти иммобилизац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7D405-0CCA-4AB5-B5A2-1D134EA23E4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МП при укусах животны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ь крови стеч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ботать йодом или зелен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жить стерильную повяз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радавшего необходимо доставить в лечебное заведение для вакцин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63DB8-7E84-490E-B45A-1991CD8D96A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кусы насекомых (пчелы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укуса пчел, ос, шерш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.   Ж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.   Резкая бо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.   Покраснение кож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.    Набухание тканей вокруг 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2480A-C349-4A6B-8854-E60D15C71BB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мптомы укусов пче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ловокру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ловная бо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шнота и рво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пивни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зноб и жа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увство стеснения в груд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увство стра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умное и частое дыха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еря созн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ороги и отёк горта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1A752-EF58-4062-B4BF-6E9EE2B60B1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МП при укусах насеком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куратно удалить жало, если оно е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мыть ранку нашатырным спиртом или раствором марганцов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место укуса наложить хол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ь пострадавшему 1-2 таблетки димедрола или супраст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состояние ухудшается, срочно доставить в медицинское учреж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E0432-8F6C-4322-9A8E-0AED7BE4067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МП при укусах клещ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место, где присосался клещ, капнуть каплю масла, керосина или вазел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рез 2 минуты удалить клеща пинцетом легким покачиванием из стороны в сторо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сто укуса обработать спиртом или йо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2DF7D-88A2-43C6-A8B9-805E89EA1B2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МП при укусах зм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е эффективное – это противоядная сыворотка. Если ее нет, т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ильно промыть рану от укуса кипяченой водой или марганцов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есть специальное устройство для отсасывания, приложите его к ране, оттянуть кровь вместе с я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жить стерильную повяз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ть пострадавшему по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место укуса положить хол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дать конечности возвышенное поло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6C377-FBC1-41D4-8FC4-45757867181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АПРЕЩАЕТСЯ!!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езать рану нож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жигать её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асывать яд р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01188-D1A3-4897-A973-E43359CDA96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бота по учебнику</a:t>
            </a:r>
            <a:br>
              <a:rPr sz="20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тр. 149 – 158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стоятельно ознакомиться с ядовитыми паукообразн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ядовитые змеи обитают а нашей мест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DC7EF-6D3B-4D13-84A5-5C6565A3EF9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и задач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ить учащихся оказывать самопомощь и взаимопомощь в различных ситуация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яснить значение оказания помощи в первые мину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AEC2D-BAE2-4EDA-99FE-EC387BEE7AB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ислите разновидности трав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казать ПМП при ушиба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казать ПМП при растяжениях и разрыва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казать ПМП при вывиха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казать ПМП при сдавливан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25A09-6732-4A06-A760-EADF7983DB0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казать ПМП при перелома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иммобилизац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правила необходимо соблюдать при наложении шин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закрытые травмы требуют обязательной доставки пострадавшего к врач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A553B-39B7-4B1F-8758-8C45E362845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новидности травм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шиб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я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ыв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их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давли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ло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B5C1D-58C6-46A8-B48B-BAF101FB328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МП при ушибах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место ушиба наложить хол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место ушиба наложить тугую повяз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ть покой поврежденной коне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0410D-D24A-420B-8C7F-F5D87241BAE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МП при растяжениях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жить холод на поврежденное мест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жить тугую повяз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ть покой поврежденной коне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дать поврежденной конечности возвышенное поло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5C9B2-F306-43C8-A564-5B6A0E46064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МП при разрыва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поврежденное место наложить хол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жить тугую повязку и обеспечить по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ь пострадавшему обезболивающее сред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дать поврежденной конечности возвышенное положение для снятия от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A31CB-9587-4611-BA4C-F1C24ED4B4E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МП при вывихах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ть покой поврежденной коне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делать тугую повяз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ь обезболивающее сред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B9305-4A8B-4A34-B2BE-D74C595BA34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F5D2-D8BA-4857-8F91-236B0279B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8E15-33E5-4219-9F99-46ECB225B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47C2-0F92-47CA-BFC1-94A35F7D9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0598-025E-47E6-BC60-03AE18C57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BD4AF-6012-4F25-BA46-1D4D1C47C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5ABB2-70FE-4BE5-A04F-4E77BEDBF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6BC30-6A95-4D2F-B1A1-80C5CC17B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7A8A7-B097-40CA-895B-745DA01C9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B6C6F-75D1-4B99-9761-1822C7742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50C76-8BDB-48E6-81A2-F9E161B83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E3389-5DCD-43CE-B051-70227222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5827-B25A-45EA-8A6C-9BE2F697C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8D53A-BCC2-4CB0-97AF-D72E4AF82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1E4CA-D57E-48A6-AD42-2EFA56229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377DA-4246-4EB4-8F75-720CA2353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D7FDD-4B2E-4A2D-A567-FF4FC2996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D71E9-1A41-415B-B821-BC6F81659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25CC-E04C-4199-9EAA-8AB731423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93CA-319F-42A0-9377-BD84C7A37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A304-AE3C-40A0-A90D-A02E98798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3729-1664-4633-AF1F-EBA99C3D5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2917-EED4-43B3-A17D-DD4BAA6CB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B38B-099D-42D1-904E-131605E5C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9064-83E5-4428-84A4-D0CDFB89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18293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E2CE0-F40B-48B5-A6D9-B9F092D96E8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18293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76F81-347C-4820-8864-BD7B1C76F00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83680"/>
            <a:ext cx="7772400" cy="963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Урок ОБЖ в 6 классе</a:t>
            </a:r>
            <a:br>
              <a:rPr sz="4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тема урока 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«Укусы животных»</a:t>
            </a: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899640" y="3325680"/>
            <a:ext cx="7704360" cy="25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риготовила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Мочалова О. В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ПМП при сдавливании: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9640" y="292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звлечь пострадавшего из завал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аложить тугую повязк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бложить поврежденное место холодом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ПМП при переломах: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) закрытых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вести иммобилизацию(обездвижить место перелома, наложив шины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ать обезболивающее средств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) открытых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тановить кровотече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области перелома наложить стерильную повязк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ать обезболивающее средств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вести иммобилизаци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ПМП при укусах животных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ать крови стечь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бработать йодом или зеленкой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аложить стерильную повязку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острадавшего необходимо доставить в лечебное заведение для вакцинаци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Picture 5" descr="i?id=37610529&amp;tov=8"/>
          <p:cNvPicPr/>
          <p:nvPr/>
        </p:nvPicPr>
        <p:blipFill>
          <a:blip r:embed="rId2"/>
          <a:stretch/>
        </p:blipFill>
        <p:spPr>
          <a:xfrm>
            <a:off x="6443640" y="907920"/>
            <a:ext cx="2376360" cy="3168720"/>
          </a:xfrm>
          <a:prstGeom prst="rect">
            <a:avLst/>
          </a:prstGeom>
          <a:ln w="0">
            <a:noFill/>
          </a:ln>
        </p:spPr>
      </p:pic>
      <p:sp>
        <p:nvSpPr>
          <p:cNvPr id="2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Укусы насекомых (пчелы).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ризнаки укуса пчел, ос, шершне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а).   Жжени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б).   Резкая боль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).   Покраснение кож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г).    Набухание тканей вокруг ран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7" descr="i?id=27562265&amp;tov=2"/>
          <p:cNvPicPr/>
          <p:nvPr/>
        </p:nvPicPr>
        <p:blipFill>
          <a:blip r:embed="rId2"/>
          <a:stretch/>
        </p:blipFill>
        <p:spPr>
          <a:xfrm>
            <a:off x="6012000" y="2708280"/>
            <a:ext cx="2016000" cy="2592360"/>
          </a:xfrm>
          <a:prstGeom prst="rect">
            <a:avLst/>
          </a:prstGeom>
          <a:ln w="0">
            <a:noFill/>
          </a:ln>
        </p:spPr>
      </p:pic>
      <p:sp>
        <p:nvSpPr>
          <p:cNvPr id="2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имптомы укусов пчел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8360" y="764640"/>
            <a:ext cx="82296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ловокруже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ловная бол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ошнота и рво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рапивниц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зноб и жа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увство стеснения в груд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увство страх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Шумное и частое дыхани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теря созн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удороги и отёк гортан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Picture 5" descr="i?id=4865942&amp;tov=4"/>
          <p:cNvPicPr/>
          <p:nvPr/>
        </p:nvPicPr>
        <p:blipFill>
          <a:blip r:embed="rId2"/>
          <a:stretch/>
        </p:blipFill>
        <p:spPr>
          <a:xfrm>
            <a:off x="5724360" y="765000"/>
            <a:ext cx="2160720" cy="26640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i?id=35746249&amp;tov=4"/>
          <p:cNvPicPr/>
          <p:nvPr/>
        </p:nvPicPr>
        <p:blipFill>
          <a:blip r:embed="rId3"/>
          <a:stretch/>
        </p:blipFill>
        <p:spPr>
          <a:xfrm>
            <a:off x="6227640" y="3645000"/>
            <a:ext cx="2592360" cy="2809800"/>
          </a:xfrm>
          <a:prstGeom prst="rect">
            <a:avLst/>
          </a:prstGeom>
          <a:ln w="0">
            <a:noFill/>
          </a:ln>
        </p:spPr>
      </p:pic>
      <p:sp>
        <p:nvSpPr>
          <p:cNvPr id="2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МП при укусах насекомых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ккуратно удалить жало, если оно ес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мыть ранку нашатырным спиртом или раствором марганцов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место укуса наложить холо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ать пострадавшему 1-2 таблетки димедрола или супрасти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ли состояние ухудшается, срочно доставить в медицинское учрежде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МП при укусах клещами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место, где присосался клещ, капнуть каплю масла, керосина или вазели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ерез 2 минуты удалить клеща пинцетом легким покачиванием из стороны в сторон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сто укуса обработать спиртом или йод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Picture 5" descr="i?id=30493488&amp;tov=3"/>
          <p:cNvPicPr/>
          <p:nvPr/>
        </p:nvPicPr>
        <p:blipFill>
          <a:blip r:embed="rId2"/>
          <a:stretch/>
        </p:blipFill>
        <p:spPr>
          <a:xfrm>
            <a:off x="3132000" y="4941720"/>
            <a:ext cx="1887840" cy="15829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7" descr="i?id=20949837&amp;tov=8"/>
          <p:cNvPicPr/>
          <p:nvPr/>
        </p:nvPicPr>
        <p:blipFill>
          <a:blip r:embed="rId3"/>
          <a:stretch/>
        </p:blipFill>
        <p:spPr>
          <a:xfrm>
            <a:off x="6804000" y="5084640"/>
            <a:ext cx="1655640" cy="1440000"/>
          </a:xfrm>
          <a:prstGeom prst="rect">
            <a:avLst/>
          </a:prstGeom>
          <a:ln w="0">
            <a:noFill/>
          </a:ln>
        </p:spPr>
      </p:pic>
      <p:sp>
        <p:nvSpPr>
          <p:cNvPr id="2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ПМП при укусах змей.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мое эффективное – это противоядная сыворотка. Если ее нет, то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ильно промыть рану от укуса кипяченой водой или марганцовк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есть специальное устройство для отсасывания, приложите его к ране, оттянуть кровь вместе с яд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ложить стерильную повязк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еспечить пострадавшему пок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место укуса положить холо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дать конечности возвышенное положе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5" descr="гадюка, обыкновенная гадюка, фото, фотография"/>
          <p:cNvPicPr/>
          <p:nvPr/>
        </p:nvPicPr>
        <p:blipFill>
          <a:blip r:embed="rId1"/>
          <a:stretch/>
        </p:blipFill>
        <p:spPr>
          <a:xfrm>
            <a:off x="6543720" y="4005360"/>
            <a:ext cx="2600280" cy="2087640"/>
          </a:xfrm>
          <a:prstGeom prst="rect">
            <a:avLst/>
          </a:prstGeom>
          <a:ln w="0">
            <a:noFill/>
          </a:ln>
        </p:spPr>
      </p:pic>
      <p:sp>
        <p:nvSpPr>
          <p:cNvPr id="2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ecff"/>
                </a:solidFill>
                <a:latin typeface="Arial"/>
              </a:rPr>
              <a:t>ЗАПРЕЩАЕТСЯ!!!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Разрезать рану ножом;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Прижигать её;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Отсасывать яд ртом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85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Работа по учебнику</a:t>
            </a:r>
            <a:br>
              <a:rPr sz="48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стр. 149 – 158: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амостоятельно ознакомиться с ядовитыми паукообразны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ие ядовитые змеи обитают а нашей мест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Picture 5" descr="розоволапый тарантул (Theraphosa apophysis), фото, фотография"/>
          <p:cNvPicPr/>
          <p:nvPr/>
        </p:nvPicPr>
        <p:blipFill>
          <a:blip r:embed="rId1"/>
          <a:stretch/>
        </p:blipFill>
        <p:spPr>
          <a:xfrm>
            <a:off x="6372360" y="2781360"/>
            <a:ext cx="2771640" cy="25192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7" descr="питон, фото, фотография"/>
          <p:cNvPicPr/>
          <p:nvPr/>
        </p:nvPicPr>
        <p:blipFill>
          <a:blip r:embed="rId2"/>
          <a:stretch/>
        </p:blipFill>
        <p:spPr>
          <a:xfrm>
            <a:off x="0" y="2852640"/>
            <a:ext cx="4284720" cy="2160720"/>
          </a:xfrm>
          <a:prstGeom prst="rect">
            <a:avLst/>
          </a:prstGeom>
          <a:ln w="0">
            <a:noFill/>
          </a:ln>
        </p:spPr>
      </p:pic>
      <p:sp>
        <p:nvSpPr>
          <p:cNvPr id="2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и и задачи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учить учащихся оказывать самопомощь и взаимопомощь в различных ситуациях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ъяснить значение оказания помощи в первые минут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4"/>
          <p:cNvSpPr/>
          <p:nvPr/>
        </p:nvSpPr>
        <p:spPr>
          <a:xfrm>
            <a:off x="0" y="836640"/>
            <a:ext cx="9144000" cy="59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еречислите разновидности трав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ак оказать ПМП при ушибах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ак оказать ПМП при растяжениях и разрывах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ак оказать ПМП при вывихах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ак оказать ПМП при сдавливании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4"/>
          <p:cNvSpPr/>
          <p:nvPr/>
        </p:nvSpPr>
        <p:spPr>
          <a:xfrm>
            <a:off x="0" y="836640"/>
            <a:ext cx="9144000" cy="57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buClr>
                <a:srgbClr val="ffffff"/>
              </a:buClr>
              <a:buSzPct val="8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ак оказать ПМП при переломах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ffffff"/>
              </a:buClr>
              <a:buSzPct val="8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Что такое иммобилизация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ffffff"/>
              </a:buClr>
              <a:buSzPct val="8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акие правила необходимо соблюдать при наложении шин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ffffff"/>
              </a:buClr>
              <a:buSzPct val="8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акие закрытые травмы требуют обязательной доставки пострадавшего к врачу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Разновидности травм: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Ушиб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астяжени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азрыв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ывих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давливани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ерелом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ПМП при ушибах: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а место ушиба наложить холод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а место ушиба наложить тугую повязк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беспечить покой поврежденной конечност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ПМП при растяжениях: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ложить холод на поврежденное мест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ложить тугую повязк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еспечить покой поврежденной конеч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дать поврежденной конечности возвышенное положе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МП при разрывах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поврежденное место наложить холо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ложить тугую повязку и обеспечить пок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ать пострадавшему обезболивающее средств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дать поврежденной конечности возвышенное положение для снятия оте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ПМП при вывихах: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беспечить покой поврежденной конечност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делать тугую повязк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Дать обезболивающее средство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09:33:40Z</dcterms:created>
  <dc:creator>User</dc:creator>
  <dc:description/>
  <dc:language>en-US</dc:language>
  <cp:lastModifiedBy>LEGION</cp:lastModifiedBy>
  <dcterms:modified xsi:type="dcterms:W3CDTF">2015-05-12T08:21:04Z</dcterms:modified>
  <cp:revision>10</cp:revision>
  <dc:subject/>
  <dc:title>Урок ОБЖ в 6 классе тема урока «Укусы животных»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