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FD2-BF4D-4EAC-9A70-DBFC8E28BB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ОБЖ в 6 классе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ма уро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Укусы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чалова О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50A5-580B-4C1A-81E2-6A5337A088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сдавли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лечь пострадавшего из зав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ить поврежденное место хол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724A-54EB-4159-963A-B34B904259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перелом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а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(обездвижить место перелома, наложив ши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ь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ерелома 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27C2-8734-490A-996B-D6C5B6BB1A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МП при укусах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рови ст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ать йодом или зеле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его необходимо доставить в лечебное заведение для вакц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1F5F-0F3E-44FE-A0BD-97CCF334C7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насекомых (пче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укуса пчел, ос, шерш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  Ж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  Резк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  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.    Набухание тканей вокруг 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B412-CF90-4948-8EC8-0CB44AC454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ы укусов п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об и ж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еснения в гру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р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ное и частое дых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 и отёк горт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2193-9943-4080-A336-2E233C29FC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 удалить жало, если оно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ть ранку нашатырным спиртом или раствором марганц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1-2 таблетки димедрола или супраст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остояние ухудшается, срочно доставить в медицинское учре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C9F4-AF94-41CE-B0FE-54C0B167EB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клещ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, где присосался клещ, капнуть каплю масла, керосина или вазе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минуты удалить клеща пинцетом легким покачиванием из стороны в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укуса обработать спиртом или й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D88D-C670-48BC-B9DB-2588111464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укусах зм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эффективное – это противоядная сыворотка. Если ее нет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о промыть рану от укуса кипяченой водой или марганцов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страдавшему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по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5148-1C2F-4AC7-BC48-B4FDE2C048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РЕЩАЕТСЯ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зать рану нож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гать её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асывать яд 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2BC-2A2E-421D-BFF5-C016D5AF37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. 149 – 158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знакомиться с ядовитыми паукообраз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ядовитые змеи обитают а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B5F5-7018-4275-ACDB-C1ED9082A6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оказывать самопомощь и взаимопомощь в различных ситуац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значение оказания помощи в первые мин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BEB-ADBD-49CF-9735-59425E7F22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разновидности тра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ушиб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растяжениях и разрыв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вывих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сдавлив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CD90-F9D0-4DA3-969F-A1F49130EA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перелом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обилиз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необходимо соблюдать при наложении ш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акрытые травмы требуют обязательной доставки пострадавшего к врач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C6C9-8A3F-442C-85E0-E6A102DF6C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видности трав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ш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авл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л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C838-B22B-47B6-8FBD-F8BA5AB611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ушиб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707D-29B8-4A98-BCCA-4BE158ABD8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П при растяжен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холод на поврежден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DDF7-7F72-40BB-AA7A-2304994703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разрыв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режденное место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 и обеспечить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 для снят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164A-DF0A-4317-9749-07DCC67C6F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вывих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9DA3-7E69-4951-B74F-3A4AA33A83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5C4-9FA0-4A9F-8FF8-4CF5BE45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244-C86A-4E92-AE51-2A148BB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715-538E-40B2-B366-978BB75D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633-2A6E-4232-BCEB-74993DC5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BB96-9102-4237-AA4B-B71C97CD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AD16-0ED8-4ADE-B4B7-FA20A155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DE27-BE73-44AC-B338-8976613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EF4E-0DE7-42BE-B891-96107B9D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C85B-5B8D-409E-9D2E-31D80892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2965-9AE6-49A1-A589-73883395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4566-3D89-496F-A7DD-218C9BC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D10-1BDB-4BA6-8E7E-FC254882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AA24-4B3D-4A57-A85C-A08E238F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2317-FE50-42B1-A9B2-45EF322B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F1AA-6CBD-4DFB-AB47-DC045D63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5E3E-8436-4D02-BA15-9EFDEA2B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D7A6-AA47-4F9D-8B7D-CBC8D223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CD3-F42E-4E7F-9115-1AC01188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868-2D9F-4595-9E01-822C6D6B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986-2110-4038-AAAF-263CBA0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453-C955-4B20-80CA-D2214960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244-42CA-42C1-9C35-982742A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109-F569-43A9-B35A-1A16FF1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000-B79C-4061-A329-40CB20A6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986A-1748-4293-9FEC-0B6F6E6F0D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199B-AA2C-4D5E-8770-1FDC8009E5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ОБЖ в 6 классе</a:t>
            </a: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 урока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кусы животных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99640" y="3325680"/>
            <a:ext cx="77043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готов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чалова О.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сдавливани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влечь пострадавшего из зава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ложить поврежденное место хол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перелом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за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(обездвижить место перелома, наложив ши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т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перелома 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животных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ь крови ст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ботать йодом или зелен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адавшего необходимо доставить в лечебное заведение для вакцин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i?id=37610529&amp;tov=8"/>
          <p:cNvPicPr/>
          <p:nvPr/>
        </p:nvPicPr>
        <p:blipFill>
          <a:blip r:embed="rId2"/>
          <a:stretch/>
        </p:blipFill>
        <p:spPr>
          <a:xfrm>
            <a:off x="6443640" y="90792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кусы насекомых (пчелы)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укуса пчел, ос, шерш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.   Ж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.   Резкая 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.   Покраснение кож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).    Набухание тканей вокруг р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i?id=27562265&amp;tov=2"/>
          <p:cNvPicPr/>
          <p:nvPr/>
        </p:nvPicPr>
        <p:blipFill>
          <a:blip r:embed="rId2"/>
          <a:stretch/>
        </p:blipFill>
        <p:spPr>
          <a:xfrm>
            <a:off x="6012000" y="2708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укусов пче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и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об и 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еснения в гру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ра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ное и частое дых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ря со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дороги и отёк горт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i?id=4865942&amp;tov=4"/>
          <p:cNvPicPr/>
          <p:nvPr/>
        </p:nvPicPr>
        <p:blipFill>
          <a:blip r:embed="rId2"/>
          <a:stretch/>
        </p:blipFill>
        <p:spPr>
          <a:xfrm>
            <a:off x="5724360" y="765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5746249&amp;tov=4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8098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насеком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уратно удалить жало, если оно 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ть ранку нашатырным спиртом или раствором марганц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 укуса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1-2 таблетки димедрола или супрас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остояние ухудшается, срочно доставить в медицинск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клещ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, где присосался клещ, капнуть каплю масла, керосина или вазел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2 минуты удалить клеща пинцетом легким покачиванием из стороны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укуса обработать спиртом или й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i?id=30493488&amp;tov=3"/>
          <p:cNvPicPr/>
          <p:nvPr/>
        </p:nvPicPr>
        <p:blipFill>
          <a:blip r:embed="rId2"/>
          <a:stretch/>
        </p:blipFill>
        <p:spPr>
          <a:xfrm>
            <a:off x="3132000" y="4941720"/>
            <a:ext cx="1887840" cy="158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?id=20949837&amp;tov=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змей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эффективное – это противоядная сыворотка. Если ее нет, 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льно промыть рану от укуса кипяченой водой или марганцов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пострадавшему по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сто укуса положить хол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ать конечности возвышен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гадюка, обыкновенная гадюка, фото, фотография"/>
          <p:cNvPicPr/>
          <p:nvPr/>
        </p:nvPicPr>
        <p:blipFill>
          <a:blip r:embed="rId1"/>
          <a:stretch/>
        </p:blipFill>
        <p:spPr>
          <a:xfrm>
            <a:off x="6543720" y="4005360"/>
            <a:ext cx="2600280" cy="208764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ПРЕЩАЕТСЯ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азрезать рану ножом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жигать её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сасывать яд рт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бота по учебнику</a:t>
            </a:r>
            <a:br>
              <a:rPr sz="48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. 149 – 158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о ознакомиться с ядовитыми паукообраз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ядовитые змеи обитают а нашей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розоволапый тарантул (Theraphosa apophysis), фото, фотография"/>
          <p:cNvPicPr/>
          <p:nvPr/>
        </p:nvPicPr>
        <p:blipFill>
          <a:blip r:embed="rId1"/>
          <a:stretch/>
        </p:blipFill>
        <p:spPr>
          <a:xfrm>
            <a:off x="6372360" y="2781360"/>
            <a:ext cx="27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питон, фото, фотография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21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 учащихся оказывать самопомощь и взаимопомощь в различных ситуа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ь значение оказания помощи в первые мину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83664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 разновидности трав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ушиб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растяжениях и разрыв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вывих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сдавлива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83664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перелом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иммобилиз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правила необходимо соблюдать при наложении ш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закрытые травмы требуют обязательной доставки пострадавшего к врач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зновидности травм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шиб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тя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ыв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вих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авли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ло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шиб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хол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растяжения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холод на поврежденное ме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разрывах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врежденное место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 и обеспечить по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обезболивающе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 для снятия от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вывих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ела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33:40Z</dcterms:created>
  <dc:creator>User</dc:creator>
  <dc:description/>
  <dc:language>en-US</dc:language>
  <cp:lastModifiedBy>LEGION</cp:lastModifiedBy>
  <dcterms:modified xsi:type="dcterms:W3CDTF">2015-05-12T08:21:04Z</dcterms:modified>
  <cp:revision>10</cp:revision>
  <dc:subject/>
  <dc:title>Урок ОБЖ в 6 классе тема урока «Укусы животных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