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9E70-E5CB-4829-9480-0A9F53A595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рок ОБЖ в 6 классе</a:t>
            </a:r>
            <a:br>
              <a:rPr sz="18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тема урок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Укусы животных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чалова О.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54D4-8B28-42BC-9673-2FAD5AF89E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сдавливан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влечь пострадавшего из зав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ожить поврежденное место хол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58E0F-FC43-448B-AB65-49B0390DD8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переломах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за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(обездвижить место перелома, наложив шин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крыты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новить кровот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бласти перелома 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сти иммобил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ADF90-AD4F-4E0E-BFF9-47CB2E064C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МП при укусах животных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крови ст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ботать йодом или зелен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адавшего необходимо доставить в лечебное заведение для вакцин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24DD1-A4B1-442F-8989-5CD111F8E5D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усы насекомых (пчелы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укуса пчел, ос, шерш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.   Ж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.   Резк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.   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.    Набухание тканей вокруг ра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FD3B3-2CF2-4034-8087-F07A87DEE6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мптомы укусов пч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окру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ловная б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шнота и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пивни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об и жа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еснения в груд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о стра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ное и частое дыха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еря с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ороги и отёк горт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BC37-5F4E-4FA3-AB10-EEA27FBFF7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насеко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куратно удалить жало, если оно е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ыть ранку нашатырным спиртом или раствором марганцов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1-2 таблетки димедрола или супраст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остояние ухудшается, срочно доставить в медицинское учре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4A0-A35B-41A5-9E78-07EE1212C3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укусах клещ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, где присосался клещ, капнуть каплю масла, керосина или вазел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2 минуты удалить клеща пинцетом легким покачиванием из стороны в стор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укуса обработать спиртом или йо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7626-1331-4F12-B9AA-AE3D16EFCD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МП при укусах зм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е эффективное – это противоядная сыворотка. Если ее нет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ильно промыть рану от укуса кипяченой водой или марганцов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стерильн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страдавшему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куса по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72435-A3EB-4E06-B366-033239451E9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ЗАПРЕЩАЕТСЯ!!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езать рану нож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жигать её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асывать яд 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83667-2821-4D6C-B4B5-81B9706485D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бота по учебнику</a:t>
            </a:r>
            <a:br>
              <a:rPr sz="20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р. 149 – 158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 ознакомиться с ядовитыми паукообраз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ядовитые змеи обитают а нашей мест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2DC2-53F3-492A-B978-4E82A7742F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учащихся оказывать самопомощь и взаимопомощь в различных ситуаци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ь значение оказания помощи в первые мину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640F-4718-4B2A-BA24-0E5739F1C5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ислите разновидности трав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ушиб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растяжениях и разрыв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вывих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сдавлива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BCA39-416C-4EA6-9E34-B884DD48DA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казать ПМП при перелома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иммобилиза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правила необходимо соблюдать при наложении шин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закрытые травмы требуют обязательной доставки пострадавшего к врач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9936-3CD6-4F98-B8ED-7BAAA2BBB25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новидности травм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шиб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я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авли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ло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21695-40F4-48A6-93E4-A9FDBBA613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ушиб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место ушиба 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6F05-CDE8-49A8-AFE9-2BD4DE9571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МП при растяжениях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холод на поврежден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36A33-7BFD-43EB-86AD-68D8DDB59F7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МП при разрыва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поврежденное место наложить хол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жить тугую повязку и обеспечить по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острадавшему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дать поврежденной конечности возвышенное положение для снятия от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F25-0E4C-4F2F-A4B3-AB06C7D5507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МП при вывихах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ть покой поврежденной коне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ть тугую повяз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обезболивающее сред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443B-1798-4642-ACFB-BD0F350BE8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B4F9-7BFD-4090-88BD-69A4842D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D73E-958E-4A95-8D7B-41CB8EFB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6C7-7949-498E-A2E2-73BD6A335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669-7DBA-4E30-84B9-64A13A66B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A714C-7E2B-41BB-9733-346F7930D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AA5D-1E41-489B-8427-962A1C87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2462-329C-4D38-A138-939842E4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082E6-A9E7-4F02-8062-8577ED6B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C273-3CA1-4795-AD61-E090900B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88F9D-D500-46B1-9BA3-FF42E1300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4537D-A343-4537-A86D-F8E672DB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B77-2ABD-42E1-84C1-AE977E0E7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A0D42-5577-4599-B6E0-4425A9C4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5A87-8AA9-46AC-9850-EEF3B9DA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FFBC3-099D-4124-AAAA-1859078A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E61B-8724-4B4A-A8BA-E0441F0E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1B5D-89B4-4EF8-95E8-634EFEB9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DA79-6241-4EDC-9DD6-772886AD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DD3-36E8-4349-B1DF-8951E48B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3C0-F7AD-4DCE-9C0F-FEF88722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062F-615E-4EF1-9EF4-4A0C9852A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DB9-262E-4625-9C29-DA2DD61F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5CD6-9662-4025-99D7-388C690E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2E2D-09A2-4C05-AA36-2CF1957B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546DC-4017-4390-8F41-DD61CBC57D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18293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E116-AB76-4C33-9BF5-D25ADDA779A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836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рок ОБЖ в 6 классе</a:t>
            </a:r>
            <a:br>
              <a:rPr sz="4800"/>
            </a:b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тема урока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«Укусы животных»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99640" y="3325680"/>
            <a:ext cx="7704360" cy="25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готовил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Мочалова О. 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692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сдавливании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640" y="292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Извлечь пострадавшего из завал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ложить поврежденное место холодом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перелом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за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(обездвижить место перелома, наложив шин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открытых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новить кровотеч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области перелома 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ести иммобилизац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животных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ать крови ст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бработать йодом или зеленко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страдавшего необходимо доставить в лечебное заведение для вакцинаци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5" descr="i?id=37610529&amp;tov=8"/>
          <p:cNvPicPr/>
          <p:nvPr/>
        </p:nvPicPr>
        <p:blipFill>
          <a:blip r:embed="rId2"/>
          <a:stretch/>
        </p:blipFill>
        <p:spPr>
          <a:xfrm>
            <a:off x="6443640" y="907920"/>
            <a:ext cx="2376360" cy="316872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Укусы насекомых (пчелы)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знаки укуса пчел, ос, шершне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а).   Ж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б).   Резкая б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).   Покраснение кож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г).    Набухание тканей вокруг ран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i?id=27562265&amp;tov=2"/>
          <p:cNvPicPr/>
          <p:nvPr/>
        </p:nvPicPr>
        <p:blipFill>
          <a:blip r:embed="rId2"/>
          <a:stretch/>
        </p:blipFill>
        <p:spPr>
          <a:xfrm>
            <a:off x="6012000" y="2708280"/>
            <a:ext cx="2016000" cy="259236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мптомы укусов пчел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окру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ловная бол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ошнота и рво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рапивниц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зноб и жа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еснения в груд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увство стра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умное и частое дыхани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теря созн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удороги и отёк гортан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i?id=4865942&amp;tov=4"/>
          <p:cNvPicPr/>
          <p:nvPr/>
        </p:nvPicPr>
        <p:blipFill>
          <a:blip r:embed="rId2"/>
          <a:stretch/>
        </p:blipFill>
        <p:spPr>
          <a:xfrm>
            <a:off x="5724360" y="765000"/>
            <a:ext cx="2160720" cy="266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i?id=35746249&amp;tov=4"/>
          <p:cNvPicPr/>
          <p:nvPr/>
        </p:nvPicPr>
        <p:blipFill>
          <a:blip r:embed="rId3"/>
          <a:stretch/>
        </p:blipFill>
        <p:spPr>
          <a:xfrm>
            <a:off x="6227640" y="3645000"/>
            <a:ext cx="2592360" cy="2809800"/>
          </a:xfrm>
          <a:prstGeom prst="rect">
            <a:avLst/>
          </a:prstGeom>
          <a:ln w="0">
            <a:noFill/>
          </a:ln>
        </p:spPr>
      </p:pic>
      <p:sp>
        <p:nvSpPr>
          <p:cNvPr id="2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насекомых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ккуратно удалить жало, если оно ест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мыть ранку нашатырным спиртом или раствором марганцов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 укуса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1-2 таблетки димедрола или супраст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состояние ухудшается, срочно доставить в медицинское учрежд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укусах клещами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место, где присосался клещ, капнуть каплю масла, керосина или вазели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рез 2 минуты удалить клеща пинцетом легким покачиванием из стороны в сторон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сто укуса обработать спиртом или йодо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5" descr="i?id=30493488&amp;tov=3"/>
          <p:cNvPicPr/>
          <p:nvPr/>
        </p:nvPicPr>
        <p:blipFill>
          <a:blip r:embed="rId2"/>
          <a:stretch/>
        </p:blipFill>
        <p:spPr>
          <a:xfrm>
            <a:off x="3132000" y="4941720"/>
            <a:ext cx="1887840" cy="15829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7" descr="i?id=20949837&amp;tov=8"/>
          <p:cNvPicPr/>
          <p:nvPr/>
        </p:nvPicPr>
        <p:blipFill>
          <a:blip r:embed="rId3"/>
          <a:stretch/>
        </p:blipFill>
        <p:spPr>
          <a:xfrm>
            <a:off x="6804000" y="5084640"/>
            <a:ext cx="1655640" cy="1440000"/>
          </a:xfrm>
          <a:prstGeom prst="rect">
            <a:avLst/>
          </a:prstGeom>
          <a:ln w="0">
            <a:noFill/>
          </a:ln>
        </p:spPr>
      </p:pic>
      <p:sp>
        <p:nvSpPr>
          <p:cNvPr id="2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кусах змей.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мое эффективное – это противоядная сыворотка. Если ее нет, т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ильно промыть рану от укуса кипяченой водой или марганцов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есть специальное устройство для отсасывания, приложите его к ране, оттянуть кровь вместе с я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ложить стерильную повяз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ить пострадавшему пок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место укуса положить хол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дать конечности возвышенное поло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Picture 5" descr="гадюка, обыкновенная гадюка, фото, фотография"/>
          <p:cNvPicPr/>
          <p:nvPr/>
        </p:nvPicPr>
        <p:blipFill>
          <a:blip r:embed="rId1"/>
          <a:stretch/>
        </p:blipFill>
        <p:spPr>
          <a:xfrm>
            <a:off x="6543720" y="4005360"/>
            <a:ext cx="2600280" cy="2087640"/>
          </a:xfrm>
          <a:prstGeom prst="rect">
            <a:avLst/>
          </a:prstGeom>
          <a:ln w="0">
            <a:noFill/>
          </a:ln>
        </p:spPr>
      </p:pic>
      <p:sp>
        <p:nvSpPr>
          <p:cNvPr id="2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Arial"/>
              </a:rPr>
              <a:t>ЗАПРЕЩАЕТСЯ!!!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азрезать рану ножом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Прижигать её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Отсасывать яд рт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855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бота по учебнику</a:t>
            </a:r>
            <a:br>
              <a:rPr sz="48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стр. 149 – 158: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амостоятельно ознакомиться с ядовитыми паукообразны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кие ядовитые змеи обитают а нашей мест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5" descr="розоволапый тарантул (Theraphosa apophysis), фото, фотография"/>
          <p:cNvPicPr/>
          <p:nvPr/>
        </p:nvPicPr>
        <p:blipFill>
          <a:blip r:embed="rId1"/>
          <a:stretch/>
        </p:blipFill>
        <p:spPr>
          <a:xfrm>
            <a:off x="6372360" y="2781360"/>
            <a:ext cx="27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питон, фото, фотография"/>
          <p:cNvPicPr/>
          <p:nvPr/>
        </p:nvPicPr>
        <p:blipFill>
          <a:blip r:embed="rId2"/>
          <a:stretch/>
        </p:blipFill>
        <p:spPr>
          <a:xfrm>
            <a:off x="0" y="2852640"/>
            <a:ext cx="4284720" cy="216072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и задачи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ить учащихся оказывать самопомощь и взаимопомощь в различных ситуация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ъяснить значение оказания помощи в первые мину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0" y="836640"/>
            <a:ext cx="9144000" cy="59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еречислите разновидности травм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ушиб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растяжениях и разрыв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вывих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сдавливании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 Box 4"/>
          <p:cNvSpPr/>
          <p:nvPr/>
        </p:nvSpPr>
        <p:spPr>
          <a:xfrm>
            <a:off x="0" y="836640"/>
            <a:ext cx="914400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 оказать ПМП при переломах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то такое иммобилизация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правила необходимо соблюдать при наложении шин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2500"/>
              </a:spcBef>
              <a:buClr>
                <a:srgbClr val="ffffff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акие закрытые травмы требуют обязательной доставки пострадавшего к врачу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Разновидности травм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Ушиб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стяжени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Разрыв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вих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авли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ерелом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ушиб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холод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место ушиба наложи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растяжения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холод на поврежденное мест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МП при разрывах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 поврежденное место наложить хол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ложить тугую повязку и обеспечить по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ать пострадавшему обезболивающее средств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дать поврежденной конечности возвышенное положение для снятия от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МП при вывихах: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беспечить покой поврежденной конечн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делать тугую повязку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Дать обезболивающее средст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09:33:40Z</dcterms:created>
  <dc:creator>User</dc:creator>
  <dc:description/>
  <dc:language>en-US</dc:language>
  <cp:lastModifiedBy>LEGION</cp:lastModifiedBy>
  <dcterms:modified xsi:type="dcterms:W3CDTF">2015-05-12T08:21:04Z</dcterms:modified>
  <cp:revision>10</cp:revision>
  <dc:subject/>
  <dc:title>Урок ОБЖ в 6 классе тема урока «Укусы животных»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