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8971-C56B-41CE-85D7-9B457B4122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A9F7-B851-4ED4-A857-BC690CCF06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5D90-A460-478C-A0FB-FE6E095A22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Успешных продаж!</a:t>
            </a:r>
            <a:r>
              <a:rPr b="0" lang="ru-RU" sz="1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255A-C412-47E3-978E-974528B110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D3C8-3ED6-4D28-AF28-AE1B88CEB8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7421-842B-433A-AA07-74400980E3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E5AF-5DCC-45B6-A755-A094CC1732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7C9-2F10-4126-B6C1-497E8F1338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542A-4659-4605-8803-E9D631BEFE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6F21-9AEE-4607-B825-8589015A2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0886-FB1B-498F-B172-048F0F92D7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4D68-5E39-4B6B-9404-9A7E28E8B6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52F-57AE-455D-B8BC-8DC2D4F8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0A3-39B1-4538-A8A8-CD497465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FCA-2A1F-4969-9386-D9BE3CCC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85D-1ECC-47AF-BA43-FAAE5AF1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F18E-E39F-4569-AD1A-EB2A9F9E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373A-3304-47EC-BEC5-9081D953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6B4B-E982-40EA-8E22-3B17FD72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CAF9-085E-419E-BD0E-0BE6DACD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7367-C2BA-4C61-A36A-114693A2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1966-97C2-43ED-B27F-280BEA15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55A8-227A-4D71-ADE6-222D8EC6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12F-6145-42CF-8151-DDF9808E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49B0-B6FB-420C-A24D-1B7E8971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791E-0FDB-449D-8966-E1D33B59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0108-4B17-4F5F-9E15-A3EE767C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F4FD-26DE-430F-AAC1-A677D1E4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7877-C867-4059-8C62-3CAC8855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4BC-BA87-4DDD-9ECA-CFC6E998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6C7-9E8F-4597-8024-F1F53EE7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808-D8EE-4C0B-B939-46769A9A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EDC-8DB1-4221-A2AD-40694DD5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869-82D9-48A2-B473-EC75AB4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FD3-ED15-4670-A974-42162B3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45B-F554-4332-8ABE-4D394D60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CA7E-A15E-4E3E-9009-2D059E8A08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0E3D-271D-4759-B311-07CD7F535C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520640"/>
            <a:ext cx="7313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leiba"/>
          <p:cNvPicPr/>
          <p:nvPr/>
        </p:nvPicPr>
        <p:blipFill>
          <a:blip r:embed="rId1"/>
          <a:stretch/>
        </p:blipFill>
        <p:spPr>
          <a:xfrm>
            <a:off x="7451640" y="184320"/>
            <a:ext cx="140652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Kurazh-Sbor-All"/>
          <p:cNvPicPr/>
          <p:nvPr/>
        </p:nvPicPr>
        <p:blipFill>
          <a:blip r:embed="rId2"/>
          <a:stretch/>
        </p:blipFill>
        <p:spPr>
          <a:xfrm>
            <a:off x="1187280" y="2505240"/>
            <a:ext cx="6766200" cy="3968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1187280" y="536400"/>
            <a:ext cx="635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6769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Lesnoy_sbor"/>
          <p:cNvPicPr/>
          <p:nvPr/>
        </p:nvPicPr>
        <p:blipFill>
          <a:blip r:embed="rId2"/>
          <a:stretch/>
        </p:blipFill>
        <p:spPr>
          <a:xfrm>
            <a:off x="7308720" y="263700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104292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Monotype Corsiva"/>
              </a:rPr>
              <a:t>Успешных продаж!</a:t>
            </a: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827000"/>
            <a:ext cx="79218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116000" y="47628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Kurazh-Sbor-All"/>
          <p:cNvPicPr/>
          <p:nvPr/>
        </p:nvPicPr>
        <p:blipFill>
          <a:blip r:embed="rId2"/>
          <a:stretch/>
        </p:blipFill>
        <p:spPr>
          <a:xfrm>
            <a:off x="3708360" y="2421000"/>
            <a:ext cx="5256360" cy="30830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696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svetochnyi_sbor"/>
          <p:cNvPicPr/>
          <p:nvPr/>
        </p:nvPicPr>
        <p:blipFill>
          <a:blip r:embed="rId2"/>
          <a:stretch/>
        </p:blipFill>
        <p:spPr>
          <a:xfrm>
            <a:off x="7313760" y="2637000"/>
            <a:ext cx="18302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4087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Tayozhnyi_sbor"/>
          <p:cNvPicPr/>
          <p:nvPr/>
        </p:nvPicPr>
        <p:blipFill>
          <a:blip r:embed="rId2"/>
          <a:stretch/>
        </p:blipFill>
        <p:spPr>
          <a:xfrm>
            <a:off x="7232760" y="2637000"/>
            <a:ext cx="191124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1827000"/>
            <a:ext cx="66247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Lugovoy_sbor"/>
          <p:cNvPicPr/>
          <p:nvPr/>
        </p:nvPicPr>
        <p:blipFill>
          <a:blip r:embed="rId2"/>
          <a:stretch/>
        </p:blipFill>
        <p:spPr>
          <a:xfrm>
            <a:off x="7164360" y="2637000"/>
            <a:ext cx="18954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9:45:51Z</dcterms:created>
  <dc:creator>Cherlin</dc:creator>
  <dc:description/>
  <dc:language>en-US</dc:language>
  <cp:lastModifiedBy>LEGION</cp:lastModifiedBy>
  <dcterms:modified xsi:type="dcterms:W3CDTF">2015-05-12T08:21:28Z</dcterms:modified>
  <cp:revision>126</cp:revision>
  <dc:subject/>
  <dc:title>Практические рекомендации</dc:title>
</cp:coreProperties>
</file>