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4418-55FD-4389-BF20-797458C6D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0176-CEBC-48FF-BAC4-E14E90D609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6F9B-7EAF-44AC-9FB0-720F716ED7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Успешных продаж!</a:t>
            </a:r>
            <a:r>
              <a:rPr b="0" lang="ru-RU" sz="1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4701-CFB9-4566-9447-C4111B39F8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0BC6-936B-4CF6-938C-4884B0429D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8C4F-4CD6-4248-89E6-B7D1985710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EC2A-ABB1-49B9-8DAC-88764BD73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C801-4089-4F49-A3F3-6B3D4BFBD6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23C7-6076-496D-B32A-5D7D2234D7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86AC-6B19-46F0-997C-A1AE3D15E0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66A6-1E58-4727-B272-43DC3A2283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D62C-E8B3-4E59-BACA-10AE71128A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401-CC5E-49CD-A4CD-34FB95FA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60F-6BDF-4180-920B-43F646E7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48D-E674-4D54-9577-61F34B52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40C-D9C8-4565-B7E5-427AABBC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2BA7-DF5A-4EBF-8229-6052EDC1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FE8F-A0FC-48FE-AE74-0666431B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7DD0-337E-4A80-9101-94D02B9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B105-3FFE-4EFB-B9C2-7A7E8DFB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FC25-01A7-4ACC-9DC3-374F6B40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9FA4-ED3D-4330-9969-4B53489F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2DA9-9777-4044-B877-E08EECB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8A1-4A5B-416D-8BEC-0688EBA5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0BDE-93D4-49E0-9878-9214DE1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0C0F-7712-48D3-B7CB-CB9D2820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6996-7A93-48A8-A4D9-6C217405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B626-F155-4037-B121-54C35079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402B-65C4-466B-99F7-5C59ABCB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F74-3D6D-47E8-A3CE-522C95E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469-A4B4-4872-BF1C-56BCE245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E18-BE82-414D-8F57-A04431D7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64D-5325-418B-B05D-308DA90A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7F8-B832-43D8-B84D-BE815143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BCC-D81F-4E3F-B4E9-601E1949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B6A-C357-4D96-9ECF-B7C9600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BD83-3999-4278-B80E-876846C848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49D1-5BA8-47B0-AB1F-FB0D33499D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520640"/>
            <a:ext cx="7313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leiba"/>
          <p:cNvPicPr/>
          <p:nvPr/>
        </p:nvPicPr>
        <p:blipFill>
          <a:blip r:embed="rId1"/>
          <a:stretch/>
        </p:blipFill>
        <p:spPr>
          <a:xfrm>
            <a:off x="7451640" y="184320"/>
            <a:ext cx="140652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Kurazh-Sbor-All"/>
          <p:cNvPicPr/>
          <p:nvPr/>
        </p:nvPicPr>
        <p:blipFill>
          <a:blip r:embed="rId2"/>
          <a:stretch/>
        </p:blipFill>
        <p:spPr>
          <a:xfrm>
            <a:off x="1187280" y="2505240"/>
            <a:ext cx="6766200" cy="3968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1187280" y="536400"/>
            <a:ext cx="635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6769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Lesnoy_sbor"/>
          <p:cNvPicPr/>
          <p:nvPr/>
        </p:nvPicPr>
        <p:blipFill>
          <a:blip r:embed="rId2"/>
          <a:stretch/>
        </p:blipFill>
        <p:spPr>
          <a:xfrm>
            <a:off x="7308720" y="263700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104292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Monotype Corsiva"/>
              </a:rPr>
              <a:t>Успешных продаж!</a:t>
            </a: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827000"/>
            <a:ext cx="79218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116000" y="47628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Kurazh-Sbor-All"/>
          <p:cNvPicPr/>
          <p:nvPr/>
        </p:nvPicPr>
        <p:blipFill>
          <a:blip r:embed="rId2"/>
          <a:stretch/>
        </p:blipFill>
        <p:spPr>
          <a:xfrm>
            <a:off x="3708360" y="2421000"/>
            <a:ext cx="5256360" cy="30830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696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svetochnyi_sbor"/>
          <p:cNvPicPr/>
          <p:nvPr/>
        </p:nvPicPr>
        <p:blipFill>
          <a:blip r:embed="rId2"/>
          <a:stretch/>
        </p:blipFill>
        <p:spPr>
          <a:xfrm>
            <a:off x="7313760" y="2637000"/>
            <a:ext cx="18302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4087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Tayozhnyi_sbor"/>
          <p:cNvPicPr/>
          <p:nvPr/>
        </p:nvPicPr>
        <p:blipFill>
          <a:blip r:embed="rId2"/>
          <a:stretch/>
        </p:blipFill>
        <p:spPr>
          <a:xfrm>
            <a:off x="7232760" y="2637000"/>
            <a:ext cx="191124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1827000"/>
            <a:ext cx="66247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Lugovoy_sbor"/>
          <p:cNvPicPr/>
          <p:nvPr/>
        </p:nvPicPr>
        <p:blipFill>
          <a:blip r:embed="rId2"/>
          <a:stretch/>
        </p:blipFill>
        <p:spPr>
          <a:xfrm>
            <a:off x="7164360" y="2637000"/>
            <a:ext cx="18954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9:45:51Z</dcterms:created>
  <dc:creator>Cherlin</dc:creator>
  <dc:description/>
  <dc:language>en-US</dc:language>
  <cp:lastModifiedBy>LEGION</cp:lastModifiedBy>
  <dcterms:modified xsi:type="dcterms:W3CDTF">2015-05-12T08:21:28Z</dcterms:modified>
  <cp:revision>126</cp:revision>
  <dc:subject/>
  <dc:title>Практические рекомендации</dc:title>
</cp:coreProperties>
</file>