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04C7-71D9-4237-B7EE-67BA6C83DF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«Компания Черлин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рада представить вашему вниманию обновленную серию солей «Поляница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95A1-9694-47CB-869D-CF110A6D41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есно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нимает устал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аждое лекарственное растение обладает своими особенностями действия на органы и функции. В народной медицине не вызывает сомнения факт, что эффективность действия одного растения значительно ниже, чем группы, соединенной по направленности их 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Особенно результативно применение сбора лечебных трав при лечении хронических заболеваний. В состав соли «Поляница» Лесной сбор входят: крушина ломкая (ольховидная), шиповник, малина, бузина черная, чистотел, ромашка, боярышник, валериана лекарственная, колокольчик  персиколис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ль «Поляница» Лесной сбор поможет избавиться от бессонницы и снять стр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4D84-A048-4769-B81A-19FFB4F0E5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Успешных продаж!</a:t>
            </a:r>
            <a:r>
              <a:rPr b="0" lang="ru-RU" sz="12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4BFA-8516-4709-BB37-35509DCB82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никальность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нашей соли «Поляница» заключается в ее многокомпонентном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составе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и сбалансированном сочетании морско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ли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с природным комплек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ечебных трав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, которые обладают сильными тонизирующими и регенерирующими свойствами; оказывают благотворное влияние на межклеточный обмен веществ, восстанавливают все функции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Соль насыщена богатым комплексом российских трав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Без искусственных красителей и консерванто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Выпущена в удобной и экономичной для использования упаковк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1FD9-5513-4F20-9EEC-CC8029128E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овая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паковка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стала более удобной, привлекательной и информативной.  У покупателя появилась возможность получить полную информацию о продукте (что за продукт, для чего предназначен, как различается, что содержит, дополнительная информация по содержащимся экстрактам трав и т.д.), что существенно повышает мотивацию к покуп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овы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изайн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- отвечает современным тенденциям развития рынка, отражает русские народные трад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овое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лицо»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ТМ «Поляница» понятный и близкий по духу «слоган»,расположенный на лицевой стороне пакета в виде пожелания            «С легким паром!» ассоциируется   с добрым, качественным, традиционным, народным и не дешевым натуральным продуктом. Благодаря  чему несомненно привлекает дополнительное внимание к продукту, а так же с успехом выделяет себя на полках в магазинах, в сравнении с аналогичными проду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AE65-DBE5-459D-AA41-8A7D50738A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ль «Поляница» с богатым комплексом российских трав по доступно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цене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и хорошие отзывы делают продукцию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годной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для продавцов и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пулярной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среди конечных покуп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оброе имя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– Поляница отлично зарекомендовало себя за все время существования, что обеспечивает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годные объемы продаж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для продавцов и положительные отзывы покупателей  и их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оверие  к марке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Мы учитываем пожелания покупателей - в соответствии с потребностями   и пожеланиями наших покупателей, мы отобрали самые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пулярные виды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, качественно улучшили рецептурны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став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и снабдили каждую упаковку подробно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аннотацией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Доброе имя - гарантия качества,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ачество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продукции всегда на высоте и неизменно со време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6B34-B669-4DA1-9E50-19E1F1FCDC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Экстракты российских трав, микро и макро-элементы, содержащиеся в соли «Поляница», обладают полезными свойствами, благодаря чему оказывается  благотворное влияние на весь организ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родная соль для ванн с экстрактом российских трав «Поляница» обладает целым рядом серьезных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еимуществ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казывает положительное воздействие на кож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легчает мышечные и суставные бо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омогает снять стресс и устал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ормализует и ускоряет обмен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ффективно удаляет загрязнения кожи, излишки жира, сужает по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туральный продукт позволяет экономить покупателям, приобретать соль в экономичной упаковке по выгодной це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ля продавцов наличие данной соли в ассортименте гарантирует интерес покупателей, большой оборот и хороший заработ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F62E-478D-405A-ADAC-57A9E588A9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и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Цветочны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Таежны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Лесно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Лугово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асс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900 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 состав соли «Поляница» входят только натуральные экстракты российских трав, без добавления искусственных компонентов: красителей и консерва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Times New Roman"/>
              </a:rPr>
              <a:t>Сочетание травяных сборов и воздействие соли на кожу дает великолепный результат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190E-C890-4989-BA65-5B6839C094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Цветочны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Бодрит и тонизир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омпозиция традиционных российских трав, включающая в себя сбор календулы, фиалки, мелиссы лекарственной, ромашки аптечной, мать-и-мачехи, шиповника делает вашу кожу гладкой, увлажняет и наполняет её сияющим здоровьем каждый день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 состав входит сбор трав, называющихся «материнскими травами» (это тщательно отобранные из всего многообразия лечебные растения, которые используются людьми с давних времен в разных странах) . Обладает свежим цветочно-травяным ароматом, который оказывает благотворное действие на Ваше душевное состоя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D680-05BB-4611-987A-721094CE5E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Таежны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ечит и успока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 состав входят: Экстракт можжевельника, сосновая хвоя, кедровая живица, лиственница, лаванда. Сбор этих сибирских трав обладает укрепляющими и восстанавливающими свойств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ль для ванн на основе сбора таежных трав оказывает целебное действие на весь организм, успокаивает нервную систему, залечивает ранки и пор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Регулярное использование соли «Поляница» Таежный сбор при приеме  ванны со временем меняет структуру кожи, восстанавливает естественный механизм регенерационных процессов. Делает кожу гладкой и шелковис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A035-5D0C-4C4E-ADF5-13CFDF93AC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угово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Расслабляет и согре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омплекс натуральных трав – зверобоя, крапивы двудомной, полыни, ромашки, тысячелистника, циркония, мяты перечной, подорожника большого, мелиссы - является идеальным средством для ухода за нормальной и комбинированной кожей. Потрясающий эффект увлажненной и обогащенной витаминами и минералами кожи станет для Вас настоящим открыти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Целебные свойства экстрактов луговых трав уменьшают боли в спине и суставах, способствуют циркуляции крови, снимают стрессы и усталость. Растительные сборы оказывают общеукрепляющее действие на весь организм, питают, тонизируют, освежают и увлажняют кожу, их пары восстанавливают душевное равновесие и спокой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4AED-B5D4-4C87-B701-A76FF19D3D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6136-8F30-499F-9752-624B9F04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6F0-5A94-4378-BDA3-2FA6C526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807-2DE5-4B3B-8078-A8508F9D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9BC3-F3FE-4B38-9DD9-361AF886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42A1-A7EB-4D75-8932-0E88E54F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2025-589C-4237-992A-5639935D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2C78-9C3B-41F3-83DE-B1CFCAEC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B490-7598-4DE9-B664-FB366BB7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2105-7933-4836-9D1B-4FFDF819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0AF8-4372-4AD7-B2E8-3973B339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66B2-608A-4539-977C-D38D8032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0A9-34AE-4133-9471-08D161AF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BCB2-3529-449E-94D0-B036F4AD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AB49-B374-4C1D-8DD6-3EA665D2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DC8B-E678-4ADE-A147-11BA6636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3683-9322-4CA1-8D8A-BB9EF336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89DD-C101-4728-AA71-2630B667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5304-AFFA-428C-AE9A-6DDC0835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3A58-B63A-48ED-8610-F015CD8F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884-2F81-4F9A-AA85-3F820E4B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EF81-BC84-4A12-9D4C-F48C6F22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921D-83A2-4D2A-B067-0CFF175A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D7C3-3356-4D43-8499-C86A83C3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81C8-9071-4758-A1ED-6723D330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0557-7F0F-44B2-8B20-8A57547D94C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3442-3C06-4A2F-B010-771362B8D11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69800" y="1520640"/>
            <a:ext cx="73134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Компания Черлин»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да представить вашему вниманию обновленную серию солей «Поляница»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leiba"/>
          <p:cNvPicPr/>
          <p:nvPr/>
        </p:nvPicPr>
        <p:blipFill>
          <a:blip r:embed="rId1"/>
          <a:stretch/>
        </p:blipFill>
        <p:spPr>
          <a:xfrm>
            <a:off x="7451640" y="184320"/>
            <a:ext cx="1406520" cy="1139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Kurazh-Sbor-All"/>
          <p:cNvPicPr/>
          <p:nvPr/>
        </p:nvPicPr>
        <p:blipFill>
          <a:blip r:embed="rId2"/>
          <a:stretch/>
        </p:blipFill>
        <p:spPr>
          <a:xfrm>
            <a:off x="1187280" y="2505240"/>
            <a:ext cx="6766200" cy="3968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"/>
          <p:cNvSpPr/>
          <p:nvPr/>
        </p:nvSpPr>
        <p:spPr>
          <a:xfrm>
            <a:off x="1187280" y="536400"/>
            <a:ext cx="6353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827000"/>
            <a:ext cx="676908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Лесно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нимает устал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аждое лекарственное растение обладает своими особенностями действия на органы и функции. В народной медицине не вызывает сомнения факт, что эффективность действия одного растения значительно ниже, чем группы, соединенной по направленности их действ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собенно результативно применение сбора лечебных трав при лечении хронических заболеваний. В состав соли «Поляница» Лесной сбор входят: крушина ломкая (ольховидная), шиповник, малина, бузина черная, чистотел, ромашка, боярышник, валериана лекарственная, колокольчик  персиколистны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оль «Поляница» Лесной сбор поможет избавиться от бессонницы и снять стрес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Lesnoy_sbor"/>
          <p:cNvPicPr/>
          <p:nvPr/>
        </p:nvPicPr>
        <p:blipFill>
          <a:blip r:embed="rId2"/>
          <a:stretch/>
        </p:blipFill>
        <p:spPr>
          <a:xfrm>
            <a:off x="7308720" y="2637000"/>
            <a:ext cx="1835280" cy="2592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0"/>
          <p:cNvSpPr/>
          <p:nvPr/>
        </p:nvSpPr>
        <p:spPr>
          <a:xfrm>
            <a:off x="104292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Monotype Corsiva"/>
              </a:rPr>
              <a:t>Успешных продаж!</a:t>
            </a:r>
            <a:r>
              <a:rPr b="0" lang="ru-RU" sz="44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118728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никальность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нашей соли «Поляница» заключается в ее многокомпонентном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составе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и сбалансированном сочетании морской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ли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с природным комплексо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ечебных тра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, которые обладают сильными тонизирующими и регенерирующими свойствами; оказывают благотворное влияние на межклеточный обмен веществ, восстанавливают все функции организм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ль насыщена богатым комплексом российских тра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Без искусственных красителей и консерван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пущена в удобной и экономичной для использования упаков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118728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560" y="1827000"/>
            <a:ext cx="792180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овая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упаковка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стала более удобной, привлекательной и информативной.  У покупателя появилась возможность получить полную информацию о продукте (что за продукт, для чего предназначен, как различается, что содержит, дополнительная информация по содержащимся экстрактам трав и т.д.), что существенно повышает мотивацию к покуп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овы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изайн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- отвечает современным тенденциям развития рынка, отражает русские народные тради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овое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«лицо»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ТМ «Поляница» понятный и близкий по духу «слоган»,расположенный на лицевой стороне пакета в виде пожелания            «С легким паром!» ассоциируется   с добрым, качественным, традиционным, народным и не дешевым натуральным продуктом. Благодаря  чему несомненно привлекает дополнительное внимание к продукту, а так же с успехом выделяет себя на полках в магазинах, в сравнении с аналогичными продукт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280" y="1700280"/>
            <a:ext cx="820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оль «Поляница» с богатым комплексом российских трав по доступно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цене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и хорошие отзывы делают продукцию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годной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ля продавцов и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пулярной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среди конечных покупател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оброе имя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– Поляница отлично зарекомендовало себя за все время существования, что обеспечивает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годные объемы продаж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для продавцов и положительные отзывы покупателей  и их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оверие  к марке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ы учитываем пожелания покупателей - в соответствии с потребностями   и пожеланиями наших покупателей, мы отобрали самые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пулярные виды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, качественно улучшили рецептурны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став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и снабдили каждую упаковку подробно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аннотацией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оброе имя - гарантия качества,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качество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продукции всегда на высоте и неизменно со времен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116000" y="47628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640" y="1700280"/>
            <a:ext cx="813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Экстракты российских трав, микро и макро-элементы, содержащиеся в соли «Поляница», обладают полезными свойствами, благодаря чему оказывается  благотворное влияние на весь организ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иродная соль для ванн с экстрактом российских трав «Поляница» обладает целым рядом серьезных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еимуществ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казывает положительное воздействие на кож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легчает мышечные и суставные бо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могает снять стресс и устал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ормализует и ускоряет обмен вещест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ффективно удаляет загрязнения кожи, излишки жира, сужает пор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туральный продукт позволяет экономить покупателям, приобретать соль в экономичной упаковке по выгодной цен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ля продавцов наличие данной соли в ассортименте гарантирует интерес покупателей, большой оборот и хороший заработо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280" y="1827000"/>
            <a:ext cx="820908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Виды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Цветочны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Таежны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Лесно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Лугово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Масса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900 г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В состав соли «Поляница» входят только натуральные экстракты российских трав, без добавления искусственных компонентов: красителей и консервант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66"/>
                </a:solidFill>
                <a:latin typeface="Times New Roman"/>
              </a:rPr>
              <a:t>Сочетание травяных сборов и воздействие соли на кожу дает великолепный результат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Kurazh-Sbor-All"/>
          <p:cNvPicPr/>
          <p:nvPr/>
        </p:nvPicPr>
        <p:blipFill>
          <a:blip r:embed="rId2"/>
          <a:stretch/>
        </p:blipFill>
        <p:spPr>
          <a:xfrm>
            <a:off x="3708360" y="2421000"/>
            <a:ext cx="5256360" cy="30830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640" y="1827360"/>
            <a:ext cx="66960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Цветочны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Бодрит и тонизиру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омпозиция традиционных российских трав, включающая в себя сбор календулы, фиалки, мелиссы лекарственной, ромашки аптечной, мать-и-мачехи, шиповника делает вашу кожу гладкой, увлажняет и наполняет её сияющим здоровьем каждый день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состав входит сбор трав, называющихся «материнскими травами» (это тщательно отобранные из всего многообразия лечебные растения, которые используются людьми с давних времен в разных странах) . Обладает свежим цветочно-травяным ароматом, который оказывает благотворное действие на Ваше душевное состоян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Tsvetochnyi_sbor"/>
          <p:cNvPicPr/>
          <p:nvPr/>
        </p:nvPicPr>
        <p:blipFill>
          <a:blip r:embed="rId2"/>
          <a:stretch/>
        </p:blipFill>
        <p:spPr>
          <a:xfrm>
            <a:off x="7313760" y="2637000"/>
            <a:ext cx="1830240" cy="2592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640" y="1827360"/>
            <a:ext cx="640872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Таежны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Лечит и успокаив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состав входят: Экстракт можжевельника, сосновая хвоя, кедровая живица, лиственница, лаванда. Сбор этих сибирских трав обладает укрепляющими и восстанавливающими свойств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оль для ванн на основе сбора таежных трав оказывает целебное действие на весь организм, успокаивает нервную систему, залечивает ранки и порез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егулярное использование соли «Поляница» Таежный сбор при приеме  ванны со временем меняет структуру кожи, восстанавливает естественный механизм регенерационных процессов. Делает кожу гладкой и шелковист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Tayozhnyi_sbor"/>
          <p:cNvPicPr/>
          <p:nvPr/>
        </p:nvPicPr>
        <p:blipFill>
          <a:blip r:embed="rId2"/>
          <a:stretch/>
        </p:blipFill>
        <p:spPr>
          <a:xfrm>
            <a:off x="7232760" y="2637000"/>
            <a:ext cx="1911240" cy="2592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55640" y="1827000"/>
            <a:ext cx="662472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Лугово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асслабляет и согрев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омплекс натуральных трав – зверобоя, крапивы двудомной, полыни, ромашки, тысячелистника, циркония, мяты перечной, подорожника большого, мелиссы - является идеальным средством для ухода за нормальной и комбинированной кожей. Потрясающий эффект увлажненной и обогащенной витаминами и минералами кожи станет для Вас настоящим открытием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Целебные свойства экстрактов луговых трав уменьшают боли в спине и суставах, способствуют циркуляции крови, снимают стрессы и усталость. Растительные сборы оказывают общеукрепляющее действие на весь организм, питают, тонизируют, освежают и увлажняют кожу, их пары восстанавливают душевное равновесие и спокой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Lugovoy_sbor"/>
          <p:cNvPicPr/>
          <p:nvPr/>
        </p:nvPicPr>
        <p:blipFill>
          <a:blip r:embed="rId2"/>
          <a:stretch/>
        </p:blipFill>
        <p:spPr>
          <a:xfrm>
            <a:off x="7164360" y="2637000"/>
            <a:ext cx="1895400" cy="25923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9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9:45:51Z</dcterms:created>
  <dc:creator>Cherlin</dc:creator>
  <dc:description/>
  <dc:language>en-US</dc:language>
  <cp:lastModifiedBy>LEGION</cp:lastModifiedBy>
  <dcterms:modified xsi:type="dcterms:W3CDTF">2015-05-12T08:21:28Z</dcterms:modified>
  <cp:revision>126</cp:revision>
  <dc:subject/>
  <dc:title>Практические рекомендации</dc:title>
</cp:coreProperties>
</file>