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3DE6-C694-463C-A3AA-EF24BF8295D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Химия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 Новочебоксарск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Лицей№18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ова Т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C106-97B8-4735-BDFB-D06FC6CECD0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Классификация пищевых добавок согласно Европейской системе (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17E1-EC00-4EAE-9BBB-1D890313E0D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Расшифровка кодов пищевых добавок и нежелательные последствия их воздействия 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CA13-5A4C-479A-8D8D-939E5B5669A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Практический 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ую работу можно рассматривать как один из методических приемов реализации прикладной направленности обучения химии и социализации личности школьников. Способствует формированию мотивации на здоровый образ жизни, вносит свой вклад в развитие валеолог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развивает общеучебные умения и навыки учащихся: извлекать информацию прикладного характера из различных источников, перерабатывать ее, выделять главное и применять знания в повседнев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922C-AB66-418F-B343-247CE4DCA5A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Цели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бедить учащихся в необходимости вести здоровый образ жизни, формировать умение заботиться о своём пит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1250-469A-46A2-B794-630C7CAFE81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расширить знания учащихся по проблеме пит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изучить классификацию пищевых добавок, раскрыть их значение и обсудить возможные нежелательные последствия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ривлечь внимание к составу продуктов, которые мы покупаем в магазине, необходимости контролировать потребление нежелательных и вредных пищевых добавок с целью сохранения своего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чащиеся должны иметь представления о пищевых добавках, ароматизаторах, консервантах, стабилизаторах, синтетической пище, нежелательных последствиях при­менения некоторых пищевых добав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2D3D-0AF2-4156-9859-23993BFD641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Фер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рмент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т участие в переваривании и усвоение продуктов. Без ферментов нет жизни. В основе многих заболеваний человека лежат нарушения ферментативных процессов. Их значение для человеческого организма не ограничивается рамками нормальной физиологии. В основе многих заболеваний человека лежат нарушения ферментативных проце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2527-49AD-4BF1-9ADA-1B153E61A17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Витам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изкомолекулярные органические соединения различной химической природы, абсолютно необходимые для нормальной жизнедеятельности организмов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8181-9E7E-40E7-AFF9-859DFFA2B6B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80"/>
                </a:solidFill>
                <a:latin typeface="Calibri"/>
              </a:rPr>
              <a:t>Классификация витами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82B9-3376-4003-841F-806D00AF5FD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Содержание витаминов в продуктах и их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CB79-DCD7-4771-8170-BFE06B49BC5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Витаминная недостато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таминная недостато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группа патологических состояний, обусловленных дефицитом в организме одного  или     нескольких витаминов. Выделяют : авитаминоз , гиповитамин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итамино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понимают практически полное отсутствие какого-либо витамина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иповитамино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читают сниженное по сравнению с потребностями содержание витаминов в организме, которое клинически проявляется  только отдельными и не резко выраженными симптомами из числа специфичных для определенного авитаминоза, а также мало  специфических признаков болезненного состояния, общих для различных видов гиповитаминозов (например, снижение аппетита и работоспособности, быстрая утомляемост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7E46-AAC6-46D3-A7E4-6D98ABF0837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Пища, которую мы ед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блема пит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ширная и очень важная тема как для человечества в целом, так и для каждого отдельного человека. Сегодня мы поговорим о пищевых добавках и некоторых продуктах питания и дадим вам несколько полезных сов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. Консерв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нсерва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ищевые добавки, которые увеличивают срок хранения продуктов, защищая их от пор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888A-952D-41D5-BF3D-33A1738A4FC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9CE-6921-49DB-B784-CD8D17D5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59E-B6C2-478F-8C07-7E18602F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83E-95CD-457A-B05F-3C0C6602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DD6-D919-4085-BB1B-FBDBF0BE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8F1A-AC26-4072-ADF0-994E60C3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4CB8-0038-4856-93D8-991DDE04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3ACA-DE21-417C-A5C7-E7F80D51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1580-24A5-4C1E-A061-990BF99E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3254-0634-47DD-BD8D-D9918EA6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0568-2981-46C1-8D5E-E35A3544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F98F-A9FA-4E1D-A09A-AEFC72AC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A42E-D50A-46C5-9230-31C4D41D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A78B-1B79-4AE0-9009-ECE959FC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F9EB-576A-435E-968E-46D62959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728D-585E-4E6B-88BE-70EAFB4C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9621-978E-42F7-B126-2D6B7F11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3872-593A-4678-BE40-C310BA0D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43E-26DE-4013-986D-077253E2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B8E-DCE2-426F-BCD6-ABE66571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4AB-08A4-41BF-8D8A-FCE71376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17D-7E25-46BF-843B-F02DCA0E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7F0C-E5F6-48F1-A865-C8010298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B7B-5292-4189-A7E9-2A91FB19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6CE-6FF1-4BD0-9C32-1639F4D6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C374-E22A-4654-BACB-F37A67C196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1DBA-D497-4758-A8F3-0E0296B36AB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99"/>
                </a:solidFill>
                <a:latin typeface="Comic Sans MS"/>
              </a:rPr>
              <a:t>Химия жизни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Р Новочебоксарск 20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У «Лицей№18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глова Т.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Comic Sans MS"/>
              </a:rPr>
              <a:t>Классификация пищевых добавок согласно Европейской системе (Е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1554120"/>
                <a:gridCol w="667548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ищевой добавки (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-1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тели (усиливают или восстанавливают цвет продукт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-2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ерванты (повышают срок хранения продуктов, защищают их от микробов, грибков, бактериофагов. Химически стерилизующие добавки при созревании вин, дезинфектанты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-3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ислители (защищают от окисле­ния, например от прогоркания жиров и изменения цвет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-4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изаторы (сохраняют заданную консистенцию), загустители (повышают вязкость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-5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ульгаторы (создают однородную смесь несмешиваемых продуктов, например воды и масл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-6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тели вкуса и арома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-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огасители (предупреждают или снижают образование пены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Расшифровка кодов пищевых добавок и нежелательные последствия их воздействия на организм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557360"/>
          <a:ext cx="8229600" cy="5237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ищевой добавки (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логическое действ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, 105, 111, 121 (краситель цитрусовый красный 2), 123 (красный амарант), 125, 126, 130, 152, 240 (консервант формальдегид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рещённые доба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110,120,124,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доба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,105,121,123,125, 126, 130, 131,142, 152, 210, 211 (бензоат натрия), 213-217,240,330 (лимонная кислота), 4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злокачествен­ные опухо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-226, 320-322, 338-341,407,450, 461-4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заболевания желудочно-кишечно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,231,232,239, 311-3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-173,320-3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болезни печени и поч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-2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дные для кож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-341,407,450, 461-4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расстройство желуд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, 3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ают содержание холестер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Практический вывод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ую работу можно рассматривать как один из методических приемов реализации прикладной направленности обучения химии и социализации личности школьников. Способствует формированию мотивации на здоровый образ жизни, вносит свой вклад в развитие валеологической культур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а развивает общеучебные умения и навыки учащихся: извлекать информацию прикладного характера из различных источников, перерабатывать ее, выделять главное и применять знания в повседневной жизн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Цели работы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бедить учащихся в необходимости вести здоровый образ жизни, формировать умение заботиться о своём питан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Задачи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ширить знания учащихся по проблеме питани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ить классификацию пищевых добавок, раскрыть их значение и обсудить возможные нежелательные последствия их примен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влечь внимание к составу продуктов, которые мы покупаем в магазине, необходимости контролировать потребление нежелательных и вредных пищевых добавок с целью сохранения своего здоровь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ащиеся должны иметь представления о пищевых добавках, ароматизаторах, консервантах, стабилизаторах, синтетической пище, нежелательных последствиях при­менения некоторых пищевых добаво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Ферменты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ерменты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имают участие в переваривании и усвоение продуктов. Без ферментов нет жизни. В основе многих заболеваний человека лежат нарушения ферментативных процессов. Их значение для человеческого организма не ограничивается рамками нормальной физиологии. В основе многих заболеваний человека лежат нарушения ферментативных процес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Витамины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итами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низкомолекулярные органические соединения различной химической природы, абсолютно необходимые для нормальной жизнедеятельности организмов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vitamin"/>
          <p:cNvPicPr/>
          <p:nvPr/>
        </p:nvPicPr>
        <p:blipFill>
          <a:blip r:embed="rId2"/>
          <a:stretch/>
        </p:blipFill>
        <p:spPr>
          <a:xfrm>
            <a:off x="4643280" y="1341360"/>
            <a:ext cx="3959280" cy="2608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61027m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643280" y="393372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99"/>
                </a:solidFill>
                <a:latin typeface="Times New Roman"/>
              </a:rPr>
              <a:t>Классификация витаминов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Organization Chart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47" name="Organization Chart 15"/>
          <p:cNvGrpSpPr/>
          <p:nvPr/>
        </p:nvGrpSpPr>
        <p:grpSpPr>
          <a:xfrm>
            <a:off x="468360" y="1557360"/>
            <a:ext cx="8566920" cy="4529160"/>
            <a:chOff x="468360" y="1557360"/>
            <a:chExt cx="8566920" cy="4529160"/>
          </a:xfrm>
        </p:grpSpPr>
        <p:cxnSp>
          <p:nvCxnSpPr>
            <p:cNvPr id="148" name="_s1030"/>
            <p:cNvCxnSpPr>
              <a:stCxn id="149" idx="0"/>
              <a:endCxn id="150" idx="2"/>
            </p:cNvCxnSpPr>
            <p:nvPr/>
          </p:nvCxnSpPr>
          <p:spPr>
            <a:xfrm flipV="1" rot="16200000">
              <a:off x="5797800" y="2322000"/>
              <a:ext cx="906480" cy="2999160"/>
            </a:xfrm>
            <a:prstGeom prst="bentConnector3">
              <a:avLst>
                <a:gd name="adj1" fmla="val 156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1031"/>
            <p:cNvCxnSpPr>
              <a:stCxn id="152" idx="0"/>
              <a:endCxn id="150" idx="2"/>
            </p:cNvCxnSpPr>
            <p:nvPr/>
          </p:nvCxnSpPr>
          <p:spPr>
            <a:xfrm flipV="1">
              <a:off x="4751640" y="3368520"/>
              <a:ext cx="3960" cy="906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1032"/>
            <p:cNvCxnSpPr>
              <a:stCxn id="154" idx="0"/>
              <a:endCxn id="150" idx="2"/>
            </p:cNvCxnSpPr>
            <p:nvPr/>
          </p:nvCxnSpPr>
          <p:spPr>
            <a:xfrm flipH="1" flipV="1" rot="5400000">
              <a:off x="2799000" y="2322000"/>
              <a:ext cx="906480" cy="2999160"/>
            </a:xfrm>
            <a:prstGeom prst="bentConnector3">
              <a:avLst>
                <a:gd name="adj1" fmla="val 156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0" name="_s1033"/>
            <p:cNvSpPr/>
            <p:nvPr/>
          </p:nvSpPr>
          <p:spPr>
            <a:xfrm>
              <a:off x="3466800" y="155736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3366"/>
                  </a:solidFill>
                  <a:latin typeface="Comic Sans MS"/>
                </a:rPr>
                <a:t>Витамины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_s1034"/>
            <p:cNvSpPr/>
            <p:nvPr/>
          </p:nvSpPr>
          <p:spPr>
            <a:xfrm>
              <a:off x="46836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Comic Sans MS"/>
                </a:rPr>
                <a:t>Водорастворимы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(витамин С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витамины группы В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витамин РР)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_s1035"/>
            <p:cNvSpPr/>
            <p:nvPr/>
          </p:nvSpPr>
          <p:spPr>
            <a:xfrm>
              <a:off x="346680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66"/>
                  </a:solidFill>
                  <a:latin typeface="Comic Sans MS"/>
                </a:rPr>
                <a:t>Жирорастворимы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(витамин А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Е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_s1036"/>
            <p:cNvSpPr/>
            <p:nvPr/>
          </p:nvSpPr>
          <p:spPr>
            <a:xfrm>
              <a:off x="646524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Витаминоподобны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 </a:t>
              </a: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веществ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(витамин Р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липоевая кислота,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omic Sans MS"/>
              </a:rPr>
              <a:t>Содержание витаминов в продуктах и их использова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836640"/>
          <a:ext cx="8713800" cy="5945040"/>
        </p:xfrm>
        <a:graphic>
          <a:graphicData uri="http://schemas.openxmlformats.org/drawingml/2006/table">
            <a:tbl>
              <a:tblPr/>
              <a:tblGrid>
                <a:gridCol w="1008000"/>
                <a:gridCol w="4716360"/>
                <a:gridCol w="298944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ится в продуктах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тся для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почки, жирная рыба (сельдь, макрель), яйца, молочные продукты, растительное масл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зистых оболочек, здоровья кожи, зрения, роста, иммунной систе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тамин 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ощи: шпинат, брокколи, морковь, капуста, горох, помидоры; фрукты: дыня, персик; ягоды: шиповник, облепиха, ряб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ения, иммунной системы антиоксидантная защита клеток организма от окис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рис, фасоль, горох, орехи, черный хлеб, зерновые, яичный желт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, выработки энергии, функционирования нервов и муску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птица, шпинат, брокколи, дрожжи, грибы, молочные продукты, яичный желт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 организма, выработки энер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птица яйца, рыба, орехи, продукты из немолотого зерна, молоко, зеленые овощи (зеленый лук, броккол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отки энергии, снижения холестерина в кров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, яичный желток, продукты из зерна, фасоль, арахис, картоф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ья кожи, роста волос, усвоения белков, жиров и углев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яичный желток, хлеб грубого помола, дрожжи, арахис, картофель, овощ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ения жиров и углеводов, работы фермент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почки, яйца, креветки, молоко, сыр, свек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и анемии, здоровья нервной системы, работы клеток организм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жие овощи и фрукты, особенно черная смородина, клюква, цитрусовые, шиповник, пере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бов и кожи, роста кожи, костей, хрящей, антиоксидантная защита клеток организма от окис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молоко, сыр, жирная рыба, рыбий жир, солнц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 зубов и костей, усвоение кальция и фосф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жирная рыба, мясо, печень, растительные масла, орехи, продукты из немолотого зер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сидантная защита клеток организма от окисления, заживления кож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Витаминная недостаточность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итаминная недостаточност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— группа патологических состояний, обусловленных дефицитом в организме одного  или     нескольких витаминов. Выделяют : авитаминоз , гиповитаминоз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витаминозо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понимают практически полное отсутствие какого-либо витамина в организм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Гиповитаминозо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читают сниженное по сравнению с потребностями содержание витаминов в организме, которое клинически проявляется  только отдельными и не резко выраженными симптомами из числа специфичных для определенного авитаминоза, а также мало  специфических признаков болезненного состояния, общих для различных видов гиповитаминозов (например, снижение аппетита и работоспособности, быстрая утомляемость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Пища, которую мы едим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роблема питан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это обширная и очень важная тема как для человечества в целом, так и для каждого отдельного человека. Сегодня мы поговорим о пищевых добавках и некоторых продуктах питания и дадим вам несколько полезных совет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Консерван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онсервант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это пищевые добавки, которые увеличивают срок хранения продуктов, защищая их от порч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53:33Z</dcterms:created>
  <dc:creator>School</dc:creator>
  <dc:description/>
  <dc:language>en-US</dc:language>
  <cp:lastModifiedBy>LEGION</cp:lastModifiedBy>
  <dcterms:modified xsi:type="dcterms:W3CDTF">2015-05-12T08:21:54Z</dcterms:modified>
  <cp:revision>10</cp:revision>
  <dc:subject/>
  <dc:title>Химия жиз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