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4211-23F3-4578-B1A2-8C7FF2639D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Химия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 Новочебоксарск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Лицей№18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ва Т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06D7-8F8E-4D90-96E9-F6514ED1065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6D4C-DF88-4DCD-BC68-183E2239A74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81F8-E386-48C5-8521-DB9E946BED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рактический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F89C-416C-4816-9DD3-39CB70A3FDD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Цели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FDF-E424-4803-87E9-FF561110D74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ширить знания учащихся по проблеме пит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DB11-A858-4A5E-9B00-43DF9BEBCC1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Фер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9175-81AA-4E75-B807-01B9E3BE359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C623-E1AA-4340-BC09-78EFA7FADD1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80"/>
                </a:solidFill>
                <a:latin typeface="Calibri"/>
              </a:rPr>
              <a:t>Классификация витами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011-E88A-4804-9130-8E824D9FDF2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588A-0743-4CE2-BAE2-4F6C7FD1D10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ная недостато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нимают практически полное отсутствие какого-либо витамина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5348-573F-4256-9084-6EC5FF1E5D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ища, которую мы ед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а пит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Консерв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серва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AC09-B58E-45B3-9697-8961A127F33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CF8-D47C-42B1-B210-43EBA6A4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A69-BB71-42B4-9D7C-42F35626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805-CB4C-443A-9CC5-9FEEA3D1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2F7-44EC-46E6-985F-FAC662DD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3514-D495-42D7-BFA1-29133F5B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4DCF-FAEB-4928-BE09-2223CA26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041D-1A8D-4EA2-8C4D-20E8FF11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8C18-F34A-46D5-A3FB-4636D661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806B-8FEB-453A-8CBE-EB7DB32A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E926-7AD9-4316-84A1-F443FADE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0A41-9511-4690-9BE5-D9269212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B77-FE8D-435F-86AC-278CCBEA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259F-B1B2-421B-B1DB-64CD944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25C5-D565-4383-B678-3161ADA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2BF5-03C7-4787-941D-76DBBDC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6CE3-FC07-4028-BE99-57BD0794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9CE8-FDA2-4F97-9F52-0AC58213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319-285F-41C2-A6E7-82CC1D0A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159-C908-4DD9-8843-3F636521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B52-06B0-4176-A523-1D7E846F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8AF-1945-4F4B-A64C-9AC8222F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EE8-0D29-48A2-BD4A-DACCCDD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6DB-0F57-428A-BBC5-E9A56EB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12E-140E-4AA9-96EB-153BCB8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68B0-A6EE-45C4-93BB-AD78F85D5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497D-71A0-4A78-A48F-269A5036CC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Comic Sans MS"/>
              </a:rPr>
              <a:t>Химия жизни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Р Новочебоксарск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№18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ва Т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(усиливают или восстанавливают цвет проду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 (повышают срок хранения продуктов, защищают их от микробов, грибков, бактериофагов. Химически стерилизующие добавки при созревании вин, дезинфектанты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3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 (защищают от окисле­ния, например от прогоркания жиров и изменения цве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 (сохраняют заданную консистенцию), загустители (повышают вязк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(создают однородную смесь несмешиваемых продуктов, например воды и масл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6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и аром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 (предупреждают или снижают образование пен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557360"/>
          <a:ext cx="8229600" cy="5237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ое дей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 105, 111, 121 (краситель цитрусовый красный 2), 123 (красный амарант), 125, 126, 130, 152, 240 (консервант формальдеги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ён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10,120,124,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05,121,123,125, 126, 130, 131,142, 152, 210, 211 (бензоат натрия), 213-217,240,330 (лимонная кислота), 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локачествен­ные опух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226, 320-322, 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аболевания желудочно-кише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31,232,239, 311-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-173,320-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болезни печени и п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для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желу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 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содержание холесте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рактический выво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Цели работы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Задач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ить знания учащихся по проблеме пит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Фермент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рменты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итам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vitamin"/>
          <p:cNvPicPr/>
          <p:nvPr/>
        </p:nvPicPr>
        <p:blipFill>
          <a:blip r:embed="rId2"/>
          <a:stretch/>
        </p:blipFill>
        <p:spPr>
          <a:xfrm>
            <a:off x="4643280" y="1341360"/>
            <a:ext cx="395928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1027m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93372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Классификация витамин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7" name="Organization Chart 15"/>
          <p:cNvGrpSpPr/>
          <p:nvPr/>
        </p:nvGrpSpPr>
        <p:grpSpPr>
          <a:xfrm>
            <a:off x="468360" y="1557360"/>
            <a:ext cx="8566920" cy="4529160"/>
            <a:chOff x="468360" y="1557360"/>
            <a:chExt cx="8566920" cy="4529160"/>
          </a:xfrm>
        </p:grpSpPr>
        <p:cxnSp>
          <p:nvCxnSpPr>
            <p:cNvPr id="148" name="_s10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7978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1"/>
            <p:cNvCxnSpPr>
              <a:stCxn id="152" idx="0"/>
              <a:endCxn id="150" idx="2"/>
            </p:cNvCxnSpPr>
            <p:nvPr/>
          </p:nvCxnSpPr>
          <p:spPr>
            <a:xfrm flipV="1">
              <a:off x="4751640" y="3368520"/>
              <a:ext cx="396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2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7990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33"/>
            <p:cNvSpPr/>
            <p:nvPr/>
          </p:nvSpPr>
          <p:spPr>
            <a:xfrm>
              <a:off x="3466800" y="155736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366"/>
                  </a:solidFill>
                  <a:latin typeface="Comic Sans MS"/>
                </a:rPr>
                <a:t>Витамины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46836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Comic Sans MS"/>
                </a:rPr>
                <a:t>Вод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витамин С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ы группы В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 РР)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346680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66"/>
                  </a:solidFill>
                  <a:latin typeface="Comic Sans MS"/>
                </a:rPr>
                <a:t>Жир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А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Е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>
              <a:off x="646524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итаминоподобны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еще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Р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липоевая кислота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836640"/>
          <a:ext cx="8713800" cy="5945040"/>
        </p:xfrm>
        <a:graphic>
          <a:graphicData uri="http://schemas.openxmlformats.org/drawingml/2006/table">
            <a:tbl>
              <a:tblPr/>
              <a:tblGrid>
                <a:gridCol w="1008000"/>
                <a:gridCol w="4716360"/>
                <a:gridCol w="29894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 продукта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ся дл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жирная рыба (сельдь, макрель), яйца, молочные продукты, растительное ма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зистых оболочек, здоровья кожи, зрения, роста, иммунной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: шпинат, брокколи, морковь, капуста, горох, помидоры; фрукты: дыня, персик; ягоды: шиповник, облепиха, ряб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, иммунной системы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рис, фасоль, горох, орехи, черный хлеб, зерновые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, выработки энергии, функционирования нервов и муску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тица, шпинат, брокколи, дрожжи, грибы, молочные продукты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организма, выработки энер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птица яйца, рыба, орехи, продукты из немолотого зерна, молоко, зеленые овощи (зеленый лук, броккол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ки энергии, снижения холестерина в кро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, яичный желток, продукты из зерна, фасоль, арахис, картоф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 кожи, роста волос, усвоения белков, жиров и углев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яичный желток, хлеб грубого помола, дрожжи, арахис, картофель, ов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я жиров и углеводов, работы фер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очки, яйца, креветки, молоко, сыр, свек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анемии, здоровья нервной системы, работы клеток орган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овощи и фрукты, особенно черная смородина, клюква, цитрусовые, шиповник, пер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в и кожи, роста кожи, костей, хрящей,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олоко, сыр, жирная рыба, рыбий жир, солнц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зубов и костей, усвоение кальция и фосф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жирная рыба, мясо, печень, растительные масла, орехи, продукты из немолотого зер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ная защита клеток организма от окисления, заживления ко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ная недостаточност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итаминная недостаточ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онимают практически полное отсутствие какого-либо витамина в организ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ипо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ища, которую мы едим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блема пит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Консерва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нсерван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3:33Z</dcterms:created>
  <dc:creator>School</dc:creator>
  <dc:description/>
  <dc:language>en-US</dc:language>
  <cp:lastModifiedBy>LEGION</cp:lastModifiedBy>
  <dcterms:modified xsi:type="dcterms:W3CDTF">2015-05-12T08:21:54Z</dcterms:modified>
  <cp:revision>10</cp:revision>
  <dc:subject/>
  <dc:title>Химия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