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D20B-B53F-4A95-8ED2-4655E87D0A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Химия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 Новочебоксарск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Лицей№18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ва Т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5C38-925B-44CF-BA88-AE76B639DBD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4131-E5E7-45FE-B745-C4795D88D68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6435-A49A-40E1-A97D-8D65710D705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рактический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3F0B-B9BF-4F47-9B7C-2907D57FE39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Цели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FF8E-BB60-42FC-A3CC-D0ED35E3AA9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ширить знания учащихся по проблеме пит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A552-1BE2-440C-A3B9-F77C96B0998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Фер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1734-4E74-4E50-89D4-E1D08FBA669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0201-9FAB-4A4F-910F-5F411FC547B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80"/>
                </a:solidFill>
                <a:latin typeface="Calibri"/>
              </a:rPr>
              <a:t>Классификация витами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9E5E-603B-4086-A009-A6420B2F700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C73F-2DE8-4333-9432-FCC492D26EF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ная недостато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нимают практически полное отсутствие какого-либо витамина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A83E-96AA-4BEE-A9A4-6F17758FBB8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ища, которую мы ед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а пит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Консерв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серва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6AB-A3EC-4C3A-B541-A384CF3C89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D9C-15AB-4281-8D25-2685491D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B09-EFF0-496C-860C-F84F08F0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6FA-952E-4B1F-B2CE-33E62BCE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10E-5DD8-431C-9742-124D4C5B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6494-9EA2-416E-9BCE-FAFF6BBC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BFB5-7DD1-4AA5-9696-72EDAD3C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5BAC-9857-45D7-BA62-E0F14C27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DACA-8B06-4590-A3D8-D7728A47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FAC7-AC40-4ECD-8D76-1A0D7CB4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513C-FE5E-4D8A-9580-61930382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064C-76C7-42FA-B8F5-8F392B32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19A-13F0-469A-BC41-548B47F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2842-8972-48DC-92A0-97446912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D699-99FA-485C-98FF-C788FD8D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00B5-9074-4349-8A59-D1956800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F9CA-6638-4986-B9BD-0D670E5C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EF02-99FE-4293-9D37-FC02A099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599-A687-4564-ABE8-1F3B9C7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0B0-C50E-4D48-BBA4-7D7B2B0E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5A1-3B98-4BA6-B420-7A7945B6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F04-8742-4795-93E7-C0C1DA3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A9D-DB79-40C0-B93B-B8ED8B52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BFF-7A10-4325-B355-46EC87F6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A41-AD75-4CA8-B6D4-04045B2E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9CCF-814A-41C4-9934-973BB1231C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672E-56B7-436B-90A0-60017744F5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Comic Sans MS"/>
              </a:rPr>
              <a:t>Химия жизни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Р Новочебоксарск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№18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ва Т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(усиливают или восстанавливают цвет проду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 (повышают срок хранения продуктов, защищают их от микробов, грибков, бактериофагов. Химически стерилизующие добавки при созревании вин, дезинфектанты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3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 (защищают от окисле­ния, например от прогоркания жиров и изменения цве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 (сохраняют заданную консистенцию), загустители (повышают вязк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(создают однородную смесь несмешиваемых продуктов, например воды и масл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6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и аром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 (предупреждают или снижают образование пен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557360"/>
          <a:ext cx="8229600" cy="5237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ое дей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 105, 111, 121 (краситель цитрусовый красный 2), 123 (красный амарант), 125, 126, 130, 152, 240 (консервант формальдеги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ён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10,120,124,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05,121,123,125, 126, 130, 131,142, 152, 210, 211 (бензоат натрия), 213-217,240,330 (лимонная кислота), 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локачествен­ные опух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226, 320-322, 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аболевания желудочно-кише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31,232,239, 311-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-173,320-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болезни печени и п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для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желу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 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содержание холесте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рактический выво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Цели работы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Задач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ить знания учащихся по проблеме пит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Фермент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рменты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итам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vitamin"/>
          <p:cNvPicPr/>
          <p:nvPr/>
        </p:nvPicPr>
        <p:blipFill>
          <a:blip r:embed="rId2"/>
          <a:stretch/>
        </p:blipFill>
        <p:spPr>
          <a:xfrm>
            <a:off x="4643280" y="1341360"/>
            <a:ext cx="395928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1027m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93372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Классификация витамин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7" name="Organization Chart 15"/>
          <p:cNvGrpSpPr/>
          <p:nvPr/>
        </p:nvGrpSpPr>
        <p:grpSpPr>
          <a:xfrm>
            <a:off x="468360" y="1557360"/>
            <a:ext cx="8566920" cy="4529160"/>
            <a:chOff x="468360" y="1557360"/>
            <a:chExt cx="8566920" cy="4529160"/>
          </a:xfrm>
        </p:grpSpPr>
        <p:cxnSp>
          <p:nvCxnSpPr>
            <p:cNvPr id="148" name="_s10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7978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1"/>
            <p:cNvCxnSpPr>
              <a:stCxn id="152" idx="0"/>
              <a:endCxn id="150" idx="2"/>
            </p:cNvCxnSpPr>
            <p:nvPr/>
          </p:nvCxnSpPr>
          <p:spPr>
            <a:xfrm flipV="1">
              <a:off x="4751640" y="3368520"/>
              <a:ext cx="396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2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7990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33"/>
            <p:cNvSpPr/>
            <p:nvPr/>
          </p:nvSpPr>
          <p:spPr>
            <a:xfrm>
              <a:off x="3466800" y="155736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366"/>
                  </a:solidFill>
                  <a:latin typeface="Comic Sans MS"/>
                </a:rPr>
                <a:t>Витамины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46836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Comic Sans MS"/>
                </a:rPr>
                <a:t>Вод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витамин С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ы группы В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 РР)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346680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66"/>
                  </a:solidFill>
                  <a:latin typeface="Comic Sans MS"/>
                </a:rPr>
                <a:t>Жир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А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Е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>
              <a:off x="646524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итаминоподобны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еще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Р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липоевая кислота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836640"/>
          <a:ext cx="8713800" cy="5945040"/>
        </p:xfrm>
        <a:graphic>
          <a:graphicData uri="http://schemas.openxmlformats.org/drawingml/2006/table">
            <a:tbl>
              <a:tblPr/>
              <a:tblGrid>
                <a:gridCol w="1008000"/>
                <a:gridCol w="4716360"/>
                <a:gridCol w="29894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 продукта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ся дл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жирная рыба (сельдь, макрель), яйца, молочные продукты, растительное ма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зистых оболочек, здоровья кожи, зрения, роста, иммунной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: шпинат, брокколи, морковь, капуста, горох, помидоры; фрукты: дыня, персик; ягоды: шиповник, облепиха, ряб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, иммунной системы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рис, фасоль, горох, орехи, черный хлеб, зерновые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, выработки энергии, функционирования нервов и муску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тица, шпинат, брокколи, дрожжи, грибы, молочные продукты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организма, выработки энер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птица яйца, рыба, орехи, продукты из немолотого зерна, молоко, зеленые овощи (зеленый лук, броккол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ки энергии, снижения холестерина в кро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, яичный желток, продукты из зерна, фасоль, арахис, картоф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 кожи, роста волос, усвоения белков, жиров и углев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яичный желток, хлеб грубого помола, дрожжи, арахис, картофель, ов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я жиров и углеводов, работы фер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очки, яйца, креветки, молоко, сыр, свек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анемии, здоровья нервной системы, работы клеток орган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овощи и фрукты, особенно черная смородина, клюква, цитрусовые, шиповник, пер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в и кожи, роста кожи, костей, хрящей,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олоко, сыр, жирная рыба, рыбий жир, солнц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зубов и костей, усвоение кальция и фосф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жирная рыба, мясо, печень, растительные масла, орехи, продукты из немолотого зер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ная защита клеток организма от окисления, заживления ко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ная недостаточност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итаминная недостаточ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онимают практически полное отсутствие какого-либо витамина в организ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ипо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ища, которую мы едим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блема пит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Консерва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нсерван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3:33Z</dcterms:created>
  <dc:creator>School</dc:creator>
  <dc:description/>
  <dc:language>en-US</dc:language>
  <cp:lastModifiedBy>LEGION</cp:lastModifiedBy>
  <dcterms:modified xsi:type="dcterms:W3CDTF">2015-05-12T08:21:54Z</dcterms:modified>
  <cp:revision>10</cp:revision>
  <dc:subject/>
  <dc:title>Химия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