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09FE-7A6B-41FA-9C35-06B77B8990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4975-0817-4C7D-A497-32D8E27EFF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10</a:t>
            </a: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экон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08FB-A6D3-460F-A8B5-6049145C3D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уществуют ещё идолы, которые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происходят как бы в силу взаимной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вязанности и сообщества людей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Эти идолы мы называем, имея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в виду порождающее их общение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и сотоварищество людей,</a:t>
            </a:r>
            <a:br>
              <a:rPr sz="1100"/>
            </a:br>
            <a:r>
              <a:rPr b="0" i="1" lang="ru-RU" sz="1100" spc="-1" strike="noStrike">
                <a:solidFill>
                  <a:srgbClr val="0000ff"/>
                </a:solidFill>
                <a:latin typeface="Arial"/>
              </a:rPr>
              <a:t>идолами площади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Люди объединяются речью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лова же устанавливаются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ообразно разумению толпы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плохое и нелепое</a:t>
            </a:r>
            <a:br>
              <a:rPr sz="1100"/>
            </a:b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установление слов удивительным</a:t>
            </a:r>
            <a:br>
              <a:rPr sz="1100"/>
            </a:b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образом осаждает разу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EFF4-CA73-45A9-9C6F-25AD8B04B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сновные разновидности идолов площ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и искусственный характер различий, устанавливаемых обыденным словоупотреблением (неудачные имена для существующих вещ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отождествление вещей, в основах своих различных (например, «земля» как одна из «четырёх субстанци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различение вещей, в основе своей идентичных (например, лёд, вода, п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изобретения и употребления имён несуществующих вещей (например, «судьба», «перводвигатель» и т.п.), вследствие чего разум втягивается в беспредметные, бессмысленные и бесплод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49C5-33C3-4806-B127-1D76B6CF09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0303-336A-433E-9E18-D1C1343EE2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9866-A272-4707-9646-7C7B141363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BD63-3670-4DEA-884D-F335DA7BB7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2FF2-84D7-4504-9CC9-E4213ABAD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2A94-70B9-43FE-BFDC-CF1DE4F60B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66B5-8777-4EAD-BB1B-1079C4AAB9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E2F8-DDCD-4C74-91A8-F50A8AD8B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C52C-014C-449E-B139-C8BC6394CC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е – сила: опыты светоносные и плодо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дуктивная логика как орудие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72F9-6878-4276-9C4B-245581747F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3768-1EFD-44E8-B6AB-15E672B8F5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ы светоносные и плодоно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0B93-A442-4AD3-9BE5-9A0AE979BC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1211-BC91-46A0-BD10-AA18B7E62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 и в пол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ячие пары и дымы, а также и самый воздух, который принимает сильнейший и неистовый жар, когда бывает заперт, как, например, в отражательных п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которые случаи ясной погоды, обусловленные самим состоянием воздуха независимо от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ертый и подземный воздух в некоторых пещерах, особенно з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мохнатое, как, например, шерсть, шкуры животных, оперения, содержат немал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118E-97FA-43B5-B2BC-E7275E7E51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тела, как твёрдые, так и жидкие, как густые, так и разреженные (каков, например, сам воздух), на время приближенные к огн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ы от кремня и стали, полученные посредством сильного уд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одверженное сильному трению тело, как, например, камень, дерево, сукно; так что иногда дышла и оси колёс загораются; а у западных индейцев огонь добывался посредством 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елёные и влажные травы, плотно уложенные вместе, как, например, розовые лепестки, набитые в корзинки, сено, если оно было сложено влажным, часто охватывается пла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гашёная известь, смоченная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лезо, как только оно начинает растворяться в стеклянном сосуде кислотой, и притом без какого-либо приближения к огню. Так же и олово и прочее, но не столь си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ивотные, особенно и постоянно во внутренних частях; впрочем, тепло насекомых не доходит до осязания по причине малости их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кий навоз и вообще свежие испражнения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ое серное и купоросное масла выполняют действие тепла, сжигая тк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ло майорана и т. п. выполняет действие тепла, сжигая кости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07BF-DC5A-4AEA-AF8C-1857C22A57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и хорошо очищенный винный спирт выполняет действие тепла, так что если бросить в него белок яйца, то белок сгущается и белеет, почти как в сваренном яйце. А брошенный в него хлеб становится сухим и твердеет наподобие поджаренного хле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оматические и теплотворные травы, как, например, тургун, старая настурция и т. д., которые хотя и не теплы на ощупь (ни в целом виде, ни в порошке), но если слегка пожевать их, то язык и небо ощущают тепло и ж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уксус и всякие кислоты на тех членах тела, где нет верхнего слоя кожи, как, например, на глазе, на языке, или на какой-нибудь пораненной части тела или там, где содрана кожа, причиняют боль, ненамного отличающуюся от той, которую причиняет ж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ьный и острый холод также приносит некое ощущение ж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оч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D7FE-3D4D-4217-BC32-6004B42E81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этом сближении и строи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вый бэконовски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анн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ы,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л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утство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юду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данная при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оть где-нибуд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де присутствует данная природа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 необходим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, следовательно, 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9B1A-2604-482B-BB4D-094D66FCE9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934D-F011-4B96-9428-BE53CB1C87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B0AD-D9F7-4E1E-8FA4-12BEAEE04E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3EBE-6B55-424E-A77B-60B36DEAE0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2 января 1561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ёба в Кэмбриджском университете (Тринити-колледж) (1573-15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ужба в английском посольстве во Франц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576-15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вокатская пра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57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лен парламента ( с 1584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неральный прокурор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61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рд-хранитель печат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617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рд-канцлер (1618-16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9 апреля 1626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C07B-681F-4571-AFD4-CD27636B0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FD61-4538-4E40-BE1E-DB04FC2E94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0663-151B-4069-8008-4D9DD14757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6D23-B740-4E65-AE86-FE980E6B0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E81A-1D3E-4B05-9158-CAE92C872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009F-A40A-4F49-82A6-E4CF019D2C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EB2D-E489-4C56-B67E-E1124AC517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A1E6-AAB8-4738-98A6-FAC3946ABA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ёмы «истинной индукции» (общий обз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8702-D593-40A1-A5CC-F1AE1679D8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B2BC-57BE-4EBF-A7D3-3836E72491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F074-CFD5-4FF5-A62A-793644D850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A723-B8E2-4C14-B9B4-0B97603F8F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24EA-90B4-4548-A2BF-DB59B2C680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E3E5-374A-4045-A4C8-4032FB0B05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емление уподоблять природу человеку (как проявление общей установки объяснять неизвестное по аналогии с известн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нденция к упрощению, проявляющаяся в предположении, что в изучаемом объекте больше порядка и целесообразности, чем на самом 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переоценивать значение неожиданных, необычных и удивительных явлений, отнюдь не обязательно репрезентатив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F19E-7427-4D63-A59E-F77B5248DF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7B87-1863-4581-83FF-039EAC627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пещ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в большинстве своём склонны ценить выше то, во что ими вложено больше труда, или то, что им более привы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придавать большее значение различиям в вещах, другие – сходству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больше интересуются частностями и подробностями, другие – общим и ц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к почитанию древности, другие увлечены любовью к новизне, но немногие могут соблюсти такую меру, чтобы и не отбрасывать то, что справедливо установлено древними, и не пренебречь тем, что верно предложено н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385-53A0-40EB-80BA-10EA806C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91A-AAF1-402A-A2D4-F65207A3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E25-FC2C-455D-9912-AD5475EE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CB3-D74A-47C3-AF4A-E5BD02F4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9CF-556C-4E71-BCA3-8661E56A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281-3F98-4990-BEDB-2935E278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CE4-533B-43F6-A10F-8434BD96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E1D-53F2-421E-BEA1-A7C0CB2C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006-5F2C-41C9-B4C3-FADB7974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87A-E1F3-4339-B678-34BA524C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8FA-CFED-47A5-A458-3337FE43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514-3A02-454E-8C82-2169138B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E736-42A7-4B4A-8DFE-0B37C550A6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359892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10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экон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т ещё идолы, котор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ят как бы в силу взаим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язанности и сообщества люд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идолы мы называем, име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виду порождающее их об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товарищество людей,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ами площа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и объединяются речью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 же устанавлив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бразно разумению толп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е и нелеп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овление слов удивите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осаждает разум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сновные разновидности идолов площ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и искусственный характер различий, устанавливаемых обыденным словоупотреблением (неудачные имена для существующих вещ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отождествление вещей, в основах своих различных (например, «земля» как одна из «четырёх субстанци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различение вещей, в основе своей идентичных (например, лёд, вода, п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изобретения и употребления имён несуществующих вещей (например, «судьба», «перводвигатель» и т.п.), вследствие чего разум втягивается в беспредметные, бессмысленные и бесплод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т, наконец, идол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вселились в души лю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разных догматов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же из превра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в доказательств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мы называем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ами театр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мы считаем, чт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есть принятых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обретённых философских систе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лько поставл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ыграно комедий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ставляющих вымышл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искусственные миры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пути существуют и мог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для отыскания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тия истины. Оди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ар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ощущений и частностей к наибол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им аксиома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, идя от эт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ий и их непоколеби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сти, обсуждает и открыв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е аксиомы. Этим путё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ьзуются ныне. Другой же п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ит аксиомы из ощущений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стей, поднимаясь непрерывн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епенн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ка наконец не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иболее общим аксиома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уть истинный, но не испытанный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а эти пути ис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ощущений и част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вершаются в высших общностя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различие их неизмерим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один лишь бегло касается опы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астностей, другой надлежащ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ом задерживается на н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зу же устанавливает нек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трактные и бесполезны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постепенно подним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тому, что действи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сообразно природе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оим образом не может бы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аксиом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ановленные рассужд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ли силу для открытия новых де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нкость природы во много ра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осходит тонкость рассужден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аксиомы, отвлечё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м образом из част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ю очередь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азывают и определя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е частности и таким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науки действенными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03280" y="2158920"/>
            <a:ext cx="3959280" cy="21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дукц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educt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цесс логического вывод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перехода по тем или и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м логики от не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нных положений (посылок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их следствиям (заключениям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826920" y="4678200"/>
            <a:ext cx="3311640" cy="75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(умозаключение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общего к частно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713120" y="2158920"/>
            <a:ext cx="3959280" cy="21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укц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nduct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ве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 мышления,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ой мысль наводится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правило, об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е, присущее вс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ам какого-либо класс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037120" y="4678200"/>
            <a:ext cx="3311640" cy="75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(умозаключение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частного к обще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rc 2"/>
          <p:cNvSpPr/>
          <p:nvPr/>
        </p:nvSpPr>
        <p:spPr>
          <a:xfrm flipH="1" flipV="1">
            <a:off x="1240200" y="3956760"/>
            <a:ext cx="2070360" cy="2070360"/>
          </a:xfrm>
          <a:custGeom>
            <a:avLst/>
            <a:gdLst>
              <a:gd name="textAreaLeft" fmla="*/ -360 w 2070360"/>
              <a:gd name="textAreaRight" fmla="*/ 2070360 w 2070360"/>
              <a:gd name="textAreaTop" fmla="*/ -360 h 2070360"/>
              <a:gd name="textAreaBottom" fmla="*/ 2070360 h 207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3"/>
          <p:cNvSpPr/>
          <p:nvPr/>
        </p:nvSpPr>
        <p:spPr>
          <a:xfrm>
            <a:off x="6189840" y="3849840"/>
            <a:ext cx="880920" cy="880920"/>
          </a:xfrm>
          <a:custGeom>
            <a:avLst/>
            <a:gdLst>
              <a:gd name="textAreaLeft" fmla="*/ 0 w 880920"/>
              <a:gd name="textAreaRight" fmla="*/ 881280 w 88092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4"/>
          <p:cNvSpPr/>
          <p:nvPr/>
        </p:nvSpPr>
        <p:spPr>
          <a:xfrm flipV="1">
            <a:off x="5829480" y="4785480"/>
            <a:ext cx="1241280" cy="124164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1241640"/>
              <a:gd name="textAreaBottom" fmla="*/ 1241640 h 124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2949480" y="161928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тео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«наиболее общ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949480" y="323856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41840" y="4138560"/>
            <a:ext cx="1655640" cy="125892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дуктивно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ъясн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фак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922560" y="2517840"/>
            <a:ext cx="1295640" cy="718920"/>
          </a:xfrm>
          <a:prstGeom prst="downArrowCallout">
            <a:avLst>
              <a:gd name="adj1" fmla="val 45059"/>
              <a:gd name="adj2" fmla="val 45055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309840" y="539748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3508200" y="5470560"/>
            <a:ext cx="54000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3903840" y="561348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4300560" y="575784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4695840" y="590076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5091120" y="6045120"/>
            <a:ext cx="53964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6"/>
          <p:cNvSpPr/>
          <p:nvPr/>
        </p:nvSpPr>
        <p:spPr>
          <a:xfrm rot="16200000">
            <a:off x="1384200" y="2068560"/>
            <a:ext cx="1565280" cy="156528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7"/>
          <p:cNvSpPr/>
          <p:nvPr/>
        </p:nvSpPr>
        <p:spPr>
          <a:xfrm flipV="1">
            <a:off x="6189840" y="2787480"/>
            <a:ext cx="701640" cy="702000"/>
          </a:xfrm>
          <a:custGeom>
            <a:avLst/>
            <a:gdLst>
              <a:gd name="textAreaLeft" fmla="*/ 0 w 701640"/>
              <a:gd name="textAreaRight" fmla="*/ 702000 w 701640"/>
              <a:gd name="textAreaTop" fmla="*/ 360 h 702000"/>
              <a:gd name="textAreaBottom" fmla="*/ 702720 h 70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8"/>
          <p:cNvSpPr/>
          <p:nvPr/>
        </p:nvSpPr>
        <p:spPr>
          <a:xfrm>
            <a:off x="6189840" y="2068560"/>
            <a:ext cx="701640" cy="701640"/>
          </a:xfrm>
          <a:custGeom>
            <a:avLst/>
            <a:gdLst>
              <a:gd name="textAreaLeft" fmla="*/ 0 w 701640"/>
              <a:gd name="textAreaRight" fmla="*/ 702000 w 701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9"/>
          <p:cNvSpPr/>
          <p:nvPr/>
        </p:nvSpPr>
        <p:spPr>
          <a:xfrm>
            <a:off x="539640" y="3147840"/>
            <a:ext cx="1979640" cy="19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общ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посредством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неполной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и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«воспарение»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0"/>
          <p:cNvSpPr/>
          <p:nvPr/>
        </p:nvSpPr>
        <p:spPr>
          <a:xfrm>
            <a:off x="6477120" y="1798560"/>
            <a:ext cx="2158920" cy="2158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ррекци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универсальной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возможная по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ричине неполноты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ервоначальной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индукции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1"/>
          <p:cNvSpPr/>
          <p:nvPr/>
        </p:nvSpPr>
        <p:spPr>
          <a:xfrm>
            <a:off x="6585120" y="4227480"/>
            <a:ext cx="1942920" cy="194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ррекци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среднего уровня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«подгонка»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од факты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358920" y="6189840"/>
            <a:ext cx="180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ожный пу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9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59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9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3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4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9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8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6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057480" y="3957480"/>
            <a:ext cx="557856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.. ибо тонкость природы во много раз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евосходит тонкость рассужд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057480" y="2158920"/>
            <a:ext cx="557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и, полученные путём «подгонки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позволяют открывать новые факт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, следовательно, оказываютс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аучном плане бесполезными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949480" y="161928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тео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«наиболее общ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31640" y="3417840"/>
            <a:ext cx="39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5092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1349280" y="528948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1744560" y="543384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2139840" y="557676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2536920" y="572148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2932200" y="586584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468760" y="521820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5667480" y="528948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6062760" y="543384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6459480" y="557676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6854760" y="5721480"/>
            <a:ext cx="539640" cy="5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7251840" y="5865840"/>
            <a:ext cx="539640" cy="5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4749840" y="3417840"/>
            <a:ext cx="39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1690560" y="4317840"/>
            <a:ext cx="1440000" cy="900360"/>
          </a:xfrm>
          <a:prstGeom prst="upArrowCallout">
            <a:avLst>
              <a:gd name="adj1" fmla="val 39988"/>
              <a:gd name="adj2" fmla="val 3998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«Истинна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я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6008760" y="4317840"/>
            <a:ext cx="1439640" cy="900360"/>
          </a:xfrm>
          <a:prstGeom prst="upArrowCallout">
            <a:avLst>
              <a:gd name="adj1" fmla="val 39978"/>
              <a:gd name="adj2" fmla="val 3997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«Истинна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я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3849840" y="2517840"/>
            <a:ext cx="1439640" cy="900000"/>
          </a:xfrm>
          <a:prstGeom prst="upArrowCallout">
            <a:avLst>
              <a:gd name="adj1" fmla="val 39994"/>
              <a:gd name="adj2" fmla="val 39990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общ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1"/>
          <p:cNvSpPr/>
          <p:nvPr/>
        </p:nvSpPr>
        <p:spPr>
          <a:xfrm>
            <a:off x="3849840" y="5937120"/>
            <a:ext cx="53964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2"/>
          <p:cNvSpPr/>
          <p:nvPr/>
        </p:nvSpPr>
        <p:spPr>
          <a:xfrm>
            <a:off x="431640" y="593712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3"/>
          <p:cNvSpPr/>
          <p:nvPr/>
        </p:nvSpPr>
        <p:spPr>
          <a:xfrm flipV="1">
            <a:off x="431640" y="4317840"/>
            <a:ext cx="540000" cy="1619280"/>
          </a:xfrm>
          <a:prstGeom prst="upArrow">
            <a:avLst>
              <a:gd name="adj1" fmla="val 50000"/>
              <a:gd name="adj2" fmla="val 749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4"/>
          <p:cNvSpPr/>
          <p:nvPr/>
        </p:nvSpPr>
        <p:spPr>
          <a:xfrm flipV="1">
            <a:off x="3849840" y="4317840"/>
            <a:ext cx="539640" cy="1619280"/>
          </a:xfrm>
          <a:prstGeom prst="upArrow">
            <a:avLst>
              <a:gd name="adj1" fmla="val 50000"/>
              <a:gd name="adj2" fmla="val 750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новых фак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5"/>
          <p:cNvSpPr/>
          <p:nvPr/>
        </p:nvSpPr>
        <p:spPr>
          <a:xfrm>
            <a:off x="4749840" y="593712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6"/>
          <p:cNvSpPr/>
          <p:nvPr/>
        </p:nvSpPr>
        <p:spPr>
          <a:xfrm flipV="1">
            <a:off x="4749840" y="4317840"/>
            <a:ext cx="539640" cy="1619280"/>
          </a:xfrm>
          <a:prstGeom prst="upArrow">
            <a:avLst>
              <a:gd name="adj1" fmla="val 50000"/>
              <a:gd name="adj2" fmla="val 750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7"/>
          <p:cNvSpPr/>
          <p:nvPr/>
        </p:nvSpPr>
        <p:spPr>
          <a:xfrm>
            <a:off x="8169120" y="5937120"/>
            <a:ext cx="54000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8"/>
          <p:cNvSpPr/>
          <p:nvPr/>
        </p:nvSpPr>
        <p:spPr>
          <a:xfrm flipV="1">
            <a:off x="8169120" y="4317840"/>
            <a:ext cx="540000" cy="1619280"/>
          </a:xfrm>
          <a:prstGeom prst="upArrow">
            <a:avLst>
              <a:gd name="adj1" fmla="val 50000"/>
              <a:gd name="adj2" fmla="val 749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новых фак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431640" y="1619280"/>
            <a:ext cx="19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стинный пу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106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е – сила: опыты светоносные и плодо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дуктивная логика как орудие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е лучшее из всех доказательст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опыт, если только он коренится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ксперимент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если он перенос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другое, что считается схо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о перенесение не произв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м образом, то опыт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манчивым. Но тот способ польз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ом, который люди тепер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яют, слеп и неразумен. И пот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бродят и блуждают без вся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ной дороги и руководствую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и вещами, которые попад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встречу, они обращаются ко мног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мало подвигаются вперёд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ы светоносные и плодоно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 rot="10800000">
            <a:off x="1690560" y="1618920"/>
            <a:ext cx="7377120" cy="50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обно тому как и в гражданских дел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е каждого, а также скрытый смысл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трастей лучше обнаруживаются тогда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подвержен невзгодам, чем в друг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я, таким же образом и скрытое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открывается, когда оно подверг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ю механических искусств, чем тог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оно идёт своим чередом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ежду же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ьнейшее движение наук вперёд только т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хорошо обосновать, когда естествен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я получит и соберёт многочисл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ы, которые сами по себе не приносят польз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одействуют открытию причин и аксио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опыты мы обычно называем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ветоносны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отличие о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лодоносных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25092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540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ну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каждой данной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известные примеры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ходящиеся в этой природ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бы и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различных матер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рание этого рода дол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ь образовано истор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преждевременного ум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каких-либо чрезмерных тонкостей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 и в пол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ячие пары и дымы, а также и самый воздух, который принимает сильнейший и неистовый жар, когда бывает заперт, как, например, в отражательных п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которые случаи ясной погоды, обусловленные самим состоянием воздуха независимо от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ертый и подземный воздух в некоторых пещерах, особенно з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мохнатое, как, например, шерсть, шкуры животных, оперения, содержат немал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тела, как твёрдые, так и жидкие, как густые, так и разреженные (каков, например, сам воздух), на время приближенные к огн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ы от кремня и стали, полученные посредством сильного уд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одверженное сильному трению тело, как, например, камень, дерево, сукно; так что иногда дышла и оси колёс загораются; а у западных индейцев огонь добывался посредством 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елёные и влажные травы, плотно уложенные вместе, как, например, розовые лепестки, набитые в корзинки, сено, если оно было сложено влажным, часто охватывается пла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гашёная известь, смоченная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лезо, как только оно начинает растворяться в стеклянном сосуде кислотой, и притом без какого-либо приближения к огню. Так же и олово и прочее, но не столь си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ивотные, особенно и постоянно во внутренних частях; впрочем, тепло насекомых не доходит до осязания по причине малости их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кий навоз и вообще свежие испражнения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ое серное и купоросное масла выполняют действие тепла, сжигая тк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ло майорана и т. п. выполняет действие тепла, сжигая кости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и хорошо очищенный винный спирт выполняет действие тепла, так что если бросить в него белок яйца, то белок сгущается и белеет, почти как в сваренном яйце. А брошенный в него хлеб становится сухим и твердеет наподобие поджаренного хле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оматические и теплотворные травы, как, например, тургун, старая настурция и т. д., которые хотя и не теплы на ощупь (ни в целом виде, ни в порошке), но если слегка пожевать их, то язык и небо ощущают тепло и ж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уксус и всякие кислоты на тех членах тела, где нет верхнего слоя кожи, как, например, на глазе, на языке, или на какой-нибудь пораненной части тела или там, где содрана кожа, причиняют боль, ненамного отличающуюся от той, которую причиняет ж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ьный и острый холод также приносит некое ощущение ж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оч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9892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093080" y="1628640"/>
            <a:ext cx="1612800" cy="39452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6804720" y="5865840"/>
            <a:ext cx="228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торая аналитика»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 rot="10800000">
            <a:off x="539640" y="3417480"/>
            <a:ext cx="539928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То, что с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у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а обще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)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989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этом сближении и строи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вый бэконовски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анн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ы,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л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утство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юду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данная при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оть где-нибуд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де присутствует данная природа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 необходим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, следовательно, 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Roubillac Louis Francois (1695-1762), Bust of Sir Francis Bacon - detail (1751, Trinity College Library, University of Cambridge, Cambridge)-red"/>
          <p:cNvPicPr/>
          <p:nvPr/>
        </p:nvPicPr>
        <p:blipFill>
          <a:blip r:embed="rId1"/>
          <a:stretch/>
        </p:blipFill>
        <p:spPr>
          <a:xfrm>
            <a:off x="6084720" y="1798560"/>
            <a:ext cx="2576520" cy="336708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0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574560" y="2230560"/>
            <a:ext cx="21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енн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3492360" y="3417840"/>
            <a:ext cx="21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 flipV="1">
            <a:off x="1332000" y="3309120"/>
            <a:ext cx="2158920" cy="90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 flipV="1">
            <a:off x="4246560" y="4497480"/>
            <a:ext cx="2158920" cy="9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6405480" y="460548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539640" y="4570560"/>
            <a:ext cx="1295640" cy="1689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Аристотель (голова)-red"/>
          <p:cNvPicPr/>
          <p:nvPr/>
        </p:nvPicPr>
        <p:blipFill>
          <a:blip r:embed="rId2"/>
          <a:stretch/>
        </p:blipFill>
        <p:spPr>
          <a:xfrm>
            <a:off x="6656400" y="1906560"/>
            <a:ext cx="1990800" cy="16192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574560" y="2230560"/>
            <a:ext cx="21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общ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3492360" y="3417840"/>
            <a:ext cx="21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необходим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 flipV="1">
            <a:off x="1332000" y="3309120"/>
            <a:ext cx="2158920" cy="90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 flipV="1">
            <a:off x="4246560" y="4497480"/>
            <a:ext cx="2158920" cy="9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6405480" y="460548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существенн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539640" y="4570560"/>
            <a:ext cx="1295640" cy="1689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Аристотель (голова)-red"/>
          <p:cNvPicPr/>
          <p:nvPr/>
        </p:nvPicPr>
        <p:blipFill>
          <a:blip r:embed="rId2"/>
          <a:stretch/>
        </p:blipFill>
        <p:spPr>
          <a:xfrm>
            <a:off x="6656400" y="1906560"/>
            <a:ext cx="1990800" cy="1619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1981800" y="593712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лючите не-общее (= не-необходимое = несущественное)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ется общее (= необходимое = существенное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2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47400" y="1600200"/>
            <a:ext cx="37782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2 января 1561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Кэмбриджском университете (Тринити-колледж) (1573-15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жба в английском посольстве во Франц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76-15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вокатская практика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57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лен парламента ( с 1584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неральный прокурор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613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рд-хранитель печа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61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рд-канцлер (1618-16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9 апреля 1626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Oval 5"/>
          <p:cNvSpPr/>
          <p:nvPr/>
        </p:nvSpPr>
        <p:spPr>
          <a:xfrm>
            <a:off x="6686640" y="3645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51160" y="3309840"/>
            <a:ext cx="91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ри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6372360" y="2924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379200" y="2492280"/>
            <a:ext cx="13449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мбрид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6372360" y="30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225040" y="299736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5"/>
          <p:cNvSpPr/>
          <p:nvPr/>
        </p:nvSpPr>
        <p:spPr>
          <a:xfrm>
            <a:off x="79390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4"/>
          <p:cNvSpPr/>
          <p:nvPr/>
        </p:nvSpPr>
        <p:spPr>
          <a:xfrm>
            <a:off x="7189920" y="53722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3"/>
          <p:cNvSpPr/>
          <p:nvPr/>
        </p:nvSpPr>
        <p:spPr>
          <a:xfrm>
            <a:off x="64422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2"/>
          <p:cNvSpPr/>
          <p:nvPr/>
        </p:nvSpPr>
        <p:spPr>
          <a:xfrm>
            <a:off x="56944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1"/>
          <p:cNvSpPr/>
          <p:nvPr/>
        </p:nvSpPr>
        <p:spPr>
          <a:xfrm>
            <a:off x="494676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0"/>
          <p:cNvSpPr/>
          <p:nvPr/>
        </p:nvSpPr>
        <p:spPr>
          <a:xfrm>
            <a:off x="4197240" y="537228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9"/>
          <p:cNvSpPr/>
          <p:nvPr/>
        </p:nvSpPr>
        <p:spPr>
          <a:xfrm>
            <a:off x="344952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8"/>
          <p:cNvSpPr/>
          <p:nvPr/>
        </p:nvSpPr>
        <p:spPr>
          <a:xfrm>
            <a:off x="27018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7"/>
          <p:cNvSpPr/>
          <p:nvPr/>
        </p:nvSpPr>
        <p:spPr>
          <a:xfrm>
            <a:off x="19540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6"/>
          <p:cNvSpPr/>
          <p:nvPr/>
        </p:nvSpPr>
        <p:spPr>
          <a:xfrm>
            <a:off x="1204920" y="53722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5"/>
          <p:cNvSpPr/>
          <p:nvPr/>
        </p:nvSpPr>
        <p:spPr>
          <a:xfrm>
            <a:off x="4572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4"/>
          <p:cNvSpPr/>
          <p:nvPr/>
        </p:nvSpPr>
        <p:spPr>
          <a:xfrm>
            <a:off x="79390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3"/>
          <p:cNvSpPr/>
          <p:nvPr/>
        </p:nvSpPr>
        <p:spPr>
          <a:xfrm>
            <a:off x="7189920" y="49528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2"/>
          <p:cNvSpPr/>
          <p:nvPr/>
        </p:nvSpPr>
        <p:spPr>
          <a:xfrm>
            <a:off x="64422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1"/>
          <p:cNvSpPr/>
          <p:nvPr/>
        </p:nvSpPr>
        <p:spPr>
          <a:xfrm>
            <a:off x="56944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0"/>
          <p:cNvSpPr/>
          <p:nvPr/>
        </p:nvSpPr>
        <p:spPr>
          <a:xfrm>
            <a:off x="494676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9"/>
          <p:cNvSpPr/>
          <p:nvPr/>
        </p:nvSpPr>
        <p:spPr>
          <a:xfrm>
            <a:off x="4197240" y="4952880"/>
            <a:ext cx="749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8"/>
          <p:cNvSpPr/>
          <p:nvPr/>
        </p:nvSpPr>
        <p:spPr>
          <a:xfrm>
            <a:off x="344952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7"/>
          <p:cNvSpPr/>
          <p:nvPr/>
        </p:nvSpPr>
        <p:spPr>
          <a:xfrm>
            <a:off x="27018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6"/>
          <p:cNvSpPr/>
          <p:nvPr/>
        </p:nvSpPr>
        <p:spPr>
          <a:xfrm>
            <a:off x="19540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5"/>
          <p:cNvSpPr/>
          <p:nvPr/>
        </p:nvSpPr>
        <p:spPr>
          <a:xfrm>
            <a:off x="1204920" y="49528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4"/>
          <p:cNvSpPr/>
          <p:nvPr/>
        </p:nvSpPr>
        <p:spPr>
          <a:xfrm>
            <a:off x="4572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3"/>
          <p:cNvSpPr/>
          <p:nvPr/>
        </p:nvSpPr>
        <p:spPr>
          <a:xfrm>
            <a:off x="79390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2"/>
          <p:cNvSpPr/>
          <p:nvPr/>
        </p:nvSpPr>
        <p:spPr>
          <a:xfrm>
            <a:off x="7189920" y="45338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1"/>
          <p:cNvSpPr/>
          <p:nvPr/>
        </p:nvSpPr>
        <p:spPr>
          <a:xfrm>
            <a:off x="64422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0"/>
          <p:cNvSpPr/>
          <p:nvPr/>
        </p:nvSpPr>
        <p:spPr>
          <a:xfrm>
            <a:off x="56944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9"/>
          <p:cNvSpPr/>
          <p:nvPr/>
        </p:nvSpPr>
        <p:spPr>
          <a:xfrm>
            <a:off x="494676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8"/>
          <p:cNvSpPr/>
          <p:nvPr/>
        </p:nvSpPr>
        <p:spPr>
          <a:xfrm>
            <a:off x="4197240" y="453384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7"/>
          <p:cNvSpPr/>
          <p:nvPr/>
        </p:nvSpPr>
        <p:spPr>
          <a:xfrm>
            <a:off x="344952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6"/>
          <p:cNvSpPr/>
          <p:nvPr/>
        </p:nvSpPr>
        <p:spPr>
          <a:xfrm>
            <a:off x="27018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5"/>
          <p:cNvSpPr/>
          <p:nvPr/>
        </p:nvSpPr>
        <p:spPr>
          <a:xfrm>
            <a:off x="19540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1204920" y="45338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3"/>
          <p:cNvSpPr/>
          <p:nvPr/>
        </p:nvSpPr>
        <p:spPr>
          <a:xfrm>
            <a:off x="4572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2"/>
          <p:cNvSpPr/>
          <p:nvPr/>
        </p:nvSpPr>
        <p:spPr>
          <a:xfrm>
            <a:off x="79390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1"/>
          <p:cNvSpPr/>
          <p:nvPr/>
        </p:nvSpPr>
        <p:spPr>
          <a:xfrm>
            <a:off x="7189920" y="41148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0"/>
          <p:cNvSpPr/>
          <p:nvPr/>
        </p:nvSpPr>
        <p:spPr>
          <a:xfrm>
            <a:off x="64422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9"/>
          <p:cNvSpPr/>
          <p:nvPr/>
        </p:nvSpPr>
        <p:spPr>
          <a:xfrm>
            <a:off x="56944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8"/>
          <p:cNvSpPr/>
          <p:nvPr/>
        </p:nvSpPr>
        <p:spPr>
          <a:xfrm>
            <a:off x="494676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4197240" y="411480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6"/>
          <p:cNvSpPr/>
          <p:nvPr/>
        </p:nvSpPr>
        <p:spPr>
          <a:xfrm>
            <a:off x="344952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5"/>
          <p:cNvSpPr/>
          <p:nvPr/>
        </p:nvSpPr>
        <p:spPr>
          <a:xfrm>
            <a:off x="27018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4"/>
          <p:cNvSpPr/>
          <p:nvPr/>
        </p:nvSpPr>
        <p:spPr>
          <a:xfrm>
            <a:off x="19540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3"/>
          <p:cNvSpPr/>
          <p:nvPr/>
        </p:nvSpPr>
        <p:spPr>
          <a:xfrm>
            <a:off x="1204920" y="41148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2"/>
          <p:cNvSpPr/>
          <p:nvPr/>
        </p:nvSpPr>
        <p:spPr>
          <a:xfrm>
            <a:off x="4572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1"/>
          <p:cNvSpPr/>
          <p:nvPr/>
        </p:nvSpPr>
        <p:spPr>
          <a:xfrm>
            <a:off x="79390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7189920" y="369576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9"/>
          <p:cNvSpPr/>
          <p:nvPr/>
        </p:nvSpPr>
        <p:spPr>
          <a:xfrm>
            <a:off x="64422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8"/>
          <p:cNvSpPr/>
          <p:nvPr/>
        </p:nvSpPr>
        <p:spPr>
          <a:xfrm>
            <a:off x="56944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7"/>
          <p:cNvSpPr/>
          <p:nvPr/>
        </p:nvSpPr>
        <p:spPr>
          <a:xfrm>
            <a:off x="494676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6"/>
          <p:cNvSpPr/>
          <p:nvPr/>
        </p:nvSpPr>
        <p:spPr>
          <a:xfrm>
            <a:off x="4197240" y="369576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5"/>
          <p:cNvSpPr/>
          <p:nvPr/>
        </p:nvSpPr>
        <p:spPr>
          <a:xfrm>
            <a:off x="344952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4"/>
          <p:cNvSpPr/>
          <p:nvPr/>
        </p:nvSpPr>
        <p:spPr>
          <a:xfrm>
            <a:off x="27018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3"/>
          <p:cNvSpPr/>
          <p:nvPr/>
        </p:nvSpPr>
        <p:spPr>
          <a:xfrm>
            <a:off x="19540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2"/>
          <p:cNvSpPr/>
          <p:nvPr/>
        </p:nvSpPr>
        <p:spPr>
          <a:xfrm>
            <a:off x="1204920" y="369576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1"/>
          <p:cNvSpPr/>
          <p:nvPr/>
        </p:nvSpPr>
        <p:spPr>
          <a:xfrm>
            <a:off x="4572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0"/>
          <p:cNvSpPr/>
          <p:nvPr/>
        </p:nvSpPr>
        <p:spPr>
          <a:xfrm>
            <a:off x="79390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9"/>
          <p:cNvSpPr/>
          <p:nvPr/>
        </p:nvSpPr>
        <p:spPr>
          <a:xfrm>
            <a:off x="7189920" y="327672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8"/>
          <p:cNvSpPr/>
          <p:nvPr/>
        </p:nvSpPr>
        <p:spPr>
          <a:xfrm>
            <a:off x="64422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7"/>
          <p:cNvSpPr/>
          <p:nvPr/>
        </p:nvSpPr>
        <p:spPr>
          <a:xfrm>
            <a:off x="56944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6"/>
          <p:cNvSpPr/>
          <p:nvPr/>
        </p:nvSpPr>
        <p:spPr>
          <a:xfrm>
            <a:off x="494676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5"/>
          <p:cNvSpPr/>
          <p:nvPr/>
        </p:nvSpPr>
        <p:spPr>
          <a:xfrm>
            <a:off x="4197240" y="327672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4"/>
          <p:cNvSpPr/>
          <p:nvPr/>
        </p:nvSpPr>
        <p:spPr>
          <a:xfrm>
            <a:off x="344952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3"/>
          <p:cNvSpPr/>
          <p:nvPr/>
        </p:nvSpPr>
        <p:spPr>
          <a:xfrm>
            <a:off x="27018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2"/>
          <p:cNvSpPr/>
          <p:nvPr/>
        </p:nvSpPr>
        <p:spPr>
          <a:xfrm>
            <a:off x="19540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1204920" y="327672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0"/>
          <p:cNvSpPr/>
          <p:nvPr/>
        </p:nvSpPr>
        <p:spPr>
          <a:xfrm>
            <a:off x="4572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9"/>
          <p:cNvSpPr/>
          <p:nvPr/>
        </p:nvSpPr>
        <p:spPr>
          <a:xfrm>
            <a:off x="79390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7189920" y="28576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64422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6"/>
          <p:cNvSpPr/>
          <p:nvPr/>
        </p:nvSpPr>
        <p:spPr>
          <a:xfrm>
            <a:off x="56944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5"/>
          <p:cNvSpPr/>
          <p:nvPr/>
        </p:nvSpPr>
        <p:spPr>
          <a:xfrm>
            <a:off x="494676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4"/>
          <p:cNvSpPr/>
          <p:nvPr/>
        </p:nvSpPr>
        <p:spPr>
          <a:xfrm>
            <a:off x="4197240" y="285768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3"/>
          <p:cNvSpPr/>
          <p:nvPr/>
        </p:nvSpPr>
        <p:spPr>
          <a:xfrm>
            <a:off x="344952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2"/>
          <p:cNvSpPr/>
          <p:nvPr/>
        </p:nvSpPr>
        <p:spPr>
          <a:xfrm>
            <a:off x="27018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1"/>
          <p:cNvSpPr/>
          <p:nvPr/>
        </p:nvSpPr>
        <p:spPr>
          <a:xfrm>
            <a:off x="19540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0"/>
          <p:cNvSpPr/>
          <p:nvPr/>
        </p:nvSpPr>
        <p:spPr>
          <a:xfrm>
            <a:off x="1204920" y="28576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9"/>
          <p:cNvSpPr/>
          <p:nvPr/>
        </p:nvSpPr>
        <p:spPr>
          <a:xfrm>
            <a:off x="4572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79390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7"/>
          <p:cNvSpPr/>
          <p:nvPr/>
        </p:nvSpPr>
        <p:spPr>
          <a:xfrm>
            <a:off x="7189920" y="24382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64422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5"/>
          <p:cNvSpPr/>
          <p:nvPr/>
        </p:nvSpPr>
        <p:spPr>
          <a:xfrm>
            <a:off x="56944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494676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4197240" y="2438280"/>
            <a:ext cx="749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344952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1"/>
          <p:cNvSpPr/>
          <p:nvPr/>
        </p:nvSpPr>
        <p:spPr>
          <a:xfrm>
            <a:off x="27018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0"/>
          <p:cNvSpPr/>
          <p:nvPr/>
        </p:nvSpPr>
        <p:spPr>
          <a:xfrm>
            <a:off x="19540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1204920" y="24382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8"/>
          <p:cNvSpPr/>
          <p:nvPr/>
        </p:nvSpPr>
        <p:spPr>
          <a:xfrm>
            <a:off x="4572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79390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7189920" y="20192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64422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"/>
          <p:cNvSpPr/>
          <p:nvPr/>
        </p:nvSpPr>
        <p:spPr>
          <a:xfrm>
            <a:off x="56944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494676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4197240" y="201924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1"/>
          <p:cNvSpPr/>
          <p:nvPr/>
        </p:nvSpPr>
        <p:spPr>
          <a:xfrm>
            <a:off x="344952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27018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19540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1204920" y="20192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7"/>
          <p:cNvSpPr/>
          <p:nvPr/>
        </p:nvSpPr>
        <p:spPr>
          <a:xfrm>
            <a:off x="4572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79390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7189920" y="16002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64422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56944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494676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4197240" y="160020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344952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27018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19540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1204920" y="16002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572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16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17"/>
          <p:cNvSpPr/>
          <p:nvPr/>
        </p:nvSpPr>
        <p:spPr>
          <a:xfrm>
            <a:off x="457200" y="2019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8"/>
          <p:cNvSpPr/>
          <p:nvPr/>
        </p:nvSpPr>
        <p:spPr>
          <a:xfrm>
            <a:off x="457200" y="2438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19"/>
          <p:cNvSpPr/>
          <p:nvPr/>
        </p:nvSpPr>
        <p:spPr>
          <a:xfrm>
            <a:off x="457200" y="28576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0"/>
          <p:cNvSpPr/>
          <p:nvPr/>
        </p:nvSpPr>
        <p:spPr>
          <a:xfrm>
            <a:off x="457200" y="32767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21"/>
          <p:cNvSpPr/>
          <p:nvPr/>
        </p:nvSpPr>
        <p:spPr>
          <a:xfrm>
            <a:off x="457200" y="36957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2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3"/>
          <p:cNvSpPr/>
          <p:nvPr/>
        </p:nvSpPr>
        <p:spPr>
          <a:xfrm>
            <a:off x="457200" y="45338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24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5"/>
          <p:cNvSpPr/>
          <p:nvPr/>
        </p:nvSpPr>
        <p:spPr>
          <a:xfrm>
            <a:off x="457200" y="5372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26"/>
          <p:cNvSpPr/>
          <p:nvPr/>
        </p:nvSpPr>
        <p:spPr>
          <a:xfrm>
            <a:off x="457200" y="57913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7"/>
          <p:cNvSpPr/>
          <p:nvPr/>
        </p:nvSpPr>
        <p:spPr>
          <a:xfrm>
            <a:off x="457200" y="1600200"/>
            <a:ext cx="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8"/>
          <p:cNvSpPr/>
          <p:nvPr/>
        </p:nvSpPr>
        <p:spPr>
          <a:xfrm>
            <a:off x="12049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9"/>
          <p:cNvSpPr/>
          <p:nvPr/>
        </p:nvSpPr>
        <p:spPr>
          <a:xfrm>
            <a:off x="19540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30"/>
          <p:cNvSpPr/>
          <p:nvPr/>
        </p:nvSpPr>
        <p:spPr>
          <a:xfrm>
            <a:off x="270180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31"/>
          <p:cNvSpPr/>
          <p:nvPr/>
        </p:nvSpPr>
        <p:spPr>
          <a:xfrm>
            <a:off x="34495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2"/>
          <p:cNvSpPr/>
          <p:nvPr/>
        </p:nvSpPr>
        <p:spPr>
          <a:xfrm>
            <a:off x="419724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3"/>
          <p:cNvSpPr/>
          <p:nvPr/>
        </p:nvSpPr>
        <p:spPr>
          <a:xfrm>
            <a:off x="494676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4"/>
          <p:cNvSpPr/>
          <p:nvPr/>
        </p:nvSpPr>
        <p:spPr>
          <a:xfrm>
            <a:off x="56944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5"/>
          <p:cNvSpPr/>
          <p:nvPr/>
        </p:nvSpPr>
        <p:spPr>
          <a:xfrm>
            <a:off x="644220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6"/>
          <p:cNvSpPr/>
          <p:nvPr/>
        </p:nvSpPr>
        <p:spPr>
          <a:xfrm>
            <a:off x="71899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37"/>
          <p:cNvSpPr/>
          <p:nvPr/>
        </p:nvSpPr>
        <p:spPr>
          <a:xfrm>
            <a:off x="79390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38"/>
          <p:cNvSpPr/>
          <p:nvPr/>
        </p:nvSpPr>
        <p:spPr>
          <a:xfrm>
            <a:off x="8686800" y="1600200"/>
            <a:ext cx="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61"/>
          <p:cNvSpPr/>
          <p:nvPr/>
        </p:nvSpPr>
        <p:spPr>
          <a:xfrm>
            <a:off x="276120" y="5937120"/>
            <a:ext cx="858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отбрасыва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или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исключе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отдельных природ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е</a:t>
            </a:r>
            <a:br>
              <a:rPr sz="1800"/>
            </a:b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не встреч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аком-либо примере, где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при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ная приро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8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8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8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8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8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8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8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3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2" dur="8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3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8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2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3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5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0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2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1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8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0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2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6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8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1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3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6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8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3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5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9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2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7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9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2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4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7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4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6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8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0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2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5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7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2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5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7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2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7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2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7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9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2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4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4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7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9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1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4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6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1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4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9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1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4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6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3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6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8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1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3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8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3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6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1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8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3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8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0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3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5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0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5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8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0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3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0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3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5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0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2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4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6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0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2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4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6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1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3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5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7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9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1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3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5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7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9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3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5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8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0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5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8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3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5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8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0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3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5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8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0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3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9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1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4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6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9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1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4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6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9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6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4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0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5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7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0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2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5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2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5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7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6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8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1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3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1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3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8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1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9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2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4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7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7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9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3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5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8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0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3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8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0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4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6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9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7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3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5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-вторых, должно 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ы, которые лишены дан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форма… так же долж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утствовать там, где от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а, как и присутствовать т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она присутствует. Но перечисл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во всех случаях было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. Поэтому отрицатель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 подчинено положитель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 природы 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мотрено только в предметах наибол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ственных тем, в которых дан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а присутствует и наблюдается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nodeType="clickEffect" fill="hold">
                      <p:stCondLst>
                        <p:cond delay="indefinite"/>
                      </p:stCondLst>
                      <p:childTnLst>
                        <p:par>
                          <p:cTn id="2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обнаруживается, чтобы кометы (если 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причислять к метеорам) производили очевидное и постоянное действ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увеличение жары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 солнца не производят тёпла в средней (как её называют) области воздуха. Обычно этому даётся неплохое объяснение, а именно что эта средняя область не приближена достаточно ни к теплу солнца, откуда исходят лучи, ни к земле, которая их отражает. Это можно видеть на вершинах гор (если они не чрезмерно высоки), где постоянно пребывает снег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 Луны, звёзд и комет не оказываются тёплыми для осязания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 полдень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8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9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0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1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2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4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5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6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2" dur="indefinite" restart="never" nodeType="tmRoot">
          <p:childTnLst>
            <p:seq>
              <p:cTn id="2363" dur="indefinite" nodeType="mainSeq">
                <p:childTnLst>
                  <p:par>
                    <p:cTn id="2364" nodeType="clickEffect" fill="hold">
                      <p:stCondLst>
                        <p:cond delay="indefinite"/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nodeType="clickEffect" fill="hold">
                      <p:stCondLst>
                        <p:cond delay="indefinite"/>
                      </p:stCondLst>
                      <p:childTnLst>
                        <p:par>
                          <p:cTn id="2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4" dur="8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5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2" dur="8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3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8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nodeType="clickEffect" fill="hold">
                      <p:stCondLst>
                        <p:cond delay="indefinite"/>
                      </p:stCondLst>
                      <p:childTnLst>
                        <p:par>
                          <p:cTn id="2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nodeType="clickEffect" fill="hold">
                      <p:stCondLst>
                        <p:cond delay="indefinite"/>
                      </p:stCondLst>
                      <p:childTnLst>
                        <p:par>
                          <p:cTn id="2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nodeType="clickEffect" fill="hold">
                      <p:stCondLst>
                        <p:cond delay="indefinite"/>
                      </p:stCondLst>
                      <p:childTnLst>
                        <p:par>
                          <p:cTn id="2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nodeType="clickEffect" fill="hold">
                      <p:stCondLst>
                        <p:cond delay="indefinite"/>
                      </p:stCondLst>
                      <p:childTnLst>
                        <p:par>
                          <p:cTn id="2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nodeType="clickEffect" fill="hold">
                      <p:stCondLst>
                        <p:cond delay="indefinite"/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nodeType="clickEffect" fill="hold">
                      <p:stCondLst>
                        <p:cond delay="indefinite"/>
                      </p:stCondLst>
                      <p:childTnLst>
                        <p:par>
                          <p:cTn id="2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 называемый блуждающий огонь, который иногда налетает на стену, содержит мало тепла. Возможно, он подобен пламени винного спирта, которое спокойно и мягк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я пламени происходя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холодных областях не мене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в тёплых, как, например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Гренландии и в Исланди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вным образом и деревья в холодных областях иногда более воспламеняем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более смолисты, чем в тёплых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овы ель, сосна и други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ывают сверкания, которые дают свет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не жгут, и они всегда бывают без гром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6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2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8" dur="8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9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4" dur="8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5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nodeType="clickEffect" fill="hold">
                      <p:stCondLst>
                        <p:cond delay="indefinite"/>
                      </p:stCondLst>
                      <p:childTnLst>
                        <p:par>
                          <p:cTn id="2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nodeType="clickEffect" fill="hold">
                      <p:stCondLst>
                        <p:cond delay="indefinite"/>
                      </p:stCondLst>
                      <p:childTnLst>
                        <p:par>
                          <p:cTn id="2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т ни одной осязаемой жидкости, которая была бы тепла по своей природ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остоянно оставалась бы таковой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пло наводится только на время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статочно исследовано, в каких места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 почве какой природы обычн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екают тёплые источники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этому здесь не присоединяется отрицательный пример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нилое дерево … светит ночь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, однако, не отдаёт теплом..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6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7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8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9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0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1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2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3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nodeType="clickEffect" fill="hold">
                      <p:stCondLst>
                        <p:cond delay="indefinite"/>
                      </p:stCondLst>
                      <p:childTnLst>
                        <p:par>
                          <p:cTn id="2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2" dur="8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3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0" dur="8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8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9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nodeType="clickEffect" fill="hold">
                      <p:stCondLst>
                        <p:cond delay="indefinite"/>
                      </p:stCondLst>
                      <p:childTnLst>
                        <p:par>
                          <p:cTn id="2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nodeType="clickEffect" fill="hold">
                      <p:stCondLst>
                        <p:cond delay="indefinite"/>
                      </p:stCondLst>
                      <p:childTnLst>
                        <p:par>
                          <p:cTn id="2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nodeType="clickEffect" fill="hold">
                      <p:stCondLst>
                        <p:cond delay="indefinite"/>
                      </p:stCondLst>
                      <p:childTnLst>
                        <p:par>
                          <p:cTn id="2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nodeType="clickEffect" fill="hold">
                      <p:stCondLst>
                        <p:cond delay="indefinite"/>
                      </p:stCondLst>
                      <p:childTnLst>
                        <p:par>
                          <p:cTn id="2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80121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73263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66405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59547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52689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45831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38973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32115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25257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18399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1054080" y="53150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6"/>
          <p:cNvSpPr/>
          <p:nvPr/>
        </p:nvSpPr>
        <p:spPr>
          <a:xfrm>
            <a:off x="80121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73263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66405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9"/>
          <p:cNvSpPr/>
          <p:nvPr/>
        </p:nvSpPr>
        <p:spPr>
          <a:xfrm>
            <a:off x="59547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0"/>
          <p:cNvSpPr/>
          <p:nvPr/>
        </p:nvSpPr>
        <p:spPr>
          <a:xfrm>
            <a:off x="52689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1"/>
          <p:cNvSpPr/>
          <p:nvPr/>
        </p:nvSpPr>
        <p:spPr>
          <a:xfrm>
            <a:off x="45831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2"/>
          <p:cNvSpPr/>
          <p:nvPr/>
        </p:nvSpPr>
        <p:spPr>
          <a:xfrm>
            <a:off x="38973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3"/>
          <p:cNvSpPr/>
          <p:nvPr/>
        </p:nvSpPr>
        <p:spPr>
          <a:xfrm>
            <a:off x="32115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4"/>
          <p:cNvSpPr/>
          <p:nvPr/>
        </p:nvSpPr>
        <p:spPr>
          <a:xfrm>
            <a:off x="25257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5"/>
          <p:cNvSpPr/>
          <p:nvPr/>
        </p:nvSpPr>
        <p:spPr>
          <a:xfrm>
            <a:off x="18399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6"/>
          <p:cNvSpPr/>
          <p:nvPr/>
        </p:nvSpPr>
        <p:spPr>
          <a:xfrm>
            <a:off x="1054080" y="48974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7"/>
          <p:cNvSpPr/>
          <p:nvPr/>
        </p:nvSpPr>
        <p:spPr>
          <a:xfrm>
            <a:off x="468360" y="489744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80121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73263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>
            <a:off x="66405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>
            <a:off x="59547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2"/>
          <p:cNvSpPr/>
          <p:nvPr/>
        </p:nvSpPr>
        <p:spPr>
          <a:xfrm>
            <a:off x="52689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3"/>
          <p:cNvSpPr/>
          <p:nvPr/>
        </p:nvSpPr>
        <p:spPr>
          <a:xfrm>
            <a:off x="45831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38973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32115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25257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18399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1054080" y="44798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0"/>
          <p:cNvSpPr/>
          <p:nvPr/>
        </p:nvSpPr>
        <p:spPr>
          <a:xfrm>
            <a:off x="80121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1"/>
          <p:cNvSpPr/>
          <p:nvPr/>
        </p:nvSpPr>
        <p:spPr>
          <a:xfrm>
            <a:off x="73263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6405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3"/>
          <p:cNvSpPr/>
          <p:nvPr/>
        </p:nvSpPr>
        <p:spPr>
          <a:xfrm>
            <a:off x="59547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4"/>
          <p:cNvSpPr/>
          <p:nvPr/>
        </p:nvSpPr>
        <p:spPr>
          <a:xfrm>
            <a:off x="52689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5"/>
          <p:cNvSpPr/>
          <p:nvPr/>
        </p:nvSpPr>
        <p:spPr>
          <a:xfrm>
            <a:off x="45831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6"/>
          <p:cNvSpPr/>
          <p:nvPr/>
        </p:nvSpPr>
        <p:spPr>
          <a:xfrm>
            <a:off x="38973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7"/>
          <p:cNvSpPr/>
          <p:nvPr/>
        </p:nvSpPr>
        <p:spPr>
          <a:xfrm>
            <a:off x="32115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8"/>
          <p:cNvSpPr/>
          <p:nvPr/>
        </p:nvSpPr>
        <p:spPr>
          <a:xfrm>
            <a:off x="25257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9"/>
          <p:cNvSpPr/>
          <p:nvPr/>
        </p:nvSpPr>
        <p:spPr>
          <a:xfrm>
            <a:off x="18399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1054080" y="40622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1"/>
          <p:cNvSpPr/>
          <p:nvPr/>
        </p:nvSpPr>
        <p:spPr>
          <a:xfrm>
            <a:off x="468360" y="406224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2"/>
          <p:cNvSpPr/>
          <p:nvPr/>
        </p:nvSpPr>
        <p:spPr>
          <a:xfrm>
            <a:off x="80121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3"/>
          <p:cNvSpPr/>
          <p:nvPr/>
        </p:nvSpPr>
        <p:spPr>
          <a:xfrm>
            <a:off x="73263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4"/>
          <p:cNvSpPr/>
          <p:nvPr/>
        </p:nvSpPr>
        <p:spPr>
          <a:xfrm>
            <a:off x="66405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5"/>
          <p:cNvSpPr/>
          <p:nvPr/>
        </p:nvSpPr>
        <p:spPr>
          <a:xfrm>
            <a:off x="59547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6"/>
          <p:cNvSpPr/>
          <p:nvPr/>
        </p:nvSpPr>
        <p:spPr>
          <a:xfrm>
            <a:off x="52689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7"/>
          <p:cNvSpPr/>
          <p:nvPr/>
        </p:nvSpPr>
        <p:spPr>
          <a:xfrm>
            <a:off x="45831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8"/>
          <p:cNvSpPr/>
          <p:nvPr/>
        </p:nvSpPr>
        <p:spPr>
          <a:xfrm>
            <a:off x="38973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9"/>
          <p:cNvSpPr/>
          <p:nvPr/>
        </p:nvSpPr>
        <p:spPr>
          <a:xfrm>
            <a:off x="32115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0"/>
          <p:cNvSpPr/>
          <p:nvPr/>
        </p:nvSpPr>
        <p:spPr>
          <a:xfrm>
            <a:off x="25257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1"/>
          <p:cNvSpPr/>
          <p:nvPr/>
        </p:nvSpPr>
        <p:spPr>
          <a:xfrm>
            <a:off x="18399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2"/>
          <p:cNvSpPr/>
          <p:nvPr/>
        </p:nvSpPr>
        <p:spPr>
          <a:xfrm>
            <a:off x="1054080" y="3645000"/>
            <a:ext cx="78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4"/>
          <p:cNvSpPr/>
          <p:nvPr/>
        </p:nvSpPr>
        <p:spPr>
          <a:xfrm>
            <a:off x="80121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5"/>
          <p:cNvSpPr/>
          <p:nvPr/>
        </p:nvSpPr>
        <p:spPr>
          <a:xfrm>
            <a:off x="73263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6"/>
          <p:cNvSpPr/>
          <p:nvPr/>
        </p:nvSpPr>
        <p:spPr>
          <a:xfrm>
            <a:off x="66405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7"/>
          <p:cNvSpPr/>
          <p:nvPr/>
        </p:nvSpPr>
        <p:spPr>
          <a:xfrm>
            <a:off x="59547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8"/>
          <p:cNvSpPr/>
          <p:nvPr/>
        </p:nvSpPr>
        <p:spPr>
          <a:xfrm>
            <a:off x="52689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9"/>
          <p:cNvSpPr/>
          <p:nvPr/>
        </p:nvSpPr>
        <p:spPr>
          <a:xfrm>
            <a:off x="45831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0"/>
          <p:cNvSpPr/>
          <p:nvPr/>
        </p:nvSpPr>
        <p:spPr>
          <a:xfrm>
            <a:off x="38973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1"/>
          <p:cNvSpPr/>
          <p:nvPr/>
        </p:nvSpPr>
        <p:spPr>
          <a:xfrm>
            <a:off x="32115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2"/>
          <p:cNvSpPr/>
          <p:nvPr/>
        </p:nvSpPr>
        <p:spPr>
          <a:xfrm>
            <a:off x="25257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3"/>
          <p:cNvSpPr/>
          <p:nvPr/>
        </p:nvSpPr>
        <p:spPr>
          <a:xfrm>
            <a:off x="18399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4"/>
          <p:cNvSpPr/>
          <p:nvPr/>
        </p:nvSpPr>
        <p:spPr>
          <a:xfrm>
            <a:off x="1054080" y="32274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5"/>
          <p:cNvSpPr/>
          <p:nvPr/>
        </p:nvSpPr>
        <p:spPr>
          <a:xfrm>
            <a:off x="468360" y="3227400"/>
            <a:ext cx="585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6"/>
          <p:cNvSpPr/>
          <p:nvPr/>
        </p:nvSpPr>
        <p:spPr>
          <a:xfrm>
            <a:off x="80121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7"/>
          <p:cNvSpPr/>
          <p:nvPr/>
        </p:nvSpPr>
        <p:spPr>
          <a:xfrm>
            <a:off x="73263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8"/>
          <p:cNvSpPr/>
          <p:nvPr/>
        </p:nvSpPr>
        <p:spPr>
          <a:xfrm>
            <a:off x="66405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9"/>
          <p:cNvSpPr/>
          <p:nvPr/>
        </p:nvSpPr>
        <p:spPr>
          <a:xfrm>
            <a:off x="59547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80"/>
          <p:cNvSpPr/>
          <p:nvPr/>
        </p:nvSpPr>
        <p:spPr>
          <a:xfrm>
            <a:off x="52689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1"/>
          <p:cNvSpPr/>
          <p:nvPr/>
        </p:nvSpPr>
        <p:spPr>
          <a:xfrm>
            <a:off x="45831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2"/>
          <p:cNvSpPr/>
          <p:nvPr/>
        </p:nvSpPr>
        <p:spPr>
          <a:xfrm>
            <a:off x="38973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3"/>
          <p:cNvSpPr/>
          <p:nvPr/>
        </p:nvSpPr>
        <p:spPr>
          <a:xfrm>
            <a:off x="32115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84"/>
          <p:cNvSpPr/>
          <p:nvPr/>
        </p:nvSpPr>
        <p:spPr>
          <a:xfrm>
            <a:off x="25257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5"/>
          <p:cNvSpPr/>
          <p:nvPr/>
        </p:nvSpPr>
        <p:spPr>
          <a:xfrm>
            <a:off x="18399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6"/>
          <p:cNvSpPr/>
          <p:nvPr/>
        </p:nvSpPr>
        <p:spPr>
          <a:xfrm>
            <a:off x="1054080" y="28098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8"/>
          <p:cNvSpPr/>
          <p:nvPr/>
        </p:nvSpPr>
        <p:spPr>
          <a:xfrm>
            <a:off x="80121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9"/>
          <p:cNvSpPr/>
          <p:nvPr/>
        </p:nvSpPr>
        <p:spPr>
          <a:xfrm>
            <a:off x="73263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0"/>
          <p:cNvSpPr/>
          <p:nvPr/>
        </p:nvSpPr>
        <p:spPr>
          <a:xfrm>
            <a:off x="66405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59547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92"/>
          <p:cNvSpPr/>
          <p:nvPr/>
        </p:nvSpPr>
        <p:spPr>
          <a:xfrm>
            <a:off x="52689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3"/>
          <p:cNvSpPr/>
          <p:nvPr/>
        </p:nvSpPr>
        <p:spPr>
          <a:xfrm>
            <a:off x="45831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94"/>
          <p:cNvSpPr/>
          <p:nvPr/>
        </p:nvSpPr>
        <p:spPr>
          <a:xfrm>
            <a:off x="38973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5"/>
          <p:cNvSpPr/>
          <p:nvPr/>
        </p:nvSpPr>
        <p:spPr>
          <a:xfrm>
            <a:off x="32115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96"/>
          <p:cNvSpPr/>
          <p:nvPr/>
        </p:nvSpPr>
        <p:spPr>
          <a:xfrm>
            <a:off x="25257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97"/>
          <p:cNvSpPr/>
          <p:nvPr/>
        </p:nvSpPr>
        <p:spPr>
          <a:xfrm>
            <a:off x="18399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98"/>
          <p:cNvSpPr/>
          <p:nvPr/>
        </p:nvSpPr>
        <p:spPr>
          <a:xfrm>
            <a:off x="1054080" y="23922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99"/>
          <p:cNvSpPr/>
          <p:nvPr/>
        </p:nvSpPr>
        <p:spPr>
          <a:xfrm>
            <a:off x="468360" y="239220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0"/>
          <p:cNvSpPr/>
          <p:nvPr/>
        </p:nvSpPr>
        <p:spPr>
          <a:xfrm>
            <a:off x="80121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01"/>
          <p:cNvSpPr/>
          <p:nvPr/>
        </p:nvSpPr>
        <p:spPr>
          <a:xfrm>
            <a:off x="73263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2"/>
          <p:cNvSpPr/>
          <p:nvPr/>
        </p:nvSpPr>
        <p:spPr>
          <a:xfrm>
            <a:off x="66405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3"/>
          <p:cNvSpPr/>
          <p:nvPr/>
        </p:nvSpPr>
        <p:spPr>
          <a:xfrm>
            <a:off x="59547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4"/>
          <p:cNvSpPr/>
          <p:nvPr/>
        </p:nvSpPr>
        <p:spPr>
          <a:xfrm>
            <a:off x="52689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5"/>
          <p:cNvSpPr/>
          <p:nvPr/>
        </p:nvSpPr>
        <p:spPr>
          <a:xfrm>
            <a:off x="45831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6"/>
          <p:cNvSpPr/>
          <p:nvPr/>
        </p:nvSpPr>
        <p:spPr>
          <a:xfrm>
            <a:off x="38973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07"/>
          <p:cNvSpPr/>
          <p:nvPr/>
        </p:nvSpPr>
        <p:spPr>
          <a:xfrm>
            <a:off x="32115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8"/>
          <p:cNvSpPr/>
          <p:nvPr/>
        </p:nvSpPr>
        <p:spPr>
          <a:xfrm>
            <a:off x="25257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9"/>
          <p:cNvSpPr/>
          <p:nvPr/>
        </p:nvSpPr>
        <p:spPr>
          <a:xfrm>
            <a:off x="18399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0"/>
          <p:cNvSpPr/>
          <p:nvPr/>
        </p:nvSpPr>
        <p:spPr>
          <a:xfrm>
            <a:off x="1054080" y="1974960"/>
            <a:ext cx="78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12"/>
          <p:cNvSpPr/>
          <p:nvPr/>
        </p:nvSpPr>
        <p:spPr>
          <a:xfrm>
            <a:off x="80121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3"/>
          <p:cNvSpPr/>
          <p:nvPr/>
        </p:nvSpPr>
        <p:spPr>
          <a:xfrm>
            <a:off x="73263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4"/>
          <p:cNvSpPr/>
          <p:nvPr/>
        </p:nvSpPr>
        <p:spPr>
          <a:xfrm>
            <a:off x="66405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15"/>
          <p:cNvSpPr/>
          <p:nvPr/>
        </p:nvSpPr>
        <p:spPr>
          <a:xfrm>
            <a:off x="59547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16"/>
          <p:cNvSpPr/>
          <p:nvPr/>
        </p:nvSpPr>
        <p:spPr>
          <a:xfrm>
            <a:off x="52689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7"/>
          <p:cNvSpPr/>
          <p:nvPr/>
        </p:nvSpPr>
        <p:spPr>
          <a:xfrm>
            <a:off x="45831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8"/>
          <p:cNvSpPr/>
          <p:nvPr/>
        </p:nvSpPr>
        <p:spPr>
          <a:xfrm>
            <a:off x="38973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9"/>
          <p:cNvSpPr/>
          <p:nvPr/>
        </p:nvSpPr>
        <p:spPr>
          <a:xfrm>
            <a:off x="32115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20"/>
          <p:cNvSpPr/>
          <p:nvPr/>
        </p:nvSpPr>
        <p:spPr>
          <a:xfrm>
            <a:off x="25257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21"/>
          <p:cNvSpPr/>
          <p:nvPr/>
        </p:nvSpPr>
        <p:spPr>
          <a:xfrm>
            <a:off x="18399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22"/>
          <p:cNvSpPr/>
          <p:nvPr/>
        </p:nvSpPr>
        <p:spPr>
          <a:xfrm>
            <a:off x="1054080" y="155736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3"/>
          <p:cNvSpPr/>
          <p:nvPr/>
        </p:nvSpPr>
        <p:spPr>
          <a:xfrm>
            <a:off x="468360" y="1557360"/>
            <a:ext cx="585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4"/>
          <p:cNvSpPr/>
          <p:nvPr/>
        </p:nvSpPr>
        <p:spPr>
          <a:xfrm>
            <a:off x="468360" y="155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26"/>
          <p:cNvSpPr/>
          <p:nvPr/>
        </p:nvSpPr>
        <p:spPr>
          <a:xfrm>
            <a:off x="468360" y="2392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28"/>
          <p:cNvSpPr/>
          <p:nvPr/>
        </p:nvSpPr>
        <p:spPr>
          <a:xfrm>
            <a:off x="468360" y="3227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30"/>
          <p:cNvSpPr/>
          <p:nvPr/>
        </p:nvSpPr>
        <p:spPr>
          <a:xfrm>
            <a:off x="468360" y="4062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32"/>
          <p:cNvSpPr/>
          <p:nvPr/>
        </p:nvSpPr>
        <p:spPr>
          <a:xfrm>
            <a:off x="468360" y="489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34"/>
          <p:cNvSpPr/>
          <p:nvPr/>
        </p:nvSpPr>
        <p:spPr>
          <a:xfrm>
            <a:off x="468360" y="57326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35"/>
          <p:cNvSpPr/>
          <p:nvPr/>
        </p:nvSpPr>
        <p:spPr>
          <a:xfrm>
            <a:off x="468360" y="1557360"/>
            <a:ext cx="0" cy="4175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36"/>
          <p:cNvSpPr/>
          <p:nvPr/>
        </p:nvSpPr>
        <p:spPr>
          <a:xfrm>
            <a:off x="105408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37"/>
          <p:cNvSpPr/>
          <p:nvPr/>
        </p:nvSpPr>
        <p:spPr>
          <a:xfrm>
            <a:off x="18399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38"/>
          <p:cNvSpPr/>
          <p:nvPr/>
        </p:nvSpPr>
        <p:spPr>
          <a:xfrm>
            <a:off x="25257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9"/>
          <p:cNvSpPr/>
          <p:nvPr/>
        </p:nvSpPr>
        <p:spPr>
          <a:xfrm>
            <a:off x="32115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0"/>
          <p:cNvSpPr/>
          <p:nvPr/>
        </p:nvSpPr>
        <p:spPr>
          <a:xfrm>
            <a:off x="38973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41"/>
          <p:cNvSpPr/>
          <p:nvPr/>
        </p:nvSpPr>
        <p:spPr>
          <a:xfrm>
            <a:off x="45831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42"/>
          <p:cNvSpPr/>
          <p:nvPr/>
        </p:nvSpPr>
        <p:spPr>
          <a:xfrm>
            <a:off x="52689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43"/>
          <p:cNvSpPr/>
          <p:nvPr/>
        </p:nvSpPr>
        <p:spPr>
          <a:xfrm>
            <a:off x="59547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4"/>
          <p:cNvSpPr/>
          <p:nvPr/>
        </p:nvSpPr>
        <p:spPr>
          <a:xfrm>
            <a:off x="66405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5"/>
          <p:cNvSpPr/>
          <p:nvPr/>
        </p:nvSpPr>
        <p:spPr>
          <a:xfrm>
            <a:off x="73263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46"/>
          <p:cNvSpPr/>
          <p:nvPr/>
        </p:nvSpPr>
        <p:spPr>
          <a:xfrm>
            <a:off x="80121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47"/>
          <p:cNvSpPr/>
          <p:nvPr/>
        </p:nvSpPr>
        <p:spPr>
          <a:xfrm>
            <a:off x="8697960" y="1557360"/>
            <a:ext cx="0" cy="4175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52"/>
          <p:cNvSpPr/>
          <p:nvPr/>
        </p:nvSpPr>
        <p:spPr>
          <a:xfrm>
            <a:off x="1054080" y="197496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54"/>
          <p:cNvSpPr/>
          <p:nvPr/>
        </p:nvSpPr>
        <p:spPr>
          <a:xfrm>
            <a:off x="1054080" y="280980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56"/>
          <p:cNvSpPr/>
          <p:nvPr/>
        </p:nvSpPr>
        <p:spPr>
          <a:xfrm>
            <a:off x="1054080" y="364500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8"/>
          <p:cNvSpPr/>
          <p:nvPr/>
        </p:nvSpPr>
        <p:spPr>
          <a:xfrm>
            <a:off x="1054080" y="447984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0"/>
          <p:cNvSpPr/>
          <p:nvPr/>
        </p:nvSpPr>
        <p:spPr>
          <a:xfrm>
            <a:off x="1054080" y="531504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62"/>
          <p:cNvSpPr/>
          <p:nvPr/>
        </p:nvSpPr>
        <p:spPr>
          <a:xfrm>
            <a:off x="455760" y="5937120"/>
            <a:ext cx="8231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отбрасыва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или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исключе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отдельных природ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1800"/>
            </a:b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встреч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аком-либо примере, где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ная приро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0" dur="indefinite" restart="never" nodeType="tmRoot">
          <p:childTnLst>
            <p:seq>
              <p:cTn id="2601" dur="indefinite" nodeType="mainSeq">
                <p:childTnLst>
                  <p:par>
                    <p:cTn id="2602" nodeType="clickEffect" fill="hold">
                      <p:stCondLst>
                        <p:cond delay="indefinite"/>
                      </p:stCondLst>
                      <p:childTnLst>
                        <p:par>
                          <p:cTn id="2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nodeType="clickEffect" fill="hold">
                      <p:stCondLst>
                        <p:cond delay="indefinite"/>
                      </p:stCondLst>
                      <p:childTnLst>
                        <p:par>
                          <p:cTn id="2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8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8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9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8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1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9" dur="8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0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6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8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0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8" dur="8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9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1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6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7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3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8" dur="8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9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7" dur="8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8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0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2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8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8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6" dur="8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7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3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1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9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3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nodeType="clickEffect" fill="hold">
                      <p:stCondLst>
                        <p:cond delay="indefinite"/>
                      </p:stCondLst>
                      <p:childTnLst>
                        <p:par>
                          <p:cTn id="2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7" dur="8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8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8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2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8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8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4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8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6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7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0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3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7" dur="8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8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6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8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9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6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0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1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7" dur="8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8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0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1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3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7" dur="8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8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9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0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0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4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5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nodeType="clickEffect" fill="hold">
                      <p:stCondLst>
                        <p:cond delay="indefinite"/>
                      </p:stCondLst>
                      <p:childTnLst>
                        <p:par>
                          <p:cTn id="3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7" dur="2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9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1" dur="2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3" dur="2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5" dur="2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7" dur="2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9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1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3" dur="2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5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nodeType="clickEffect" fill="hold">
                      <p:stCondLst>
                        <p:cond delay="indefinite"/>
                      </p:stCondLst>
                      <p:childTnLst>
                        <p:par>
                          <p:cTn id="3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0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1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2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6" dur="2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8" dur="2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0" dur="2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2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4" dur="2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6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8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0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2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8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1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3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6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1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3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6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8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1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3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6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8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1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3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6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8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1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3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6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8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1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3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6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8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1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3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6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8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1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2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3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6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8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1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2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3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6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8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nodeType="clickEffect" fill="hold">
                      <p:stCondLst>
                        <p:cond delay="indefinite"/>
                      </p:stCondLst>
                      <p:childTnLst>
                        <p:par>
                          <p:cTn id="3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5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8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9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0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3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4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5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8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9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0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3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4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8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0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4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5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8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0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3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8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0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3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5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8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0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3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5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8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0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3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5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8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9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0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3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5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0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3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5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8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9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0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3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5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0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5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8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0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3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5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8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0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3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5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9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0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3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5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8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9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0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3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4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5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8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0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3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4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5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8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9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0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3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5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8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0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3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4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5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8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0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3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5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8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0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3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4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5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8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0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3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5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8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0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3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5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8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0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5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8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9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0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3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5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8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0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3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4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5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8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0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nodeType="clickEffect" fill="hold">
                      <p:stCondLst>
                        <p:cond delay="indefinite"/>
                      </p:stCondLst>
                      <p:childTnLst>
                        <p:par>
                          <p:cTn id="3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5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7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8" nodeType="clickEffect" fill="hold">
                      <p:stCondLst>
                        <p:cond delay="indefinite"/>
                      </p:stCondLst>
                      <p:childTnLst>
                        <p:par>
                          <p:cTn id="3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1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2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3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6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7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8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3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4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7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8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2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4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7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8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9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2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4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7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9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2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3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4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6" nodeType="clickEffect" fill="hold">
                      <p:stCondLst>
                        <p:cond delay="indefinite"/>
                      </p:stCondLst>
                      <p:childTnLst>
                        <p:par>
                          <p:cTn id="3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99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1" dur="2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5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6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7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0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1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2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1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3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8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1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2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3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6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8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nodeType="clickEffect" fill="hold">
                      <p:stCondLst>
                        <p:cond delay="indefinite"/>
                      </p:stCondLst>
                      <p:childTnLst>
                        <p:par>
                          <p:cTn id="3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3" dur="2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5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nodeType="clickEffect" fill="hold">
                      <p:stCondLst>
                        <p:cond delay="indefinite"/>
                      </p:stCondLst>
                      <p:childTnLst>
                        <p:par>
                          <p:cTn id="3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9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1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4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5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6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0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1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2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5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6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0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1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2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nodeType="clickEffect" fill="hold">
                      <p:stCondLst>
                        <p:cond delay="indefinite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7" dur="2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9" dur="2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4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7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8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9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2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4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nodeType="clickEffect" fill="hold">
                      <p:stCondLst>
                        <p:cond delay="indefinite"/>
                      </p:stCondLst>
                      <p:childTnLst>
                        <p:par>
                          <p:cTn id="3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9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1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3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5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7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0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2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4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6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8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5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-треть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ы, в котор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следуемая природа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большей и в меньшей степе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зможно или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поставления роста и уменьш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свой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дном и том же предме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посредством сравнения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азличных предметах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9" dur="indefinite" restart="never" nodeType="tmRoot">
          <p:childTnLst>
            <p:seq>
              <p:cTn id="3820" dur="indefinite" nodeType="mainSeq">
                <p:childTnLst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3"/>
          <p:cNvSpPr/>
          <p:nvPr/>
        </p:nvSpPr>
        <p:spPr>
          <a:xfrm>
            <a:off x="1692360" y="4562640"/>
            <a:ext cx="934920" cy="1547640"/>
          </a:xfrm>
          <a:custGeom>
            <a:avLst/>
            <a:gdLst>
              <a:gd name="textAreaLeft" fmla="*/ 125280 w 934920"/>
              <a:gd name="textAreaRight" fmla="*/ 809640 w 934920"/>
              <a:gd name="textAreaTop" fmla="*/ 270720 h 1547640"/>
              <a:gd name="textAreaBottom" fmla="*/ 11221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612720" y="2832120"/>
            <a:ext cx="934920" cy="1547640"/>
          </a:xfrm>
          <a:custGeom>
            <a:avLst/>
            <a:gdLst>
              <a:gd name="textAreaLeft" fmla="*/ 125280 w 934920"/>
              <a:gd name="textAreaRight" fmla="*/ 809640 w 934920"/>
              <a:gd name="textAreaTop" fmla="*/ 270720 h 1547640"/>
              <a:gd name="textAreaBottom" fmla="*/ 11221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"/>
          <p:cNvSpPr/>
          <p:nvPr/>
        </p:nvSpPr>
        <p:spPr>
          <a:xfrm>
            <a:off x="2625840" y="4965840"/>
            <a:ext cx="611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огда после отбрасывания и исключения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деланного должным образом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когда все легковесные мнения обратятся в дым)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 втором месте (как бы на дне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станется положительная форма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вёрдая, истин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 хорошо определённа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ёмы «истинной индукции» (общий обз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6"/>
          <p:cNvSpPr/>
          <p:nvPr/>
        </p:nvSpPr>
        <p:spPr>
          <a:xfrm>
            <a:off x="466560" y="1511280"/>
            <a:ext cx="611856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так, следует совершать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азложение и разделение природы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нечно, не огнём, но разумом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торый есть как бы божественный огонь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7"/>
          <p:cNvSpPr/>
          <p:nvPr/>
        </p:nvSpPr>
        <p:spPr>
          <a:xfrm>
            <a:off x="1546200" y="3238560"/>
            <a:ext cx="611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этому первое дело истинной индукции (в отношен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ткрытия форм) есть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отбрасыван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или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сключен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дельных природ,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которы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не встречаютс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каком-либо примере, гд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присутствует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данная природа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встречаются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в каком-либо примере, гд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отсутствует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анная природа, или встречаются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растущим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каком-либо примере, где данная природа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убывае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убываю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когда данная природа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растё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9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629480" y="1403280"/>
            <a:ext cx="1382760" cy="1803600"/>
          </a:xfrm>
          <a:prstGeom prst="rect">
            <a:avLst/>
          </a:prstGeom>
          <a:ln w="0">
            <a:noFill/>
          </a:ln>
        </p:spPr>
      </p:pic>
      <p:sp>
        <p:nvSpPr>
          <p:cNvPr id="6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6" dur="indefinite" restart="never" nodeType="tmRoot">
          <p:childTnLst>
            <p:seq>
              <p:cTn id="3827" dur="indefinite" nodeType="mainSeq">
                <p:childTnLst>
                  <p:par>
                    <p:cTn id="3828" nodeType="clickEffect" fill="hold">
                      <p:stCondLst>
                        <p:cond delay="indefinite"/>
                      </p:stCondLst>
                      <p:childTnLst>
                        <p:par>
                          <p:cTn id="3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2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3" nodeType="clickEffect" fill="hold">
                      <p:stCondLst>
                        <p:cond delay="indefinite"/>
                      </p:stCondLst>
                      <p:childTnLst>
                        <p:par>
                          <p:cTn id="3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nodeType="clickEffect" fill="hold">
                      <p:stCondLst>
                        <p:cond delay="indefinite"/>
                      </p:stCondLst>
                      <p:childTnLst>
                        <p:par>
                          <p:cTn id="3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2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1727280" y="438948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1727280" y="294948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1114560" y="1870200"/>
            <a:ext cx="1079280" cy="576000"/>
          </a:xfrm>
          <a:prstGeom prst="rightArrow">
            <a:avLst>
              <a:gd name="adj1" fmla="val 50000"/>
              <a:gd name="adj2" fmla="val 46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6"/>
          <p:cNvSpPr/>
          <p:nvPr/>
        </p:nvSpPr>
        <p:spPr>
          <a:xfrm>
            <a:off x="4316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7"/>
          <p:cNvSpPr/>
          <p:nvPr/>
        </p:nvSpPr>
        <p:spPr>
          <a:xfrm>
            <a:off x="21938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"/>
          <p:cNvSpPr/>
          <p:nvPr/>
        </p:nvSpPr>
        <p:spPr>
          <a:xfrm>
            <a:off x="34178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9"/>
          <p:cNvSpPr/>
          <p:nvPr/>
        </p:nvSpPr>
        <p:spPr>
          <a:xfrm>
            <a:off x="1042920" y="28782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0"/>
          <p:cNvSpPr/>
          <p:nvPr/>
        </p:nvSpPr>
        <p:spPr>
          <a:xfrm>
            <a:off x="2806560" y="28782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1"/>
          <p:cNvSpPr/>
          <p:nvPr/>
        </p:nvSpPr>
        <p:spPr>
          <a:xfrm>
            <a:off x="1042920" y="431784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2"/>
          <p:cNvSpPr/>
          <p:nvPr/>
        </p:nvSpPr>
        <p:spPr>
          <a:xfrm>
            <a:off x="2806560" y="431784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4641840" y="1546200"/>
            <a:ext cx="4246560" cy="503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dus tollendo ponens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-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я, в котор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ервая посылка –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разделительное сужд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т.е. суждение, утвержда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данному предмету присущ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ько один из признак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нных в предикате суждения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вторая посылка –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категорическое сужд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ющее один из член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го сужд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ли, если членов больше дву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члены, кроме одного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заключ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твержда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ой (неисключённый) чл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го сужд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431640" y="3957480"/>
            <a:ext cx="37069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24000" y="5326200"/>
            <a:ext cx="3922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Arial"/>
              </a:rPr>
              <a:t>Разделительное суждени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авильно лишь в том случае, если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вокупность членов суждени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черпывает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с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альтернативы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6"/>
          <p:cNvSpPr/>
          <p:nvPr/>
        </p:nvSpPr>
        <p:spPr>
          <a:xfrm>
            <a:off x="2878200" y="1870200"/>
            <a:ext cx="576360" cy="576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3" dur="indefinite" restart="never" nodeType="tmRoot">
          <p:childTnLst>
            <p:seq>
              <p:cTn id="3854" dur="indefinite" nodeType="mainSeq">
                <p:childTnLst>
                  <p:par>
                    <p:cTn id="3855" nodeType="clickEffect" fill="hold">
                      <p:stCondLst>
                        <p:cond delay="indefinite"/>
                      </p:stCondLst>
                      <p:childTnLst>
                        <p:par>
                          <p:cTn id="3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9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nodeType="clickEffect" fill="hold">
                      <p:stCondLst>
                        <p:cond delay="indefinite"/>
                      </p:stCondLst>
                      <p:childTnLst>
                        <p:par>
                          <p:cTn id="3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6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5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6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7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2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4" nodeType="clickEffect" fill="hold">
                      <p:stCondLst>
                        <p:cond delay="indefinite"/>
                      </p:stCondLst>
                      <p:childTnLst>
                        <p:par>
                          <p:cTn id="3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9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nodeType="clickEffect" fill="hold">
                      <p:stCondLst>
                        <p:cond delay="indefinite"/>
                      </p:stCondLst>
                      <p:childTnLst>
                        <p:par>
                          <p:cTn id="3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8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9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0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6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1" dur="indefinite" restart="never" nodeType="tmRoot">
          <p:childTnLst>
            <p:seq>
              <p:cTn id="3962" dur="indefinite" nodeType="mainSeq">
                <p:childTnLst>
                  <p:par>
                    <p:cTn id="3963" nodeType="clickEffect" fill="hold">
                      <p:stCondLst>
                        <p:cond delay="0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2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3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6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7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nodeType="clickEffect" fill="hold">
                      <p:stCondLst>
                        <p:cond delay="indefinite"/>
                      </p:stCondLst>
                      <p:childTnLst>
                        <p:par>
                          <p:cTn id="3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2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3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4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9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0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1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61000" y="5613480"/>
            <a:ext cx="379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-Ф. Рубийя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юст Фрэнсиса Бэкон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51, Кембридж, Тринити-колледж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138560" y="2698920"/>
            <a:ext cx="48578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, или наставления нравственные и политические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-е изд. – 1597, 2-е изд. – 1612, 3-е изд. –162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мудрости древни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0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ликое восстановление нау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достоинстве и приумножении нау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ый Органон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ветр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жизни и смер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ая Атланти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3-1624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Roubillac Louis Francois (1695-1762), Bust of Sir Francis Bacon - detail (1751, Trinity College Library, University of Cambridge, Cambridge)-red"/>
          <p:cNvPicPr/>
          <p:nvPr/>
        </p:nvPicPr>
        <p:blipFill>
          <a:blip r:embed="rId1"/>
          <a:stretch/>
        </p:blipFill>
        <p:spPr>
          <a:xfrm>
            <a:off x="755640" y="1798560"/>
            <a:ext cx="2576520" cy="336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4749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2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4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2"/>
          <p:cNvSpPr/>
          <p:nvPr/>
        </p:nvSpPr>
        <p:spPr>
          <a:xfrm>
            <a:off x="6607080" y="4756320"/>
            <a:ext cx="1800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"/>
          <p:cNvSpPr/>
          <p:nvPr/>
        </p:nvSpPr>
        <p:spPr>
          <a:xfrm>
            <a:off x="790560" y="4756320"/>
            <a:ext cx="1800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3165480" y="3238560"/>
            <a:ext cx="287964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четыр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а идол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ые осажда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ы люд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790560" y="1716120"/>
            <a:ext cx="180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25729994"/>
          <p:cNvPicPr/>
          <p:nvPr/>
        </p:nvPicPr>
        <p:blipFill>
          <a:blip r:embed="rId1"/>
          <a:stretch/>
        </p:blipFill>
        <p:spPr>
          <a:xfrm>
            <a:off x="1222200" y="5056200"/>
            <a:ext cx="96228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Oval 8"/>
          <p:cNvSpPr/>
          <p:nvPr/>
        </p:nvSpPr>
        <p:spPr>
          <a:xfrm>
            <a:off x="6607080" y="1716120"/>
            <a:ext cx="180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21271054"/>
          <p:cNvPicPr/>
          <p:nvPr/>
        </p:nvPicPr>
        <p:blipFill>
          <a:blip r:embed="rId2"/>
          <a:stretch/>
        </p:blipFill>
        <p:spPr>
          <a:xfrm>
            <a:off x="6891480" y="2068560"/>
            <a:ext cx="1218960" cy="110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23803991"/>
          <p:cNvPicPr/>
          <p:nvPr/>
        </p:nvPicPr>
        <p:blipFill>
          <a:blip r:embed="rId3"/>
          <a:stretch/>
        </p:blipFill>
        <p:spPr>
          <a:xfrm>
            <a:off x="7016760" y="50562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19859470"/>
          <p:cNvPicPr/>
          <p:nvPr/>
        </p:nvPicPr>
        <p:blipFill>
          <a:blip r:embed="rId4"/>
          <a:stretch/>
        </p:blipFill>
        <p:spPr>
          <a:xfrm>
            <a:off x="1312920" y="2014560"/>
            <a:ext cx="752400" cy="12193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2"/>
          <p:cNvSpPr/>
          <p:nvPr/>
        </p:nvSpPr>
        <p:spPr>
          <a:xfrm>
            <a:off x="5792760" y="23702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 flipH="1">
            <a:off x="2590920" y="23702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 flipH="1" flipV="1">
            <a:off x="2590920" y="503712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7000 h 866880"/>
              <a:gd name="textAreaBottom" fmla="*/ 3715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 flipV="1">
            <a:off x="5796000" y="503712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7000 h 866880"/>
              <a:gd name="textAreaBottom" fmla="*/ 3715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611280" y="424656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площад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611280" y="362268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6426360" y="362268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6426360" y="424656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ы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ходят осн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амой природе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лемени или самом роде лю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о утвержд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а человека есть мера вещ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оборот, все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чувства, так и у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оятся на аналогии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на аналогии мир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 человека уподобляется неро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ркалу, которое, примеш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природе вещей свою природ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жает вещи в искривлён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езображенном виде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емление уподоблять природу человеку (как проявление общей установки объяснять неизвестное по аналогии с известн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нденция к упрощению, проявляющаяся в предположении, что в изучаемом объекте больше порядка и целесообразности, чем на самом 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переоценивать значение неожиданных, необычных и удивительных явлений, отнюдь не обязательно репрезентатив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ы пещер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уть забл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ого человека. Ведь у кажд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мимо ошибок, свойственных ро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му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я особая пещер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ая ослабляет и искажает св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исходит это или от особ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ждённых свойств кажд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т воспитания и бесед с други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т чтения книг и от авторите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д какими кто преклоняется,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ледствие разницы во впечатления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висящей от того, получают ли их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взятые и предрасположенные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 души хладнокровные и спокойные..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пещ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в большинстве своём склонны ценить выше то, во что ими вложено больше труда, или то, что им более привы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придавать большее значение различиям в вещах, другие – сходству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больше интересуются частностями и подробностями, другие – общим и ц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к почитанию древности, другие увлечены любовью к новизне, но немногие могут соблюсти такую меру, чтобы и не отбрасывать то, что справедливо установлено древними, и не пренебречь тем, что верно предложено н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3:17:24Z</dcterms:created>
  <dc:creator>Николай Бирюков / Nikolai Biryukov</dc:creator>
  <dc:description>Редакция февраля 2010 г.</dc:description>
  <dc:language>en-US</dc:language>
  <cp:lastModifiedBy>LEGION</cp:lastModifiedBy>
  <dcterms:modified xsi:type="dcterms:W3CDTF">2014-11-11T09:57:55Z</dcterms:modified>
  <cp:revision>188</cp:revision>
  <dc:subject>Основы философии - Тема 10</dc:subject>
  <dc:title>Бэкон: обоснование эмпиризма</dc:title>
</cp:coreProperties>
</file>