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26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35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27.jpeg" ContentType="image/jpeg"/>
  <Override PartName="/ppt/media/image11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wmf" ContentType="image/x-wmf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0906-5757-4B1A-BA9E-1E365B2324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 против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CB47-CAA1-46CB-A6BC-E1B939D6A8E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3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Воеводкина И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3FDC-6DE8-406C-9C6B-50A84D1A2A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Светлугина Н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97DF-80A1-450F-B046-81036C7F32E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Б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Решетняк Елена Михайл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19E5-BCAE-48B2-9D94-D9C9EEA2830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В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Овчинникова Л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5A81-A665-4CDE-A69F-63C4DC4ABC3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классных часов учителями использов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B404-12A4-4F9F-AE2D-EE755BC2E7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о Всероссийском конкурсе «Спорт против наркот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в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ного группового рису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CAA8-F778-426F-AE50-90443BD04FE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725D-15E1-4CB0-B00D-771278CAFC9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D3D8-29E0-4CC3-A6A9-B35D6201966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ь проблему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ать детям нравственные нормы цивилизован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сво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A9B1-740A-4840-93CC-457B502F42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п - анкетирова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 вреде кур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лет – 19 уче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B740-8AE3-476C-A0E4-26EC37E3D4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проводишь свободное врем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204F-4577-4B76-B017-CD984D90ECE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ты в первый раз узнал о табаке и алког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4EFB-475D-41EF-9F20-3B615E8D650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D2E0-69DE-4CF6-A41F-1C9B38D5ADE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8A23-D8C8-472F-B841-F72E7F3D321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Даниленко Оксана Василье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84C6-D703-4D36-A926-CB1FCEAA37E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Б», 4 «В»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: Кузькин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ршова Светлан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70D7-1CCE-4C37-AA0A-DCD746F5C83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2B2-E033-4883-90C3-7EE1A598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8E7-14C9-47C3-B984-571D2BF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663-05E6-40B7-9023-15E1C9F3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DFD-20E4-49D5-A026-D313FE4B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847D-2CDD-42B7-8A84-4C50358C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875E-18CC-469F-A9DF-C3A05800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40BB-61A1-47D5-8624-E401FCDD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7452-1BD8-4119-9D09-3B44FDC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8554-AB3E-4E15-8748-0D3566A8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EBE8-E9E1-4522-8C62-C004F553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9C95-A388-45F4-9E83-6626193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B22-4596-4E41-A45E-0A5FAB7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2D83-7432-4876-8543-F08B1C23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A6FB-1BC4-4AA8-9568-22CD10B5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5433-7B12-4F90-930E-59E99BFC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D544-66D7-4D79-B603-5085AB43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A81F-A0E0-4696-88F0-6FC8CA18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9E1-65E2-4098-A01D-484104F5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440-E5D9-40D8-863A-67C146F2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59B-6D41-4D97-924F-AC590FAC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8A4-C846-4702-9B77-1CAF382A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18C-0F4A-49C4-9649-028E8614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36D-2E7A-4246-8C97-A32D37F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4EE-2B07-48B6-96B2-271149F6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68B6-314F-4D35-960D-48868973A8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4F4B-5C9A-47CD-9309-0453DB5DBA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8;&#1077;&#1076;&#1085;&#1099;&#1077;%20&#1087;&#1088;&#1080;&#1074;&#1099;&#1095;&#1082;&#1080;.ppt" TargetMode="External"/><Relationship Id="rId2" Type="http://schemas.openxmlformats.org/officeDocument/2006/relationships/hyperlink" Target="file:///&#1042;&#1088;&#1077;&#1076;&#1085;&#1099;&#1077;%20&#1087;&#1088;&#1080;&#1074;&#1099;&#1095;&#1082;&#1080;.ppt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орт против вредных привыче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VOLASABY"/>
          <p:cNvPicPr/>
          <p:nvPr/>
        </p:nvPicPr>
        <p:blipFill>
          <a:blip r:embed="rId1"/>
          <a:stretch/>
        </p:blipFill>
        <p:spPr>
          <a:xfrm>
            <a:off x="6084720" y="3429000"/>
            <a:ext cx="2151360" cy="323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OCGIRL"/>
          <p:cNvPicPr/>
          <p:nvPr/>
        </p:nvPicPr>
        <p:blipFill>
          <a:blip r:embed="rId2"/>
          <a:stretch/>
        </p:blipFill>
        <p:spPr>
          <a:xfrm>
            <a:off x="826920" y="3429000"/>
            <a:ext cx="2335320" cy="30924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Воеводкина И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Рисунок12"/>
          <p:cNvPicPr/>
          <p:nvPr/>
        </p:nvPicPr>
        <p:blipFill>
          <a:blip r:embed="rId1"/>
          <a:stretch/>
        </p:blipFill>
        <p:spPr>
          <a:xfrm>
            <a:off x="539640" y="3213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Рисунок13"/>
          <p:cNvPicPr/>
          <p:nvPr/>
        </p:nvPicPr>
        <p:blipFill>
          <a:blip r:embed="rId2"/>
          <a:stretch/>
        </p:blipFill>
        <p:spPr>
          <a:xfrm>
            <a:off x="4859280" y="321300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Светлугина Н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Рисунок14"/>
          <p:cNvPicPr/>
          <p:nvPr/>
        </p:nvPicPr>
        <p:blipFill>
          <a:blip r:embed="rId1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Рисунок15"/>
          <p:cNvPicPr/>
          <p:nvPr/>
        </p:nvPicPr>
        <p:blipFill>
          <a:blip r:embed="rId2"/>
          <a:stretch/>
        </p:blipFill>
        <p:spPr>
          <a:xfrm>
            <a:off x="4859280" y="3284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Решетняк Елен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Рисунок16"/>
          <p:cNvPicPr/>
          <p:nvPr/>
        </p:nvPicPr>
        <p:blipFill>
          <a:blip r:embed="rId1"/>
          <a:stretch/>
        </p:blipFill>
        <p:spPr>
          <a:xfrm>
            <a:off x="539640" y="335772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Рисунок17"/>
          <p:cNvPicPr/>
          <p:nvPr/>
        </p:nvPicPr>
        <p:blipFill>
          <a:blip r:embed="rId2"/>
          <a:stretch/>
        </p:blipFill>
        <p:spPr>
          <a:xfrm>
            <a:off x="478800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Овчинн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Рисунок18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Рисунок19"/>
          <p:cNvPicPr/>
          <p:nvPr/>
        </p:nvPicPr>
        <p:blipFill>
          <a:blip r:embed="rId2"/>
          <a:stretch/>
        </p:blipFill>
        <p:spPr>
          <a:xfrm>
            <a:off x="4859280" y="3429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 проведении классных часов учителями использовались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911760" y="28494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21720" y="342900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«Вредные привыч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69480" y="3429000"/>
            <a:ext cx="43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«Опасная зависимос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4572000" y="184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62692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00364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2" descr="2stop-second1"/>
          <p:cNvPicPr/>
          <p:nvPr/>
        </p:nvPicPr>
        <p:blipFill>
          <a:blip r:embed="rId3"/>
          <a:stretch/>
        </p:blipFill>
        <p:spPr>
          <a:xfrm>
            <a:off x="1476360" y="4653000"/>
            <a:ext cx="135576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vodka"/>
          <p:cNvPicPr/>
          <p:nvPr/>
        </p:nvPicPr>
        <p:blipFill>
          <a:blip r:embed="rId4"/>
          <a:stretch/>
        </p:blipFill>
        <p:spPr>
          <a:xfrm>
            <a:off x="3886200" y="4653000"/>
            <a:ext cx="1344600" cy="201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4hero"/>
          <p:cNvPicPr/>
          <p:nvPr/>
        </p:nvPicPr>
        <p:blipFill>
          <a:blip r:embed="rId5"/>
          <a:stretch/>
        </p:blipFill>
        <p:spPr>
          <a:xfrm>
            <a:off x="6516720" y="4653000"/>
            <a:ext cx="1440000" cy="2014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о Всероссийском конкурсе «Спорт против наркотиков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рисунков в класс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плакатного группового рису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Рисунок55"/>
          <p:cNvPicPr/>
          <p:nvPr/>
        </p:nvPicPr>
        <p:blipFill>
          <a:blip r:embed="rId1"/>
          <a:stretch/>
        </p:blipFill>
        <p:spPr>
          <a:xfrm>
            <a:off x="7236000" y="2997360"/>
            <a:ext cx="1496880" cy="1692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1108"/>
          <p:cNvPicPr/>
          <p:nvPr/>
        </p:nvPicPr>
        <p:blipFill>
          <a:blip r:embed="rId1"/>
          <a:stretch/>
        </p:blipFill>
        <p:spPr>
          <a:xfrm rot="4015200">
            <a:off x="891000" y="3796560"/>
            <a:ext cx="3024360" cy="2289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G_1109"/>
          <p:cNvPicPr/>
          <p:nvPr/>
        </p:nvPicPr>
        <p:blipFill>
          <a:blip r:embed="rId2"/>
          <a:stretch/>
        </p:blipFill>
        <p:spPr>
          <a:xfrm rot="6678000">
            <a:off x="5210280" y="3726000"/>
            <a:ext cx="316872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970640" y="2060640"/>
            <a:ext cx="52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Завьялова Ольг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846440" y="191628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Рисунок1"/>
          <p:cNvPicPr/>
          <p:nvPr/>
        </p:nvPicPr>
        <p:blipFill>
          <a:blip r:embed="rId1"/>
          <a:stretch/>
        </p:blipFill>
        <p:spPr>
          <a:xfrm>
            <a:off x="468360" y="299736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Рисунок2"/>
          <p:cNvPicPr/>
          <p:nvPr/>
        </p:nvPicPr>
        <p:blipFill>
          <a:blip r:embed="rId2"/>
          <a:stretch/>
        </p:blipFill>
        <p:spPr>
          <a:xfrm>
            <a:off x="5580000" y="306864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Рисунок3"/>
          <p:cNvPicPr/>
          <p:nvPr/>
        </p:nvPicPr>
        <p:blipFill>
          <a:blip r:embed="rId3"/>
          <a:stretch/>
        </p:blipFill>
        <p:spPr>
          <a:xfrm>
            <a:off x="3059280" y="4581360"/>
            <a:ext cx="2724120" cy="2048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дить проблему вредных привыч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ть детям нравственные нормы цивилизованного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бережного отношения к своему здоров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Рисунок3"/>
          <p:cNvPicPr/>
          <p:nvPr/>
        </p:nvPicPr>
        <p:blipFill>
          <a:blip r:embed="rId1"/>
          <a:stretch/>
        </p:blipFill>
        <p:spPr>
          <a:xfrm>
            <a:off x="6300720" y="4869000"/>
            <a:ext cx="1943280" cy="1773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- анкетировани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О вреде курени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лет – 19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 flipH="1">
            <a:off x="3419640" y="4365720"/>
            <a:ext cx="50472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148360" y="4365720"/>
            <a:ext cx="57600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5600" y="508464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ьчиков -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146560" y="508464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вочек -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Рисунок8"/>
          <p:cNvPicPr/>
          <p:nvPr/>
        </p:nvPicPr>
        <p:blipFill>
          <a:blip r:embed="rId1"/>
          <a:stretch/>
        </p:blipFill>
        <p:spPr>
          <a:xfrm>
            <a:off x="3794040" y="573408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8642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ты проводишь свободное врем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179280" y="1844640"/>
          <a:ext cx="849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49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6" descr="Рисунок8"/>
          <p:cNvPicPr/>
          <p:nvPr/>
        </p:nvPicPr>
        <p:blipFill>
          <a:blip r:embed="rId3"/>
          <a:stretch/>
        </p:blipFill>
        <p:spPr>
          <a:xfrm>
            <a:off x="6443640" y="551664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1612800" y="1844640"/>
          <a:ext cx="591840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1844640"/>
                    <a:ext cx="59184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72723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кого ты в первый раз узнал о табаке и алкогол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96993"/>
          <p:cNvPicPr/>
          <p:nvPr/>
        </p:nvPicPr>
        <p:blipFill>
          <a:blip r:embed="rId3"/>
          <a:stretch/>
        </p:blipFill>
        <p:spPr>
          <a:xfrm>
            <a:off x="7451640" y="5084640"/>
            <a:ext cx="1427400" cy="16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300590"/>
          <p:cNvPicPr/>
          <p:nvPr/>
        </p:nvPicPr>
        <p:blipFill>
          <a:blip r:embed="rId4"/>
          <a:stretch/>
        </p:blipFill>
        <p:spPr>
          <a:xfrm>
            <a:off x="395280" y="5157720"/>
            <a:ext cx="1235160" cy="12463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880" y="260280"/>
            <a:ext cx="82202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Рисунок7"/>
          <p:cNvPicPr/>
          <p:nvPr/>
        </p:nvPicPr>
        <p:blipFill>
          <a:blip r:embed="rId1"/>
          <a:stretch/>
        </p:blipFill>
        <p:spPr>
          <a:xfrm>
            <a:off x="788508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исунок7"/>
          <p:cNvPicPr/>
          <p:nvPr/>
        </p:nvPicPr>
        <p:blipFill>
          <a:blip r:embed="rId2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"/>
          <p:cNvPicPr/>
          <p:nvPr/>
        </p:nvPicPr>
        <p:blipFill>
          <a:blip r:embed="rId3"/>
          <a:stretch/>
        </p:blipFill>
        <p:spPr>
          <a:xfrm>
            <a:off x="539640" y="2276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Рисунок3"/>
          <p:cNvPicPr/>
          <p:nvPr/>
        </p:nvPicPr>
        <p:blipFill>
          <a:blip r:embed="rId4"/>
          <a:stretch/>
        </p:blipFill>
        <p:spPr>
          <a:xfrm>
            <a:off x="5076720" y="22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MG_0869"/>
          <p:cNvPicPr/>
          <p:nvPr/>
        </p:nvPicPr>
        <p:blipFill>
          <a:blip r:embed="rId5"/>
          <a:stretch/>
        </p:blipFill>
        <p:spPr>
          <a:xfrm>
            <a:off x="3814920" y="3716280"/>
            <a:ext cx="1512720" cy="27147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5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Рисунок7"/>
          <p:cNvPicPr/>
          <p:nvPr/>
        </p:nvPicPr>
        <p:blipFill>
          <a:blip r:embed="rId1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6"/>
          <p:cNvPicPr/>
          <p:nvPr/>
        </p:nvPicPr>
        <p:blipFill>
          <a:blip r:embed="rId2"/>
          <a:stretch/>
        </p:blipFill>
        <p:spPr>
          <a:xfrm>
            <a:off x="900000" y="1989000"/>
            <a:ext cx="2692440" cy="360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905"/>
          <p:cNvPicPr/>
          <p:nvPr/>
        </p:nvPicPr>
        <p:blipFill>
          <a:blip r:embed="rId3"/>
          <a:stretch/>
        </p:blipFill>
        <p:spPr>
          <a:xfrm rot="471600">
            <a:off x="4067280" y="249228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Рисунок7"/>
          <p:cNvPicPr/>
          <p:nvPr/>
        </p:nvPicPr>
        <p:blipFill>
          <a:blip r:embed="rId4"/>
          <a:stretch/>
        </p:blipFill>
        <p:spPr>
          <a:xfrm>
            <a:off x="7596360" y="5445000"/>
            <a:ext cx="925200" cy="1200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Рисунок8"/>
          <p:cNvPicPr/>
          <p:nvPr/>
        </p:nvPicPr>
        <p:blipFill>
          <a:blip r:embed="rId1"/>
          <a:stretch/>
        </p:blipFill>
        <p:spPr>
          <a:xfrm>
            <a:off x="468360" y="3429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Рисунок9"/>
          <p:cNvPicPr/>
          <p:nvPr/>
        </p:nvPicPr>
        <p:blipFill>
          <a:blip r:embed="rId2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Б», 4 «В» клас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я: Кузькина Наталь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ршова Светлана Борис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Рисунок10"/>
          <p:cNvPicPr/>
          <p:nvPr/>
        </p:nvPicPr>
        <p:blipFill>
          <a:blip r:embed="rId1"/>
          <a:stretch/>
        </p:blipFill>
        <p:spPr>
          <a:xfrm>
            <a:off x="684360" y="3573360"/>
            <a:ext cx="3600360" cy="269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Рисунок11"/>
          <p:cNvPicPr/>
          <p:nvPr/>
        </p:nvPicPr>
        <p:blipFill>
          <a:blip r:embed="rId2"/>
          <a:stretch/>
        </p:blipFill>
        <p:spPr>
          <a:xfrm>
            <a:off x="5003640" y="357336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4:26Z</dcterms:created>
  <dc:creator>Comp</dc:creator>
  <dc:description/>
  <cp:keywords/>
  <dc:language>en-US</dc:language>
  <cp:lastModifiedBy>LEGION</cp:lastModifiedBy>
  <dcterms:modified xsi:type="dcterms:W3CDTF">2015-05-12T08:30:59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49</vt:lpwstr>
  </property>
</Properties>
</file>