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52BE-D460-4702-A289-00BB3BCFBEF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губность вредных привычек и их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3C621-9E42-4C75-86A7-85AB0B1A97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Calibri"/>
              </a:rPr>
              <a:t>На сердечно-сосудистую систем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ается пульс до 100 ударов в мин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ается сила и скорость сокращения сердечной мышцы(миокард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A0BC-9A1A-466F-962F-9FA1B2C560E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ствие алкоголиз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оральные поступ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ушение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и духовное обкрадывание де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излечимые болез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яжелые трав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ступ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AE0D-DA1B-4D1F-ABAC-22D4E35DF3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д ку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1F848-2BCB-492D-AEB0-A30F9341A87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табачного ды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ись углер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ж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нзопир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ная ,синильная кисл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шья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ми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оводор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цети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542B1-F15C-4FD7-BC8F-7CBB1A40C8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лияние курения на организм челове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3EB5-21A2-42CA-B229-49AB9920F0C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езни развивающие у курильщик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ронхиальная аст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нический бронх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к губы, языка, гортани, трахе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шемическая болезнь серд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стр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венная боле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9A4F-929C-4D9F-A701-EFA889A36C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ссивное курение может способствовать развитию атеросклеро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1CCC-33F5-4A00-A455-D40D1A73DD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офилактика вредных привыче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и о вреде курения, алког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досу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нды с предупредительными плак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ачи школьного телевидения и радио о пагубности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людение законов России о запрещение курения и алкоголя в общественных мес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D255-E6A6-4342-BB06-C638EBC9E7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ияние алкоголя н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дают структуры коры больших полуша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является одышка, при спокойной ходьбе, в состоянии пок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6F9F8-5874-4782-9E27-E2524242BB4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лияние алкоголя на печ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7DBF-3DF4-4B72-AC09-AE0AF63436E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44E1-54A4-426D-8D78-D47C6DBC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402D-4710-46B6-BDDC-42310B07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012F-240A-4E77-A960-E76728834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0E8-7B5D-44C8-BD22-6CB8943A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6E7E4-EB35-476A-B77B-305F6DDF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7C0C-A6B0-4633-885F-C3FE80191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17AA-9349-4CB2-8F44-63E136D2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8AFD-4B4B-4867-BA20-31E61D2B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815C-6732-4BD2-B554-525D24A0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EF448-76BC-4E12-A07D-1991F2510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75D9-3855-49F5-9F5E-CA44BEF5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1F36-786E-42AA-86B3-3A4A5D1C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A467-2A7B-45E4-9A82-CD026389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20DF-0141-4DD3-A408-F4424F91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880F-CE97-4B25-848A-2C5EF692D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04691-2CE4-4AF9-8600-B2B6D0325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8314-937E-4E88-8A52-057F30B3D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5A4-ADFB-4195-A09C-009778A6F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77FF-00FA-4C9F-A6A0-C678B693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8F73-AF77-49D6-8B13-E2A3723F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10B-7B7D-4260-BAF6-736C5A6B0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156-D160-416C-998B-931C6B19F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5ED-BE7D-40D1-AF63-2EDBA880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3AF-D44A-48FA-B487-F84A6587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6AF2-4445-4DFA-9A94-1AE46E6E161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C74A-544A-4104-BEC3-39DD647B62D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4360" y="395280"/>
            <a:ext cx="7773840" cy="20383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Пагубность вредных привычек и их профилакт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9" name="Picture 4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1258920" y="2716200"/>
            <a:ext cx="6889680" cy="375444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ccecff"/>
                </a:solidFill>
                <a:uFillTx/>
                <a:latin typeface="Arial"/>
              </a:rPr>
              <a:t>На сердечно-сосудистую систем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чащается пульс до 100 ударов в мину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ижается сила и скорость сокращения сердечной мышцы(миокард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начительно повышается в крови содержание адреналина и норадреналина, что приводит к стрессовым ситуациям, психическим переживани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следствие алкоголизм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моральные поступ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зрушение сем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ьное и духовное обкрадывание дет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излечимые боле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яжелые трав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ступ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ред кур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момент затяжки дымом сигареты температура на ее конце достигает 60 градусов и выше. Происходит возгонка табака и папиросной бумаги, при этом образуется около 200 вредных вещест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J0304405"/>
          <p:cNvPicPr/>
          <p:nvPr/>
        </p:nvPicPr>
        <p:blipFill>
          <a:blip r:embed="rId1"/>
          <a:stretch/>
        </p:blipFill>
        <p:spPr>
          <a:xfrm>
            <a:off x="5724360" y="1844640"/>
            <a:ext cx="2735280" cy="33130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став табачного дым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кись углеро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ж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ензопир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уравьиная ,синильная кисло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ышья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ммиа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оводор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цетил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Picture 5" descr="20051218_arcuen_wallpapers_ru_mikrokosmos_1024x768_A(95150)"/>
          <p:cNvPicPr/>
          <p:nvPr/>
        </p:nvPicPr>
        <p:blipFill>
          <a:blip r:embed="rId1"/>
          <a:stretch/>
        </p:blipFill>
        <p:spPr>
          <a:xfrm>
            <a:off x="4648320" y="1700280"/>
            <a:ext cx="4038480" cy="432108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лияние курения на организм человек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ходя через дыхательные пути , табачный дым вызывает раздражение, воспаление слизистых оболочек зевав, носоглотки, трахеи, бронхов, а также легочных альвео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ердце курящего человека делает за сутки на 12-15 тысяч сокращений больше, чем сердце некурящего, что приводит к преждевременному изнашиванию сердечной мышц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Болезни развивающие у курильщик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ронхиальная аст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Хронический бронх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к губы, языка, гортани, трахе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шемическая болезнь серд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ст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звенная болезн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Picture 21" descr="HM00005_"/>
          <p:cNvPicPr/>
          <p:nvPr/>
        </p:nvPicPr>
        <p:blipFill>
          <a:blip r:embed="rId1"/>
          <a:stretch/>
        </p:blipFill>
        <p:spPr>
          <a:xfrm>
            <a:off x="5435640" y="1916280"/>
            <a:ext cx="2952720" cy="3528720"/>
          </a:xfrm>
          <a:prstGeom prst="rect">
            <a:avLst/>
          </a:prstGeom>
          <a:ln w="0">
            <a:noFill/>
          </a:ln>
        </p:spPr>
      </p:pic>
      <p:sp>
        <p:nvSpPr>
          <p:cNvPr id="2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ассивное курение может способствовать развитию атеросклероза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6" descr="wallpaper (69)"/>
          <p:cNvPicPr/>
          <p:nvPr/>
        </p:nvPicPr>
        <p:blipFill>
          <a:blip r:embed="rId1"/>
          <a:stretch/>
        </p:blipFill>
        <p:spPr>
          <a:xfrm>
            <a:off x="1554120" y="2708280"/>
            <a:ext cx="6033960" cy="341784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офилактика вредных привычек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Лекции о вреде курения, алкого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рганизация дос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енды с предупредительными плака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ередачи школьного телевидения и радио о пагубности вредных привычек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блюдение законов России о запрещение курения и алкоголя в общественных места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лияние алкоголя на челове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дают структуры коры больших полушарий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ность центров мозга, управляющих поведением, подавляется: утрачивается разумный контроль над поступками, снижается критическое отношение к себ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является одышка, при спокойной ходьбе, в состоянии поко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5" descr="fun_pic_32"/>
          <p:cNvPicPr/>
          <p:nvPr/>
        </p:nvPicPr>
        <p:blipFill>
          <a:blip r:embed="rId1"/>
          <a:stretch/>
        </p:blipFill>
        <p:spPr>
          <a:xfrm>
            <a:off x="4648320" y="2133720"/>
            <a:ext cx="4038480" cy="3458880"/>
          </a:xfrm>
          <a:prstGeom prst="rect">
            <a:avLst/>
          </a:prstGeom>
          <a:ln w="0">
            <a:noFill/>
          </a:ln>
        </p:spPr>
      </p:pic>
      <p:sp>
        <p:nvSpPr>
          <p:cNvPr id="2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ccecff"/>
                </a:solidFill>
                <a:uFillTx/>
                <a:latin typeface="Arial"/>
              </a:rPr>
              <a:t>Влияние алкоголя на печ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 людей злоупотребляющих спиртными напитками, возникновение цирроза печени наблюдается в семь раз чаще, чем у непьющ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6" descr="20051201_carlson_wallpapers_ru_bred_1024x768_A(94365)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8:34:47Z</dcterms:created>
  <dc:creator>я</dc:creator>
  <dc:description/>
  <dc:language>en-US</dc:language>
  <cp:lastModifiedBy>LEGION</cp:lastModifiedBy>
  <dcterms:modified xsi:type="dcterms:W3CDTF">2015-05-12T08:33:24Z</dcterms:modified>
  <cp:revision>9</cp:revision>
  <dc:subject/>
  <dc:title>Пагубность вредных привычек</dc:title>
</cp:coreProperties>
</file>