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791F-72A1-49A5-A5CC-FFA1A7A75AC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губность вредных привычек и их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D872-383D-4DA7-8CDD-1C86A5FC52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На сердечно-сосудистую систем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ается пульс до 100 ударов в мину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ается сила и скорость сокращения сердечной мышцы(миокар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о повышается в крови содержание адреналина и норадреналина, что приводит к стрессовым ситуациям, психическим переживан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0791-6138-4448-8945-DA38E19760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е алкоголи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альные посту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и духовное обкрадывание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злечимые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елые 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A681-A443-416B-8175-F8450EC0F7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 ку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 затяжки дымом сигареты температура на ее конце достигает 60 градусов и выше. Происходит возгонка табака и папиросной бумаги, при этом образуется около 200 вредны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8506-04AF-4466-AAC2-9E219DE88B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табачного ды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ь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опи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равьиная ,синиль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ь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вод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цети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CADF-D9D0-4CDB-96E3-3124CA2A08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лияние курения на организм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ходя через дыхательные пути , табачный дым вызывает раздражение, воспаление слизистых оболочек зевав, носоглотки, трахеи, бронхов, а также легочных альве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курящего человека делает за сутки на 12-15 тысяч сокращений больше, чем сердце некурящего, что приводит к преждевременному изнашиванию сердечной мыш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01ED-C9DC-4C5E-8468-DAFF6B31AD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езни развивающие у курильщ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нхиальная аст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нический бронх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 губы, языка, гортани, трахе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ая болезнь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стр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венная боле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872C-123A-4312-B177-0A41C78758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ное курение может способствовать развитию атероскле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365D-85C5-4304-ACAE-2F236353CF6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филактика вредных привыч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и о вреде курения, алк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дос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нды с предупредительными плак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и школьного телевидения и радио о пагубности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законов России о запрещение курения и алкоголя в общественных мес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84DC-F41A-49DB-B660-16CB11CD34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алкоголя н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дают структуры коры больших полушар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центров мозга, управляющих поведением, подавляется: утрачивается разумный контроль над поступками, снижается критическое отношение к се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яется одышка, при спокойной ходьбе, в состоянии пок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5D2A-1B4E-4F51-82D3-389EE4B5B2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ияние алкоголя на печ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У людей злоупотребляющих спиртными напитками, возникновение цирроза печени наблюдается в семь раз чаще, чем у непью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4A48-4E92-4892-8401-553186761F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7AF5-E67F-4C46-A9D0-9F4837EC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50C-7B5C-41D1-9FE9-DC77EE8D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70A8-5159-47C1-BB1D-C5F8AAD7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9071-F441-4EEA-8716-527B3A09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3378-75E8-47DF-A343-FB77CF3B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A02B-CF06-44F1-A788-F8D199FC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6488-2AEC-423E-830E-10BEF52A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5EA6-5F63-4D12-B598-1E37498B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9471-0C13-4F89-BDBA-77A8957C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F198-9089-4578-91EF-99F52698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DEA6-169E-456B-BD28-F5D82A32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55D8-718F-4418-9CF5-B719DD8E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4E23-7972-4A8A-9A04-9635857C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426D-2765-49BC-A057-B724AFA3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8467-09CC-4451-803A-CF329412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9B1E-15AA-4FF6-962B-35E83A8F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96DE-D561-4F1D-A116-F1957962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E727-18B1-4FE5-A615-0D349D26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EA79-F57B-4B90-A0D8-7C7CED55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36F0-9380-4E42-A36C-E111781F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2C89-3202-4607-B879-A8A8EC4E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2B36-06E2-4BD7-AC5D-34EB5DCF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B602-B173-4659-87B4-62C492D6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297-5D3F-4B07-A24A-17D83126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5707-6880-4067-B39F-FD80AAE52F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8DBD-5136-4218-9004-8163729AB4C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95280"/>
            <a:ext cx="7773840" cy="2038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агубность вредных привычек и их профилакт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4" descr="20051201_carlson_wallpapers_ru_bred_1024x768_A(94365)"/>
          <p:cNvPicPr/>
          <p:nvPr/>
        </p:nvPicPr>
        <p:blipFill>
          <a:blip r:embed="rId1"/>
          <a:stretch/>
        </p:blipFill>
        <p:spPr>
          <a:xfrm>
            <a:off x="1258920" y="2716200"/>
            <a:ext cx="6889680" cy="37544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На сердечно-сосудистую систем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ается пульс до 100 ударов в мину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нижается сила и скорость сокращения сердечной мышцы(миокард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ительно повышается в крови содержание адреналина и норадреналина, что приводит к стрессовым ситуациям, психическим переживан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следствие алкоголизм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моральные поступ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ушение сем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ьное и духовное обкрадывание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излечимые боле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яжелые трав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ступ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ред кур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омент затяжки дымом сигареты температура на ее конце достигает 60 градусов и выше. Происходит возгонка табака и папиросной бумаги, при этом образуется около 200 вредны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J0304405"/>
          <p:cNvPicPr/>
          <p:nvPr/>
        </p:nvPicPr>
        <p:blipFill>
          <a:blip r:embed="rId1"/>
          <a:stretch/>
        </p:blipFill>
        <p:spPr>
          <a:xfrm>
            <a:off x="5724360" y="1844640"/>
            <a:ext cx="2735280" cy="33130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став табачного ды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ись угле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ж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нзопир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равьиная ,синильная 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шья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мми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оводор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цетил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20051218_arcuen_wallpapers_ru_mikrokosmos_1024x768_A(95150)"/>
          <p:cNvPicPr/>
          <p:nvPr/>
        </p:nvPicPr>
        <p:blipFill>
          <a:blip r:embed="rId1"/>
          <a:stretch/>
        </p:blipFill>
        <p:spPr>
          <a:xfrm>
            <a:off x="4648320" y="1700280"/>
            <a:ext cx="4038480" cy="43210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лияние курения на организм челове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ходя через дыхательные пути , табачный дым вызывает раздражение, воспаление слизистых оболочек зевав, носоглотки, трахеи, бронхов, а также легочных альвео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дце курящего человека делает за сутки на 12-15 тысяч сокращений больше, чем сердце некурящего, что приводит к преждевременному изнашиванию сердечной мыш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олезни развивающие у курильщик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ронхиальная аст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ронический бронх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к губы, языка, гортани, трахе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шемическая болезнь серд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стр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звенная болез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1" descr="HM00005_"/>
          <p:cNvPicPr/>
          <p:nvPr/>
        </p:nvPicPr>
        <p:blipFill>
          <a:blip r:embed="rId1"/>
          <a:stretch/>
        </p:blipFill>
        <p:spPr>
          <a:xfrm>
            <a:off x="5435640" y="1916280"/>
            <a:ext cx="2952720" cy="35287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ассивное курение может способствовать развитию атеросклероз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Picture 6" descr="wallpaper (69)"/>
          <p:cNvPicPr/>
          <p:nvPr/>
        </p:nvPicPr>
        <p:blipFill>
          <a:blip r:embed="rId1"/>
          <a:stretch/>
        </p:blipFill>
        <p:spPr>
          <a:xfrm>
            <a:off x="1554120" y="2708280"/>
            <a:ext cx="6033960" cy="341784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филактика вредных привыче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кции о вреде курения, алкого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дос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енды с предупредительными плакат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ачи школьного телевидения и радио о пагубности вредных привыч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ение законов России о запрещение курения и алкоголя в общественных мес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лияние алкоголя на челове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дают структуры коры больших полушар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ность центров мозга, управляющих поведением, подавляется: утрачивается разумный контроль над поступками, снижается критическое отношение к себ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ляется одышка, при спокойной ходьбе, в состоянии поко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5" descr="fun_pic_32"/>
          <p:cNvPicPr/>
          <p:nvPr/>
        </p:nvPicPr>
        <p:blipFill>
          <a:blip r:embed="rId1"/>
          <a:stretch/>
        </p:blipFill>
        <p:spPr>
          <a:xfrm>
            <a:off x="4648320" y="2133720"/>
            <a:ext cx="4038480" cy="345888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Влияние алкоголя на пече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У людей злоупотребляющих спиртными напитками, возникновение цирроза печени наблюдается в семь раз чаще, чем у непьющ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6" descr="20051201_carlson_wallpapers_ru_bred_1024x768_A(94365)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8:34:47Z</dcterms:created>
  <dc:creator>я</dc:creator>
  <dc:description/>
  <dc:language>en-US</dc:language>
  <cp:lastModifiedBy>LEGION</cp:lastModifiedBy>
  <dcterms:modified xsi:type="dcterms:W3CDTF">2015-05-12T08:33:24Z</dcterms:modified>
  <cp:revision>9</cp:revision>
  <dc:subject/>
  <dc:title>Пагубность вредных привычек</dc:title>
</cp:coreProperties>
</file>