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92AB-68A5-4DC2-A029-F4E261F4700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губность вредных привычек и их профил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69BB-F8D0-4CC7-84DA-940BD92831E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На сердечно-сосудистую систем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ается пульс до 100 ударов в мину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ается сила и скорость сокращения сердечной мышцы(миокар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ельно повышается в крови содержание адреналина и норадреналина, что приводит к стрессовым ситуациям, психическим переживан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DEA1-0948-4492-BCBE-5144A1A5C5F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е алкоголиз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альные поступ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ение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ое и духовное обкрадывание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излечимые боле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яжелые трав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3A7E-5F55-42EE-8D2E-7F9AC2F8F84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 ку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омент затяжки дымом сигареты температура на ее конце достигает 60 градусов и выше. Происходит возгонка табака и папиросной бумаги, при этом образуется около 200 вредны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75BC-800B-44F3-ACB4-329BDE610D5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табачного ды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ись угле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ж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зопир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равьиная ,синиль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ья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ми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оводор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цети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8A0C-AE80-474D-9BDE-195D1F38BA9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лияние курения на организм челов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ходя через дыхательные пути , табачный дым вызывает раздражение, воспаление слизистых оболочек зевав, носоглотки, трахеи, бронхов, а также легочных альве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 курящего человека делает за сутки на 12-15 тысяч сокращений больше, чем сердце некурящего, что приводит к преждевременному изнашиванию сердечной мыш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071D-D3C4-40B0-A11C-6B0A2C31F00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езни развивающие у курильщи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нхиальная аст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онический бронх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к губы, языка, гортани, трахе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шемическая болезнь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стр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венная болез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8234-8ABD-4967-9047-BBDC91613CF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сивное курение может способствовать развитию атеросклеро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AB92-F0EC-4975-98E8-DC3AEC063C1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филактика вредных привыче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и о вреде курения, алког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дос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нды с предупредительными плака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и школьного телевидения и радио о пагубности вредны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ение законов России о запрещение курения и алкоголя в общественных мес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17FF-65EC-4721-8FA1-D0E0DA8413D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 алкоголя н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дают структуры коры больших полушар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сть центров мозга, управляющих поведением, подавляется: утрачивается разумный контроль над поступками, снижается критическое отношение к себ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яется одышка, при спокойной ходьбе, в состоянии поко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1E36-0C39-4BEB-BEAB-507DAD7222A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лияние алкоголя на печ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У людей злоупотребляющих спиртными напитками, возникновение цирроза печени наблюдается в семь раз чаще, чем у непьющ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802B-4998-4047-936B-E6D1C2BC003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1C44-B12E-4EE6-9BFE-395161414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38D6-3A40-4A7F-9346-969A488B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6183-3C8E-4B74-BFB2-91638288A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D7ED-16D4-4BA9-A7C7-C2005E056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382F-5227-402E-8AF1-E1DC445A5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F872-8A45-48C5-B493-F9E00403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19C6-FB31-4AEB-90AE-22ABA9CE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6D7F-1A66-4718-9476-A7BC05F9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0E51-594B-4463-8873-564A7201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7A66-7569-4AEC-8FBC-6C0B9360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EB11-A8B7-48CF-9266-6E0F8911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97E5-8A59-434D-8015-A81DCD95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B436-2665-417D-A12F-A5CF34BA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3641-D6E5-450A-B165-6EA49FB0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684D-1C76-44B4-9C8D-B223CACD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C232-D70E-46FA-9637-263AF702E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97DD-8C26-4EC8-83E2-AE88B6836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CE4F-B8E6-4B42-899C-5FDE7740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EF11-36D7-4C07-A52E-255331FD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3CC1-CAF6-46F8-BFCA-65E8546B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AAF4-62C9-4F29-8CA4-5D869B0D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A0F4-E2B8-42A1-B5F9-92BC8835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58DC-EDED-4E31-94F0-B34DDB43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115C-A23B-4214-A4A1-00C756F7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6D26-41F3-4914-B3AA-DC690476A2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A037-372C-4F41-9FA5-A1CE05B03E2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395280"/>
            <a:ext cx="7773840" cy="2038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Пагубность вредных привычек и их профилактик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Picture 4" descr="20051201_carlson_wallpapers_ru_bred_1024x768_A(94365)"/>
          <p:cNvPicPr/>
          <p:nvPr/>
        </p:nvPicPr>
        <p:blipFill>
          <a:blip r:embed="rId1"/>
          <a:stretch/>
        </p:blipFill>
        <p:spPr>
          <a:xfrm>
            <a:off x="1258920" y="2716200"/>
            <a:ext cx="6889680" cy="375444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ecff"/>
                </a:solidFill>
                <a:uFillTx/>
                <a:latin typeface="Arial"/>
              </a:rPr>
              <a:t>На сердечно-сосудистую систем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щается пульс до 100 ударов в мину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нижается сила и скорость сокращения сердечной мышцы(миокард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чительно повышается в крови содержание адреналина и норадреналина, что приводит к стрессовым ситуациям, психическим переживани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следствие алкоголизма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моральные поступ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ушение семь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риальное и духовное обкрадывание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излечимые болез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яжелые трав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ступ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ред кур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момент затяжки дымом сигареты температура на ее конце достигает 60 градусов и выше. Происходит возгонка табака и папиросной бумаги, при этом образуется около 200 вредных веще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J0304405"/>
          <p:cNvPicPr/>
          <p:nvPr/>
        </p:nvPicPr>
        <p:blipFill>
          <a:blip r:embed="rId1"/>
          <a:stretch/>
        </p:blipFill>
        <p:spPr>
          <a:xfrm>
            <a:off x="5724360" y="1844640"/>
            <a:ext cx="2735280" cy="331308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остав табачного дым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ись углер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ж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нзопир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уравьиная ,синильная кисл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шья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ммиа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роводор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цетил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20051218_arcuen_wallpapers_ru_mikrokosmos_1024x768_A(95150)"/>
          <p:cNvPicPr/>
          <p:nvPr/>
        </p:nvPicPr>
        <p:blipFill>
          <a:blip r:embed="rId1"/>
          <a:stretch/>
        </p:blipFill>
        <p:spPr>
          <a:xfrm>
            <a:off x="4648320" y="1700280"/>
            <a:ext cx="4038480" cy="432108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лияние курения на организм челове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ходя через дыхательные пути , табачный дым вызывает раздражение, воспаление слизистых оболочек зевав, носоглотки, трахеи, бронхов, а также легочных альвео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рдце курящего человека делает за сутки на 12-15 тысяч сокращений больше, чем сердце некурящего, что приводит к преждевременному изнашиванию сердечной мыш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Болезни развивающие у курильщик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ронхиальная аст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ронический бронх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к губы, языка, гортани, трахе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шемическая болезнь серд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стр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звенная болез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21" descr="HM00005_"/>
          <p:cNvPicPr/>
          <p:nvPr/>
        </p:nvPicPr>
        <p:blipFill>
          <a:blip r:embed="rId1"/>
          <a:stretch/>
        </p:blipFill>
        <p:spPr>
          <a:xfrm>
            <a:off x="5435640" y="1916280"/>
            <a:ext cx="2952720" cy="352872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ассивное курение может способствовать развитию атеросклероз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Picture 6" descr="wallpaper (69)"/>
          <p:cNvPicPr/>
          <p:nvPr/>
        </p:nvPicPr>
        <p:blipFill>
          <a:blip r:embed="rId1"/>
          <a:stretch/>
        </p:blipFill>
        <p:spPr>
          <a:xfrm>
            <a:off x="1554120" y="2708280"/>
            <a:ext cx="6033960" cy="341784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офилактика вредных привычек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кции о вреде курения, алкого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ация досу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енды с предупредительными плакат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дачи школьного телевидения и радио о пагубности вредных привыч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блюдение законов России о запрещение курения и алкоголя в общественных мест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лияние алкоголя на челове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дают структуры коры больших полушари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ивность центров мозга, управляющих поведением, подавляется: утрачивается разумный контроль над поступками, снижается критическое отношение к себ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является одышка, при спокойной ходьбе, в состоянии поко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5" descr="fun_pic_32"/>
          <p:cNvPicPr/>
          <p:nvPr/>
        </p:nvPicPr>
        <p:blipFill>
          <a:blip r:embed="rId1"/>
          <a:stretch/>
        </p:blipFill>
        <p:spPr>
          <a:xfrm>
            <a:off x="4648320" y="2133720"/>
            <a:ext cx="4038480" cy="345888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Влияние алкоголя на печен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У людей злоупотребляющих спиртными напитками, возникновение цирроза печени наблюдается в семь раз чаще, чем у непьющ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6" descr="20051201_carlson_wallpapers_ru_bred_1024x768_A(94365)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8:34:47Z</dcterms:created>
  <dc:creator>я</dc:creator>
  <dc:description/>
  <dc:language>en-US</dc:language>
  <cp:lastModifiedBy>LEGION</cp:lastModifiedBy>
  <dcterms:modified xsi:type="dcterms:W3CDTF">2015-05-12T08:33:24Z</dcterms:modified>
  <cp:revision>9</cp:revision>
  <dc:subject/>
  <dc:title>Пагубность вредных привычек</dc:title>
</cp:coreProperties>
</file>