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21.wmf" ContentType="image/x-wmf"/>
  <Override PartName="/ppt/media/image25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click.wav" ContentType="audio/x-wav"/>
  <Override PartName="/ppt/media/image8.gif" ContentType="image/gif"/>
  <Override PartName="/ppt/media/image4.wmf" ContentType="image/x-wmf"/>
  <Override PartName="/ppt/media/image34.jpeg" ContentType="image/jpeg"/>
  <Override PartName="/ppt/media/image29.jpeg" ContentType="image/jpeg"/>
  <Override PartName="/ppt/media/image7.gif" ContentType="image/gif"/>
  <Override PartName="/ppt/media/image6.wmf" ContentType="image/x-wmf"/>
  <Override PartName="/ppt/media/image19.jpeg" ContentType="image/jpeg"/>
  <Override PartName="/ppt/media/image12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2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B85-0E30-4748-B0AC-CCDBAA77027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ыч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зные и вре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едность от лени, а болезнь от невоздерж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Calibri"/>
              </a:rPr>
              <a:t>пословиц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969B-47BA-4C4D-9672-C78C16130E1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му приводят вредные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2A69-CA7F-4D61-A957-A7DD4FA1925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 полез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C6D-5535-4C9B-9783-1C88966BE3B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з сочинен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4FE2-C49C-4F59-9AE4-489924AF6B7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преуспевать в жизни, чем быть неудач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быть счастливым, чем несчаст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любить, чем ненавиде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E91B-9D7A-4E30-99A0-CA52BA5FB41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учащиеся 6 «Б» класса, принимаем ответственное решение носить почетное з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Calibri"/>
              </a:rPr>
              <a:t>«Некурящий класс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язуемся не нарушать данный догов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 быть здоровыми, успешными и счастливым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542-5CAC-4DCE-B448-5FE7A09EF60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Царство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959-A43A-4825-AA33-0E273ACE5CB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E88C-6A22-470C-BF5D-4C3D99A98AF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тобы казаться старше и соврем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з любопы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Лекарство от ск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Успокоить нервы и снять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Будешь миллионером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Это не модно и не интеллиген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худшает внешность (вянет кожа, желтеют зубы, сипнет гол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корачивает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Добавляет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Мешает работе и бизн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некур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ичина пож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0F77-0B13-4619-BFF6-84116853825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8C52-2337-4F10-8AAF-D44C0055459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сочинени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никогда не начинать курить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7EB-3AA4-4366-89DF-C5288C00E2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урить – здоровью вреди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F41B-0F86-4889-AA64-C7420273973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причина курения – это наркотическая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9DB9-6C10-47B3-B412-B9095F190D1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-мишени поражения табачным дымо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что ждет того, кто кур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FEE1-BEEF-469D-8EF0-F32FF54369C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867280" y="595008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г. Нижний Новгор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13 декабря 2008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ривы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олезные и вредные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6010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Comic Sans MS"/>
              </a:rPr>
              <a:t>Бедность от лени, а болезнь от невоздержанности</a:t>
            </a:r>
            <a:endParaRPr b="0" lang="en-US" sz="2900" spc="-1" strike="noStrike">
              <a:solidFill>
                <a:srgbClr val="ffff66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словица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 чему приводят вредные привычки?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5" name="Picture 21" descr="Курящий мужик говорит"/>
          <p:cNvPicPr/>
          <p:nvPr/>
        </p:nvPicPr>
        <p:blipFill>
          <a:blip r:embed="rId1"/>
          <a:stretch/>
        </p:blipFill>
        <p:spPr>
          <a:xfrm>
            <a:off x="7667640" y="620640"/>
            <a:ext cx="93672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907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Ку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1916280"/>
            <a:ext cx="39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Распитие спиртных напит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0920" y="328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Употребление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0920" y="47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Азартные иг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4000" y="5950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верно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43280" y="9079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котинов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43280" y="1916280"/>
            <a:ext cx="26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алкогольн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284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аркотическ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716360" y="486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игрома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3280" y="566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зкому уровню куль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2771640" y="98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2700360" y="242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771640" y="357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843280" y="501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843280" y="609300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Мат опасен для жизни"/>
          <p:cNvPicPr/>
          <p:nvPr/>
        </p:nvPicPr>
        <p:blipFill>
          <a:blip r:embed="rId2"/>
          <a:stretch/>
        </p:blipFill>
        <p:spPr>
          <a:xfrm>
            <a:off x="7236000" y="5229360"/>
            <a:ext cx="1657080" cy="136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L41_11_p01"/>
          <p:cNvPicPr/>
          <p:nvPr/>
        </p:nvPicPr>
        <p:blipFill>
          <a:blip r:embed="rId3"/>
          <a:stretch/>
        </p:blipFill>
        <p:spPr>
          <a:xfrm>
            <a:off x="7164360" y="3500280"/>
            <a:ext cx="1800360" cy="135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3" name="Picture 32" descr="L41_06_p01"/>
          <p:cNvPicPr/>
          <p:nvPr/>
        </p:nvPicPr>
        <p:blipFill>
          <a:blip r:embed="rId4"/>
          <a:stretch/>
        </p:blipFill>
        <p:spPr>
          <a:xfrm>
            <a:off x="7164360" y="1844640"/>
            <a:ext cx="1770120" cy="1327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 rot="20694600">
            <a:off x="110880" y="604440"/>
            <a:ext cx="431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От курения тупеешь, оно не совместимо с творческой работ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.Гё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666000">
            <a:off x="3851640" y="3182400"/>
            <a:ext cx="498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«Курильщик впускает в свои уста врага, который похищает мозг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omic Sans MS"/>
              </a:rPr>
              <a:t>Англ. послов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 rot="21208800">
            <a:off x="484200" y="29232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«Здоровье потеряешь – все потеряеш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Народная мудр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Скорая помощь"/>
          <p:cNvPicPr/>
          <p:nvPr/>
        </p:nvPicPr>
        <p:blipFill>
          <a:blip r:embed="rId1"/>
          <a:stretch/>
        </p:blipFill>
        <p:spPr>
          <a:xfrm>
            <a:off x="250920" y="4149720"/>
            <a:ext cx="265428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kurenie"/>
          <p:cNvPicPr/>
          <p:nvPr/>
        </p:nvPicPr>
        <p:blipFill>
          <a:blip r:embed="rId2"/>
          <a:stretch/>
        </p:blipFill>
        <p:spPr>
          <a:xfrm>
            <a:off x="4067280" y="4437000"/>
            <a:ext cx="143496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4390920" y="907920"/>
            <a:ext cx="475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Начинаешь   курить,   чтобы доказать,   что   ты   мужчина. Потом   пытаешься    бросить курить,  чтобы   доказать,  что ты  мужчина»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Жорж Симено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Царство  полез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22" name="Picture 4" descr="Рисунок1"/>
          <p:cNvPicPr/>
          <p:nvPr/>
        </p:nvPicPr>
        <p:blipFill>
          <a:blip r:embed="rId2"/>
          <a:stretch/>
        </p:blipFill>
        <p:spPr>
          <a:xfrm>
            <a:off x="7451640" y="1197000"/>
            <a:ext cx="13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303458"/>
          <p:cNvPicPr/>
          <p:nvPr/>
        </p:nvPicPr>
        <p:blipFill>
          <a:blip r:embed="rId3"/>
          <a:stretch/>
        </p:blipFill>
        <p:spPr>
          <a:xfrm>
            <a:off x="250920" y="981000"/>
            <a:ext cx="176508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Diagram 12"/>
          <p:cNvGrpSpPr/>
          <p:nvPr/>
        </p:nvGrpSpPr>
        <p:grpSpPr>
          <a:xfrm>
            <a:off x="375840" y="1174680"/>
            <a:ext cx="7888680" cy="4370040"/>
            <a:chOff x="375840" y="1174680"/>
            <a:chExt cx="7888680" cy="4370040"/>
          </a:xfrm>
        </p:grpSpPr>
        <p:sp>
          <p:nvSpPr>
            <p:cNvPr id="125" name="_s2052"/>
            <p:cNvSpPr/>
            <p:nvPr/>
          </p:nvSpPr>
          <p:spPr>
            <a:xfrm flipV="1">
              <a:off x="3756600" y="1174680"/>
              <a:ext cx="1126800" cy="624240"/>
            </a:xfrm>
            <a:custGeom>
              <a:avLst/>
              <a:gdLst>
                <a:gd name="textAreaLeft" fmla="*/ 404280 w 1126800"/>
                <a:gd name="textAreaRight" fmla="*/ 722520 w 1126800"/>
                <a:gd name="textAreaTop" fmla="*/ 223920 h 624240"/>
                <a:gd name="textAreaBottom" fmla="*/ 40032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Трудолюбие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3"/>
            <p:cNvSpPr/>
            <p:nvPr/>
          </p:nvSpPr>
          <p:spPr>
            <a:xfrm flipV="1">
              <a:off x="3192840" y="1798560"/>
              <a:ext cx="2253600" cy="623880"/>
            </a:xfrm>
            <a:custGeom>
              <a:avLst/>
              <a:gdLst>
                <a:gd name="textAreaLeft" fmla="*/ 495360 w 2253600"/>
                <a:gd name="textAreaRight" fmla="*/ 1758240 w 2253600"/>
                <a:gd name="textAreaTop" fmla="*/ 137160 h 623880"/>
                <a:gd name="textAreaBottom" fmla="*/ 4867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Вежливость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4"/>
            <p:cNvSpPr/>
            <p:nvPr/>
          </p:nvSpPr>
          <p:spPr>
            <a:xfrm flipV="1">
              <a:off x="2629800" y="2422800"/>
              <a:ext cx="3380760" cy="624240"/>
            </a:xfrm>
            <a:custGeom>
              <a:avLst/>
              <a:gdLst>
                <a:gd name="textAreaLeft" fmla="*/ 586800 w 3380760"/>
                <a:gd name="textAreaRight" fmla="*/ 2793960 w 3380760"/>
                <a:gd name="textAreaTop" fmla="*/ 108360 h 624240"/>
                <a:gd name="textAreaBottom" fmla="*/ 5158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6699"/>
                  </a:solidFill>
                  <a:latin typeface="Comic Sans MS"/>
                </a:rPr>
                <a:t>Поддержание чистоты и порядка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 flipV="1">
              <a:off x="2066040" y="3047760"/>
              <a:ext cx="4507560" cy="624240"/>
            </a:xfrm>
            <a:custGeom>
              <a:avLst/>
              <a:gdLst>
                <a:gd name="textAreaLeft" fmla="*/ 678240 w 4507560"/>
                <a:gd name="textAreaRight" fmla="*/ 3829320 w 4507560"/>
                <a:gd name="textAreaTop" fmla="*/ 93960 h 624240"/>
                <a:gd name="textAreaBottom" fmla="*/ 5302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режима дня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 flipV="1">
              <a:off x="1502640" y="3670920"/>
              <a:ext cx="5634720" cy="623880"/>
            </a:xfrm>
            <a:custGeom>
              <a:avLst/>
              <a:gdLst>
                <a:gd name="textAreaLeft" fmla="*/ 769320 w 5634720"/>
                <a:gd name="textAreaRight" fmla="*/ 4865400 w 5634720"/>
                <a:gd name="textAreaTop" fmla="*/ 84960 h 623880"/>
                <a:gd name="textAreaBottom" fmla="*/ 5389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Занятия спортом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 flipV="1">
              <a:off x="938880" y="4295880"/>
              <a:ext cx="6761520" cy="624240"/>
            </a:xfrm>
            <a:custGeom>
              <a:avLst/>
              <a:gdLst>
                <a:gd name="textAreaLeft" fmla="*/ 860760 w 6761520"/>
                <a:gd name="textAreaRight" fmla="*/ 5900760 w 6761520"/>
                <a:gd name="textAreaTop" fmla="*/ 79200 h 624240"/>
                <a:gd name="textAreaBottom" fmla="*/ 545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Чтение книг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8"/>
            <p:cNvSpPr/>
            <p:nvPr/>
          </p:nvSpPr>
          <p:spPr>
            <a:xfrm flipV="1">
              <a:off x="375840" y="4920120"/>
              <a:ext cx="7888680" cy="624240"/>
            </a:xfrm>
            <a:custGeom>
              <a:avLst/>
              <a:gdLst>
                <a:gd name="textAreaLeft" fmla="*/ 952200 w 7888680"/>
                <a:gd name="textAreaRight" fmla="*/ 6936480 w 7888680"/>
                <a:gd name="textAreaTop" fmla="*/ 75240 h 624240"/>
                <a:gd name="textAreaBottom" fmla="*/ 54900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825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гигиены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0"/>
          <p:cNvSpPr/>
          <p:nvPr/>
        </p:nvSpPr>
        <p:spPr>
          <a:xfrm>
            <a:off x="1547640" y="5805360"/>
            <a:ext cx="626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ерой  нашего времени     –    человек    без вредных привыч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Из сочинений…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0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5" name="Picture 4" descr="дети"/>
          <p:cNvPicPr/>
          <p:nvPr/>
        </p:nvPicPr>
        <p:blipFill>
          <a:blip r:embed="rId2"/>
          <a:stretch/>
        </p:blipFill>
        <p:spPr>
          <a:xfrm>
            <a:off x="6983280" y="1916280"/>
            <a:ext cx="2160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преуспевать в жизни, чем быть неудачником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быть счастливым, чем несчастным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любить, чем ненавидеть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7" name="Picture 4" descr="834050"/>
          <p:cNvPicPr/>
          <p:nvPr/>
        </p:nvPicPr>
        <p:blipFill>
          <a:blip r:embed="rId2"/>
          <a:stretch/>
        </p:blipFill>
        <p:spPr>
          <a:xfrm>
            <a:off x="6877080" y="350028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00020806"/>
          <p:cNvPicPr/>
          <p:nvPr/>
        </p:nvPicPr>
        <p:blipFill>
          <a:blip r:embed="rId3"/>
          <a:stretch/>
        </p:blipFill>
        <p:spPr>
          <a:xfrm>
            <a:off x="3564000" y="227664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z-1"/>
          <p:cNvPicPr/>
          <p:nvPr/>
        </p:nvPicPr>
        <p:blipFill>
          <a:blip r:embed="rId4"/>
          <a:stretch/>
        </p:blipFill>
        <p:spPr>
          <a:xfrm>
            <a:off x="179280" y="2276640"/>
            <a:ext cx="324036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316850"/>
          <p:cNvPicPr/>
          <p:nvPr/>
        </p:nvPicPr>
        <p:blipFill>
          <a:blip r:embed="rId5"/>
          <a:stretch/>
        </p:blipFill>
        <p:spPr>
          <a:xfrm>
            <a:off x="6804000" y="189000"/>
            <a:ext cx="215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9170001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9170005"/>
          <p:cNvPicPr/>
          <p:nvPr/>
        </p:nvPicPr>
        <p:blipFill>
          <a:blip r:embed="rId3"/>
          <a:stretch/>
        </p:blipFill>
        <p:spPr>
          <a:xfrm>
            <a:off x="3635280" y="2708280"/>
            <a:ext cx="5376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9170003"/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79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9170011"/>
          <p:cNvPicPr/>
          <p:nvPr/>
        </p:nvPicPr>
        <p:blipFill>
          <a:blip r:embed="rId3"/>
          <a:srcRect l="0" t="12489" r="0" b="0"/>
          <a:stretch/>
        </p:blipFill>
        <p:spPr>
          <a:xfrm>
            <a:off x="3348000" y="2997360"/>
            <a:ext cx="5545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9170012"/>
          <p:cNvPicPr/>
          <p:nvPr/>
        </p:nvPicPr>
        <p:blipFill>
          <a:blip r:embed="rId2"/>
          <a:srcRect l="6019" t="25500" r="0" b="0"/>
          <a:stretch/>
        </p:blipFill>
        <p:spPr>
          <a:xfrm>
            <a:off x="0" y="189000"/>
            <a:ext cx="5904000" cy="36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9170007"/>
          <p:cNvPicPr/>
          <p:nvPr/>
        </p:nvPicPr>
        <p:blipFill>
          <a:blip r:embed="rId3"/>
          <a:srcRect l="0" t="22678" r="0" b="0"/>
          <a:stretch/>
        </p:blipFill>
        <p:spPr>
          <a:xfrm>
            <a:off x="3203640" y="3213000"/>
            <a:ext cx="561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Коллективный договор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, учащиеся 6 «Б» класса, принимаем ответственное решение носить почетное звание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«Некурящий класс»</a:t>
            </a: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 обязуемся не нарушать данный договор.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 быть здоровыми, успешными и счастливыми!!!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Царство вред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9" name="Picture 12" descr="AMPOWER"/>
          <p:cNvPicPr/>
          <p:nvPr/>
        </p:nvPicPr>
        <p:blipFill>
          <a:blip r:embed="rId1"/>
          <a:stretch/>
        </p:blipFill>
        <p:spPr>
          <a:xfrm>
            <a:off x="250920" y="1557360"/>
            <a:ext cx="181116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0" name="Diagram 5"/>
          <p:cNvGrpSpPr/>
          <p:nvPr/>
        </p:nvGrpSpPr>
        <p:grpSpPr>
          <a:xfrm>
            <a:off x="539640" y="1588680"/>
            <a:ext cx="8278200" cy="4551120"/>
            <a:chOff x="539640" y="1588680"/>
            <a:chExt cx="8278200" cy="4551120"/>
          </a:xfrm>
        </p:grpSpPr>
        <p:sp>
          <p:nvSpPr>
            <p:cNvPr id="51" name="_s1028"/>
            <p:cNvSpPr/>
            <p:nvPr/>
          </p:nvSpPr>
          <p:spPr>
            <a:xfrm flipV="1">
              <a:off x="3848040" y="1588680"/>
              <a:ext cx="1663200" cy="907200"/>
            </a:xfrm>
            <a:custGeom>
              <a:avLst/>
              <a:gdLst>
                <a:gd name="textAreaLeft" fmla="*/ 596520 w 1663200"/>
                <a:gd name="textAreaRight" fmla="*/ 1066680 w 1663200"/>
                <a:gd name="textAreaTop" fmla="*/ 325440 h 907200"/>
                <a:gd name="textAreaBottom" fmla="*/ 58176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сквернослов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9"/>
            <p:cNvSpPr/>
            <p:nvPr/>
          </p:nvSpPr>
          <p:spPr>
            <a:xfrm flipV="1">
              <a:off x="3021120" y="2495880"/>
              <a:ext cx="3317400" cy="914400"/>
            </a:xfrm>
            <a:custGeom>
              <a:avLst/>
              <a:gdLst>
                <a:gd name="textAreaLeft" fmla="*/ 729360 w 3317400"/>
                <a:gd name="textAreaRight" fmla="*/ 2588040 w 33174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990000"/>
                  </a:solidFill>
                  <a:latin typeface="Comic Sans MS"/>
                </a:rPr>
                <a:t>игр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0"/>
            <p:cNvSpPr/>
            <p:nvPr/>
          </p:nvSpPr>
          <p:spPr>
            <a:xfrm flipV="1">
              <a:off x="2193840" y="3410640"/>
              <a:ext cx="4969440" cy="90720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57320 h 907200"/>
                <a:gd name="textAreaBottom" fmla="*/ 74988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нарк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 flipV="1">
              <a:off x="1366560" y="4317840"/>
              <a:ext cx="6624000" cy="912960"/>
            </a:xfrm>
            <a:custGeom>
              <a:avLst/>
              <a:gdLst>
                <a:gd name="textAreaLeft" fmla="*/ 996480 w 6624000"/>
                <a:gd name="textAreaRight" fmla="*/ 5627520 w 6624000"/>
                <a:gd name="textAreaTop" fmla="*/ 137160 h 912960"/>
                <a:gd name="textAreaBottom" fmla="*/ 775800 h 9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пьянств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 flipV="1">
              <a:off x="539640" y="5230800"/>
              <a:ext cx="8278200" cy="908640"/>
            </a:xfrm>
            <a:custGeom>
              <a:avLst/>
              <a:gdLst>
                <a:gd name="textAreaLeft" fmla="*/ 1130400 w 8278200"/>
                <a:gd name="textAreaRight" fmla="*/ 7147800 w 8278200"/>
                <a:gd name="textAreaTop" fmla="*/ 123840 h 908640"/>
                <a:gd name="textAreaBottom" fmla="*/ 784800 h 9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курен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14"/>
          <p:cNvGraphicFramePr/>
          <p:nvPr/>
        </p:nvGraphicFramePr>
        <p:xfrm>
          <a:off x="7093080" y="1197000"/>
          <a:ext cx="190476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197000"/>
                    <a:ext cx="1904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457200" y="1125360"/>
          <a:ext cx="40384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4648320" y="1185840"/>
          <a:ext cx="403848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185840"/>
                    <a:ext cx="4038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468360" y="3789360"/>
          <a:ext cx="403848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979640" y="115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AG00007_"/>
          <p:cNvPicPr/>
          <p:nvPr/>
        </p:nvPicPr>
        <p:blipFill>
          <a:blip r:embed="rId7"/>
          <a:stretch/>
        </p:blipFill>
        <p:spPr>
          <a:xfrm>
            <a:off x="5724360" y="4149720"/>
            <a:ext cx="1741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редные привычки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тобы казаться старше и современны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з любопытства 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За компанию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екарство от скук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спокоить нервы и снять напряжение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удешь миллионер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Это не модно и не интеллигентно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худшает внешность (вянет кожа, желтеют зубы, сипнет голос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корачивает жизнь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Добавляет болезн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организ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Мешает работе и бизнесу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некурящих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Причина пожаров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«З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51640" y="76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Против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j0254449"/>
          <p:cNvPicPr/>
          <p:nvPr/>
        </p:nvPicPr>
        <p:blipFill>
          <a:blip r:embed="rId1"/>
          <a:stretch/>
        </p:blipFill>
        <p:spPr>
          <a:xfrm>
            <a:off x="684360" y="4941720"/>
            <a:ext cx="1871640" cy="14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4"/>
          <p:cNvPicPr/>
          <p:nvPr/>
        </p:nvPicPr>
        <p:blipFill>
          <a:blip r:embed="rId2"/>
          <a:stretch/>
        </p:blipFill>
        <p:spPr>
          <a:xfrm>
            <a:off x="3492360" y="494172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07"/>
          <p:cNvPicPr/>
          <p:nvPr/>
        </p:nvPicPr>
        <p:blipFill>
          <a:blip r:embed="rId3"/>
          <a:stretch/>
        </p:blipFill>
        <p:spPr>
          <a:xfrm>
            <a:off x="6443640" y="4797360"/>
            <a:ext cx="2374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равнительные результаты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765000"/>
          <a:ext cx="8229600" cy="5759640"/>
        </p:xfrm>
        <a:graphic>
          <a:graphicData uri="http://schemas.openxmlformats.org/drawingml/2006/table">
            <a:tbl>
              <a:tblPr/>
              <a:tblGrid>
                <a:gridCol w="3898800"/>
                <a:gridCol w="2160720"/>
                <a:gridCol w="217008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та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Не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рв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нижение слух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ая памя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физическ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умственн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чистоплот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ие 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дленно соображаю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4"/>
          <p:cNvSpPr/>
          <p:nvPr/>
        </p:nvSpPr>
        <p:spPr>
          <a:xfrm>
            <a:off x="395280" y="573408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з сочинений…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– никогда не начинать курит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урить – здоровью вредить!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5084280"/>
            <a:ext cx="7499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84" name="Picture 6" descr="00019478"/>
          <p:cNvPicPr/>
          <p:nvPr/>
        </p:nvPicPr>
        <p:blipFill>
          <a:blip r:embed="rId1"/>
          <a:srcRect l="13752" t="0" r="5196" b="0"/>
          <a:stretch/>
        </p:blipFill>
        <p:spPr>
          <a:xfrm>
            <a:off x="539640" y="1484280"/>
            <a:ext cx="338472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26368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4211640" y="3068640"/>
            <a:ext cx="1366920" cy="504720"/>
          </a:xfrm>
          <a:prstGeom prst="rightArrow">
            <a:avLst>
              <a:gd name="adj1" fmla="val 50000"/>
              <a:gd name="adj2" fmla="val 67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MOKIN~122"/>
          <p:cNvPicPr/>
          <p:nvPr/>
        </p:nvPicPr>
        <p:blipFill>
          <a:blip r:embed="rId1"/>
          <a:stretch/>
        </p:blipFill>
        <p:spPr>
          <a:xfrm>
            <a:off x="250920" y="1268280"/>
            <a:ext cx="2992320" cy="315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1008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стинная причина курения – это наркотическая зависимость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" name="Picture 7" descr="00036558"/>
          <p:cNvPicPr/>
          <p:nvPr/>
        </p:nvPicPr>
        <p:blipFill>
          <a:blip r:embed="rId2"/>
          <a:stretch/>
        </p:blipFill>
        <p:spPr>
          <a:xfrm>
            <a:off x="2843280" y="2349360"/>
            <a:ext cx="3687840" cy="294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584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24000" y="5373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еловек часто сам себе злейший вра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Цице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рганы-мишени поражения табачным дымом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(или что ждет того, кто курит) </a:t>
            </a:r>
            <a:endParaRPr b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3" name="Picture 7" descr="anatomiya"/>
          <p:cNvPicPr/>
          <p:nvPr/>
        </p:nvPicPr>
        <p:blipFill>
          <a:blip r:embed="rId1"/>
          <a:stretch/>
        </p:blipFill>
        <p:spPr>
          <a:xfrm>
            <a:off x="900000" y="95868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17:50Z</dcterms:created>
  <dc:creator>1</dc:creator>
  <dc:description/>
  <dc:language>en-US</dc:language>
  <cp:lastModifiedBy>LEGION</cp:lastModifiedBy>
  <dcterms:modified xsi:type="dcterms:W3CDTF">2015-05-12T08:35:37Z</dcterms:modified>
  <cp:revision>47</cp:revision>
  <dc:subject/>
  <dc:title> </dc:title>
</cp:coreProperties>
</file>