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4.gif" ContentType="image/gif"/>
  <Override PartName="/ppt/media/image32.jpeg" ContentType="image/jpeg"/>
  <Override PartName="/ppt/media/image20.jpeg" ContentType="image/jpeg"/>
  <Override PartName="/ppt/media/image17.gif" ContentType="image/gif"/>
  <Override PartName="/ppt/media/image27.jpeg" ContentType="image/jpeg"/>
  <Override PartName="/ppt/media/image16.jpeg" ContentType="image/jpeg"/>
  <Override PartName="/ppt/media/image5.wmf" ContentType="image/x-wmf"/>
  <Override PartName="/ppt/media/image21.wmf" ContentType="image/x-wmf"/>
  <Override PartName="/ppt/media/image25.gif" ContentType="image/gif"/>
  <Override PartName="/ppt/media/image10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13.jpeg" ContentType="image/jpeg"/>
  <Override PartName="/ppt/media/image30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33.jpeg" ContentType="image/jpeg"/>
  <Override PartName="/ppt/media/click.wav" ContentType="audio/x-wav"/>
  <Override PartName="/ppt/media/image8.gif" ContentType="image/gif"/>
  <Override PartName="/ppt/media/image4.wmf" ContentType="image/x-wmf"/>
  <Override PartName="/ppt/media/image34.jpeg" ContentType="image/jpeg"/>
  <Override PartName="/ppt/media/image29.jpeg" ContentType="image/jpeg"/>
  <Override PartName="/ppt/media/image7.gif" ContentType="image/gif"/>
  <Override PartName="/ppt/media/image6.wmf" ContentType="image/x-wmf"/>
  <Override PartName="/ppt/media/image19.jpeg" ContentType="image/jpeg"/>
  <Override PartName="/ppt/media/image12.jpeg" ContentType="image/jpeg"/>
  <Override PartName="/ppt/media/image3.png" ContentType="image/png"/>
  <Override PartName="/ppt/media/image23.gif" ContentType="image/gif"/>
  <Override PartName="/ppt/media/image26.png" ContentType="image/png"/>
  <Override PartName="/ppt/media/image2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05782-AE82-44FC-9FC8-B68FEE1741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ивыч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езные и вредн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Бедность от лени, а болезнь от невоздержа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cc0000"/>
                </a:solidFill>
                <a:latin typeface="Calibri"/>
              </a:rPr>
              <a:t>пословиц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CE950-B0B2-40FA-8359-2064BF552EA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чему приводят вредные привыч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FAD4-D573-4A12-BD5F-5E44E70CE88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 полез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E55D-0FFC-462C-B097-A00539D99A6A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Monotype Corsiva"/>
              </a:rPr>
              <a:t>Из сочинен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2019-BFFA-4104-952D-87506B405984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преуспевать в жизни, чем быть неудачник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быть счастливым, чем несчаст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гче любить, чем ненавиде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42B3-5DA1-4FDC-AC52-441288CD210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й дого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, учащиеся 6 «Б» класса, принимаем ответственное решение носить почетное з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Calibri"/>
              </a:rPr>
              <a:t>«Некурящий класс»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обязуемся не нарушать данный догово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хотим быть здоровыми, успешными и счастливыми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E835-AB5D-41E8-9875-C9BF75F99AD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00"/>
                </a:solidFill>
                <a:latin typeface="Calibri"/>
              </a:rPr>
              <a:t>Царство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9BCB-0CCB-4A65-953F-1627BA0C69E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025F-9BF6-4F32-8A9C-DACE0E3A265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редные привычк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тобы казаться старше и соврем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Из любопы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За комп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Лекарство от ск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Успокоить нервы и снять напря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Будешь миллионером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Это не модно и не интеллигент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худшает внешность (вянет кожа, желтеют зубы, сипнет голо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Укорачивает жи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Добавляет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Мешает работе и бизне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Отравляет некуря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Причина пож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995F-2609-4195-BD92-397C774C8DE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01ED-3CE0-46F5-8E37-27709006C322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з сочинений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 – никогда не начинать курить</a:t>
            </a: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DE42-873B-4A43-8575-A8010786F10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урить – здоровью вредить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4f81b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a50021"/>
                </a:solidFill>
                <a:latin typeface="Calibri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E4ED-D487-4D94-8767-60C6A5BE54D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причина курения – это наркотическая зависим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4D4F-62D5-4370-B899-1F55DD4AFD8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ы-мишени поражения табачным дымом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ли что ждет того, кто кури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D1C-DF1B-42E1-AECC-5765C0AC827B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1250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83400"/>
            <a:ext cx="264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8229600" cy="267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834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15588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25000"/>
            <a:ext cx="40158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83400"/>
            <a:ext cx="822960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ffff66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audio" Target="../media/click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5867280" y="5950080"/>
            <a:ext cx="2665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360" rIns="3636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г. Нижний Новгоро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Comic Sans MS"/>
              </a:rPr>
              <a:t>13 декабря 2008г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ривычки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Comic Sans MS"/>
              </a:rPr>
              <a:t>полезные и вредные</a:t>
            </a:r>
            <a:endParaRPr b="1" lang="en-US" sz="54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42920" y="3716280"/>
            <a:ext cx="6010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c0000"/>
                </a:solidFill>
                <a:latin typeface="Comic Sans MS"/>
              </a:rPr>
              <a:t>Бедность от лени, а болезнь от невоздержанности</a:t>
            </a:r>
            <a:endParaRPr b="0" lang="en-US" sz="2900" spc="-1" strike="noStrike">
              <a:solidFill>
                <a:srgbClr val="ffff66"/>
              </a:solidFill>
              <a:latin typeface="Comic Sans MS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словица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 чему приводят вредные привычки?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5" name="Picture 21" descr="Курящий мужик говорит"/>
          <p:cNvPicPr/>
          <p:nvPr/>
        </p:nvPicPr>
        <p:blipFill>
          <a:blip r:embed="rId1"/>
          <a:stretch/>
        </p:blipFill>
        <p:spPr>
          <a:xfrm>
            <a:off x="7667640" y="620640"/>
            <a:ext cx="936720" cy="1297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6"/>
          <p:cNvSpPr/>
          <p:nvPr/>
        </p:nvSpPr>
        <p:spPr>
          <a:xfrm>
            <a:off x="468360" y="907920"/>
            <a:ext cx="19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Куре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324000" y="1916280"/>
            <a:ext cx="395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Распитие спиртных напит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50920" y="328464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Употребление наркотик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50920" y="4797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Азартные игр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324000" y="59500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Сквернослов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643280" y="907920"/>
            <a:ext cx="28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котинов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4643280" y="1916280"/>
            <a:ext cx="262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алкогольн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716360" y="328464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аркотической зависимост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4716360" y="486900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игромани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4643280" y="566100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 низкому уровню культур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6"/>
          <p:cNvSpPr/>
          <p:nvPr/>
        </p:nvSpPr>
        <p:spPr>
          <a:xfrm>
            <a:off x="2771640" y="98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7"/>
          <p:cNvSpPr/>
          <p:nvPr/>
        </p:nvSpPr>
        <p:spPr>
          <a:xfrm>
            <a:off x="2700360" y="242100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8"/>
          <p:cNvSpPr/>
          <p:nvPr/>
        </p:nvSpPr>
        <p:spPr>
          <a:xfrm>
            <a:off x="2771640" y="357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843280" y="5013360"/>
            <a:ext cx="1511280" cy="216000"/>
          </a:xfrm>
          <a:prstGeom prst="rightArrow">
            <a:avLst>
              <a:gd name="adj1" fmla="val 50000"/>
              <a:gd name="adj2" fmla="val 174917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2843280" y="6093000"/>
            <a:ext cx="1511280" cy="215640"/>
          </a:xfrm>
          <a:prstGeom prst="rightArrow">
            <a:avLst>
              <a:gd name="adj1" fmla="val 50000"/>
              <a:gd name="adj2" fmla="val 175209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Мат опасен для жизни"/>
          <p:cNvPicPr/>
          <p:nvPr/>
        </p:nvPicPr>
        <p:blipFill>
          <a:blip r:embed="rId2"/>
          <a:stretch/>
        </p:blipFill>
        <p:spPr>
          <a:xfrm>
            <a:off x="7236000" y="5229360"/>
            <a:ext cx="1657080" cy="1369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9" descr="L41_11_p01"/>
          <p:cNvPicPr/>
          <p:nvPr/>
        </p:nvPicPr>
        <p:blipFill>
          <a:blip r:embed="rId3"/>
          <a:stretch/>
        </p:blipFill>
        <p:spPr>
          <a:xfrm>
            <a:off x="7164360" y="3500280"/>
            <a:ext cx="1800360" cy="135108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  <p:pic>
        <p:nvPicPr>
          <p:cNvPr id="113" name="Picture 32" descr="L41_06_p01"/>
          <p:cNvPicPr/>
          <p:nvPr/>
        </p:nvPicPr>
        <p:blipFill>
          <a:blip r:embed="rId4"/>
          <a:stretch/>
        </p:blipFill>
        <p:spPr>
          <a:xfrm>
            <a:off x="7164360" y="1844640"/>
            <a:ext cx="1770120" cy="1327320"/>
          </a:xfrm>
          <a:prstGeom prst="rect">
            <a:avLst/>
          </a:prstGeom>
          <a:ln w="38160">
            <a:solidFill>
              <a:srgbClr val="00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5"/>
          <p:cNvSpPr/>
          <p:nvPr/>
        </p:nvSpPr>
        <p:spPr>
          <a:xfrm rot="20694600">
            <a:off x="110880" y="604440"/>
            <a:ext cx="43149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«От курения тупеешь, оно не совместимо с творческой работой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Comic Sans MS"/>
              </a:rPr>
              <a:t>И.Гёте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 rot="666000">
            <a:off x="3851640" y="3182400"/>
            <a:ext cx="49881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Comic Sans MS"/>
              </a:rPr>
              <a:t>«Курильщик впускает в свои уста врага, который похищает мозги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Comic Sans MS"/>
              </a:rPr>
              <a:t>Англ. пословиц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 rot="21208800">
            <a:off x="484200" y="2923200"/>
            <a:ext cx="28083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«Здоровье потеряешь – все потеряешь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Comic Sans MS"/>
              </a:rPr>
              <a:t>Народная мудрос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Скорая помощь"/>
          <p:cNvPicPr/>
          <p:nvPr/>
        </p:nvPicPr>
        <p:blipFill>
          <a:blip r:embed="rId1"/>
          <a:stretch/>
        </p:blipFill>
        <p:spPr>
          <a:xfrm>
            <a:off x="250920" y="4149720"/>
            <a:ext cx="2654280" cy="1650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kurenie"/>
          <p:cNvPicPr/>
          <p:nvPr/>
        </p:nvPicPr>
        <p:blipFill>
          <a:blip r:embed="rId2"/>
          <a:stretch/>
        </p:blipFill>
        <p:spPr>
          <a:xfrm>
            <a:off x="4067280" y="4437000"/>
            <a:ext cx="1434960" cy="19051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3"/>
          <p:cNvSpPr/>
          <p:nvPr/>
        </p:nvSpPr>
        <p:spPr>
          <a:xfrm>
            <a:off x="4390920" y="907920"/>
            <a:ext cx="4753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«Начинаешь   курить,   чтобы доказать,   что   ты   мужчина. Потом   пытаешься    бросить курить,  чтобы   доказать,  что ты  мужчина».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Comic Sans MS"/>
              </a:rPr>
              <a:t>Жорж Сименон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Царство  полез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40384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22" name="Picture 4" descr="Рисунок1"/>
          <p:cNvPicPr/>
          <p:nvPr/>
        </p:nvPicPr>
        <p:blipFill>
          <a:blip r:embed="rId2"/>
          <a:stretch/>
        </p:blipFill>
        <p:spPr>
          <a:xfrm>
            <a:off x="7451640" y="1197000"/>
            <a:ext cx="1309680" cy="1295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j0303458"/>
          <p:cNvPicPr/>
          <p:nvPr/>
        </p:nvPicPr>
        <p:blipFill>
          <a:blip r:embed="rId3"/>
          <a:stretch/>
        </p:blipFill>
        <p:spPr>
          <a:xfrm>
            <a:off x="250920" y="981000"/>
            <a:ext cx="1765080" cy="1225800"/>
          </a:xfrm>
          <a:prstGeom prst="rect">
            <a:avLst/>
          </a:prstGeom>
          <a:ln w="0">
            <a:noFill/>
          </a:ln>
        </p:spPr>
      </p:pic>
      <p:grpSp>
        <p:nvGrpSpPr>
          <p:cNvPr id="124" name="Diagram 12"/>
          <p:cNvGrpSpPr/>
          <p:nvPr/>
        </p:nvGrpSpPr>
        <p:grpSpPr>
          <a:xfrm>
            <a:off x="375840" y="1174680"/>
            <a:ext cx="7888680" cy="4370040"/>
            <a:chOff x="375840" y="1174680"/>
            <a:chExt cx="7888680" cy="4370040"/>
          </a:xfrm>
        </p:grpSpPr>
        <p:sp>
          <p:nvSpPr>
            <p:cNvPr id="125" name="_s2052"/>
            <p:cNvSpPr/>
            <p:nvPr/>
          </p:nvSpPr>
          <p:spPr>
            <a:xfrm flipV="1">
              <a:off x="3756600" y="1174680"/>
              <a:ext cx="1126800" cy="624240"/>
            </a:xfrm>
            <a:custGeom>
              <a:avLst/>
              <a:gdLst>
                <a:gd name="textAreaLeft" fmla="*/ 404280 w 1126800"/>
                <a:gd name="textAreaRight" fmla="*/ 722520 w 1126800"/>
                <a:gd name="textAreaTop" fmla="*/ 223920 h 624240"/>
                <a:gd name="textAreaBottom" fmla="*/ 40032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0399ff"/>
            </a:solidFill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Трудолюбие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_s2053"/>
            <p:cNvSpPr/>
            <p:nvPr/>
          </p:nvSpPr>
          <p:spPr>
            <a:xfrm flipV="1">
              <a:off x="3192840" y="1798560"/>
              <a:ext cx="2253600" cy="623880"/>
            </a:xfrm>
            <a:custGeom>
              <a:avLst/>
              <a:gdLst>
                <a:gd name="textAreaLeft" fmla="*/ 495360 w 2253600"/>
                <a:gd name="textAreaRight" fmla="*/ 1758240 w 2253600"/>
                <a:gd name="textAreaTop" fmla="*/ 137160 h 623880"/>
                <a:gd name="textAreaBottom" fmla="*/ 4867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1bd0a"/>
            </a:solidFill>
            <a:ln w="28440">
              <a:solidFill>
                <a:srgbClr val="0193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Вежливость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4"/>
            <p:cNvSpPr/>
            <p:nvPr/>
          </p:nvSpPr>
          <p:spPr>
            <a:xfrm flipV="1">
              <a:off x="2629800" y="2422800"/>
              <a:ext cx="3380760" cy="624240"/>
            </a:xfrm>
            <a:custGeom>
              <a:avLst/>
              <a:gdLst>
                <a:gd name="textAreaLeft" fmla="*/ 586800 w 3380760"/>
                <a:gd name="textAreaRight" fmla="*/ 2793960 w 3380760"/>
                <a:gd name="textAreaTop" fmla="*/ 108360 h 624240"/>
                <a:gd name="textAreaBottom" fmla="*/ 5158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1fd09"/>
            </a:solidFill>
            <a:ln w="28440">
              <a:solidFill>
                <a:srgbClr val="cad4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6699"/>
                  </a:solidFill>
                  <a:latin typeface="Comic Sans MS"/>
                </a:rPr>
                <a:t>Поддержание чистоты и порядка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_s2055"/>
            <p:cNvSpPr/>
            <p:nvPr/>
          </p:nvSpPr>
          <p:spPr>
            <a:xfrm flipV="1">
              <a:off x="2066040" y="3047760"/>
              <a:ext cx="4507560" cy="624240"/>
            </a:xfrm>
            <a:custGeom>
              <a:avLst/>
              <a:gdLst>
                <a:gd name="textAreaLeft" fmla="*/ 678240 w 4507560"/>
                <a:gd name="textAreaRight" fmla="*/ 3829320 w 4507560"/>
                <a:gd name="textAreaTop" fmla="*/ 93960 h 624240"/>
                <a:gd name="textAreaBottom" fmla="*/ 53028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8c01"/>
            </a:solidFill>
            <a:ln w="28440">
              <a:solidFill>
                <a:srgbClr val="d87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режима дня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2056"/>
            <p:cNvSpPr/>
            <p:nvPr/>
          </p:nvSpPr>
          <p:spPr>
            <a:xfrm flipV="1">
              <a:off x="1502640" y="3670920"/>
              <a:ext cx="5634720" cy="623880"/>
            </a:xfrm>
            <a:custGeom>
              <a:avLst/>
              <a:gdLst>
                <a:gd name="textAreaLeft" fmla="*/ 769320 w 5634720"/>
                <a:gd name="textAreaRight" fmla="*/ 4865400 w 5634720"/>
                <a:gd name="textAreaTop" fmla="*/ 84960 h 623880"/>
                <a:gd name="textAreaBottom" fmla="*/ 538920 h 6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ff0000"/>
            </a:solidFill>
            <a:ln w="28440">
              <a:solidFill>
                <a:srgbClr val="be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Занятия спортом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2057"/>
            <p:cNvSpPr/>
            <p:nvPr/>
          </p:nvSpPr>
          <p:spPr>
            <a:xfrm flipV="1">
              <a:off x="938880" y="4295880"/>
              <a:ext cx="6761520" cy="624240"/>
            </a:xfrm>
            <a:custGeom>
              <a:avLst/>
              <a:gdLst>
                <a:gd name="textAreaLeft" fmla="*/ 860760 w 6761520"/>
                <a:gd name="textAreaRight" fmla="*/ 5900760 w 6761520"/>
                <a:gd name="textAreaTop" fmla="*/ 79200 h 624240"/>
                <a:gd name="textAreaBottom" fmla="*/ 545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ff00ff"/>
            </a:solidFill>
            <a:ln w="28440">
              <a:solidFill>
                <a:srgbClr val="ca00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Чтение книг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58"/>
            <p:cNvSpPr/>
            <p:nvPr/>
          </p:nvSpPr>
          <p:spPr>
            <a:xfrm flipV="1">
              <a:off x="375840" y="4920120"/>
              <a:ext cx="7888680" cy="624240"/>
            </a:xfrm>
            <a:custGeom>
              <a:avLst/>
              <a:gdLst>
                <a:gd name="textAreaLeft" fmla="*/ 952200 w 7888680"/>
                <a:gd name="textAreaRight" fmla="*/ 6936480 w 7888680"/>
                <a:gd name="textAreaTop" fmla="*/ 75240 h 624240"/>
                <a:gd name="textAreaBottom" fmla="*/ 54900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057" y="21600"/>
                  </a:lnTo>
                  <a:lnTo>
                    <a:pt x="1543" y="21600"/>
                  </a:lnTo>
                  <a:close/>
                </a:path>
              </a:pathLst>
            </a:custGeom>
            <a:solidFill>
              <a:srgbClr val="9966ff"/>
            </a:solidFill>
            <a:ln w="28440">
              <a:solidFill>
                <a:srgbClr val="5f0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6920" rIns="106920" tIns="53640" bIns="5364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825"/>
                </a:spcBef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ffff66"/>
                  </a:solidFill>
                  <a:latin typeface="Comic Sans MS"/>
                </a:rPr>
                <a:t>Соблюдение гигиены</a:t>
              </a: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Text Box 20"/>
          <p:cNvSpPr/>
          <p:nvPr/>
        </p:nvSpPr>
        <p:spPr>
          <a:xfrm>
            <a:off x="1547640" y="5805360"/>
            <a:ext cx="6264360" cy="8254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mic Sans MS"/>
              </a:rPr>
              <a:t>Герой  нашего времени     –    человек    без вредных привычек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0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onotype Corsiva"/>
              </a:rPr>
              <a:t>Из сочинений…</a:t>
            </a:r>
            <a:endParaRPr b="1" lang="en-US" sz="28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-360" y="765000"/>
            <a:ext cx="70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Все привычки человек воспитывает в себе сам. Только вредные привычки легко пускают корни, а воспитание полезных привычек требует ежедневного труда и большой силы воли. Но зато полезные привычки сделают из своего хозяина человека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С детства необходимо работать над собой, вырабатывать в себе полезные привычки, которые помогут добиться успеха, достичь целей в жизни, быть счастливым. Человек может стать рабом вредных привычек, если не воспитывать с детства уважение к самому себе»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284400" indent="-284400" algn="just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Monotype Corsiva"/>
              </a:rPr>
              <a:t>Первую сигарету часто предлагают «хорошие друзья». И молодой человек поддается стадному чувству. Чтобы отстоять свое мнение нужно быть сильным духом и телом. А для этого надо вести здоровый образ жизни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5" name="Picture 4" descr="дети"/>
          <p:cNvPicPr/>
          <p:nvPr/>
        </p:nvPicPr>
        <p:blipFill>
          <a:blip r:embed="rId2"/>
          <a:stretch/>
        </p:blipFill>
        <p:spPr>
          <a:xfrm>
            <a:off x="6983280" y="1916280"/>
            <a:ext cx="216072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9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9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9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08000" y="333000"/>
            <a:ext cx="540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преуспевать в жизни, чем быть неудачником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быть счастливым, чем несчастным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Легче любить, чем ненавидеть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66"/>
                </a:solidFill>
                <a:latin typeface="Comic Sans MS"/>
              </a:rPr>
              <a:t>Нужно лишь приложить усилия и жить, любить, работать, творить здоровое тело и здоровый дух, сохранять хорошее состояние мыслей и души.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137" name="Picture 4" descr="834050"/>
          <p:cNvPicPr/>
          <p:nvPr/>
        </p:nvPicPr>
        <p:blipFill>
          <a:blip r:embed="rId2"/>
          <a:stretch/>
        </p:blipFill>
        <p:spPr>
          <a:xfrm>
            <a:off x="6877080" y="3500280"/>
            <a:ext cx="20955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00020806"/>
          <p:cNvPicPr/>
          <p:nvPr/>
        </p:nvPicPr>
        <p:blipFill>
          <a:blip r:embed="rId3"/>
          <a:stretch/>
        </p:blipFill>
        <p:spPr>
          <a:xfrm>
            <a:off x="3564000" y="2276640"/>
            <a:ext cx="2952720" cy="2328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Biz-1"/>
          <p:cNvPicPr/>
          <p:nvPr/>
        </p:nvPicPr>
        <p:blipFill>
          <a:blip r:embed="rId4"/>
          <a:stretch/>
        </p:blipFill>
        <p:spPr>
          <a:xfrm>
            <a:off x="179280" y="2276640"/>
            <a:ext cx="3240360" cy="2260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2" descr="J0316850"/>
          <p:cNvPicPr/>
          <p:nvPr/>
        </p:nvPicPr>
        <p:blipFill>
          <a:blip r:embed="rId5"/>
          <a:stretch/>
        </p:blipFill>
        <p:spPr>
          <a:xfrm>
            <a:off x="6804000" y="189000"/>
            <a:ext cx="2152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9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9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9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7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9170001"/>
          <p:cNvPicPr/>
          <p:nvPr/>
        </p:nvPicPr>
        <p:blipFill>
          <a:blip r:embed="rId2"/>
          <a:stretch/>
        </p:blipFill>
        <p:spPr>
          <a:xfrm>
            <a:off x="108000" y="115920"/>
            <a:ext cx="4968720" cy="3719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P9170005"/>
          <p:cNvPicPr/>
          <p:nvPr/>
        </p:nvPicPr>
        <p:blipFill>
          <a:blip r:embed="rId3"/>
          <a:stretch/>
        </p:blipFill>
        <p:spPr>
          <a:xfrm>
            <a:off x="3635280" y="2708280"/>
            <a:ext cx="537696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0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P9170003"/>
          <p:cNvPicPr/>
          <p:nvPr/>
        </p:nvPicPr>
        <p:blipFill>
          <a:blip r:embed="rId2"/>
          <a:stretch/>
        </p:blipFill>
        <p:spPr>
          <a:xfrm>
            <a:off x="179280" y="189000"/>
            <a:ext cx="5077080" cy="3798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P9170011"/>
          <p:cNvPicPr/>
          <p:nvPr/>
        </p:nvPicPr>
        <p:blipFill>
          <a:blip r:embed="rId3"/>
          <a:srcRect l="0" t="12489" r="0" b="0"/>
          <a:stretch/>
        </p:blipFill>
        <p:spPr>
          <a:xfrm>
            <a:off x="3348000" y="2997360"/>
            <a:ext cx="554508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P9170012"/>
          <p:cNvPicPr/>
          <p:nvPr/>
        </p:nvPicPr>
        <p:blipFill>
          <a:blip r:embed="rId2"/>
          <a:srcRect l="6019" t="25500" r="0" b="0"/>
          <a:stretch/>
        </p:blipFill>
        <p:spPr>
          <a:xfrm>
            <a:off x="0" y="189000"/>
            <a:ext cx="5904000" cy="3603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P9170007"/>
          <p:cNvPicPr/>
          <p:nvPr/>
        </p:nvPicPr>
        <p:blipFill>
          <a:blip r:embed="rId3"/>
          <a:srcRect l="0" t="22678" r="0" b="0"/>
          <a:stretch/>
        </p:blipFill>
        <p:spPr>
          <a:xfrm>
            <a:off x="3203640" y="3213000"/>
            <a:ext cx="561636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Коллективный договор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, учащиеся 6 «Б» класса, принимаем ответственное решение носить почетное звание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Comic Sans MS"/>
              </a:rPr>
              <a:t>«Некурящий класс»</a:t>
            </a:r>
            <a:r>
              <a:rPr b="1" lang="ru-RU" sz="40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и обязуемся не нарушать данный договор.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, чтобы у нас были здоровые дети, а здоровые дети могут быть только у здоровых родителей!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  <a:p>
            <a:pPr marL="339480" indent="-339480" algn="ctr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Мы хотим быть здоровыми, успешными и счастливыми!!!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omic Sans MS"/>
              </a:rPr>
              <a:t>Царство вредных привычек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49" name="Picture 12" descr="AMPOWER"/>
          <p:cNvPicPr/>
          <p:nvPr/>
        </p:nvPicPr>
        <p:blipFill>
          <a:blip r:embed="rId1"/>
          <a:stretch/>
        </p:blipFill>
        <p:spPr>
          <a:xfrm>
            <a:off x="250920" y="1557360"/>
            <a:ext cx="1811160" cy="1379520"/>
          </a:xfrm>
          <a:prstGeom prst="rect">
            <a:avLst/>
          </a:prstGeom>
          <a:ln w="0">
            <a:noFill/>
          </a:ln>
        </p:spPr>
      </p:pic>
      <p:grpSp>
        <p:nvGrpSpPr>
          <p:cNvPr id="50" name="Diagram 5"/>
          <p:cNvGrpSpPr/>
          <p:nvPr/>
        </p:nvGrpSpPr>
        <p:grpSpPr>
          <a:xfrm>
            <a:off x="539640" y="1588680"/>
            <a:ext cx="8278200" cy="4551120"/>
            <a:chOff x="539640" y="1588680"/>
            <a:chExt cx="8278200" cy="4551120"/>
          </a:xfrm>
        </p:grpSpPr>
        <p:sp>
          <p:nvSpPr>
            <p:cNvPr id="51" name="_s1028"/>
            <p:cNvSpPr/>
            <p:nvPr/>
          </p:nvSpPr>
          <p:spPr>
            <a:xfrm flipV="1">
              <a:off x="3848040" y="1588680"/>
              <a:ext cx="1663200" cy="907200"/>
            </a:xfrm>
            <a:custGeom>
              <a:avLst/>
              <a:gdLst>
                <a:gd name="textAreaLeft" fmla="*/ 596520 w 1663200"/>
                <a:gd name="textAreaRight" fmla="*/ 1066680 w 1663200"/>
                <a:gd name="textAreaTop" fmla="*/ 325440 h 907200"/>
                <a:gd name="textAreaBottom" fmla="*/ 58176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сквернослов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1029"/>
            <p:cNvSpPr/>
            <p:nvPr/>
          </p:nvSpPr>
          <p:spPr>
            <a:xfrm flipV="1">
              <a:off x="3021120" y="2495880"/>
              <a:ext cx="3317400" cy="914400"/>
            </a:xfrm>
            <a:custGeom>
              <a:avLst/>
              <a:gdLst>
                <a:gd name="textAreaLeft" fmla="*/ 729360 w 3317400"/>
                <a:gd name="textAreaRight" fmla="*/ 2588040 w 3317400"/>
                <a:gd name="textAreaTop" fmla="*/ 200880 h 914400"/>
                <a:gd name="textAreaBottom" fmla="*/ 71352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990000"/>
                  </a:solidFill>
                  <a:latin typeface="Comic Sans MS"/>
                </a:rPr>
                <a:t>игр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0"/>
            <p:cNvSpPr/>
            <p:nvPr/>
          </p:nvSpPr>
          <p:spPr>
            <a:xfrm flipV="1">
              <a:off x="2193840" y="3410640"/>
              <a:ext cx="4969440" cy="907200"/>
            </a:xfrm>
            <a:custGeom>
              <a:avLst/>
              <a:gdLst>
                <a:gd name="textAreaLeft" fmla="*/ 862560 w 4969440"/>
                <a:gd name="textAreaRight" fmla="*/ 4106880 w 4969440"/>
                <a:gd name="textAreaTop" fmla="*/ 157320 h 907200"/>
                <a:gd name="textAreaBottom" fmla="*/ 749880 h 90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наркомания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1031"/>
            <p:cNvSpPr/>
            <p:nvPr/>
          </p:nvSpPr>
          <p:spPr>
            <a:xfrm flipV="1">
              <a:off x="1366560" y="4317840"/>
              <a:ext cx="6624000" cy="912960"/>
            </a:xfrm>
            <a:custGeom>
              <a:avLst/>
              <a:gdLst>
                <a:gd name="textAreaLeft" fmla="*/ 996480 w 6624000"/>
                <a:gd name="textAreaRight" fmla="*/ 5627520 w 6624000"/>
                <a:gd name="textAreaTop" fmla="*/ 137160 h 912960"/>
                <a:gd name="textAreaBottom" fmla="*/ 775800 h 91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пьянство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2"/>
            <p:cNvSpPr/>
            <p:nvPr/>
          </p:nvSpPr>
          <p:spPr>
            <a:xfrm flipV="1">
              <a:off x="539640" y="5230800"/>
              <a:ext cx="8278200" cy="908640"/>
            </a:xfrm>
            <a:custGeom>
              <a:avLst/>
              <a:gdLst>
                <a:gd name="textAreaLeft" fmla="*/ 1130400 w 8278200"/>
                <a:gd name="textAreaRight" fmla="*/ 7147800 w 8278200"/>
                <a:gd name="textAreaTop" fmla="*/ 123840 h 908640"/>
                <a:gd name="textAreaBottom" fmla="*/ 784800 h 908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ffffff"/>
                </a:gs>
                <a:gs pos="100000">
                  <a:srgbClr val="000066"/>
                </a:gs>
              </a:gsLst>
              <a:lin ang="54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6160" rIns="146160" tIns="73080" bIns="730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90000"/>
                  </a:solidFill>
                  <a:latin typeface="Comic Sans MS"/>
                </a:rPr>
                <a:t>курение</a:t>
              </a:r>
              <a:endParaRPr b="1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56" name="Object 14"/>
          <p:cNvGraphicFramePr/>
          <p:nvPr/>
        </p:nvGraphicFramePr>
        <p:xfrm>
          <a:off x="7093080" y="1197000"/>
          <a:ext cx="1904760" cy="223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Object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93080" y="1197000"/>
                    <a:ext cx="190476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1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59" name="Object 8"/>
          <p:cNvGraphicFramePr/>
          <p:nvPr/>
        </p:nvGraphicFramePr>
        <p:xfrm>
          <a:off x="457200" y="1125360"/>
          <a:ext cx="4038480" cy="26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25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9"/>
          <p:cNvGraphicFramePr/>
          <p:nvPr/>
        </p:nvGraphicFramePr>
        <p:xfrm>
          <a:off x="4648320" y="1185840"/>
          <a:ext cx="4038480" cy="253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185840"/>
                    <a:ext cx="40384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13"/>
          <p:cNvGraphicFramePr/>
          <p:nvPr/>
        </p:nvGraphicFramePr>
        <p:xfrm>
          <a:off x="468360" y="3789360"/>
          <a:ext cx="4038480" cy="2657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3789360"/>
                    <a:ext cx="403848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1979640" y="1159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66"/>
                </a:solidFill>
                <a:latin typeface="Comic Sans MS"/>
              </a:rPr>
              <a:t>Результаты анкетировани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6" descr="AG00007_"/>
          <p:cNvPicPr/>
          <p:nvPr/>
        </p:nvPicPr>
        <p:blipFill>
          <a:blip r:embed="rId7"/>
          <a:stretch/>
        </p:blipFill>
        <p:spPr>
          <a:xfrm>
            <a:off x="5724360" y="4149720"/>
            <a:ext cx="17416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редные привычки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40384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Чтобы казаться старше и современны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Из любопытства 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За компанию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Лекарство от скук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Успокоить нервы и снять напряжение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удешь миллионером</a:t>
            </a: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8320" y="1484280"/>
            <a:ext cx="403848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Это не модно и не интеллигентно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худшает внешность (вянет кожа, желтеют зубы, сипнет голос)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Укорачивает жизнь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Добавляет болезни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организм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Мешает работе и бизнесу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Отравляет некурящих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omic Sans MS"/>
              </a:rPr>
              <a:t>Причина пожаров</a:t>
            </a: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Comic Sans MS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619280" y="76500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Comic Sans MS"/>
              </a:rPr>
              <a:t>«За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651640" y="765000"/>
            <a:ext cx="19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«Против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j0254449"/>
          <p:cNvPicPr/>
          <p:nvPr/>
        </p:nvPicPr>
        <p:blipFill>
          <a:blip r:embed="rId1"/>
          <a:stretch/>
        </p:blipFill>
        <p:spPr>
          <a:xfrm>
            <a:off x="684360" y="4941720"/>
            <a:ext cx="1871640" cy="14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4"/>
          <p:cNvPicPr/>
          <p:nvPr/>
        </p:nvPicPr>
        <p:blipFill>
          <a:blip r:embed="rId2"/>
          <a:stretch/>
        </p:blipFill>
        <p:spPr>
          <a:xfrm>
            <a:off x="3492360" y="4941720"/>
            <a:ext cx="2303640" cy="151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007"/>
          <p:cNvPicPr/>
          <p:nvPr/>
        </p:nvPicPr>
        <p:blipFill>
          <a:blip r:embed="rId3"/>
          <a:stretch/>
        </p:blipFill>
        <p:spPr>
          <a:xfrm>
            <a:off x="6443640" y="4797360"/>
            <a:ext cx="237492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равнительные результаты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765000"/>
          <a:ext cx="8229600" cy="5759640"/>
        </p:xfrm>
        <a:graphic>
          <a:graphicData uri="http://schemas.openxmlformats.org/drawingml/2006/table">
            <a:tbl>
              <a:tblPr/>
              <a:tblGrid>
                <a:gridCol w="3898800"/>
                <a:gridCol w="2160720"/>
                <a:gridCol w="217008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аталогия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Некурящие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рв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4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онижение слух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ая памят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физическ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7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ое умственное состоя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Нечистоплот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2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1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Плохие отметки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8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Медленно соображают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cc0000"/>
                          </a:solidFill>
                          <a:latin typeface="Comic Sans MS"/>
                        </a:rPr>
                        <a:t>19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3%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79" name="Text Box 64"/>
          <p:cNvSpPr/>
          <p:nvPr/>
        </p:nvSpPr>
        <p:spPr>
          <a:xfrm>
            <a:off x="395280" y="573408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з сочинений…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 среднем, курящие люди живут на 6-8 лет меньше, чем некурящие. Так следует ли за такое сомнительное удовольствие платить такую дорогую цену?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Кто чаще курит? Те, кто не слишком уверен в себе или не так способен, не так стабилен психически!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Существует множество способов бросить курить. Одни курильщики сами справляются с этой задачей, другим нужна помощь. Но самое лучшее</a:t>
            </a: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 – никогда не начинать курить</a:t>
            </a: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Чем раньше подросток начинает курить, тем опаснее для него воздействие ядов табачного дыма. Он  хуже развивается, медленнее раст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omic Sans MS"/>
              </a:rPr>
              <a:t>Вместе с табачным дымом улетучивается женственность, красота, организм быстро увядает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Курить – здоровью вредить!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10920" y="5084280"/>
            <a:ext cx="7499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Comic Sans MS"/>
              </a:rPr>
              <a:t>И о какой же привлекательности девушки можно говорить, если изо рта источается запах табачного перегара.</a:t>
            </a:r>
            <a:endParaRPr b="0" lang="en-US" sz="2400" spc="-1" strike="noStrike">
              <a:solidFill>
                <a:srgbClr val="ffff66"/>
              </a:solidFill>
              <a:latin typeface="Comic Sans MS"/>
            </a:endParaRPr>
          </a:p>
        </p:txBody>
      </p:sp>
      <p:pic>
        <p:nvPicPr>
          <p:cNvPr id="84" name="Picture 6" descr="00019478"/>
          <p:cNvPicPr/>
          <p:nvPr/>
        </p:nvPicPr>
        <p:blipFill>
          <a:blip r:embed="rId1"/>
          <a:srcRect l="13752" t="0" r="5196" b="0"/>
          <a:stretch/>
        </p:blipFill>
        <p:spPr>
          <a:xfrm>
            <a:off x="539640" y="1484280"/>
            <a:ext cx="3384720" cy="3171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5796000" y="1628640"/>
            <a:ext cx="2263680" cy="30974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12"/>
          <p:cNvSpPr/>
          <p:nvPr/>
        </p:nvSpPr>
        <p:spPr>
          <a:xfrm>
            <a:off x="4211640" y="3068640"/>
            <a:ext cx="1366920" cy="504720"/>
          </a:xfrm>
          <a:prstGeom prst="rightArrow">
            <a:avLst>
              <a:gd name="adj1" fmla="val 50000"/>
              <a:gd name="adj2" fmla="val 6770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SMOKIN~122"/>
          <p:cNvPicPr/>
          <p:nvPr/>
        </p:nvPicPr>
        <p:blipFill>
          <a:blip r:embed="rId1"/>
          <a:stretch/>
        </p:blipFill>
        <p:spPr>
          <a:xfrm>
            <a:off x="250920" y="1268280"/>
            <a:ext cx="2992320" cy="3154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058160" cy="1008000"/>
          </a:xfrm>
          <a:prstGeom prst="rect">
            <a:avLst/>
          </a:prstGeom>
          <a:noFill/>
          <a:ln w="57240">
            <a:solidFill>
              <a:srgbClr val="cc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Истинная причина курения – это наркотическая зависимость</a:t>
            </a:r>
            <a:endParaRPr b="1" lang="en-US" sz="32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89" name="Picture 7" descr="00036558"/>
          <p:cNvPicPr/>
          <p:nvPr/>
        </p:nvPicPr>
        <p:blipFill>
          <a:blip r:embed="rId2"/>
          <a:stretch/>
        </p:blipFill>
        <p:spPr>
          <a:xfrm>
            <a:off x="2843280" y="2349360"/>
            <a:ext cx="3687840" cy="2946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584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"/>
          <p:cNvSpPr/>
          <p:nvPr/>
        </p:nvSpPr>
        <p:spPr>
          <a:xfrm>
            <a:off x="324000" y="537372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Человек часто сам себе злейший враг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                         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Arial"/>
              </a:rPr>
              <a:t>Цицерон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8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 </a:t>
            </a: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Органы-мишени поражения табачным дымом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Comic Sans MS"/>
              </a:rPr>
              <a:t>(или что ждет того, кто курит) </a:t>
            </a:r>
            <a:endParaRPr b="1" lang="en-US" sz="18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3" name="Picture 7" descr="anatomiya"/>
          <p:cNvPicPr/>
          <p:nvPr/>
        </p:nvPicPr>
        <p:blipFill>
          <a:blip r:embed="rId1"/>
          <a:stretch/>
        </p:blipFill>
        <p:spPr>
          <a:xfrm>
            <a:off x="900000" y="95868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15:17:50Z</dcterms:created>
  <dc:creator>1</dc:creator>
  <dc:description/>
  <dc:language>en-US</dc:language>
  <cp:lastModifiedBy>LEGION</cp:lastModifiedBy>
  <dcterms:modified xsi:type="dcterms:W3CDTF">2015-05-12T08:35:37Z</dcterms:modified>
  <cp:revision>47</cp:revision>
  <dc:subject/>
  <dc:title> </dc:title>
</cp:coreProperties>
</file>