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4EBE-C32C-41A5-B4AB-64A4268E9A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ческое занятие № 1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2572-457D-43FB-9E22-543E5C66179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клинической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можно определить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2865-4229-4FEF-AEB6-366C168C755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становить проходимость дыхательных пу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чать искусственную вентиляцию легк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ступить к массажу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9692-C422-43FC-A91F-A7718BB11F6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ми такой сердечно-легочной реанимации являются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хника восстановления проходимости дыхательных пут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актика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A5C0-1E5A-47CE-AB21-8BDD0B330C2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оретическая подготов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можно приступать к искусственному дыханию методом «рот в рот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F6A2-B6C4-48C8-8888-AEA547D7803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осовой платок наложить на открытый р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жать нос пострадавш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C80-DCA1-4254-AF54-B65CCD8BBEF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C38B-C43B-4777-8F42-3CF8FE6C87F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львест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ий лежит на спине, а  спасатель у его изгол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47E2-8FE5-404E-9E03-A96A3BED1FB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D50-E665-4ABB-8447-1FC17C6A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40E-EB18-4B49-A0F5-6F1B2582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4F3-397C-4422-A0A3-E297E1AC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CD3-FB95-44FA-8E4B-3C54E89A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591D-E69E-49EC-987E-88974EB9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A82F-ED3C-4F10-BA8B-A086FEDA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60FF-4485-4042-8EA2-2D194091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5B20-5274-4DD5-988C-57E3F3E8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B3CC-069F-4831-9261-41E4EBCE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5F2F-CD8F-452D-8303-A2E8DED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EBFE-59F0-43D2-92C7-F01B4BD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1E2-82CB-4C58-8F85-CDD9022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9522-4005-4917-9D99-C28BFED6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249C-CE48-450D-902E-B46742DF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64F8-2276-4650-8F9D-B1A75699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1B1F-303A-410E-94FB-42DDFAF2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450-1750-4FAC-8201-08055025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9B2-F464-48E8-A45D-925447AA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5C5-3A29-4D3A-B68E-CCCE09E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4A0-E12C-4BD4-8088-A7ABD16D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6D4-396F-44AF-9B24-F90A5FA8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3F9-D172-473D-8318-B1CB465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DCB-877E-47D6-9633-B9DF7C13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3B6-9090-4D12-ACDF-5583962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F939-7B62-4373-AB38-AD3E2BA4CA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DD61-AF55-4745-8222-2438DE4F361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1121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рактическое занятие № 10.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ка д/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ть определение клинической смер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ких случаях можно определить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5000"/>
            <a:ext cx="7386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осстановить проходимость дыхательных путе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начать искусственную вентиляцию легки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приступить к массажу сердц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чами такой сердечно-легочной реанимации являются -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рок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техника восстановления проходимости дыхательных путей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 практика искусственное дыхание методом «рот в рот», «рот в нос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оретическая подгото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е этого можно приступать к искусственному дыханию методом «рот в рот»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носовой платок наложить на открытый рот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зажать нос пострадавшег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Сильвестр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радавший лежит на спине, а  спасатель у его изголов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40:57Z</dcterms:created>
  <dc:creator>Лена</dc:creator>
  <dc:description/>
  <dc:language>en-US</dc:language>
  <cp:lastModifiedBy>LEGION</cp:lastModifiedBy>
  <dcterms:modified xsi:type="dcterms:W3CDTF">2015-05-12T08:35:55Z</dcterms:modified>
  <cp:revision>8</cp:revision>
  <dc:subject/>
  <dc:title>Мероприятия при проведении искусственной вентиляции легких. Искусственное дыхание «рот в рот».</dc:title>
</cp:coreProperties>
</file>