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FA01-3355-4B51-A392-A7D1725E0D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ческое занятие № 1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927C-CB17-4752-9D22-21A74268024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клинической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можно определить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0E24-61FD-4FAA-9C13-9953151ED90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становить проходимость дыхательных пу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чать искусственную вентиляцию легк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ступить к массажу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C50-CE56-4D19-B81B-31275D8AB69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ми такой сердечно-легочной реанимации являются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хника восстановления проходимости дыхательных пут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актика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D579-0524-4963-828A-5320771B99B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оретическая подготов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можно приступать к искусственному дыханию методом «рот в рот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5B36-9598-4F7D-969A-13ADABC0D66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осовой платок наложить на открытый р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жать нос пострадавш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88E0-6AE6-4020-B70A-201B9AF0C2A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B87C-3A6E-4AF1-A38D-8092CE7469B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львест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ий лежит на спине, а  спасатель у его изгол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7AF6-C512-4659-A2B7-398D01D9E6B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347-C6AD-4AD6-B018-5676B010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ED0-D1FE-4691-86A7-19CB1F84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579-FEF8-4007-B921-EF89F8F6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2B1-A8D2-4AF5-9D36-5D300FA9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73F4-585C-4B26-A26B-A8A26A4B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B7A8-7D36-4D76-9053-2839ECB6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A95B-E1FE-4F6F-B004-010C338E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8ADB-080E-4711-A791-3EE983AD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1522-BBFE-4A47-B5FF-6B1841CA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C675-5536-49E2-9E22-B1EA56BD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DA62-72A2-43E8-A4E5-071F4524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8A5-A0E9-483B-84F9-F5ADA21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AB4C-D79A-4554-B42C-7F4722F5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1FF6-6347-4DF6-966D-6C297000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707C-9AE7-4636-AA91-38AC96F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970A-736E-45AE-9BFB-0F8F7F82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A289-9964-4036-9047-F6E40EE4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596-A20D-483A-A57D-BBAB1DF4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B45-0D9B-4B9A-A88E-68261B14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E35-E674-4E75-85D6-A05BD63C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9DB-B8AF-443F-A0C5-7A9F16B2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7DD-E93F-4A05-A5CE-665D1503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83D-0604-49E0-BF51-0426AC9C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6A6-E035-42C1-8A7D-B38654CE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B3C7-C496-4C6A-9047-21CD746CB3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B914-99D2-49D1-9A7F-25D7196D756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1121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рактическое занятие № 10.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ка д/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ть определение клинической смер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ких случаях можно определить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5000"/>
            <a:ext cx="7386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осстановить проходимость дыхательных путе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начать искусственную вентиляцию легки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приступить к массажу сердц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чами такой сердечно-легочной реанимации являются -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рок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техника восстановления проходимости дыхательных путей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 практика искусственное дыхание методом «рот в рот», «рот в нос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оретическая подгото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е этого можно приступать к искусственному дыханию методом «рот в рот»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носовой платок наложить на открытый рот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зажать нос пострадавшег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Сильвестр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радавший лежит на спине, а  спасатель у его изголов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40:57Z</dcterms:created>
  <dc:creator>Лена</dc:creator>
  <dc:description/>
  <dc:language>en-US</dc:language>
  <cp:lastModifiedBy>LEGION</cp:lastModifiedBy>
  <dcterms:modified xsi:type="dcterms:W3CDTF">2015-05-12T08:35:55Z</dcterms:modified>
  <cp:revision>8</cp:revision>
  <dc:subject/>
  <dc:title>Мероприятия при проведении искусственной вентиляции легких. Искусственное дыхание «рот в рот».</dc:title>
</cp:coreProperties>
</file>