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C23-9EF3-46EC-8C71-2104B68FCA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ктическое занятие № 10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A444-875B-4816-AC75-9F3FBA31768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клинической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случаях можно определить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C5D7-EAD6-4579-B6E6-AA5A5852980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становить проходимость дыхательных пу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чать искусственную вентиляцию легк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ступить к массажу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B68B-B4AD-4A15-829E-039F70B34302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ми такой сердечно-легочной реанимации являются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хника восстановления проходимости дыхательных пут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актика искусственное дыхание методом «рот в рот», «рот в нос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3A44-CB86-4BCD-8CEC-511AF4479EF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оретическая подготов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можно приступать к искусственному дыханию методом «рот в рот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C8FB-9944-480F-A521-55FC50F21A8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осовой платок наложить на открытый р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жать нос пострадавш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AE0D-BEBF-43BB-B2B3-91EF9DA4E42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5C64-3D67-400F-BC8A-8185FB1F092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ильвест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ий лежит на спине, а  спасатель у его изгол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1E6-AC0E-45B7-95F1-10AFE39C7DF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0A3-41FA-462E-9F8F-48DEE45C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6CF-C9D4-4B22-A70F-E21F91C6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39B-CFD2-4754-BEEF-CFDB0117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D6F-73D5-494C-975D-39EAD3D4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CEFB-7F5B-448A-9A35-FEA14501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FBA1-09D5-4845-90F0-3AF7F34F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1A72-E97F-497C-9F6A-0F61A44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2C36-E804-4F9D-A3D0-A1151757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91D5-7E1C-422F-B7E6-1C5760C3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C8C3-3A46-435D-8138-B54A86F3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567F-A264-4835-8E5F-6C4F911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283-8AE0-42D0-B683-AE2F8A55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F33C-340D-461D-9498-65AAE35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2281-611B-4512-8FAC-7CB1C47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A863-FAF9-4F80-AD13-F5A9D72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2182-875C-4CBD-9DCF-8DAFC67C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F38F-7CCF-4804-B997-CE07502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70A-FCDC-45D9-AAD0-B7E40D2E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6E5-6F80-4F01-BF37-B87B259F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926-7515-405D-9DB1-4E78F1E1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7BF-AAA8-4CDB-800C-9E00ABD8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404-5737-4B5F-A9CB-586F12E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35E-2788-46FD-B96D-41D9793A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83F-888F-4BC7-A9C9-B30AC36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15C2-70EF-4C96-9A61-F847DD7C28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634-D0DA-4C2E-8F3C-7A7A9A66BFC4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71121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Практическое занятие № 10.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ероприятия при проведении искусственной вентиляции легких. Искусственное дыхание методом «рот в рот», «рот в нос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ель: познакомить уч-ся с техникой восстановления проходимости дыхательных путей, практически опробовать  искусственное дыхание методом «рот в рот», «рот в нос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оверка д/з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ть определение клинической смерт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аких случаях можно определить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колько времени может иметь решающее значение для спасения жизни ч. при наличии признаков к.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5000"/>
            <a:ext cx="7386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статация клинической смерти требует проведения немедленных и активных лечебных мероприятий на месте происшествия. Абсолютно необходимое значение при этом имеет знание трех приемов метода оживления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восстановить проходимость дыхательных путей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начать искусственную вентиляцию легки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приступить к массажу сердц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чами такой сердечно-легочной реанимации являются -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обеспечение проходимости воздухоносных путей, поддерживание вентиляции легких и кровообращ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 урок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техника восстановления проходимости дыхательных путей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-  практика искусственное дыхание методом «рот в рот», «рот в нос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0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еоретическая подготов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73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ложить пострадавшего горизонтально на спину на твердую поверхность, для прохождения воздуха голову запрокидывают максимально наза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челюсти сжаты – выдвинуть нижнюю челюсть вперед, и надавливая на подбородок, раскрыть ро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ле этого можно приступать к искусственному дыханию методом «рот в рот»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620280"/>
            <a:ext cx="7386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) носовой платок наложить на открытый рот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) зажать нос пострадавшег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) глубоко вздохнуть воздух, плотно обхватить своими губами губы пострадавшего (вдувают такую порцию воздуха, чтобы она каждый раз вызывала более полное расправление легких. Это можно увидеть по движению грудной клетк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. Если нижняя челюсть пострадавшего ранена, то искусственное дыхание проводят способом «рот в нос», тогда для сохранения герметичности рот пострадавшего плотно закрывается, а носовой платок (салфетка) накладывается на нос. Далее , как и в первом случае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Если имеются обширные челюстно-лицевые ранения, реанимацию проводят др.способом. При проведении искусственного дыхания способом </a:t>
            </a:r>
            <a:r>
              <a:rPr b="0" i="1" lang="ru-RU" sz="2800" spc="-1" strike="noStrike">
                <a:solidFill>
                  <a:srgbClr val="2f1311"/>
                </a:solidFill>
                <a:latin typeface="Arial"/>
              </a:rPr>
              <a:t>Сильвестра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страдавший лежит на спине, а  спасатель у его изголовь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пасатель берёт руки пострадавшего за предплечья, максимально отводит их назад за себя и разводит в стороны. Это – в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затем также резко возвращает руки к грудной клетке пострадавшего и сжимает её предплечьями – выдох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1:40:57Z</dcterms:created>
  <dc:creator>Лена</dc:creator>
  <dc:description/>
  <dc:language>en-US</dc:language>
  <cp:lastModifiedBy>LEGION</cp:lastModifiedBy>
  <dcterms:modified xsi:type="dcterms:W3CDTF">2015-05-12T08:35:55Z</dcterms:modified>
  <cp:revision>8</cp:revision>
  <dc:subject/>
  <dc:title>Мероприятия при проведении искусственной вентиляции легких. Искусственное дыхание «рот в рот».</dc:title>
</cp:coreProperties>
</file>