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8610-D1FB-4A0C-A075-2DBAFFFFCB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ктическое занятие № 10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роприятия при проведении искусственной вентиляции легких. Искусственное дыхание методом «рот в рот», «рот в нос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знакомить уч-ся с техникой восстановления проходимости дыхательных путей, практически опробовать  искусственное дыхание методом «рот в рот», «рот в нос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5A16-2B2E-40DF-9680-B0A09E24235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 клинической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случаях можно определить к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ремени может иметь решающее значение для спасения жизни ч. при наличии признаков к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C61C-0556-411E-851D-8C0E98D3600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атация клинической смерти требует проведения немедленных и активных лечебных мероприятий на месте происшествия. Абсолютно необходимое значение при этом имеет знание трех приемов метода ожи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становить проходимость дыхательных пут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чать искусственную вентиляцию легки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ступить к массажу серд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0E51-1782-490D-A228-431F5FA3741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ми такой сердечно-легочной реанимации являются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еспечение проходимости воздухоносных путей, поддерживание вентиляции легких 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хника восстановления проходимости дыхательных пут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актика искусственное дыхание методом «рот в рот», «рот в нос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63B4-ECA6-4583-BAD1-C289878B844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оретическая подготов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ожить пострадавшего горизонтально на спину на твердую поверхность, для прохождения воздуха голову запрокидывают максимально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юсти сжаты – выдвинуть нижнюю челюсть вперед, и надавливая на подбородок, раскрыть 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можно приступать к искусственному дыханию методом «рот в рот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DB9A-D47E-4E57-81DE-B36308E2D1A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осовой платок наложить на открытый ро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жать нос пострадавше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лубоко вздохнуть воздух, плотно обхватить своими губами губы пострадавшего (вдувают такую порцию воздуха, чтобы она каждый раз вызывала более полное расправление легких. Это можно увидеть по движению грудной клет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2AF5-4453-4D96-B60D-2C445ED2FCE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сли нижняя челюсть пострадавшего ранена, то искусственное дыхание проводят способом «рот в нос», тогда для сохранения герметичности рот пострадавшего плотно закрывается, а носовой платок (салфетка) накладывается на нос. Далее , как и в первом случа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0C00-400A-414B-8F43-2AD26560978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меются обширные челюстно-лицевые ранения, реанимацию проводят др.способом. При проведении искусственного дыхания способо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львест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адавший лежит на спине, а  спасатель у его изгол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атель берёт руки пострадавшего за предплечья, максимально отводит их назад за себя и разводит в стороны. Это – вдо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также резко возвращает руки к грудной клетке пострадавшего и сжимает её предплечьями – выдо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E80E-4833-4DCB-B34B-A3FFA36C3F7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517-D760-4234-AB61-291F2055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218B-A3E7-49A5-8E2C-CA1F2216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278-0509-4AD6-8C9F-7F22B484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A3C-2311-4B42-88B3-A871B5FB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7270-8690-4FD0-8886-D7E50988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3855-192C-4303-8CA7-11AEC690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4895-F4E5-494E-9FB2-EA98BFAB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7E16-9B66-4EEC-BC11-8982C6DA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6AE1-801F-4571-BDB5-A77A447D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69BD-182E-4132-ACE5-2B335F69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1D6A-8A80-4BD6-AB8E-125CFD71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4C92-C057-41C0-9A12-8144FD7C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287B-0026-463B-8A6E-6093FA48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F6A3-AC66-4AFF-AE98-C58BDC2E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3F91-94E0-4B1F-A90E-9C75CF1F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97BA-0D10-451C-8BF7-406A22C0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1667-E9A0-4C6E-958E-C84E6628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D96-BF9D-44DB-85EA-82993B00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669-AE49-4BE8-BF22-CA79AFB9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847-42E6-4A6C-ABE5-BF0AF9FE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E1A-5BE7-4624-9DA9-031DF688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E79-D9E4-4F22-A50A-39133362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881-F572-4A88-ABAE-CF975EC1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135-131A-4ED6-BA89-166A88E5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C9BD-C2F5-423B-A0B7-2F0314B988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57E5-1294-4C30-B2D6-ACC76B0094C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1121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Практическое занятие № 10.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ероприятия при проведении искусственной вентиляции легких. Искусственное дыхание методом «рот в рот», «рот в нос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Цель: познакомить уч-ся с техникой восстановления проходимости дыхательных путей, практически опробовать  искусственное дыхание методом «рот в рот», «рот в нос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верка д/з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ать определение клинической смер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аких случаях можно определить к.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колько времени может иметь решающее значение для спасения жизни ч. при наличии признаков к.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765000"/>
            <a:ext cx="7386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статация клинической смерти требует проведения немедленных и активных лечебных мероприятий на месте происшествия. Абсолютно необходимое значение при этом имеет знание трех приемов метода оживления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восстановить проходимость дыхательных путей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начать искусственную вентиляцию легких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приступить к массажу сердц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чами такой сердечно-легочной реанимации являются -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обеспечение проходимости воздухоносных путей, поддерживание вентиляции легких и кровообращ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урок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техника восстановления проходимости дыхательных путей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 практика искусственное дыхание методом «рот в рот», «рот в нос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0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еоретическая подготов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7386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ложить пострадавшего горизонтально на спину на твердую поверхность, для прохождения воздуха голову запрокидывают максимально наза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Если челюсти сжаты – выдвинуть нижнюю челюсть вперед, и надавливая на подбородок, раскрыть ро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ле этого можно приступать к искусственному дыханию методом «рот в рот»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63520" y="620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носовой платок наложить на открытый рот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зажать нос пострадавшего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глубоко вздохнуть воздух, плотно обхватить своими губами губы пострадавшего (вдувают такую порцию воздуха, чтобы она каждый раз вызывала более полное расправление легких. Это можно увидеть по движению грудной клетк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. Если нижняя челюсть пострадавшего ранена, то искусственное дыхание проводят способом «рот в нос», тогда для сохранения герметичности рот пострадавшего плотно закрывается, а носовой платок (салфетка) накладывается на нос. Далее , как и в первом случае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Если имеются обширные челюстно-лицевые ранения, реанимацию проводят др.способом. При проведении искусственного дыхания способом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Сильвестра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традавший лежит на спине, а  спасатель у его изголовь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пасатель берёт руки пострадавшего за предплечья, максимально отводит их назад за себя и разводит в стороны. Это – вдо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атем также резко возвращает руки к грудной клетке пострадавшего и сжимает её предплечьями – выдо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40:57Z</dcterms:created>
  <dc:creator>Лена</dc:creator>
  <dc:description/>
  <dc:language>en-US</dc:language>
  <cp:lastModifiedBy>LEGION</cp:lastModifiedBy>
  <dcterms:modified xsi:type="dcterms:W3CDTF">2015-05-12T08:35:55Z</dcterms:modified>
  <cp:revision>8</cp:revision>
  <dc:subject/>
  <dc:title>Мероприятия при проведении искусственной вентиляции легких. Искусственное дыхание «рот в рот».</dc:title>
</cp:coreProperties>
</file>