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80F9-9814-4B0E-BF05-1B51DC3833C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чему человек без вредных привычек является человеком будущег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зентацию выполнили обучающиеся МОУ «Опольев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Яковлева Ксения 11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знецова Екатерина 11 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1F85-97D9-49B1-9224-8F73E8E954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 ли ты отказаться от вредных привы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FBC1-24BF-4EDC-A505-47430785E5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ете ли вы, что человек без вредных привычек-человек будуще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4C14-69A6-4F23-B3E5-73E153F4CA6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  Ы   В   О   Д   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не будет курить, то он продлит себе жизн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дольше не будет употреблять алкоголь, включая пиво, тем дольше не будет от него завис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будет употреблять наркотики -не будет зависим как физически , так и психически от н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нство  опрашиваемых  людей согласны отказаться от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D5FD-7F5D-493A-AC34-3EDA2EEA63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 человек без вредных привычек-человек будущего! Гипотеза  нашла своё подтвер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5D62-486D-4C7F-964F-9B1C9DBE95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сем хорошо известно, что к вредным привычкам мы относим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рко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доказать предположение, что человек без вредных привычек- человек будущег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B847-550B-476F-8E31-BE3CD50C164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чи нашей группы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ть влияние вредных привычек на организм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ь продолжительность жизни здорового человека и человека, имеющего какую-либо вредную привыч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DA33-1FB1-417A-B199-46F668E176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 И  П  О  Т  Е  З 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откажется от вредных привычек, то он будет являться человеком будущего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8D14-2774-46C2-A58F-56846FEC3A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ий мет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й мет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ческий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8971-2916-4045-A21F-DEAE2490A0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ий мет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3,5 миллиона человек умирает каждый год на земле в результате курения. Это означает 1 смерть каждые 10 секунд.Люди, выкуривающие по 15 сигарет в день, в 2 раза больше подвержены сердечным заболеваниям, и опасность заболеть раком лёгких и хроническим бронхитом возрастает соответственно в 8 и 17 ра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347E-B195-4BB8-B6BE-85226EDBE6E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логическое пристрастие к выпивке  у молодого поколения развивается быстрее, чем у взрослых. В настоящее время проблема молодёжного алкоголизма , в том числе и пивного , стоит на первом месте. Часто молодые люди, начавшие употреблять спиртное в 15-17 лет, через два-три года становятся алкоголиками; начавшие пить в 13-15 лет- через 12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B14B-F293-4EB3-9AD4-616BCC47B4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от наркотиков , психическая или физическая, рано или поздно развивается у каждого, кто потреблял наркотики. Состояние, возникающее при приёме наркотического средства, постепенно замещает собой все обычные для человека положительные эмоции. Безопасного употребления наркотиков не существуе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17BA-8328-4976-A481-A91B3837FF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ческий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у вас какая-либо вредная привыч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7001-5A00-4773-A974-43ECA83A52F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35D6-4511-4C61-9ACC-597ED5B9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39B7-6E3C-4CE6-B2EC-46B7AF35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B791-21DE-489E-A3E0-BA81BB73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79F8-53EA-49EC-AE5C-A09F5D95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4F5C2-DBEB-4CFB-AF90-918F0ED3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ACB06-BCE0-4F40-9C0C-FEE230C0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8786E-CF5A-4E76-90A7-9B71AC12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0DA9F-86E9-4D59-9967-580493C1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8FA76-AF87-46A0-9984-E3AA2638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11176-4F13-410D-9ECF-07CD294D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D739C-B64B-4A3B-9417-5521FBA4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F4DC-BF30-4EDA-8382-AEB28497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1902B-233B-4D35-8D08-85584EF0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6FCF6-7DFD-4A2C-A77D-5C09DC9E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5F1DC-25EC-47A5-8E21-A3281613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4D338-0AB5-4573-AFAF-A4995D71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492C8-3E82-42B0-98D8-67B9E823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A2A7-0D22-4DCF-8108-1E6903BB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874E-ABF1-4B8C-A2AA-BBC90949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E7F6-3E54-491A-92BF-5AF7E811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F264-A715-483B-8540-544A988F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FFBA-9E09-420E-89DE-AEC1C9D0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A49E-AD7B-44E9-9E58-6F361498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F48E-0A90-45B2-BE79-92C921E4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27C2-6614-4581-AE14-CC75E7FEBAB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17F2-227D-41A5-BF48-EF29082E94A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3e3ff"/>
                </a:solidFill>
                <a:latin typeface="Arial"/>
              </a:rPr>
              <a:t>Почему человек без вредных привычек является человеком будущего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езентацию выполнили обучающиеся МОУ «Опольевская СОШ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Яковлева Ксения 11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узнецова Екатерина 11 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59" name="Object 7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тов ли ты отказаться от вредных привыче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читаете ли вы, что человек без вредных привычек-человек будущего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4" name="Object 5"/>
          <p:cNvGraphicFramePr/>
          <p:nvPr/>
        </p:nvGraphicFramePr>
        <p:xfrm>
          <a:off x="460440" y="2060640"/>
          <a:ext cx="8223120" cy="40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2060640"/>
                    <a:ext cx="8223120" cy="40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   Ы   В   О   Д   Ы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человек не будет курить, то он продлит себе жизн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м дольше не будет употреблять алкоголь, включая пиво, тем дольше не будет от него зависи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будет употреблять наркотики -не будет зависим как физически , так и психически от ни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инство  опрашиваемых  людей согласны отказаться от вредных привыч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500720" y="5378400"/>
            <a:ext cx="412560" cy="1479600"/>
          </a:xfrm>
          <a:prstGeom prst="downArrow">
            <a:avLst>
              <a:gd name="adj1" fmla="val 50000"/>
              <a:gd name="adj2" fmla="val 8966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8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ледовательно человек без вредных привычек-человек будущего! Гипотеза  нашла своё подтверждение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3851280" y="836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сем хорошо известно, что к вредным привычкам мы относим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ур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Алкого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рко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ь: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доказать предположение, что человек без вредных привычек- человек будущег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чи нашей группы: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анализировать влияние вредных привычек на организм челове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ценить продолжительность жизни здорового человека и человека, имеющего какую-либо вредную привыч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  И  П  О  Т  Е  З  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человек откажется от вредных привычек, то он будет являться человеком будущего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68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68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етоды исследов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тический мет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авнительный мет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циологический 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Аналитический метод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астоящее время 3,5 миллиона человек умирает каждый год на земле в результате курения. Это означает 1 смерть каждые 10 секунд.Люди, выкуривающие по 15 сигарет в день, в 2 раза больше подвержены сердечным заболеваниям, и опасность заболеть раком лёгких и хроническим бронхитом возрастает соответственно в 8 и 17 раз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16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тологическое пристрастие к выпивке  у молодого поколения развивается быстрее, чем у взрослых. В настоящее время проблема молодёжного алкоголизма , в том числе и пивного , стоит на первом месте. Часто молодые люди, начавшие употреблять спиртное в 15-17 лет, через два-три года становятся алкоголиками; начавшие пить в 13-15 лет- через 12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висимость от наркотиков , психическая или физическая, рано или поздно развивается у каждого, кто потреблял наркотики. Состояние, возникающее при приёме наркотического средства, постепенно замещает собой все обычные для человека положительные эмоции. Безопасного употребления наркотиков не существуе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циологический опро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ть ли у вас какая-либо вредная привыч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4932360" y="1628640"/>
          <a:ext cx="3456000" cy="35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628640"/>
                    <a:ext cx="3456000" cy="35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3:39:33Z</dcterms:created>
  <dc:creator>Admin</dc:creator>
  <dc:description/>
  <dc:language>en-US</dc:language>
  <cp:lastModifiedBy>LEGION</cp:lastModifiedBy>
  <dcterms:modified xsi:type="dcterms:W3CDTF">2015-05-12T08:36:21Z</dcterms:modified>
  <cp:revision>5</cp:revision>
  <dc:subject/>
  <dc:title>Слайд 1</dc:title>
</cp:coreProperties>
</file>