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1C8C-6036-4970-B9C8-2C0A45BDAD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чему человек без вредных привычек является человеком будущег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и обучающиеся МОУ «Ополь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ковлева Ксения 11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знецова Екатерина 11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1C8D-CF40-4842-AE94-6E2ED19360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 ли ты отказаться от вредных привы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DB86-6F26-499D-9DA4-1EF840F573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е ли вы, что человек без вредных привычек-человек будущ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E2ED-FE8E-46A8-A27D-74F463D5A2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 Ы   В   О   Д   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не будет курить, то он продлит себе жиз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 опрашиваемых  людей согласны отказаться от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9414-AEAE-443C-BE1A-A0D5404F67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BE81-0852-474E-9343-64EC5FE697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м хорошо известно, что к вредным привычкам мы относи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оказать предположение, что человек без вредных привычек- человек будущ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1F1B-5E45-4CE7-97BF-DE3DE507A8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и нашей группы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влияние вредных привычек на организм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2CC3-D316-4B48-A135-9826D06366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 И  П  О  Т  Е  З 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откажется от вредных привычек, то он будет являться человеком будущег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4E96-D3C8-4EE3-89E2-19D48F4D24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F2E7-11E1-4A30-8DF8-EEB24D8356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0AF3-9B0F-4691-84F1-32D9DE311A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565D-F9EA-4C71-B5F2-3B2FAA6EDC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AD4D-B2EF-466D-8BF2-C8B929ABA6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вас какая-либо вредная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BBA3-9EFA-406B-8516-4E0AF76319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71B-D32A-47B2-AE68-DEB253E9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393-7377-42A7-8554-83A57F7F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7C9-89B1-4CBE-82E4-4F0E7668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203-876E-418B-8F75-585645E4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9F05C-F063-4D58-981E-3FE86829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60F43-1EE3-4D08-BCB7-A175E692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AD623-A82D-4A14-B6CD-C68A9299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7E5E3-8451-4423-8D4D-0D29E35E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E0010-1BD9-47E2-8639-784BA84C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9973F-6FA9-43B8-89A3-C8D175B0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F68BF-0EF6-40AC-8003-DA05E9A0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A07-19D5-4017-ACE2-994C54BA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0DCE6-9065-4F4C-A09E-B287A3EB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2BBE3-1974-4751-927F-EAB1D125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F3A86-D495-4F47-83CA-5C62D119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380EE-3DCC-47E8-9DFE-13F1959E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0CFF0-F312-418A-9219-351C2F85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258-40CB-4D83-B89E-56F025B9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7DE-2122-4DC5-B016-1CB34E35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9FA-F60B-42FC-B6CD-6EA6D2BE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73A5-0816-431D-8821-FA956B3E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A30-808A-4E89-AD1B-AF67296D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D87-8046-47BF-B16D-65C7FFA2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55A-E9DF-4A53-8EE1-CF00C300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8502-157A-4A94-A7E1-5267F93E69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789E-3320-484A-8485-BE9317C0C46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Почему человек без вредных привычек является человеком будущего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езентацию выполнили обучающиеся МОУ «Опольевская СОШ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ковлева Ксения 11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знецова Екатерина 11 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9" name="Object 7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тов ли ты отказаться от вредных привыч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читаете ли вы, что человек без вредных привычек-человек будущего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460440" y="2060640"/>
          <a:ext cx="8223120" cy="40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060640"/>
                    <a:ext cx="822312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   Ы   В   О   Д   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человек не будет курить, то он продлит себе жизн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инство  опрашиваемых  людей согласны отказаться от вредных привы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500720" y="5378400"/>
            <a:ext cx="412560" cy="1479600"/>
          </a:xfrm>
          <a:prstGeom prst="downArrow">
            <a:avLst>
              <a:gd name="adj1" fmla="val 50000"/>
              <a:gd name="adj2" fmla="val 8966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3851280" y="836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сем хорошо известно, что к вредным привычкам мы относим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лког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доказать предположение, что человек без вредных привычек- человек будуще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чи нашей группы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овать влияние вредных привычек на организм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  И  П  О  Т  Е  З  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человек откажется от вредных привычек, то он будет являться человеком будущег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ы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тически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ительны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ологический 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налитический метод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циологический опр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ли у вас какая-либо вредная привыч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932360" y="1628640"/>
          <a:ext cx="3456000" cy="35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628640"/>
                    <a:ext cx="345600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3:39:33Z</dcterms:created>
  <dc:creator>Admin</dc:creator>
  <dc:description/>
  <dc:language>en-US</dc:language>
  <cp:lastModifiedBy>LEGION</cp:lastModifiedBy>
  <dcterms:modified xsi:type="dcterms:W3CDTF">2015-05-12T08:36:21Z</dcterms:modified>
  <cp:revision>5</cp:revision>
  <dc:subject/>
  <dc:title>Слайд 1</dc:title>
</cp:coreProperties>
</file>