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drumroll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2D3E-E974-4FEF-9285-BEC821BB9F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очему человек без вредных привычек является человеком будущего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езентацию выполнили обучающиеся МОУ «Опольевская СОШ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Яковлева Ксения 11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знецова Екатерина 11 к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654C9-C5CF-400F-A302-8A3B7929F43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тов ли ты отказаться от вредных привыче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529A0-A067-4A99-8211-C1FD9B1C90E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итаете ли вы, что человек без вредных привычек-человек будущего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3967C-F430-4095-8AB3-ACEFF2E78EF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   Ы   В   О   Д   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не будет курить, то он продлит себе жизн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нство  опрашиваемых  людей согласны отказаться от вредных привыч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BDE66-607A-481A-B5D8-BDCF77B4EF7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B13A-39E6-4273-BEF7-BE6453DAF4F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Всем хорошо известно, что к вредным привычкам мы относим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кого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Цель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доказать предположение, что человек без вредных привычек- человек будущег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AB253-B30C-4506-80D6-119491299A6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ачи нашей группы: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анализировать влияние вредных привычек на организм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0E32-9AA7-40BA-88FF-269EA9E3B01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  И  П  О  Т  Е  З 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человек откажется от вредных привычек, то он будет являться человеком будущег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E508-79B9-4314-8106-C368D6DBC66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сследов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й мето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3016-41B5-40A7-9D46-CA87646F0C5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тиче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26F1-705A-433A-BDCB-A1E71DB910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433EF-0D5D-4C7C-A56C-0B42FFC9B50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E9BC3-DCB8-4411-9F31-C73DF2A8E91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ологический 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ь ли у вас какая-либо вредная привычк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3CA5C-8A70-49F6-B9F7-761BFE17BEF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6850-AEC8-4B70-9258-75B8A50E9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A84A-F69B-402E-8C80-B590ECAAE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6885-ED55-4AE8-AE43-49F72938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7390-9D61-4634-AE62-AB9821947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785EF-174C-4688-98B6-00F7EC016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D649D-262F-42D7-95FA-F76C90BB1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A15B0E-DD9A-4B81-AFA2-73E1267A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8C2367-C08A-4C9F-B6D0-0EC9007D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3AB295-5DD3-4ED8-ABB5-23D033A2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9E223A-C1EE-4D6A-AB27-8160AD16B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DDDBD-1BDC-4674-BCB0-F6E9F319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F41A-A745-43D0-85E0-31418360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39763B-0E35-4FEC-9533-967944B28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E1919A-2A36-4A2F-9314-EC74DCBB8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601CC-5106-41BF-9EEF-55A23D4B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62B957-31E6-4A7B-A659-8AD8FE00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3A6DB9-2637-4124-BD90-3F18D821D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8DA7-8C64-4B10-ABEA-8776B51E1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7645-6BDC-498E-9948-318CC6463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7573-8209-4165-87E8-62F42D45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51F-B211-4083-97B4-6C2A4BD0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BE9AB-31D0-47A4-9396-91C589AA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58DB-D347-4EB9-82B2-B22A1B0F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6503-368C-4B7C-80FB-C8DD301A2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44C9-02C9-4A51-9246-E49A5D4D9F7A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ACA7A-BDF8-43D1-AA28-A994FBF5B432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drumroll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55640" y="691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3e3ff"/>
                </a:solidFill>
                <a:latin typeface="Arial"/>
              </a:rPr>
              <a:t>Почему человек без вредных привычек является человеком будущего?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2924280"/>
            <a:ext cx="6400800" cy="27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Презентацию выполнили обучающиеся МОУ «Опольевская СОШ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Яковлева Ксения 11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знецова Екатерина 11 к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59" name="Object 7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2296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2296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отов ли ты отказаться от вредных привыче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Считаете ли вы, что человек без вредных привычек-человек будущего?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4" name="Object 5"/>
          <p:cNvGraphicFramePr/>
          <p:nvPr/>
        </p:nvGraphicFramePr>
        <p:xfrm>
          <a:off x="460440" y="2060640"/>
          <a:ext cx="8223120" cy="403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60640"/>
                    <a:ext cx="8223120" cy="40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   Ы   В   О   Д   Ы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человек не будет курить, то он продлит себе жизнь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м дольше не будет употреблять алкоголь, включая пиво, тем дольше не будет от него зависи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будет употреблять наркотики -не будет зависим как физически , так и психически от них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ьшинство  опрашиваемых  людей согласны отказаться от вредных привыче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4500720" y="5378400"/>
            <a:ext cx="412560" cy="1479600"/>
          </a:xfrm>
          <a:prstGeom prst="downArrow">
            <a:avLst>
              <a:gd name="adj1" fmla="val 50000"/>
              <a:gd name="adj2" fmla="val 89660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0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85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ледовательно человек без вредных привычек-человек будущего! Гипотеза  нашла своё подтверждение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2" name="AutoShape 8"/>
          <p:cNvSpPr/>
          <p:nvPr/>
        </p:nvSpPr>
        <p:spPr>
          <a:xfrm>
            <a:off x="3851280" y="83664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5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Всем хорошо известно, что к вредным привычкам мы относим: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Алкого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Нарко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 u="sng">
                <a:solidFill>
                  <a:srgbClr val="ffffff"/>
                </a:solidFill>
                <a:uFillTx/>
                <a:latin typeface="Arial"/>
              </a:rPr>
              <a:t>Цель: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доказать предположение, что человек без вредных привычек- человек будущего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e3ff"/>
                </a:solidFill>
                <a:latin typeface="Arial"/>
              </a:rPr>
              <a:t>Задачи нашей группы: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оанализировать влияние вредных привычек на организм челове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ценить продолжительность жизни здорового человека и человека, имеющего какую-либо вредную привыч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Г  И  П  О  Т  Е  З  А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сли человек откажется от вредных привычек, то он будет являться человеком будущего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68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68" fill="hold"/>
                                        <p:tgtEl>
                                          <p:spTgt spid="13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68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Методы исследован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налитически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равнительный мето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оциологический опр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0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50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0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Аналитический метод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настоящее время 3,5 миллиона человек умирает каждый год на земле в результате курения. Это означает 1 смерть каждые 10 секунд.Люди, выкуривающие по 15 сигарет в день, в 2 раза больше подвержены сердечным заболеваниям, и опасность заболеть раком лёгких и хроническим бронхитом возрастает соответственно в 8 и 17 раз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11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-3168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тологическое пристрастие к выпивке  у молодого поколения развивается быстрее, чем у взрослых. В настоящее время проблема молодёжного алкоголизма , в том числе и пивного , стоит на первом месте. Часто молодые люди, начавшие употреблять спиртное в 15-17 лет, через два-три года становятся алкоголиками; начавшие пить в 13-15 лет- через 12 лет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712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Зависимость от наркотиков , психическая или физическая, рано или поздно развивается у каждого, кто потреблял наркотики. Состояние, возникающее при приёме наркотического средства, постепенно замещает собой все обычные для человека положительные эмоции. Безопасного употребления наркотиков не существует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e3ff"/>
                </a:solidFill>
                <a:latin typeface="Arial"/>
              </a:rPr>
              <a:t>Социологический опрос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ть ли у вас какая-либо вредная привычка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5" name="Object 4"/>
          <p:cNvGraphicFramePr/>
          <p:nvPr/>
        </p:nvGraphicFramePr>
        <p:xfrm>
          <a:off x="4932360" y="1628640"/>
          <a:ext cx="3456000" cy="353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1628640"/>
                    <a:ext cx="3456000" cy="353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13:39:33Z</dcterms:created>
  <dc:creator>Admin</dc:creator>
  <dc:description/>
  <dc:language>en-US</dc:language>
  <cp:lastModifiedBy>LEGION</cp:lastModifiedBy>
  <dcterms:modified xsi:type="dcterms:W3CDTF">2015-05-12T08:36:21Z</dcterms:modified>
  <cp:revision>5</cp:revision>
  <dc:subject/>
  <dc:title>Слайд 1</dc:title>
</cp:coreProperties>
</file>