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EB00-F05B-49C9-8BAE-CA4B95BC8E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9BB-A2DF-43BD-927B-E61A2FBDE4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Рекомендации родителям  по раннему выявлению вредных привычек у подростков.</a:t>
            </a:r>
            <a:br>
              <a:rPr sz="1100"/>
            </a:b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 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cc6600"/>
                </a:solidFill>
                <a:latin typeface="Calibri"/>
              </a:rPr>
              <a:t>Важнейшая задача родителей - это постоянный контроль за состояние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996633"/>
                </a:solidFill>
                <a:latin typeface="Calibri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EB2-E6B6-443A-AA0D-DDD8C64EEE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A38D-6DEE-4DC4-B796-DF84F72947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навязчивые действия, которые отрицательно сказываютс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вязчивые действия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, которые ребенок осуществляет неосознанно,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"по привычк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", и которые производят довольно неприятное внешнее впечатление. Это привычк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{"ну", "вот", "значит", "короче"}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се они могут наблюдаться у одного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490F-2F52-4420-B14D-250D9EBF4E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Предупреждение таких привычек не требует особых психологических рекоменд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04D3-0580-4B80-BFE1-19E26CB2E6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еди вредных привычек особую озабоченность родителей вызывает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курени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803D-DF11-44AE-BFA6-89FF7C23B9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Calibri"/>
              </a:rPr>
              <a:t>По статистик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 15 годам курят 24%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45B4-7BB1-4269-8064-98AD9E9AEB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Результаты теста </a:t>
            </a:r>
            <a:br>
              <a:rPr sz="1400"/>
            </a:b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«Твой отношение к курению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Calibri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9% - подростки хорошо относятся к курению, уже и приобщились к н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0D0D-1116-49E4-8E2D-8751B9BE27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урение и школьник - несовмести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21BD-AE15-46D0-B569-3F74D189DA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000" spc="-1" strike="noStrike">
                <a:solidFill>
                  <a:srgbClr val="6600ff"/>
                </a:solidFill>
                <a:latin typeface="Calibri"/>
              </a:rPr>
              <a:t>Начальные классы:</a:t>
            </a:r>
            <a:br>
              <a:rPr sz="10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беседы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по правилам личной гигиены;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уроки «Мойдодыра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лекции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Курение и алкоголь вредит нашему здоровью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Наш внешний вид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истые руки – залог здоровья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Классные часы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Твой режим дня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то такое хорошо, что такое плохо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Почему нельзя давать друг другу клички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99DE-86A1-4A0B-9884-A96063F581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Calibri"/>
              </a:rPr>
              <a:t>Классные часы, беседы, тренинги, лекции на т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Что заставляет подростков пробовать курить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Пьянство и алкогол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Твоё здоровье – богатство стра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Культура и правила повед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Умеем ли мы общаться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AF3B-DF02-460E-B8D7-159E824CDB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A61-66AF-4CB0-9897-8DA99E6E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9CD-BE8C-440B-BCD1-059EA1FD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6F85D-227E-43DB-8658-5765F2EF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CDF4E-861F-4748-B66D-295097ED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6D185-16A5-423C-8FF4-9DF3590E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7FA1B-5612-4519-B9F9-8C4B9594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26690-FF22-445D-9705-27AEFE88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96B54-6CAA-4A71-8FB9-7885393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B1C91-1D71-4237-AF0D-AC4FC89D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1C558-C98B-4948-A12F-24AA6F68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DE396-A0C9-40FE-9BD5-7682DD49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D9EBB-E80C-43A1-ABFD-49D933EC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90E-D4CB-4785-AF8F-66E90F71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DBFC5-5AFA-4585-8802-D893AF5C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8ECDA-55BE-453F-B151-9CC994F7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B41BA-7DC3-4D10-BB7D-9C3C6AF3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68008-DB32-400A-A943-71EFE87F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70084-B426-4E44-A255-B009C0AD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C9A33-174B-4054-A6F3-AFA19C73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CE520-563B-48ED-AC43-D46270B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BCB45-AB08-4A04-8178-F9C7BF9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F0680-D523-41CA-8622-FDC4EC06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E4C7A-FB8A-445B-A0B9-75BEFF2B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55C-6823-4BB0-8F9C-EC1A03EF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A7D81-EC4B-4718-AE5C-0E2A06CB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42844-DCE6-4D6E-ADF8-1D98E4E1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9411F-DD92-4D9C-856A-729E63F4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70388-2195-466D-B7D0-62C0FF16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2CCD7-9D3A-4E83-8A15-4D636129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779E7-A99B-4D2E-BCA5-29342389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EA1DE-A664-4ECF-A872-71C2F853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C77F-C17C-4BB3-B484-6E679972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EC095-7A28-4D6F-81FB-A174594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4C37E-D55A-46C8-A201-6865A448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3782-057D-48B3-A568-39770210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29B88-D8A8-4FA3-AF2D-407FE3A5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CB0C0-DEC9-4A03-90F1-A841028D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5A021-D3B3-4CC8-B991-BB4F1FC2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502FE-D529-4777-827E-2C2DFAEF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8B5ED-640C-4E97-8062-8294DE7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6DABD-B64F-4009-96E1-F6D38928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B6E38-227B-40B7-A8A6-4C92942D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92BA4-116E-4331-9DF4-FCDB9E7F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6293F-202E-4093-B1AE-6C532FD7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5DCB4-4307-4EF7-8950-FDBE725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E7EA-469B-47FA-8859-A38714EA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8D36D-EA07-4E71-9696-C2F05CE3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36F3B-CEA6-46AA-A00C-0963A582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04BCE-68CF-469F-8F3E-4A1586ED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4B4C8-D12A-4AC6-BE83-FA459AC9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A47C6-2A2A-4FA8-B17E-121895AE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158E7-5B50-4CBB-88AC-CECF6CEE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9CCFD-C7D4-46A6-90B0-8BEBF118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41B9C-D8D9-47EB-BE90-E1F26C7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5654F-3F37-4DF0-A89B-52C34B69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CD847-5F32-44A8-B9A4-16E3A4FB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10A3-3EF8-42BF-9747-4B31411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D7D6C-EAC6-4876-B8F2-53896177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F2462-88D0-4E1F-BD2B-9BEEAD9E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2EF9F-2988-4791-8398-B530F67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0743C-5E10-49D6-998E-1B17691B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4D226-CF6F-4DB0-BA6E-6FCC2AB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C58FC-EBCD-45DB-AAB7-02D9C39D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69C27-0CC4-4CE7-A99B-96EADE75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9D66-ABB0-4260-9067-BACBD9D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2A80-B245-4DD6-8616-76DB48E0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1432-B1D4-4938-B924-C74E45C6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858B-D5AD-468A-B6EA-CAD2C6F9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4FF-287F-40AE-8ABE-88DD1E93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10A6-63C4-436A-9786-D67EA200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6333-AFC5-4E77-8526-B0C0D691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AA92-5A8E-404B-85F9-8953F1E0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3648-3A02-40F9-B3C5-087A508B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B0AC-19E3-46FB-901D-8563A342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4BA1-0AD1-4DC0-A818-61DF4BAD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21CC-ED29-471F-B57B-1A7262E8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9365-9716-4E1A-BB7E-3CAF8907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8CECF-257A-4D18-983D-1DB98ACD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6C04-171A-4B92-B8BA-4C0AC9D7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60B-E698-45CC-89D8-5DF85591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2579-EA2E-4C15-A88A-6019C0AF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32F2-E793-4EB4-9C8D-34DACFDB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59FD-5602-420E-B3A1-A060FB61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DF00-2AA0-4CF6-9563-6B18092B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CE94-5F0D-4293-AEAD-B852BC84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94D9-92BC-41DD-95AF-D56E7B3D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A117-FBA4-4366-8833-EBD12511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28F3-DBA9-49A9-9562-3783D902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3BEC-3C29-4651-B7AE-B55C6797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9B170-8924-4AE0-9EFF-82C125B3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CE0-035D-4F7E-A362-44DC93C5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3FC7-0A77-49FC-BCF3-C90AF85C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A68D-86C5-4743-8480-9B77B16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58113-29ED-4A45-9D0E-96218D96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1CA0-9211-41ED-84FC-2D331C6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9641-7382-49DA-8C3C-4C880BF3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CA85-30A2-4041-BEA3-A25DFE27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BB49-8C22-4D20-8279-F7ABD944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4AC3D-14EE-4E85-8131-8B1E87C5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FDAD-97AF-4549-B156-780E03DB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0B493-9EB9-4D5F-BEF3-110770EE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D42-3681-46F8-B883-B05F61A2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92A2-8DDA-4CC7-ADA0-F5CDA9A7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E4B86-8243-4E2E-AE9C-5B3108DA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74657-CA2B-4C7D-A6D7-0AD75879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06ED0-E27C-4E10-95E1-D3316AD0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CFE96-8C19-4484-B2DF-D5B10C6C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DF92-8AF2-4BD0-B0E2-B67CF382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4479-6CC9-4D6C-B5A3-70AE24D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177DC-62B3-4704-9163-38B183E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DE94E-5E96-44F3-BCD2-849F9EEF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A8D61-5291-4DDE-852D-D870FC53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29B-8E69-4B37-9A31-D05493E4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A8F6A-AB3A-4D88-AC72-5C3C8385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78BFC-8C3D-4859-BA70-F78CD7B6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D63D-59EE-4D29-8551-E0033C70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7B1B7-F7A6-434C-91B4-DC9D68F4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7E83B-97B2-4791-AD58-F8E5C786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2C48C-676D-4DF9-BB5C-A73242C0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A243B-88F0-4269-AA3C-63509F8D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86AC9-2422-4D18-AB68-40C9CAEA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0041C-3523-4FEC-8528-3C37B532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95F65-76E0-4055-B3F0-D0843E83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A84-D4FD-4172-BF22-5CA7745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47C4-A1C0-41D3-9FEF-09693D78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592C1-97CA-4133-B4E0-AA400A78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F7E60-F802-42C9-B605-291A7AFA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41798-E9BE-468F-9C26-82DCBF86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F056-D047-4DE3-A4FB-9B6CA776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DE206-3D0D-4F0A-938D-0792F436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A3FF2-E1BD-4697-B1AA-21390F85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52AFB-0D90-49E3-84A0-AD41DC77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B287F-060B-40B5-B425-02C455D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A0D65-9E3C-4A41-9AB4-F93C5AA2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FB2-0547-4597-8F88-9F0A75C4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7207-520D-44AF-837E-60A46F4D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5CEB5-CE84-45D2-A100-DE6E027F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E5A50-7CC3-4C0C-BE5E-F1DF7511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ED4C0-B9D0-40EF-BD06-FD87478F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C73A6-10D3-4B81-A3C6-CBED7A56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F9BA6-08DA-49E6-97BA-41E73C21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6D5A-1F86-4B01-B47E-E89D510E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58820-E3AB-420B-90B5-E49B4E8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9D54B-1114-49CB-BF78-1CE4F784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42BF6-1ACE-4C99-911F-A3032A3F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41E-20BA-4917-84FD-24894E5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FFF26-DCDD-47F3-8E37-268A01E8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46FA-2AF4-4EB4-932A-7496C0A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D9737-C244-4288-8C4E-87F9CD2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7A55F-4D93-4557-9596-3A8F8D4E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0D395-186E-4E2A-ABD6-8CA8FBE0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E9FA-B57C-4105-A513-E91AC01D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0AE2-7AC5-40B4-B0DB-5C87AFB3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EAD68-863E-4B8A-882E-78D2C8D7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51812-55A4-4FA2-9D46-324A01C0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310F3-6E2B-40FE-8CFC-075F5CAA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3348-7CF5-4A13-9DF8-6D75518AC8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F71A-2E71-4818-BB45-C3222B1A22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F9BA-6262-412A-A4B1-BED88975C2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1196-2ADB-4B0C-B441-997197AD5D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27A2-06A7-416F-B2BB-1DFCFD87BB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E812-BD3B-459F-8B83-1B4B6E7F89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06D5-A0A1-41D5-900B-F4490BB7A7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AEFA-BE8D-4627-A885-024910E278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BEDE-D5D3-426E-8290-B13EB77354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83A7-257D-46A8-952B-2CD3C66DCD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BF07-7E1E-4D15-AAA7-DEB5FC3AA7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6877-4E3F-4AD1-96DC-ADAFC9A168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AEC4-666E-471B-B3DB-00AD657A2E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457200" y="228600"/>
            <a:ext cx="8305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95480" y="1981080"/>
            <a:ext cx="350532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комендации родителям  по раннему выявлению вредных привычек у подростков.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ажнейшая задача родителей - это постоянный контроль за состоянием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1371600" y="667800"/>
            <a:ext cx="66294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редные привычк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вязчивые действия, которые отрицательно сказывают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авязчивые действ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, которые ребенок осуществляет неосознанно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"по привычк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", и которые производят довольно неприятное внешнее впечатление. Это привыч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{"ну", "вот", "значит", "короче"}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 они могут наблюдаться у од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609480" y="13284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57200" y="336744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Предупреждение таких привычек не требует особых психолог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8" descr="baby"/>
          <p:cNvPicPr/>
          <p:nvPr/>
        </p:nvPicPr>
        <p:blipFill>
          <a:blip r:embed="rId1"/>
          <a:stretch/>
        </p:blipFill>
        <p:spPr>
          <a:xfrm>
            <a:off x="3886200" y="55627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5335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и вредных привычек особую озабоченность родителей вызывае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ур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09480" y="23842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deva"/>
          <p:cNvPicPr/>
          <p:nvPr/>
        </p:nvPicPr>
        <p:blipFill>
          <a:blip r:embed="rId1"/>
          <a:stretch/>
        </p:blipFill>
        <p:spPr>
          <a:xfrm>
            <a:off x="4114800" y="5181480"/>
            <a:ext cx="1143000" cy="167652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cc66"/>
                </a:solidFill>
                <a:latin typeface="Arial"/>
              </a:rPr>
              <a:t>По статистике…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 15 годам курят 24%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j0301252"/>
          <p:cNvPicPr/>
          <p:nvPr/>
        </p:nvPicPr>
        <p:blipFill>
          <a:blip r:embed="rId1"/>
          <a:stretch/>
        </p:blipFill>
        <p:spPr>
          <a:xfrm>
            <a:off x="45720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Результаты теста </a:t>
            </a:r>
            <a:br>
              <a:rPr sz="3400"/>
            </a:b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«Твой отношение к курению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9% - подростки хорошо относятся к курению, уже и приобщились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урение и школьник - несовмести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чальные классы:</a:t>
            </a:r>
            <a:br>
              <a:rPr sz="24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седы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по правилам личной гигиены;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ки «Мойдодыра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кции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Курение и алкоголь вредит нашему здоровью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Наш внешний вид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истые руки – залог здоровья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ссные часы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Твой режим дня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то такое хорошо, что такое плохо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Почему нельзя давать друг другу клич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ff"/>
                </a:solidFill>
                <a:latin typeface="Arial"/>
              </a:rPr>
              <a:t>Классные часы, беседы, тренинги, лекции на тем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Что заставляет подростков пробовать кури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Пьянство и алкоголиз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Твоё здоровье – богатство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Культура и правила повед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Умеем ли мы общаться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8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