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8.png" ContentType="image/png"/>
  <Override PartName="/ppt/media/image5.gif" ContentType="image/gif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C4C3-59A4-4F81-B718-E8E3A29B56C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D19B-09CA-480C-9CE5-A1A8E73A3D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3300"/>
                </a:solidFill>
                <a:latin typeface="Calibri"/>
              </a:rPr>
              <a:t>Рекомендации родителям  по раннему выявлению вредных привычек у подростков.</a:t>
            </a:r>
            <a:br>
              <a:rPr sz="1100"/>
            </a:br>
            <a:r>
              <a:rPr b="1" lang="ru-RU" sz="1100" spc="-1" strike="noStrike">
                <a:solidFill>
                  <a:srgbClr val="cc3300"/>
                </a:solidFill>
                <a:latin typeface="Calibri"/>
              </a:rPr>
              <a:t> 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cc6600"/>
                </a:solidFill>
                <a:latin typeface="Calibri"/>
              </a:rPr>
              <a:t>Важнейшая задача родителей - это постоянный контроль за состоянием ребе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33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996633"/>
                </a:solidFill>
                <a:latin typeface="Calibri"/>
              </a:rPr>
              <a:t>Необходимо обязательно обращать внимание на то, в каком состоянии он пришел домой, сравнивая с состоянием, в котором он вышел из дома. Это позволяет вовремя выявить случаи, когда ребенок впервые закурил, принял алкоголь или нарко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88B4-344D-40C1-A182-EE4CA9D751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F7C7-28DF-41F5-9D7B-DFEDD4EAB9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alibri"/>
              </a:rPr>
              <a:t>Вредные привычки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 -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навязчивые действия, которые отрицательно сказываются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поведении ребенка, его физическом и психическом развитии. Говоря о вредных привычках у детей, взрослые в первую очередь имеют в виду курение, алкоголь. Однако ими круг вредных привычек не исчерпывается. В поведении некоторых детей встречаются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навязчивые действия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, которые ребенок осуществляет неосознанно,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"по привычке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", и которые производят довольно неприятное внешнее впечатление. Это привычк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99"/>
                </a:solidFill>
                <a:uFillTx/>
                <a:latin typeface="Calibri"/>
              </a:rPr>
              <a:t>теребить волосы или мочку уха, сутулиться, шаркать ногами при ходьбе, ерзать на стуле, слишком жестикулировать, хватать собеседника за рукав или за пуговицу, поминутно отплевываться, ковырять в носу, употреблять слова-паразиты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{"ну", "вот", "значит", "короче"} и т.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Все они могут наблюдаться у одного ребе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4952-0D19-4FBD-8C09-DD6A7531B6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ff"/>
                </a:solidFill>
                <a:latin typeface="Calibri"/>
              </a:rPr>
              <a:t>Причина их возникновения проста - недостаточное внимание со стороны родителей к поведению ребенка, и для устранения этих привычек, нужно увлекать ребенка интересными занятиями, общаться с ним, помогать ему изжить те глубинные внутренние переживания, которые породили неприятные 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ff"/>
                </a:solidFill>
                <a:latin typeface="Calibri"/>
              </a:rPr>
              <a:t>Борьба с вредной привычкой – это всегда борьба с тревожностью, неуверенностью, пессимизм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ff"/>
                </a:solidFill>
                <a:latin typeface="Calibri"/>
              </a:rPr>
              <a:t>Предупреждение таких привычек не требует особых психологических рекоменд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Рецепт здесь один - привитие ребенку полезных навыков: опрятности, аккуратности, организованности, соблюдения элементарных правил этикета.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7695-3818-40B1-B608-B2384BD0EE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реди вредных привычек особую озабоченность родителей вызывает </a:t>
            </a: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курени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получившее в последние годы широкое распространение среди школьников. Курение - одна из многих проблем подросткового возра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Школьные годы - это годы роста как физического, психического, так и умственного. Организму нужно много сил, чтобы справиться со всеми нагрузками. Как известно, навыки, привычки, усвоенные в школьном возрасте, самые прочные. Это относиться не только к полезным, но и к вредным привычкам. Чем раньше дети, подростки, юноши, девушки познакомятся с курением и начнут курить, тем быстрее привыкнут к нему, и в дальнейшем отказаться от курения будет очень тру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0CCE-C079-4AAF-8E67-98CC0804AD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66"/>
                </a:solidFill>
                <a:latin typeface="Calibri"/>
              </a:rPr>
              <a:t>По статистике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просы, проведенные НИИ гигиены детей и подростков показали, что пик интереса у детей  к курению отмечается в 9 и в 12-13 лет. Тогда они только проб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К 15 годам курят 24% подрост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CE34-A63E-41B8-8F54-E0F4CB7C6E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00"/>
                </a:solidFill>
                <a:latin typeface="Calibri"/>
              </a:rPr>
              <a:t>Результаты теста </a:t>
            </a:r>
            <a:br>
              <a:rPr sz="1400"/>
            </a:br>
            <a:r>
              <a:rPr b="0" lang="ru-RU" sz="1400" spc="-1" strike="noStrike">
                <a:solidFill>
                  <a:srgbClr val="009900"/>
                </a:solidFill>
                <a:latin typeface="Calibri"/>
              </a:rPr>
              <a:t>«Твой отношение к курению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Calibri"/>
              </a:rPr>
              <a:t>37% - у этих детей нет предрасположенности к курению, сам процесс курения они не одобря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34% - эти дети не выработали собственного отношения к курению, могут приобщиться к нему при случае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29% - подростки хорошо относятся к курению, уже и приобщились к н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1A78-57F7-42AA-B8A1-EF73888827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урение и школьник - несовмести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урение подростков, в первую очередь, сказывается на нервной и сердечной - сосудистой системах. В 12-15 лет они уже жалуются на отдышку при физической нагрузке. В результате многолетних наблюдений французский доктор еще 100 лет назад пришел к убеждению, что даже незначительное курение вызывает у детей малокровие, расстройство пищева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урение отрицательно влияет на успеваемость школьника. Число неуспевающих возрастает в тех классах, где больше курящ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урение школьников замедляет их физическое и психическое развитие. Состояние здоровья, подорванное курением, не позволяет выбрать род занятий по душе, добиться успеха.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D0A0-99DC-4E9B-919F-A5EB9F0462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000" spc="-1" strike="noStrike">
                <a:solidFill>
                  <a:srgbClr val="6600ff"/>
                </a:solidFill>
                <a:latin typeface="Calibri"/>
              </a:rPr>
              <a:t>Начальные классы:</a:t>
            </a:r>
            <a:br>
              <a:rPr sz="1000"/>
            </a:b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беседы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по правилам личной гигиены;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уроки «Мойдодыра»</a:t>
            </a:r>
            <a:br>
              <a:rPr sz="1200"/>
            </a:b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лекции: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«Курение и алкоголь вредит нашему здоровью»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«Наш внешний вид»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«Чистые руки – залог здоровья»</a:t>
            </a:r>
            <a:br>
              <a:rPr sz="1200"/>
            </a:b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Классные часы: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 «Твой режим дня»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«Что такое хорошо, что такое плохо»</a:t>
            </a:r>
            <a:br>
              <a:rPr sz="1200"/>
            </a:b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«Почему нельзя давать друг другу клички»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7669-A9A1-4FB2-B175-876EE115A8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ff"/>
                </a:solidFill>
                <a:latin typeface="Calibri"/>
              </a:rPr>
              <a:t>Классные часы, беседы, тренинги, лекции на тем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Что заставляет подростков пробовать курить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Пьянство и алкоголиз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Твоё здоровье – богатство стран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Культура и правила повед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alibri"/>
              </a:rPr>
              <a:t>«Умеем ли мы общаться»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4FCD-049C-496B-9524-DF61859033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853D-F0C8-4705-A36C-97AA3880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D847-8934-44A9-890A-F1DBEC8B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94FE7-D817-4EF3-AB09-458E868F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4AE2B-5EB3-4B3D-91B4-B4E31F87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DA25C-3C83-480F-AF65-F7924037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CA29B-746A-48B8-9F04-CFC6FC09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917A6-9EB0-4BC7-AB30-5E4526C7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A020A-2EFB-4B83-A404-3E590832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68643-1B4C-4B43-BFE1-F269AAB0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C89CA-DCA7-476D-99E5-6E59BEE2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11684-BD1B-443C-A375-C90E6167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9E3D4-ED7B-4D17-9B9A-DD824F91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7412-2B7C-462D-BF4A-87D14FF7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D88FF-F6A9-40A4-A2A0-CEE8CF0F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B6FFC-388F-4509-96D3-A4B05A13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11F20-FCF8-4B66-BC07-77F82D44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86BFC-51C3-4F45-92DE-91977D65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E4DD2-06AD-4278-9BE8-2CD2AB69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F05B3-7FEC-4A7A-B488-F3698211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07E6A-CD6A-46EE-BE50-8A5BBFC7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5D1ED-6ECC-4536-BA24-C2ECACB7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9B1E1-0C05-4C1A-94EC-06319FE6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5BCFD-9C89-4373-BB81-8069F021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5691-58BC-4493-936F-E1FE84892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8B74ED-0C13-4CE3-8480-979C128A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742EC-9C5B-41BC-A4FD-2EC0ECF8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FE465-849C-4CF8-A4DC-6CE874FE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BA0E0-A593-4DD6-A4DA-2E081B3B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F57F0-B9AE-4BDC-878F-113222DD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A139C-A3FF-4CAD-964F-9412ADBA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D6FF5-7A91-4921-AD03-439068F9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863AB-5686-4E92-801D-56E81CF7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0E60F-87FB-4847-B998-00F85CEA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901F3-F128-484F-A943-6F166990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A7D8-B747-4877-8DCB-C88359C4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5560E5-6A53-4BFD-944C-B32C0A4F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667D5-890B-421D-8B87-F48B49D5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44114-FC96-4D07-A359-0B57B7F1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6AC51-2CDB-4DE1-A8C4-B5D083DE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6E42E-D289-456D-A0C2-C5F1784C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D3FC3-D8E1-410C-80BB-DAC5C61E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0E184-41B7-40C5-AF27-58536537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8D8A9-9C59-4A18-90FB-E825B3E8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F9CD6-4637-45BC-B8C7-6E0FF5C0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A7CBB-7EE2-400D-9BA4-9A173D96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795A-A1A8-4B49-977B-F2C14F39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77C14-A92B-4FA3-8FE6-9D995A1D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8F16E-8FAF-4E43-90D1-FDD1D21A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383BA-3D6F-4056-901D-53FE7AE2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3A737-4DD5-4CC4-A1A5-B18E7721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F93A6-D7F4-4D02-962A-E6D4DC4C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44D367-334A-409C-9E4F-D959864F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B47F63-1012-40A4-A50E-4D9B9A87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AD08F4-3744-4D38-A812-D07392EC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B2B641-8823-47B0-B68B-FEDFDD0B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44E283-9D89-45C7-B190-3CE67626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99B3-E3A3-4043-810A-5B65EF90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702811-4774-4EBD-94FF-E8C3C339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29E053-13AB-4BE9-AE96-108AADC2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B014AE-F29B-4DDB-9CEC-370DAA93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E94602-8C62-4801-92F4-D1DD4E19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7D1D87-D44A-4776-9901-7DE7F8D5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F56262-1D35-40A5-B5E3-63468B32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D7D774-A3CA-4740-A32A-27C5FAD1B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7401-14F2-42B9-822D-0DF6D618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978D-41DE-48A4-A98E-C0D955E2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09C9-62B6-4C61-9D05-D26733F2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0623-13F0-47AC-B52D-FC2E731B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940F-21A0-4740-B478-0F0C8C27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CAE4-D343-4614-B71D-4F7B6E53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909A-0357-4AA6-9719-859583CB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BA99-4755-47EC-AAF4-3BF0F338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2C58-987D-4090-BECB-8A996D83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F0F5-9AE5-4FC7-B67E-C4085B4B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617B0-6207-4380-9EF3-6DED7725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6F47A-3BED-4534-9C01-4763CAEA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D2EBA-1E33-4525-A8B4-0CE7681F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9ABD7-C178-4C38-ADB0-089F1BC2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3D56E-A957-4EFA-AE94-05B84BB9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60DD-53E6-409D-8581-8AF9FDC8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22ABF-1530-4FC8-88EC-D611AAE8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7767C-FD99-4BCB-864B-09EFA8B1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E2DC2-0F9C-4277-8E86-D25175BF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4ED57-853F-430B-9FB9-AEFFAC71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F6A4B-60DB-4B8D-8B79-833F8CBC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A79F3-B88A-4FC4-A660-408E84DF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2D0BE-C7D4-47AB-AB41-3BB49A1C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4F7CA-F129-4BBF-B60F-BC5139E5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65D7E-AADF-4AF3-8614-395B4ED5E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3FFFC-ED2A-4B16-A083-A52B53FC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B9AF-FCE2-499D-9580-759B0463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37182-A3E9-4A53-BF47-321E7DD4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6F289-E4DC-4CD6-854F-6FD5362A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7C0EC-1A2D-41D3-B63D-0A67DD2D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60F3C-5183-4F18-8CBE-5186BAE5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2BF38-49F3-449F-9CA0-C68ED24A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5D067-1AB5-47C5-AC3D-33895A94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2E183-4249-41CB-9A61-4302060E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D14FD-EDB9-4619-8C71-BBF82806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C765F-C167-43D2-A58B-FD0AFFAF7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E4A33-DE0A-482F-AB4F-52449118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F840-FD29-4D45-8AB3-CBB7AB1F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1DD2C-ED6A-473A-9510-0E606261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104B8-74B5-47B3-A8C2-72817B55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2FDC3-0DD2-4960-8644-69904849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98E65-47F1-4908-933E-A6D3DA33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125FC-28F2-470D-B11E-C25B0503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D1D2A-0B41-4659-A0B6-80135A88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90173-EEBF-46B7-B658-8A8BC118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15C3D-E843-4916-AFA0-1017C137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C805D-2F1D-4192-B0AF-AE273115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77952-153B-4729-AA1F-68D92882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9E4A-EA08-4400-AE98-02F5A5BB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46B63-6FD5-4CFA-B67A-945486D5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D13BA-312B-47AC-B1C6-5EF934DB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F5D53-08F0-4D52-A19B-0374C255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00428-EFA3-4588-BD8D-AAB0A79B8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BAD4F-372C-4252-8319-319D05A4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E0196-261C-4BF4-8AC6-23E4451B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6421D-2E7C-40E1-8823-B3D1FECF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5805E-5B5C-44F3-A5FE-F57E195D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20630-0748-4BFF-BB9D-697FFD0D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5678C-3A7E-48A5-8479-1BB6B7FC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2AAF-1F48-4155-B078-8BB0823D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CFF70-9DC6-4956-89DA-2EC5D2D8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CBBD7-62F5-4532-9325-E576FE37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14F188-DE97-4050-B384-F86C6C432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CCA2F-0C5F-409F-AC3B-202952D3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C6AA5-83D1-4594-95BE-712F3049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4ED64-3E4F-40C2-B303-5A381E0C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7FF97-92BC-4EA4-BF52-1939E074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D9453-2822-461F-ACC6-18D6FE30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43626-5126-426B-89FA-24E0FECB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1ACBA-16B3-4292-87B5-B81CA3C8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19E6-8D1F-4816-99B0-364A95ED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B04CF-A951-4EA3-83D5-2FDD0ABE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CFA0E-926F-4B0E-8D19-2B3E3AB0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C75EE-3C9B-48C8-ABCE-1A25DE40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C8AF3-80FF-45B2-AF24-CA2ED1EE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D3989-DF27-4EE9-8451-9F100878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DCDF9-8E21-4D58-A805-DF03EAB3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67A53-B70A-4B8E-B52F-98AECCDA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CEC6F-035F-452A-9A21-400E4159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4C3B5-5671-4F04-BA31-4EF52780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C2FBE-8272-4887-BF38-E281A01F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B79F-34F0-4EF8-9F96-BE2B50FE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81B2F-6CFD-4A95-B055-72FE294E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538C5-9594-4866-8786-0CEA64B8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67100-18E8-4A75-BADF-9D121CE8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E1F4E-ED6B-43A9-AC1D-15777AC4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CFDED-7FB7-4FBA-AD09-287730B0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F1FF2-902F-4DC1-9221-9FF07A53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78797-752A-45A9-A55D-9E6111A7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125F7-B490-4399-892D-8E6279C4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EB0F2-6C10-4553-A2E7-FBAE2718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B5C23-F5F0-4DCB-B788-11243C58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FCF0-1CA8-447F-8FA8-5034F45A54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25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212E-93DC-4858-971C-F0D7E248A44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72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CD7C-A42D-4C7B-BE1A-F06FFE8F468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19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2118-7AA8-4EFD-A83B-6B1B1A5B489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6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0B5C-4D44-45C7-9810-B06702D7D9E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D280-B5F4-4FA4-A97E-D582D6E5CAC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4FEB-A40E-4E92-A70B-6E9A137DADF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43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91C8-3EF3-4103-81A0-6787548C8A9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9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72E5-5AAF-4423-B610-95CBB45E8EE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37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3C58-F156-47D5-BF35-72702E0C8FE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8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FF74-7F09-4CF6-A717-7BA519FEDA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3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CACD-E4D5-4580-BF86-5C5E0CFB607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1B73-7745-432E-964E-6FD47751CD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5"/>
          <p:cNvSpPr txBox="1"/>
          <p:nvPr/>
        </p:nvSpPr>
        <p:spPr>
          <a:xfrm>
            <a:off x="457200" y="228600"/>
            <a:ext cx="8305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000099"/>
                </a:solidFill>
                <a:latin typeface="Georgia"/>
              </a:rPr>
              <a:t>ВРЕДНЫЕ ПРИВЫЧКИ</a:t>
            </a:r>
            <a:endParaRPr b="1" i="1" lang="en-US" sz="4000" spc="1" strike="noStrike">
              <a:ln w="9360">
                <a:solidFill>
                  <a:srgbClr val="0066ff"/>
                </a:solidFill>
                <a:miter/>
              </a:ln>
              <a:solidFill>
                <a:srgbClr val="000099"/>
              </a:solidFill>
              <a:latin typeface="Georgia"/>
              <a:ea typeface="Georgia"/>
            </a:endParaRPr>
          </a:p>
        </p:txBody>
      </p:sp>
      <p:pic>
        <p:nvPicPr>
          <p:cNvPr id="620" name="Picture 11" descr="shkolniki_kurieniie"/>
          <p:cNvPicPr/>
          <p:nvPr/>
        </p:nvPicPr>
        <p:blipFill>
          <a:blip r:embed="rId1"/>
          <a:stretch/>
        </p:blipFill>
        <p:spPr>
          <a:xfrm>
            <a:off x="2895480" y="1981080"/>
            <a:ext cx="3505320" cy="25909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2" descr="о вредных привычках&#10;детей, советы детских психологов"/>
          <p:cNvPicPr/>
          <p:nvPr/>
        </p:nvPicPr>
        <p:blipFill>
          <a:blip r:embed="rId2"/>
          <a:stretch/>
        </p:blipFill>
        <p:spPr>
          <a:xfrm>
            <a:off x="152280" y="4038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3" descr="вредные привычки у детей"/>
          <p:cNvPicPr/>
          <p:nvPr/>
        </p:nvPicPr>
        <p:blipFill>
          <a:blip r:embed="rId3"/>
          <a:stretch/>
        </p:blipFill>
        <p:spPr>
          <a:xfrm>
            <a:off x="6324480" y="3886200"/>
            <a:ext cx="2708280" cy="2971800"/>
          </a:xfrm>
          <a:prstGeom prst="rect">
            <a:avLst/>
          </a:prstGeom>
          <a:ln w="0">
            <a:noFill/>
          </a:ln>
        </p:spPr>
      </p:pic>
      <p:sp>
        <p:nvSpPr>
          <p:cNvPr id="6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екомендации родителям  по раннему выявлению вредных привычек у подростков.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 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Важнейшая задача родителей - это постоянный контроль за состоянием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Необходимо обязательно обращать внимание на то, в каком состоянии он пришел домой, сравнивая с состоянием, в котором он вышел из дома. Это позволяет вовремя выявить случаи, когда ребенок впервые закурил, принял алкоголь или нарко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4" descr="p22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ты любишь себя и ценишь свое здоровье, ты скажешь «нет» всему, что может принести тебе вр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8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6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9"/>
          <p:cNvSpPr/>
          <p:nvPr/>
        </p:nvSpPr>
        <p:spPr>
          <a:xfrm>
            <a:off x="1371600" y="667800"/>
            <a:ext cx="662940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редные привычки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навязчивые действия, которые отрицательно сказываются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оведении ребенка, его физическом и психическом развитии. Говоря о вредных привычках у детей, взрослые в первую очередь имеют в виду курение, алкоголь. Однако ими круг вредных привычек не исчерпывается. В поведении некоторых детей встречаются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навязчивые действия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, которые ребенок осуществляет неосознанно, </a:t>
            </a: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"по привычке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", и которые производят довольно неприятное внешнее впечатление. Это привычка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99"/>
                </a:solidFill>
                <a:uFillTx/>
                <a:latin typeface="Arial"/>
              </a:rPr>
              <a:t>теребить волосы или мочку уха, сутулиться, шаркать ногами при ходьбе, ерзать на стуле, слишком жестикулировать, хватать собеседника за рукав или за пуговицу, поминутно отплевываться, ковырять в носу, употреблять слова-паразиты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{"ну", "вот", "значит", "короче"} и т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се они могут наблюдаться у одного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5"/>
          <p:cNvSpPr/>
          <p:nvPr/>
        </p:nvSpPr>
        <p:spPr>
          <a:xfrm>
            <a:off x="609480" y="13284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Причина их возникновения проста - недостаточное внимание со стороны родителей к поведению ребенка, и для устранения этих привычек, нужно увлекать ребенка интересными занятиями, общаться с ним, помогать ему изжить те глубинные внутренние переживания, которые породили неприятные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Борьба с вредной привычкой – это всегда борьба с тревожностью, неуверенностью, пессимиз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457200" y="336744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Предупреждение таких привычек не требует особых психологических рекоменд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Рецепт здесь один - привитие ребенку полезных навыков: опрятности, аккуратности, организованности, соблюдения элементарных правил этикета.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8" descr="baby"/>
          <p:cNvPicPr/>
          <p:nvPr/>
        </p:nvPicPr>
        <p:blipFill>
          <a:blip r:embed="rId1"/>
          <a:stretch/>
        </p:blipFill>
        <p:spPr>
          <a:xfrm>
            <a:off x="3886200" y="5562720"/>
            <a:ext cx="1676520" cy="1143000"/>
          </a:xfrm>
          <a:prstGeom prst="rect">
            <a:avLst/>
          </a:prstGeom>
          <a:ln w="0">
            <a:noFill/>
          </a:ln>
        </p:spPr>
      </p:pic>
      <p:sp>
        <p:nvSpPr>
          <p:cNvPr id="6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4"/>
          <p:cNvSpPr/>
          <p:nvPr/>
        </p:nvSpPr>
        <p:spPr>
          <a:xfrm>
            <a:off x="533520" y="45720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реди вредных привычек особую озабоченность родителей вызывает 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курение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, получившее в последние годы широкое распространение среди школьников. Курение - одна из многих проблем подросткового возра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5"/>
          <p:cNvSpPr/>
          <p:nvPr/>
        </p:nvSpPr>
        <p:spPr>
          <a:xfrm>
            <a:off x="609480" y="2384280"/>
            <a:ext cx="8077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Школьные годы - это годы роста как физического, психического, так и умственного. Организму нужно много сил, чтобы справиться со всеми нагрузками. Как известно, навыки, привычки, усвоенные в школьном возрасте, самые прочные. Это относиться не только к полезным, но и к вредным привычкам. Чем раньше дети, подростки, юноши, девушки познакомятся с курением и начнут курить, тем быстрее привыкнут к нему, и в дальнейшем отказаться от курения будет очень тру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7" descr="deva"/>
          <p:cNvPicPr/>
          <p:nvPr/>
        </p:nvPicPr>
        <p:blipFill>
          <a:blip r:embed="rId1"/>
          <a:stretch/>
        </p:blipFill>
        <p:spPr>
          <a:xfrm>
            <a:off x="4114800" y="5181480"/>
            <a:ext cx="1143000" cy="1676520"/>
          </a:xfrm>
          <a:prstGeom prst="rect">
            <a:avLst/>
          </a:prstGeom>
          <a:ln w="0">
            <a:noFill/>
          </a:ln>
        </p:spPr>
      </p:pic>
      <p:sp>
        <p:nvSpPr>
          <p:cNvPr id="6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cc66"/>
                </a:solidFill>
                <a:latin typeface="Arial"/>
              </a:rPr>
              <a:t>По статистике…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просы, проведенные НИИ гигиены детей и подростков показали, что пик интереса у детей  к курению отмечается в 9 и в 12-13 лет. Тогда они только пробу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К 15 годам курят 24% подрост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7" descr="j0301252"/>
          <p:cNvPicPr/>
          <p:nvPr/>
        </p:nvPicPr>
        <p:blipFill>
          <a:blip r:embed="rId1"/>
          <a:stretch/>
        </p:blipFill>
        <p:spPr>
          <a:xfrm>
            <a:off x="4572000" y="1447920"/>
            <a:ext cx="4154400" cy="4343400"/>
          </a:xfrm>
          <a:prstGeom prst="rect">
            <a:avLst/>
          </a:prstGeom>
          <a:ln w="0">
            <a:noFill/>
          </a:ln>
        </p:spPr>
      </p:pic>
      <p:sp>
        <p:nvSpPr>
          <p:cNvPr id="6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9900"/>
                </a:solidFill>
                <a:latin typeface="Arial"/>
              </a:rPr>
              <a:t>Результаты теста </a:t>
            </a:r>
            <a:br>
              <a:rPr sz="3400"/>
            </a:br>
            <a:r>
              <a:rPr b="0" lang="ru-RU" sz="3400" spc="-1" strike="noStrike">
                <a:solidFill>
                  <a:srgbClr val="009900"/>
                </a:solidFill>
                <a:latin typeface="Arial"/>
              </a:rPr>
              <a:t>«Твой отношение к курению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37% - у этих детей нет предрасположенности к курению, сам процесс курения они не одобряю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34% - эти дети не выработали собственного отношения к курению, могут приобщиться к нему при случае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29% - подростки хорошо относятся к курению, уже и приобщились к н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Курение и школьник - несовместим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рение подростков, в первую очередь, сказывается на нервной и сердечной - сосудистой системах. В 12-15 лет они уже жалуются на отдышку при физической нагрузке. В результате многолетних наблюдений французский доктор еще 100 лет назад пришел к убеждению, что даже незначительное курение вызывает у детей малокровие, расстройство пищевар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рение отрицательно влияет на успеваемость школьника. Число неуспевающих возрастает в тех классах, где больше курящ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урение школьников замедляет их физическое и психическое развитие. Состояние здоровья, подорванное курением, не позволяет выбрать род занятий по душе, добиться успеха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Начальные классы:</a:t>
            </a:r>
            <a:br>
              <a:rPr sz="24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беседы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по правилам личной гигиены;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уроки «Мойдодыра»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лекции: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«Курение и алкоголь вредит нашему здоровью»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Наш внешний вид»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Чистые руки – залог здоровья»</a:t>
            </a:r>
            <a:br>
              <a:rPr sz="3200"/>
            </a:b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лассные часы:</a:t>
            </a: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 «Твой режим дня»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Что такое хорошо, что такое плохо»</a:t>
            </a:r>
            <a:br>
              <a:rPr sz="3200"/>
            </a:b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«Почему нельзя давать друг другу клички»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6600ff"/>
                </a:solidFill>
                <a:latin typeface="Arial"/>
              </a:rPr>
              <a:t>Классные часы, беседы, тренинги, лекции на темы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Что заставляет подростков пробовать курить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Пьянство и алкоголиз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Твоё здоровье – богатство стра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Культура и правила повед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«Умеем ли мы общаться»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12T08:38:0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