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1187-BB3E-4663-A2C5-89E57060AFD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C0B3-A380-420D-A3CA-C694571288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Рекомендации родителям  по раннему выявлению вредных привычек у подростков.</a:t>
            </a:r>
            <a:br>
              <a:rPr sz="1100"/>
            </a:b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 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cc6600"/>
                </a:solidFill>
                <a:latin typeface="Calibri"/>
              </a:rPr>
              <a:t>Важнейшая задача родителей - это постоянный контроль за состоянием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996633"/>
                </a:solidFill>
                <a:latin typeface="Calibri"/>
              </a:rPr>
              <a:t>Необходимо обязательно обращать внимание на то, в каком состоянии он пришел домой, сравнивая с состоянием, в котором он вышел из дома. Это позволяет вовремя выявить случаи, когда ребенок впервые закурил, принял алкоголь или нарко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FFF8-1CAA-4D33-B319-38A35FEC23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3002-8BE7-4155-BF8E-240EB93B81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alibri"/>
              </a:rPr>
              <a:t>Вредные привычки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навязчивые действия, которые отрицательно сказываются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ведении ребенка, его физическом и психическом развитии. Говоря о вредных привычках у детей, взрослые в первую очередь имеют в виду курение, алкоголь. Однако ими круг вредных привычек не исчерпывается. В поведении некоторых детей встречаются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вязчивые действия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, которые ребенок осуществляет неосознанно,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"по привычк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", и которые производят довольно неприятное внешнее впечатление. Это привычк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теребить волосы или мочку уха, сутулиться, шаркать ногами при ходьбе, ерзать на стуле, слишком жестикулировать, хватать собеседника за рукав или за пуговицу, поминутно отплевываться, ковырять в носу, употреблять слова-паразиты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{"ну", "вот", "значит", "короче"}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се они могут наблюдаться у одного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4F52-978F-4206-912F-0C84089289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ff"/>
                </a:solidFill>
                <a:latin typeface="Calibri"/>
              </a:rPr>
              <a:t>Причина их возникновения проста - недостаточное внимание со стороны родителей к поведению ребенка, и для устранения этих привычек, нужно увлекать ребенка интересными занятиями, общаться с ним, помогать ему изжить те глубинные внутренние переживания, которые породили неприятные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ff"/>
                </a:solidFill>
                <a:latin typeface="Calibri"/>
              </a:rPr>
              <a:t>Борьба с вредной привычкой – это всегда борьба с тревожностью, неуверенностью, пессим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Calibri"/>
              </a:rPr>
              <a:t>Предупреждение таких привычек не требует особых психологических рекоменд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Рецепт здесь один - привитие ребенку полезных навыков: опрятности, аккуратности, организованности, соблюдения элементарных правил этикета.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B921-92B2-4B38-9F58-0939C07D04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реди вредных привычек особую озабоченность родителей вызывает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курени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получившее в последние годы широкое распространение среди школьников. Курение - одна из многих проблем подросткового возра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Школьные годы - это годы роста как физического, психического, так и умственного. 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Чем раньше дети, подростки, юноши, девушки познакомятся с курением и начнут курить, тем быстрее привыкнут к нему, и в дальнейшем отказаться от курения будет очень тру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64DA-79CC-487A-9C56-79CA9C9B18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Calibri"/>
              </a:rPr>
              <a:t>По статистике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просы, проведенные НИИ гигиены детей и подростков показали, что пик интереса у детей  к курению отмечается в 9 и в 12-13 лет. Тогда они только проб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 15 годам курят 24%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C066-5B57-48C6-924A-8D766BBB98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Результаты теста </a:t>
            </a:r>
            <a:br>
              <a:rPr sz="1400"/>
            </a:b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«Твой отношение к курению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Calibri"/>
              </a:rPr>
              <a:t>37% - у этих детей нет предрасположенности к курению, сам процесс курения они не одобр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34% - эти дети не выработали собственного отношения к курению, могут приобщиться к нему при случа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29% - подростки хорошо относятся к курению, уже и приобщились к н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BCA9-16F9-47DE-BE38-26B77CF1DD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урение и школьник - несовмести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подростков, в первую очередь, сказывается на нервной и сердечной - сосудистой системах. В 12-15 лет они уже жалуются на отдышку при физической нагрузке. В результате многолетних наблюдений французский доктор еще 100 лет назад пришел к убеждению, что даже незначительное курение вызывает у детей малокровие, расстройство пищева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отрицательно влияет на успеваемость школьника. Число неуспевающих возрастает в тех классах, где больше куря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школьников замедляет их физическое и психическое развитие. Состояние здоровья, подорванное курением, не позволяет выбрать род занятий по душе, добиться успеха.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93B2-2630-40DA-BEE6-1C62B435B8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000" spc="-1" strike="noStrike">
                <a:solidFill>
                  <a:srgbClr val="6600ff"/>
                </a:solidFill>
                <a:latin typeface="Calibri"/>
              </a:rPr>
              <a:t>Начальные классы:</a:t>
            </a:r>
            <a:br>
              <a:rPr sz="10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беседы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по правилам личной гигиены;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уроки «Мойдодыра»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лекции: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«Курение и алкоголь вредит нашему здоровью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Наш внешний вид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Чистые руки – залог здоровья»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Классные часы: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«Твой режим дня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Что такое хорошо, что такое плохо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Почему нельзя давать друг другу клички»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94F0-3503-4420-9843-8056EB1350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Calibri"/>
              </a:rPr>
              <a:t>Классные часы, беседы, тренинги, лекции на те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Что заставляет подростков пробовать курить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Пьянство и алкоголиз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Твоё здоровье – богатство стра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Культура и правила повед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Умеем ли мы общаться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F0E9-7507-482A-8295-CCA1F918FA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CC0-721A-407E-B595-3C0BAE53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749-F8E7-4A90-9CBC-6AA3B8CC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EDB0A-6049-4025-AD1C-96991E36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CF7FF-ADCA-46D6-A529-82ED40AD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E6D2C-3D3D-474B-B1A3-D8F2578D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A37AC-76A7-443C-82E3-C1718130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FA064-74C7-4C97-9D97-2836B9C6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B071D-D190-46CA-BCAF-BC61E7DF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3BB55-B364-4938-B65A-CB840FE8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671E8-1319-4780-A0BE-CE5DCC78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20491-5907-4C1E-A9BE-64613D59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47A6C-4D74-4429-B629-3A826E27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E5F-F0A8-44CC-85AC-0672475C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384A9-BE4E-41C5-8884-8510CD84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E74E9-F238-4C26-A014-D38E5031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8A4BB-ED2D-43F8-A01F-C2E8B2D1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7F725-5839-422D-BEC0-4800288B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101E4-601C-41C6-91E6-E6488AEC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FF187-0CB8-4BD2-919D-EB9FCA5E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440F4-781B-47B2-9A37-2F3CB712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40693-2A33-4387-8AF3-131615BB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96EBC-11B8-4420-95AA-6454B96F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B64EB-D15F-409A-93D9-92B9DD49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6E4-2170-4B82-A9FE-B8229913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2EA0A-2FB1-4855-A051-16D5D002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9EB7B-D8F4-49FA-A377-3266785C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76F7A-4D39-4E4D-AC71-701C910E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B47B5-6C54-49D1-9F7F-29936CB8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A7EBC-B7F6-4ABB-82AC-9E6DB356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B0335-4B01-477C-B567-3DC796B5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545A8-59E1-43DF-819A-D8607DCC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60CBE-2D2B-4A5D-B6D3-C52C6209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15269-66A9-4199-954E-04160C8E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F6069-6E41-42BE-AF37-7658423D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3E38-C6DC-4663-834F-4B62A88D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7AD31-FF78-45ED-89C1-6719D6CB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28B6A-46BF-4D12-83A9-D1E8A857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3195A-531F-40FC-B9ED-DF21FC29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3A495-4F3D-4D29-8415-4A3B89E3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54096-5473-4670-8928-8D317993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013FE-DF6A-4326-8F13-F37823B7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011F5-67C5-4506-93EE-8AD170B1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D9981-7F34-4A80-BD66-69C93C09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12059-9F8F-4E12-8822-9ECDAEC1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77CFD-76BB-4DDF-9182-E9275A39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9A77-BE72-4BF9-8D50-9BED819F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65CDA-2089-4AAE-9884-5B57BDBF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8D992-C131-4635-BC56-2F4DEEBD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ED398-D0BA-4103-B0BA-882B8727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62E6B-0F1A-4622-96D4-23241580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743BC-415D-4EB7-A088-8FF65068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F80D0-0DCE-4A88-9A75-1FB9E78B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5E534-38CE-4250-87DC-CD4570DB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92D3E-9AF5-446E-8071-F024E3F3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00801-3D50-475E-9C6D-191B7FD8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775A1-C366-4017-B572-4F4DA650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E6C3-72DB-42B3-8E69-06CC5D39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A1B07-FAEB-4334-95F1-BD76E5FF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CE843-A4E1-4A99-A7CD-AA72F182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4E9F59-DB30-47FB-A573-7D519359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C4CC1-7966-4DDB-A3CB-D8CD956D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3437B-885F-47FF-9D94-83ED09F8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71124-3316-430D-9692-9AF172DD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53546-34D4-4EB9-8D81-5F75CC5F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2281-DFE8-45AC-8694-A86501AB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F431-C6EA-493E-9129-1D87A44A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5B19-2DD7-4BE0-A29B-A9B02B8F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EFFF-93DF-484C-BF0D-D47AD457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55C-E205-46ED-8E0A-91CE43DE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DEFF-B1A5-4128-8A6B-2287E7D6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4AA4-18E2-4389-B9CB-FB8E84E4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8463-5760-401D-B250-D87EC85B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030D-F5EE-4957-A3B3-30A0D9F6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B823-F149-40AB-84BB-D64FC5BF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2B2FE-1AFC-4ED8-9A4A-54862886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054B1-575A-4806-A1E3-66C5003E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7CBC9-742E-47DB-9BE8-8A57C020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D277C-3B5D-45DC-BE21-A914FCE8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34E42-CAEC-41BC-8356-699F0EF5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174E-E0AA-4951-96CE-FEA4CF5C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FBD0-5778-4F36-9293-3A20ECE7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5A99-73B6-49A1-AD38-841168E1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4EC1-60C6-442A-8853-027F736D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679CE-7FFE-4146-B49B-EFB906D8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087A2-4465-456F-A50F-70CB7852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5262B-DA0E-4B32-80C7-0A2F9111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E1746-17BE-490E-8BE1-3B3DCF6B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65E55-F2DF-4F76-AE75-BC998D6D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E9433-728C-43C1-B2A3-18103297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E52C4-7D74-47CE-890C-65848F73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0A2-6046-4081-8220-693CE69C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65962-FCD1-42B4-AB9F-8BE187A6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E6617-6806-4EA4-8279-71C17A4C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5D7F-37A7-40E0-B7E6-F460EA23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0A0AA-9F2F-4A75-9ECE-F527469A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A0112-F796-4C60-A1B5-5895B523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2879E-1574-459E-8994-B9E0BEF5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F11F0-B3E8-4F5C-B381-9CA5B16B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A1804-9572-4EF3-B79B-C209ABAF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62A14-6C96-4834-B079-6E891AA9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21673-CAB2-4BCE-B1BE-F4006EEB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AE2-5891-43BC-AE7D-C387C112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628F6-0B76-4DD8-9DF4-880D7F17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BB0CD-55BE-4483-9E01-DCD22506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14075-C4B1-41DC-9865-1C548EA7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61CBA-77B0-4F07-912C-2865F27A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26AA8-D8E6-42AD-AC02-C70F4B3E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822F6-C052-4042-9231-CFC6CC7B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1AAF9-7A4C-4867-B1B4-57E3BC4C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7E077-7F7D-4DF9-BA1C-AAB074A6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F2675-787F-418B-B099-F1FF6D2F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23D87-8C9F-4736-8A80-689710B3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E32-4290-41B8-9DC6-DD739136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2399E-800F-479B-84B6-EBCEACE1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C266B-EF2A-43BC-A1D6-E151719C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D37DA-2A2D-409A-A134-8D4142A3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27EB8-C13E-43CB-962C-1EEA37F2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8D08F-6EB0-4686-9E1A-0396967A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97E2A-677C-425E-9206-A40027DB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06F84-4A1A-4F5C-B58C-3F7C990F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B73C2-1A66-45A2-A495-5827896A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B5809-1A8C-44A4-8EAF-B1C85B2F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4672F-B827-4A25-9403-ED0B9EFB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035-56E4-4026-98B9-45F02A5D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44DD9-DA2C-4A53-BFDE-4BE769D6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DB0B3-0986-4E0E-9FAB-DE7C07BF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81848-3F98-4958-94D1-C8C1658F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A0A28-351A-4B9B-803D-79364DB5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FCBFC-EDD8-4141-BDA0-7BDFBC42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B2BD8-BBC5-4359-A053-5127014C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09FC0-06FE-4808-828D-94120C02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0943A-0401-4956-926E-5CE69821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66298-6787-4013-B6FB-3BCA1685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4B898-C3DD-4FAF-B6EC-CEF1D1D8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0C2-06BC-49A2-AEE0-6068B229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0E238-EC2F-4831-82AD-CFF30E5C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ECF91-B909-456D-8DF4-368D2682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14101-A30A-48A5-971B-460EE841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04947-5D88-4B42-BAE0-B51D1C31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0ED63-AA24-4D4E-BF63-001AD8D5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69582-3D1D-4D52-9E12-4C8AA9AE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0EAFC-B3BB-4B57-8D17-5E4F28A4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7BA1C-84C5-49EA-AF37-F8464DFC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9F021-1364-4BBD-92B8-AC0028CF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07176-B0A2-4BE0-A88B-842D6686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B7A-24F5-4406-847D-327C0114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702D2-6200-4201-B74B-A515A7E9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681DD-CF8C-4F28-BCBF-D5D646E5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A6A6D-BE55-431A-A444-402D3590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EF20A-4049-4A25-A1A7-EA26DE61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0B245-311B-401E-8CBD-B0E0532C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EB990-3B74-4F59-BB68-CCF55E07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50187-4BA6-4DFC-8FFF-C6233087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7BBAA-3877-44B4-B7B6-A5678B9C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0BD59-8210-4592-9F69-8576EBB6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9A0A3-5C82-46D7-A715-47D3301B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FBD9-7CA0-4309-ACA7-3DB8EABF86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B23A-A116-48CB-9882-C530CC2A56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A448-C9E4-4A30-924F-B8DC94A06B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0FA1-69CA-462B-BC43-0162A25945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29F1-AEEC-4D4E-AC60-C159EF96C1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9F73-1BE4-4420-9789-E2BAC3413A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7530-A29C-4156-9168-AE5BC03D14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4E2D-BA6F-48E1-B99A-6A42AB44EF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C38C-8D28-4F31-83FC-C9AD4BEBD4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0C6F-64F2-4AD0-A968-A1FEAD4ED7C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1232-449A-4262-95DB-4238AC5277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4565-EA33-4B12-98D3-DFA69DDD68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010C-B9A3-483A-8D8E-F172C389FD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5"/>
          <p:cNvSpPr txBox="1"/>
          <p:nvPr/>
        </p:nvSpPr>
        <p:spPr>
          <a:xfrm>
            <a:off x="457200" y="228600"/>
            <a:ext cx="8305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1" i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620" name="Picture 11" descr="shkolniki_kurieniie"/>
          <p:cNvPicPr/>
          <p:nvPr/>
        </p:nvPicPr>
        <p:blipFill>
          <a:blip r:embed="rId1"/>
          <a:stretch/>
        </p:blipFill>
        <p:spPr>
          <a:xfrm>
            <a:off x="2895480" y="1981080"/>
            <a:ext cx="3505320" cy="2590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о вредных привычках&#10;детей, советы детских психологов"/>
          <p:cNvPicPr/>
          <p:nvPr/>
        </p:nvPicPr>
        <p:blipFill>
          <a:blip r:embed="rId2"/>
          <a:stretch/>
        </p:blipFill>
        <p:spPr>
          <a:xfrm>
            <a:off x="1522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вредные привычки у детей"/>
          <p:cNvPicPr/>
          <p:nvPr/>
        </p:nvPicPr>
        <p:blipFill>
          <a:blip r:embed="rId3"/>
          <a:stretch/>
        </p:blipFill>
        <p:spPr>
          <a:xfrm>
            <a:off x="6324480" y="3886200"/>
            <a:ext cx="2708280" cy="2971800"/>
          </a:xfrm>
          <a:prstGeom prst="rect">
            <a:avLst/>
          </a:prstGeom>
          <a:ln w="0">
            <a:noFill/>
          </a:ln>
        </p:spPr>
      </p:pic>
      <p:sp>
        <p:nvSpPr>
          <p:cNvPr id="6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комендации родителям  по раннему выявлению вредных привычек у подростков.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Важнейшая задача родителей - это постоянный контроль за состоянием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Необходимо обязательно обращать внимание на то, в каком состоянии он пришел домой, сравнивая с состоянием, в котором он вышел из дома. Это позволяет вовремя выявить случаи, когда ребенок впервые закурил, принял алкоголь или нарко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p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9"/>
          <p:cNvSpPr/>
          <p:nvPr/>
        </p:nvSpPr>
        <p:spPr>
          <a:xfrm>
            <a:off x="1371600" y="667800"/>
            <a:ext cx="66294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редные привычки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вязчивые действия, которые отрицательно сказываются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ведении ребенка, его физическом и психическом развитии. Говоря о вредных привычках у детей, взрослые в первую очередь имеют в виду курение, алкоголь. Однако ими круг вредных привычек не исчерпывается. В поведении некоторых детей встречаются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навязчивые действ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, которые ребенок осуществляет неосознанно,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"по привычк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", и которые производят довольно неприятное внешнее впечатление. Это привычк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ребить волосы или мочку уха, сутулиться, шаркать ногами при ходьбе, ерзать на стуле, слишком жестикулировать, хватать собеседника за рукав или за пуговицу, поминутно отплевываться, ковырять в носу, употреблять слова-паразиты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{"ну", "вот", "значит", "короче"}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се они могут наблюдаться у одного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5"/>
          <p:cNvSpPr/>
          <p:nvPr/>
        </p:nvSpPr>
        <p:spPr>
          <a:xfrm>
            <a:off x="609480" y="13284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ричина их возникновения проста - недостаточное внимание со стороны родителей к поведению ребенка, и для устранения этих привычек, нужно увлекать ребенка интересными занятиями, общаться с ним, помогать ему изжить те глубинные внутренние переживания, которые породили неприят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Борьба с вредной привычкой – это всегда борьба с тревожностью, неуверенностью, пессимиз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457200" y="336744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Предупреждение таких привычек не требует особых психологических рекоменд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ецепт здесь один - привитие ребенку полезных навыков: опрятности, аккуратности, организованности, соблюдения элементарных правил этикета.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8" descr="baby"/>
          <p:cNvPicPr/>
          <p:nvPr/>
        </p:nvPicPr>
        <p:blipFill>
          <a:blip r:embed="rId1"/>
          <a:stretch/>
        </p:blipFill>
        <p:spPr>
          <a:xfrm>
            <a:off x="3886200" y="5562720"/>
            <a:ext cx="1676520" cy="1143000"/>
          </a:xfrm>
          <a:prstGeom prst="rect">
            <a:avLst/>
          </a:prstGeom>
          <a:ln w="0">
            <a:noFill/>
          </a:ln>
        </p:spPr>
      </p:pic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4"/>
          <p:cNvSpPr/>
          <p:nvPr/>
        </p:nvSpPr>
        <p:spPr>
          <a:xfrm>
            <a:off x="533520" y="4572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реди вредных привычек особую озабоченность родителей вызывает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курение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 получившее в последние годы широкое распространение среди школьников. Курение - одна из многих проблем подросткового возр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609480" y="238428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Школьные годы - это годы роста как физического, психического, так и умственного. 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Чем раньше дети, подростки, юноши, девушки познакомятся с курением и начнут курить, тем быстрее привыкнут к нему, и в дальнейшем отказаться от курения будет очень тру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7" descr="deva"/>
          <p:cNvPicPr/>
          <p:nvPr/>
        </p:nvPicPr>
        <p:blipFill>
          <a:blip r:embed="rId1"/>
          <a:stretch/>
        </p:blipFill>
        <p:spPr>
          <a:xfrm>
            <a:off x="4114800" y="5181480"/>
            <a:ext cx="1143000" cy="167652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cc66"/>
                </a:solidFill>
                <a:latin typeface="Arial"/>
              </a:rPr>
              <a:t>По статистике…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просы, проведенные НИИ гигиены детей и подростков показали, что пик интереса у детей  к курению отмечается в 9 и в 12-13 лет. Тогда они только проб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 15 годам курят 24% подрос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7" descr="j0301252"/>
          <p:cNvPicPr/>
          <p:nvPr/>
        </p:nvPicPr>
        <p:blipFill>
          <a:blip r:embed="rId1"/>
          <a:stretch/>
        </p:blipFill>
        <p:spPr>
          <a:xfrm>
            <a:off x="4572000" y="1447920"/>
            <a:ext cx="4154400" cy="4343400"/>
          </a:xfrm>
          <a:prstGeom prst="rect">
            <a:avLst/>
          </a:prstGeom>
          <a:ln w="0">
            <a:noFill/>
          </a:ln>
        </p:spPr>
      </p:pic>
      <p:sp>
        <p:nvSpPr>
          <p:cNvPr id="6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Результаты теста </a:t>
            </a:r>
            <a:br>
              <a:rPr sz="3400"/>
            </a:b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«Твой отношение к курению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37% - у этих детей нет предрасположенности к курению, сам процесс курения они не одобря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34% - эти дети не выработали собственного отношения к курению, могут приобщиться к нему при случае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9% - подростки хорошо относятся к курению, уже и приобщились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Курение и школьник - несовмести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подростков, в первую очередь, сказывается на нервной и сердечной - сосудистой системах. В 12-15 лет они уже жалуются на отдышку при физической нагрузке. В результате многолетних наблюдений французский доктор еще 100 лет назад пришел к убеждению, что даже незначительное курение вызывает у детей малокровие, расстройство пищева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отрицательно влияет на успеваемость школьника. Число неуспевающих возрастает в тех классах, где больше курящ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школьников замедляет их физическое и психическое развитие. Состояние здоровья, подорванное курением, не позволяет выбрать род занятий по душе, добиться успеха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ачальные классы:</a:t>
            </a:r>
            <a:br>
              <a:rPr sz="24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седы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по правилам личной гигиены;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уроки «Мойдодыра»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лекции: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Курение и алкоголь вредит нашему здоровью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Наш внешний вид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Чистые руки – залог здоровья»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лассные часы: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Твой режим дня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Что такое хорошо, что такое плохо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Почему нельзя давать друг другу клички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00ff"/>
                </a:solidFill>
                <a:latin typeface="Arial"/>
              </a:rPr>
              <a:t>Классные часы, беседы, тренинги, лекции на темы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Что заставляет подростков пробовать курит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Пьянство и алкоголиз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Твоё здоровье – богатство ст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Культура и правила повед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Умеем ли мы общаться»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8:38:0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