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46CE-16D8-49C8-B281-E54A3CFD738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4122-9DCD-4FF2-82D9-006753DBAF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Рекомендации родителям  по раннему выявлению вредных привычек у подростков.</a:t>
            </a:r>
            <a:br>
              <a:rPr sz="1100"/>
            </a:b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 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cc6600"/>
                </a:solidFill>
                <a:latin typeface="Calibri"/>
              </a:rPr>
              <a:t>Важнейшая задача родителей - это постоянный контроль за состояние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996633"/>
                </a:solidFill>
                <a:latin typeface="Calibri"/>
              </a:rPr>
              <a:t>Необходимо обязательно обращать внимание на то, в каком состоянии он пришел домой, сравнивая с состоянием, в котором он вышел из дома. Это позволяет вовремя выявить случаи, когда ребенок впервые закурил, принял алкоголь или нарко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CA1A-788B-4E55-98A6-3818AA7868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8082-C367-4535-9E7A-BFF16DC513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alibri"/>
              </a:rPr>
              <a:t>Вредные привычки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навязчивые действия, которые отрицательно сказываются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ведении ребенка, его физическом и психическом развитии. Говоря о вредных привычках у детей, взрослые в первую очередь имеют в виду курение, алкоголь. Однако ими круг вредных привычек не исчерпывается. В поведении некоторых детей встречаются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вязчивые действия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, которые ребенок осуществляет неосознанно,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"по привычк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", и которые производят довольно неприятное внешнее впечатление. Это привычк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теребить волосы или мочку уха, сутулиться, шаркать ногами при ходьбе, ерзать на стуле, слишком жестикулировать, хватать собеседника за рукав или за пуговицу, поминутно отплевываться, ковырять в носу, употреблять слова-паразиты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{"ну", "вот", "значит", "короче"}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се они могут наблюдаться у одного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A853-A8F7-43F2-A596-E364D55200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ff"/>
                </a:solidFill>
                <a:latin typeface="Calibri"/>
              </a:rPr>
              <a:t>Причина их возникновения проста - недостаточное внимание со стороны родителей к поведению ребенка, и для устранения этих привычек, нужно увлекать ребенка интересными занятиями, общаться с ним, помогать ему изжить те глубинные внутренние переживания, которые породили неприятные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ff"/>
                </a:solidFill>
                <a:latin typeface="Calibri"/>
              </a:rPr>
              <a:t>Борьба с вредной привычкой – это всегда борьба с тревожностью, неуверенностью, пессим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Calibri"/>
              </a:rPr>
              <a:t>Предупреждение таких привычек не требует особых психологических рекоменд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Рецепт здесь один - привитие ребенку полезных навыков: опрятности, аккуратности, организованности, соблюдения элементарных правил этикета.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F481-29AE-4E5B-BC79-0BFFA88758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реди вредных привычек особую озабоченность родителей вызывает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курени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получившее в последние годы широкое распространение среди школьников. Курение - одна из многих проблем подросткового возра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Школьные годы - это годы роста как физического, псих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83CB-D105-424A-BD11-00C1712994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Calibri"/>
              </a:rPr>
              <a:t>По статистике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просы, проведенные НИИ гигиены детей и подростков показали, что пик интереса у детей  к курению отмечается в 9 и в 12-13 лет. Тогда они только проб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 15 годам курят 24%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C560-D518-4CB4-9C5C-110DBAC3C8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Результаты теста </a:t>
            </a:r>
            <a:br>
              <a:rPr sz="1400"/>
            </a:b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«Твой отношение к курению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Calibri"/>
              </a:rPr>
              <a:t>37% - у этих детей нет предрасположенности к курению, сам процесс курения они не одобр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34% - эти дети не выработали собственного отношения к курению, могут приобщиться к нему при случа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29% - подростки хорошо относятся к курению, уже и приобщились к н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649A-6033-46F4-ACC4-24A753D80D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урение и школьник - несовмести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подростков, в первую очередь, сказывается на нервной и сердечной - сосудистой системах. В 12-15 лет они уже жалуются на отдышку при физической нагрузке. В результате многолетних наблюдений французский доктор еще 100 лет назад пришел к убеждению, что даже незначительное курение вызывает у детей малокровие, расстройство пищева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отрицательно влияет на успеваемость школьника. Число неуспевающих возрастает в тех классах, где больше куря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.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05BE-690C-41B6-A114-F8CCBC005A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000" spc="-1" strike="noStrike">
                <a:solidFill>
                  <a:srgbClr val="6600ff"/>
                </a:solidFill>
                <a:latin typeface="Calibri"/>
              </a:rPr>
              <a:t>Начальные классы:</a:t>
            </a:r>
            <a:br>
              <a:rPr sz="10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беседы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по правилам личной гигиены;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уроки «Мойдодыра»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лекции: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«Курение и алкоголь вредит нашему здоровью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Наш внешний вид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Чистые руки – залог здоровья»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Классные часы: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«Твой режим дня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Что такое хорошо, что такое плохо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Почему нельзя давать друг другу клички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9D3A-CCCE-41BA-BB5C-78F7197152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Calibri"/>
              </a:rPr>
              <a:t>Классные часы, беседы, тренинги, лекции на т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Что заставляет подростков пробовать курить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Пьянство и алкоголиз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Твоё здоровье – богатство стра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Культура и правила повед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Умеем ли мы общаться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9501-077C-43EF-84AB-46DEE7F6B1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8F6-C175-44F6-85AF-CA2324C2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279-FF49-4DD5-9520-52ACC5DF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530C3-FFBD-435E-8C2B-33676C50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6EEF0-301A-4BFA-B5A7-FE0D8B64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76216-AE74-49DD-AD81-0009F0C8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07F34-7556-42B8-8537-474314BF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E6A08-CB94-4C83-BCE8-0D6A6C5D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BC6DB-A5F5-4159-9455-A6C73D0A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32D8D-7521-4082-9696-6BE16A64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84EFB-BBCD-4D2A-9CFE-094EB21C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E02FB-DCAC-4098-A15A-97B40861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3CF6F-5B44-40DD-A8EB-503D30DA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B19-33F2-402D-8FD2-C35221A0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5E70E-818E-4B73-8D8F-14E06C32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88EF4-0E7D-4788-B535-2E0C57F1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533A4-3795-4F67-836A-06055ACC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864C9-BA31-4E48-914F-9E66EBE5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80DC1-EBF1-4ADA-93AB-7CA72884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F5190-C093-430E-944D-4A73450D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E6EA1-3855-4D99-BFE5-6C2FD679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95C7D-2D1F-486C-97D2-F92F03D4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0D673-B413-4EAB-936C-438A22CA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EC4F5-56CD-46F4-897B-57713F11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CB5-C817-4AFC-8652-D1D6722D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D2F18-A375-48A8-B0A8-3E2FE2CE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28049-2D41-4C2F-BAF2-3805649A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0AF5F-80B1-490B-A24F-4CFB669F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33183-01B7-431A-84B8-0BBDD8E9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3A678-0BE9-4900-872D-B88F8047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F7C50-2E61-49AC-B4BA-6E85AA31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A1149-1775-4D36-84CE-E692544A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CF5CA-0DF5-44CF-8878-0A905608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B198C-70EC-46A8-B306-04156A5E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70AA0-18A7-4D09-B9D6-112D37DD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F10B-C792-494C-B915-DF14C968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07301-6235-4C91-B2CC-3CDD105E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BC24A-935D-4E2D-9563-47CEB0FA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AB8B4-7D17-4FDA-9C98-B80C3609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F4D78-5675-45CF-B462-64FAC876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65F1B-073E-407B-949E-75D5611A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6E8B3-D087-4909-909C-4CA12AEE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8A072-56FB-4C9E-BCBE-DA9128E7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95755-C6D3-4A5E-9D74-C2D665B7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1D77E-34E8-48F5-A3E4-ABA58CBC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8B764-D4C6-4708-A2A9-000C70E4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6B08-5941-481B-A924-10613F02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08DD0-0CAE-4EE0-BA90-D77DCA30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3917F-B407-4A61-9852-B7255A3F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E38A2-1AF5-4F45-9E07-E87E8486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9A009-3643-415A-9207-012D7C71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210D1-F8ED-45D4-86EB-AE7A90EB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68BB9-1503-48BD-ABCE-742B0610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5D909-77B1-45A7-B5A6-9D651565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F20B6-F5B3-46FD-BE19-4B0008CC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3EE72-CCEA-4C4C-9940-A2ACC550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A53D0-8F9D-461C-AEF4-747121D6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D1B7-9BC2-4F12-BCD9-946C8EC7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A359E-A73B-45EA-964C-5DB740C1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00642-0453-47B8-90DE-34204AA7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50963-499E-41DB-9D36-52458BC0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AC5A0-EE12-481D-8C53-D2A8EB68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5E0C1-5BA4-4C1A-B300-B017971B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047B8-2749-4F5A-A4A0-0AE41263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4BBC2-7F3F-4E86-8B5E-737416E6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FE72-7945-402F-BB8D-F97C7C55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A651-968A-48B4-B18E-1393DC3E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1619-0B8F-43BE-B38D-3E4F921E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2BC6-66FD-4E91-9CDE-00A453AA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3F74-6D6B-45D1-9891-179A8E6B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BE7B-90E9-473A-B104-B1714D58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1EB6-B9C3-48A5-A5CF-99D4949E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F9D4-BB9F-40B0-A32B-1AE32FDC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C6DB-7E34-4504-973C-E63F879C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46CE-D5E4-436F-9C8A-A61AF566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E8E14-F4AB-4AA6-8CDF-6A9BDA9E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35488-7AF4-4A5D-853B-A9655FDD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A0577-8BD4-493D-84BA-800658EB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7ED26-C8F4-4D85-8070-6293D5FB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3A4C4-DC7B-4511-917C-489867E1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2FD-4D08-4836-963F-98373F64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FFF7-71D9-48FD-8DDB-4FBBC524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0D0A9-6424-4710-9CB0-96C1273E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70EED-324A-42A9-9899-7EF3DEBD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E99D-EB25-4229-903A-EAD57CE5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A7081-D81F-48A7-947C-323E3014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036E8-5852-4109-A0F4-D86854E1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2CB87-6300-42F1-BB69-A56ADE10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2330F-E4CF-4EC0-8D93-4716AB50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96F4F-7BA3-4E37-A0BF-C5D836BD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2EC94-2470-4A34-ADF3-152CF046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B66-87CE-48E8-A8AB-5C257103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E7D0B-5550-4BC0-AB5D-B3F778F6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079C2-357C-40FF-98FF-19C4DFE9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DA289-4566-43D7-9204-0380A389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4052F-244D-4366-B8B9-99C1C539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F99E2-F1BF-48CA-96B2-362F1096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76A67-A2E0-4B34-B125-B1DA9C3B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49CDC-0023-4F2F-ADAA-34527AB6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656DD-DBA4-41FE-A0AD-47DD726E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65649-1207-4979-AFF1-A80FD257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8B368-D201-4276-A23D-4439AF53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44A-7C6C-4994-9FB2-1BC4A6D8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779B9-0BBC-4E13-A5C2-3EC2F546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9EB4C-9626-4425-8638-00D39B42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EEC74-3EF8-4585-81D8-84F065A2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C89F5-7660-4524-AE1F-506E2441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EE354-77AA-4744-BA71-A02C065E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FCB4D-FDA9-40F0-B5E5-6D063D6D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06626-F6D5-4662-BD88-64589257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828F1-4118-4759-A1E7-35405FD3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F126A-1D03-420B-839F-EADB2AC9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58993-7B1A-4ED4-922F-23FCA698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A6E-E88C-42E3-AA4D-CB124B87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7F292-F444-48C4-96ED-94097CEA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0FBCB-7F10-4113-ADF0-F6F0EECE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25C18-F040-497F-B82D-970B3D70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0D9B0-2560-444A-9E2D-4A785574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169AE-6B8A-4C3D-B7CD-4D8A376F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6A808-25D1-4AEF-B061-15EDD47E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323E9-DA97-490E-8175-7DF62D18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471FB-A2FD-4021-889C-212E9E17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BF5BB-535F-48C0-8825-37B13E9D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F2838-01DE-4B43-9C4D-5DEDBFEA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D8B-3858-4E4E-A935-345326EA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6878A-DB3A-426D-8C9C-EF3E4125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26C86-816A-408C-BEC9-D1DD8C06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24C36-D33F-4159-8450-8A04D8C9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01A42-1664-41E8-96B5-55AA0611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651F3-1426-4536-8A98-98435604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9BB22-9009-4697-9220-BF275553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1056D-E19B-4D40-9DD2-259617DE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8BB8B-FF76-4CBB-8793-43456100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3C99C-44E6-4F65-AEE7-1B653175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B194F-6ADE-4F04-8C7A-2753C273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FBC-4658-4616-B9DC-8D0996ED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ACFD9-708A-4E33-B446-07B985AC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712D9-C9DD-4FF7-A7FF-9655AF0F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157AB-A6A6-44AD-B792-5577FE55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2CE62-CFF5-4629-B583-275B9007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583EC-582B-417A-AB2B-1FB622DC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038AF-16A3-4C65-A317-82291AAE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560CB-61FF-4A9D-BC1B-9FB377DA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FB93D-0A40-4ABA-905F-B3073DB4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DA9DE-CD37-49A6-A632-EB13AC96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057D4-8A4E-41FA-B7E3-9FCE6698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982-49A3-444B-A3C5-1BF40A8E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25B94-CA36-4E96-9D4F-CE43A7E9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A5358-93B9-4241-9304-522211B4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D6878-EFF7-4626-9E12-D91AB08F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81F18-1E78-430D-A067-C47A8AAE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72379-7E44-4087-A9D0-B7AA5C60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AAFD8-E037-48D9-B952-D9DDD5E0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A0A83-D28E-4E75-9D83-C48F65AB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A8C97-F75B-4BA9-A360-E7D00463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5DEF3-3E21-42BA-A0FB-8B60DE05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FDACB-54EB-405E-A3A6-86AEA3B4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B39C-6B86-4D44-9A7A-FF09BDAEBC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B226-44E2-45C9-BCE7-BA75F612EF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08F0-8347-475E-9451-6D8C5B169D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9401-D9CF-4635-B657-669A249CE3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C208-77CE-4570-B08E-A3DC2E76B5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6EF4-742E-499A-AFC0-8A274AFDBC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C48C-F468-438A-A3ED-F62590DCDA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5661-A3B9-49BD-B92C-D1FA190FF3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9E57-29EF-4FCA-89FD-546C64BC69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86A9-4D5E-4729-81FC-874BE557BE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E4E6-A300-4D56-ACDB-3769260F24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B47E-B0A9-4FC4-8A69-88CBA69EAE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55C0-D38A-4613-829C-E7F0577443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457200" y="228600"/>
            <a:ext cx="8305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95480" y="1981080"/>
            <a:ext cx="350532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комендации родителям  по раннему выявлению вредных привычек у подростков.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Важнейшая задача родителей - это постоянный контроль за состоянием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Необходимо обязательно обращать внимание на то, в каком состоянии он пришел домой, сравнивая с состоянием, в котором он вышел из дома. Это позволяет вовремя выявить случаи, когда ребенок впервые закурил, принял алкоголь или нарко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9"/>
          <p:cNvSpPr/>
          <p:nvPr/>
        </p:nvSpPr>
        <p:spPr>
          <a:xfrm>
            <a:off x="1371600" y="667800"/>
            <a:ext cx="66294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редные привычк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вязчивые действия, которые отрицательно сказываются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ведении ребенка, его физическом и психическом развитии. Говоря о вредных привычках у детей, взрослые в первую очередь имеют в виду курение, алкоголь. Однако ими круг вредных привычек не исчерпывается. В поведении некоторых детей встречаются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навязчивые действ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, которые ребенок осуществляет неосознанно,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"по привычк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", и которые производят довольно неприятное внешнее впечатление. Это привычк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ребить волосы или мочку уха, сутулиться, шаркать ногами при ходьбе, ерзать на стуле, слишком жестикулировать, хватать собеседника за рукав или за пуговицу, поминутно отплевываться, ковырять в носу, употреблять слова-паразиты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{"ну", "вот", "значит", "короче"}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се они могут наблюдаться у одного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5"/>
          <p:cNvSpPr/>
          <p:nvPr/>
        </p:nvSpPr>
        <p:spPr>
          <a:xfrm>
            <a:off x="609480" y="13284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ричина их возникновения проста - недостаточное внимание со стороны родителей к поведению ребенка, и для устранения этих привычек, нужно увлекать ребенка интересными занятиями, общаться с ним, помогать ему изжить те глубинные внутренние переживания, которые породили неприят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Борьба с вредной привычкой – это всегда борьба с тревожностью, неуверенностью, пессимиз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457200" y="336744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Предупреждение таких привычек не требует особых психологических рекоменд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ецепт здесь один - привитие ребенку полезных навыков: опрятности, аккуратности, организованности, соблюдения элементарных правил этикета.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8" descr="baby"/>
          <p:cNvPicPr/>
          <p:nvPr/>
        </p:nvPicPr>
        <p:blipFill>
          <a:blip r:embed="rId1"/>
          <a:stretch/>
        </p:blipFill>
        <p:spPr>
          <a:xfrm>
            <a:off x="3886200" y="5562720"/>
            <a:ext cx="1676520" cy="1143000"/>
          </a:xfrm>
          <a:prstGeom prst="rect">
            <a:avLst/>
          </a:prstGeom>
          <a:ln w="0">
            <a:noFill/>
          </a:ln>
        </p:spPr>
      </p:pic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4"/>
          <p:cNvSpPr/>
          <p:nvPr/>
        </p:nvSpPr>
        <p:spPr>
          <a:xfrm>
            <a:off x="533520" y="4572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реди вредных привычек особую озабоченность родителей вызывает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курение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 получившее в последние годы широкое распространение среди школьников. Курение - одна из многих проблем подросткового воз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609480" y="238428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Школьные годы - это годы роста как физического, псих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" descr="deva"/>
          <p:cNvPicPr/>
          <p:nvPr/>
        </p:nvPicPr>
        <p:blipFill>
          <a:blip r:embed="rId1"/>
          <a:stretch/>
        </p:blipFill>
        <p:spPr>
          <a:xfrm>
            <a:off x="4114800" y="5181480"/>
            <a:ext cx="1143000" cy="167652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cc66"/>
                </a:solidFill>
                <a:latin typeface="Arial"/>
              </a:rPr>
              <a:t>По статистике…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просы, проведенные НИИ гигиены детей и подростков показали, что пик интереса у детей  к курению отмечается в 9 и в 12-13 лет. Тогда они только проб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 15 годам курят 24% подрос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7" descr="j0301252"/>
          <p:cNvPicPr/>
          <p:nvPr/>
        </p:nvPicPr>
        <p:blipFill>
          <a:blip r:embed="rId1"/>
          <a:stretch/>
        </p:blipFill>
        <p:spPr>
          <a:xfrm>
            <a:off x="45720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Результаты теста </a:t>
            </a:r>
            <a:br>
              <a:rPr sz="3400"/>
            </a:b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«Твой отношение к курению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37% - у этих детей нет предрасположенности к курению, сам процесс курения они не одобря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34% - эти дети не выработали собственного отношения к курению, могут приобщиться к нему при случае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9% - подростки хорошо относятся к курению, уже и приобщились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Курение и школьник - несовмести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подростков, в первую очередь, сказывается на нервной и сердечной - сосудистой системах. В 12-15 лет они уже жалуются на отдышку при физической нагрузке. В результате многолетних наблюдений французский доктор еще 100 лет назад пришел к убеждению, что даже незначительное курение вызывает у детей малокровие, расстройство пищева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отрицательно влияет на успеваемость школьника. Число неуспевающих возрастает в тех классах, где больше курящ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ачальные классы:</a:t>
            </a:r>
            <a:br>
              <a:rPr sz="24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седы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по правилам личной гигиены;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уроки «Мойдодыра»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лекции: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Курение и алкоголь вредит нашему здоровью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Наш внешний вид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Чистые руки – залог здоровья»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лассные часы: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Твой режим дня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Что такое хорошо, что такое плохо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Почему нельзя давать друг другу клички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00ff"/>
                </a:solidFill>
                <a:latin typeface="Arial"/>
              </a:rPr>
              <a:t>Классные часы, беседы, тренинги, лекции на темы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Что заставляет подростков пробовать курит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Пьянство и алкоголиз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Твоё здоровье – богатство ст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Культура и правила повед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Умеем ли мы общаться»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8:38:0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