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09D7-BF45-49BB-B692-87E491A3A4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хорошие и плох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ь от невоздерж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ов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630A-51E4-4C1F-9A54-AD5E48F0DBA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, что рядом есть и Царство хороших привыче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6A37-B625-4665-ACA1-40E3CE61295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Путешествие в царство хороших привыче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B7D-4240-4965-B04E-0166758A06A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о ли говорить о наших привыч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ам было скучно? Интерес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онравилось? Что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5E2-ABEA-4AED-AADE-FCC284AE7D0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пагандировать здоровый образ жизн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негативное отношение к вредным привычкам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умение детей контролировать свои поступ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побуждать детей к   формированию у себя хороши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078-7D08-4EC2-A89A-1E14DBA4B7C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считаете, что такое привыч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бывают привыч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олезные привычки вы знае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ривычки вредны для челове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понимаете пословицу «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и от невоздержанност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546D-1688-4D65-9285-AD5D240B0DF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вредных привыч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хороши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96F-7B51-49CC-B3DE-6C18491FAB1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жете ли вы дать отпор вредным привычкам или устоять перед их натис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й вопрос надо дать ответ  «да» или  «н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262-13DE-43C5-8FC5-04AD74B2E52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бишь ли ты смотреть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телось ли тебе играть в компьютерные игры больше трех часов ежедневно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Хотелось ли тебе попробовать закурить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Можешь ли ты весь выходной просидеть перед телевизором, оставив все свои дел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Пробовал ли ты алкогольные напитки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9CB4-A396-4036-A275-A2666A17E6F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Любишь ли ты уроки физкультур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Если друзья предложили тебе сбежать с уроков, согласишься ли т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Умеешь ли ты не повторять свои ошиб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Если тебе прямо на улице незнакомый предложил коробку конфет, взял бы ты е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Друзья зову тебя в игровые автоматы, а ты еще не сделал уроки, сможешь отказа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CE9B-383D-456F-B0B6-928B4815BCA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олько раз вы ответили «да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E77B-C2D7-478E-BFC8-B20D5E8B9F4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A207-19CC-48CD-8796-4EEADCDAFF0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650-EEB4-4363-A428-4A7F50A5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EE6-7CCB-4F65-82FA-CEB37BB0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053-7337-4CB1-B602-FFE29972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42E-C688-4D4D-BE85-60CB428E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62EB-3E50-477D-87B5-B4A37339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6F52-850B-429D-9DB0-27ABC25C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53AD-5404-48FB-8687-E9F11D1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8F3E-4E4E-434B-878D-D7BC684A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7884-B62D-42FD-A2CE-10ED17B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B066-4A8E-49D0-B3EC-9E963C50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964-5C2A-4586-8E4D-D380F43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181-FD47-449F-B386-3504BB7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4C84-6AC3-471B-A002-F2D3B95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A3FF-07DA-4AB1-98F1-15766894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98B-3720-49DB-AE9A-4392E2F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856F-6DCD-453E-8D18-10BDF0D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4104-E79D-4AC9-9420-DF1E4900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1FF-1BF4-4596-98B3-E13AF313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DC1-30FF-4F52-9EB5-4E0E0420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E08-12D2-49E3-9946-3E2E5FE0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AAE-CFEB-4A32-B554-D3616511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C80-89DE-4474-9E8B-74DEFCA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4D3-DF3C-4B90-8E0F-E11DD61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81D-3056-4182-BE76-B1DEBAD3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43A1-88BF-490A-8167-B216FCE76B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FEC-98BE-4026-8237-EC70E78A6EC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 хорошие и плох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дность от лени, а болезнь от невоздержан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рошо, что рядом есть и Царство хороших привычек.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«Путешествие в царство хороших привычек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18"/>
          <p:cNvGrpSpPr/>
          <p:nvPr/>
        </p:nvGrpSpPr>
        <p:grpSpPr>
          <a:xfrm>
            <a:off x="250920" y="404640"/>
            <a:ext cx="7344720" cy="6192000"/>
            <a:chOff x="250920" y="404640"/>
            <a:chExt cx="7344720" cy="6192000"/>
          </a:xfrm>
        </p:grpSpPr>
        <p:cxnSp>
          <p:nvCxnSpPr>
            <p:cNvPr id="228" name="_s1028"/>
            <p:cNvCxnSpPr>
              <a:stCxn id="229" idx="1"/>
              <a:endCxn id="230" idx="2"/>
            </p:cNvCxnSpPr>
            <p:nvPr/>
          </p:nvCxnSpPr>
          <p:spPr>
            <a:xfrm rot="10800000">
              <a:off x="3922560" y="152964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1" name="_s1029"/>
            <p:cNvCxnSpPr>
              <a:stCxn id="232" idx="3"/>
              <a:endCxn id="230" idx="2"/>
            </p:cNvCxnSpPr>
            <p:nvPr/>
          </p:nvCxnSpPr>
          <p:spPr>
            <a:xfrm flipV="1">
              <a:off x="3398400" y="153000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3" name="_s1030"/>
            <p:cNvCxnSpPr>
              <a:stCxn id="234" idx="1"/>
              <a:endCxn id="230" idx="2"/>
            </p:cNvCxnSpPr>
            <p:nvPr/>
          </p:nvCxnSpPr>
          <p:spPr>
            <a:xfrm rot="10800000">
              <a:off x="3922560" y="152964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5" name="_s1031"/>
            <p:cNvCxnSpPr>
              <a:stCxn id="236" idx="3"/>
              <a:endCxn id="230" idx="2"/>
            </p:cNvCxnSpPr>
            <p:nvPr/>
          </p:nvCxnSpPr>
          <p:spPr>
            <a:xfrm flipV="1">
              <a:off x="3398400" y="153000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7" name="_s1032"/>
            <p:cNvCxnSpPr>
              <a:stCxn id="238" idx="1"/>
              <a:endCxn id="230" idx="2"/>
            </p:cNvCxnSpPr>
            <p:nvPr/>
          </p:nvCxnSpPr>
          <p:spPr>
            <a:xfrm rot="10800000">
              <a:off x="392256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9" name="_s1033"/>
            <p:cNvCxnSpPr>
              <a:stCxn id="240" idx="3"/>
              <a:endCxn id="230" idx="2"/>
            </p:cNvCxnSpPr>
            <p:nvPr/>
          </p:nvCxnSpPr>
          <p:spPr>
            <a:xfrm flipV="1">
              <a:off x="339840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30" name="_s1034"/>
            <p:cNvSpPr/>
            <p:nvPr/>
          </p:nvSpPr>
          <p:spPr>
            <a:xfrm>
              <a:off x="2349360" y="40464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c893e"/>
                  </a:solidFill>
                  <a:latin typeface="Arial"/>
                </a:rPr>
                <a:t>Задания для групп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5092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труда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дороги, мосты, одежд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божают трудится, не сидят без дел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аходят рукам  занятие, город мастеров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, шьют, строят, пекут, Лечат .вяжут. вышиваю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36"/>
            <p:cNvSpPr/>
            <p:nvPr/>
          </p:nvSpPr>
          <p:spPr>
            <a:xfrm>
              <a:off x="444780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музыки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заниматься музыкой, скрипка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барабан, балет, хор, чудесная музыка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жизнь станет богаче, станет знамениты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25092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f1311"/>
                  </a:solidFill>
                  <a:latin typeface="Arial"/>
                </a:rPr>
                <a:t>Город спорта</a:t>
              </a: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: не может без движения, стадио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портивные площадки, велосипеды, роликовые коньк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кейдборды, утренняя зарядка,обливаться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забывать про болезни. физкультура и спор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дарят здоровье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38"/>
            <p:cNvSpPr/>
            <p:nvPr/>
          </p:nvSpPr>
          <p:spPr>
            <a:xfrm>
              <a:off x="444780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природ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утопает в зелени, цветы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фонтаны, птица, зайцы, белки, олен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воздух чист и свеж, общаться с природ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глоток свежего воздуха, пение птиц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шум листвы, плеск речной вол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арит радость, счастье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ушевную гармонию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_s1039"/>
            <p:cNvSpPr/>
            <p:nvPr/>
          </p:nvSpPr>
          <p:spPr>
            <a:xfrm>
              <a:off x="250920" y="547092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книг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привык читать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е представляет себе жизнь без книг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тихо, уютно сказки, стихи, детективы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романы, новости политики, бизнеса, спор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ожно поговорить обо всем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интересный человек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040"/>
            <p:cNvSpPr/>
            <p:nvPr/>
          </p:nvSpPr>
          <p:spPr>
            <a:xfrm>
              <a:off x="4447800" y="5470920"/>
              <a:ext cx="31442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гигиен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ослепительная чисто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прятные, аккуратные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выкли следить за соб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чески, одежда, никто не болеет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ыть руки, мыть овощи, и фрукт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слепительные улыбки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следить за зубами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41" name="Ink 34" descr=""/>
          <p:cNvPicPr/>
          <p:nvPr/>
        </p:nvPicPr>
        <p:blipFill>
          <a:blip r:embed="rId1"/>
          <a:stretch/>
        </p:blipFill>
        <p:spPr>
          <a:xfrm>
            <a:off x="1243080" y="6294600"/>
            <a:ext cx="156960" cy="15696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вы считаете, нужно ли говорить о наших привычка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вам было скучно? Интересн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понравилось? Что н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47684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 пропагандировать здоровый образ жизн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негативное отношение к вредным привычкам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умение детей контролировать свои поступк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побуждать детей к   формированию у себя хороших привыч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считаете, что такое привыч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бывают привычки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олезные привычки вы знаете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ривычки вредны для челове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понимаете пословицу «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едность от лени, а болезни от невоздержанности»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вредных привычек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кот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за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хороши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иги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7760" y="620640"/>
            <a:ext cx="811188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ожете ли вы дать отпор вредным привычкам или устоять перед их натиском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3933720"/>
            <a:ext cx="835344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ке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каждый вопрос надо дать ответ  «да» или  «нет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716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.Любишь ли ты смотреть телевизор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2.Хотелось ли тебе играть в компьютерные игры больше трех часов ежедневно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3.Хотелось ли тебе попробовать закурить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4.Можешь ли ты весь выходной просидеть перед телевизором, оставив все свои дела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5.Пробовал ли ты алкогольные напитки?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6.Любишь ли ты уроки физкультур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7.Если друзья предложили тебе сбежать с уроков, согласишься ли т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8.Умеешь ли ты не повторять свои ошибки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9.Если тебе прямо на улице незнакомый предложил коробку конфет, взял бы ты ее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10.Друзья зову тебя в игровые автоматы, а ты еще не сделал уроки, сможешь отказать?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674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олько раз вы ответили «да»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9:48:19Z</dcterms:created>
  <dc:creator>Серёжа</dc:creator>
  <dc:description/>
  <dc:language>en-US</dc:language>
  <cp:lastModifiedBy>LEGION</cp:lastModifiedBy>
  <dcterms:modified xsi:type="dcterms:W3CDTF">2015-05-12T08:38:32Z</dcterms:modified>
  <cp:revision>6</cp:revision>
  <dc:subject/>
  <dc:title>Привычки хорошие и плохие</dc:title>
</cp:coreProperties>
</file>