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2C44-E2B0-4617-8383-DA318B5329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0532-8EE9-437E-93A7-2AB018A8D3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1400"/>
            </a:b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9246-1EE2-4AB8-A691-6893E35C4B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4966-FAE9-4804-9A06-62444204EA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7167-E438-4C08-8649-29EDF188B4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1834-02AF-47B1-B7C6-473CCD0289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CBD4-08FE-4863-B1F3-979722AF32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BE87-E7D1-4F57-A21C-7E05FE4D58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C4F5-EC50-494C-826E-D4AC2CB5D0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B97A-A127-4015-A30F-C95822E22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AB82-E98B-45DA-8BEF-0400A7AD96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86D7-CB5B-4A7E-BEB8-AACDDE3D8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BBC9-838A-40B1-8D2E-DCB6AE4ED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A89F-8FF3-4D4E-A8E6-1FAABEAF2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EBBA-695F-4F94-810A-FA24671E79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A1A4-B356-4D27-90DA-8DFBE69B35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6354-A9E3-47EE-AC4C-B2A78EAECA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AD3E-DD7A-49BD-89F8-74FD5A80E0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A12D-8CF9-43DF-8DFC-57383A8C6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71E2-71FF-4656-93C2-88FFCCE34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7007-4EDA-4BD1-B234-CB409CD2C5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735E-A1F2-4D8F-A6A8-35330EFCA8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377A-840A-4B75-B405-C77DE0B835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B911-5BB1-4426-B582-4686E6AC32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9D83-71D2-4F2D-9D0E-7C772149A6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872-295F-4A69-98DB-9F8AAB8D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0F6-36AA-47C6-98DA-6CC7EA5D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182-C2F2-4BC4-925E-42AC8DCD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7C8-C66C-492F-9196-AD7B5BEF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175-96E1-4698-8860-3ECDB36B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35B-6647-4FCF-B173-4E9AAA98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C54-FE25-4F9F-945D-97354E41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5AF-FE2F-4863-B6EC-47B35113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B2D-4114-46C9-B826-377960E6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A1B-FA6B-4620-8F4D-F62D2324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7DE-FE11-41F9-B8F7-3BE50C16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76A-68B3-47C9-8B37-0E1BC90B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D195-311B-4E78-9F53-36429E559A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2142720"/>
            <a:ext cx="8561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40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 rot="10800000">
            <a:off x="2050920" y="1581840"/>
            <a:ext cx="701856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4320" y="4678200"/>
            <a:ext cx="19256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feuerbach (1)"/>
          <p:cNvPicPr/>
          <p:nvPr/>
        </p:nvPicPr>
        <p:blipFill>
          <a:blip r:embed="rId1"/>
          <a:stretch/>
        </p:blipFill>
        <p:spPr>
          <a:xfrm>
            <a:off x="250920" y="1690560"/>
            <a:ext cx="2187360" cy="251784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8948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ономическо-философские рукописи 1844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ятое семей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иде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-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щет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нифест Коммунистической парт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политической эконом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сл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marx (3)"/>
          <p:cNvPicPr/>
          <p:nvPr/>
        </p:nvPicPr>
        <p:blipFill>
          <a:blip r:embed="rId1"/>
          <a:stretch/>
        </p:blipFill>
        <p:spPr>
          <a:xfrm>
            <a:off x="466560" y="1798560"/>
            <a:ext cx="364176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2" name="Text Box 5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330200" y="1978200"/>
            <a:ext cx="6478560" cy="34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чужд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ntfremdung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г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франц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lienatio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-социологическая категория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ражающая объективное превращ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и человека и её результат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амостоятельную силу, господствующую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д ним самим и враждебную е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связанное с эт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вращение человека из активного субъек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ъект обществен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2863800" y="5127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784520" y="3832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70488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58920" y="16192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в опредмечивании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осто обретение трудом предмет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ществования, а превра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меченного труда в противостоящу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аждебную рабочему с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1438200" y="2914560"/>
            <a:ext cx="514692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отчуждение в процессе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труда из специф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(сущностной)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что навязанное извне, сре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животны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2517840" y="421020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родовой жизни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социального (в том чис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образованной трудом приро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уждую силу, служащую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ством индивидуального выж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3598920" y="55054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человека от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нтагонизация человеческих отнош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званная присвоением продукта тру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человеком (не рабочим)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ением ему самого процесса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4"/>
          <p:cNvSpPr/>
          <p:nvPr/>
        </p:nvSpPr>
        <p:spPr>
          <a:xfrm>
            <a:off x="6655680" y="1762200"/>
            <a:ext cx="212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Четыре уровн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173480" y="5354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09420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014560" y="3338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34920" y="233208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31640" y="1654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уд непосредственно ра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реб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ещё объедине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1511280" y="2662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овая торгов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отчаст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чником дох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590920" y="3670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деление труда и деньг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целиком превращ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руд ради зарабо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670200" y="4678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арный труд и р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выступают ещ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пецифических форм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749840" y="568476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ый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рает всякую природную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ую определ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937120" y="1654200"/>
            <a:ext cx="27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Этапы развити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ённого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 rot="10800000">
            <a:off x="179280" y="1869480"/>
            <a:ext cx="647856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ркс положил конец воззрен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, как на механический агрег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ов, допускающий вся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менения по воле начальства (или,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, по воле общества и правительства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ющий и изменяющийся случай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первые поставил социолог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ую почву, установив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о-экономической форм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вокупности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ственных отношений, установи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развитие таких формаций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-исторический процесс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385680" y="4678200"/>
            <a:ext cx="261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И. Ле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о тако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од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 о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юют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-демократ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Ленин (2)"/>
          <p:cNvPicPr/>
          <p:nvPr/>
        </p:nvPicPr>
        <p:blipFill>
          <a:blip r:embed="rId1"/>
          <a:stretch/>
        </p:blipFill>
        <p:spPr>
          <a:xfrm>
            <a:off x="6656400" y="1978200"/>
            <a:ext cx="1914480" cy="2438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6"/>
          <p:cNvSpPr/>
          <p:nvPr/>
        </p:nvSpPr>
        <p:spPr>
          <a:xfrm>
            <a:off x="2841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0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1187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93492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259092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3417840" y="568476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10800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176220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5"/>
          <p:cNvSpPr/>
          <p:nvPr/>
        </p:nvSpPr>
        <p:spPr>
          <a:xfrm>
            <a:off x="5900760" y="1366920"/>
            <a:ext cx="3130560" cy="190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) объективная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енная, необходим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ойчивая связ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) 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878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205092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222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95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97164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рассматривать как объекти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ное без того, чтобы отриц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этом свободу индивидуальной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62584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3454560" y="568476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14292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179856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5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труктуру общества, реальный базис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и политическая надстройка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Oval 5"/>
          <p:cNvSpPr/>
          <p:nvPr/>
        </p:nvSpPr>
        <p:spPr>
          <a:xfrm>
            <a:off x="7305840" y="3814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585400" y="3922560"/>
            <a:ext cx="1684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вигс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7016760" y="3562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13240" y="3346560"/>
            <a:ext cx="741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9"/>
          <p:cNvSpPr/>
          <p:nvPr/>
        </p:nvSpPr>
        <p:spPr>
          <a:xfrm>
            <a:off x="7701120" y="33465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12320" y="2932200"/>
            <a:ext cx="136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йз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593120" y="363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744320" y="3471840"/>
            <a:ext cx="135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х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7737480" y="38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7456320" y="4030560"/>
            <a:ext cx="1241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ндсх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6332400" y="3057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657040" y="262584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7760" y="1815840"/>
            <a:ext cx="38145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 сами делают свою истор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её дела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ак, как 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здумаетс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 обстоятельств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не сами они выбра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оторые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ся налицо, даны и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шли от прошл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833440" y="5037120"/>
            <a:ext cx="319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осемнадцатое брюме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и Бонапар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можно отличать от живо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ознанию, по религии – вооб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чему угодно. Сами они начин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себя от животных, как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инаю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оиз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обходи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средства к жизни, – шаг, котор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 их телесной организаци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 необходимые им сред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жизни, люди косвен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т и само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ую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120360" y="521820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 и Ф. Энгель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мецкая иде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 – 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,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материальных 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уктуру общества, реальн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зи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литиче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дстройк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 rot="10800000">
            <a:off x="17928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известной ступени своего разви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е сил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а приходят в противоречие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ими производ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м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– что являе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юридическим выражением последни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тношениями собственности, внутр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они до сих пор развивались.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 развития производительных сил э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превращаются в их оковы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г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упает эпоха социальной революц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изменением экономической осно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или менее быстро проис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ворот во всей громадной надстройк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5760" y="1420560"/>
            <a:ext cx="880596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6560" y="2878200"/>
            <a:ext cx="4462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. Штра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Иисуса, критически переработанна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5-18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рая и новая вер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72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Б. Бауэ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истории Откров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евангельской истории синопт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41-18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trauss (1)"/>
          <p:cNvPicPr/>
          <p:nvPr/>
        </p:nvPicPr>
        <p:blipFill>
          <a:blip r:embed="rId1"/>
          <a:stretch/>
        </p:blipFill>
        <p:spPr>
          <a:xfrm>
            <a:off x="5289480" y="1978200"/>
            <a:ext cx="2309760" cy="216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6" name="Picture 9" descr="bruno4"/>
          <p:cNvPicPr/>
          <p:nvPr/>
        </p:nvPicPr>
        <p:blipFill>
          <a:blip r:embed="rId2"/>
          <a:stretch/>
        </p:blipFill>
        <p:spPr>
          <a:xfrm>
            <a:off x="6764400" y="4354560"/>
            <a:ext cx="20588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 rot="10800000">
            <a:off x="2230560" y="1690200"/>
            <a:ext cx="6837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гель вынужден был строить систему, 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ая система, по установившему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у, должна была заверш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й истиной того или иного ро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т же Гегель, который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дчёркив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а вечная истина есть не что иное,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 логический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p.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ий) процесс,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идит себя вынужденным полож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этому процессу, так как надо ж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му на чём-то закончить свою систем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именно, нужно было так представить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истории: человечество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ю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олютной иде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вляет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о познание абсолют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нуто в гегелевской философ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ое в целом, учение Гегеля оставляло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рокий простор для самых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ктических партийных воззр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, придававший главное значение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егеля, мог быть дово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сервативным в каждой из этих областей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религии и политик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Тот же, кто глав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л диалектический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т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г и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лигии и в политике принадлежать к са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айней оппозиции. Сам Гегель, несмотр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довольно частые в его сочинениях взры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ого гнева, в общем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ялся больше к консервативной стороне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нцу тридцатых годов раскол в его шко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ился всё боле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ее заметным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а велась ещё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им оружие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не ради абстрактно-философских ц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й толчок дала книга Штрауса «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исуса», вышедшая в 1835 году. Проти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ложенной в этой книге теории возникнов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мифов выступил позд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уно Бауэр, доказывавший, что цел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рассказов сфабрикован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вторами евангелий. Спор между Штраус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ауэром вёлся под видом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ы между «самосознанием»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станцией». Вопрос о том, возникли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е рассказы о чудесах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ознательного, основанного на тради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ния мифов в недрах общины или ж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сфабрикованы самими евангелистами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росся до вопроса о том, что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ой действующей силой во всеми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и: «субстанция» или «самосознани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102200" y="2770200"/>
            <a:ext cx="49305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философии Гегеля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христиан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положения философии будуще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прос о бессмертии с точки зрения антроп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пиритуализме и материализме, в особенности в их отношении к свободе во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демон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feuerbach (1)"/>
          <p:cNvPicPr/>
          <p:nvPr/>
        </p:nvPicPr>
        <p:blipFill>
          <a:blip r:embed="rId1"/>
          <a:stretch/>
        </p:blipFill>
        <p:spPr>
          <a:xfrm>
            <a:off x="466560" y="1798560"/>
            <a:ext cx="33181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28:21Z</dcterms:created>
  <dc:creator>Николай Бирюков / Nikolai Biryukov</dc:creator>
  <dc:description>Редакция мая 2008 г.</dc:description>
  <dc:language>en-US</dc:language>
  <cp:lastModifiedBy>LEGION</cp:lastModifiedBy>
  <dcterms:modified xsi:type="dcterms:W3CDTF">2014-11-11T09:59:12Z</dcterms:modified>
  <cp:revision>147</cp:revision>
  <dc:subject>Основы философии - Тема 16</dc:subject>
  <dc:title>Фейербах и Маркс: конец классической немецкой философии</dc:title>
</cp:coreProperties>
</file>