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B160-BDFE-4655-8C7A-B3C7F84A6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0457-9223-479F-90BC-1F22311E7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1400"/>
            </a:b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9921-96D8-40E9-8262-B3726A3EA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63EB-5EC7-4B85-970B-3D7A763B39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FBAB-19FF-4BC1-8594-ACE46FCFF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FDDB-EE10-4806-9C1C-C4E5D3FBA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9F1D-8687-4DCE-A025-34626968D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C631-3F6F-43A9-9D7F-E62D93633F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5760-72A1-45B2-AA15-42C8BE69E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B204-B61D-47D1-BCA9-689EE85918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F0B6-0EF7-4FBD-9A07-76635E9FC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158-C49E-4634-98CD-20AD4C7C5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B4B7-2BDF-4E48-B18B-9DFF76627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27B4-A688-469A-A257-1A33C41368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5A0E-BFFB-4076-A6AD-64C6DA94E9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8C38-B0CC-4B08-A231-2D5055DEC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1F15-9984-4F64-BD21-88E5ABE7D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55BF-BACD-421E-88F6-EBC721ADC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7801-97D1-4195-B402-78A6FBB995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6973-3830-4D05-A189-82FACE57BA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5259-9B40-4E97-9B24-C3682A54BD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ED15-E56C-4DB0-8E1C-A03B1D765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ACA1-7A2C-420E-9EC9-499F0F201D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4292-DC0F-4AEB-8CBA-CAD010819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F59D-290F-401C-9F0D-17EE987FB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E48-AD75-4B64-9947-6F49F8F4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926-8F65-4557-9974-6CC5A02F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600-F537-499F-B718-0DEC6CD8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960-E3C2-4943-BC73-54991B36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D07-F462-492B-955B-4CE5995A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BB4-1515-455D-B21A-91B473E9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C67-C589-41BF-84E9-C4BFFAFA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DF3-DA77-44FE-B335-1A37DA7D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718-97B6-4731-93F8-36B6F01B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C22-7343-43A9-A2B4-549CF207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596-AA37-4926-874F-F8F6DFE5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22E-19D4-4257-9A23-B94DAFF6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6B71-7B99-4539-8F06-B4D41FDA8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2142720"/>
            <a:ext cx="8561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40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0800000">
            <a:off x="2050920" y="1581840"/>
            <a:ext cx="701856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4320" y="4678200"/>
            <a:ext cx="1925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feuerbach (1)"/>
          <p:cNvPicPr/>
          <p:nvPr/>
        </p:nvPicPr>
        <p:blipFill>
          <a:blip r:embed="rId1"/>
          <a:stretch/>
        </p:blipFill>
        <p:spPr>
          <a:xfrm>
            <a:off x="250920" y="1690560"/>
            <a:ext cx="21873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8948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ономическо-философские рукописи 1844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ятое семей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иде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-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щет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нифест Коммунистической парт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политической эконом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сл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marx (3)"/>
          <p:cNvPicPr/>
          <p:nvPr/>
        </p:nvPicPr>
        <p:blipFill>
          <a:blip r:embed="rId1"/>
          <a:stretch/>
        </p:blipFill>
        <p:spPr>
          <a:xfrm>
            <a:off x="466560" y="1798560"/>
            <a:ext cx="364176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330200" y="1978200"/>
            <a:ext cx="6478560" cy="34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чужд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tfremdun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г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ранц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lienatio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-социологическая категория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ражающая объективное превращ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человека и её результа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амостоятельную силу, господствующую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 ним самим и враждебную е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вязанное с эт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вращение человека из активного субъек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ъект обществен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2863800" y="5127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784520" y="3832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0488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58920" y="16192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в опредмечивании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осто обретение трудом предмет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ществования, а превра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меченного труда в противостоящу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аждебную рабочему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38200" y="2914560"/>
            <a:ext cx="514692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отчуждение в процессе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труда из специф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(сущностной)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что навязанное извне, сре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животны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2517840" y="421020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родовой жизни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социального (в том чис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образованной трудом приро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уждую силу, служащую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ством индивидуального вы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598920" y="55054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человека от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тагонизация человеческих отнош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званная присвоением продукта тр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человеком (не рабочим)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ением ему самого процесса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6655680" y="1762200"/>
            <a:ext cx="21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тыре уровн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173480" y="5354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9420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014560" y="3338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34920" y="233208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31640" y="1654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уд непосредственно ра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ещё объедин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511280" y="2662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овая торгов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отчаст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чником дох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590920" y="3670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деление труда и деньг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целиком пре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руд ради за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670200" y="4678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арный труд и р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выступают ещ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пецифических форм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49840" y="568476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ый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рает всякую природную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ую определ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937120" y="1654200"/>
            <a:ext cx="27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ы развити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ённог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 rot="10800000">
            <a:off x="179280" y="1869480"/>
            <a:ext cx="647856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кс положил конец воззрен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, как на механический агрег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ов, допускающий вся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менения по воле начальства (или,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, по воле общества и правительства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ющий и изменяющийся случай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первые поставил социолог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ую почву, установив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о-экономической форм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вокупности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ственных отношений, установи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развитие таких формаций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-исторический процесс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385680" y="4678200"/>
            <a:ext cx="261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И. Ле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о тако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 о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юют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-демократ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Ленин (2)"/>
          <p:cNvPicPr/>
          <p:nvPr/>
        </p:nvPicPr>
        <p:blipFill>
          <a:blip r:embed="rId1"/>
          <a:stretch/>
        </p:blipFill>
        <p:spPr>
          <a:xfrm>
            <a:off x="6656400" y="1978200"/>
            <a:ext cx="1914480" cy="2438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6"/>
          <p:cNvSpPr/>
          <p:nvPr/>
        </p:nvSpPr>
        <p:spPr>
          <a:xfrm>
            <a:off x="2841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0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187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3492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59092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3417840" y="568476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10800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176220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5"/>
          <p:cNvSpPr/>
          <p:nvPr/>
        </p:nvSpPr>
        <p:spPr>
          <a:xfrm>
            <a:off x="5900760" y="1366920"/>
            <a:ext cx="3130560" cy="19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) объективная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енная, необходим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ойчивая связ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) 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878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05092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222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5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97164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рассматривать как объекти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ное без того, чтобы отриц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этом свободу индивидуальной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62584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454560" y="568476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4292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179856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труктуру общества, реальный базис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и политическая надстройка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Oval 5"/>
          <p:cNvSpPr/>
          <p:nvPr/>
        </p:nvSpPr>
        <p:spPr>
          <a:xfrm>
            <a:off x="7305840" y="3814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585400" y="3922560"/>
            <a:ext cx="1684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вигс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7016760" y="3562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13240" y="3346560"/>
            <a:ext cx="741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7701120" y="33465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12320" y="2932200"/>
            <a:ext cx="136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йз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593120" y="363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744320" y="3471840"/>
            <a:ext cx="135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х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7737480" y="38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456320" y="4030560"/>
            <a:ext cx="1241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ндсх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6332400" y="3057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657040" y="262584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815840"/>
            <a:ext cx="38145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 сами делают свою истор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её дел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ак, как 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здумаетс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 обстоятельств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не сами они выбра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оторые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ся налицо, даны и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шли от прошл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833440" y="50371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емнадцатое брюме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и Бонапар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можно отличать от живо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ознанию, по религии – вооб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чему угодно. Сами они начин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себя от животных, как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инаю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оиз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обходи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средства к жизни, – шаг,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 их телесной организаци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 необходимые им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жизни, люди косвен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т и само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ую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20360" y="521820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 и Ф. Энгель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мецкая иде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 – 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,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атериальных 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уктуру общества, реальн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зи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итиче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дстрой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rot="10800000">
            <a:off x="17928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известной ступени своего разви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е сил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а приходят в противоречие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ими производ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м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– что являе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юридическим выражением последни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тношениями собственности, внутр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они до сих пор развивались.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 развития производительных сил э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превращаются в их оковы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г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упает эпоха социальной революц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изменением экономической осно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или менее быстро проис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ворот во всей громадной надстрой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20560"/>
            <a:ext cx="8805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6560" y="2878200"/>
            <a:ext cx="4462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. Штра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Иисуса, критически переработанна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5-18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я и новая вер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72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Б. Бау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истории Откров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евангельской истории синопт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41-18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trauss (1)"/>
          <p:cNvPicPr/>
          <p:nvPr/>
        </p:nvPicPr>
        <p:blipFill>
          <a:blip r:embed="rId1"/>
          <a:stretch/>
        </p:blipFill>
        <p:spPr>
          <a:xfrm>
            <a:off x="5289480" y="1978200"/>
            <a:ext cx="2309760" cy="216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6" name="Picture 9" descr="bruno4"/>
          <p:cNvPicPr/>
          <p:nvPr/>
        </p:nvPicPr>
        <p:blipFill>
          <a:blip r:embed="rId2"/>
          <a:stretch/>
        </p:blipFill>
        <p:spPr>
          <a:xfrm>
            <a:off x="6764400" y="4354560"/>
            <a:ext cx="20588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 rot="10800000">
            <a:off x="2230560" y="1690200"/>
            <a:ext cx="6837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гель вынужден был строить систему, 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ая система, по установившему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у, должна была заверш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й истиной того или иного ро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т же Гегель, который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дчёркив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а вечная истина есть не что иное,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логический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.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ий) процесс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идит себя вынужденным полож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этому процессу, так как надо ж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му на чём-то закончить свою систем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именно, нужно было так представить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истории: человечество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олютной иде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вляет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о познание абсолют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нуто в гегелевской философ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ое в целом, учение Гегеля оставляло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рокий простор для самых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ктических партийных воззр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придававший главное значение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егеля, мог быть дово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сервативным в каждой из этих областей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елигии и политик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Тот же, кто глав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 диалектический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г и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и и в политике принадлежать к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йней оппозиции. Сам Гегель, несмотр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довольно частые в его сочинениях взры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ого гнева, в общем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ялся больше к консервативной стороне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нцу тридцатых годов раскол в его шко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ился всё боле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ее заметным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а велась ещё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им оружие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не ради абстрактно-философских ц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й толчок дала книга Штрауса «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исуса», вышедшая в 1835 году. Прот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ложенной в этой книге теории возникнов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мифов выступил поз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уно Бауэр, доказывавший, что цел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рассказов сфабрикован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ами евангелий. Спор между Штраус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ауэром вёлся под видом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ы между «самосознанием»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станцией». Вопрос о том, возникли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е рассказы о чудесах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ознательного, основанного на тради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я мифов в недрах общины или ж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сфабрикованы самими евангелистами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росся до вопроса о том, что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ой действующей силой во всеми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и: «субстанция» или «самосознани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02200" y="2770200"/>
            <a:ext cx="4930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философии Гегеля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христиан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положения философии будуще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прос о бессмертии с точки зрения антроп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пиритуализме и материализме, в особенности в их отношении к свободе во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демон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feuerbach (1)"/>
          <p:cNvPicPr/>
          <p:nvPr/>
        </p:nvPicPr>
        <p:blipFill>
          <a:blip r:embed="rId1"/>
          <a:stretch/>
        </p:blipFill>
        <p:spPr>
          <a:xfrm>
            <a:off x="466560" y="1798560"/>
            <a:ext cx="33181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28:21Z</dcterms:created>
  <dc:creator>Николай Бирюков / Nikolai Biryukov</dc:creator>
  <dc:description>Редакция мая 2008 г.</dc:description>
  <dc:language>en-US</dc:language>
  <cp:lastModifiedBy>LEGION</cp:lastModifiedBy>
  <dcterms:modified xsi:type="dcterms:W3CDTF">2014-11-11T09:59:12Z</dcterms:modified>
  <cp:revision>147</cp:revision>
  <dc:subject>Основы философии - Тема 16</dc:subject>
  <dc:title>Фейербах и Маркс: конец классической немецкой философии</dc:title>
</cp:coreProperties>
</file>