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13.png" ContentType="image/png"/>
  <Override PartName="/ppt/media/image10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34B18-51F1-4718-9E01-0A18112B669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27184-518A-4DA3-844D-7AEE89369A4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br>
              <a:rPr sz="900"/>
            </a:b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Фейербах и Маркс</a:t>
            </a:r>
            <a:br>
              <a:rPr sz="1400"/>
            </a:br>
            <a:r>
              <a:rPr b="1" lang="ru-RU" sz="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8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онец классической немецкой философ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2BFFE-DF2F-407C-8086-517C9E389F6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Людвиг Фейербах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Философия религ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… </a:t>
            </a: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понятие божества совпадает с понятием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человечества. Все божественные определения,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все определения делающие Бога богом, суть</a:t>
            </a:r>
            <a:br>
              <a:rPr sz="1200"/>
            </a:br>
            <a:r>
              <a:rPr b="1" i="1" lang="ru-RU" sz="1200" spc="-1" strike="noStrike">
                <a:solidFill>
                  <a:srgbClr val="0000ff"/>
                </a:solidFill>
                <a:latin typeface="Arial"/>
              </a:rPr>
              <a:t>определения рода</a:t>
            </a: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 – определения, ограниченные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отдельным существом, индивидом и не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ограниченные в сущности рода и даже в его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существовании, поскольку это существование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соответственно проявляется только во всех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людях, взятых как нечто собирательное. </a:t>
            </a: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&lt;…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Бог </a:t>
            </a:r>
            <a:r>
              <a:rPr b="1" i="1" lang="ru-RU" sz="1200" spc="-1" strike="noStrike">
                <a:solidFill>
                  <a:srgbClr val="ff0000"/>
                </a:solidFill>
                <a:latin typeface="Arial"/>
              </a:rPr>
              <a:t>есть понятие рода как индивида</a:t>
            </a: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 понятие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или сущность рода; он как всеобщая сущность,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как средоточие всех совершенств, всех качеств,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свободных от действительных или мнимых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границ индивида, есть в то же время существо</a:t>
            </a:r>
            <a:br>
              <a:rPr sz="1200"/>
            </a:br>
            <a:r>
              <a:rPr b="1" i="1" lang="ru-RU" sz="1200" spc="-1" strike="noStrike">
                <a:solidFill>
                  <a:srgbClr val="0000ff"/>
                </a:solidFill>
                <a:latin typeface="Arial"/>
              </a:rPr>
              <a:t>отдельное,</a:t>
            </a: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 индивидуальное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F5789-D86A-4AD0-A014-42538EC3863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Людвиг Фейербах</a:t>
            </a:r>
            <a:br>
              <a:rPr sz="24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Философия религ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Религия – не просто результат корыстного обмана (хотя её и используют в корыстных интересах) и невежества (хотя непонимание её корней и её действительной функции играет существенную роль в её возникновении и в сохранении её в существующей – «отчуждённой» – форме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ущность религии – в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перенесении родовой сущности человека,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не реализуемой в индивидуальном человеческом существовании,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на индивидуальное существо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и в поклонении этому существу как своего рода «идеальному человеку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 результате такого переноса это антропоморфное идеальное существо оказывается наделённым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атрибутами человеческого рода,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которых лишены действительные человеческие индивиды: бессмертием, могуществом, всеведением и пр., иными словами –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традиционными атрибутами Бога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монотеистических религ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о такое разрешение противоречия между сущностью и существованием человека ведёт к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«отчуждению»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– отрыву человеческой сущности от самого человека, противопоставлению первой второму и – сначала идеальному, а потом и реальному –  порабощению человека плодом его собственной фантаз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Это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«отчуждение» должно быть преодолено: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необходимо вернуть реальному, живому «ты» его законное место в мыслях, чувствах и сердце «Я», не по праву занятое Богом – этой проекцией вовне человеческих  желан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905FD-650B-45DF-B723-AF0C98DF342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Карл Маркс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Исторический материализ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4FA7E-1156-4951-9476-2EBDFBB7843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Антропология Маркса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онятие отчужд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5ABA7-6A87-46B8-9029-36A858BBB97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Антропология Маркса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тчуждение труда и его социальные и экзистенциальные последств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92B3D-8B27-4DAE-BBFF-6BAC9AEE56B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Антропология К. Маркса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Буржуазное общество как общество тотального отчужд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5547A-4D3A-4C5F-BD45-2D929252A6F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Материалистическое понимание истории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История как объективно детерминированный процес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B61EE-844B-4BA4-A0AB-A40F6999242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Материалистическое понимание истории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роблема исторической закономер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D1219-9CD2-4B07-AC81-9A16F712EB7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Материалистическое понимание истории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лассы как субъекты закономерной деяте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E0E10-A480-43AE-88BA-10602383E27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Материалистическое понимание истории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История как объективно детерминированный процес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8CE55-63F7-438F-8C93-69EDEC20B93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Фейербах и Маркс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онец классической немецкой философ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авид Штраус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08-187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Бруно Бауэр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09-188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Людвиг Фейерб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од. 28 июля 1804 г.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Ландсху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м. 13 сентября 1872 г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Рехенберг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арл Марк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од. 5 мая 1818 г. в Трир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м. 14 марта 1883 г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Лондо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689A2-0F67-4736-B09A-72C69742A67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Материалистическое понимание истории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История как объективно детерминированный процес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21B78-DF98-4ACB-839F-42C920A8963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Материалистическое понимание истории</a:t>
            </a:r>
            <a:br>
              <a:rPr sz="11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Понятие материального производств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39197-437D-445E-A0A6-30220B52A2C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Материалистическое понимание истории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Материальный базис общества и его политико-идеологическая надстрой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67971-3EA7-41CB-95E1-BD81DD055BF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Материалистическое понимание истории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Историческое развитие как смена общественно-экономических форма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61E7D-4511-46D3-9C27-8438CD8FA2B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9EDD2-7BF0-4EC3-B26A-E944AB8A7A9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Фейербах и Маркс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онец классической немецкой философ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Младогегельянц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отиворечие между системой и методом Гегел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ействующая сила истории: «субстанция» или «самосознание»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Людвиг Фейербах: антропологический материализ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нтропологический принцип в философ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илософия религ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Карл Маркс: исторический материализ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нтропология Марк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онятие отчужд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тчуждение труда и его социальные и экзистенциальные последств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Буржуазное общество как общество тотального отчужд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атериалистическое понимание исто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История как объективно детерминированный процес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80000"/>
              </a:lnSpc>
              <a:spcBef>
                <a:spcPts val="524"/>
              </a:spcBef>
              <a:buClr>
                <a:srgbClr val="ffffff"/>
              </a:buClr>
              <a:buFont typeface="Wingdings" charset="2"/>
              <a:buChar char="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Проблема социальной (исторической) закономерно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80000"/>
              </a:lnSpc>
              <a:spcBef>
                <a:spcPts val="524"/>
              </a:spcBef>
              <a:buClr>
                <a:srgbClr val="ffffff"/>
              </a:buClr>
              <a:buFont typeface="Wingdings" charset="2"/>
              <a:buChar char="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Общественные классы как субъекты закономерной деятельно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онятие материального производст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труктура социальной реальности: материальный базис общества и 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его политико-идеологическая надстрой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Историческое развитие как смена общественно-экономических формац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3E3FE-5242-40D9-ADB2-379383C4725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Младогегельянцы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Давид Штраус и Бруно Бауэ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22C51-3E66-41F6-95B9-89DBDB26B1A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Младогегельянцы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ротиворечие между системой и методом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Гегел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071BA-967E-4486-9E53-D7908784EEC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Младогегельянцы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ротиворечие между системой и методом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Гегел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72521-BA34-4B44-91A9-B3E125C7804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Младогегельянцы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«Субстанция» или «самосознание»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BDE6A-7CD4-49F8-ADA7-B1096C02183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Людвиг Фейербах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Антропологический материализ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88E29-157F-4398-92EF-4EB00C6702F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Людвиг Фейербах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нтропологический принцип в философ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Единство мышления и бытия,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о котором трактовала философия тождества Шеллинга и Гегеля, </a:t>
            </a: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реально лишь в человеке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– единственном субъекте мышле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Но человека отличает от животных не только способность мышления: если бы он не отличался от животных в своих ощущениях, то не отличался бы от них и в мышлении. </a:t>
            </a: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Сущность человека – это прежде всего чувственность,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проявляющаяся в многообразии переживаний, стремлении к счастью, любви, т.е. жизни не только ума, но и сердц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Человек осознаёт себя человеком лишь в общении, в основе своей – чувственном, с другим человеком: </a:t>
            </a: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самосознание «Я» опосредовано сознанием «Ты».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 Самосознание, следовательно, сопровождается </a:t>
            </a: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осознанием человеческой сущности как родовой: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тремление к единению с другим («Я» с «Ты»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робуждает осознание принадлежности к роду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каковое и есть разум (= любовь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ричём эта родовая сущность осознаётся как тождественная во всех индивидах и образующая их родовое единств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Но </a:t>
            </a: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между родовой сущностью человека и его индивидуальным существованием имеется противоречие: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разум, например (вопреки Канту) ограничен лишь в индивиде, но не в род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опыткой преодоления этого противоречия является </a:t>
            </a: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религия.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14FF4-4318-4B46-A5C8-BF69CB370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45568-B04B-4DE4-AE03-5BEE5C50F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579F5-55B8-40A9-AC93-ACB550B9A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71394-B4EC-463B-9FC1-501FE0F63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8C70C-62AD-4257-B497-B658A3F78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C3756-AD79-467E-86F0-460819EC8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30D21-606B-44E5-AF29-AD27318C3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91997-A2FE-4311-AC9B-0AC0551B4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7FF1E-9A04-4453-BB79-91A8D0739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F7A2F-1180-4B31-9EE2-D9C9CAB96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BCC17-A174-4D19-8640-84FC17FDC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B78FF-51E3-4D41-AF71-9E627261D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5FB94-6A8A-4699-A4D8-D8FD92143EB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285480" y="2142720"/>
            <a:ext cx="8561160" cy="28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000"/>
            </a:b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Фейербах и Маркс</a:t>
            </a:r>
            <a:br>
              <a:rPr sz="40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600"/>
            </a:b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Конец классической немецкой философ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1442880" y="539640"/>
            <a:ext cx="6400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ОСКОВСКИЙ ГОСУДАРСТВЕННЫЙ ИНСТИТУТ МЕЖДУНАРОДНЫХ ОТНОШЕНИЙ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афедра философ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logo2"/>
          <p:cNvPicPr/>
          <p:nvPr/>
        </p:nvPicPr>
        <p:blipFill>
          <a:blip r:embed="rId1"/>
          <a:stretch/>
        </p:blipFill>
        <p:spPr>
          <a:xfrm>
            <a:off x="250920" y="617400"/>
            <a:ext cx="1127160" cy="7556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chouet1"/>
          <p:cNvPicPr/>
          <p:nvPr/>
        </p:nvPicPr>
        <p:blipFill>
          <a:blip r:embed="rId2"/>
          <a:stretch/>
        </p:blipFill>
        <p:spPr>
          <a:xfrm>
            <a:off x="7848720" y="620640"/>
            <a:ext cx="826920" cy="1133640"/>
          </a:xfrm>
          <a:prstGeom prst="rect">
            <a:avLst/>
          </a:prstGeom>
          <a:ln w="0">
            <a:noFill/>
          </a:ln>
        </p:spPr>
      </p:pic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Людвиг Фейербах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Философия религ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6"/>
          <p:cNvSpPr/>
          <p:nvPr/>
        </p:nvSpPr>
        <p:spPr>
          <a:xfrm rot="10800000">
            <a:off x="2050920" y="1581840"/>
            <a:ext cx="7018560" cy="503892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…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нятие божества совпадает с понятие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еловечества. Все божественные определения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се определения делающие Бога богом, суть</a:t>
            </a:r>
            <a:br>
              <a:rPr sz="1800"/>
            </a:b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определения рода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– определения, ограниченны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тдельным существом, индивидом и н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граниченные в сущности рода и даже в ег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уществовании, поскольку это существовани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ответственно проявляется только во всех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людях, взятых как нечто собирательное.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&lt;…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ог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есть понятие рода как индивида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поняти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ли сущность рода; он как всеобщая сущность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ак средоточие всех совершенств, всех качеств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вободных от действительных или мнимых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границ индивида, есть в то же время существо</a:t>
            </a:r>
            <a:br>
              <a:rPr sz="1800"/>
            </a:b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отдельное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индивидуальное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7"/>
          <p:cNvSpPr/>
          <p:nvPr/>
        </p:nvSpPr>
        <p:spPr>
          <a:xfrm>
            <a:off x="364320" y="4678200"/>
            <a:ext cx="1925640" cy="8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Л. Фейербах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Сущность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христианства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8" descr="feuerbach (1)"/>
          <p:cNvPicPr/>
          <p:nvPr/>
        </p:nvPicPr>
        <p:blipFill>
          <a:blip r:embed="rId1"/>
          <a:stretch/>
        </p:blipFill>
        <p:spPr>
          <a:xfrm>
            <a:off x="250920" y="1690560"/>
            <a:ext cx="2187360" cy="2517840"/>
          </a:xfrm>
          <a:prstGeom prst="rect">
            <a:avLst/>
          </a:prstGeom>
          <a:ln w="0">
            <a:noFill/>
          </a:ln>
        </p:spPr>
      </p:pic>
      <p:sp>
        <p:nvSpPr>
          <p:cNvPr id="1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1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5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Людвиг Фейербах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Философия религ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75760" y="1457280"/>
            <a:ext cx="8589960" cy="524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5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Религия – не просто результат корыстного обмана (хотя её и используют в корыстных интересах) и невежества (хотя непонимание её корней и её действительной функции играет существенную роль в её возникновении и в сохранении её в существующей – «отчуждённой» – форме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ущность религии – в </a:t>
            </a: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перенесении родовой сущности человека,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не реализуемой в индивидуальном человеческом существовании, </a:t>
            </a: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на индивидуальное существо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и в поклонении этому существу как своего рода «идеальному человеку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В результате такого переноса это антропоморфное идеальное существо оказывается наделённым </a:t>
            </a: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атрибутами человеческого рода,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которых лишены действительные человеческие индивиды: бессмертием, могуществом, всеведением и пр., иными словами – </a:t>
            </a: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традиционными атрибутами Бога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монотеистических религи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Но такое разрешение противоречия между сущностью и существованием человека ведёт к </a:t>
            </a: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«отчуждению»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– отрыву человеческой сущности от самого человека, противопоставлению первой второму и – сначала идеальному, а потом и реальному –  порабощению человека плодом его собственной фантаз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Это </a:t>
            </a: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«отчуждение» должно быть преодолено: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необходимо вернуть реальному, живому «ты» его законное место в мыслях, чувствах и сердце «Я», не по праву занятое Богом – этой проекцией вовне человеческих  желани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арл Маркс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сторический материализ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3"/>
          <p:cNvSpPr/>
          <p:nvPr/>
        </p:nvSpPr>
        <p:spPr>
          <a:xfrm>
            <a:off x="4389480" y="2878200"/>
            <a:ext cx="4498920" cy="323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Экономическо-философские рукописи 1844 года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4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вятое семейство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4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емецкая идеология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45-184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ищета философии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4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анифест Коммунистической партии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4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 критике политической экономии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5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апитал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67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и сл.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4" descr="marx (3)"/>
          <p:cNvPicPr/>
          <p:nvPr/>
        </p:nvPicPr>
        <p:blipFill>
          <a:blip r:embed="rId1"/>
          <a:stretch/>
        </p:blipFill>
        <p:spPr>
          <a:xfrm>
            <a:off x="466560" y="1798560"/>
            <a:ext cx="3641760" cy="43164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12" name="Text Box 5"/>
          <p:cNvSpPr/>
          <p:nvPr/>
        </p:nvSpPr>
        <p:spPr>
          <a:xfrm>
            <a:off x="4857840" y="1835280"/>
            <a:ext cx="3598920" cy="53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сновные сочи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59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51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512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513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514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515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51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520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521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522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523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Антропология Маркса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онятие отчужд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1330200" y="1978200"/>
            <a:ext cx="6478560" cy="34192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Отчуждение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нем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en-US" sz="2000" spc="-1" strike="noStrike">
                <a:solidFill>
                  <a:srgbClr val="00ff00"/>
                </a:solidFill>
                <a:latin typeface="Arial"/>
              </a:rPr>
              <a:t>Entfremdung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англ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. и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франц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en-US" sz="2000" spc="-1" strike="noStrike">
                <a:solidFill>
                  <a:srgbClr val="00ff00"/>
                </a:solidFill>
                <a:latin typeface="Arial"/>
              </a:rPr>
              <a:t>alienation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) –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философско-социологическая категория,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ыражающая объективное превращение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еятельности человека и её результатов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 самостоятельную силу, господствующую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ад ним самим и враждебную ему,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 связанное с этим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евращение человека из активного субъекта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 объект общественного процесс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AutoShape 2"/>
          <p:cNvSpPr/>
          <p:nvPr/>
        </p:nvSpPr>
        <p:spPr>
          <a:xfrm>
            <a:off x="2863800" y="5127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3"/>
          <p:cNvSpPr/>
          <p:nvPr/>
        </p:nvSpPr>
        <p:spPr>
          <a:xfrm>
            <a:off x="1784520" y="383220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4"/>
          <p:cNvSpPr/>
          <p:nvPr/>
        </p:nvSpPr>
        <p:spPr>
          <a:xfrm>
            <a:off x="704880" y="253692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5"/>
          <p:cNvSpPr/>
          <p:nvPr/>
        </p:nvSpPr>
        <p:spPr>
          <a:xfrm>
            <a:off x="358920" y="1619280"/>
            <a:ext cx="5146560" cy="1187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тчуждение в опредмечивании труда –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просто обретение трудом предметного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нешнего существования, а превращени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предмеченного труда в противостоящую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раждебную рабочему сил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6"/>
          <p:cNvSpPr/>
          <p:nvPr/>
        </p:nvSpPr>
        <p:spPr>
          <a:xfrm>
            <a:off x="1438200" y="2914560"/>
            <a:ext cx="5146920" cy="1187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амоотчуждение в процессе труда –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евращение труда из специфическ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еловеческой (сущностной) деятельност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нечто навязанное извне, средств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удовлетворения животных потребност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7"/>
          <p:cNvSpPr/>
          <p:nvPr/>
        </p:nvSpPr>
        <p:spPr>
          <a:xfrm>
            <a:off x="2517840" y="4210200"/>
            <a:ext cx="5146560" cy="1187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тчуждение родовой жизни человека –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евращение социального (в том числ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еобразованной трудом природы)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чуждую силу, служащую лиш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редством индивидуального выжив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8"/>
          <p:cNvSpPr/>
          <p:nvPr/>
        </p:nvSpPr>
        <p:spPr>
          <a:xfrm>
            <a:off x="3598920" y="5505480"/>
            <a:ext cx="5146560" cy="1187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тчуждение человека от человека –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нтагонизация человеческих отношений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ызванная присвоением продукта труд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ругим человеком (не рабочим) 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дчинением ему самого процесса тру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нтропология Маркс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тчуждение труда и его социальные и экзистенциальные последств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13" descr="marx (6)"/>
          <p:cNvPicPr/>
          <p:nvPr/>
        </p:nvPicPr>
        <p:blipFill>
          <a:blip r:embed="rId1"/>
          <a:stretch/>
        </p:blipFill>
        <p:spPr>
          <a:xfrm>
            <a:off x="468360" y="4678200"/>
            <a:ext cx="1465200" cy="189864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14"/>
          <p:cNvSpPr/>
          <p:nvPr/>
        </p:nvSpPr>
        <p:spPr>
          <a:xfrm>
            <a:off x="6655680" y="1762200"/>
            <a:ext cx="2122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Четыре уровня</a:t>
            </a:r>
            <a:br>
              <a:rPr sz="2000"/>
            </a:b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отчужд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38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3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nodeType="clickEffect" fill="hold">
                      <p:stCondLst>
                        <p:cond delay="indefinite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3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3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3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8" dur="8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9" dur="8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0" dur="8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AutoShape 2"/>
          <p:cNvSpPr/>
          <p:nvPr/>
        </p:nvSpPr>
        <p:spPr>
          <a:xfrm>
            <a:off x="4173480" y="535464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3"/>
          <p:cNvSpPr/>
          <p:nvPr/>
        </p:nvSpPr>
        <p:spPr>
          <a:xfrm>
            <a:off x="3094200" y="4346640"/>
            <a:ext cx="576000" cy="954000"/>
          </a:xfrm>
          <a:custGeom>
            <a:avLst/>
            <a:gdLst>
              <a:gd name="textAreaLeft" fmla="*/ 77040 w 576000"/>
              <a:gd name="textAreaRight" fmla="*/ 498960 w 57600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4"/>
          <p:cNvSpPr/>
          <p:nvPr/>
        </p:nvSpPr>
        <p:spPr>
          <a:xfrm>
            <a:off x="2014560" y="333864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5"/>
          <p:cNvSpPr/>
          <p:nvPr/>
        </p:nvSpPr>
        <p:spPr>
          <a:xfrm>
            <a:off x="934920" y="233208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6"/>
          <p:cNvSpPr/>
          <p:nvPr/>
        </p:nvSpPr>
        <p:spPr>
          <a:xfrm>
            <a:off x="431640" y="1654200"/>
            <a:ext cx="3959280" cy="863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Труд непосредственно ради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отребносте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(капитал и труд ещё объединены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7"/>
          <p:cNvSpPr/>
          <p:nvPr/>
        </p:nvSpPr>
        <p:spPr>
          <a:xfrm>
            <a:off x="1511280" y="2662200"/>
            <a:ext cx="3959280" cy="863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еновая торговл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(труд отчасти становит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сточником доход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8"/>
          <p:cNvSpPr/>
          <p:nvPr/>
        </p:nvSpPr>
        <p:spPr>
          <a:xfrm>
            <a:off x="2590920" y="3670200"/>
            <a:ext cx="3959280" cy="863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азделение труда и деньг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(труд целиком превращает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труд ради заработк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9"/>
          <p:cNvSpPr/>
          <p:nvPr/>
        </p:nvSpPr>
        <p:spPr>
          <a:xfrm>
            <a:off x="3670200" y="4678200"/>
            <a:ext cx="3959280" cy="863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Аграрный труд и рент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(капитал и труд выступают ещё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специфических формах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75760" y="274320"/>
            <a:ext cx="8589960" cy="114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нтропология К. Маркс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Буржуазное общество как общество тотального отчужд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11"/>
          <p:cNvSpPr/>
          <p:nvPr/>
        </p:nvSpPr>
        <p:spPr>
          <a:xfrm>
            <a:off x="4749840" y="5684760"/>
            <a:ext cx="3959280" cy="863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вободный капитал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тирает всякую природную 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бщественную определён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2"/>
          <p:cNvSpPr/>
          <p:nvPr/>
        </p:nvSpPr>
        <p:spPr>
          <a:xfrm>
            <a:off x="5937120" y="1654200"/>
            <a:ext cx="275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Этапы развития</a:t>
            </a:r>
            <a:br>
              <a:rPr sz="2000"/>
            </a:b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отчуждённого тру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14" descr="marx (6)"/>
          <p:cNvPicPr/>
          <p:nvPr/>
        </p:nvPicPr>
        <p:blipFill>
          <a:blip r:embed="rId1"/>
          <a:stretch/>
        </p:blipFill>
        <p:spPr>
          <a:xfrm>
            <a:off x="468360" y="4678200"/>
            <a:ext cx="1465200" cy="1898640"/>
          </a:xfrm>
          <a:prstGeom prst="rect">
            <a:avLst/>
          </a:prstGeom>
          <a:ln w="0">
            <a:noFill/>
          </a:ln>
        </p:spPr>
      </p:pic>
      <p:sp>
        <p:nvSpPr>
          <p:cNvPr id="14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1" dur="indefinite" restart="never" nodeType="tmRoot">
          <p:childTnLst>
            <p:seq>
              <p:cTn id="582" dur="indefinite" nodeType="mainSeq">
                <p:childTnLst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7" dur="8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8" dur="8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9" dur="8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4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4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4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4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4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75760" y="274320"/>
            <a:ext cx="8589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Материалистическое понимание истории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стория как объективно детерминированный процес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4"/>
          <p:cNvSpPr/>
          <p:nvPr/>
        </p:nvSpPr>
        <p:spPr>
          <a:xfrm rot="10800000">
            <a:off x="179280" y="1869480"/>
            <a:ext cx="6478560" cy="449892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…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аркс положил конец воззрению н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бщество, как на механический агрега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ндивидов, допускающий всяки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зменения по воле начальства (или, всё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авно, по воле общества и правительства)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озникающий и изменяющийся случайно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впервые поставил социологию н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учную почву, установив поняти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бщественно-экономической формации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ак совокупности данных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оизводственных отношений, установив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то развитие таких формаций есть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естественно-исторический процесс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5"/>
          <p:cNvSpPr/>
          <p:nvPr/>
        </p:nvSpPr>
        <p:spPr>
          <a:xfrm>
            <a:off x="6385680" y="4678200"/>
            <a:ext cx="2619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. И. Ленин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Что такое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рузья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арода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и как они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оюют против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циал-демократов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7" descr="Ленин (2)"/>
          <p:cNvPicPr/>
          <p:nvPr/>
        </p:nvPicPr>
        <p:blipFill>
          <a:blip r:embed="rId1"/>
          <a:stretch/>
        </p:blipFill>
        <p:spPr>
          <a:xfrm>
            <a:off x="6656400" y="1978200"/>
            <a:ext cx="1914480" cy="2438280"/>
          </a:xfrm>
          <a:prstGeom prst="rect">
            <a:avLst/>
          </a:prstGeom>
          <a:ln w="0">
            <a:noFill/>
          </a:ln>
        </p:spPr>
      </p:pic>
      <p:sp>
        <p:nvSpPr>
          <p:cNvPr id="14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1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4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45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4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AutoShape 6"/>
          <p:cNvSpPr/>
          <p:nvPr/>
        </p:nvSpPr>
        <p:spPr>
          <a:xfrm>
            <a:off x="2841480" y="5425920"/>
            <a:ext cx="576360" cy="954360"/>
          </a:xfrm>
          <a:custGeom>
            <a:avLst/>
            <a:gdLst>
              <a:gd name="textAreaLeft" fmla="*/ 77040 w 576360"/>
              <a:gd name="textAreaRight" fmla="*/ 499320 w 576360"/>
              <a:gd name="textAreaTop" fmla="*/ 167040 h 954360"/>
              <a:gd name="textAreaBottom" fmla="*/ 691920 h 95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7"/>
          <p:cNvSpPr/>
          <p:nvPr/>
        </p:nvSpPr>
        <p:spPr>
          <a:xfrm>
            <a:off x="2014560" y="434664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8"/>
          <p:cNvSpPr/>
          <p:nvPr/>
        </p:nvSpPr>
        <p:spPr>
          <a:xfrm>
            <a:off x="1187280" y="326700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9"/>
          <p:cNvSpPr/>
          <p:nvPr/>
        </p:nvSpPr>
        <p:spPr>
          <a:xfrm>
            <a:off x="358920" y="2187720"/>
            <a:ext cx="576000" cy="954000"/>
          </a:xfrm>
          <a:custGeom>
            <a:avLst/>
            <a:gdLst>
              <a:gd name="textAreaLeft" fmla="*/ 77040 w 576000"/>
              <a:gd name="textAreaRight" fmla="*/ 498960 w 57600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10"/>
          <p:cNvSpPr/>
          <p:nvPr/>
        </p:nvSpPr>
        <p:spPr>
          <a:xfrm>
            <a:off x="934920" y="2446200"/>
            <a:ext cx="4857840" cy="1008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 идея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сторической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закономерност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ажется внутренне противоречивой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скольку история имеет свои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едметом человеческую деятельн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11"/>
          <p:cNvSpPr/>
          <p:nvPr/>
        </p:nvSpPr>
        <p:spPr>
          <a:xfrm>
            <a:off x="2590920" y="4605480"/>
            <a:ext cx="485748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 если человеческая деятельнос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подчиняется законам, историческо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знание не может принят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форму науки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ставаясь просто набором сведе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75760" y="274680"/>
            <a:ext cx="858996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Материалистическое понимание истории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облема исторической закономер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13"/>
          <p:cNvSpPr/>
          <p:nvPr/>
        </p:nvSpPr>
        <p:spPr>
          <a:xfrm>
            <a:off x="3417840" y="5684760"/>
            <a:ext cx="485784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трицание свободы воли (фатализм)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учность истории не спасает, так как с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устранением человеческой специфик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устраняется и самый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едмет истор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14"/>
          <p:cNvSpPr/>
          <p:nvPr/>
        </p:nvSpPr>
        <p:spPr>
          <a:xfrm>
            <a:off x="108000" y="1366920"/>
            <a:ext cx="485784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изнание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закономерности в природ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создаёт затруднений: объекты,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бладающие волей и сознанием, легк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ыслить подчинёнными закона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15"/>
          <p:cNvSpPr/>
          <p:nvPr/>
        </p:nvSpPr>
        <p:spPr>
          <a:xfrm>
            <a:off x="1762200" y="3525840"/>
            <a:ext cx="485784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аким образом деятельность, направ-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ляемая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олей и сознанием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может регу-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лироваться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законами, по определению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зависящими от воли и сознания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24" descr="marx (6)"/>
          <p:cNvPicPr/>
          <p:nvPr/>
        </p:nvPicPr>
        <p:blipFill>
          <a:blip r:embed="rId1"/>
          <a:stretch/>
        </p:blipFill>
        <p:spPr>
          <a:xfrm>
            <a:off x="468360" y="4678200"/>
            <a:ext cx="1465200" cy="189864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25"/>
          <p:cNvSpPr/>
          <p:nvPr/>
        </p:nvSpPr>
        <p:spPr>
          <a:xfrm>
            <a:off x="5900760" y="1366920"/>
            <a:ext cx="3130560" cy="19080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Закон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–</a:t>
            </a:r>
            <a:br>
              <a:rPr sz="18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1) объективная, 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ущественная, необходимая,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устойчивая связь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между явлениями;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2) научное положение,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тображающее такую связ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1" dur="indefinite" restart="never" nodeType="tmRoot">
          <p:childTnLst>
            <p:seq>
              <p:cTn id="652" dur="indefinite" nodeType="mainSeq">
                <p:childTnLst>
                  <p:par>
                    <p:cTn id="653" nodeType="clickEffect" fill="hold">
                      <p:stCondLst>
                        <p:cond delay="indefinite"/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nodeType="clickEffect" fill="hold">
                      <p:stCondLst>
                        <p:cond delay="indefinite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3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nodeType="clickEffect" fill="hold">
                      <p:stCondLst>
                        <p:cond delay="indefinite"/>
                      </p:stCondLst>
                      <p:childTnLst>
                        <p:par>
                          <p:cTn id="6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3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nodeType="clickEffect" fill="hold">
                      <p:stCondLst>
                        <p:cond delay="indefinite"/>
                      </p:stCondLst>
                      <p:childTnLst>
                        <p:par>
                          <p:cTn id="6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3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nodeType="clickEffect" fill="hold">
                      <p:stCondLst>
                        <p:cond delay="indefinite"/>
                      </p:stCondLst>
                      <p:childTnLst>
                        <p:par>
                          <p:cTn id="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3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nodeType="clickEffect" fill="hold">
                      <p:stCondLst>
                        <p:cond delay="indefinite"/>
                      </p:stCondLst>
                      <p:childTnLst>
                        <p:par>
                          <p:cTn id="6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3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AutoShape 2"/>
          <p:cNvSpPr/>
          <p:nvPr/>
        </p:nvSpPr>
        <p:spPr>
          <a:xfrm>
            <a:off x="2878200" y="5425920"/>
            <a:ext cx="576360" cy="954360"/>
          </a:xfrm>
          <a:custGeom>
            <a:avLst/>
            <a:gdLst>
              <a:gd name="textAreaLeft" fmla="*/ 77040 w 576360"/>
              <a:gd name="textAreaRight" fmla="*/ 499320 w 576360"/>
              <a:gd name="textAreaTop" fmla="*/ 167040 h 954360"/>
              <a:gd name="textAreaBottom" fmla="*/ 691920 h 95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AutoShape 3"/>
          <p:cNvSpPr/>
          <p:nvPr/>
        </p:nvSpPr>
        <p:spPr>
          <a:xfrm>
            <a:off x="2050920" y="434664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4"/>
          <p:cNvSpPr/>
          <p:nvPr/>
        </p:nvSpPr>
        <p:spPr>
          <a:xfrm>
            <a:off x="1222200" y="326700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5"/>
          <p:cNvSpPr/>
          <p:nvPr/>
        </p:nvSpPr>
        <p:spPr>
          <a:xfrm>
            <a:off x="395280" y="218772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6"/>
          <p:cNvSpPr/>
          <p:nvPr/>
        </p:nvSpPr>
        <p:spPr>
          <a:xfrm>
            <a:off x="971640" y="2446200"/>
            <a:ext cx="4857840" cy="1008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ведение коллективных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бщносте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ожно рассматривать как объективн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бусловленное без того, чтобы отрицать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и этом свободу индивидуальной вол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7"/>
          <p:cNvSpPr/>
          <p:nvPr/>
        </p:nvSpPr>
        <p:spPr>
          <a:xfrm>
            <a:off x="2625840" y="4605480"/>
            <a:ext cx="485748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имерами таких общностей являются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бщественные классы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т.е. группы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людей, занимающих одинаковое мест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системе общественного производст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6840" y="274680"/>
            <a:ext cx="895032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Материалистическое понимание истории</a:t>
            </a:r>
            <a:br>
              <a:rPr sz="3200"/>
            </a:br>
            <a:r>
              <a:rPr b="1" lang="ru-RU" sz="2700" spc="-1" strike="noStrike">
                <a:solidFill>
                  <a:srgbClr val="ffffff"/>
                </a:solidFill>
                <a:latin typeface="Arial"/>
              </a:rPr>
              <a:t>Классы как субъекты закономерной деятельности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9"/>
          <p:cNvSpPr/>
          <p:nvPr/>
        </p:nvSpPr>
        <p:spPr>
          <a:xfrm>
            <a:off x="3454560" y="5684760"/>
            <a:ext cx="485748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уществование и характеристик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лассов не зависят от воли и сознани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ленов общества, а обусловлены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труктурой и характером производст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10"/>
          <p:cNvSpPr/>
          <p:nvPr/>
        </p:nvSpPr>
        <p:spPr>
          <a:xfrm>
            <a:off x="142920" y="1366920"/>
            <a:ext cx="485784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всё же историческая закономернос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ыслима, поскольку субъектам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закономерной деятельности не обяза-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ельно должны выступат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ндивид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11"/>
          <p:cNvSpPr/>
          <p:nvPr/>
        </p:nvSpPr>
        <p:spPr>
          <a:xfrm>
            <a:off x="1798560" y="3525840"/>
            <a:ext cx="485784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закономерности поведени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циальных общностей проявляется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единство значимых характеристик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х индивидуальных член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13" descr="marx (6)"/>
          <p:cNvPicPr/>
          <p:nvPr/>
        </p:nvPicPr>
        <p:blipFill>
          <a:blip r:embed="rId1"/>
          <a:stretch/>
        </p:blipFill>
        <p:spPr>
          <a:xfrm>
            <a:off x="468360" y="4678200"/>
            <a:ext cx="1465200" cy="189864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15"/>
          <p:cNvSpPr/>
          <p:nvPr/>
        </p:nvSpPr>
        <p:spPr>
          <a:xfrm>
            <a:off x="5937120" y="1366920"/>
            <a:ext cx="3059280" cy="17272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Общественные классы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–</a:t>
            </a:r>
            <a:br>
              <a:rPr sz="18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большие группы людей,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различающиеся по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их месту в системе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бщественного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роизводств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nodeType="clickEffect" fill="hold">
                      <p:stCondLst>
                        <p:cond delay="indefinite"/>
                      </p:stCondLst>
                      <p:childTnLst>
                        <p:par>
                          <p:cTn id="7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0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nodeType="clickEffect" fill="hold">
                      <p:stCondLst>
                        <p:cond delay="indefinite"/>
                      </p:stCondLst>
                      <p:childTnLst>
                        <p:par>
                          <p:cTn id="7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0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nodeType="clickEffect" fill="hold">
                      <p:stCondLst>
                        <p:cond delay="indefinite"/>
                      </p:stCondLst>
                      <p:childTnLst>
                        <p:par>
                          <p:cTn id="7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0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nodeType="clickEffect" fill="hold">
                      <p:stCondLst>
                        <p:cond delay="indefinite"/>
                      </p:stCondLst>
                      <p:childTnLst>
                        <p:par>
                          <p:cTn id="7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0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nodeType="clickEffect" fill="hold">
                      <p:stCondLst>
                        <p:cond delay="indefinite"/>
                      </p:stCondLst>
                      <p:childTnLst>
                        <p:par>
                          <p:cTn id="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nodeType="clickEffect" fill="hold">
                      <p:stCondLst>
                        <p:cond delay="indefinite"/>
                      </p:stCondLst>
                      <p:childTnLst>
                        <p:par>
                          <p:cTn id="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6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AutoShape 3"/>
          <p:cNvSpPr/>
          <p:nvPr/>
        </p:nvSpPr>
        <p:spPr>
          <a:xfrm rot="10800000">
            <a:off x="250560" y="1869480"/>
            <a:ext cx="6118200" cy="467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общественном производстве свое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жизни люди вступают в определённые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обходимые, от их воли не зависящи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тношения –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оизводственные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тношения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которые соответствую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пределённой ступени развития их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атериальных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оизводительных сил.</a:t>
            </a:r>
            <a:br>
              <a:rPr sz="1800"/>
            </a:br>
            <a:r>
              <a:rPr b="1" lang="ru-RU" sz="1800" spc="-1" strike="noStrike">
                <a:solidFill>
                  <a:srgbClr val="009999"/>
                </a:solidFill>
                <a:latin typeface="Arial"/>
              </a:rPr>
              <a:t>Совокупность этих производственных</a:t>
            </a:r>
            <a:br>
              <a:rPr sz="1800"/>
            </a:br>
            <a:r>
              <a:rPr b="1" lang="ru-RU" sz="1800" spc="-1" strike="noStrike">
                <a:solidFill>
                  <a:srgbClr val="009999"/>
                </a:solidFill>
                <a:latin typeface="Arial"/>
              </a:rPr>
              <a:t>отношений составляет экономическую</a:t>
            </a:r>
            <a:br>
              <a:rPr sz="1800"/>
            </a:br>
            <a:r>
              <a:rPr b="1" lang="ru-RU" sz="1800" spc="-1" strike="noStrike">
                <a:solidFill>
                  <a:srgbClr val="009999"/>
                </a:solidFill>
                <a:latin typeface="Arial"/>
              </a:rPr>
              <a:t>структуру общества, реальный базис,</a:t>
            </a:r>
            <a:br>
              <a:rPr sz="1800"/>
            </a:br>
            <a:r>
              <a:rPr b="1" lang="ru-RU" sz="1800" spc="-1" strike="noStrike">
                <a:solidFill>
                  <a:srgbClr val="009999"/>
                </a:solidFill>
                <a:latin typeface="Arial"/>
              </a:rPr>
              <a:t>на котором возвышается юридическая</a:t>
            </a:r>
            <a:br>
              <a:rPr sz="1800"/>
            </a:br>
            <a:r>
              <a:rPr b="1" lang="ru-RU" sz="1800" spc="-1" strike="noStrike">
                <a:solidFill>
                  <a:srgbClr val="009999"/>
                </a:solidFill>
                <a:latin typeface="Arial"/>
              </a:rPr>
              <a:t>и политическая надстройка и которому</a:t>
            </a:r>
            <a:br>
              <a:rPr sz="1800"/>
            </a:br>
            <a:r>
              <a:rPr b="1" lang="ru-RU" sz="1800" spc="-1" strike="noStrike">
                <a:solidFill>
                  <a:srgbClr val="009999"/>
                </a:solidFill>
                <a:latin typeface="Arial"/>
              </a:rPr>
              <a:t>соответствуют определённые</a:t>
            </a:r>
            <a:br>
              <a:rPr sz="1800"/>
            </a:br>
            <a:r>
              <a:rPr b="1" lang="ru-RU" sz="1800" spc="-1" strike="noStrike">
                <a:solidFill>
                  <a:srgbClr val="009999"/>
                </a:solidFill>
                <a:latin typeface="Arial"/>
              </a:rPr>
              <a:t>формы общественного сознания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4"/>
          <p:cNvSpPr/>
          <p:nvPr/>
        </p:nvSpPr>
        <p:spPr>
          <a:xfrm>
            <a:off x="6050160" y="5037120"/>
            <a:ext cx="3121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. Маркс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К критике политической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экономии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5" descr="marx (6)"/>
          <p:cNvPicPr/>
          <p:nvPr/>
        </p:nvPicPr>
        <p:blipFill>
          <a:blip r:embed="rId1"/>
          <a:stretch/>
        </p:blipFill>
        <p:spPr>
          <a:xfrm>
            <a:off x="6585120" y="1978200"/>
            <a:ext cx="1828800" cy="237168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75760" y="274320"/>
            <a:ext cx="8589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Материалистическое понимание истории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стория как объективно детерминированный процес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3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6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67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6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Фейербах и Маркс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онец классической немецкой философ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europe (5) - cut (min)"/>
          <p:cNvPicPr/>
          <p:nvPr/>
        </p:nvPicPr>
        <p:blipFill>
          <a:blip r:embed="rId1"/>
          <a:stretch/>
        </p:blipFill>
        <p:spPr>
          <a:xfrm>
            <a:off x="4379760" y="1619280"/>
            <a:ext cx="4368960" cy="48592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55" name="Oval 5"/>
          <p:cNvSpPr/>
          <p:nvPr/>
        </p:nvSpPr>
        <p:spPr>
          <a:xfrm>
            <a:off x="7305840" y="381492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6"/>
          <p:cNvSpPr/>
          <p:nvPr/>
        </p:nvSpPr>
        <p:spPr>
          <a:xfrm>
            <a:off x="5585400" y="3922560"/>
            <a:ext cx="168480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Людвигсбур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7"/>
          <p:cNvSpPr/>
          <p:nvPr/>
        </p:nvSpPr>
        <p:spPr>
          <a:xfrm>
            <a:off x="7016760" y="356220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8"/>
          <p:cNvSpPr/>
          <p:nvPr/>
        </p:nvSpPr>
        <p:spPr>
          <a:xfrm>
            <a:off x="6213240" y="3346560"/>
            <a:ext cx="74160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Три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9"/>
          <p:cNvSpPr/>
          <p:nvPr/>
        </p:nvSpPr>
        <p:spPr>
          <a:xfrm>
            <a:off x="7701120" y="334656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0"/>
          <p:cNvSpPr/>
          <p:nvPr/>
        </p:nvSpPr>
        <p:spPr>
          <a:xfrm>
            <a:off x="7312320" y="2932200"/>
            <a:ext cx="136656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Эйзенбер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11"/>
          <p:cNvSpPr/>
          <p:nvPr/>
        </p:nvSpPr>
        <p:spPr>
          <a:xfrm>
            <a:off x="7593120" y="363384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2"/>
          <p:cNvSpPr/>
          <p:nvPr/>
        </p:nvSpPr>
        <p:spPr>
          <a:xfrm>
            <a:off x="7744320" y="3471840"/>
            <a:ext cx="135432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ехенбер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Oval 13"/>
          <p:cNvSpPr/>
          <p:nvPr/>
        </p:nvSpPr>
        <p:spPr>
          <a:xfrm>
            <a:off x="7737480" y="38862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4"/>
          <p:cNvSpPr/>
          <p:nvPr/>
        </p:nvSpPr>
        <p:spPr>
          <a:xfrm>
            <a:off x="7456320" y="4030560"/>
            <a:ext cx="124128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Ландсху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15"/>
          <p:cNvSpPr/>
          <p:nvPr/>
        </p:nvSpPr>
        <p:spPr>
          <a:xfrm>
            <a:off x="6332400" y="305748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6"/>
          <p:cNvSpPr/>
          <p:nvPr/>
        </p:nvSpPr>
        <p:spPr>
          <a:xfrm>
            <a:off x="5657040" y="2625840"/>
            <a:ext cx="104328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Лонд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7760" y="1815840"/>
            <a:ext cx="381456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авид Штраус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08-187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Бруно Бауэр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09-188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Людвиг Фейерб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од. 28 июля 1804 г.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Ландсху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м. 13 сентября 1872 г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Рехенберг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арл Марк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од. 5 мая 1818 г. в Трир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м. 14 марта 1883 г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Лондо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75760" y="274320"/>
            <a:ext cx="8589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Материалистическое понимание истории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стория как объективно детерминированный процес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3"/>
          <p:cNvSpPr/>
          <p:nvPr/>
        </p:nvSpPr>
        <p:spPr>
          <a:xfrm rot="10800000">
            <a:off x="286920" y="1977840"/>
            <a:ext cx="5938920" cy="43178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Люди сами делают свою историю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 они её делают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 так, как им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здумается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при обстоятельствах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оторые не сами они выбрали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 которые непосредственн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меются налицо, даны им 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ерешли от прошлого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4"/>
          <p:cNvSpPr/>
          <p:nvPr/>
        </p:nvSpPr>
        <p:spPr>
          <a:xfrm>
            <a:off x="5833440" y="5037120"/>
            <a:ext cx="3192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. Маркс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Восемнадцатое брюмера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Луи Бонапарта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5" descr="marx (6)"/>
          <p:cNvPicPr/>
          <p:nvPr/>
        </p:nvPicPr>
        <p:blipFill>
          <a:blip r:embed="rId1"/>
          <a:stretch/>
        </p:blipFill>
        <p:spPr>
          <a:xfrm>
            <a:off x="6585120" y="1978200"/>
            <a:ext cx="1828800" cy="2371680"/>
          </a:xfrm>
          <a:prstGeom prst="rect">
            <a:avLst/>
          </a:prstGeom>
          <a:ln w="0">
            <a:noFill/>
          </a:ln>
        </p:spPr>
      </p:pic>
      <p:sp>
        <p:nvSpPr>
          <p:cNvPr id="1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3" dur="indefinite" restart="never" nodeType="tmRoot">
          <p:childTnLst>
            <p:seq>
              <p:cTn id="774" dur="indefinite" nodeType="mainSeq">
                <p:childTnLst>
                  <p:par>
                    <p:cTn id="775" nodeType="clickEffect" fill="hold">
                      <p:stCondLst>
                        <p:cond delay="0"/>
                      </p:stCondLst>
                      <p:childTnLst>
                        <p:par>
                          <p:cTn id="7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9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75760" y="274320"/>
            <a:ext cx="8589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Материалистическое понимание истории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онятие материального производ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3"/>
          <p:cNvSpPr/>
          <p:nvPr/>
        </p:nvSpPr>
        <p:spPr>
          <a:xfrm rot="10800000">
            <a:off x="286920" y="1977840"/>
            <a:ext cx="5938920" cy="43178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Людей можно отличать от животных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 сознанию, по религии – вообщ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 чему угодно. Сами они начинаю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тличать себя от животных, как тольк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чинают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производить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необходимы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м средства к жизни, – шаг, которы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бусловлен их телесной организацией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оизводя необходимые им средств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 жизни, люди косвенным образо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оизводят и самоё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атериальную жизнь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6120360" y="5218200"/>
            <a:ext cx="286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. Маркс и Ф. Энгельс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Немецкая идеология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5" descr="marx (6)"/>
          <p:cNvPicPr/>
          <p:nvPr/>
        </p:nvPicPr>
        <p:blipFill>
          <a:blip r:embed="rId1"/>
          <a:stretch/>
        </p:blipFill>
        <p:spPr>
          <a:xfrm>
            <a:off x="6585120" y="1978200"/>
            <a:ext cx="1828800" cy="2371680"/>
          </a:xfrm>
          <a:prstGeom prst="rect">
            <a:avLst/>
          </a:prstGeom>
          <a:ln w="0">
            <a:noFill/>
          </a:ln>
        </p:spPr>
      </p:pic>
      <p:sp>
        <p:nvSpPr>
          <p:cNvPr id="18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5" dur="indefinite" restart="never" nodeType="tmRoot">
          <p:childTnLst>
            <p:seq>
              <p:cTn id="786" dur="indefinite" nodeType="mainSeq">
                <p:childTnLst>
                  <p:par>
                    <p:cTn id="787" nodeType="clickEffect" fill="hold">
                      <p:stCondLst>
                        <p:cond delay="indefinite"/>
                      </p:stCondLst>
                      <p:childTnLst>
                        <p:par>
                          <p:cTn id="7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1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9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75760" y="274320"/>
            <a:ext cx="8589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Материалистическое понимание истории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атериальный базис общества и его политико-идеологическая надстрой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utoShape 3"/>
          <p:cNvSpPr/>
          <p:nvPr/>
        </p:nvSpPr>
        <p:spPr>
          <a:xfrm rot="10800000">
            <a:off x="250560" y="1869480"/>
            <a:ext cx="6118200" cy="467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9999"/>
                </a:solidFill>
                <a:latin typeface="Arial"/>
              </a:rPr>
              <a:t>В общественном производстве своей</a:t>
            </a:r>
            <a:br>
              <a:rPr sz="1800"/>
            </a:br>
            <a:r>
              <a:rPr b="1" lang="ru-RU" sz="1800" spc="-1" strike="noStrike">
                <a:solidFill>
                  <a:srgbClr val="009999"/>
                </a:solidFill>
                <a:latin typeface="Arial"/>
              </a:rPr>
              <a:t>жизни люди вступают в определённые,</a:t>
            </a:r>
            <a:br>
              <a:rPr sz="1800"/>
            </a:br>
            <a:r>
              <a:rPr b="1" lang="ru-RU" sz="1800" spc="-1" strike="noStrike">
                <a:solidFill>
                  <a:srgbClr val="009999"/>
                </a:solidFill>
                <a:latin typeface="Arial"/>
              </a:rPr>
              <a:t>необходимые, от их воли не зависящие</a:t>
            </a:r>
            <a:br>
              <a:rPr sz="1800"/>
            </a:br>
            <a:r>
              <a:rPr b="1" lang="ru-RU" sz="1800" spc="-1" strike="noStrike">
                <a:solidFill>
                  <a:srgbClr val="009999"/>
                </a:solidFill>
                <a:latin typeface="Arial"/>
              </a:rPr>
              <a:t>отношения – производственные</a:t>
            </a:r>
            <a:br>
              <a:rPr sz="1800"/>
            </a:br>
            <a:r>
              <a:rPr b="1" lang="ru-RU" sz="1800" spc="-1" strike="noStrike">
                <a:solidFill>
                  <a:srgbClr val="009999"/>
                </a:solidFill>
                <a:latin typeface="Arial"/>
              </a:rPr>
              <a:t>отношения, которые соответствуют</a:t>
            </a:r>
            <a:br>
              <a:rPr sz="1800"/>
            </a:br>
            <a:r>
              <a:rPr b="1" lang="ru-RU" sz="1800" spc="-1" strike="noStrike">
                <a:solidFill>
                  <a:srgbClr val="009999"/>
                </a:solidFill>
                <a:latin typeface="Arial"/>
              </a:rPr>
              <a:t>определённой ступени развития их</a:t>
            </a:r>
            <a:br>
              <a:rPr sz="1800"/>
            </a:br>
            <a:r>
              <a:rPr b="1" lang="ru-RU" sz="1800" spc="-1" strike="noStrike">
                <a:solidFill>
                  <a:srgbClr val="009999"/>
                </a:solidFill>
                <a:latin typeface="Arial"/>
              </a:rPr>
              <a:t>материальных производительных сил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вокупность этих производственных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тношений составляет экономическую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труктуру общества, реальный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азис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 котором возвышается юридическа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политическая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адстройка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и которому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ответствуют определённые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формы общественного сознания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4"/>
          <p:cNvSpPr/>
          <p:nvPr/>
        </p:nvSpPr>
        <p:spPr>
          <a:xfrm>
            <a:off x="6050160" y="5037120"/>
            <a:ext cx="3121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. Маркс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К критике политической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экономии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5" descr="marx (6)"/>
          <p:cNvPicPr/>
          <p:nvPr/>
        </p:nvPicPr>
        <p:blipFill>
          <a:blip r:embed="rId1"/>
          <a:stretch/>
        </p:blipFill>
        <p:spPr>
          <a:xfrm>
            <a:off x="6585120" y="1978200"/>
            <a:ext cx="1828800" cy="2371680"/>
          </a:xfrm>
          <a:prstGeom prst="rect">
            <a:avLst/>
          </a:prstGeom>
          <a:ln w="0">
            <a:noFill/>
          </a:ln>
        </p:spPr>
      </p:pic>
      <p:sp>
        <p:nvSpPr>
          <p:cNvPr id="1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7" dur="indefinite" restart="never" nodeType="tmRoot">
          <p:childTnLst>
            <p:seq>
              <p:cTn id="798" dur="indefinite" nodeType="mainSeq">
                <p:childTnLst>
                  <p:par>
                    <p:cTn id="799" nodeType="clickEffect" fill="hold">
                      <p:stCondLst>
                        <p:cond delay="indefinite"/>
                      </p:stCondLst>
                      <p:childTnLst>
                        <p:par>
                          <p:cTn id="8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3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0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75760" y="274320"/>
            <a:ext cx="8589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Материалистическое понимание истории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сторическое развитие как смена общественно-экономических формац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3"/>
          <p:cNvSpPr/>
          <p:nvPr/>
        </p:nvSpPr>
        <p:spPr>
          <a:xfrm rot="10800000">
            <a:off x="179280" y="1798200"/>
            <a:ext cx="6478560" cy="467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 известной ступени своего развити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атериальные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оизводительные силы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бщества приходят в противоречие с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уществующими производственными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тношениями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или – что является тольк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юридическим выражением последних –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 отношениями собственности, внутр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оторых они до сих пор развивались. Из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форм развития производительных сил эт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тношения превращаются в их оковы.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Тогда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аступает эпоха социальной революции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 изменением экономической основы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олее или менее быстро происходи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ереворот во всей громадной надстройке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5" descr="marx (6)"/>
          <p:cNvPicPr/>
          <p:nvPr/>
        </p:nvPicPr>
        <p:blipFill>
          <a:blip r:embed="rId1"/>
          <a:stretch/>
        </p:blipFill>
        <p:spPr>
          <a:xfrm>
            <a:off x="6585120" y="1978200"/>
            <a:ext cx="1828800" cy="2371680"/>
          </a:xfrm>
          <a:prstGeom prst="rect">
            <a:avLst/>
          </a:prstGeom>
          <a:ln w="0">
            <a:noFill/>
          </a:ln>
        </p:spPr>
      </p:pic>
      <p:sp>
        <p:nvSpPr>
          <p:cNvPr id="195" name="Text Box 7"/>
          <p:cNvSpPr/>
          <p:nvPr/>
        </p:nvSpPr>
        <p:spPr>
          <a:xfrm>
            <a:off x="6050160" y="5037120"/>
            <a:ext cx="3121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. Маркс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К критике политической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экономии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9" dur="indefinite" restart="never" nodeType="tmRoot">
          <p:childTnLst>
            <p:seq>
              <p:cTn id="810" dur="indefinite" nodeType="mainSeq">
                <p:childTnLst>
                  <p:par>
                    <p:cTn id="811" nodeType="clickEffect" fill="hold">
                      <p:stCondLst>
                        <p:cond delay="indefinite"/>
                      </p:stCondLst>
                      <p:childTnLst>
                        <p:par>
                          <p:cTn id="8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5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2"/>
          <p:cNvSpPr/>
          <p:nvPr/>
        </p:nvSpPr>
        <p:spPr>
          <a:xfrm>
            <a:off x="1979640" y="1438200"/>
            <a:ext cx="50385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Вопросы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3" descr="Gozzoli, Averroes"/>
          <p:cNvPicPr/>
          <p:nvPr/>
        </p:nvPicPr>
        <p:blipFill>
          <a:blip r:embed="rId1"/>
          <a:stretch/>
        </p:blipFill>
        <p:spPr>
          <a:xfrm>
            <a:off x="2158920" y="3598920"/>
            <a:ext cx="4822920" cy="1430280"/>
          </a:xfrm>
          <a:prstGeom prst="rect">
            <a:avLst/>
          </a:prstGeom>
          <a:ln w="0">
            <a:noFill/>
          </a:ln>
        </p:spPr>
      </p:pic>
      <p:sp>
        <p:nvSpPr>
          <p:cNvPr id="1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6" dur="indefinite" restart="never" nodeType="tmRoot">
          <p:childTnLst>
            <p:seq>
              <p:cTn id="817" dur="indefinite" nodeType="mainSeq">
                <p:childTnLst>
                  <p:par>
                    <p:cTn id="818" nodeType="clickEffect" fill="hold">
                      <p:stCondLst>
                        <p:cond delay="0"/>
                      </p:stCondLst>
                      <p:childTnLst>
                        <p:par>
                          <p:cTn id="8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2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9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nodeType="clickEffect" fill="hold">
                      <p:stCondLst>
                        <p:cond delay="indefinite"/>
                      </p:stCondLst>
                      <p:childTnLst>
                        <p:par>
                          <p:cTn id="8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7" dur="5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5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1" dur="5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5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nodeType="clickEffect" fill="hold">
                      <p:stCondLst>
                        <p:cond delay="indefinite"/>
                      </p:stCondLst>
                      <p:childTnLst>
                        <p:par>
                          <p:cTn id="8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7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8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3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4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Фейербах и Маркс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онец классической немецкой философ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75760" y="1420560"/>
            <a:ext cx="8805960" cy="539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Младогегельянц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отиворечие между системой и методом Гегел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ействующая сила истории: «субстанция» или «самосознание»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Людвиг Фейербах: антропологический материализ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нтропологический принцип в философ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илософия религ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Карл Маркс: исторический материализ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нтропология Марк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онятие отчужд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тчуждение труда и его социальные и экзистенциальные последств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Буржуазное общество как общество тотального отчужд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атериалистическое понимание исто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История как объективно детерминированный процес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Wingdings" charset="2"/>
              <a:buChar char="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Проблема социальной (исторической) закономерно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Wingdings" charset="2"/>
              <a:buChar char="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Общественные классы как субъекты закономерной деятельно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онятие материального производст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труктура социальной реальности: материальный базис общества и 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его политико-идеологическая надстрой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Историческое развитие как смена общественно-экономических формац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7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7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7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7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7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7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7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7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7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7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7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7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70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70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Младогегельянцы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Давид Штраус и Бруно Бауэ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4"/>
          <p:cNvSpPr/>
          <p:nvPr/>
        </p:nvSpPr>
        <p:spPr>
          <a:xfrm>
            <a:off x="466560" y="2878200"/>
            <a:ext cx="4462560" cy="35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Д. Штрау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Жизнь Иисуса, критически переработанная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35-183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тарая и новая вера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(1872)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Б. Бауэ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ритика истории Откровения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3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ритика евангельской истории синоптиков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(1841-184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6"/>
          <p:cNvSpPr/>
          <p:nvPr/>
        </p:nvSpPr>
        <p:spPr>
          <a:xfrm>
            <a:off x="898560" y="1978200"/>
            <a:ext cx="3598920" cy="53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сновные сочи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7" descr="strauss (1)"/>
          <p:cNvPicPr/>
          <p:nvPr/>
        </p:nvPicPr>
        <p:blipFill>
          <a:blip r:embed="rId1"/>
          <a:stretch/>
        </p:blipFill>
        <p:spPr>
          <a:xfrm>
            <a:off x="5289480" y="1978200"/>
            <a:ext cx="2309760" cy="216036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76" name="Picture 9" descr="bruno4"/>
          <p:cNvPicPr/>
          <p:nvPr/>
        </p:nvPicPr>
        <p:blipFill>
          <a:blip r:embed="rId2"/>
          <a:stretch/>
        </p:blipFill>
        <p:spPr>
          <a:xfrm>
            <a:off x="6764400" y="4354560"/>
            <a:ext cx="2058840" cy="21589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7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9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3400" y="274320"/>
            <a:ext cx="909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Младогегельянцы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отиворечие между системой и методом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Гегел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"/>
          <p:cNvSpPr/>
          <p:nvPr/>
        </p:nvSpPr>
        <p:spPr>
          <a:xfrm rot="10800000">
            <a:off x="2230560" y="1690200"/>
            <a:ext cx="6837120" cy="48578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…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Гегель вынужден был строить систему, 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философская система, по установившему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рядку, должна была завершить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бсолютной истиной того или иного рода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тот же Гегель, который 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&lt;</a:t>
            </a:r>
            <a:r>
              <a:rPr b="1" lang="ru-RU" sz="1800" spc="-1" strike="noStrike">
                <a:solidFill>
                  <a:srgbClr val="0066ff"/>
                </a:solidFill>
                <a:latin typeface="Arial"/>
              </a:rPr>
              <a:t>…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&gt;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подчёркивает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то эта вечная истина есть не что иное, как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ам логический (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resp.: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сторический) процесс,</a:t>
            </a:r>
            <a:br>
              <a:rPr sz="1800"/>
            </a:b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&lt;</a:t>
            </a:r>
            <a:r>
              <a:rPr b="1" lang="ru-RU" sz="1800" spc="-1" strike="noStrike">
                <a:solidFill>
                  <a:srgbClr val="0066ff"/>
                </a:solidFill>
                <a:latin typeface="Arial"/>
              </a:rPr>
              <a:t>...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&gt;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видит себя вынужденным положи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онец этому процессу, так как надо же был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му на чём-то закончить свою систему. 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&lt;…&gt;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 именно, нужно было так представить себ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онец истории: человечество приходи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знанию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&lt;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…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&gt;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абсолютной идеи 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бъявляет,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то это познание абсолютно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деи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остигнуто в гегелевской философии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4"/>
          <p:cNvSpPr/>
          <p:nvPr/>
        </p:nvSpPr>
        <p:spPr>
          <a:xfrm>
            <a:off x="75600" y="4627440"/>
            <a:ext cx="2667960" cy="13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. Энгельс.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Людвиг Фейербах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 конец классической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емецкой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илософии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5" descr="engels_ris-red (2)"/>
          <p:cNvPicPr/>
          <p:nvPr/>
        </p:nvPicPr>
        <p:blipFill>
          <a:blip r:embed="rId1"/>
          <a:stretch/>
        </p:blipFill>
        <p:spPr>
          <a:xfrm>
            <a:off x="358920" y="1690560"/>
            <a:ext cx="2162160" cy="2695680"/>
          </a:xfrm>
          <a:prstGeom prst="rect">
            <a:avLst/>
          </a:prstGeom>
          <a:ln w="0">
            <a:noFill/>
          </a:ln>
        </p:spPr>
      </p:pic>
      <p:sp>
        <p:nvSpPr>
          <p:cNvPr id="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8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2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400" y="274320"/>
            <a:ext cx="909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Младогегельянцы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отиворечие между системой и методом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Гегел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3"/>
          <p:cNvSpPr/>
          <p:nvPr/>
        </p:nvSpPr>
        <p:spPr>
          <a:xfrm rot="10800000">
            <a:off x="2230560" y="1581840"/>
            <a:ext cx="6837120" cy="503892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 anchorCtr="1" rot="10800000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зятое в целом, учение Гегеля оставляло </a:t>
            </a:r>
            <a:br>
              <a:rPr sz="1800"/>
            </a:b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&lt;</a:t>
            </a:r>
            <a:r>
              <a:rPr b="1" lang="ru-RU" sz="1800" spc="-1" strike="noStrike">
                <a:solidFill>
                  <a:srgbClr val="0066ff"/>
                </a:solidFill>
                <a:latin typeface="Arial"/>
              </a:rPr>
              <a:t>…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&gt;</a:t>
            </a:r>
            <a:r>
              <a:rPr b="1" lang="ru-RU" sz="18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широкий простор для самых различных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актических партийных воззрений. 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&lt;…&gt;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еловек, придававший главное значение</a:t>
            </a:r>
            <a:br>
              <a:rPr sz="1800"/>
            </a:b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системе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Гегеля, мог быть довольн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онсервативным в каждой из этих областей</a:t>
            </a:r>
            <a:br>
              <a:rPr sz="1800"/>
            </a:b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[</a:t>
            </a:r>
            <a:r>
              <a:rPr b="1" lang="ru-RU" sz="1800" spc="-1" strike="noStrike">
                <a:solidFill>
                  <a:srgbClr val="0066ff"/>
                </a:solidFill>
                <a:latin typeface="Arial"/>
              </a:rPr>
              <a:t>религии и политике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]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. Тот же, кто главны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читал диалектический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метод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мог и в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елигии и в политике принадлежать к само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райней оппозиции. Сам Гегель, несмотр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 довольно частые в его сочинениях взрывы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еволюционного гнева, в общем, по-видимому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клонялся больше к консервативной стороне…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 концу тридцатых годов раскол в его школ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тановился всё более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более заметным. 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&lt;…&gt;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орьба велась ещё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философским оружием, н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уже не ради абстрактно-философских целей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4"/>
          <p:cNvSpPr/>
          <p:nvPr/>
        </p:nvSpPr>
        <p:spPr>
          <a:xfrm>
            <a:off x="75600" y="4627440"/>
            <a:ext cx="2667960" cy="13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. Энгельс.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Людвиг Фейербах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 конец классической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емецкой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илософии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5" descr="engels_ris-red (2)"/>
          <p:cNvPicPr/>
          <p:nvPr/>
        </p:nvPicPr>
        <p:blipFill>
          <a:blip r:embed="rId1"/>
          <a:stretch/>
        </p:blipFill>
        <p:spPr>
          <a:xfrm>
            <a:off x="358920" y="1690560"/>
            <a:ext cx="2162160" cy="2695680"/>
          </a:xfrm>
          <a:prstGeom prst="rect">
            <a:avLst/>
          </a:prstGeom>
          <a:ln w="0">
            <a:noFill/>
          </a:ln>
        </p:spPr>
      </p:pic>
      <p:sp>
        <p:nvSpPr>
          <p:cNvPr id="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nodeType="clickEffect" fill="hold">
                      <p:stCondLst>
                        <p:cond delay="0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4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Младогегельянцы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Субстанция» или «самосознание»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3"/>
          <p:cNvSpPr/>
          <p:nvPr/>
        </p:nvSpPr>
        <p:spPr>
          <a:xfrm rot="10800000">
            <a:off x="2230560" y="1581840"/>
            <a:ext cx="6837120" cy="503892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ервый толчок дала книга Штрауса «Жизн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исуса», вышедшая в 1835 году. Против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зложенной в этой книге теории возникновени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вангельских мифов выступил поздне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руно Бауэр, доказывавший, что целый ряд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вангельских рассказов сфабрикован самим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вторами евангелий. Спор между Штраусо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Бауэром вёлся под видом философско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орьбы между «самосознанием» 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«субстанцией». Вопрос о том, возникли л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вангельские рассказы о чудесах путё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ессознательного, основанного на традиции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здания мифов в недрах общины или же он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ыли сфабрикованы самими евангелистами, –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азросся до вопроса о том, что являет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главной действующей силой во всемирно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стории: «субстанция» или «самосознание»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75600" y="4627440"/>
            <a:ext cx="2667960" cy="13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. Энгельс.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Людвиг Фейербах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 конец классической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емецкой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илософии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5" descr="engels_ris-red (2)"/>
          <p:cNvPicPr/>
          <p:nvPr/>
        </p:nvPicPr>
        <p:blipFill>
          <a:blip r:embed="rId1"/>
          <a:stretch/>
        </p:blipFill>
        <p:spPr>
          <a:xfrm>
            <a:off x="358920" y="1690560"/>
            <a:ext cx="2162160" cy="2695680"/>
          </a:xfrm>
          <a:prstGeom prst="rect">
            <a:avLst/>
          </a:prstGeom>
          <a:ln w="0">
            <a:noFill/>
          </a:ln>
        </p:spPr>
      </p:pic>
      <p:sp>
        <p:nvSpPr>
          <p:cNvPr id="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nodeType="clickEffect" fill="hold">
                      <p:stCondLst>
                        <p:cond delay="0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1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Людвиг Фейербах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нтропологический материализ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5"/>
          <p:cNvSpPr/>
          <p:nvPr/>
        </p:nvSpPr>
        <p:spPr>
          <a:xfrm>
            <a:off x="4102200" y="2770200"/>
            <a:ext cx="4930560" cy="34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 критике философии Гегеля»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3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ущность христианства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4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сновные положения философии будущего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4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опрос о бессмертии с точки зрения антропологии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4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 спиритуализме и материализме, в особенности в их отношении к свободе воли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6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Эвдемонизм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66-186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9"/>
          <p:cNvSpPr/>
          <p:nvPr/>
        </p:nvSpPr>
        <p:spPr>
          <a:xfrm>
            <a:off x="4857840" y="1835280"/>
            <a:ext cx="3598920" cy="53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сновные сочи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10" descr="feuerbach (1)"/>
          <p:cNvPicPr/>
          <p:nvPr/>
        </p:nvPicPr>
        <p:blipFill>
          <a:blip r:embed="rId1"/>
          <a:stretch/>
        </p:blipFill>
        <p:spPr>
          <a:xfrm>
            <a:off x="466560" y="1798560"/>
            <a:ext cx="3318120" cy="43182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8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34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345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46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47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348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Людвиг Фейербах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нтропологический принцип в философ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75760" y="1457280"/>
            <a:ext cx="8589960" cy="524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5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Единство мышления и бытия,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о котором трактовала философия тождества Шеллинга и Гегеля, </a:t>
            </a: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реально лишь в человеке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– единственном субъекте мышле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Но человека отличает от животных не только способность мышления: если бы он не отличался от животных в своих ощущениях, то не отличался бы от них и в мышлении. </a:t>
            </a: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Сущность человека – это прежде всего чувственность,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проявляющаяся в многообразии переживаний, стремлении к счастью, любви, т.е. жизни не только ума, но и сердц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Человек осознаёт себя человеком лишь в общении, в основе своей – чувственном, с другим человеком: </a:t>
            </a: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самосознание «Я» опосредовано сознанием «Ты».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 Самосознание, следовательно, сопровождается </a:t>
            </a: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осознанием человеческой сущности как родовой: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тремление к единению с другим («Я» с «Ты»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робуждает осознание принадлежности к роду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каковое и есть разум (= любовь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ричём эта родовая сущность осознаётся как тождественная во всех индивидах и образующая их родовое единств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Но </a:t>
            </a: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между родовой сущностью человека и его индивидуальным существованием имеется противоречие: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разум, например (вопреки Канту) ограничен лишь в индивиде, но не в род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опыткой преодоления этого противоречия является </a:t>
            </a: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религия.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1T19:28:21Z</dcterms:created>
  <dc:creator>Николай Бирюков / Nikolai Biryukov</dc:creator>
  <dc:description>Редакция мая 2008 г.</dc:description>
  <dc:language>en-US</dc:language>
  <cp:lastModifiedBy>LEGION</cp:lastModifiedBy>
  <dcterms:modified xsi:type="dcterms:W3CDTF">2014-11-11T09:59:12Z</dcterms:modified>
  <cp:revision>147</cp:revision>
  <dc:subject>Основы философии - Тема 16</dc:subject>
  <dc:title>Фейербах и Маркс: конец классической немецкой философии</dc:title>
</cp:coreProperties>
</file>