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CBD98-2DA1-40B8-AA39-E38A1901C7A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953735"/>
                </a:solidFill>
                <a:latin typeface="Calibri"/>
              </a:rPr>
              <a:t>Бытовые отравления.</a:t>
            </a: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1e1c11"/>
                </a:solidFill>
                <a:latin typeface="Calibri"/>
              </a:rPr>
              <a:t>Выполнили:   Северикова Е. 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e1c11"/>
                </a:solidFill>
                <a:latin typeface="Calibri"/>
              </a:rPr>
              <a:t>                                                                </a:t>
            </a:r>
            <a:r>
              <a:rPr b="0" lang="ru-RU" sz="1200" spc="-1" strike="noStrike">
                <a:solidFill>
                  <a:srgbClr val="1e1c11"/>
                </a:solidFill>
                <a:latin typeface="Calibri"/>
              </a:rPr>
              <a:t>Щетинина Е. 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C477B-1C38-49BF-A57A-14F542712D8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77933c"/>
                </a:solidFill>
                <a:latin typeface="Calibri"/>
              </a:rPr>
              <a:t>Отравление ядохимикат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часто происходят отравления фосфорорганическими соединениями (тиофос, хлорофос), которые могут попадать в организм ингаляционным путем вместе с вдыхаемым воздухом и энтерально — вместе с пищевыми продукт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B2395-6738-4E54-8475-5199EF38B46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77933c"/>
                </a:solidFill>
                <a:latin typeface="Calibri"/>
              </a:rPr>
              <a:t>Первая медицинская помощь при отравлении ядохимикат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отравлениях, возникших вслед­ствие вдыхания ядохимикатов, основной задачей первой помощи является немедленная транспортировка постра­давшего в стационар. При возможности больному необ­ходимо дать 6—8 капель 0,1% раствора атропина или 1—2 таблетки белладонны. В случае остановки дыхания следует проводить непрерывное искусственное дыхание. При отравлениях вследствие попадания ядов в желудочно-кишечный тракт необходимо промывание желудка водой со взвесью активированного угля; дают солевые слабительные. Ядохимикаты с кожи и слизистых оболо­чек следует удалить струёй вод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15AFE-3DB4-44BF-AEA3-49BEE8825D8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7030a0"/>
                </a:solidFill>
                <a:latin typeface="Calibri"/>
              </a:rPr>
              <a:t>Отравление светильным и угарным газами.</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равление угарным газом возможно на производствах, где угарный газ используется для синтеза ряда органических веществ, в гаражах при плохой вентиляции, в непроветриваемых вновь окрашенных помещениях, а также в домашних условиях – при утечке светильного газа и при несвоевременно закрытых печных заслонках в помещениях с  печным отоплением.</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C0691-AD76-41BD-ABC7-E1D742F17C1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7030a0"/>
                </a:solidFill>
                <a:latin typeface="Calibri"/>
              </a:rPr>
              <a:t>Первая медицинская помощь при отравлении светильным и угарным газ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ая помощь заключается, прежде всего, в немедленном удалении отравленного из данного помещения. При слабом поверхностном дыхании или его остановке необходимо немедленно начать искусственное дыхание, которое следует проводить до появления самостоятельного адекватного дыхания или до появления явных признаков биологической смерти. Больные с тяжелым отравлением подлежат госпитализации, так как возможно развитие тяжелых осложнений со стороны легких и нервной системы в более позднем период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E11EA-0A83-4FCD-993B-F457265A7CB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76092"/>
                </a:solidFill>
                <a:latin typeface="Calibri"/>
              </a:rPr>
              <a:t>Отравление кислотами и щелочами.</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отравлении (приеме внутрь) концентрированны­ми кислотами и едкими щелочами очень быстро развива­ется тяжелое состояние, которое объясняется в первую очередь возникшими обширными ожогами полости рта, глотки, пищевода, желудка, а нередко и гортани, позднее воздействием всосавшихся веществ на жизненно важные органы (печень, почки, легкие, сердце).</a:t>
            </a:r>
            <a:endParaRPr b="0" lang="en-US" sz="1200" spc="-1" strike="noStrike">
              <a:solidFill>
                <a:srgbClr val="000000"/>
              </a:solidFill>
              <a:latin typeface="Calibri"/>
            </a:endParaRPr>
          </a:p>
        </p:txBody>
      </p:sp>
      <p:sp>
        <p:nvSpPr>
          <p:cNvPr id="4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11DF0-1658-45CD-B1AD-AD60AE3687C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76092"/>
                </a:solidFill>
                <a:latin typeface="Calibri"/>
              </a:rPr>
              <a:t>Первая медицинская помощь при отравлении кислотами и щелоч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отравлении концентрированным кислотами, если нет симптомов прободения пищевода и желудка, необходимо прежде всего промыть желудок через толстый зонд 6—10 л теплой воды с добавлением жженой магнезии (20 г на 1 л жидк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отравлении концентрированными щелочами также необходимо немедленно промыть желудок 6—10 л теплой воды или раствором лимонной или уксусной кислоты. Промывание показано в первые 4 ч после от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9D357-2136-4745-9F8E-43542B7A609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953735"/>
                </a:solidFill>
                <a:latin typeface="Calibri"/>
              </a:rPr>
              <a:t>«Отравления – патологические процессы, развивающиеся вследствие воздействия на человека или животного экзогенно попавших в организм химических веществ, способных вызвать нарушения различных физиологических функций и создать опасность для жиз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BF84E-66D5-41DD-B3FF-2CE8E582BE0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53735"/>
                </a:solidFill>
                <a:latin typeface="Calibri"/>
              </a:rPr>
              <a:t>Классификация бытовых отравления.</a:t>
            </a:r>
            <a:br>
              <a:rPr sz="1400"/>
            </a:br>
            <a:br>
              <a:rPr sz="1400"/>
            </a:br>
            <a:r>
              <a:rPr b="0" lang="ru-RU" sz="1200" spc="-1" strike="noStrike">
                <a:solidFill>
                  <a:srgbClr val="7030a0"/>
                </a:solidFill>
                <a:latin typeface="Calibri"/>
              </a:rPr>
              <a:t>- Пищевые отравления</a:t>
            </a:r>
            <a:br>
              <a:rPr sz="1200"/>
            </a:br>
            <a:br>
              <a:rPr sz="1200"/>
            </a:br>
            <a:r>
              <a:rPr b="0" lang="ru-RU" sz="1200" spc="-1" strike="noStrike">
                <a:solidFill>
                  <a:srgbClr val="7030a0"/>
                </a:solidFill>
                <a:latin typeface="Calibri"/>
              </a:rPr>
              <a:t>- Отравления лекарственными препаратами и алкоголем </a:t>
            </a:r>
            <a:br>
              <a:rPr sz="1200"/>
            </a:br>
            <a:br>
              <a:rPr sz="1200"/>
            </a:br>
            <a:r>
              <a:rPr b="0" lang="ru-RU" sz="1200" spc="-1" strike="noStrike">
                <a:solidFill>
                  <a:srgbClr val="7030a0"/>
                </a:solidFill>
                <a:latin typeface="Calibri"/>
              </a:rPr>
              <a:t>- Отравление ядохимикатами </a:t>
            </a:r>
            <a:br>
              <a:rPr sz="1200"/>
            </a:br>
            <a:br>
              <a:rPr sz="1200"/>
            </a:br>
            <a:r>
              <a:rPr b="0" lang="ru-RU" sz="1200" spc="-1" strike="noStrike">
                <a:solidFill>
                  <a:srgbClr val="7030a0"/>
                </a:solidFill>
                <a:latin typeface="Calibri"/>
              </a:rPr>
              <a:t>- Отравление светильным и угарным газами </a:t>
            </a:r>
            <a:br>
              <a:rPr sz="1200"/>
            </a:br>
            <a:br>
              <a:rPr sz="1200"/>
            </a:br>
            <a:r>
              <a:rPr b="0" lang="ru-RU" sz="1200" spc="-1" strike="noStrike">
                <a:solidFill>
                  <a:srgbClr val="7030a0"/>
                </a:solidFill>
                <a:latin typeface="Calibri"/>
              </a:rPr>
              <a:t>- Отравление кислотами и щелочами </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22FE0-04A3-47B8-8F1E-D1C264DAF85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53735"/>
                </a:solidFill>
                <a:latin typeface="Calibri"/>
              </a:rPr>
              <a:t>Пищевое отравле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приеме внутрь недоброкачественных (инфицированных) продуктов животного происхождения (мясо, рыба, колбасные изделия, мясные и рыбные консервы, молоко и изделия из него и т.д.) возникает пищевое отравление – пищевая токсикоинфекция. Заболевание вызывают находящиеся в данном продукте микробы и продукты их жизнедеятельности – токсины». Мясо, рыба могут инфицироваться еще при жизни животных, но наиболее часто это происходит в процессе приготовления пищи и неправильного хранения пищевых продукт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C9992-383C-41FA-ABBC-E8ACA3A02D1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bbb59"/>
                </a:solidFill>
                <a:latin typeface="Calibri"/>
              </a:rPr>
              <a:t>Пищевое отравле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4BA53-9000-45AB-AF67-E313F5A46C6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bbb59"/>
                </a:solidFill>
                <a:latin typeface="Calibri"/>
              </a:rPr>
              <a:t>Первая помощь при пищевом отравлении.   </a:t>
            </a:r>
            <a:br>
              <a:rPr sz="1400"/>
            </a:br>
            <a:r>
              <a:rPr b="0" lang="ru-RU" sz="1200" spc="-1" strike="noStrike">
                <a:solidFill>
                  <a:srgbClr val="000000"/>
                </a:solidFill>
                <a:latin typeface="Calibri"/>
              </a:rPr>
              <a:t> Первая помощь заключается в немедленном промывании желудка водой при помощи желудочного зонд или путем вызывания искусственной рвоты—обильное питье теплой воды (1,5—2 л) с последующим раздражением корня языка. Промывать следует до «чистой воды». Давать обильное питье нужно и при самостоятельной рвоте. Для скорейшего удаления из кишечника инфицированных продуктов больному необходимо дать карболен (желудочный уголь) и слабительное. Запрещается прием какой-либо пищи (в течение 1—2 сут), но назначается обильное питье. К пострадавшему следует вызвать скорую медицинскую помощь или доставит его в медицинское учреждение.</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EBAF7-1F1F-40AE-A89D-60FDFA225BD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Отравления лекарственными препаратами и алкоголем.</a:t>
            </a:r>
            <a:br>
              <a:rPr sz="1200"/>
            </a:br>
            <a:r>
              <a:rPr b="0" lang="ru-RU" sz="1200" spc="-1" strike="noStrike">
                <a:solidFill>
                  <a:srgbClr val="000000"/>
                </a:solidFill>
                <a:latin typeface="Calibri"/>
              </a:rPr>
              <a:t> Отравление медикаментозными средствами чаще всего наблюдается у детей, в семьях, где неправильно хра­нят лекарства — в местах, доступных для детей. Отравления взрослых происходят при случайной передозировке, суицидальных попытках и у лиц, страдающих наркоманией. Довольно часто отравления развиваются при передозировке снотворных средств (барбамил, ноксирон, нембутал и др.). При приеме значительных (токсических) количеств алкоголя возможно даже смертельное отравление. Алкоголь оказывает воздействие на сердце, сосуды, желудочно-кишечный тракт, печень, поч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7B220-7664-41A7-9F99-A5625200BC7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Отравления лекарственными препаратами и алкоголем</a:t>
            </a:r>
            <a:r>
              <a:rPr b="0" lang="ru-RU" sz="1200" spc="-1" strike="noStrike">
                <a:solidFill>
                  <a:srgbClr val="7030a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89ABD-3D39-40A1-907F-73EB5DE58CE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b050"/>
                </a:solidFill>
                <a:latin typeface="Calibri"/>
              </a:rPr>
              <a:t>Первая помощь при отравлении лекарственными препаратами и алкоголем.</a:t>
            </a:r>
            <a:br>
              <a:rPr sz="1200"/>
            </a:br>
            <a:r>
              <a:rPr b="0" lang="ru-RU" sz="1200" spc="-1" strike="noStrike">
                <a:solidFill>
                  <a:srgbClr val="000000"/>
                </a:solidFill>
                <a:latin typeface="Calibri"/>
              </a:rPr>
              <a:t> При сохраненном сознании необходимо промыть желудок, вызвать активную рвоту. В случае нарушения дыхания показано искусственное дыхание. </a:t>
            </a:r>
            <a:br>
              <a:rPr sz="1200"/>
            </a:br>
            <a:r>
              <a:rPr b="0" lang="ru-RU" sz="1200" spc="-1" strike="noStrike">
                <a:solidFill>
                  <a:srgbClr val="000000"/>
                </a:solidFill>
                <a:latin typeface="Calibri"/>
              </a:rPr>
              <a:t>При отравлении наркотиками  необходимо доставить пострадавшего в лечебное учреждение. При остановке дыхания и кровообращения проводят реанимационные мероприятия. При отравлении алкоголем  необходимо Прежде всего необходимо обеспечить приток свежего воздуха. При остановке дыхания необходимо проводить искусственное дыхание и другие реанимационные мероприятия</a:t>
            </a:r>
            <a:r>
              <a:rPr b="0" lang="ru-RU" sz="1400" spc="-1" strike="noStrike">
                <a:solidFill>
                  <a:srgbClr val="000000"/>
                </a:solidFill>
                <a:latin typeface="Calibri"/>
              </a:rPr>
              <a:t>.</a:t>
            </a:r>
            <a:br>
              <a:rPr sz="1400"/>
            </a:br>
            <a:br>
              <a:rPr sz="1400"/>
            </a:br>
            <a:br>
              <a:rPr sz="1400"/>
            </a:b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39BE0-8A79-43F0-93F9-A5FCAC57177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F0508C-6DAC-4D7C-AAFD-A299BB94C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56F95-E79E-40BE-B09A-A6940C2FC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A2B06B-3BE5-4C94-994A-CBCC9E1ED6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B0B2F6-3322-437F-BE9F-9FA34D3458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2D415C-81F6-40FD-A468-3C3F39864C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21EFB2-BC2B-48E9-B9B0-08AE231FF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8924FF-3D34-4035-B28F-329E0D3476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09F16E-4311-4C00-B09D-823319B2DE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DF3CF2-847F-4EDC-A86C-D651CD7E47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E6D8FB-952B-4915-A314-58C9923A84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A9194-629D-40AA-9B1E-22DA616BD7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824C1-4239-4A1B-8BB1-1910EC5CE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10929-2840-46E8-B74D-E7CDEE12D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F2AA6-7F2E-46FD-8E6A-D94FBEF67B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ACB361-9577-4C97-9F3E-32C261ACAA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DFD2FA-1134-48FB-886B-F7556DFA76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C5A5F1-05EA-4DDA-9D8A-80BE59DDEF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88785F8-A2CD-4E9A-920A-9018F7E2EC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B094DF3-97C8-498F-8961-44581B1CDC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36CEBF2-00C9-4071-9EF3-3ECBC1E935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6818AB1-0086-4794-9232-5CB7BB074A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B808440-AC5D-432E-B4C5-4B6D438D64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BF54E-6014-465C-900A-ABDAA117A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E54AD92-EEF6-498A-B5A0-0920A145BE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BEDA37D-8765-45DB-A54A-AA5BDD15FD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1772D23-2C1F-4E8A-9190-79138B3574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4C9A9AE-34BE-4640-97E4-FCFD6F3DE2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86A697E-FD74-4AF3-B5CF-C14FC0045A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A7AA753-2D4A-43E0-9663-0D7847EB6A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88C55B6-125F-4C97-A3D4-5E4E25DA65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B06BBD-3E47-4152-91A9-39A92C64F1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272BA9-9223-4961-B1C8-9A06775072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F1D46A-F877-4A23-A9A6-981693A32A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707ED-B42E-4B9C-BC34-2D83E7EF3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6A7F5F-3659-4569-ADCC-A8FBF73616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168365-BD09-41B7-82BB-EA9BE6ADA9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F0B5B1-F871-492A-B68E-A4194691D5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5635A9-468D-4516-9F33-B5E497A21E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2E7069-E0FE-44F2-AE78-14A53C9C14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275800-2419-48F8-939C-96B498F930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2087E8-6176-4C99-AB77-B1464CA8D9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B4FBF5-E103-4A3F-AD3A-3549BE4368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708262-A99A-4880-BD71-E984FA95BC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2A2AF6B-7F1C-4D94-8B41-AA1E7A6A8D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D6AA8-EA00-48B3-8D6D-25F906F93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07ED93D-B7CC-44DF-B413-00FAFAC2CC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20C772E-38BB-4860-8A25-3C942D2839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2799637-493C-40BA-A00A-8CCF258FF5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5FA766E-DC37-4A97-8BEC-2A4F555635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0B198D2-D66A-44FB-8823-FCC4715936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DC77A43-B973-418F-9015-8D9125AF0F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B7AB91B-6E49-4B4C-857A-B9054B7C7A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A13CA80-2F02-43AC-A6B9-82D3FF0B11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BA8982A-B1A3-423E-A4CD-A74F232969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81F0B42-A377-4B39-833D-52A5D14C1D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2155D-80DD-4E97-AEC1-A99567419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D4FACAC-04AE-410C-AC25-3986D7B101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29153525-7886-4964-92B8-580EF7F5C3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425DDC8-DFB3-4145-B3C4-9B758A4E73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A9D89B6-3CF0-48F4-BA5D-89AEA72CD3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0FEE300-5ABF-4310-9671-4E988C61F8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5813063-7CC9-4DA4-99D0-797CCB5350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9BF52F4-3F70-4042-8EE5-AC8B9A9ACB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04F5E12-CE7F-4C7C-96D6-1196DEFACD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1EB4630-F704-4BE3-8C07-8104F79A4B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545BF06-50CA-48D6-8F7C-34F4AAB628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9DC6D-45D7-4CB7-887B-263AECBD6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1336F0C-B62F-46DC-A2AB-16247029EA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FEDCAFC2-6B79-44FC-AAE4-31A2DFC660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DB675676-4138-4B42-9406-02359B0B08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35223AE-F655-4A19-A861-53D4C74CF7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7AAE4D5-448A-40EC-948D-308DB3EBA0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F3EAB37-EF7F-49BD-B742-BCA641C394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501502A-5BF5-4CBE-A9E9-471DCBC61C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7A8B5E1-1784-4D4D-AACB-34D73E5129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B43D7F9-2137-4D62-B76D-E56CFACDE2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7D1418A-E1D9-4355-BCC6-1D970A8C52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751C7-515B-4B6F-8F17-F83F4D032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C5FCF3E-0B6D-4FDE-9CDC-BB89ECF12C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E8D657B-CDC7-48A8-977D-7D05FF733C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B42D6D3-BE07-4AE8-B931-1481EE4838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D7D36EE-A2C1-4D0A-823A-C542006B239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B4881B8-FCBA-4A7F-A4A0-22D64C2016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BD49A-6324-4038-B637-531BD661EC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E20AD-EB9C-40ED-A10F-132B2172A09A}" type="datetime">
              <a:rPr b="0" lang="ru-RU" sz="1200" spc="-1" strike="noStrike">
                <a:solidFill>
                  <a:srgbClr val="575f6d"/>
                </a:solidFill>
                <a:latin typeface="Century Schoolbook"/>
              </a:rPr>
              <a:t>30.07.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Times New Roman"/>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69A3E-5DCF-4B53-B99D-29DE9AC073D9}"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Овал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Овал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9B64D-C448-4328-A31D-F8D4E0203FF0}" type="datetime">
              <a:rPr b="0" lang="ru-RU" sz="1200" spc="-1" strike="noStrike">
                <a:solidFill>
                  <a:srgbClr val="575f6d"/>
                </a:solidFill>
                <a:latin typeface="Century Schoolbook"/>
              </a:rPr>
              <a:t>30.07.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2FCBB-5EEE-4EB0-AD89-66C8CCACAB9B}"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CF522-FAAB-41E1-91CB-220A23B4D48A}" type="datetime">
              <a:rPr b="0" lang="ru-RU" sz="1200" spc="-1" strike="noStrike">
                <a:solidFill>
                  <a:srgbClr val="575f6d"/>
                </a:solidFill>
                <a:latin typeface="Century Schoolbook"/>
              </a:rPr>
              <a:t>30.07.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CB912-1AF3-4AC0-826C-8B44024DD03C}"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Овал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Овал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Овал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Овал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Овал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ая соединительная линия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CF29C-37E1-4CA2-8DBE-7F58776D294C}" type="datetime">
              <a:rPr b="0" lang="ru-RU" sz="1200" spc="-1" strike="noStrike">
                <a:solidFill>
                  <a:srgbClr val="fff39d"/>
                </a:solidFill>
                <a:latin typeface="Century Schoolbook"/>
              </a:rPr>
              <a:t>30.07.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39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39d"/>
                </a:solidFill>
                <a:latin typeface="Century Schoolbook"/>
              </a:rPr>
              <a:t>www.sliderpoint.org</a:t>
            </a:r>
            <a:endParaRPr b="0" lang="en-US" sz="12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BBB30-997C-4247-8340-0D96A11ADE8E}"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DBD2E-E1FE-44E2-9468-959DE56CDF43}" type="datetime">
              <a:rPr b="0" lang="ru-RU" sz="1200" spc="-1" strike="noStrike">
                <a:solidFill>
                  <a:srgbClr val="575f6d"/>
                </a:solidFill>
                <a:latin typeface="Century Schoolbook"/>
              </a:rPr>
              <a:t>30.07.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81D0F-3FCE-4949-AA5F-1CEA82F057B8}"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Прямая соединительная линия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Прямоугольник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Овал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490FA-91E0-4EB7-8303-BED2A91B7FC6}" type="datetime">
              <a:rPr b="0" lang="ru-RU" sz="1200" spc="-1" strike="noStrike">
                <a:solidFill>
                  <a:srgbClr val="575f6d"/>
                </a:solidFill>
                <a:latin typeface="Century Schoolbook"/>
              </a:rPr>
              <a:t>30.07.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3B768-7CDC-4EAC-8784-0BCEB717E047}"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Овал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ая соединительная линия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оугольник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ая соединительная линия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03D76-FCA7-4D68-B658-6D133BC30470}" type="datetime">
              <a:rPr b="0" lang="ru-RU" sz="1200" spc="-1" strike="noStrike">
                <a:solidFill>
                  <a:srgbClr val="575f6d"/>
                </a:solidFill>
                <a:latin typeface="Century Schoolbook"/>
              </a:rPr>
              <a:t>30.07.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F8008-5EBE-4639-A718-74CD225FC3D2}"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285640" y="980640"/>
            <a:ext cx="6172200" cy="230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3668c4"/>
                </a:solidFill>
                <a:latin typeface="Century Schoolbook"/>
              </a:rPr>
              <a:t>БЫТОВЫЕ ОТРАВЛЕНИЯ.</a:t>
            </a:r>
            <a:endParaRPr b="0" lang="en-US" sz="6600" spc="-1" strike="noStrike">
              <a:solidFill>
                <a:srgbClr val="575f6d"/>
              </a:solidFill>
              <a:latin typeface="Century Schoolbook"/>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75f6d"/>
                </a:solidFill>
                <a:latin typeface="Century Schoolbook"/>
              </a:rPr>
              <a:t>                                      </a:t>
            </a:r>
            <a:r>
              <a:rPr b="1" lang="ru-RU" sz="1800" spc="-1" strike="noStrike">
                <a:solidFill>
                  <a:srgbClr val="292400"/>
                </a:solidFill>
                <a:latin typeface="Century Schoolbook"/>
              </a:rPr>
              <a:t>Выполнили:   Северикова Е. Г.,</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92400"/>
                </a:solidFill>
                <a:latin typeface="Century Schoolbook"/>
              </a:rPr>
              <a:t>                                                                </a:t>
            </a:r>
            <a:r>
              <a:rPr b="1" lang="ru-RU" sz="1800" spc="-1" strike="noStrike">
                <a:solidFill>
                  <a:srgbClr val="292400"/>
                </a:solidFill>
                <a:latin typeface="Century Schoolbook"/>
              </a:rPr>
              <a:t>Щетинина Е. А.</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60" name="Місце для нижнього колонтитула 4"/>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358"/>
                                        </p:tgtEl>
                                        <p:attrNameLst>
                                          <p:attrName>style.visibility</p:attrName>
                                        </p:attrNameLst>
                                      </p:cBhvr>
                                      <p:to>
                                        <p:strVal val="visible"/>
                                      </p:to>
                                    </p:set>
                                    <p:anim calcmode="lin" valueType="num">
                                      <p:cBhvr additive="base">
                                        <p:cTn id="7" dur="500" fill="hold"/>
                                        <p:tgtEl>
                                          <p:spTgt spid="358"/>
                                        </p:tgtEl>
                                        <p:attrNameLst>
                                          <p:attrName>ppt_x</p:attrName>
                                        </p:attrNameLst>
                                      </p:cBhvr>
                                      <p:tavLst>
                                        <p:tav tm="0">
                                          <p:val>
                                            <p:strVal val="#ppt_x"/>
                                          </p:val>
                                        </p:tav>
                                        <p:tav tm="100000">
                                          <p:val>
                                            <p:strVal val="#ppt_x"/>
                                          </p:val>
                                        </p:tav>
                                      </p:tavLst>
                                    </p:anim>
                                    <p:anim calcmode="lin" valueType="num">
                                      <p:cBhvr additive="base">
                                        <p:cTn id="8" dur="5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62110"/>
                </a:solidFill>
                <a:latin typeface="Century Schoolbook"/>
              </a:rPr>
              <a:t>ОТРАВЛЕНИЕ ЯДОХИМИКАТАМИ.</a:t>
            </a:r>
            <a:endParaRPr b="0" lang="en-US" sz="3000" spc="-1" strike="noStrike">
              <a:solidFill>
                <a:srgbClr val="575f6d"/>
              </a:solidFill>
              <a:latin typeface="Century Schoolbook"/>
            </a:endParaRPr>
          </a:p>
        </p:txBody>
      </p:sp>
      <p:sp>
        <p:nvSpPr>
          <p:cNvPr id="383" name=""/>
          <p:cNvSpPr txBox="1"/>
          <p:nvPr/>
        </p:nvSpPr>
        <p:spPr>
          <a:xfrm>
            <a:off x="456840" y="1600200"/>
            <a:ext cx="4546440" cy="45720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Наиболее часто происходят отравления фосфорорганическими соединениями (тиофос, хлорофос), которые могут попадать в организм ингаляционным путем вместе с вдыхаемым воздухом и энтерально — вместе с пищевыми продуктами.</a:t>
            </a:r>
            <a:endParaRPr b="0" lang="en-US" sz="2400" spc="-1" strike="noStrike">
              <a:solidFill>
                <a:srgbClr val="000000"/>
              </a:solidFill>
              <a:latin typeface="Century Schoolbook"/>
            </a:endParaRPr>
          </a:p>
        </p:txBody>
      </p:sp>
      <p:pic>
        <p:nvPicPr>
          <p:cNvPr id="384" name="Содержимое 4" descr="5ed0543613ec4b5e8d63ae96b957bfd0.jpg"/>
          <p:cNvPicPr/>
          <p:nvPr/>
        </p:nvPicPr>
        <p:blipFill>
          <a:blip r:embed="rId1"/>
          <a:stretch/>
        </p:blipFill>
        <p:spPr>
          <a:xfrm>
            <a:off x="5219640" y="2276640"/>
            <a:ext cx="3240000" cy="2815920"/>
          </a:xfrm>
          <a:prstGeom prst="rect">
            <a:avLst/>
          </a:prstGeom>
          <a:ln w="0">
            <a:noFill/>
          </a:ln>
        </p:spPr>
      </p:pic>
      <p:sp>
        <p:nvSpPr>
          <p:cNvPr id="385"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2" presetSubtype="4">
                                  <p:stCondLst>
                                    <p:cond delay="0"/>
                                  </p:stCondLst>
                                  <p:childTnLst>
                                    <p:set>
                                      <p:cBhvr>
                                        <p:cTn id="51" dur="1" fill="hold">
                                          <p:stCondLst>
                                            <p:cond delay="0"/>
                                          </p:stCondLst>
                                        </p:cTn>
                                        <p:tgtEl>
                                          <p:spTgt spid="384"/>
                                        </p:tgtEl>
                                        <p:attrNameLst>
                                          <p:attrName>style.visibility</p:attrName>
                                        </p:attrNameLst>
                                      </p:cBhvr>
                                      <p:to>
                                        <p:strVal val="visible"/>
                                      </p:to>
                                    </p:set>
                                    <p:anim calcmode="lin" valueType="num">
                                      <p:cBhvr additive="base">
                                        <p:cTn id="52" dur="500" fill="hold"/>
                                        <p:tgtEl>
                                          <p:spTgt spid="384"/>
                                        </p:tgtEl>
                                        <p:attrNameLst>
                                          <p:attrName>ppt_x</p:attrName>
                                        </p:attrNameLst>
                                      </p:cBhvr>
                                      <p:tavLst>
                                        <p:tav tm="0">
                                          <p:val>
                                            <p:strVal val="#ppt_x"/>
                                          </p:val>
                                        </p:tav>
                                        <p:tav tm="100000">
                                          <p:val>
                                            <p:strVal val="#ppt_x"/>
                                          </p:val>
                                        </p:tav>
                                      </p:tavLst>
                                    </p:anim>
                                    <p:anim calcmode="lin" valueType="num">
                                      <p:cBhvr additive="base">
                                        <p:cTn id="53" dur="500" fill="hold"/>
                                        <p:tgtEl>
                                          <p:spTgt spid="3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62110"/>
                </a:solidFill>
                <a:latin typeface="Century Schoolbook"/>
              </a:rPr>
              <a:t>ПЕРВАЯ МЕДИЦИНСКАЯ ПОМОЩЬ ПРИ ОТРАВЛЕНИИ ЯДОХИМИКАТАМИ.</a:t>
            </a:r>
            <a:endParaRPr b="0" lang="en-US" sz="3000" spc="-1" strike="noStrike">
              <a:solidFill>
                <a:srgbClr val="575f6d"/>
              </a:solidFill>
              <a:latin typeface="Century Schoolbook"/>
            </a:endParaRPr>
          </a:p>
        </p:txBody>
      </p:sp>
      <p:sp>
        <p:nvSpPr>
          <p:cNvPr id="387" name=""/>
          <p:cNvSpPr txBox="1"/>
          <p:nvPr/>
        </p:nvSpPr>
        <p:spPr>
          <a:xfrm>
            <a:off x="456840" y="1600200"/>
            <a:ext cx="7467480" cy="4997520"/>
          </a:xfrm>
          <a:prstGeom prst="rect">
            <a:avLst/>
          </a:prstGeom>
          <a:noFill/>
          <a:ln w="0">
            <a:noFill/>
          </a:ln>
        </p:spPr>
        <p:txBody>
          <a:bodyPr anchor="t">
            <a:normAutofit fontScale="98000"/>
          </a:bodyPr>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При отравлениях, возникших вслед­ствие вдыхания ядохимикатов, основной задачей первой помощи является немедленная транспортировка постра­давшего в стационар. При возможности больному необ­ходимо дать 6—8 капель 0,1% раствора атропина или 1—2 таблетки белладонны. В случае остановки дыхания следует проводить непрерывное искусственное дыхание. При отравлениях вследствие попадания ядов в желудочно-кишечный тракт необходимо промывание желудка водой со взвесью активированного угля; дают солевые слабительные. Ядохимикаты с кожи и слизистых оболо­чек следует удалить струёй воды»</a:t>
            </a:r>
            <a:endParaRPr b="0" lang="en-US" sz="2200" spc="-1" strike="noStrike">
              <a:solidFill>
                <a:srgbClr val="000000"/>
              </a:solidFill>
              <a:latin typeface="Century Schoolbook"/>
            </a:endParaRPr>
          </a:p>
        </p:txBody>
      </p:sp>
      <p:sp>
        <p:nvSpPr>
          <p:cNvPr id="388"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030a0"/>
                </a:solidFill>
                <a:latin typeface="Century Schoolbook"/>
              </a:rPr>
              <a:t>ОТРАВЛЕНИЕ СВЕТИЛЬНЫМ И УГАРНЫМ ГАЗАМИ.</a:t>
            </a:r>
            <a:endParaRPr b="0" lang="en-US" sz="3000" spc="-1" strike="noStrike">
              <a:solidFill>
                <a:srgbClr val="575f6d"/>
              </a:solidFill>
              <a:latin typeface="Century Schoolbook"/>
            </a:endParaRPr>
          </a:p>
        </p:txBody>
      </p:sp>
      <p:sp>
        <p:nvSpPr>
          <p:cNvPr id="390" name=""/>
          <p:cNvSpPr txBox="1"/>
          <p:nvPr/>
        </p:nvSpPr>
        <p:spPr>
          <a:xfrm>
            <a:off x="457200" y="1600200"/>
            <a:ext cx="4835520" cy="47815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Отравление угарным газом возможно на производствах, где угарный газ используется для синтеза ряда органических веществ, в гаражах при плохой вентиляции, в непроветриваемых вновь окрашенных помещениях, а также в домашних условиях – при утечке светильного газа и при несвоевременно закрытых печных заслонках в помещениях с  печным отоплением.</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391" name="Содержимое 4" descr="46.jpg"/>
          <p:cNvPicPr/>
          <p:nvPr/>
        </p:nvPicPr>
        <p:blipFill>
          <a:blip r:embed="rId1"/>
          <a:stretch/>
        </p:blipFill>
        <p:spPr>
          <a:xfrm>
            <a:off x="5867280" y="1628640"/>
            <a:ext cx="2733840" cy="4572000"/>
          </a:xfrm>
          <a:prstGeom prst="rect">
            <a:avLst/>
          </a:prstGeom>
          <a:ln w="0">
            <a:noFill/>
          </a:ln>
        </p:spPr>
      </p:pic>
      <p:sp>
        <p:nvSpPr>
          <p:cNvPr id="392" name="Місце для нижнього колонтитула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afterEffect" fill="hold" presetClass="entr" presetID="2" presetSubtype="4">
                                  <p:stCondLst>
                                    <p:cond delay="0"/>
                                  </p:stCondLst>
                                  <p:childTnLst>
                                    <p:set>
                                      <p:cBhvr>
                                        <p:cTn id="59" dur="1" fill="hold">
                                          <p:stCondLst>
                                            <p:cond delay="0"/>
                                          </p:stCondLst>
                                        </p:cTn>
                                        <p:tgtEl>
                                          <p:spTgt spid="391"/>
                                        </p:tgtEl>
                                        <p:attrNameLst>
                                          <p:attrName>style.visibility</p:attrName>
                                        </p:attrNameLst>
                                      </p:cBhvr>
                                      <p:to>
                                        <p:strVal val="visible"/>
                                      </p:to>
                                    </p:set>
                                    <p:anim calcmode="lin" valueType="num">
                                      <p:cBhvr additive="base">
                                        <p:cTn id="60" dur="500" fill="hold"/>
                                        <p:tgtEl>
                                          <p:spTgt spid="391"/>
                                        </p:tgtEl>
                                        <p:attrNameLst>
                                          <p:attrName>ppt_x</p:attrName>
                                        </p:attrNameLst>
                                      </p:cBhvr>
                                      <p:tavLst>
                                        <p:tav tm="0">
                                          <p:val>
                                            <p:strVal val="#ppt_x"/>
                                          </p:val>
                                        </p:tav>
                                        <p:tav tm="100000">
                                          <p:val>
                                            <p:strVal val="#ppt_x"/>
                                          </p:val>
                                        </p:tav>
                                      </p:tavLst>
                                    </p:anim>
                                    <p:anim calcmode="lin" valueType="num">
                                      <p:cBhvr additive="base">
                                        <p:cTn id="61" dur="500" fill="hold"/>
                                        <p:tgtEl>
                                          <p:spTgt spid="3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7030a0"/>
                </a:solidFill>
                <a:latin typeface="Century Schoolbook"/>
              </a:rPr>
              <a:t>ПЕРВАЯ МЕДИЦИНСКАЯ ПОМОЩЬ ПРИ ОТРАВЛЕНИИ СВЕТИЛЬНЫМ И УГАРНЫМ ГАЗАМИ.</a:t>
            </a:r>
            <a:endParaRPr b="0" lang="en-US" sz="2700" spc="-1" strike="noStrike">
              <a:solidFill>
                <a:srgbClr val="575f6d"/>
              </a:solidFill>
              <a:latin typeface="Century Schoolbook"/>
            </a:endParaRPr>
          </a:p>
        </p:txBody>
      </p:sp>
      <p:sp>
        <p:nvSpPr>
          <p:cNvPr id="394" name=""/>
          <p:cNvSpPr txBox="1"/>
          <p:nvPr/>
        </p:nvSpPr>
        <p:spPr>
          <a:xfrm>
            <a:off x="456840" y="1600200"/>
            <a:ext cx="7467480" cy="49975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Первая помощь заключается, прежде всего, в немедленном удалении отравленного из данного помещения. При слабом поверхностном дыхании или его остановке необходимо немедленно начать искусственное дыхание, которое следует проводить до появления самостоятельного адекватного дыхания или до появления явных признаков биологической смерти. Больные с тяжелым отравлением подлежат госпитализации, так как возможно развитие тяжелых осложнений со стороны легких и нервной системы в более позднем периоде»</a:t>
            </a:r>
            <a:endParaRPr b="0" lang="en-US" sz="2400" spc="-1" strike="noStrike">
              <a:solidFill>
                <a:srgbClr val="000000"/>
              </a:solidFill>
              <a:latin typeface="Century Schoolbook"/>
            </a:endParaRPr>
          </a:p>
        </p:txBody>
      </p:sp>
      <p:sp>
        <p:nvSpPr>
          <p:cNvPr id="395"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e75c01"/>
                </a:solidFill>
                <a:latin typeface="Century Schoolbook"/>
              </a:rPr>
              <a:t>ОТРАВЛЕНИЕ КИСЛОТАМИ И ЩЕЛОЧАМИ.</a:t>
            </a:r>
            <a:endParaRPr b="0" lang="en-US" sz="3000" spc="-1" strike="noStrike">
              <a:solidFill>
                <a:srgbClr val="575f6d"/>
              </a:solidFill>
              <a:latin typeface="Century Schoolbook"/>
            </a:endParaRPr>
          </a:p>
        </p:txBody>
      </p:sp>
      <p:sp>
        <p:nvSpPr>
          <p:cNvPr id="397" name=""/>
          <p:cNvSpPr txBox="1"/>
          <p:nvPr/>
        </p:nvSpPr>
        <p:spPr>
          <a:xfrm>
            <a:off x="457200" y="1600200"/>
            <a:ext cx="4835520" cy="4572000"/>
          </a:xfrm>
          <a:prstGeom prst="rect">
            <a:avLst/>
          </a:prstGeom>
          <a:noFill/>
          <a:ln w="0">
            <a:noFill/>
          </a:ln>
        </p:spPr>
        <p:txBody>
          <a:bodyPr anchor="t">
            <a:normAutofit fontScale="97000"/>
          </a:bodyPr>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При отравлении (приеме внутрь) концентрированны­ми кислотами и едкими щелочами очень быстро развива­ется тяжелое состояние, которое объясняется в первую очередь возникшими обширными ожогами полости рта, глотки, пищевода, желудка, а нередко и гортани, позднее воздействием всосавшихся веществ на жизненно важные органы (печень, почки, легкие, сердце).</a:t>
            </a:r>
            <a:endParaRPr b="0" lang="en-US" sz="2200" spc="-1" strike="noStrike">
              <a:solidFill>
                <a:srgbClr val="000000"/>
              </a:solidFill>
              <a:latin typeface="Century Schoolbook"/>
            </a:endParaRPr>
          </a:p>
        </p:txBody>
      </p:sp>
      <p:pic>
        <p:nvPicPr>
          <p:cNvPr id="398" name="Содержимое 4" descr="bild039.jpg"/>
          <p:cNvPicPr/>
          <p:nvPr/>
        </p:nvPicPr>
        <p:blipFill>
          <a:blip r:embed="rId1"/>
          <a:stretch/>
        </p:blipFill>
        <p:spPr>
          <a:xfrm>
            <a:off x="6012000" y="1989000"/>
            <a:ext cx="2411280" cy="3548160"/>
          </a:xfrm>
          <a:prstGeom prst="rect">
            <a:avLst/>
          </a:prstGeom>
          <a:ln w="0">
            <a:noFill/>
          </a:ln>
        </p:spPr>
      </p:pic>
      <p:sp>
        <p:nvSpPr>
          <p:cNvPr id="399" name="Місце для нижнього колонтитула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2" presetSubtype="4">
                                  <p:stCondLst>
                                    <p:cond delay="0"/>
                                  </p:stCondLst>
                                  <p:childTnLst>
                                    <p:set>
                                      <p:cBhvr>
                                        <p:cTn id="67" dur="1" fill="hold">
                                          <p:stCondLst>
                                            <p:cond delay="0"/>
                                          </p:stCondLst>
                                        </p:cTn>
                                        <p:tgtEl>
                                          <p:spTgt spid="398"/>
                                        </p:tgtEl>
                                        <p:attrNameLst>
                                          <p:attrName>style.visibility</p:attrName>
                                        </p:attrNameLst>
                                      </p:cBhvr>
                                      <p:to>
                                        <p:strVal val="visible"/>
                                      </p:to>
                                    </p:set>
                                    <p:anim calcmode="lin" valueType="num">
                                      <p:cBhvr additive="base">
                                        <p:cTn id="68" dur="500" fill="hold"/>
                                        <p:tgtEl>
                                          <p:spTgt spid="398"/>
                                        </p:tgtEl>
                                        <p:attrNameLst>
                                          <p:attrName>ppt_x</p:attrName>
                                        </p:attrNameLst>
                                      </p:cBhvr>
                                      <p:tavLst>
                                        <p:tav tm="0">
                                          <p:val>
                                            <p:strVal val="#ppt_x"/>
                                          </p:val>
                                        </p:tav>
                                        <p:tav tm="100000">
                                          <p:val>
                                            <p:strVal val="#ppt_x"/>
                                          </p:val>
                                        </p:tav>
                                      </p:tavLst>
                                    </p:anim>
                                    <p:anim calcmode="lin" valueType="num">
                                      <p:cBhvr additive="base">
                                        <p:cTn id="69" dur="500" fill="hold"/>
                                        <p:tgtEl>
                                          <p:spTgt spid="3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e75c01"/>
                </a:solidFill>
                <a:latin typeface="Century Schoolbook"/>
              </a:rPr>
              <a:t>ПЕРВАЯ МЕДИЦИНСКАЯ ПОМОЩЬ ПРИ ОТРАВЛЕНИИ КИСЛОТАМИ И ЩЕЛОЧАМИ.</a:t>
            </a:r>
            <a:endParaRPr b="0" lang="en-US" sz="3000" spc="-1" strike="noStrike">
              <a:solidFill>
                <a:srgbClr val="575f6d"/>
              </a:solidFill>
              <a:latin typeface="Century Schoolbook"/>
            </a:endParaRPr>
          </a:p>
        </p:txBody>
      </p:sp>
      <p:sp>
        <p:nvSpPr>
          <p:cNvPr id="40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При отравлении концентрированным кислотами, если нет симптомов прободения пищевода и желудка, необходимо прежде всего промыть желудок через толстый зонд 6—10 л теплой воды с добавлением жженой магнезии (20 г на 1 л жидкости).</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При отравлении концентрированными щелочами также необходимо немедленно промыть желудок 6—10 л теплой воды или раствором лимонной или уксусной кислоты. Промывание показано в первые 4 ч после отравления</a:t>
            </a:r>
            <a:endParaRPr b="0" lang="en-US" sz="2400" spc="-1" strike="noStrike">
              <a:solidFill>
                <a:srgbClr val="000000"/>
              </a:solidFill>
              <a:latin typeface="Century Schoolbook"/>
            </a:endParaRPr>
          </a:p>
        </p:txBody>
      </p:sp>
      <p:sp>
        <p:nvSpPr>
          <p:cNvPr id="402"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620280"/>
            <a:ext cx="8136000" cy="5545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575f6d"/>
                </a:solidFill>
                <a:latin typeface="Century Schoolbook"/>
              </a:rPr>
              <a:t> </a:t>
            </a:r>
            <a:r>
              <a:rPr b="0" lang="ru-RU" sz="3600" spc="-1" strike="noStrike">
                <a:solidFill>
                  <a:srgbClr val="3668c4"/>
                </a:solidFill>
                <a:latin typeface="Century Schoolbook"/>
              </a:rPr>
              <a:t>«ОТРАВЛЕНИЯ – ПАТОЛОГИЧЕСКИЕ ПРОЦЕССЫ, РАЗВИВАЮЩИЕСЯ ВСЛЕДСТВИЕ ВОЗДЕЙСТВИЯ НА ЧЕЛОВЕКА ИЛИ ЖИВОТНОГО ЭКЗОГЕННО ПОПАВШИХ В ОРГАНИЗМ ХИМИЧЕСКИХ ВЕЩЕСТВ, СПОСОБНЫХ ВЫЗВАТЬ НАРУШЕНИЯ РАЗЛИЧНЫХ ФИЗИОЛОГИЧЕСКИХ ФУНКЦИЙ И СОЗДАТЬ ОПАСНОСТЬ ДЛЯ ЖИЗНИ»</a:t>
            </a:r>
            <a:endParaRPr b="0" lang="en-US" sz="3600" spc="-1" strike="noStrike">
              <a:solidFill>
                <a:srgbClr val="575f6d"/>
              </a:solidFill>
              <a:latin typeface="Century Schoolbook"/>
            </a:endParaRPr>
          </a:p>
        </p:txBody>
      </p:sp>
      <p:sp>
        <p:nvSpPr>
          <p:cNvPr id="362"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mph" presetID="8">
                                  <p:stCondLst>
                                    <p:cond delay="0"/>
                                  </p:stCondLst>
                                  <p:childTnLst>
                                    <p:animRot by="21600000">
                                      <p:cBhvr>
                                        <p:cTn id="14" dur="1000" fill="hold"/>
                                        <p:tgtEl>
                                          <p:spTgt spid="36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603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668c4"/>
                </a:solidFill>
                <a:latin typeface="Century Schoolbook"/>
              </a:rPr>
              <a:t>КЛАССИФИКАЦИЯ БЫТОВЫХ ОТРАВЛЕНИЯ.</a:t>
            </a:r>
            <a:br>
              <a:rPr sz="2700"/>
            </a:br>
            <a:br>
              <a:rPr sz="2700"/>
            </a:br>
            <a:r>
              <a:rPr b="0" lang="ru-RU" sz="2700" spc="-1" strike="noStrike">
                <a:solidFill>
                  <a:srgbClr val="7030a0"/>
                </a:solidFill>
                <a:latin typeface="Century Schoolbook"/>
              </a:rPr>
              <a:t>- ПИЩЕВЫЕ ОТРАВЛЕНИЯ</a:t>
            </a:r>
            <a:br>
              <a:rPr sz="2700"/>
            </a:br>
            <a:br>
              <a:rPr sz="2700"/>
            </a:br>
            <a:r>
              <a:rPr b="0" lang="ru-RU" sz="2700" spc="-1" strike="noStrike">
                <a:solidFill>
                  <a:srgbClr val="7030a0"/>
                </a:solidFill>
                <a:latin typeface="Century Schoolbook"/>
              </a:rPr>
              <a:t>- ОТРАВЛЕНИЯ ЛЕКАРСТВЕННЫМИ ПРЕПАРАТАМИ И АЛКОГОЛЕМ </a:t>
            </a:r>
            <a:br>
              <a:rPr sz="2700"/>
            </a:br>
            <a:br>
              <a:rPr sz="2700"/>
            </a:br>
            <a:r>
              <a:rPr b="0" lang="ru-RU" sz="2700" spc="-1" strike="noStrike">
                <a:solidFill>
                  <a:srgbClr val="7030a0"/>
                </a:solidFill>
                <a:latin typeface="Century Schoolbook"/>
              </a:rPr>
              <a:t>- ОТРАВЛЕНИЕ ЯДОХИМИКАТАМИ </a:t>
            </a:r>
            <a:br>
              <a:rPr sz="2700"/>
            </a:br>
            <a:br>
              <a:rPr sz="2700"/>
            </a:br>
            <a:r>
              <a:rPr b="0" lang="ru-RU" sz="2700" spc="-1" strike="noStrike">
                <a:solidFill>
                  <a:srgbClr val="7030a0"/>
                </a:solidFill>
                <a:latin typeface="Century Schoolbook"/>
              </a:rPr>
              <a:t>- ОТРАВЛЕНИЕ СВЕТИЛЬНЫМ И УГАРНЫМ ГАЗАМИ </a:t>
            </a:r>
            <a:br>
              <a:rPr sz="2700"/>
            </a:br>
            <a:br>
              <a:rPr sz="2700"/>
            </a:br>
            <a:r>
              <a:rPr b="0" lang="ru-RU" sz="2700" spc="-1" strike="noStrike">
                <a:solidFill>
                  <a:srgbClr val="7030a0"/>
                </a:solidFill>
                <a:latin typeface="Century Schoolbook"/>
              </a:rPr>
              <a:t>- ОТРАВЛЕНИЕ КИСЛОТАМИ И ЩЕЛОЧАМИ </a:t>
            </a:r>
            <a:br>
              <a:rPr sz="2700"/>
            </a:br>
            <a:br>
              <a:rPr sz="2700"/>
            </a:br>
            <a:endParaRPr b="0" lang="en-US" sz="2700" spc="-1" strike="noStrike">
              <a:solidFill>
                <a:srgbClr val="575f6d"/>
              </a:solidFill>
              <a:latin typeface="Century Schoolbook"/>
            </a:endParaRPr>
          </a:p>
        </p:txBody>
      </p:sp>
      <p:sp>
        <p:nvSpPr>
          <p:cNvPr id="364"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8" presetSubtype="16">
                                  <p:stCondLst>
                                    <p:cond delay="0"/>
                                  </p:stCondLst>
                                  <p:childTnLst>
                                    <p:set>
                                      <p:cBhvr>
                                        <p:cTn id="20" dur="1" fill="hold">
                                          <p:stCondLst>
                                            <p:cond delay="0"/>
                                          </p:stCondLst>
                                        </p:cTn>
                                        <p:tgtEl>
                                          <p:spTgt spid="363"/>
                                        </p:tgtEl>
                                        <p:attrNameLst>
                                          <p:attrName>style.visibility</p:attrName>
                                        </p:attrNameLst>
                                      </p:cBhvr>
                                      <p:to>
                                        <p:strVal val="visible"/>
                                      </p:to>
                                    </p:set>
                                    <p:animEffect filter="diamond(in)" transition="in">
                                      <p:cBhvr additive="repl">
                                        <p:cTn id="21" dur="20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3668c4"/>
                </a:solidFill>
                <a:latin typeface="Century Schoolbook"/>
              </a:rPr>
              <a:t>ПИЩЕВОЕ ОТРАВЛЕНИЕ. </a:t>
            </a:r>
            <a:endParaRPr b="0" lang="en-US" sz="3000" spc="-1" strike="noStrike">
              <a:solidFill>
                <a:srgbClr val="575f6d"/>
              </a:solidFill>
              <a:latin typeface="Century Schoolbook"/>
            </a:endParaRPr>
          </a:p>
        </p:txBody>
      </p:sp>
      <p:sp>
        <p:nvSpPr>
          <p:cNvPr id="366" name=""/>
          <p:cNvSpPr txBox="1"/>
          <p:nvPr/>
        </p:nvSpPr>
        <p:spPr>
          <a:xfrm>
            <a:off x="456840" y="1600200"/>
            <a:ext cx="7467480" cy="4873680"/>
          </a:xfrm>
          <a:prstGeom prst="rect">
            <a:avLst/>
          </a:prstGeom>
          <a:noFill/>
          <a:ln w="0">
            <a:noFill/>
          </a:ln>
        </p:spPr>
        <p:txBody>
          <a:bodyPr anchor="t">
            <a:normAutofit fontScale="99000"/>
          </a:bodyPr>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При приеме внутрь недоброкачественных (инфицированных) продуктов животного происхождения (мясо, рыба, колбасные изделия, мясные и рыбные консервы, молоко и изделия из него и т.д.) возникает пищевое отравление – пищевая токсикоинфекция. Заболевание вызывают находящиеся в данном продукте микробы и продукты их жизнедеятельности – токсины». Мясо, рыба могут инфицироваться еще при жизни животных, но наиболее часто это происходит в процессе приготовления пищи и неправильного хранения пищевых продуктов. </a:t>
            </a:r>
            <a:endParaRPr b="0" lang="en-US" sz="2400" spc="-1" strike="noStrike">
              <a:solidFill>
                <a:srgbClr val="000000"/>
              </a:solidFill>
              <a:latin typeface="Century Schoolbook"/>
            </a:endParaRPr>
          </a:p>
        </p:txBody>
      </p:sp>
      <p:sp>
        <p:nvSpPr>
          <p:cNvPr id="367"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b32c16"/>
                </a:solidFill>
                <a:latin typeface="Century Schoolbook"/>
              </a:rPr>
              <a:t>ПИЩЕВОЕ ОТРАВЛЕНИЕ.</a:t>
            </a:r>
            <a:endParaRPr b="0" lang="en-US" sz="3000" spc="-1" strike="noStrike">
              <a:solidFill>
                <a:srgbClr val="575f6d"/>
              </a:solidFill>
              <a:latin typeface="Century Schoolbook"/>
            </a:endParaRPr>
          </a:p>
        </p:txBody>
      </p:sp>
      <p:pic>
        <p:nvPicPr>
          <p:cNvPr id="369" name="Содержимое 3" descr="t4_2125215.jpg"/>
          <p:cNvPicPr/>
          <p:nvPr/>
        </p:nvPicPr>
        <p:blipFill>
          <a:blip r:embed="rId1"/>
          <a:stretch/>
        </p:blipFill>
        <p:spPr>
          <a:xfrm>
            <a:off x="324000" y="1557360"/>
            <a:ext cx="4246560" cy="3600360"/>
          </a:xfrm>
          <a:prstGeom prst="rect">
            <a:avLst/>
          </a:prstGeom>
          <a:ln w="0">
            <a:noFill/>
          </a:ln>
        </p:spPr>
      </p:pic>
      <p:pic>
        <p:nvPicPr>
          <p:cNvPr id="370" name="Picture 2" descr=""/>
          <p:cNvPicPr/>
          <p:nvPr/>
        </p:nvPicPr>
        <p:blipFill>
          <a:blip r:embed="rId2"/>
          <a:stretch/>
        </p:blipFill>
        <p:spPr>
          <a:xfrm>
            <a:off x="4859280" y="3429000"/>
            <a:ext cx="3600360" cy="3024360"/>
          </a:xfrm>
          <a:prstGeom prst="rect">
            <a:avLst/>
          </a:prstGeom>
          <a:ln w="0">
            <a:noFill/>
          </a:ln>
        </p:spPr>
      </p:pic>
      <p:sp>
        <p:nvSpPr>
          <p:cNvPr id="371"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22" presetSubtype="4">
                                  <p:stCondLst>
                                    <p:cond delay="0"/>
                                  </p:stCondLst>
                                  <p:childTnLst>
                                    <p:set>
                                      <p:cBhvr>
                                        <p:cTn id="27" dur="1" fill="hold">
                                          <p:stCondLst>
                                            <p:cond delay="0"/>
                                          </p:stCondLst>
                                        </p:cTn>
                                        <p:tgtEl>
                                          <p:spTgt spid="369"/>
                                        </p:tgtEl>
                                        <p:attrNameLst>
                                          <p:attrName>style.visibility</p:attrName>
                                        </p:attrNameLst>
                                      </p:cBhvr>
                                      <p:to>
                                        <p:strVal val="visible"/>
                                      </p:to>
                                    </p:set>
                                    <p:animEffect filter="wipe(down)" transition="in">
                                      <p:cBhvr additive="repl">
                                        <p:cTn id="28" dur="500"/>
                                        <p:tgtEl>
                                          <p:spTgt spid="369"/>
                                        </p:tgtEl>
                                      </p:cBhvr>
                                    </p:animEffect>
                                  </p:childTnLst>
                                </p:cTn>
                              </p:par>
                            </p:childTnLst>
                          </p:cTn>
                        </p:par>
                        <p:par>
                          <p:cTn id="29" nodeType="afterEffect" fill="hold">
                            <p:stCondLst>
                              <p:cond delay="500"/>
                            </p:stCondLst>
                            <p:childTnLst>
                              <p:par>
                                <p:cTn id="30" nodeType="afterEffect" fill="hold" presetClass="entr" presetID="22" presetSubtype="4">
                                  <p:stCondLst>
                                    <p:cond delay="0"/>
                                  </p:stCondLst>
                                  <p:childTnLst>
                                    <p:set>
                                      <p:cBhvr>
                                        <p:cTn id="31" dur="1" fill="hold">
                                          <p:stCondLst>
                                            <p:cond delay="0"/>
                                          </p:stCondLst>
                                        </p:cTn>
                                        <p:tgtEl>
                                          <p:spTgt spid="370"/>
                                        </p:tgtEl>
                                        <p:attrNameLst>
                                          <p:attrName>style.visibility</p:attrName>
                                        </p:attrNameLst>
                                      </p:cBhvr>
                                      <p:to>
                                        <p:strVal val="visible"/>
                                      </p:to>
                                    </p:set>
                                    <p:animEffect filter="wipe(down)" transition="in">
                                      <p:cBhvr additive="repl">
                                        <p:cTn id="32"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5962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b32c16"/>
                </a:solidFill>
                <a:latin typeface="Century Schoolbook"/>
              </a:rPr>
              <a:t>ПЕРВАЯ ПОМОЩЬ ПРИ ПИЩЕВОМ ОТРАВЛЕНИИ.   </a:t>
            </a:r>
            <a:br>
              <a:rPr sz="2800"/>
            </a:br>
            <a:r>
              <a:rPr b="0" lang="ru-RU" sz="3000" spc="-1" strike="noStrike">
                <a:solidFill>
                  <a:srgbClr val="575f6d"/>
                </a:solidFill>
                <a:latin typeface="Century Schoolbook"/>
              </a:rPr>
              <a:t> </a:t>
            </a:r>
            <a:r>
              <a:rPr b="0" lang="ru-RU" sz="2200" spc="-1" strike="noStrike">
                <a:solidFill>
                  <a:srgbClr val="000000"/>
                </a:solidFill>
                <a:latin typeface="Century Schoolbook"/>
              </a:rPr>
              <a:t>ПЕРВАЯ ПОМОЩЬ ЗАКЛЮЧАЕТСЯ В НЕМЕДЛЕННОМ ПРОМЫВАНИИ ЖЕЛУДКА ВОДОЙ ПРИ ПОМОЩИ ЖЕЛУДОЧНОГО ЗОНД ИЛИ ПУТЕМ ВЫЗЫВАНИЯ ИСКУССТВЕННОЙ РВОТЫ—ОБИЛЬНОЕ ПИТЬЕ ТЕПЛОЙ ВОДЫ (1,5—2 Л) С ПОСЛЕДУЮЩИМ РАЗДРАЖЕНИЕМ КОРНЯ ЯЗЫКА. ПРОМЫВАТЬ СЛЕДУЕТ ДО «ЧИСТОЙ ВОДЫ». ДАВАТЬ ОБИЛЬНОЕ ПИТЬЕ НУЖНО И ПРИ САМОСТОЯТЕЛЬНОЙ РВОТЕ. ДЛЯ СКОРЕЙШЕГО УДАЛЕНИЯ ИЗ КИШЕЧНИКА ИНФИЦИРОВАННЫХ ПРОДУКТОВ БОЛЬНОМУ НЕОБХОДИМО ДАТЬ КАРБОЛЕН (ЖЕЛУДОЧНЫЙ УГОЛЬ) И СЛАБИТЕЛЬНОЕ. ЗАПРЕЩАЕТСЯ ПРИЕМ КАКОЙ-ЛИБО ПИЩИ (В ТЕЧЕНИЕ 1—2 СУТ), НО НАЗНАЧАЕТСЯ ОБИЛЬНОЕ ПИТЬЕ. К ПОСТРАДАВШЕМУ СЛЕДУЕТ ВЫЗВАТЬ СКОРУЮ МЕДИЦИНСКУЮ ПОМОЩЬ ИЛИ ДОСТАВИТ ЕГО В МЕДИЦИНСКОЕ УЧРЕЖДЕНИЕ.</a:t>
            </a:r>
            <a:br>
              <a:rPr sz="2200"/>
            </a:br>
            <a:endParaRPr b="0" lang="en-US" sz="2200" spc="-1" strike="noStrike">
              <a:solidFill>
                <a:srgbClr val="575f6d"/>
              </a:solidFill>
              <a:latin typeface="Century Schoolbook"/>
            </a:endParaRPr>
          </a:p>
        </p:txBody>
      </p:sp>
      <p:sp>
        <p:nvSpPr>
          <p:cNvPr id="373"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7570800" cy="624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b050"/>
                </a:solidFill>
                <a:latin typeface="Century Schoolbook"/>
              </a:rPr>
              <a:t>ОТРАВЛЕНИЯ ЛЕКАРСТВЕННЫМИ ПРЕПАРАТАМИ И АЛКОГОЛЕМ.</a:t>
            </a:r>
            <a:br>
              <a:rPr sz="3000"/>
            </a:br>
            <a:r>
              <a:rPr b="0" lang="ru-RU" sz="3000" spc="-1" strike="noStrike">
                <a:solidFill>
                  <a:srgbClr val="575f6d"/>
                </a:solidFill>
                <a:latin typeface="Century Schoolbook"/>
              </a:rPr>
              <a:t> </a:t>
            </a:r>
            <a:r>
              <a:rPr b="0" lang="ru-RU" sz="2400" spc="-1" strike="noStrike">
                <a:solidFill>
                  <a:srgbClr val="000000"/>
                </a:solidFill>
                <a:latin typeface="Century Schoolbook"/>
              </a:rPr>
              <a:t>ОТРАВЛЕНИЕ МЕДИКАМЕНТОЗНЫМИ СРЕДСТВАМИ ЧАЩЕ ВСЕГО НАБЛЮДАЕТСЯ У ДЕТЕЙ, В СЕМЬЯХ, ГДЕ НЕПРАВИЛЬНО ХРА­НЯТ ЛЕКАРСТВА — В МЕСТАХ, ДОСТУПНЫХ ДЛЯ ДЕТЕЙ. ОТРАВЛЕНИЯ ВЗРОСЛЫХ ПРОИСХОДЯТ ПРИ СЛУЧАЙНОЙ ПЕРЕДОЗИРОВКЕ, СУИЦИДАЛЬНЫХ ПОПЫТКАХ И У ЛИЦ, СТРАДАЮЩИХ НАРКОМАНИЕЙ. ДОВОЛЬНО ЧАСТО ОТРАВЛЕНИЯ РАЗВИВАЮТСЯ ПРИ ПЕРЕДОЗИРОВКЕ СНОТВОРНЫХ СРЕДСТВ (БАРБАМИЛ, НОКСИРОН, НЕМБУТАЛ И ДР.). ПРИ ПРИЕМЕ ЗНАЧИТЕЛЬНЫХ (ТОКСИЧЕСКИХ) КОЛИЧЕСТВ АЛКОГОЛЯ ВОЗМОЖНО ДАЖЕ СМЕРТЕЛЬНОЕ ОТРАВЛЕНИЕ. АЛКОГОЛЬ ОКАЗЫВАЕТ ВОЗДЕЙСТВИЕ НА СЕРДЦЕ, СОСУДЫ, ЖЕЛУДОЧНО-КИШЕЧНЫЙ ТРАКТ, ПЕЧЕНЬ, ПОЧКИ.</a:t>
            </a:r>
            <a:endParaRPr b="0" lang="en-US" sz="2400" spc="-1" strike="noStrike">
              <a:solidFill>
                <a:srgbClr val="575f6d"/>
              </a:solidFill>
              <a:latin typeface="Century Schoolbook"/>
            </a:endParaRPr>
          </a:p>
        </p:txBody>
      </p:sp>
      <p:sp>
        <p:nvSpPr>
          <p:cNvPr id="375"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b050"/>
                </a:solidFill>
                <a:latin typeface="Century Schoolbook"/>
              </a:rPr>
              <a:t>ОТРАВЛЕНИЯ ЛЕКАРСТВЕННЫМИ ПРЕПАРАТАМИ И АЛКОГОЛЕМ</a:t>
            </a:r>
            <a:r>
              <a:rPr b="0" lang="ru-RU" sz="3000" spc="-1" strike="noStrike">
                <a:solidFill>
                  <a:srgbClr val="7030a0"/>
                </a:solidFill>
                <a:latin typeface="Century Schoolbook"/>
              </a:rPr>
              <a:t>.</a:t>
            </a:r>
            <a:endParaRPr b="0" lang="en-US" sz="3000" spc="-1" strike="noStrike">
              <a:solidFill>
                <a:srgbClr val="575f6d"/>
              </a:solidFill>
              <a:latin typeface="Century Schoolbook"/>
            </a:endParaRPr>
          </a:p>
        </p:txBody>
      </p:sp>
      <p:pic>
        <p:nvPicPr>
          <p:cNvPr id="377" name="Содержимое 4" descr="poBG0OaTxptnnkqoPseK1dyho1_400.jpg"/>
          <p:cNvPicPr/>
          <p:nvPr/>
        </p:nvPicPr>
        <p:blipFill>
          <a:blip r:embed="rId1"/>
          <a:stretch/>
        </p:blipFill>
        <p:spPr>
          <a:xfrm>
            <a:off x="457200" y="2057400"/>
            <a:ext cx="3657600" cy="3657600"/>
          </a:xfrm>
          <a:prstGeom prst="rect">
            <a:avLst/>
          </a:prstGeom>
          <a:ln w="0">
            <a:noFill/>
          </a:ln>
        </p:spPr>
      </p:pic>
      <p:pic>
        <p:nvPicPr>
          <p:cNvPr id="378" name="Содержимое 5" descr="alcohol.jpg"/>
          <p:cNvPicPr/>
          <p:nvPr/>
        </p:nvPicPr>
        <p:blipFill>
          <a:blip r:embed="rId2"/>
          <a:stretch/>
        </p:blipFill>
        <p:spPr>
          <a:xfrm>
            <a:off x="4270320" y="2716200"/>
            <a:ext cx="4376880" cy="2800440"/>
          </a:xfrm>
          <a:prstGeom prst="rect">
            <a:avLst/>
          </a:prstGeom>
          <a:ln w="0">
            <a:noFill/>
          </a:ln>
        </p:spPr>
      </p:pic>
      <p:sp>
        <p:nvSpPr>
          <p:cNvPr id="379"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afterEffect" fill="hold" presetClass="entr" presetID="2" presetSubtype="4">
                                  <p:stCondLst>
                                    <p:cond delay="0"/>
                                  </p:stCondLst>
                                  <p:childTnLst>
                                    <p:set>
                                      <p:cBhvr>
                                        <p:cTn id="38" dur="1" fill="hold">
                                          <p:stCondLst>
                                            <p:cond delay="0"/>
                                          </p:stCondLst>
                                        </p:cTn>
                                        <p:tgtEl>
                                          <p:spTgt spid="377"/>
                                        </p:tgtEl>
                                        <p:attrNameLst>
                                          <p:attrName>style.visibility</p:attrName>
                                        </p:attrNameLst>
                                      </p:cBhvr>
                                      <p:to>
                                        <p:strVal val="visible"/>
                                      </p:to>
                                    </p:set>
                                    <p:anim calcmode="lin" valueType="num">
                                      <p:cBhvr additive="base">
                                        <p:cTn id="39" dur="500" fill="hold"/>
                                        <p:tgtEl>
                                          <p:spTgt spid="377"/>
                                        </p:tgtEl>
                                        <p:attrNameLst>
                                          <p:attrName>ppt_x</p:attrName>
                                        </p:attrNameLst>
                                      </p:cBhvr>
                                      <p:tavLst>
                                        <p:tav tm="0">
                                          <p:val>
                                            <p:strVal val="#ppt_x"/>
                                          </p:val>
                                        </p:tav>
                                        <p:tav tm="100000">
                                          <p:val>
                                            <p:strVal val="#ppt_x"/>
                                          </p:val>
                                        </p:tav>
                                      </p:tavLst>
                                    </p:anim>
                                    <p:anim calcmode="lin" valueType="num">
                                      <p:cBhvr additive="base">
                                        <p:cTn id="40" dur="500" fill="hold"/>
                                        <p:tgtEl>
                                          <p:spTgt spid="377"/>
                                        </p:tgtEl>
                                        <p:attrNameLst>
                                          <p:attrName>ppt_y</p:attrName>
                                        </p:attrNameLst>
                                      </p:cBhvr>
                                      <p:tavLst>
                                        <p:tav tm="0">
                                          <p:val>
                                            <p:strVal val="1+#ppt_h/2"/>
                                          </p:val>
                                        </p:tav>
                                        <p:tav tm="100000">
                                          <p:val>
                                            <p:strVal val="#ppt_y"/>
                                          </p:val>
                                        </p:tav>
                                      </p:tavLst>
                                    </p:anim>
                                  </p:childTnLst>
                                </p:cTn>
                              </p:par>
                            </p:childTnLst>
                          </p:cTn>
                        </p:par>
                        <p:par>
                          <p:cTn id="41" nodeType="afterEffect" fill="hold">
                            <p:stCondLst>
                              <p:cond delay="500"/>
                            </p:stCondLst>
                            <p:childTnLst>
                              <p:par>
                                <p:cTn id="42" nodeType="afterEffect" fill="hold" presetClass="entr" presetID="2" presetSubtype="4">
                                  <p:stCondLst>
                                    <p:cond delay="0"/>
                                  </p:stCondLst>
                                  <p:childTnLst>
                                    <p:set>
                                      <p:cBhvr>
                                        <p:cTn id="43" dur="1" fill="hold">
                                          <p:stCondLst>
                                            <p:cond delay="0"/>
                                          </p:stCondLst>
                                        </p:cTn>
                                        <p:tgtEl>
                                          <p:spTgt spid="378"/>
                                        </p:tgtEl>
                                        <p:attrNameLst>
                                          <p:attrName>style.visibility</p:attrName>
                                        </p:attrNameLst>
                                      </p:cBhvr>
                                      <p:to>
                                        <p:strVal val="visible"/>
                                      </p:to>
                                    </p:set>
                                    <p:anim calcmode="lin" valueType="num">
                                      <p:cBhvr additive="base">
                                        <p:cTn id="44" dur="500" fill="hold"/>
                                        <p:tgtEl>
                                          <p:spTgt spid="378"/>
                                        </p:tgtEl>
                                        <p:attrNameLst>
                                          <p:attrName>ppt_x</p:attrName>
                                        </p:attrNameLst>
                                      </p:cBhvr>
                                      <p:tavLst>
                                        <p:tav tm="0">
                                          <p:val>
                                            <p:strVal val="#ppt_x"/>
                                          </p:val>
                                        </p:tav>
                                        <p:tav tm="100000">
                                          <p:val>
                                            <p:strVal val="#ppt_x"/>
                                          </p:val>
                                        </p:tav>
                                      </p:tavLst>
                                    </p:anim>
                                    <p:anim calcmode="lin" valueType="num">
                                      <p:cBhvr additive="base">
                                        <p:cTn id="45" dur="500" fill="hold"/>
                                        <p:tgtEl>
                                          <p:spTgt spid="3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360"/>
            <a:ext cx="7467480" cy="6597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ru-RU" sz="2700" spc="-1" strike="noStrike">
                <a:solidFill>
                  <a:srgbClr val="00b050"/>
                </a:solidFill>
                <a:latin typeface="Century Schoolbook"/>
              </a:rPr>
              <a:t>ПЕРВАЯ ПОМОЩЬ ПРИ ОТРАВЛЕНИИ ЛЕКАРСТВЕННЫМИ ПРЕПАРАТАМИ И АЛКОГОЛЕМ.</a:t>
            </a:r>
            <a:br>
              <a:rPr sz="2700"/>
            </a:br>
            <a:r>
              <a:rPr b="0" lang="ru-RU" sz="2700" spc="-1" strike="noStrike">
                <a:solidFill>
                  <a:srgbClr val="575f6d"/>
                </a:solidFill>
                <a:latin typeface="Century Schoolbook"/>
              </a:rPr>
              <a:t> </a:t>
            </a:r>
            <a:r>
              <a:rPr b="0" lang="ru-RU" sz="2200" spc="-1" strike="noStrike">
                <a:solidFill>
                  <a:srgbClr val="000000"/>
                </a:solidFill>
                <a:latin typeface="Century Schoolbook"/>
              </a:rPr>
              <a:t>ПРИ СОХРАНЕННОМ СОЗНАНИИ НЕОБХОДИМО ПРОМЫТЬ ЖЕЛУДОК, ВЫЗВАТЬ АКТИВНУЮ РВОТУ. В СЛУЧАЕ НАРУШЕНИЯ ДЫХАНИЯ ПОКАЗАНО ИСКУССТВЕННОЕ ДЫХАНИЕ. </a:t>
            </a:r>
            <a:br>
              <a:rPr sz="2200"/>
            </a:br>
            <a:r>
              <a:rPr b="0" lang="ru-RU" sz="2200" spc="-1" strike="noStrike">
                <a:solidFill>
                  <a:srgbClr val="000000"/>
                </a:solidFill>
                <a:latin typeface="Century Schoolbook"/>
              </a:rPr>
              <a:t>ПРИ ОТРАВЛЕНИИ НАРКОТИКАМИ  НЕОБХОДИМО ДОСТАВИТЬ ПОСТРАДАВШЕГО В ЛЕЧЕБНОЕ УЧРЕЖДЕНИЕ. ПРИ ОСТАНОВКЕ ДЫХАНИЯ И КРОВООБРАЩЕНИЯ ПРОВОДЯТ РЕАНИМАЦИОННЫЕ МЕРОПРИЯТИЯ. ПРИ ОТРАВЛЕНИИ АЛКОГОЛЕМ  НЕОБХОДИМО ПРЕЖДЕ ВСЕГО НЕОБХОДИМО ОБЕСПЕЧИТЬ ПРИТОК СВЕЖЕГО ВОЗДУХА. ПРИ ОСТАНОВКЕ ДЫХАНИЯ НЕОБХОДИМО ПРОВОДИТЬ ИСКУССТВЕННОЕ ДЫХАНИЕ И ДРУГИЕ РЕАНИМАЦИОННЫЕ МЕРОПРИЯТИЯ</a:t>
            </a:r>
            <a:r>
              <a:rPr b="0" lang="ru-RU" sz="2300" spc="-1" strike="noStrike">
                <a:solidFill>
                  <a:srgbClr val="575f6d"/>
                </a:solidFill>
                <a:latin typeface="Century Schoolbook"/>
              </a:rPr>
              <a:t>.</a:t>
            </a:r>
            <a:br>
              <a:rPr sz="2700"/>
            </a:br>
            <a:br>
              <a:rPr sz="2700"/>
            </a:br>
            <a:br>
              <a:rPr sz="2700"/>
            </a:br>
            <a:endParaRPr b="0" lang="en-US" sz="2300" spc="-1" strike="noStrike">
              <a:solidFill>
                <a:srgbClr val="575f6d"/>
              </a:solidFill>
              <a:latin typeface="Century Schoolbook"/>
            </a:endParaRPr>
          </a:p>
        </p:txBody>
      </p:sp>
      <p:sp>
        <p:nvSpPr>
          <p:cNvPr id="381"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14:13:55Z</dcterms:created>
  <dc:creator>Admin</dc:creator>
  <dc:description/>
  <dc:language>en-US</dc:language>
  <cp:lastModifiedBy>LEGION</cp:lastModifiedBy>
  <dcterms:modified xsi:type="dcterms:W3CDTF">2015-05-12T08:42:46Z</dcterms:modified>
  <cp:revision>17</cp:revision>
  <dc:subject/>
  <dc:title>Бытовые отравления.</dc:title>
</cp:coreProperties>
</file>