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dt" idx="10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ftr" idx="11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 type="sldNum" idx="12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813CC-BAA2-47B0-8994-FD9B7D656B58}" type="slidenum">
              <a:rPr b="0" lang="ru-RU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8D045D-B554-49DC-A867-001163F930B6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третьи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-четвертых</a:t>
            </a:r>
            <a:r>
              <a:rPr b="0" i="1" lang="ru-RU" sz="12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0B98E-7767-4A78-B5B3-7AAD48E6C673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D-R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к «Первая медицинская помощ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ww. Yandex.ru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3.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Современная медицинская энциклопеди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754FC5-DDC5-4628-A741-5062DE67D7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  <a:ea typeface="Arial"/>
              </a:rPr>
              <a:t>Большое спасибо за просмотр!!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13CF9B-2DB3-4A3C-988A-7BE5E68B8A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2C8AF8-51B4-4910-82D4-4F8C11BC859F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CDAAD0-2837-495D-B2B1-ABC616FA9D65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000000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F6291D-4AF0-4321-8994-437CDC670B8C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AC2A49-33B2-4F6A-9F0B-BC45C6DBDE3E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4289E-E195-4C7F-948F-47FEF664B8BA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2C21A3-1E00-4DCF-AE37-4B2DEB981EE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первых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о-вторых, наложите на место укуса марлевую повязку, смоченную нашатырным спиртом или водко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6ABBAB-5E06-41A2-B5F0-38198D8F9338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 u="sng">
                <a:solidFill>
                  <a:srgbClr val="000000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первых</a:t>
            </a:r>
            <a:r>
              <a:rPr b="0" lang="ru-RU" sz="11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0" lang="ru-RU" sz="12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 algn="just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Во-вторых</a:t>
            </a:r>
            <a:r>
              <a:rPr b="0" lang="ru-RU" sz="12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9B0D41-7640-4EB1-ABFA-A64D054ABB10}" type="slidenum">
              <a:rPr b="0" lang="ru-RU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1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C11292-EB77-4BCE-85FE-DC0C653837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81F5D2-6B79-4F15-AF82-B72C701439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F0956B-7CF7-4190-AEFA-FACA69B728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63AB01-71A9-458B-B0AA-95C62FD073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27B3FF-6660-4866-A6C1-1CCA6ECF32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F015C0-DBCC-4510-ADC6-1CCFF142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22C878-0D12-49CF-9885-3509643F0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B0AE4-1077-4F2F-9941-777B3CB8FA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6C306E-2839-46F1-9B40-9D4032E5AB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555B6-ACBA-4F08-9582-7AA59EAD1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64ED1C-7A50-4BA4-B8B7-E6BE0373D3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D0F9D2-FC84-4FD8-A587-4D848EF5B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2ADBD-9135-44A1-A88B-1DD4B654F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BF611D-895B-445D-B4BF-078177691B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E5FA64-A410-41D5-AF1E-1509B8708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A302691-967F-49EE-801F-FB5202DD04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8483CC-65F5-48B2-A250-7C3053043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ACC847F-5E13-4AF0-96DB-1123BE0814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2B3694-3A26-4046-A9B0-4B0AD7386A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065E83-2B94-491E-9E59-10FD901FB9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FAAE61D-D32A-4A9B-A219-1C7C411487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38FB4E-1CBE-4950-9C54-2BFB9A928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88AB1E-4826-460F-9EB4-F8781E3D3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C4B92E6-CE42-4855-BA71-857CB91C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4B0C98-BB8E-4460-89D1-ED0A74D43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DC727FE-BAD0-417E-A6AC-F8194013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1894F74-349E-4EF3-AB94-9FA83EF6AA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30EDFE2-EAD9-432C-83BB-F1E9212C8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A91AA0-90F4-4B3E-A240-3DD3CE5161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386AC25-50F4-4B7B-93D1-E1256D56FD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012C80-A3B5-4408-B6A7-81935BFCF9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D7E0C8-CE95-49AF-94E6-864359D9D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6486CE-F370-4F85-A245-44D6343BB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07E62D-5B78-4441-A9BF-0E649DCF4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6ED9E-C73E-41DD-BD49-C01682E588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00B1D5-6547-4656-97AA-51218FE19A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 type="ftr" idx="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 type="sldNum" idx="2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E89EC-7DBA-4DE7-B51E-AAB87B142AFA}" type="slidenum">
              <a:rPr b="0" lang="ru-RU" sz="10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5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Times New Roman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C6FEAA-889A-48F2-B2AE-B8E66834BC16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4" name="Group 2"/>
          <p:cNvGrpSpPr/>
          <p:nvPr/>
        </p:nvGrpSpPr>
        <p:grpSpPr>
          <a:xfrm>
            <a:off x="0" y="0"/>
            <a:ext cx="9159840" cy="6858000"/>
            <a:chOff x="0" y="0"/>
            <a:chExt cx="9159840" cy="6858000"/>
          </a:xfrm>
        </p:grpSpPr>
        <p:sp>
          <p:nvSpPr>
            <p:cNvPr id="105" name="Rectangle 3"/>
            <p:cNvSpPr/>
            <p:nvPr/>
          </p:nvSpPr>
          <p:spPr>
            <a:xfrm>
              <a:off x="8305920" y="1440"/>
              <a:ext cx="838080" cy="68565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f0f0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6" name="Rectangle 4"/>
            <p:cNvSpPr/>
            <p:nvPr/>
          </p:nvSpPr>
          <p:spPr>
            <a:xfrm>
              <a:off x="1676520" y="0"/>
              <a:ext cx="30456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7" name="Rectangle 5"/>
            <p:cNvSpPr/>
            <p:nvPr/>
          </p:nvSpPr>
          <p:spPr>
            <a:xfrm>
              <a:off x="2743200" y="0"/>
              <a:ext cx="68580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8" name="Rectangle 6"/>
            <p:cNvSpPr/>
            <p:nvPr/>
          </p:nvSpPr>
          <p:spPr>
            <a:xfrm>
              <a:off x="3581280" y="0"/>
              <a:ext cx="381240" cy="6858000"/>
            </a:xfrm>
            <a:prstGeom prst="rect">
              <a:avLst/>
            </a:prstGeom>
            <a:solidFill>
              <a:srgbClr val="8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09" name="Rectangle 7"/>
            <p:cNvSpPr/>
            <p:nvPr/>
          </p:nvSpPr>
          <p:spPr>
            <a:xfrm>
              <a:off x="2133720" y="0"/>
              <a:ext cx="6094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0" name="Rectangle 8"/>
            <p:cNvSpPr/>
            <p:nvPr/>
          </p:nvSpPr>
          <p:spPr>
            <a:xfrm>
              <a:off x="762120" y="0"/>
              <a:ext cx="9144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1" name="Rectangle 9"/>
            <p:cNvSpPr/>
            <p:nvPr/>
          </p:nvSpPr>
          <p:spPr>
            <a:xfrm>
              <a:off x="457200" y="0"/>
              <a:ext cx="30492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11b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2" name="Rectangle 10"/>
            <p:cNvSpPr/>
            <p:nvPr/>
          </p:nvSpPr>
          <p:spPr>
            <a:xfrm>
              <a:off x="0" y="0"/>
              <a:ext cx="457200" cy="6858000"/>
            </a:xfrm>
            <a:prstGeom prst="rect">
              <a:avLst/>
            </a:prstGeom>
            <a:gradFill rotWithShape="0">
              <a:gsLst>
                <a:gs pos="0">
                  <a:srgbClr val="4c19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3" name="Rectangle 11"/>
            <p:cNvSpPr/>
            <p:nvPr/>
          </p:nvSpPr>
          <p:spPr>
            <a:xfrm>
              <a:off x="342900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4" name="Rectangle 12"/>
            <p:cNvSpPr/>
            <p:nvPr/>
          </p:nvSpPr>
          <p:spPr>
            <a:xfrm>
              <a:off x="4419720" y="0"/>
              <a:ext cx="83808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1981080" y="0"/>
              <a:ext cx="22860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6" name="Rectangle 14"/>
            <p:cNvSpPr/>
            <p:nvPr/>
          </p:nvSpPr>
          <p:spPr>
            <a:xfrm>
              <a:off x="5238720" y="0"/>
              <a:ext cx="399960" cy="6858000"/>
            </a:xfrm>
            <a:prstGeom prst="rect">
              <a:avLst/>
            </a:prstGeom>
            <a:solidFill>
              <a:srgbClr val="602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7" name="Rectangle 15"/>
            <p:cNvSpPr/>
            <p:nvPr/>
          </p:nvSpPr>
          <p:spPr>
            <a:xfrm>
              <a:off x="7391520" y="0"/>
              <a:ext cx="2286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8" name="Rectangle 16"/>
            <p:cNvSpPr/>
            <p:nvPr/>
          </p:nvSpPr>
          <p:spPr>
            <a:xfrm>
              <a:off x="7315200" y="0"/>
              <a:ext cx="10666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19" name="Rectangle 17"/>
            <p:cNvSpPr/>
            <p:nvPr/>
          </p:nvSpPr>
          <p:spPr>
            <a:xfrm>
              <a:off x="5562720" y="0"/>
              <a:ext cx="99036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0" name="Rectangle 18"/>
            <p:cNvSpPr/>
            <p:nvPr/>
          </p:nvSpPr>
          <p:spPr>
            <a:xfrm>
              <a:off x="6095880" y="0"/>
              <a:ext cx="83844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1" name="Rectangle 19"/>
            <p:cNvSpPr/>
            <p:nvPr/>
          </p:nvSpPr>
          <p:spPr>
            <a:xfrm>
              <a:off x="6934320" y="0"/>
              <a:ext cx="38088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50000">
                  <a:srgbClr val="5d1f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2" name="Rectangle 20"/>
            <p:cNvSpPr/>
            <p:nvPr/>
          </p:nvSpPr>
          <p:spPr>
            <a:xfrm>
              <a:off x="4254480" y="0"/>
              <a:ext cx="241200" cy="6858000"/>
            </a:xfrm>
            <a:prstGeom prst="rect">
              <a:avLst/>
            </a:prstGeom>
            <a:gradFill rotWithShape="0">
              <a:gsLst>
                <a:gs pos="0">
                  <a:srgbClr val="602000"/>
                </a:gs>
                <a:gs pos="100000">
                  <a:srgbClr val="8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3" name="Rectangle 21"/>
            <p:cNvSpPr/>
            <p:nvPr/>
          </p:nvSpPr>
          <p:spPr>
            <a:xfrm>
              <a:off x="3755880" y="0"/>
              <a:ext cx="533520" cy="6858000"/>
            </a:xfrm>
            <a:prstGeom prst="rect">
              <a:avLst/>
            </a:prstGeom>
            <a:gradFill rotWithShape="0">
              <a:gsLst>
                <a:gs pos="0">
                  <a:srgbClr val="800000"/>
                </a:gs>
                <a:gs pos="100000">
                  <a:srgbClr val="602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4" name="Freeform 22"/>
            <p:cNvSpPr/>
            <p:nvPr/>
          </p:nvSpPr>
          <p:spPr>
            <a:xfrm>
              <a:off x="1440" y="6151680"/>
              <a:ext cx="9144000" cy="706320"/>
            </a:xfrm>
            <a:custGeom>
              <a:avLst/>
              <a:gdLst/>
              <a:ahLst/>
              <a:rect l="l" t="t" r="r" b="b"/>
              <a:pathLst>
                <a:path w="5760" h="445">
                  <a:moveTo>
                    <a:pt x="5760" y="445"/>
                  </a:moveTo>
                  <a:lnTo>
                    <a:pt x="5760" y="76"/>
                  </a:lnTo>
                  <a:lnTo>
                    <a:pt x="5730" y="81"/>
                  </a:lnTo>
                  <a:lnTo>
                    <a:pt x="5700" y="86"/>
                  </a:lnTo>
                  <a:lnTo>
                    <a:pt x="5646" y="91"/>
                  </a:lnTo>
                  <a:lnTo>
                    <a:pt x="5592" y="91"/>
                  </a:lnTo>
                  <a:lnTo>
                    <a:pt x="5544" y="91"/>
                  </a:lnTo>
                  <a:lnTo>
                    <a:pt x="5508" y="86"/>
                  </a:lnTo>
                  <a:lnTo>
                    <a:pt x="5490" y="86"/>
                  </a:lnTo>
                  <a:lnTo>
                    <a:pt x="5478" y="81"/>
                  </a:lnTo>
                  <a:lnTo>
                    <a:pt x="5466" y="76"/>
                  </a:lnTo>
                  <a:lnTo>
                    <a:pt x="5454" y="76"/>
                  </a:lnTo>
                  <a:lnTo>
                    <a:pt x="5454" y="70"/>
                  </a:lnTo>
                  <a:lnTo>
                    <a:pt x="5448" y="70"/>
                  </a:lnTo>
                  <a:lnTo>
                    <a:pt x="5448" y="65"/>
                  </a:lnTo>
                  <a:lnTo>
                    <a:pt x="5448" y="60"/>
                  </a:lnTo>
                  <a:lnTo>
                    <a:pt x="5448" y="55"/>
                  </a:lnTo>
                  <a:lnTo>
                    <a:pt x="5442" y="50"/>
                  </a:lnTo>
                  <a:lnTo>
                    <a:pt x="5442" y="44"/>
                  </a:lnTo>
                  <a:lnTo>
                    <a:pt x="5436" y="39"/>
                  </a:lnTo>
                  <a:lnTo>
                    <a:pt x="5424" y="34"/>
                  </a:lnTo>
                  <a:lnTo>
                    <a:pt x="5418" y="29"/>
                  </a:lnTo>
                  <a:lnTo>
                    <a:pt x="5414" y="18"/>
                  </a:lnTo>
                  <a:lnTo>
                    <a:pt x="5401" y="16"/>
                  </a:lnTo>
                  <a:lnTo>
                    <a:pt x="5386" y="10"/>
                  </a:lnTo>
                  <a:lnTo>
                    <a:pt x="5368" y="7"/>
                  </a:lnTo>
                  <a:lnTo>
                    <a:pt x="5332" y="7"/>
                  </a:lnTo>
                  <a:lnTo>
                    <a:pt x="5246" y="10"/>
                  </a:lnTo>
                  <a:lnTo>
                    <a:pt x="5144" y="7"/>
                  </a:lnTo>
                  <a:lnTo>
                    <a:pt x="5090" y="16"/>
                  </a:lnTo>
                  <a:lnTo>
                    <a:pt x="5051" y="22"/>
                  </a:lnTo>
                  <a:lnTo>
                    <a:pt x="5036" y="30"/>
                  </a:lnTo>
                  <a:lnTo>
                    <a:pt x="5022" y="39"/>
                  </a:lnTo>
                  <a:lnTo>
                    <a:pt x="5010" y="44"/>
                  </a:lnTo>
                  <a:lnTo>
                    <a:pt x="4986" y="55"/>
                  </a:lnTo>
                  <a:lnTo>
                    <a:pt x="4950" y="70"/>
                  </a:lnTo>
                  <a:lnTo>
                    <a:pt x="4920" y="86"/>
                  </a:lnTo>
                  <a:lnTo>
                    <a:pt x="4884" y="96"/>
                  </a:lnTo>
                  <a:lnTo>
                    <a:pt x="4854" y="102"/>
                  </a:lnTo>
                  <a:lnTo>
                    <a:pt x="4824" y="107"/>
                  </a:lnTo>
                  <a:lnTo>
                    <a:pt x="4794" y="112"/>
                  </a:lnTo>
                  <a:lnTo>
                    <a:pt x="4764" y="112"/>
                  </a:lnTo>
                  <a:lnTo>
                    <a:pt x="4740" y="112"/>
                  </a:lnTo>
                  <a:lnTo>
                    <a:pt x="4716" y="107"/>
                  </a:lnTo>
                  <a:lnTo>
                    <a:pt x="4698" y="102"/>
                  </a:lnTo>
                  <a:lnTo>
                    <a:pt x="4674" y="96"/>
                  </a:lnTo>
                  <a:lnTo>
                    <a:pt x="4662" y="91"/>
                  </a:lnTo>
                  <a:lnTo>
                    <a:pt x="4644" y="86"/>
                  </a:lnTo>
                  <a:lnTo>
                    <a:pt x="4631" y="66"/>
                  </a:lnTo>
                  <a:lnTo>
                    <a:pt x="4617" y="42"/>
                  </a:lnTo>
                  <a:lnTo>
                    <a:pt x="4598" y="25"/>
                  </a:lnTo>
                  <a:lnTo>
                    <a:pt x="4584" y="13"/>
                  </a:lnTo>
                  <a:lnTo>
                    <a:pt x="4565" y="4"/>
                  </a:lnTo>
                  <a:lnTo>
                    <a:pt x="4535" y="3"/>
                  </a:lnTo>
                  <a:lnTo>
                    <a:pt x="4514" y="9"/>
                  </a:lnTo>
                  <a:lnTo>
                    <a:pt x="4494" y="18"/>
                  </a:lnTo>
                  <a:lnTo>
                    <a:pt x="4471" y="23"/>
                  </a:lnTo>
                  <a:lnTo>
                    <a:pt x="4440" y="29"/>
                  </a:lnTo>
                  <a:lnTo>
                    <a:pt x="4410" y="39"/>
                  </a:lnTo>
                  <a:lnTo>
                    <a:pt x="4374" y="50"/>
                  </a:lnTo>
                  <a:lnTo>
                    <a:pt x="4332" y="60"/>
                  </a:lnTo>
                  <a:lnTo>
                    <a:pt x="4284" y="76"/>
                  </a:lnTo>
                  <a:lnTo>
                    <a:pt x="4236" y="81"/>
                  </a:lnTo>
                  <a:lnTo>
                    <a:pt x="4183" y="91"/>
                  </a:lnTo>
                  <a:lnTo>
                    <a:pt x="4128" y="96"/>
                  </a:lnTo>
                  <a:lnTo>
                    <a:pt x="4074" y="102"/>
                  </a:lnTo>
                  <a:lnTo>
                    <a:pt x="4020" y="102"/>
                  </a:lnTo>
                  <a:lnTo>
                    <a:pt x="3966" y="102"/>
                  </a:lnTo>
                  <a:lnTo>
                    <a:pt x="3912" y="102"/>
                  </a:lnTo>
                  <a:lnTo>
                    <a:pt x="3858" y="102"/>
                  </a:lnTo>
                  <a:lnTo>
                    <a:pt x="3810" y="102"/>
                  </a:lnTo>
                  <a:lnTo>
                    <a:pt x="3762" y="96"/>
                  </a:lnTo>
                  <a:lnTo>
                    <a:pt x="3726" y="91"/>
                  </a:lnTo>
                  <a:lnTo>
                    <a:pt x="3684" y="81"/>
                  </a:lnTo>
                  <a:lnTo>
                    <a:pt x="3654" y="76"/>
                  </a:lnTo>
                  <a:lnTo>
                    <a:pt x="3642" y="70"/>
                  </a:lnTo>
                  <a:lnTo>
                    <a:pt x="3630" y="65"/>
                  </a:lnTo>
                  <a:lnTo>
                    <a:pt x="3612" y="60"/>
                  </a:lnTo>
                  <a:lnTo>
                    <a:pt x="3594" y="50"/>
                  </a:lnTo>
                  <a:lnTo>
                    <a:pt x="3576" y="50"/>
                  </a:lnTo>
                  <a:lnTo>
                    <a:pt x="3558" y="44"/>
                  </a:lnTo>
                  <a:lnTo>
                    <a:pt x="3540" y="44"/>
                  </a:lnTo>
                  <a:lnTo>
                    <a:pt x="3528" y="44"/>
                  </a:lnTo>
                  <a:lnTo>
                    <a:pt x="3516" y="50"/>
                  </a:lnTo>
                  <a:lnTo>
                    <a:pt x="3504" y="50"/>
                  </a:lnTo>
                  <a:lnTo>
                    <a:pt x="3492" y="55"/>
                  </a:lnTo>
                  <a:lnTo>
                    <a:pt x="3480" y="55"/>
                  </a:lnTo>
                  <a:lnTo>
                    <a:pt x="3468" y="65"/>
                  </a:lnTo>
                  <a:lnTo>
                    <a:pt x="3456" y="70"/>
                  </a:lnTo>
                  <a:lnTo>
                    <a:pt x="3450" y="70"/>
                  </a:lnTo>
                  <a:lnTo>
                    <a:pt x="3420" y="76"/>
                  </a:lnTo>
                  <a:lnTo>
                    <a:pt x="3330" y="81"/>
                  </a:lnTo>
                  <a:lnTo>
                    <a:pt x="3204" y="91"/>
                  </a:lnTo>
                  <a:lnTo>
                    <a:pt x="3126" y="102"/>
                  </a:lnTo>
                  <a:lnTo>
                    <a:pt x="3048" y="112"/>
                  </a:lnTo>
                  <a:lnTo>
                    <a:pt x="2970" y="123"/>
                  </a:lnTo>
                  <a:lnTo>
                    <a:pt x="2904" y="128"/>
                  </a:lnTo>
                  <a:lnTo>
                    <a:pt x="2868" y="128"/>
                  </a:lnTo>
                  <a:lnTo>
                    <a:pt x="2844" y="128"/>
                  </a:lnTo>
                  <a:lnTo>
                    <a:pt x="2814" y="128"/>
                  </a:lnTo>
                  <a:lnTo>
                    <a:pt x="2790" y="128"/>
                  </a:lnTo>
                  <a:lnTo>
                    <a:pt x="2766" y="123"/>
                  </a:lnTo>
                  <a:lnTo>
                    <a:pt x="2742" y="117"/>
                  </a:lnTo>
                  <a:lnTo>
                    <a:pt x="2724" y="112"/>
                  </a:lnTo>
                  <a:lnTo>
                    <a:pt x="2706" y="107"/>
                  </a:lnTo>
                  <a:lnTo>
                    <a:pt x="2704" y="83"/>
                  </a:lnTo>
                  <a:lnTo>
                    <a:pt x="2710" y="56"/>
                  </a:lnTo>
                  <a:lnTo>
                    <a:pt x="2710" y="36"/>
                  </a:lnTo>
                  <a:lnTo>
                    <a:pt x="2696" y="25"/>
                  </a:lnTo>
                  <a:lnTo>
                    <a:pt x="2672" y="36"/>
                  </a:lnTo>
                  <a:lnTo>
                    <a:pt x="2658" y="50"/>
                  </a:lnTo>
                  <a:lnTo>
                    <a:pt x="2638" y="60"/>
                  </a:lnTo>
                  <a:lnTo>
                    <a:pt x="2614" y="76"/>
                  </a:lnTo>
                  <a:lnTo>
                    <a:pt x="2590" y="84"/>
                  </a:lnTo>
                  <a:lnTo>
                    <a:pt x="2558" y="95"/>
                  </a:lnTo>
                  <a:lnTo>
                    <a:pt x="2536" y="98"/>
                  </a:lnTo>
                  <a:lnTo>
                    <a:pt x="2508" y="102"/>
                  </a:lnTo>
                  <a:lnTo>
                    <a:pt x="2478" y="105"/>
                  </a:lnTo>
                  <a:lnTo>
                    <a:pt x="2444" y="109"/>
                  </a:lnTo>
                  <a:lnTo>
                    <a:pt x="2410" y="110"/>
                  </a:lnTo>
                  <a:lnTo>
                    <a:pt x="2374" y="107"/>
                  </a:lnTo>
                  <a:lnTo>
                    <a:pt x="2348" y="103"/>
                  </a:lnTo>
                  <a:lnTo>
                    <a:pt x="2322" y="91"/>
                  </a:lnTo>
                  <a:lnTo>
                    <a:pt x="2304" y="86"/>
                  </a:lnTo>
                  <a:lnTo>
                    <a:pt x="2292" y="81"/>
                  </a:lnTo>
                  <a:lnTo>
                    <a:pt x="2286" y="76"/>
                  </a:lnTo>
                  <a:lnTo>
                    <a:pt x="2274" y="70"/>
                  </a:lnTo>
                  <a:lnTo>
                    <a:pt x="2268" y="65"/>
                  </a:lnTo>
                  <a:lnTo>
                    <a:pt x="2246" y="18"/>
                  </a:lnTo>
                  <a:lnTo>
                    <a:pt x="2224" y="0"/>
                  </a:lnTo>
                  <a:lnTo>
                    <a:pt x="2185" y="3"/>
                  </a:lnTo>
                  <a:lnTo>
                    <a:pt x="2156" y="16"/>
                  </a:lnTo>
                  <a:lnTo>
                    <a:pt x="2126" y="22"/>
                  </a:lnTo>
                  <a:lnTo>
                    <a:pt x="2081" y="49"/>
                  </a:lnTo>
                  <a:lnTo>
                    <a:pt x="2048" y="64"/>
                  </a:lnTo>
                  <a:lnTo>
                    <a:pt x="2018" y="76"/>
                  </a:lnTo>
                  <a:lnTo>
                    <a:pt x="1986" y="96"/>
                  </a:lnTo>
                  <a:lnTo>
                    <a:pt x="1896" y="102"/>
                  </a:lnTo>
                  <a:lnTo>
                    <a:pt x="1794" y="102"/>
                  </a:lnTo>
                  <a:lnTo>
                    <a:pt x="1692" y="102"/>
                  </a:lnTo>
                  <a:lnTo>
                    <a:pt x="1644" y="102"/>
                  </a:lnTo>
                  <a:lnTo>
                    <a:pt x="1602" y="96"/>
                  </a:lnTo>
                  <a:lnTo>
                    <a:pt x="1560" y="91"/>
                  </a:lnTo>
                  <a:lnTo>
                    <a:pt x="1524" y="86"/>
                  </a:lnTo>
                  <a:lnTo>
                    <a:pt x="1506" y="86"/>
                  </a:lnTo>
                  <a:lnTo>
                    <a:pt x="1494" y="81"/>
                  </a:lnTo>
                  <a:lnTo>
                    <a:pt x="1482" y="76"/>
                  </a:lnTo>
                  <a:lnTo>
                    <a:pt x="1476" y="70"/>
                  </a:lnTo>
                  <a:lnTo>
                    <a:pt x="1458" y="65"/>
                  </a:lnTo>
                  <a:lnTo>
                    <a:pt x="1440" y="55"/>
                  </a:lnTo>
                  <a:lnTo>
                    <a:pt x="1428" y="50"/>
                  </a:lnTo>
                  <a:lnTo>
                    <a:pt x="1410" y="50"/>
                  </a:lnTo>
                  <a:lnTo>
                    <a:pt x="1398" y="44"/>
                  </a:lnTo>
                  <a:lnTo>
                    <a:pt x="1386" y="44"/>
                  </a:lnTo>
                  <a:lnTo>
                    <a:pt x="1374" y="44"/>
                  </a:lnTo>
                  <a:lnTo>
                    <a:pt x="1356" y="44"/>
                  </a:lnTo>
                  <a:lnTo>
                    <a:pt x="1344" y="44"/>
                  </a:lnTo>
                  <a:lnTo>
                    <a:pt x="1332" y="50"/>
                  </a:lnTo>
                  <a:lnTo>
                    <a:pt x="1308" y="55"/>
                  </a:lnTo>
                  <a:lnTo>
                    <a:pt x="1260" y="70"/>
                  </a:lnTo>
                  <a:lnTo>
                    <a:pt x="1218" y="86"/>
                  </a:lnTo>
                  <a:lnTo>
                    <a:pt x="1176" y="96"/>
                  </a:lnTo>
                  <a:lnTo>
                    <a:pt x="1140" y="107"/>
                  </a:lnTo>
                  <a:lnTo>
                    <a:pt x="1098" y="117"/>
                  </a:lnTo>
                  <a:lnTo>
                    <a:pt x="1062" y="128"/>
                  </a:lnTo>
                  <a:lnTo>
                    <a:pt x="1020" y="133"/>
                  </a:lnTo>
                  <a:lnTo>
                    <a:pt x="948" y="143"/>
                  </a:lnTo>
                  <a:lnTo>
                    <a:pt x="882" y="149"/>
                  </a:lnTo>
                  <a:lnTo>
                    <a:pt x="822" y="149"/>
                  </a:lnTo>
                  <a:lnTo>
                    <a:pt x="762" y="143"/>
                  </a:lnTo>
                  <a:lnTo>
                    <a:pt x="708" y="138"/>
                  </a:lnTo>
                  <a:lnTo>
                    <a:pt x="654" y="128"/>
                  </a:lnTo>
                  <a:lnTo>
                    <a:pt x="612" y="117"/>
                  </a:lnTo>
                  <a:lnTo>
                    <a:pt x="570" y="107"/>
                  </a:lnTo>
                  <a:lnTo>
                    <a:pt x="534" y="96"/>
                  </a:lnTo>
                  <a:lnTo>
                    <a:pt x="504" y="86"/>
                  </a:lnTo>
                  <a:lnTo>
                    <a:pt x="480" y="76"/>
                  </a:lnTo>
                  <a:lnTo>
                    <a:pt x="462" y="65"/>
                  </a:lnTo>
                  <a:lnTo>
                    <a:pt x="444" y="55"/>
                  </a:lnTo>
                  <a:lnTo>
                    <a:pt x="426" y="44"/>
                  </a:lnTo>
                  <a:lnTo>
                    <a:pt x="408" y="34"/>
                  </a:lnTo>
                  <a:lnTo>
                    <a:pt x="402" y="34"/>
                  </a:lnTo>
                  <a:lnTo>
                    <a:pt x="396" y="34"/>
                  </a:lnTo>
                  <a:lnTo>
                    <a:pt x="390" y="34"/>
                  </a:lnTo>
                  <a:lnTo>
                    <a:pt x="384" y="34"/>
                  </a:lnTo>
                  <a:lnTo>
                    <a:pt x="378" y="39"/>
                  </a:lnTo>
                  <a:lnTo>
                    <a:pt x="372" y="44"/>
                  </a:lnTo>
                  <a:lnTo>
                    <a:pt x="360" y="55"/>
                  </a:lnTo>
                  <a:lnTo>
                    <a:pt x="348" y="65"/>
                  </a:lnTo>
                  <a:lnTo>
                    <a:pt x="342" y="70"/>
                  </a:lnTo>
                  <a:lnTo>
                    <a:pt x="336" y="76"/>
                  </a:lnTo>
                  <a:lnTo>
                    <a:pt x="324" y="86"/>
                  </a:lnTo>
                  <a:lnTo>
                    <a:pt x="306" y="91"/>
                  </a:lnTo>
                  <a:lnTo>
                    <a:pt x="288" y="96"/>
                  </a:lnTo>
                  <a:lnTo>
                    <a:pt x="264" y="102"/>
                  </a:lnTo>
                  <a:lnTo>
                    <a:pt x="240" y="107"/>
                  </a:lnTo>
                  <a:lnTo>
                    <a:pt x="216" y="112"/>
                  </a:lnTo>
                  <a:lnTo>
                    <a:pt x="192" y="112"/>
                  </a:lnTo>
                  <a:lnTo>
                    <a:pt x="168" y="117"/>
                  </a:lnTo>
                  <a:lnTo>
                    <a:pt x="145" y="117"/>
                  </a:lnTo>
                  <a:lnTo>
                    <a:pt x="120" y="117"/>
                  </a:lnTo>
                  <a:lnTo>
                    <a:pt x="90" y="112"/>
                  </a:lnTo>
                  <a:lnTo>
                    <a:pt x="66" y="112"/>
                  </a:lnTo>
                  <a:lnTo>
                    <a:pt x="42" y="107"/>
                  </a:lnTo>
                  <a:lnTo>
                    <a:pt x="24" y="102"/>
                  </a:lnTo>
                  <a:lnTo>
                    <a:pt x="0" y="96"/>
                  </a:lnTo>
                  <a:lnTo>
                    <a:pt x="0" y="445"/>
                  </a:lnTo>
                  <a:lnTo>
                    <a:pt x="5760" y="445"/>
                  </a:lnTo>
                </a:path>
              </a:pathLst>
            </a:custGeom>
            <a:solidFill>
              <a:srgbClr val="000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25" name="Freeform 23"/>
            <p:cNvSpPr/>
            <p:nvPr/>
          </p:nvSpPr>
          <p:spPr>
            <a:xfrm>
              <a:off x="0" y="6138720"/>
              <a:ext cx="9159840" cy="276480"/>
            </a:xfrm>
            <a:custGeom>
              <a:avLst/>
              <a:gdLst/>
              <a:ahLst/>
              <a:rect l="l" t="t" r="r" b="b"/>
              <a:pathLst>
                <a:path w="5770" h="174">
                  <a:moveTo>
                    <a:pt x="5151" y="24"/>
                  </a:moveTo>
                  <a:lnTo>
                    <a:pt x="5127" y="26"/>
                  </a:lnTo>
                  <a:lnTo>
                    <a:pt x="5082" y="30"/>
                  </a:lnTo>
                  <a:lnTo>
                    <a:pt x="5049" y="38"/>
                  </a:lnTo>
                  <a:lnTo>
                    <a:pt x="5029" y="48"/>
                  </a:lnTo>
                  <a:lnTo>
                    <a:pt x="5017" y="54"/>
                  </a:lnTo>
                  <a:lnTo>
                    <a:pt x="4993" y="66"/>
                  </a:lnTo>
                  <a:lnTo>
                    <a:pt x="4957" y="84"/>
                  </a:lnTo>
                  <a:lnTo>
                    <a:pt x="4927" y="102"/>
                  </a:lnTo>
                  <a:lnTo>
                    <a:pt x="4891" y="114"/>
                  </a:lnTo>
                  <a:lnTo>
                    <a:pt x="4861" y="120"/>
                  </a:lnTo>
                  <a:lnTo>
                    <a:pt x="4831" y="126"/>
                  </a:lnTo>
                  <a:lnTo>
                    <a:pt x="4801" y="132"/>
                  </a:lnTo>
                  <a:lnTo>
                    <a:pt x="4771" y="132"/>
                  </a:lnTo>
                  <a:lnTo>
                    <a:pt x="4748" y="132"/>
                  </a:lnTo>
                  <a:lnTo>
                    <a:pt x="4724" y="126"/>
                  </a:lnTo>
                  <a:lnTo>
                    <a:pt x="4706" y="120"/>
                  </a:lnTo>
                  <a:lnTo>
                    <a:pt x="4682" y="114"/>
                  </a:lnTo>
                  <a:lnTo>
                    <a:pt x="4670" y="108"/>
                  </a:lnTo>
                  <a:lnTo>
                    <a:pt x="4652" y="102"/>
                  </a:lnTo>
                  <a:lnTo>
                    <a:pt x="4640" y="96"/>
                  </a:lnTo>
                  <a:lnTo>
                    <a:pt x="4634" y="84"/>
                  </a:lnTo>
                  <a:lnTo>
                    <a:pt x="4628" y="78"/>
                  </a:lnTo>
                  <a:lnTo>
                    <a:pt x="4622" y="66"/>
                  </a:lnTo>
                  <a:lnTo>
                    <a:pt x="4616" y="54"/>
                  </a:lnTo>
                  <a:lnTo>
                    <a:pt x="4610" y="48"/>
                  </a:lnTo>
                  <a:lnTo>
                    <a:pt x="4604" y="42"/>
                  </a:lnTo>
                  <a:lnTo>
                    <a:pt x="4598" y="36"/>
                  </a:lnTo>
                  <a:lnTo>
                    <a:pt x="4586" y="30"/>
                  </a:lnTo>
                  <a:lnTo>
                    <a:pt x="4574" y="24"/>
                  </a:lnTo>
                  <a:lnTo>
                    <a:pt x="4562" y="18"/>
                  </a:lnTo>
                  <a:lnTo>
                    <a:pt x="4544" y="18"/>
                  </a:lnTo>
                  <a:lnTo>
                    <a:pt x="4526" y="18"/>
                  </a:lnTo>
                  <a:lnTo>
                    <a:pt x="4502" y="24"/>
                  </a:lnTo>
                  <a:lnTo>
                    <a:pt x="4478" y="30"/>
                  </a:lnTo>
                  <a:lnTo>
                    <a:pt x="4449" y="36"/>
                  </a:lnTo>
                  <a:lnTo>
                    <a:pt x="4419" y="48"/>
                  </a:lnTo>
                  <a:lnTo>
                    <a:pt x="4383" y="60"/>
                  </a:lnTo>
                  <a:lnTo>
                    <a:pt x="4341" y="72"/>
                  </a:lnTo>
                  <a:lnTo>
                    <a:pt x="4287" y="90"/>
                  </a:lnTo>
                  <a:lnTo>
                    <a:pt x="4239" y="96"/>
                  </a:lnTo>
                  <a:lnTo>
                    <a:pt x="4186" y="108"/>
                  </a:lnTo>
                  <a:lnTo>
                    <a:pt x="4132" y="114"/>
                  </a:lnTo>
                  <a:lnTo>
                    <a:pt x="4078" y="120"/>
                  </a:lnTo>
                  <a:lnTo>
                    <a:pt x="4024" y="120"/>
                  </a:lnTo>
                  <a:lnTo>
                    <a:pt x="3970" y="120"/>
                  </a:lnTo>
                  <a:lnTo>
                    <a:pt x="3916" y="120"/>
                  </a:lnTo>
                  <a:lnTo>
                    <a:pt x="3863" y="120"/>
                  </a:lnTo>
                  <a:lnTo>
                    <a:pt x="3815" y="120"/>
                  </a:lnTo>
                  <a:lnTo>
                    <a:pt x="3767" y="114"/>
                  </a:lnTo>
                  <a:lnTo>
                    <a:pt x="3731" y="108"/>
                  </a:lnTo>
                  <a:lnTo>
                    <a:pt x="3689" y="96"/>
                  </a:lnTo>
                  <a:lnTo>
                    <a:pt x="3659" y="90"/>
                  </a:lnTo>
                  <a:lnTo>
                    <a:pt x="3647" y="84"/>
                  </a:lnTo>
                  <a:lnTo>
                    <a:pt x="3635" y="78"/>
                  </a:lnTo>
                  <a:lnTo>
                    <a:pt x="3617" y="72"/>
                  </a:lnTo>
                  <a:lnTo>
                    <a:pt x="3600" y="60"/>
                  </a:lnTo>
                  <a:lnTo>
                    <a:pt x="3582" y="60"/>
                  </a:lnTo>
                  <a:lnTo>
                    <a:pt x="3564" y="54"/>
                  </a:lnTo>
                  <a:lnTo>
                    <a:pt x="3546" y="54"/>
                  </a:lnTo>
                  <a:lnTo>
                    <a:pt x="3534" y="54"/>
                  </a:lnTo>
                  <a:lnTo>
                    <a:pt x="3522" y="60"/>
                  </a:lnTo>
                  <a:lnTo>
                    <a:pt x="3510" y="60"/>
                  </a:lnTo>
                  <a:lnTo>
                    <a:pt x="3498" y="66"/>
                  </a:lnTo>
                  <a:lnTo>
                    <a:pt x="3486" y="66"/>
                  </a:lnTo>
                  <a:lnTo>
                    <a:pt x="3474" y="78"/>
                  </a:lnTo>
                  <a:lnTo>
                    <a:pt x="3462" y="84"/>
                  </a:lnTo>
                  <a:lnTo>
                    <a:pt x="3456" y="84"/>
                  </a:lnTo>
                  <a:lnTo>
                    <a:pt x="3426" y="90"/>
                  </a:lnTo>
                  <a:lnTo>
                    <a:pt x="3336" y="96"/>
                  </a:lnTo>
                  <a:lnTo>
                    <a:pt x="3205" y="108"/>
                  </a:lnTo>
                  <a:lnTo>
                    <a:pt x="3127" y="120"/>
                  </a:lnTo>
                  <a:lnTo>
                    <a:pt x="3049" y="132"/>
                  </a:lnTo>
                  <a:lnTo>
                    <a:pt x="2972" y="144"/>
                  </a:lnTo>
                  <a:lnTo>
                    <a:pt x="2906" y="150"/>
                  </a:lnTo>
                  <a:lnTo>
                    <a:pt x="2870" y="150"/>
                  </a:lnTo>
                  <a:lnTo>
                    <a:pt x="2846" y="150"/>
                  </a:lnTo>
                  <a:lnTo>
                    <a:pt x="2816" y="150"/>
                  </a:lnTo>
                  <a:lnTo>
                    <a:pt x="2792" y="150"/>
                  </a:lnTo>
                  <a:lnTo>
                    <a:pt x="2768" y="144"/>
                  </a:lnTo>
                  <a:lnTo>
                    <a:pt x="2744" y="138"/>
                  </a:lnTo>
                  <a:lnTo>
                    <a:pt x="2727" y="132"/>
                  </a:lnTo>
                  <a:lnTo>
                    <a:pt x="2709" y="126"/>
                  </a:lnTo>
                  <a:lnTo>
                    <a:pt x="2703" y="96"/>
                  </a:lnTo>
                  <a:lnTo>
                    <a:pt x="2703" y="78"/>
                  </a:lnTo>
                  <a:lnTo>
                    <a:pt x="2709" y="42"/>
                  </a:lnTo>
                  <a:lnTo>
                    <a:pt x="2697" y="36"/>
                  </a:lnTo>
                  <a:lnTo>
                    <a:pt x="2673" y="42"/>
                  </a:lnTo>
                  <a:lnTo>
                    <a:pt x="2661" y="60"/>
                  </a:lnTo>
                  <a:lnTo>
                    <a:pt x="2643" y="72"/>
                  </a:lnTo>
                  <a:lnTo>
                    <a:pt x="2619" y="90"/>
                  </a:lnTo>
                  <a:lnTo>
                    <a:pt x="2595" y="102"/>
                  </a:lnTo>
                  <a:lnTo>
                    <a:pt x="2559" y="114"/>
                  </a:lnTo>
                  <a:lnTo>
                    <a:pt x="2541" y="114"/>
                  </a:lnTo>
                  <a:lnTo>
                    <a:pt x="2511" y="120"/>
                  </a:lnTo>
                  <a:lnTo>
                    <a:pt x="2481" y="126"/>
                  </a:lnTo>
                  <a:lnTo>
                    <a:pt x="2446" y="126"/>
                  </a:lnTo>
                  <a:lnTo>
                    <a:pt x="2416" y="132"/>
                  </a:lnTo>
                  <a:lnTo>
                    <a:pt x="2380" y="126"/>
                  </a:lnTo>
                  <a:lnTo>
                    <a:pt x="2350" y="120"/>
                  </a:lnTo>
                  <a:lnTo>
                    <a:pt x="2326" y="108"/>
                  </a:lnTo>
                  <a:lnTo>
                    <a:pt x="2308" y="102"/>
                  </a:lnTo>
                  <a:lnTo>
                    <a:pt x="2296" y="96"/>
                  </a:lnTo>
                  <a:lnTo>
                    <a:pt x="2290" y="90"/>
                  </a:lnTo>
                  <a:lnTo>
                    <a:pt x="2278" y="84"/>
                  </a:lnTo>
                  <a:lnTo>
                    <a:pt x="2272" y="78"/>
                  </a:lnTo>
                  <a:lnTo>
                    <a:pt x="2250" y="57"/>
                  </a:lnTo>
                  <a:lnTo>
                    <a:pt x="2243" y="35"/>
                  </a:lnTo>
                  <a:lnTo>
                    <a:pt x="2228" y="18"/>
                  </a:lnTo>
                  <a:lnTo>
                    <a:pt x="2208" y="18"/>
                  </a:lnTo>
                  <a:lnTo>
                    <a:pt x="2172" y="24"/>
                  </a:lnTo>
                  <a:lnTo>
                    <a:pt x="2151" y="36"/>
                  </a:lnTo>
                  <a:lnTo>
                    <a:pt x="2127" y="51"/>
                  </a:lnTo>
                  <a:lnTo>
                    <a:pt x="2097" y="60"/>
                  </a:lnTo>
                  <a:lnTo>
                    <a:pt x="2073" y="72"/>
                  </a:lnTo>
                  <a:lnTo>
                    <a:pt x="2046" y="87"/>
                  </a:lnTo>
                  <a:lnTo>
                    <a:pt x="2007" y="102"/>
                  </a:lnTo>
                  <a:lnTo>
                    <a:pt x="1977" y="114"/>
                  </a:lnTo>
                  <a:lnTo>
                    <a:pt x="1947" y="120"/>
                  </a:lnTo>
                  <a:lnTo>
                    <a:pt x="1895" y="120"/>
                  </a:lnTo>
                  <a:lnTo>
                    <a:pt x="1794" y="120"/>
                  </a:lnTo>
                  <a:lnTo>
                    <a:pt x="1692" y="120"/>
                  </a:lnTo>
                  <a:lnTo>
                    <a:pt x="1644" y="120"/>
                  </a:lnTo>
                  <a:lnTo>
                    <a:pt x="1602" y="114"/>
                  </a:lnTo>
                  <a:lnTo>
                    <a:pt x="1561" y="108"/>
                  </a:lnTo>
                  <a:lnTo>
                    <a:pt x="1525" y="102"/>
                  </a:lnTo>
                  <a:lnTo>
                    <a:pt x="1507" y="102"/>
                  </a:lnTo>
                  <a:lnTo>
                    <a:pt x="1495" y="96"/>
                  </a:lnTo>
                  <a:lnTo>
                    <a:pt x="1483" y="90"/>
                  </a:lnTo>
                  <a:lnTo>
                    <a:pt x="1477" y="84"/>
                  </a:lnTo>
                  <a:lnTo>
                    <a:pt x="1459" y="78"/>
                  </a:lnTo>
                  <a:lnTo>
                    <a:pt x="1441" y="66"/>
                  </a:lnTo>
                  <a:lnTo>
                    <a:pt x="1429" y="60"/>
                  </a:lnTo>
                  <a:lnTo>
                    <a:pt x="1411" y="60"/>
                  </a:lnTo>
                  <a:lnTo>
                    <a:pt x="1399" y="54"/>
                  </a:lnTo>
                  <a:lnTo>
                    <a:pt x="1387" y="54"/>
                  </a:lnTo>
                  <a:lnTo>
                    <a:pt x="1375" y="54"/>
                  </a:lnTo>
                  <a:lnTo>
                    <a:pt x="1357" y="54"/>
                  </a:lnTo>
                  <a:lnTo>
                    <a:pt x="1345" y="54"/>
                  </a:lnTo>
                  <a:lnTo>
                    <a:pt x="1333" y="60"/>
                  </a:lnTo>
                  <a:lnTo>
                    <a:pt x="1309" y="66"/>
                  </a:lnTo>
                  <a:lnTo>
                    <a:pt x="1262" y="84"/>
                  </a:lnTo>
                  <a:lnTo>
                    <a:pt x="1220" y="102"/>
                  </a:lnTo>
                  <a:lnTo>
                    <a:pt x="1178" y="114"/>
                  </a:lnTo>
                  <a:lnTo>
                    <a:pt x="1142" y="126"/>
                  </a:lnTo>
                  <a:lnTo>
                    <a:pt x="1100" y="138"/>
                  </a:lnTo>
                  <a:lnTo>
                    <a:pt x="1058" y="150"/>
                  </a:lnTo>
                  <a:lnTo>
                    <a:pt x="1016" y="156"/>
                  </a:lnTo>
                  <a:lnTo>
                    <a:pt x="945" y="168"/>
                  </a:lnTo>
                  <a:lnTo>
                    <a:pt x="879" y="174"/>
                  </a:lnTo>
                  <a:lnTo>
                    <a:pt x="819" y="174"/>
                  </a:lnTo>
                  <a:lnTo>
                    <a:pt x="759" y="168"/>
                  </a:lnTo>
                  <a:lnTo>
                    <a:pt x="706" y="162"/>
                  </a:lnTo>
                  <a:lnTo>
                    <a:pt x="652" y="150"/>
                  </a:lnTo>
                  <a:lnTo>
                    <a:pt x="610" y="138"/>
                  </a:lnTo>
                  <a:lnTo>
                    <a:pt x="568" y="126"/>
                  </a:lnTo>
                  <a:lnTo>
                    <a:pt x="532" y="114"/>
                  </a:lnTo>
                  <a:lnTo>
                    <a:pt x="502" y="102"/>
                  </a:lnTo>
                  <a:lnTo>
                    <a:pt x="478" y="90"/>
                  </a:lnTo>
                  <a:lnTo>
                    <a:pt x="460" y="78"/>
                  </a:lnTo>
                  <a:lnTo>
                    <a:pt x="442" y="66"/>
                  </a:lnTo>
                  <a:lnTo>
                    <a:pt x="425" y="54"/>
                  </a:lnTo>
                  <a:lnTo>
                    <a:pt x="407" y="42"/>
                  </a:lnTo>
                  <a:lnTo>
                    <a:pt x="401" y="42"/>
                  </a:lnTo>
                  <a:lnTo>
                    <a:pt x="395" y="42"/>
                  </a:lnTo>
                  <a:lnTo>
                    <a:pt x="389" y="42"/>
                  </a:lnTo>
                  <a:lnTo>
                    <a:pt x="383" y="42"/>
                  </a:lnTo>
                  <a:lnTo>
                    <a:pt x="377" y="48"/>
                  </a:lnTo>
                  <a:lnTo>
                    <a:pt x="371" y="54"/>
                  </a:lnTo>
                  <a:lnTo>
                    <a:pt x="359" y="66"/>
                  </a:lnTo>
                  <a:lnTo>
                    <a:pt x="347" y="78"/>
                  </a:lnTo>
                  <a:lnTo>
                    <a:pt x="341" y="84"/>
                  </a:lnTo>
                  <a:lnTo>
                    <a:pt x="335" y="90"/>
                  </a:lnTo>
                  <a:lnTo>
                    <a:pt x="323" y="102"/>
                  </a:lnTo>
                  <a:lnTo>
                    <a:pt x="305" y="108"/>
                  </a:lnTo>
                  <a:lnTo>
                    <a:pt x="287" y="114"/>
                  </a:lnTo>
                  <a:lnTo>
                    <a:pt x="263" y="120"/>
                  </a:lnTo>
                  <a:lnTo>
                    <a:pt x="239" y="126"/>
                  </a:lnTo>
                  <a:lnTo>
                    <a:pt x="215" y="132"/>
                  </a:lnTo>
                  <a:lnTo>
                    <a:pt x="191" y="132"/>
                  </a:lnTo>
                  <a:lnTo>
                    <a:pt x="167" y="138"/>
                  </a:lnTo>
                  <a:lnTo>
                    <a:pt x="144" y="138"/>
                  </a:lnTo>
                  <a:lnTo>
                    <a:pt x="120" y="138"/>
                  </a:lnTo>
                  <a:lnTo>
                    <a:pt x="90" y="132"/>
                  </a:lnTo>
                  <a:lnTo>
                    <a:pt x="66" y="132"/>
                  </a:lnTo>
                  <a:lnTo>
                    <a:pt x="42" y="126"/>
                  </a:lnTo>
                  <a:lnTo>
                    <a:pt x="24" y="120"/>
                  </a:lnTo>
                  <a:lnTo>
                    <a:pt x="0" y="114"/>
                  </a:lnTo>
                  <a:lnTo>
                    <a:pt x="0" y="96"/>
                  </a:lnTo>
                  <a:lnTo>
                    <a:pt x="24" y="102"/>
                  </a:lnTo>
                  <a:lnTo>
                    <a:pt x="42" y="108"/>
                  </a:lnTo>
                  <a:lnTo>
                    <a:pt x="66" y="114"/>
                  </a:lnTo>
                  <a:lnTo>
                    <a:pt x="90" y="114"/>
                  </a:lnTo>
                  <a:lnTo>
                    <a:pt x="120" y="120"/>
                  </a:lnTo>
                  <a:lnTo>
                    <a:pt x="144" y="120"/>
                  </a:lnTo>
                  <a:lnTo>
                    <a:pt x="167" y="120"/>
                  </a:lnTo>
                  <a:lnTo>
                    <a:pt x="191" y="114"/>
                  </a:lnTo>
                  <a:lnTo>
                    <a:pt x="215" y="114"/>
                  </a:lnTo>
                  <a:lnTo>
                    <a:pt x="239" y="108"/>
                  </a:lnTo>
                  <a:lnTo>
                    <a:pt x="263" y="102"/>
                  </a:lnTo>
                  <a:lnTo>
                    <a:pt x="287" y="96"/>
                  </a:lnTo>
                  <a:lnTo>
                    <a:pt x="305" y="90"/>
                  </a:lnTo>
                  <a:lnTo>
                    <a:pt x="323" y="84"/>
                  </a:lnTo>
                  <a:lnTo>
                    <a:pt x="335" y="72"/>
                  </a:lnTo>
                  <a:lnTo>
                    <a:pt x="341" y="66"/>
                  </a:lnTo>
                  <a:lnTo>
                    <a:pt x="347" y="60"/>
                  </a:lnTo>
                  <a:lnTo>
                    <a:pt x="359" y="48"/>
                  </a:lnTo>
                  <a:lnTo>
                    <a:pt x="371" y="36"/>
                  </a:lnTo>
                  <a:lnTo>
                    <a:pt x="377" y="30"/>
                  </a:lnTo>
                  <a:lnTo>
                    <a:pt x="383" y="24"/>
                  </a:lnTo>
                  <a:lnTo>
                    <a:pt x="389" y="24"/>
                  </a:lnTo>
                  <a:lnTo>
                    <a:pt x="395" y="24"/>
                  </a:lnTo>
                  <a:lnTo>
                    <a:pt x="401" y="24"/>
                  </a:lnTo>
                  <a:lnTo>
                    <a:pt x="407" y="24"/>
                  </a:lnTo>
                  <a:lnTo>
                    <a:pt x="425" y="36"/>
                  </a:lnTo>
                  <a:lnTo>
                    <a:pt x="442" y="48"/>
                  </a:lnTo>
                  <a:lnTo>
                    <a:pt x="460" y="60"/>
                  </a:lnTo>
                  <a:lnTo>
                    <a:pt x="478" y="72"/>
                  </a:lnTo>
                  <a:lnTo>
                    <a:pt x="502" y="84"/>
                  </a:lnTo>
                  <a:lnTo>
                    <a:pt x="532" y="96"/>
                  </a:lnTo>
                  <a:lnTo>
                    <a:pt x="568" y="108"/>
                  </a:lnTo>
                  <a:lnTo>
                    <a:pt x="610" y="120"/>
                  </a:lnTo>
                  <a:lnTo>
                    <a:pt x="652" y="132"/>
                  </a:lnTo>
                  <a:lnTo>
                    <a:pt x="706" y="144"/>
                  </a:lnTo>
                  <a:lnTo>
                    <a:pt x="759" y="150"/>
                  </a:lnTo>
                  <a:lnTo>
                    <a:pt x="819" y="156"/>
                  </a:lnTo>
                  <a:lnTo>
                    <a:pt x="879" y="156"/>
                  </a:lnTo>
                  <a:lnTo>
                    <a:pt x="945" y="150"/>
                  </a:lnTo>
                  <a:lnTo>
                    <a:pt x="1016" y="138"/>
                  </a:lnTo>
                  <a:lnTo>
                    <a:pt x="1058" y="132"/>
                  </a:lnTo>
                  <a:lnTo>
                    <a:pt x="1100" y="120"/>
                  </a:lnTo>
                  <a:lnTo>
                    <a:pt x="1142" y="108"/>
                  </a:lnTo>
                  <a:lnTo>
                    <a:pt x="1178" y="96"/>
                  </a:lnTo>
                  <a:lnTo>
                    <a:pt x="1220" y="84"/>
                  </a:lnTo>
                  <a:lnTo>
                    <a:pt x="1262" y="66"/>
                  </a:lnTo>
                  <a:lnTo>
                    <a:pt x="1309" y="48"/>
                  </a:lnTo>
                  <a:lnTo>
                    <a:pt x="1333" y="42"/>
                  </a:lnTo>
                  <a:lnTo>
                    <a:pt x="1345" y="36"/>
                  </a:lnTo>
                  <a:lnTo>
                    <a:pt x="1357" y="36"/>
                  </a:lnTo>
                  <a:lnTo>
                    <a:pt x="1375" y="36"/>
                  </a:lnTo>
                  <a:lnTo>
                    <a:pt x="1387" y="36"/>
                  </a:lnTo>
                  <a:lnTo>
                    <a:pt x="1399" y="36"/>
                  </a:lnTo>
                  <a:lnTo>
                    <a:pt x="1411" y="42"/>
                  </a:lnTo>
                  <a:lnTo>
                    <a:pt x="1429" y="42"/>
                  </a:lnTo>
                  <a:lnTo>
                    <a:pt x="1441" y="48"/>
                  </a:lnTo>
                  <a:lnTo>
                    <a:pt x="1459" y="60"/>
                  </a:lnTo>
                  <a:lnTo>
                    <a:pt x="1477" y="66"/>
                  </a:lnTo>
                  <a:lnTo>
                    <a:pt x="1483" y="72"/>
                  </a:lnTo>
                  <a:lnTo>
                    <a:pt x="1495" y="78"/>
                  </a:lnTo>
                  <a:lnTo>
                    <a:pt x="1507" y="84"/>
                  </a:lnTo>
                  <a:lnTo>
                    <a:pt x="1525" y="84"/>
                  </a:lnTo>
                  <a:lnTo>
                    <a:pt x="1561" y="90"/>
                  </a:lnTo>
                  <a:lnTo>
                    <a:pt x="1602" y="96"/>
                  </a:lnTo>
                  <a:lnTo>
                    <a:pt x="1644" y="102"/>
                  </a:lnTo>
                  <a:lnTo>
                    <a:pt x="1692" y="102"/>
                  </a:lnTo>
                  <a:lnTo>
                    <a:pt x="1794" y="102"/>
                  </a:lnTo>
                  <a:lnTo>
                    <a:pt x="1895" y="102"/>
                  </a:lnTo>
                  <a:lnTo>
                    <a:pt x="1938" y="102"/>
                  </a:lnTo>
                  <a:lnTo>
                    <a:pt x="1971" y="96"/>
                  </a:lnTo>
                  <a:lnTo>
                    <a:pt x="2019" y="77"/>
                  </a:lnTo>
                  <a:lnTo>
                    <a:pt x="2063" y="57"/>
                  </a:lnTo>
                  <a:lnTo>
                    <a:pt x="2111" y="38"/>
                  </a:lnTo>
                  <a:lnTo>
                    <a:pt x="2145" y="18"/>
                  </a:lnTo>
                  <a:lnTo>
                    <a:pt x="2172" y="9"/>
                  </a:lnTo>
                  <a:lnTo>
                    <a:pt x="2202" y="0"/>
                  </a:lnTo>
                  <a:lnTo>
                    <a:pt x="2235" y="3"/>
                  </a:lnTo>
                  <a:lnTo>
                    <a:pt x="2250" y="24"/>
                  </a:lnTo>
                  <a:lnTo>
                    <a:pt x="2262" y="51"/>
                  </a:lnTo>
                  <a:lnTo>
                    <a:pt x="2290" y="72"/>
                  </a:lnTo>
                  <a:lnTo>
                    <a:pt x="2296" y="78"/>
                  </a:lnTo>
                  <a:lnTo>
                    <a:pt x="2308" y="84"/>
                  </a:lnTo>
                  <a:lnTo>
                    <a:pt x="2326" y="90"/>
                  </a:lnTo>
                  <a:lnTo>
                    <a:pt x="2350" y="102"/>
                  </a:lnTo>
                  <a:lnTo>
                    <a:pt x="2380" y="108"/>
                  </a:lnTo>
                  <a:lnTo>
                    <a:pt x="2416" y="114"/>
                  </a:lnTo>
                  <a:lnTo>
                    <a:pt x="2446" y="108"/>
                  </a:lnTo>
                  <a:lnTo>
                    <a:pt x="2481" y="108"/>
                  </a:lnTo>
                  <a:lnTo>
                    <a:pt x="2511" y="102"/>
                  </a:lnTo>
                  <a:lnTo>
                    <a:pt x="2541" y="96"/>
                  </a:lnTo>
                  <a:lnTo>
                    <a:pt x="2559" y="96"/>
                  </a:lnTo>
                  <a:lnTo>
                    <a:pt x="2595" y="84"/>
                  </a:lnTo>
                  <a:lnTo>
                    <a:pt x="2619" y="72"/>
                  </a:lnTo>
                  <a:lnTo>
                    <a:pt x="2643" y="54"/>
                  </a:lnTo>
                  <a:lnTo>
                    <a:pt x="2661" y="42"/>
                  </a:lnTo>
                  <a:lnTo>
                    <a:pt x="2673" y="24"/>
                  </a:lnTo>
                  <a:lnTo>
                    <a:pt x="2697" y="18"/>
                  </a:lnTo>
                  <a:lnTo>
                    <a:pt x="2715" y="24"/>
                  </a:lnTo>
                  <a:lnTo>
                    <a:pt x="2715" y="48"/>
                  </a:lnTo>
                  <a:lnTo>
                    <a:pt x="2709" y="78"/>
                  </a:lnTo>
                  <a:lnTo>
                    <a:pt x="2709" y="108"/>
                  </a:lnTo>
                  <a:lnTo>
                    <a:pt x="2727" y="114"/>
                  </a:lnTo>
                  <a:lnTo>
                    <a:pt x="2744" y="120"/>
                  </a:lnTo>
                  <a:lnTo>
                    <a:pt x="2768" y="126"/>
                  </a:lnTo>
                  <a:lnTo>
                    <a:pt x="2792" y="132"/>
                  </a:lnTo>
                  <a:lnTo>
                    <a:pt x="2816" y="132"/>
                  </a:lnTo>
                  <a:lnTo>
                    <a:pt x="2846" y="132"/>
                  </a:lnTo>
                  <a:lnTo>
                    <a:pt x="2870" y="132"/>
                  </a:lnTo>
                  <a:lnTo>
                    <a:pt x="2906" y="132"/>
                  </a:lnTo>
                  <a:lnTo>
                    <a:pt x="2972" y="126"/>
                  </a:lnTo>
                  <a:lnTo>
                    <a:pt x="3049" y="114"/>
                  </a:lnTo>
                  <a:lnTo>
                    <a:pt x="3127" y="102"/>
                  </a:lnTo>
                  <a:lnTo>
                    <a:pt x="3205" y="90"/>
                  </a:lnTo>
                  <a:lnTo>
                    <a:pt x="3336" y="78"/>
                  </a:lnTo>
                  <a:lnTo>
                    <a:pt x="3426" y="72"/>
                  </a:lnTo>
                  <a:lnTo>
                    <a:pt x="3456" y="66"/>
                  </a:lnTo>
                  <a:lnTo>
                    <a:pt x="3462" y="66"/>
                  </a:lnTo>
                  <a:lnTo>
                    <a:pt x="3474" y="60"/>
                  </a:lnTo>
                  <a:lnTo>
                    <a:pt x="3486" y="48"/>
                  </a:lnTo>
                  <a:lnTo>
                    <a:pt x="3498" y="48"/>
                  </a:lnTo>
                  <a:lnTo>
                    <a:pt x="3510" y="42"/>
                  </a:lnTo>
                  <a:lnTo>
                    <a:pt x="3522" y="42"/>
                  </a:lnTo>
                  <a:lnTo>
                    <a:pt x="3534" y="36"/>
                  </a:lnTo>
                  <a:lnTo>
                    <a:pt x="3546" y="36"/>
                  </a:lnTo>
                  <a:lnTo>
                    <a:pt x="3564" y="36"/>
                  </a:lnTo>
                  <a:lnTo>
                    <a:pt x="3582" y="42"/>
                  </a:lnTo>
                  <a:lnTo>
                    <a:pt x="3600" y="42"/>
                  </a:lnTo>
                  <a:lnTo>
                    <a:pt x="3617" y="54"/>
                  </a:lnTo>
                  <a:lnTo>
                    <a:pt x="3635" y="60"/>
                  </a:lnTo>
                  <a:lnTo>
                    <a:pt x="3647" y="66"/>
                  </a:lnTo>
                  <a:lnTo>
                    <a:pt x="3659" y="72"/>
                  </a:lnTo>
                  <a:lnTo>
                    <a:pt x="3689" y="78"/>
                  </a:lnTo>
                  <a:lnTo>
                    <a:pt x="3731" y="90"/>
                  </a:lnTo>
                  <a:lnTo>
                    <a:pt x="3767" y="96"/>
                  </a:lnTo>
                  <a:lnTo>
                    <a:pt x="3815" y="102"/>
                  </a:lnTo>
                  <a:lnTo>
                    <a:pt x="3863" y="102"/>
                  </a:lnTo>
                  <a:lnTo>
                    <a:pt x="3916" y="102"/>
                  </a:lnTo>
                  <a:lnTo>
                    <a:pt x="3970" y="102"/>
                  </a:lnTo>
                  <a:lnTo>
                    <a:pt x="4024" y="102"/>
                  </a:lnTo>
                  <a:lnTo>
                    <a:pt x="4078" y="102"/>
                  </a:lnTo>
                  <a:lnTo>
                    <a:pt x="4132" y="96"/>
                  </a:lnTo>
                  <a:lnTo>
                    <a:pt x="4186" y="90"/>
                  </a:lnTo>
                  <a:lnTo>
                    <a:pt x="4239" y="78"/>
                  </a:lnTo>
                  <a:lnTo>
                    <a:pt x="4287" y="72"/>
                  </a:lnTo>
                  <a:lnTo>
                    <a:pt x="4341" y="54"/>
                  </a:lnTo>
                  <a:lnTo>
                    <a:pt x="4383" y="42"/>
                  </a:lnTo>
                  <a:lnTo>
                    <a:pt x="4419" y="30"/>
                  </a:lnTo>
                  <a:lnTo>
                    <a:pt x="4449" y="18"/>
                  </a:lnTo>
                  <a:lnTo>
                    <a:pt x="4478" y="12"/>
                  </a:lnTo>
                  <a:lnTo>
                    <a:pt x="4502" y="6"/>
                  </a:lnTo>
                  <a:lnTo>
                    <a:pt x="4526" y="0"/>
                  </a:lnTo>
                  <a:lnTo>
                    <a:pt x="4544" y="0"/>
                  </a:lnTo>
                  <a:lnTo>
                    <a:pt x="4562" y="0"/>
                  </a:lnTo>
                  <a:lnTo>
                    <a:pt x="4574" y="6"/>
                  </a:lnTo>
                  <a:lnTo>
                    <a:pt x="4586" y="12"/>
                  </a:lnTo>
                  <a:lnTo>
                    <a:pt x="4598" y="18"/>
                  </a:lnTo>
                  <a:lnTo>
                    <a:pt x="4604" y="24"/>
                  </a:lnTo>
                  <a:lnTo>
                    <a:pt x="4610" y="30"/>
                  </a:lnTo>
                  <a:lnTo>
                    <a:pt x="4616" y="36"/>
                  </a:lnTo>
                  <a:lnTo>
                    <a:pt x="4622" y="48"/>
                  </a:lnTo>
                  <a:lnTo>
                    <a:pt x="4628" y="60"/>
                  </a:lnTo>
                  <a:lnTo>
                    <a:pt x="4634" y="66"/>
                  </a:lnTo>
                  <a:lnTo>
                    <a:pt x="4640" y="78"/>
                  </a:lnTo>
                  <a:lnTo>
                    <a:pt x="4652" y="84"/>
                  </a:lnTo>
                  <a:lnTo>
                    <a:pt x="4670" y="90"/>
                  </a:lnTo>
                  <a:lnTo>
                    <a:pt x="4682" y="96"/>
                  </a:lnTo>
                  <a:lnTo>
                    <a:pt x="4706" y="102"/>
                  </a:lnTo>
                  <a:lnTo>
                    <a:pt x="4724" y="108"/>
                  </a:lnTo>
                  <a:lnTo>
                    <a:pt x="4748" y="114"/>
                  </a:lnTo>
                  <a:lnTo>
                    <a:pt x="4771" y="114"/>
                  </a:lnTo>
                  <a:lnTo>
                    <a:pt x="4801" y="114"/>
                  </a:lnTo>
                  <a:lnTo>
                    <a:pt x="4831" y="108"/>
                  </a:lnTo>
                  <a:lnTo>
                    <a:pt x="4861" y="102"/>
                  </a:lnTo>
                  <a:lnTo>
                    <a:pt x="4891" y="96"/>
                  </a:lnTo>
                  <a:lnTo>
                    <a:pt x="4927" y="84"/>
                  </a:lnTo>
                  <a:lnTo>
                    <a:pt x="4957" y="66"/>
                  </a:lnTo>
                  <a:lnTo>
                    <a:pt x="4993" y="48"/>
                  </a:lnTo>
                  <a:lnTo>
                    <a:pt x="5017" y="36"/>
                  </a:lnTo>
                  <a:lnTo>
                    <a:pt x="5029" y="30"/>
                  </a:lnTo>
                  <a:lnTo>
                    <a:pt x="5061" y="24"/>
                  </a:lnTo>
                  <a:lnTo>
                    <a:pt x="5091" y="17"/>
                  </a:lnTo>
                  <a:lnTo>
                    <a:pt x="5118" y="14"/>
                  </a:lnTo>
                  <a:lnTo>
                    <a:pt x="5145" y="9"/>
                  </a:lnTo>
                  <a:lnTo>
                    <a:pt x="5175" y="9"/>
                  </a:lnTo>
                  <a:lnTo>
                    <a:pt x="5199" y="8"/>
                  </a:lnTo>
                  <a:lnTo>
                    <a:pt x="5219" y="9"/>
                  </a:lnTo>
                  <a:lnTo>
                    <a:pt x="5238" y="9"/>
                  </a:lnTo>
                  <a:lnTo>
                    <a:pt x="5258" y="11"/>
                  </a:lnTo>
                  <a:lnTo>
                    <a:pt x="5280" y="9"/>
                  </a:lnTo>
                  <a:lnTo>
                    <a:pt x="5304" y="11"/>
                  </a:lnTo>
                  <a:lnTo>
                    <a:pt x="5327" y="8"/>
                  </a:lnTo>
                  <a:lnTo>
                    <a:pt x="5351" y="8"/>
                  </a:lnTo>
                  <a:lnTo>
                    <a:pt x="5390" y="9"/>
                  </a:lnTo>
                  <a:lnTo>
                    <a:pt x="5435" y="24"/>
                  </a:lnTo>
                  <a:lnTo>
                    <a:pt x="5447" y="30"/>
                  </a:lnTo>
                  <a:lnTo>
                    <a:pt x="5453" y="36"/>
                  </a:lnTo>
                  <a:lnTo>
                    <a:pt x="5453" y="42"/>
                  </a:lnTo>
                  <a:lnTo>
                    <a:pt x="5459" y="48"/>
                  </a:lnTo>
                  <a:lnTo>
                    <a:pt x="5459" y="54"/>
                  </a:lnTo>
                  <a:lnTo>
                    <a:pt x="5459" y="60"/>
                  </a:lnTo>
                  <a:lnTo>
                    <a:pt x="5459" y="66"/>
                  </a:lnTo>
                  <a:lnTo>
                    <a:pt x="5465" y="66"/>
                  </a:lnTo>
                  <a:lnTo>
                    <a:pt x="5465" y="72"/>
                  </a:lnTo>
                  <a:lnTo>
                    <a:pt x="5477" y="72"/>
                  </a:lnTo>
                  <a:lnTo>
                    <a:pt x="5489" y="78"/>
                  </a:lnTo>
                  <a:lnTo>
                    <a:pt x="5501" y="84"/>
                  </a:lnTo>
                  <a:lnTo>
                    <a:pt x="5519" y="84"/>
                  </a:lnTo>
                  <a:lnTo>
                    <a:pt x="5555" y="90"/>
                  </a:lnTo>
                  <a:lnTo>
                    <a:pt x="5603" y="90"/>
                  </a:lnTo>
                  <a:lnTo>
                    <a:pt x="5656" y="90"/>
                  </a:lnTo>
                  <a:lnTo>
                    <a:pt x="5710" y="84"/>
                  </a:lnTo>
                  <a:lnTo>
                    <a:pt x="5740" y="78"/>
                  </a:lnTo>
                  <a:lnTo>
                    <a:pt x="5770" y="72"/>
                  </a:lnTo>
                  <a:lnTo>
                    <a:pt x="5770" y="90"/>
                  </a:lnTo>
                  <a:lnTo>
                    <a:pt x="5770" y="90"/>
                  </a:lnTo>
                  <a:lnTo>
                    <a:pt x="5740" y="96"/>
                  </a:lnTo>
                  <a:lnTo>
                    <a:pt x="5710" y="102"/>
                  </a:lnTo>
                  <a:lnTo>
                    <a:pt x="5656" y="108"/>
                  </a:lnTo>
                  <a:lnTo>
                    <a:pt x="5603" y="108"/>
                  </a:lnTo>
                  <a:lnTo>
                    <a:pt x="5555" y="108"/>
                  </a:lnTo>
                  <a:lnTo>
                    <a:pt x="5519" y="102"/>
                  </a:lnTo>
                  <a:lnTo>
                    <a:pt x="5501" y="102"/>
                  </a:lnTo>
                  <a:lnTo>
                    <a:pt x="5489" y="96"/>
                  </a:lnTo>
                  <a:lnTo>
                    <a:pt x="5477" y="90"/>
                  </a:lnTo>
                  <a:lnTo>
                    <a:pt x="5465" y="90"/>
                  </a:lnTo>
                  <a:lnTo>
                    <a:pt x="5465" y="84"/>
                  </a:lnTo>
                  <a:lnTo>
                    <a:pt x="5459" y="84"/>
                  </a:lnTo>
                  <a:lnTo>
                    <a:pt x="5459" y="78"/>
                  </a:lnTo>
                  <a:lnTo>
                    <a:pt x="5459" y="72"/>
                  </a:lnTo>
                  <a:lnTo>
                    <a:pt x="5459" y="66"/>
                  </a:lnTo>
                  <a:lnTo>
                    <a:pt x="5453" y="60"/>
                  </a:lnTo>
                  <a:lnTo>
                    <a:pt x="5453" y="54"/>
                  </a:lnTo>
                  <a:lnTo>
                    <a:pt x="5447" y="48"/>
                  </a:lnTo>
                  <a:lnTo>
                    <a:pt x="5435" y="42"/>
                  </a:lnTo>
                  <a:lnTo>
                    <a:pt x="5429" y="36"/>
                  </a:lnTo>
                  <a:lnTo>
                    <a:pt x="5423" y="36"/>
                  </a:lnTo>
                  <a:lnTo>
                    <a:pt x="5405" y="30"/>
                  </a:lnTo>
                  <a:lnTo>
                    <a:pt x="5393" y="30"/>
                  </a:lnTo>
                  <a:lnTo>
                    <a:pt x="5370" y="23"/>
                  </a:lnTo>
                  <a:lnTo>
                    <a:pt x="5346" y="24"/>
                  </a:lnTo>
                  <a:lnTo>
                    <a:pt x="5325" y="27"/>
                  </a:lnTo>
                  <a:lnTo>
                    <a:pt x="5298" y="29"/>
                  </a:lnTo>
                  <a:lnTo>
                    <a:pt x="5270" y="29"/>
                  </a:lnTo>
                  <a:lnTo>
                    <a:pt x="5247" y="26"/>
                  </a:lnTo>
                  <a:lnTo>
                    <a:pt x="5219" y="24"/>
                  </a:lnTo>
                  <a:lnTo>
                    <a:pt x="5199" y="21"/>
                  </a:lnTo>
                  <a:lnTo>
                    <a:pt x="5174" y="24"/>
                  </a:lnTo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80808"/>
                </a:gs>
                <a:gs pos="100000">
                  <a:srgbClr val="00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1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2aa68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ebf25a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7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ED8F5-C9D8-406D-90F0-4E7BFEB9E9AB}" type="slidenum">
              <a:rPr b="0" lang="ru-RU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3.xml"/><Relationship Id="rId6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image" Target="../media/image19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0" y="0"/>
            <a:ext cx="9144000" cy="110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660066"/>
                </a:solidFill>
                <a:latin typeface="Arial"/>
              </a:rPr>
              <a:t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5"/>
          <p:cNvSpPr/>
          <p:nvPr/>
        </p:nvSpPr>
        <p:spPr>
          <a:xfrm>
            <a:off x="0" y="1868400"/>
            <a:ext cx="9144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ервая помощь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 </a:t>
            </a:r>
            <a:r>
              <a:rPr b="0" lang="ru-RU" sz="4800" spc="-1" strike="noStrike">
                <a:solidFill>
                  <a:srgbClr val="c00000"/>
                </a:solidFill>
                <a:latin typeface="Arial"/>
              </a:rPr>
              <a:t>при  укусах насекомых</a:t>
            </a:r>
            <a:endParaRPr b="1" lang="en-US" sz="4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6"/>
          <p:cNvSpPr/>
          <p:nvPr/>
        </p:nvSpPr>
        <p:spPr>
          <a:xfrm>
            <a:off x="4932360" y="5273640"/>
            <a:ext cx="3862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00ff"/>
                </a:solidFill>
                <a:latin typeface="Arial"/>
              </a:rPr>
              <a:t>Выполнила Розанова Алёна 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Text Box 7"/>
          <p:cNvSpPr/>
          <p:nvPr/>
        </p:nvSpPr>
        <p:spPr>
          <a:xfrm>
            <a:off x="3266640" y="6110280"/>
            <a:ext cx="216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Волгоград 20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 г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5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0099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Text Box 4"/>
          <p:cNvSpPr/>
          <p:nvPr/>
        </p:nvSpPr>
        <p:spPr>
          <a:xfrm>
            <a:off x="808200" y="35244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5"/>
          <p:cNvSpPr/>
          <p:nvPr/>
        </p:nvSpPr>
        <p:spPr>
          <a:xfrm>
            <a:off x="324000" y="476280"/>
            <a:ext cx="4464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6"/>
          <p:cNvSpPr/>
          <p:nvPr/>
        </p:nvSpPr>
        <p:spPr>
          <a:xfrm>
            <a:off x="468360" y="765000"/>
            <a:ext cx="5113440" cy="548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третьи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не подходить близко к рою пчел, ос и шмелей без специальной одежды и вообще не делать резких движений, находясь рядом с этими насекомыми, не размахивать руками, головой, не бегать. Если пчела или шмель сели вам на руку, постарайтесь просто смахнуть другой рукой, не убивать, иначе вы можете разозлить насекомое, и оно вас точно укусит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-четвертых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, в комнате, где вы будете спать, заранее зажигайте пластины, спирали от комаров, мошек и других насекомых и тогда ночью вы не будете укушены насекомыми. Если у вас аллергия на запахи спирали, пластин, то вы можете поставить на окна москитные сетки и спать спокойно всю ночь с открытыми окнами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8" name="Picture 7" descr="ffhfh"/>
          <p:cNvPicPr/>
          <p:nvPr/>
        </p:nvPicPr>
        <p:blipFill>
          <a:blip r:embed="rId1"/>
          <a:stretch/>
        </p:blipFill>
        <p:spPr>
          <a:xfrm>
            <a:off x="6012000" y="981000"/>
            <a:ext cx="2735280" cy="4824360"/>
          </a:xfrm>
          <a:prstGeom prst="rect">
            <a:avLst/>
          </a:prstGeom>
          <a:ln w="0">
            <a:noFill/>
          </a:ln>
        </p:spPr>
      </p:pic>
      <p:sp>
        <p:nvSpPr>
          <p:cNvPr id="21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nodeType="clickEffect" fill="hold">
                      <p:stCondLst>
                        <p:cond delay="0"/>
                      </p:stCondLst>
                      <p:childTnLst>
                        <p:par>
                          <p:cTn id="2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7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8" nodeType="afterEffect" fill="hold">
                            <p:stCondLst>
                              <p:cond delay="27850"/>
                            </p:stCondLst>
                            <p:childTnLst>
                              <p:par>
                                <p:cTn id="23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41" dur="2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ffff"/>
            </a:gs>
            <a:gs pos="100000">
              <a:srgbClr val="0076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Text Box 4"/>
          <p:cNvSpPr/>
          <p:nvPr/>
        </p:nvSpPr>
        <p:spPr>
          <a:xfrm>
            <a:off x="250920" y="260280"/>
            <a:ext cx="8642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ff0000"/>
                </a:solidFill>
                <a:uFillTx/>
                <a:latin typeface="Arial"/>
              </a:rPr>
              <a:t>Список используемой литературы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Text Box 5"/>
          <p:cNvSpPr/>
          <p:nvPr/>
        </p:nvSpPr>
        <p:spPr>
          <a:xfrm>
            <a:off x="755640" y="1413000"/>
            <a:ext cx="77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CD-R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диск «Первая медицинская помощь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Text Box 6"/>
          <p:cNvSpPr/>
          <p:nvPr/>
        </p:nvSpPr>
        <p:spPr>
          <a:xfrm>
            <a:off x="755640" y="1989000"/>
            <a:ext cx="5184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www. Yandex.ru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Text Box 7"/>
          <p:cNvSpPr/>
          <p:nvPr/>
        </p:nvSpPr>
        <p:spPr>
          <a:xfrm>
            <a:off x="755640" y="2637000"/>
            <a:ext cx="770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3.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«Современная медицинская энциклопедия»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0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251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6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58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0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26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0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ff"/>
            </a:gs>
            <a:gs pos="100000">
              <a:srgbClr val="002f7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WordArt 5"/>
          <p:cNvSpPr txBox="1"/>
          <p:nvPr/>
        </p:nvSpPr>
        <p:spPr>
          <a:xfrm>
            <a:off x="0" y="765000"/>
            <a:ext cx="9144000" cy="151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"/>
              </a:rPr>
              <a:t>Большое спасибо за просмотр!!!</a:t>
            </a:r>
            <a:endParaRPr b="1" lang="en-US" sz="18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226" name="Text Box 6"/>
          <p:cNvSpPr/>
          <p:nvPr/>
        </p:nvSpPr>
        <p:spPr>
          <a:xfrm>
            <a:off x="468360" y="364500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6699ff"/>
                </a:solidFill>
                <a:latin typeface="Arial"/>
              </a:rPr>
              <a:t>Берегите себя и своих близких!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ffffff"/>
                </a:solidFill>
                <a:latin typeface="Tahoma"/>
              </a:rPr>
              <a:t>www.sliderpoint.org</a:t>
            </a:r>
            <a:endParaRPr b="1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0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7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79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20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be0e3"/>
            </a:gs>
            <a:gs pos="100000">
              <a:srgbClr val="333399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ff0000"/>
                </a:solidFill>
                <a:latin typeface="Arial"/>
              </a:rPr>
              <a:t>При укусах насекомых важно быстро и правильно оказать первую помощь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8"/>
          <p:cNvSpPr/>
          <p:nvPr/>
        </p:nvSpPr>
        <p:spPr>
          <a:xfrm>
            <a:off x="447840" y="1936800"/>
            <a:ext cx="869616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3333ff"/>
                </a:solidFill>
                <a:latin typeface="Arial"/>
              </a:rPr>
              <a:t>1.Чтобы удалить уже присосавшегося клеща достаточно капнуть на него спиртом, растительным маслом или просто чем то жирным, после чего можно взяться за насекомое пинцетом и аккуратно удалить.</a:t>
            </a:r>
            <a:endParaRPr b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1" name="Picture 9" descr="Клещ"/>
          <p:cNvPicPr/>
          <p:nvPr/>
        </p:nvPicPr>
        <p:blipFill>
          <a:blip r:embed="rId1"/>
          <a:stretch/>
        </p:blipFill>
        <p:spPr>
          <a:xfrm>
            <a:off x="611280" y="3357720"/>
            <a:ext cx="3744720" cy="331128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0" descr="hgfhjg"/>
          <p:cNvPicPr/>
          <p:nvPr/>
        </p:nvPicPr>
        <p:blipFill>
          <a:blip r:embed="rId2"/>
          <a:stretch/>
        </p:blipFill>
        <p:spPr>
          <a:xfrm>
            <a:off x="4572000" y="3357720"/>
            <a:ext cx="3781440" cy="3240000"/>
          </a:xfrm>
          <a:prstGeom prst="rect">
            <a:avLst/>
          </a:prstGeom>
          <a:ln w="0">
            <a:noFill/>
          </a:ln>
        </p:spPr>
      </p:pic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nodeType="clickEffect" fill="hold">
                      <p:stCondLst>
                        <p:cond delay="0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2400"/>
                            </p:stCondLst>
                            <p:childTnLst>
                              <p:par>
                                <p:cTn id="2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nodeType="afterEffect" fill="hold">
                            <p:stCondLst>
                              <p:cond delay="9000"/>
                            </p:stCondLst>
                            <p:childTnLst>
                              <p:par>
                                <p:cTn id="35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nodeType="afterEffect" fill="hold">
                            <p:stCondLst>
                              <p:cond delay="9500"/>
                            </p:stCondLst>
                            <p:childTnLst>
                              <p:par>
                                <p:cTn id="39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nodeType="afterEffect" fill="hold">
                            <p:stCondLst>
                              <p:cond delay="10000"/>
                            </p:stCondLst>
                            <p:childTnLst>
                              <p:par>
                                <p:cTn id="4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5" dur="2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12000"/>
                            </p:stCondLst>
                            <p:childTnLst>
                              <p:par>
                                <p:cTn id="4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2000" fill="hold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14000"/>
                            </p:stCondLst>
                            <p:childTnLst>
                              <p:par>
                                <p:cTn id="5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4" dur="2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4" name="Picture 9" descr="аркенек"/>
          <p:cNvPicPr/>
          <p:nvPr/>
        </p:nvPicPr>
        <p:blipFill>
          <a:blip r:embed="rId2"/>
          <a:stretch/>
        </p:blipFill>
        <p:spPr>
          <a:xfrm>
            <a:off x="0" y="3213000"/>
            <a:ext cx="4427640" cy="36450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1" descr="ггггг"/>
          <p:cNvPicPr/>
          <p:nvPr/>
        </p:nvPicPr>
        <p:blipFill>
          <a:blip r:embed="rId3"/>
          <a:stretch/>
        </p:blipFill>
        <p:spPr>
          <a:xfrm>
            <a:off x="0" y="0"/>
            <a:ext cx="4427640" cy="3213000"/>
          </a:xfrm>
          <a:prstGeom prst="rect">
            <a:avLst/>
          </a:prstGeom>
          <a:ln w="0">
            <a:noFill/>
          </a:ln>
        </p:spPr>
      </p:pic>
      <p:sp>
        <p:nvSpPr>
          <p:cNvPr id="186" name="Rectangle 14"/>
          <p:cNvSpPr/>
          <p:nvPr/>
        </p:nvSpPr>
        <p:spPr>
          <a:xfrm>
            <a:off x="4788000" y="262800"/>
            <a:ext cx="3527280" cy="640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При наличии аллергических реакций на яд пчелы, осы или шмеля, человек может потерять сознание, может начаться рвота или выступить крапивница. В таких случаях также рекомендуется обратиться к врачу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Комары, москиты и другие мелкие насекомые встречаются, к сожалению, повсеместно, в том числе и в черте города. Чаще всего неопасны, если не являются переносчиком инфекции (как, например, малярийный комар, который отличается от обыкновенного гораздо большими размерами)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0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4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2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" dur="80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" name="Picture 6" descr="63899m"/>
          <p:cNvPicPr/>
          <p:nvPr/>
        </p:nvPicPr>
        <p:blipFill>
          <a:blip r:embed="rId1"/>
          <a:stretch/>
        </p:blipFill>
        <p:spPr>
          <a:xfrm>
            <a:off x="0" y="3284640"/>
            <a:ext cx="4572000" cy="35733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8" descr="img_17192963_31_4"/>
          <p:cNvPicPr/>
          <p:nvPr/>
        </p:nvPicPr>
        <p:blipFill>
          <a:blip r:embed="rId2"/>
          <a:stretch/>
        </p:blipFill>
        <p:spPr>
          <a:xfrm>
            <a:off x="0" y="0"/>
            <a:ext cx="4572000" cy="3284640"/>
          </a:xfrm>
          <a:prstGeom prst="rect">
            <a:avLst/>
          </a:prstGeom>
          <a:ln w="0">
            <a:noFill/>
          </a:ln>
        </p:spPr>
      </p:pic>
      <p:sp>
        <p:nvSpPr>
          <p:cNvPr id="190" name="Rectangle 12"/>
          <p:cNvSpPr/>
          <p:nvPr/>
        </p:nvSpPr>
        <p:spPr>
          <a:xfrm>
            <a:off x="468360" y="260280"/>
            <a:ext cx="4680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660066"/>
                </a:solidFill>
                <a:uFillTx/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Rectangle 13"/>
          <p:cNvSpPr/>
          <p:nvPr/>
        </p:nvSpPr>
        <p:spPr>
          <a:xfrm>
            <a:off x="4500720" y="0"/>
            <a:ext cx="439236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ff"/>
                </a:solidFill>
                <a:latin typeface="Arial"/>
              </a:rPr>
              <a:t>Аллергия на укусы таких насекомых встречается крайне редко, и в этом случае необходимо сразу обратиться к врачу. Для уменьшения боли и зуда от укусов следует принимать те же меры, что и при укусах пчел, шмелей и ос. Также не забывайте, что расчесывать укушенное место не стоит, потому что это увеличивает риск занесения инфекции. Маленьким детям в этом случае можно заклеить место укуса пластырем, под который кладется кусочек ваты, пропитанный снимающей зуд жидкостью. В большинстве случаев укусы комаров, москитов и других мелких насекомых весьма неприятны, но не опасны (это не касается одновременных множественных случаев укусов, которые являются поводом обратиться к врачу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" dur="indefinite" restart="never" nodeType="tmRoot">
          <p:childTnLst>
            <p:seq>
              <p:cTn id="75" dur="indefinite" nodeType="mainSeq">
                <p:childTnLst>
                  <p:par>
                    <p:cTn id="76" nodeType="clickEffect" fill="hold">
                      <p:stCondLst>
                        <p:cond delay="0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0" dur="2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2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84" dur="20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8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66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3" name="Picture 5" descr="hkj;"/>
          <p:cNvPicPr/>
          <p:nvPr/>
        </p:nvPicPr>
        <p:blipFill>
          <a:blip r:embed="rId1"/>
          <a:stretch/>
        </p:blipFill>
        <p:spPr>
          <a:xfrm>
            <a:off x="0" y="3645000"/>
            <a:ext cx="3174840" cy="3213000"/>
          </a:xfrm>
          <a:prstGeom prst="rect">
            <a:avLst/>
          </a:prstGeom>
          <a:ln w="0">
            <a:noFill/>
          </a:ln>
        </p:spPr>
      </p:pic>
      <p:sp>
        <p:nvSpPr>
          <p:cNvPr id="194" name="Text Box 6"/>
          <p:cNvSpPr/>
          <p:nvPr/>
        </p:nvSpPr>
        <p:spPr>
          <a:xfrm>
            <a:off x="3203640" y="260280"/>
            <a:ext cx="55450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cc"/>
                </a:solidFill>
                <a:latin typeface="Arial"/>
              </a:rPr>
              <a:t>- А-а-а, мама, мама, меня укусила пчела – слышите вы громкий рев своего ребенка. Вы подбегаете и пытаетесь его успокоить, но боль и зуд после укуса пчелы не отпускает, и ваше чадо продолжает плакать. Вы пытаетесь отвлечь ребенка от боли: «Ой, смотри, какая птичка полетела!», а в это время ищете аптечку с зеленкой, и думаете «больше в этот лес гулять мы никогда не пойдем!». Но! Пчелы летают везде и полностью уберечь своего маленького малыша от укуса пчел, шмелей и других насекомых просто невозможно. Да и вы, взрослые, сами можете быть покусаны всё теми же осами, комарами, пчелами где угодно: и на улице в городе, и в саду, и в парке и просто в лесу на свежем воздухе. Если вы будете знать, как можно быстро помочь пострадавшему при укусах насекомых, будете носить с собой минимум необходимых лекарственных средств, то ситуация с укусом не застанет вас врасплох. Сегодня с журналом Мир Советов мы и рассмотрим, как действовать в случае укусов насекомых (пчел, шмелей и т.д.)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7" descr="puioyioo"/>
          <p:cNvPicPr/>
          <p:nvPr/>
        </p:nvPicPr>
        <p:blipFill>
          <a:blip r:embed="rId2"/>
          <a:stretch/>
        </p:blipFill>
        <p:spPr>
          <a:xfrm>
            <a:off x="0" y="333360"/>
            <a:ext cx="3059280" cy="3024360"/>
          </a:xfrm>
          <a:prstGeom prst="rect">
            <a:avLst/>
          </a:prstGeom>
          <a:ln w="0">
            <a:noFill/>
          </a:ln>
        </p:spPr>
      </p:pic>
      <p:sp>
        <p:nvSpPr>
          <p:cNvPr id="19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0"/>
                      </p:stCondLst>
                      <p:childTnLst>
                        <p:par>
                          <p:cTn id="96" nodeType="with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7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9" dur="2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01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3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0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1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1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1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1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1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2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33399"/>
            </a:gs>
            <a:gs pos="100000">
              <a:srgbClr val="66ff33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Text Box 5"/>
          <p:cNvSpPr/>
          <p:nvPr/>
        </p:nvSpPr>
        <p:spPr>
          <a:xfrm>
            <a:off x="179280" y="0"/>
            <a:ext cx="5329440" cy="66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0066"/>
                </a:solidFill>
                <a:latin typeface="Arial"/>
              </a:rPr>
              <a:t>Укусы пчел, ос, шмелей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Укусы пчел, ос, шмелей опасны для людей с повышенной чувствительностью к их укусам (это могут быть и взрослые с чувствительной кожей, но чаще всего чувствительны к укусам дети). Также укусы опасны, в том случае, если человека укусило не одно насекомое, а сразу несколько или целый рой, поэтому действовать надо будет немедленно!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0066"/>
                </a:solidFill>
                <a:latin typeface="Arial"/>
              </a:rPr>
              <a:t>При укусе пчел, ос, шмелей сразу возникает резкая боль, а затем покраснение и отек кожи вокруг укуса. У человека, укушенного насекомым, может быть тошнота и даже рвота или просто общая слабость организма. Если у человека аллергия на насекомых, то может быть и красные высыпания на коже в виде красной сыпи, или так называемой «крапивницы». Если человек вдруг внезапно потеряет сознание после укуса, МирСоветов может вас успокоить, такое тоже возможно, так как каждый человек индивидуален, и реакция у всех разная. Потеря сознания – это реакция организма на яд, выделяемый насекомым, в кровь человека. Необходимо сразу принять соответствующие меры, чтобы привести человека в чувства. Рассмотрим основные правила оказания первой помощи при укусах пчел, ос, шмелей.</a:t>
            </a: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Picture 6" descr="i"/>
          <p:cNvPicPr/>
          <p:nvPr/>
        </p:nvPicPr>
        <p:blipFill>
          <a:blip r:embed="rId1"/>
          <a:stretch/>
        </p:blipFill>
        <p:spPr>
          <a:xfrm>
            <a:off x="5867280" y="404640"/>
            <a:ext cx="3025800" cy="216072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7" descr="пчагд"/>
          <p:cNvPicPr/>
          <p:nvPr/>
        </p:nvPicPr>
        <p:blipFill>
          <a:blip r:embed="rId2"/>
          <a:stretch/>
        </p:blipFill>
        <p:spPr>
          <a:xfrm>
            <a:off x="5867280" y="3933720"/>
            <a:ext cx="3032280" cy="2448000"/>
          </a:xfrm>
          <a:prstGeom prst="rect">
            <a:avLst/>
          </a:prstGeom>
          <a:ln w="0">
            <a:noFill/>
          </a:ln>
        </p:spPr>
      </p:pic>
      <p:sp>
        <p:nvSpPr>
          <p:cNvPr id="20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0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770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8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2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30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3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32" dur="770" fill="hold"/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3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770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38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3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40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4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42" dur="770" fill="hold"/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4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770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48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14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150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15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152" dur="770" fill="hold"/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15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15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6500"/>
                            </p:stCondLst>
                            <p:childTnLst>
                              <p:par>
                                <p:cTn id="162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7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82"/>
            </a:gs>
            <a:gs pos="100000">
              <a:srgbClr val="ff8200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Text Box 5"/>
          <p:cNvSpPr/>
          <p:nvPr/>
        </p:nvSpPr>
        <p:spPr>
          <a:xfrm>
            <a:off x="4643280" y="189000"/>
            <a:ext cx="42498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Укусы комаров, москитов и других мелких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1c1c1c"/>
                </a:solidFill>
                <a:latin typeface="Arial"/>
              </a:rPr>
              <a:t>Множественные укусы комаров, москитов, слепней, оводов и других мелких насекомых также опасны для человека, особенно для тех, у кого есть аллергия к их укусам. При укусе таких насекомых возникает непродолжительная боль, затем зуд и небольшое покраснение участка кожи. В случае повышенной чувствительности человека к укусам комаров, москитов может появиться аллергия в виде красной сыпи. При укусе комарами, москитами и другими мелкими насекомыми правила оказания первой помощи практически те же, что и при укусе пчел, шмелей и ос. Рассмотрим и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02" name="Picture 6" descr="63899m"/>
          <p:cNvPicPr/>
          <p:nvPr/>
        </p:nvPicPr>
        <p:blipFill>
          <a:blip r:embed="rId1"/>
          <a:stretch/>
        </p:blipFill>
        <p:spPr>
          <a:xfrm>
            <a:off x="0" y="0"/>
            <a:ext cx="4643280" cy="1989000"/>
          </a:xfrm>
          <a:prstGeom prst="rect">
            <a:avLst/>
          </a:prstGeom>
          <a:ln w="0">
            <a:noFill/>
          </a:ln>
        </p:spPr>
      </p:pic>
      <p:pic>
        <p:nvPicPr>
          <p:cNvPr id="203" name="Picture 7" descr="папа"/>
          <p:cNvPicPr/>
          <p:nvPr/>
        </p:nvPicPr>
        <p:blipFill>
          <a:blip r:embed="rId2"/>
          <a:stretch/>
        </p:blipFill>
        <p:spPr>
          <a:xfrm>
            <a:off x="0" y="1989000"/>
            <a:ext cx="2195640" cy="2232000"/>
          </a:xfrm>
          <a:prstGeom prst="rect">
            <a:avLst/>
          </a:prstGeom>
          <a:ln w="0">
            <a:noFill/>
          </a:ln>
        </p:spPr>
      </p:pic>
      <p:pic>
        <p:nvPicPr>
          <p:cNvPr id="204" name="Picture 8" descr="0debbcfa5d9db1cb051c45e33fd24cd3"/>
          <p:cNvPicPr/>
          <p:nvPr/>
        </p:nvPicPr>
        <p:blipFill>
          <a:blip r:embed="rId3"/>
          <a:stretch/>
        </p:blipFill>
        <p:spPr>
          <a:xfrm>
            <a:off x="2195640" y="1989000"/>
            <a:ext cx="2447640" cy="223200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9" descr="hghgjgj"/>
          <p:cNvPicPr/>
          <p:nvPr/>
        </p:nvPicPr>
        <p:blipFill>
          <a:blip r:embed="rId4"/>
          <a:stretch/>
        </p:blipFill>
        <p:spPr>
          <a:xfrm>
            <a:off x="0" y="4273560"/>
            <a:ext cx="4643280" cy="2584440"/>
          </a:xfrm>
          <a:prstGeom prst="rect">
            <a:avLst/>
          </a:prstGeom>
          <a:ln w="0">
            <a:noFill/>
          </a:ln>
        </p:spPr>
      </p:pic>
      <p:sp>
        <p:nvSpPr>
          <p:cNvPr id="20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4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7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78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9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8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2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18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86" dur="5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88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Text Box 4"/>
          <p:cNvSpPr/>
          <p:nvPr/>
        </p:nvSpPr>
        <p:spPr>
          <a:xfrm>
            <a:off x="684360" y="1773360"/>
            <a:ext cx="777528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первых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, необходимо удержаться, чтобы не тереть кожу в месте укуса, даже если очень хочется. Мир Советов хотел напомнить, что и ребенка тоже нужно предупредить, чтобы не расчёсывал укус до красноты, так как это приведет к еще большему зуду и длительному заживанию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о-вторых,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наложите на место укуса марлевую повязку, смоченную нашатырным спиртом или водкой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Arial"/>
              </a:rPr>
              <a:t>Внимание!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Если вас укусил малярийный комар, сразу обратитесь в инфекционную больницу за помощью. Отличить малярийного комара от обыкновенного достаточно легко: тельце малярийного комара, сидящего на какой-либо поверхности, располагается под углом к ней, в то время как у обычного комара тельце в состоянии покоя расположено параллельно относительно той же самой поверхности. Среди других отличительных признаков малярийного комара - более</a:t>
            </a:r>
            <a:r>
              <a:rPr b="0" lang="ru-RU" sz="18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00"/>
                </a:solidFill>
                <a:latin typeface="Arial"/>
              </a:rPr>
              <a:t>длинные ноги и темные пятна на крыльях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Text Box 5"/>
          <p:cNvSpPr/>
          <p:nvPr/>
        </p:nvSpPr>
        <p:spPr>
          <a:xfrm>
            <a:off x="250920" y="549360"/>
            <a:ext cx="849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 u="sng">
                <a:solidFill>
                  <a:srgbClr val="ffff00"/>
                </a:solidFill>
                <a:uFillTx/>
                <a:latin typeface="Arial"/>
              </a:rPr>
              <a:t>Правила оказания первой помощи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nodeType="clickEffect" fill="hold">
                      <p:stCondLst>
                        <p:cond delay="0"/>
                      </p:stCondLst>
                      <p:childTnLst>
                        <p:par>
                          <p:cTn id="2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04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767647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4"/>
          <p:cNvSpPr/>
          <p:nvPr/>
        </p:nvSpPr>
        <p:spPr>
          <a:xfrm>
            <a:off x="324000" y="620640"/>
            <a:ext cx="5472000" cy="542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 u="sng">
                <a:solidFill>
                  <a:srgbClr val="ffffff"/>
                </a:solidFill>
                <a:uFillTx/>
                <a:latin typeface="Arial"/>
              </a:rPr>
              <a:t>Советы: как уберечься от укусов насекомых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первых</a:t>
            </a:r>
            <a:r>
              <a:rPr b="1" lang="ru-RU" sz="1600" spc="-1" strike="noStrike">
                <a:solidFill>
                  <a:srgbClr val="ff0000"/>
                </a:solidFill>
                <a:latin typeface="Arial"/>
              </a:rPr>
              <a:t>, </a:t>
            </a:r>
            <a:r>
              <a:rPr b="1" lang="ru-RU" sz="1800" spc="-1" strike="noStrike">
                <a:solidFill>
                  <a:srgbClr val="ff0000"/>
                </a:solidFill>
                <a:latin typeface="Arial"/>
              </a:rPr>
              <a:t>для предупреждения укусов комаров, москитов и других насекомых необходимо смазывать открытые участки тела средством против комаров. Это и маскитол , и фумитокс, и тайга и т.д. Мажьтесь ими перед выходом на улицу, и каждый раз после выхода из воды в случае купания. 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Во-вторых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, можно использовать специальную защитные сетчатые одежды, которые защищают лицо и всё тело от укусов комаров, слепней и т.д. Либо же нужно одеваться полностью в закрытую одежду: рубашку с длинными рукавами и длинные брюки.</a:t>
            </a:r>
            <a:endParaRPr b="1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1" name="Picture 7" descr="ffhfh"/>
          <p:cNvPicPr/>
          <p:nvPr/>
        </p:nvPicPr>
        <p:blipFill>
          <a:blip r:embed="rId1"/>
          <a:stretch/>
        </p:blipFill>
        <p:spPr>
          <a:xfrm>
            <a:off x="7236000" y="765000"/>
            <a:ext cx="1728720" cy="157968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8" descr="вапавр"/>
          <p:cNvPicPr/>
          <p:nvPr/>
        </p:nvPicPr>
        <p:blipFill>
          <a:blip r:embed="rId2"/>
          <a:stretch/>
        </p:blipFill>
        <p:spPr>
          <a:xfrm>
            <a:off x="7236000" y="2565360"/>
            <a:ext cx="1706400" cy="151128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9" descr="варпаопро"/>
          <p:cNvPicPr/>
          <p:nvPr/>
        </p:nvPicPr>
        <p:blipFill>
          <a:blip r:embed="rId3"/>
          <a:stretch/>
        </p:blipFill>
        <p:spPr>
          <a:xfrm>
            <a:off x="7236000" y="4365720"/>
            <a:ext cx="1657080" cy="1727280"/>
          </a:xfrm>
          <a:prstGeom prst="rect">
            <a:avLst/>
          </a:prstGeom>
          <a:ln w="0">
            <a:noFill/>
          </a:ln>
        </p:spPr>
      </p:pic>
      <p:sp>
        <p:nvSpPr>
          <p:cNvPr id="2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nodeType="clickEffect" fill="hold">
                      <p:stCondLst>
                        <p:cond delay="0"/>
                      </p:stCondLst>
                      <p:childTnLst>
                        <p:par>
                          <p:cTn id="2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211" dur="2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21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20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18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0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1" dur="20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23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2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4T15:44:59Z</dcterms:created>
  <dc:creator>Admin</dc:creator>
  <dc:description/>
  <dc:language>en-US</dc:language>
  <cp:lastModifiedBy>LEGION</cp:lastModifiedBy>
  <dcterms:modified xsi:type="dcterms:W3CDTF">2015-05-12T08:43:32Z</dcterms:modified>
  <cp:revision>16</cp:revision>
  <dc:subject/>
  <dc:title>Государственное образовательное учреждение среднего профессионального образования Комитете по здравоохранению Администрации Волгоградской области «Медицинский колледж № 1, Волгоград»</dc:title>
</cp:coreProperties>
</file>