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2D0A-37E1-463D-B51A-895048965B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C18B-2795-4FF4-B516-E7B19B370D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третьих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, не подходить близко к рою пчел, ос и шмелей без специальной одежды и вообще не делать резких движений, находясь рядом с этими насекомыми, не размахивать руками, головой, не бегать. Если пчела или шмель сели вам на руку, постарайтесь просто смахнуть другой рукой, не убивать, иначе вы можете разозлить насекомое, и оно вас точно укус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четвертых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, в комнате, где вы будете спать, заранее зажигайте пластины, спирали от комаров, мошек и других насекомых и тогда ночью вы не будете укушены насекомыми. Если у вас аллергия на запахи спирали, пластин, то вы можете поставить на окна москитные сетки и спать спокойно всю ночь с открытыми ок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58D8-766F-48E6-9EA0-A943F7A4A2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 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 Yandex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6C60-11AE-4F9A-8439-1036A6FD42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Большое спасибо за просмотр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99ff"/>
                </a:solidFill>
                <a:latin typeface="Arial"/>
              </a:rPr>
              <a:t>Берегите себя и своих близких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3D18-A664-433D-A76B-642BD8F8B7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ри укусах насекомых важно быстро и правильно оказать первую помощ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Arial"/>
              </a:rPr>
              <a:t>1.Чтобы удалить уже присосавшегося клеща достаточно капнуть на него спиртом, растительным маслом или просто чем то жирным, после чего можно взяться за насекомое пинцетом и аккуратно удал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9D66-C265-433F-8FF3-BD3A275859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 наличии аллергических реакций на яд пчелы, осы или шмеля, человек может потерять сознание, может начаться рвота или выступить крапивница. В таких случаях также рекомендуется 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мары, москиты и другие мелкие насекомые встречаются, к сожалению, повсеместно, в том числе и в черте города. Чаще всего неопасны, если не являются переносчиком инфекции (как, например, малярийный комар, который отличается от обыкновенного гораздо большими размера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0141-1156-4579-A7A8-9C444BA692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лергия на укусы таких насекомых встречается крайне редко, и в этом случае необходимо сразу обратиться к врачу. Для уменьшения боли и зуда от укусов следует принимать те же меры, что и при укусах пчел, шмелей и ос. Также не забывайте, что расчесывать укушенное место не стоит, потому что это увеличивает риск занесения инфекции. Маленьким детям в этом случае можно заклеить место укуса пластырем, под который кладется кусочек ваты, пропитанный снимающей зуд жидкостью. В большинстве случаев укусы комаров, москитов и других мелких насекомых весьма неприятны, но не опасны (это не касается одновременных множественных случаев укусов, которые являются поводом обратиться к врач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C122-5563-4C7A-908B-8B3411D89A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- А-а-а, мама, мама, меня укусила пчела – слышите вы громкий рев своего ребенка. Вы подбегаете и пытаетесь его успокоить, но боль и зуд после укуса пчелы не отпускает, и ваше чадо продолжает плакать. Вы пытаетесь отвлечь ребенка от боли: «Ой, смотри, какая птичка полетела!», а в это время ищете аптечку с зеленкой, и думаете «больше в этот лес гулять мы никогда не пойдем!». Но! Пчелы летают везде и полностью уберечь своего маленького малыша от укуса пчел, шмелей и других насекомых просто невозможно. Да и вы, взрослые, сами можете быть покусаны всё теми же осами, комарами, пчелами где угодно: и на улице в городе, и в саду, и в парке и просто в лесу на свежем воздухе. Если вы будете знать, как можно быстро помочь пострадавшему при укусах насекомых, будете носить с собой минимум необходимых лекарственных средств, то ситуация с укусом не застанет вас врасплох. Сегодня с журналом Мир Советов мы и рассмотрим, как действовать в случае укусов насекомых (пчел, шмелей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D74D-AAC1-47B3-AF9E-EF8371A8A5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66"/>
                </a:solidFill>
                <a:latin typeface="Arial"/>
              </a:rPr>
              <a:t>Укусы пчел, ос, шм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Укусы пчел, ос, шмелей опасны для людей с повышенной чувствительностью к их укусам (это могут быть и взрослые с чувствительной кожей, но чаще всего чувствительны к укусам дети). Также укусы опасны, в том случае, если человека укусило не одно насекомое, а сразу несколько или целый рой, поэтому действовать надо будет немедлен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ри укусе пчел, ос, шмелей сразу возникает резкая боль, а затем покраснение и отек кожи вокруг укуса. У человека, укушенного насекомым, может быть тошнота и даже рвота или просто общая слабость организма. Если у человека аллергия на насекомых, то может быть и красные высыпания на коже в виде красной сыпи, или так называемой «крапивницы». Если человек вдруг внезапно потеряет сознание после укуса, МирСоветов может вас успокоить, такое тоже возможно, так как каждый человек индивидуален, и реакция у всех разная. Потеря сознания – это реакция организма на яд, выделяемый насекомым, в кровь человека. Необходимо сразу принять соответствующие меры, чтобы привести человека в чувства. Рассмотрим основные правила оказания первой помощи при укусах пчел, ос, шм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C926-BED8-4D8E-827B-DBF539DF38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1c"/>
                </a:solidFill>
                <a:latin typeface="Arial"/>
              </a:rPr>
              <a:t>Укусы комаров, москитов и других мелких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1c"/>
                </a:solidFill>
                <a:latin typeface="Arial"/>
              </a:rPr>
              <a:t>Множественные укусы комаров, москитов, слепней, оводов и других мелких насекомых также опасны для человека, особенно для тех, у кого есть аллергия к их укусам. При укусе таких насекомых возникает непродолжительная боль, затем зуд и небольшое покраснение участка кожи. В случае повышенной чувствительности человека к укусам комаров, москитов может появиться аллергия в виде красной сыпи. При укусе комарами, москитами и другими мелкими насекомыми правила оказания первой помощи практически те же, что и при укусе пчел, шмелей и ос. Рассмотр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78D1-EDDC-49B4-AAF1-92852E832F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Правила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о-первых, необходимо удержаться, чтобы не тереть кожу в месте укуса, даже если очень хочется. Мир Советов хотел напомнить, что и ребенка тоже нужно предупредить, чтобы не расчёсывал укус до красноты, так как это приведет к еще большему зуду и длительному зажив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о-вторых, наложите на место укуса марлевую повязку, смоченную нашатырным спиртом или вод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Если вас укусил малярийный комар, сразу обратитесь в инфекционную больницу за помощью. Отличить малярийного комара от обыкновенного достаточно легко: тельце малярийного комара, сидящего на какой-либо поверхности, располагается под углом к ней, в то время как у обычного комара тельце в состоянии покоя расположено параллельно относительно той же самой поверхности. Среди других отличительных признаков малярийного комара - более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длинные ноги и темные пятна на крыль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4B23-762B-42B3-B45E-C8245AF5C1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еты: как уберечься от укусов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ля предупреждения укусов комаров, москитов и других насекомых необходимо смазывать открытые участки тела средством против комаров. Это и маскитол , и фумитокс, и тайга и т.д. Мажьтесь ими перед выходом на улицу, и каждый раз после выхода из воды в случае куп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можно использовать специальную защитные сетчатые одежды, которые защищают лицо и всё тело от укусов комаров, слепней и т.д. Либо же нужно одеваться полностью в закрытую одежду: рубашку с длинными рукавами и длинные брю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ABFC-7C87-4FEB-9DAC-0D36FB7845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5DAE9-A5E7-496F-B554-6E16AA06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A9CB-399C-4072-BA17-A9155D9E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8E52-AA48-4443-B017-BF8478F6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388B7-E7DC-4737-B864-4BDECDE0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97E0-E301-400C-B881-42BC810A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E50E-6444-4835-BBFF-77B4D75B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DCE8-928B-4DD5-9F8C-428E6F56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30F2-8AF4-4EC0-AC3C-ED5EE46D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E7ED-35A6-47D1-B8B7-0C7FE12C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BEE9-C751-44DC-9C89-E5A4E501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6A97-63A5-4BDA-8BCB-328824CC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4022-5888-47AD-9AE0-1DEF8E23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D142-F33F-42B1-B054-093EE9C2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F4A9-5132-4BBB-ABF4-6F483B85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5D5B-E276-4E8F-80C3-B0E55A85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5068-EA6F-4CA3-9D83-1BD5979B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7FB1-1DC0-4514-AD8C-2332A61C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FF6EE-3CAE-4A05-A7C0-E1870896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8F32D-28D7-4ACE-B9B6-108B3D71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4E8B7-EAC1-41C2-B63A-2415F615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AB0F4-BB7D-46FA-80CC-C2835578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19D2-BA3D-48FA-ACF6-E27A008B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B1C8D-E56D-49E8-B43D-B1D285DB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01AA-046E-46DF-8466-180D1D4F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929AB-3C2F-49B0-815B-CD45F427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0BD90-3CD9-4D80-8BCC-5FB5B36C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0405F-4CE6-4AB5-95A4-1CDEAF48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01C1-7196-4DAB-963A-4B318F7D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10D48-8B51-4DC6-93EA-C49F4FB9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7DF98-2F9E-4F54-A346-A94AA751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DB58-5074-4D46-B297-05D45571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9F6AB-E499-4606-B2BA-8F5D5EF1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9887-5F9E-4303-A436-F84523FB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61473-C867-4DF3-8746-A56B2B72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FE428-D03A-401B-80E3-971F8957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10719-0156-48C6-9564-6CF6A74E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22F0-C1DF-4AF0-8BC4-6BE8AC7A3B9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A11B-255D-42DC-9624-933A3F0979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E383-92BF-48EE-AC18-7A40BFEEFEC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1868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ервая помощь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ри  укусах насекомых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932360" y="5273640"/>
            <a:ext cx="38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Выполнила Розанова Алён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266640" y="6110280"/>
            <a:ext cx="21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гоград 20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80820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24000" y="476280"/>
            <a:ext cx="44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68360" y="765000"/>
            <a:ext cx="51134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третьих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 не подходить близко к рою пчел, ос и шмелей без специальной одежды и вообще не делать резких движений, находясь рядом с этими насекомыми, не размахивать руками, головой, не бегать. Если пчела или шмель сели вам на руку, постарайтесь просто смахнуть другой рукой, не убивать, иначе вы можете разозлить насекомое, и оно вас точно укусит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четвертых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 в комнате, где вы будете спать, заранее зажигайте пластины, спирали от комаров, мошек и других насекомых и тогда ночью вы не будете укушены насекомыми. Если у вас аллергия на запахи спирали, пластин, то вы можете поставить на окна москитные сетки и спать спокойно всю ночь с открытыми окнам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ffhfh"/>
          <p:cNvPicPr/>
          <p:nvPr/>
        </p:nvPicPr>
        <p:blipFill>
          <a:blip r:embed="rId1"/>
          <a:stretch/>
        </p:blipFill>
        <p:spPr>
          <a:xfrm>
            <a:off x="6012000" y="981000"/>
            <a:ext cx="2735280" cy="482436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7850"/>
                            </p:stCondLst>
                            <p:childTnLst>
                              <p:par>
                                <p:cTn id="2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писок используемой литератур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5640" y="1413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-R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к «Первая медицинская помощь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755640" y="198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Yandex.r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755640" y="263700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ременная медицинская энциклопедия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5"/>
          <p:cNvSpPr txBox="1"/>
          <p:nvPr/>
        </p:nvSpPr>
        <p:spPr>
          <a:xfrm>
            <a:off x="0" y="765000"/>
            <a:ext cx="9144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ольшое спасибо за просмотр!!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68360" y="364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ff"/>
                </a:solidFill>
                <a:latin typeface="Arial"/>
              </a:rPr>
              <a:t>Берегите себя и своих близких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и укусах насекомых важно быстро и правильно оказать первую помощ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47840" y="1936800"/>
            <a:ext cx="86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1.Чтобы удалить уже присосавшегося клеща достаточно капнуть на него спиртом, растительным маслом или просто чем то жирным, после чего можно взяться за насекомое пинцетом и аккуратно удалить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9" descr="Клещ"/>
          <p:cNvPicPr/>
          <p:nvPr/>
        </p:nvPicPr>
        <p:blipFill>
          <a:blip r:embed="rId1"/>
          <a:stretch/>
        </p:blipFill>
        <p:spPr>
          <a:xfrm>
            <a:off x="611280" y="3357720"/>
            <a:ext cx="3744720" cy="331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gfhjg"/>
          <p:cNvPicPr/>
          <p:nvPr/>
        </p:nvPicPr>
        <p:blipFill>
          <a:blip r:embed="rId2"/>
          <a:stretch/>
        </p:blipFill>
        <p:spPr>
          <a:xfrm>
            <a:off x="4572000" y="3357720"/>
            <a:ext cx="378144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аркенек"/>
          <p:cNvPicPr/>
          <p:nvPr/>
        </p:nvPicPr>
        <p:blipFill>
          <a:blip r:embed="rId2"/>
          <a:stretch/>
        </p:blipFill>
        <p:spPr>
          <a:xfrm>
            <a:off x="0" y="3213000"/>
            <a:ext cx="4427640" cy="364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ггггг"/>
          <p:cNvPicPr/>
          <p:nvPr/>
        </p:nvPicPr>
        <p:blipFill>
          <a:blip r:embed="rId3"/>
          <a:stretch/>
        </p:blipFill>
        <p:spPr>
          <a:xfrm>
            <a:off x="0" y="0"/>
            <a:ext cx="442764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4"/>
          <p:cNvSpPr/>
          <p:nvPr/>
        </p:nvSpPr>
        <p:spPr>
          <a:xfrm>
            <a:off x="4788000" y="262800"/>
            <a:ext cx="352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наличии аллергических реакций на яд пчелы, осы или шмеля, человек может потерять сознание, может начаться рвота или выступить крапивница. В таких случаях также рекомендуется обратиться к врачу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мары, москиты и другие мелкие насекомые встречаются, к сожалению, повсеместно, в том числе и в черте города. Чаще всего неопасны, если не являются переносчиком инфекции (как, например, малярийный комар, который отличается от обыкновенного гораздо большими размерами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63899m"/>
          <p:cNvPicPr/>
          <p:nvPr/>
        </p:nvPicPr>
        <p:blipFill>
          <a:blip r:embed="rId1"/>
          <a:stretch/>
        </p:blipFill>
        <p:spPr>
          <a:xfrm>
            <a:off x="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img_17192963_31_4"/>
          <p:cNvPicPr/>
          <p:nvPr/>
        </p:nvPicPr>
        <p:blipFill>
          <a:blip r:embed="rId2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2"/>
          <p:cNvSpPr/>
          <p:nvPr/>
        </p:nvSpPr>
        <p:spPr>
          <a:xfrm>
            <a:off x="468360" y="260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500720" y="0"/>
            <a:ext cx="4392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ллергия на укусы таких насекомых встречается крайне редко, и в этом случае необходимо сразу обратиться к врачу. Для уменьшения боли и зуда от укусов следует принимать те же меры, что и при укусах пчел, шмелей и ос. Также не забывайте, что расчесывать укушенное место не стоит, потому что это увеличивает риск занесения инфекции. Маленьким детям в этом случае можно заклеить место укуса пластырем, под который кладется кусочек ваты, пропитанный снимающей зуд жидкостью. В большинстве случаев укусы комаров, москитов и других мелких насекомых весьма неприятны, но не опасны (это не касается одновременных множественных случаев укусов, которые являются поводом обратиться к врачу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hkj;"/>
          <p:cNvPicPr/>
          <p:nvPr/>
        </p:nvPicPr>
        <p:blipFill>
          <a:blip r:embed="rId1"/>
          <a:stretch/>
        </p:blipFill>
        <p:spPr>
          <a:xfrm>
            <a:off x="0" y="3645000"/>
            <a:ext cx="3174840" cy="3213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3203640" y="26028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- А-а-а, мама, мама, меня укусила пчела – слышите вы громкий рев своего ребенка. Вы подбегаете и пытаетесь его успокоить, но боль и зуд после укуса пчелы не отпускает, и ваше чадо продолжает плакать. Вы пытаетесь отвлечь ребенка от боли: «Ой, смотри, какая птичка полетела!», а в это время ищете аптечку с зеленкой, и думаете «больше в этот лес гулять мы никогда не пойдем!». Но! Пчелы летают везде и полностью уберечь своего маленького малыша от укуса пчел, шмелей и других насекомых просто невозможно. Да и вы, взрослые, сами можете быть покусаны всё теми же осами, комарами, пчелами где угодно: и на улице в городе, и в саду, и в парке и просто в лесу на свежем воздухе. Если вы будете знать, как можно быстро помочь пострадавшему при укусах насекомых, будете носить с собой минимум необходимых лекарственных средств, то ситуация с укусом не застанет вас врасплох. Сегодня с журналом Мир Советов мы и рассмотрим, как действовать в случае укусов насекомых (пчел, шмелей и т.д.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7" descr="puioyioo"/>
          <p:cNvPicPr/>
          <p:nvPr/>
        </p:nvPicPr>
        <p:blipFill>
          <a:blip r:embed="rId2"/>
          <a:stretch/>
        </p:blipFill>
        <p:spPr>
          <a:xfrm>
            <a:off x="0" y="333360"/>
            <a:ext cx="3059280" cy="30243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179280" y="0"/>
            <a:ext cx="5329440" cy="66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Укусы пчел, ос, шмел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Укусы пчел, ос, шмелей опасны для людей с повышенной чувствительностью к их укусам (это могут быть и взрослые с чувствительной кожей, но чаще всего чувствительны к укусам дети). Также укусы опасны, в том случае, если человека укусило не одно насекомое, а сразу несколько или целый рой, поэтому действовать надо будет немедленно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При укусе пчел, ос, шмелей сразу возникает резкая боль, а затем покраснение и отек кожи вокруг укуса. У человека, укушенного насекомым, может быть тошнота и даже рвота или просто общая слабость организма. Если у человека аллергия на насекомых, то может быть и красные высыпания на коже в виде красной сыпи, или так называемой «крапивницы». Если человек вдруг внезапно потеряет сознание после укуса, МирСоветов может вас успокоить, такое тоже возможно, так как каждый человек индивидуален, и реакция у всех разная. Потеря сознания – это реакция организма на яд, выделяемый насекомым, в кровь человека. Необходимо сразу принять соответствующие меры, чтобы привести человека в чувства. Рассмотрим основные правила оказания первой помощи при укусах пчел, ос, шмелей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6" descr="i"/>
          <p:cNvPicPr/>
          <p:nvPr/>
        </p:nvPicPr>
        <p:blipFill>
          <a:blip r:embed="rId1"/>
          <a:stretch/>
        </p:blipFill>
        <p:spPr>
          <a:xfrm>
            <a:off x="5867280" y="404640"/>
            <a:ext cx="3025800" cy="2160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пчагд"/>
          <p:cNvPicPr/>
          <p:nvPr/>
        </p:nvPicPr>
        <p:blipFill>
          <a:blip r:embed="rId2"/>
          <a:stretch/>
        </p:blipFill>
        <p:spPr>
          <a:xfrm>
            <a:off x="5867280" y="3933720"/>
            <a:ext cx="3032280" cy="2448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4643280" y="189000"/>
            <a:ext cx="4249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Укусы комаров, москитов и других мелких насекомы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Множественные укусы комаров, москитов, слепней, оводов и других мелких насекомых также опасны для человека, особенно для тех, у кого есть аллергия к их укусам. При укусе таких насекомых возникает непродолжительная боль, затем зуд и небольшое покраснение участка кожи. В случае повышенной чувствительности человека к укусам комаров, москитов может появиться аллергия в виде красной сыпи. При укусе комарами, москитами и другими мелкими насекомыми правила оказания первой помощи практически те же, что и при укусе пчел, шмелей и ос. Рассмотрим и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63899m"/>
          <p:cNvPicPr/>
          <p:nvPr/>
        </p:nvPicPr>
        <p:blipFill>
          <a:blip r:embed="rId1"/>
          <a:stretch/>
        </p:blipFill>
        <p:spPr>
          <a:xfrm>
            <a:off x="0" y="0"/>
            <a:ext cx="4643280" cy="198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папа"/>
          <p:cNvPicPr/>
          <p:nvPr/>
        </p:nvPicPr>
        <p:blipFill>
          <a:blip r:embed="rId2"/>
          <a:stretch/>
        </p:blipFill>
        <p:spPr>
          <a:xfrm>
            <a:off x="0" y="198900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0debbcfa5d9db1cb051c45e33fd24cd3"/>
          <p:cNvPicPr/>
          <p:nvPr/>
        </p:nvPicPr>
        <p:blipFill>
          <a:blip r:embed="rId3"/>
          <a:stretch/>
        </p:blipFill>
        <p:spPr>
          <a:xfrm>
            <a:off x="2195640" y="1989000"/>
            <a:ext cx="244764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hghgjgj"/>
          <p:cNvPicPr/>
          <p:nvPr/>
        </p:nvPicPr>
        <p:blipFill>
          <a:blip r:embed="rId4"/>
          <a:stretch/>
        </p:blipFill>
        <p:spPr>
          <a:xfrm>
            <a:off x="0" y="4273560"/>
            <a:ext cx="4643280" cy="25844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684360" y="177336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-первых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необходимо удержаться, чтобы не тереть кожу в месте укуса, даже если очень хочется. Мир Советов хотел напомнить, что и ребенка тоже нужно предупредить, чтобы не расчёсывал укус до красноты, так как это приведет к еще большему зуду и длительному заживанию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-вторых,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наложите на место укуса марлевую повязку, смоченную нашатырным спиртом или водкой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Если вас укусил малярийный комар, сразу обратитесь в инфекционную больницу за помощью. Отличить малярийного комара от обыкновенного достаточно легко: тельце малярийного комара, сидящего на какой-либо поверхности, располагается под углом к ней, в то время как у обычного комара тельце в состоянии покоя расположено параллельно относительно той же самой поверхности. Среди других отличительных признаков малярийного комара - более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линные ноги и темные пятна на крылья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549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авила оказания первой помощ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324000" y="620640"/>
            <a:ext cx="547200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еты: как уберечься от укусов насекомы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первых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предупреждения укусов комаров, москитов и других насекомых необходимо смазывать открытые участки тела средством против комаров. Это и маскитол , и фумитокс, и тайга и т.д. Мажьтесь ими перед выходом на улицу, и каждый раз после выхода из воды в случае купания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вторых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, можно использовать специальную защитные сетчатые одежды, которые защищают лицо и всё тело от укусов комаров, слепней и т.д. Либо же нужно одеваться полностью в закрытую одежду: рубашку с длинными рукавами и длинные брюк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ffhfh"/>
          <p:cNvPicPr/>
          <p:nvPr/>
        </p:nvPicPr>
        <p:blipFill>
          <a:blip r:embed="rId1"/>
          <a:stretch/>
        </p:blipFill>
        <p:spPr>
          <a:xfrm>
            <a:off x="7236000" y="765000"/>
            <a:ext cx="1728720" cy="1579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вапавр"/>
          <p:cNvPicPr/>
          <p:nvPr/>
        </p:nvPicPr>
        <p:blipFill>
          <a:blip r:embed="rId2"/>
          <a:stretch/>
        </p:blipFill>
        <p:spPr>
          <a:xfrm>
            <a:off x="7236000" y="2565360"/>
            <a:ext cx="1706400" cy="1511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варпаопро"/>
          <p:cNvPicPr/>
          <p:nvPr/>
        </p:nvPicPr>
        <p:blipFill>
          <a:blip r:embed="rId3"/>
          <a:stretch/>
        </p:blipFill>
        <p:spPr>
          <a:xfrm>
            <a:off x="7236000" y="4365720"/>
            <a:ext cx="1657080" cy="17272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5:44:59Z</dcterms:created>
  <dc:creator>Admin</dc:creator>
  <dc:description/>
  <dc:language>en-US</dc:language>
  <cp:lastModifiedBy>LEGION</cp:lastModifiedBy>
  <dcterms:modified xsi:type="dcterms:W3CDTF">2015-05-12T08:43:32Z</dcterms:modified>
  <cp:revision>16</cp:revision>
  <dc:subject/>
  <dc:title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dc:title>
</cp:coreProperties>
</file>