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B82-86AA-4520-A6DD-4AEDE10867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8CB4-33FD-4EDC-BD05-EF0F227C32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четверты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8819-7418-424E-A1B0-4F8DB0E1B1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 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 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ADA3-FBFD-4473-807F-D898F1E7ED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Большое спасибо за просмотр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8E46-FB41-4643-82E8-9C02C8FCAC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C80A-1764-464A-B341-1E8A2750BF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B6B6-3D01-4F7D-98E4-FEBD8B794A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8ECA-AA34-4B3C-B9AC-613A4ED4A4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E068-F6C3-4F4F-A5D2-5553818D3A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DC9-B292-4842-9E75-B6F1F1CC0D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1DAF-E4B1-4961-839D-CD2639D0F9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первых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вторых, наложите на место укуса марлевую повязку, смоченную нашатырным спиртом или вод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3F4C-7D06-476D-B7AB-8724E8EB06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C194-7879-474A-9393-44738FB549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13BC-77F3-4623-8103-2B01888F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47D1-9154-4945-BFB6-F07CE546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ECDE-9DCC-4EB0-A109-CA4D12E2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19AF-8B36-47B5-87DE-7E59D9B2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ABCF-05B3-4BF8-83DB-013D5280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380D-A51D-4ECA-BCB2-048B0607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F27E-5AB2-4239-B4A2-89C2240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73A5-EAE0-44FC-970C-4C778E5B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2709-BBA0-409C-9794-8C311313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1F85-D60E-4E6A-8CE9-0B0416F3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2E77-9D17-4735-9943-E2F5991D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2A8C-1E15-4F87-975A-CF87A2BF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945F-08EB-487E-A989-52A14668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FAAD-B1CB-4491-B0BA-2882FF29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C7FB-7045-471E-AF57-64549E90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E540-0A50-4FD3-88C6-9084CE64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7F88-EF15-42D6-8B33-06C9E1DA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DCE5-70FD-4E4B-A973-626ECFDE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E1FF-D041-49A4-8EEB-53B0AB9D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3C0C3-1E0E-4445-BDF2-DEEAD0A4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2C54-98AC-4887-8ED3-F7E771B3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A668-F9DB-4956-B5F9-48CD8E76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D050-1A14-467C-BA88-0B37A5B1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71F3-F84D-471C-9E10-4BF014CC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A459C-99BC-43F8-8F30-78C231B8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5591-4BC3-40B9-BB6D-8F7AEC4E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E0A3-C8D4-4E06-9A69-BF61D3F3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9176-8DE9-4E06-AA56-42D7E654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D9F05-BB12-4016-AF6C-6A5A343F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0D7F-BCDB-45A2-925A-E13EB450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5D1F-9FD4-4B79-B4ED-EABD217D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9994-61EF-4AD4-9BF3-88925256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B93A-8776-4E1B-B914-6C9700F5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0F1A-75FC-42FD-8DF3-58E5E9D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919B-C92C-40FD-B7F2-380FD58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F4FC-A418-437B-8D72-59FFF84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66A3-1ACC-4079-A5E0-928B4CA39C5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B83D-FC25-44A3-BEB6-09FAF89232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02D5-9625-42F4-B27D-FF6CE6A7AEC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868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ервая помощь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ри  укусах насекомы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932360" y="5273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Выполнила Розанова Алён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66640" y="6110280"/>
            <a:ext cx="21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гоград 2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80820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4000" y="476280"/>
            <a:ext cx="44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765000"/>
            <a:ext cx="511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третьи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четверты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ffhfh"/>
          <p:cNvPicPr/>
          <p:nvPr/>
        </p:nvPicPr>
        <p:blipFill>
          <a:blip r:embed="rId1"/>
          <a:stretch/>
        </p:blipFill>
        <p:spPr>
          <a:xfrm>
            <a:off x="6012000" y="981000"/>
            <a:ext cx="2735280" cy="48243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5640" y="1413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 «Первая медицинская помощ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5564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Yandex.r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55640" y="2637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ременная медицинская энциклопедия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5"/>
          <p:cNvSpPr txBox="1"/>
          <p:nvPr/>
        </p:nvSpPr>
        <p:spPr>
          <a:xfrm>
            <a:off x="0" y="765000"/>
            <a:ext cx="9144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льшое спасибо за просмотр!!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68360" y="364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7840" y="1936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Клещ"/>
          <p:cNvPicPr/>
          <p:nvPr/>
        </p:nvPicPr>
        <p:blipFill>
          <a:blip r:embed="rId1"/>
          <a:stretch/>
        </p:blipFill>
        <p:spPr>
          <a:xfrm>
            <a:off x="611280" y="3357720"/>
            <a:ext cx="3744720" cy="33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gfhjg"/>
          <p:cNvPicPr/>
          <p:nvPr/>
        </p:nvPicPr>
        <p:blipFill>
          <a:blip r:embed="rId2"/>
          <a:stretch/>
        </p:blipFill>
        <p:spPr>
          <a:xfrm>
            <a:off x="4572000" y="3357720"/>
            <a:ext cx="378144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аркенек"/>
          <p:cNvPicPr/>
          <p:nvPr/>
        </p:nvPicPr>
        <p:blipFill>
          <a:blip r:embed="rId2"/>
          <a:stretch/>
        </p:blipFill>
        <p:spPr>
          <a:xfrm>
            <a:off x="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ггггг"/>
          <p:cNvPicPr/>
          <p:nvPr/>
        </p:nvPicPr>
        <p:blipFill>
          <a:blip r:embed="rId3"/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4"/>
          <p:cNvSpPr/>
          <p:nvPr/>
        </p:nvSpPr>
        <p:spPr>
          <a:xfrm>
            <a:off x="4788000" y="262800"/>
            <a:ext cx="352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63899m"/>
          <p:cNvPicPr/>
          <p:nvPr/>
        </p:nvPicPr>
        <p:blipFill>
          <a:blip r:embed="rId1"/>
          <a:stretch/>
        </p:blipFill>
        <p:spPr>
          <a:xfrm>
            <a:off x="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img_17192963_31_4"/>
          <p:cNvPicPr/>
          <p:nvPr/>
        </p:nvPicPr>
        <p:blipFill>
          <a:blip r:embed="rId2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46836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500720" y="0"/>
            <a:ext cx="439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hkj;"/>
          <p:cNvPicPr/>
          <p:nvPr/>
        </p:nvPicPr>
        <p:blipFill>
          <a:blip r:embed="rId1"/>
          <a:stretch/>
        </p:blipFill>
        <p:spPr>
          <a:xfrm>
            <a:off x="0" y="3645000"/>
            <a:ext cx="3174840" cy="3213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3203640" y="26028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puioyioo"/>
          <p:cNvPicPr/>
          <p:nvPr/>
        </p:nvPicPr>
        <p:blipFill>
          <a:blip r:embed="rId2"/>
          <a:stretch/>
        </p:blipFill>
        <p:spPr>
          <a:xfrm>
            <a:off x="0" y="333360"/>
            <a:ext cx="3059280" cy="3024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179280" y="0"/>
            <a:ext cx="532944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i"/>
          <p:cNvPicPr/>
          <p:nvPr/>
        </p:nvPicPr>
        <p:blipFill>
          <a:blip r:embed="rId1"/>
          <a:stretch/>
        </p:blipFill>
        <p:spPr>
          <a:xfrm>
            <a:off x="5867280" y="404640"/>
            <a:ext cx="302580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пчагд"/>
          <p:cNvPicPr/>
          <p:nvPr/>
        </p:nvPicPr>
        <p:blipFill>
          <a:blip r:embed="rId2"/>
          <a:stretch/>
        </p:blipFill>
        <p:spPr>
          <a:xfrm>
            <a:off x="5867280" y="3933720"/>
            <a:ext cx="3032280" cy="2448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4643280" y="189000"/>
            <a:ext cx="424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63899m"/>
          <p:cNvPicPr/>
          <p:nvPr/>
        </p:nvPicPr>
        <p:blipFill>
          <a:blip r:embed="rId1"/>
          <a:stretch/>
        </p:blipFill>
        <p:spPr>
          <a:xfrm>
            <a:off x="0" y="0"/>
            <a:ext cx="4643280" cy="198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папа"/>
          <p:cNvPicPr/>
          <p:nvPr/>
        </p:nvPicPr>
        <p:blipFill>
          <a:blip r:embed="rId2"/>
          <a:stretch/>
        </p:blipFill>
        <p:spPr>
          <a:xfrm>
            <a:off x="0" y="1989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debbcfa5d9db1cb051c45e33fd24cd3"/>
          <p:cNvPicPr/>
          <p:nvPr/>
        </p:nvPicPr>
        <p:blipFill>
          <a:blip r:embed="rId3"/>
          <a:stretch/>
        </p:blipFill>
        <p:spPr>
          <a:xfrm>
            <a:off x="2195640" y="198900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hghgjgj"/>
          <p:cNvPicPr/>
          <p:nvPr/>
        </p:nvPicPr>
        <p:blipFill>
          <a:blip r:embed="rId4"/>
          <a:stretch/>
        </p:blipFill>
        <p:spPr>
          <a:xfrm>
            <a:off x="0" y="4273560"/>
            <a:ext cx="4643280" cy="2584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84360" y="177336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первых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вторых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наложите на место укуса марлевую повязку, смоченную нашатырным спиртом или водкой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24000" y="620640"/>
            <a:ext cx="54720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первых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вторых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ffhfh"/>
          <p:cNvPicPr/>
          <p:nvPr/>
        </p:nvPicPr>
        <p:blipFill>
          <a:blip r:embed="rId1"/>
          <a:stretch/>
        </p:blipFill>
        <p:spPr>
          <a:xfrm>
            <a:off x="7236000" y="765000"/>
            <a:ext cx="1728720" cy="157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вапавр"/>
          <p:cNvPicPr/>
          <p:nvPr/>
        </p:nvPicPr>
        <p:blipFill>
          <a:blip r:embed="rId2"/>
          <a:stretch/>
        </p:blipFill>
        <p:spPr>
          <a:xfrm>
            <a:off x="7236000" y="2565360"/>
            <a:ext cx="1706400" cy="151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варпаопро"/>
          <p:cNvPicPr/>
          <p:nvPr/>
        </p:nvPicPr>
        <p:blipFill>
          <a:blip r:embed="rId3"/>
          <a:stretch/>
        </p:blipFill>
        <p:spPr>
          <a:xfrm>
            <a:off x="7236000" y="4365720"/>
            <a:ext cx="1657080" cy="17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5:44:59Z</dcterms:created>
  <dc:creator>Admin</dc:creator>
  <dc:description/>
  <dc:language>en-US</dc:language>
  <cp:lastModifiedBy>LEGION</cp:lastModifiedBy>
  <dcterms:modified xsi:type="dcterms:W3CDTF">2015-05-12T08:43:32Z</dcterms:modified>
  <cp:revision>16</cp:revision>
  <dc:subject/>
  <dc:title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dc:title>
</cp:coreProperties>
</file>