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E5EC-C3EB-46E0-9E5E-02086E1F4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508F-248F-4AD0-9BB6-63EBC88DFE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0775-E391-4067-AC74-3A672743F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0171-1C1C-49FC-8720-28FD7C9E7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3CC7-2A31-41E0-9068-B0B133E0B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23EF-C7E8-438C-BE96-27B1E920E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200"/>
            </a:b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12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1253-8B93-47D4-AE05-E2471FD08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ВЫ</a:t>
            </a: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ШЕНИЕ КАЧЕСТВА ПОДГОТОВКИ ВОДИТЕЛЕ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7B9B-C193-43A5-84EA-884068325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CC66-A1CC-4111-93F2-DFD480930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о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29 декабря 2007 г., № 101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от 12 августа 2008г., № 596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200"/>
            </a:b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2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A6CF-9921-472C-A70F-95E65004A8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20C1-3653-40B0-BC8F-91D8E01C9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40C7-7FE3-4979-AACA-AC36D888F2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0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12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E9DD-A424-4869-90EA-D38BB0BC2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9F96-B433-429C-8C10-3C6971DDE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  <a:ea typeface="Malgun Gothic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048E-9F44-4B55-A53E-AC357B4BC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14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2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82AB-66E9-4958-BDDF-2747946325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D561-4FED-4552-AD36-AA29108D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E77-3B00-4775-8E47-2CF53199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140-1E99-43EE-B264-AD4BA748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2E5-244B-4D4F-969A-99CFC441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2B8-9067-420B-BE2C-0D58C956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839-63C0-4913-89E8-06AF7BD3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B83-E530-44B6-845F-D9A4992C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D77B-C5AE-4B23-ACD2-7ADBF734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311-13E5-4F71-AB78-9BB15C1F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E4FF-E9B2-4D00-AE26-EA9C6CF2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7DC-14C9-48B5-9B40-DEDE0682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787-6ED7-46C3-B277-CB9C039D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0DB1-71DA-468B-8B64-8B350FF218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21region.org/uploads/posts/2009-07/1247496737_avariya-big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2000160"/>
            <a:ext cx="9144000" cy="42865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433440" y="2286000"/>
            <a:ext cx="730728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КА ВОДИТЕЛЕЙ ПРАВИЛАМ ОКАЗАНИЯ ПЕРВОЙ ПОМОЩИ – ВАЖНАЯ МЕРА ПО ОБЕСПЕЧЕНИЮ БЕЗОПАСНОСТИ ДОРОЖН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6443640" y="6357960"/>
            <a:ext cx="191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Helios"/>
              </a:rPr>
              <a:t>РОССИЯ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6715080" y="6215040"/>
            <a:ext cx="142884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9"/>
          <p:cNvSpPr/>
          <p:nvPr/>
        </p:nvSpPr>
        <p:spPr>
          <a:xfrm flipH="1">
            <a:off x="456840" y="2286000"/>
            <a:ext cx="11160" cy="3860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10" descr="logo.jpg"/>
          <p:cNvPicPr/>
          <p:nvPr/>
        </p:nvPicPr>
        <p:blipFill>
          <a:blip r:embed="rId1"/>
          <a:stretch/>
        </p:blipFill>
        <p:spPr>
          <a:xfrm>
            <a:off x="1571760" y="285840"/>
            <a:ext cx="3071520" cy="13874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1"/>
          <p:cNvSpPr/>
          <p:nvPr/>
        </p:nvSpPr>
        <p:spPr>
          <a:xfrm>
            <a:off x="0" y="200016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57200" y="5505480"/>
            <a:ext cx="8424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А. Шува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050920" y="4998960"/>
            <a:ext cx="5329440" cy="107820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меются учебные центры в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77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у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Из них имеют лицензию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6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Большая часть –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91 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созданы в ТЦМ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4bab397a8dc3f"/>
          <p:cNvPicPr/>
          <p:nvPr/>
        </p:nvPicPr>
        <p:blipFill>
          <a:blip r:embed="rId1"/>
          <a:stretch/>
        </p:blipFill>
        <p:spPr>
          <a:xfrm>
            <a:off x="106200" y="4869000"/>
            <a:ext cx="1729080" cy="1296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УЧЕБНЫХ ЦЕНТРОВ  ПО ОБУЧЕНИЮ ПРИЕМАМ И НАВЫКАМ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1049400"/>
          <a:ext cx="8569080" cy="3851280"/>
        </p:xfrm>
        <a:graphic>
          <a:graphicData uri="http://schemas.openxmlformats.org/drawingml/2006/table">
            <a:tbl>
              <a:tblPr/>
              <a:tblGrid>
                <a:gridCol w="1655640"/>
                <a:gridCol w="1871640"/>
                <a:gridCol w="792000"/>
                <a:gridCol w="1081080"/>
                <a:gridCol w="1224000"/>
                <a:gridCol w="194472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Федеральные окру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 во субъектов РФ в Федеральных округ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в ТЦМК на 01.01.10г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-во учебных центров, получивших лиценз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Запа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Центра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Юж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еверо-Кавказ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риволж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Сибир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Дальневост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95280" y="5516640"/>
            <a:ext cx="8424720" cy="337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Примечание * - 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  <a:ea typeface="Arial"/>
              </a:rPr>
              <a:t>%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от общего количества обученных лиц в учебных центр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2"/>
          <p:cNvSpPr/>
          <p:nvPr/>
        </p:nvSpPr>
        <p:spPr>
          <a:xfrm>
            <a:off x="32400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ЧЕНЬ СУБЪЕКТОВ РОССИЙСКОЙ ФЕДЕРАЦИИ, В КОТОРЫХ ОБУЧЕНО НАИБОЛЬШЕЕ КОЛИЧЕСТВО ЛИЦ В 2009-2010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2200" y="1042920"/>
          <a:ext cx="8642520" cy="4267440"/>
        </p:xfrm>
        <a:graphic>
          <a:graphicData uri="http://schemas.openxmlformats.org/drawingml/2006/table">
            <a:tbl>
              <a:tblPr/>
              <a:tblGrid>
                <a:gridCol w="2025720"/>
                <a:gridCol w="936720"/>
                <a:gridCol w="1150920"/>
                <a:gridCol w="1152360"/>
                <a:gridCol w="1152720"/>
                <a:gridCol w="1079280"/>
                <a:gridCol w="1144800"/>
              </a:tblGrid>
              <a:tr h="2746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убъект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 катего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Краснодар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7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5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3%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Пермский кр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2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Республика Ко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         </a:t>
                      </a: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Удмурт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Нижегород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Иркут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амбовская обл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970280" y="36936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95280" y="3498840"/>
            <a:ext cx="8497800" cy="576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ЛИЧЕСТВО ВПЕРВЫЕ ВЫДАННЫХ ВОДИТЕЛЬСКИХ УДОСТОВЕР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2"/>
          <p:cNvSpPr/>
          <p:nvPr/>
        </p:nvSpPr>
        <p:spPr>
          <a:xfrm>
            <a:off x="380880" y="115920"/>
            <a:ext cx="8548920" cy="5047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ИЧЕСТВО ОБУЧЕННЫХ ЛИЦ В 2009 – 2010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765000"/>
          <a:ext cx="8497800" cy="2338560"/>
        </p:xfrm>
        <a:graphic>
          <a:graphicData uri="http://schemas.openxmlformats.org/drawingml/2006/table">
            <a:tbl>
              <a:tblPr/>
              <a:tblGrid>
                <a:gridCol w="1773360"/>
                <a:gridCol w="1233360"/>
                <a:gridCol w="717480"/>
                <a:gridCol w="700200"/>
                <a:gridCol w="1528560"/>
                <a:gridCol w="1311480"/>
                <a:gridCol w="123336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оличество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Категории обученны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сего обуч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80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Води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МВ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Сотрудники ГИБД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 2009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4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8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за</a:t>
                      </a:r>
                      <a:r>
                        <a:rPr b="1" lang="ru-RU" sz="10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 9 месяцев 201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4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Всего по категор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496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5147 </a:t>
                      </a: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984 </a:t>
                      </a: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664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608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4821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95280" y="4219560"/>
          <a:ext cx="8497800" cy="1463760"/>
        </p:xfrm>
        <a:graphic>
          <a:graphicData uri="http://schemas.openxmlformats.org/drawingml/2006/table">
            <a:tbl>
              <a:tblPr/>
              <a:tblGrid>
                <a:gridCol w="2173320"/>
                <a:gridCol w="1871640"/>
                <a:gridCol w="2044800"/>
                <a:gridCol w="1220760"/>
                <a:gridCol w="1187280"/>
              </a:tblGrid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8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0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 Cyr"/>
                        </a:rPr>
                        <a:t>201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93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1e784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Моск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7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5 4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89 3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54 0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110 669</a:t>
                      </a:r>
                      <a:r>
                        <a:rPr b="1" lang="ru-RU" sz="12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8 ме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Тюменская обл.</a:t>
                      </a:r>
                      <a:r>
                        <a:rPr b="1" lang="ru-RU" sz="18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2,4%</a:t>
                      </a:r>
                      <a:r>
                        <a:rPr b="1" lang="ru-RU" sz="14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 населения Р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29 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1 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35 2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b6b40"/>
                          </a:solidFill>
                          <a:latin typeface="Arial"/>
                          <a:ea typeface="Arial Cyr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93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936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2"/>
          <p:cNvSpPr/>
          <p:nvPr/>
        </p:nvSpPr>
        <p:spPr>
          <a:xfrm>
            <a:off x="380880" y="260280"/>
            <a:ext cx="8548920" cy="1297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готовка и проведение специальных учений, семинаров, конфер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4138560" y="1989000"/>
            <a:ext cx="4105440" cy="2376720"/>
          </a:xfrm>
          <a:prstGeom prst="roundRect">
            <a:avLst>
              <a:gd name="adj" fmla="val 915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26 июня 2008 г. проведено тактико-специальное у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Московская обл., 119-й км федеральной автомобильной дороги М-6 «Касп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07 октября 2009 года в Московской области (73 км ФАД М-8 «Холмогоры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- 19 и 30 ноября 2010 года учения по ФАД М-10 в Тверской и Ленинградской областях соответ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"/>
          <p:cNvPicPr/>
          <p:nvPr/>
        </p:nvPicPr>
        <p:blipFill>
          <a:blip r:embed="rId3"/>
          <a:stretch/>
        </p:blipFill>
        <p:spPr>
          <a:xfrm>
            <a:off x="4356000" y="4869000"/>
            <a:ext cx="3635640" cy="1704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2089080" cy="17542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250920" y="1467000"/>
            <a:ext cx="8458200" cy="1310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ПРИ ВЦМК «ЗАЩИТА» В 2007 Г. СОЗДАН</a:t>
            </a:r>
            <a:br>
              <a:rPr sz="1600"/>
            </a:br>
            <a:r>
              <a:rPr b="1" lang="ru-RU" sz="1600" spc="-1" strike="noStrike">
                <a:solidFill>
                  <a:srgbClr val="1b6b40"/>
                </a:solidFill>
                <a:latin typeface="Arial"/>
                <a:ea typeface="Arial"/>
              </a:rPr>
              <a:t>И ФУНКЦИОНИРУЕТ УЧЕБНЫЙ ЦЕНТР ПОДГОТОВКИ ПРЕПОДАВАТЕЛЕЙ, ОБУЧАЮЩИХ ВОДИТЕЛЕЙ, СОТРУДНИКОВ СЛУЖБ, УЧАСТВУЮЩИХ В ЛИКВИДАЦИИ ПОСЛЕДСТВИЙ ДТП, ПРИЕМАМ ОКАЗАНИЯ ПЕРВОЙ ПОМОЩИ ПОСТРАДАВШ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250920" y="3141720"/>
            <a:ext cx="8497800" cy="9781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на 25.11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ведено учебных цикл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дготовлено преподавателе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5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регионов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1"/>
          <a:stretch/>
        </p:blipFill>
        <p:spPr>
          <a:xfrm>
            <a:off x="6588000" y="4562640"/>
            <a:ext cx="252108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В Чебоксарах произошла авария с маршруткой, пятеро человек пострадали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4570560"/>
            <a:ext cx="2304720" cy="13366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4"/>
          <a:stretch/>
        </p:blipFill>
        <p:spPr>
          <a:xfrm>
            <a:off x="0" y="4508640"/>
            <a:ext cx="2484360" cy="147456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10" descr="logo.jpg"/>
          <p:cNvPicPr/>
          <p:nvPr/>
        </p:nvPicPr>
        <p:blipFill>
          <a:blip r:embed="rId5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2"/>
          <p:cNvSpPr/>
          <p:nvPr/>
        </p:nvSpPr>
        <p:spPr>
          <a:xfrm>
            <a:off x="179280" y="115920"/>
            <a:ext cx="854892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РАЗО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2"/>
          <p:cNvSpPr/>
          <p:nvPr/>
        </p:nvSpPr>
        <p:spPr>
          <a:xfrm>
            <a:off x="380880" y="260280"/>
            <a:ext cx="8548920" cy="1224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КАЧЕСТВА ПОДГОТОВКИ ВОДИТЕЛЕЙ ПО ОКАЗАНИЮ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84360" y="2276640"/>
            <a:ext cx="3816360" cy="230472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Перечень поручений Президента Российской Федерации по итогам совещания по вопросам повышения безопасности дорожного движения 6 августа 2009 г.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4716360" y="1628640"/>
            <a:ext cx="4103640" cy="4321440"/>
          </a:xfrm>
          <a:custGeom>
            <a:avLst/>
            <a:gdLst>
              <a:gd name="textAreaLeft" fmla="*/ 200160 w 4103640"/>
              <a:gd name="textAreaRight" fmla="*/ 3903480 w 4103640"/>
              <a:gd name="textAreaTop" fmla="*/ 200160 h 4321440"/>
              <a:gd name="textAreaBottom" fmla="*/ 4121280 h 4321440"/>
            </a:gdLst>
            <a:ahLst/>
            <a:rect l="textAreaLeft" t="textAreaTop" r="textAreaRight" b="textAreaBottom"/>
            <a:pathLst>
              <a:path w="21600" h="22746">
                <a:moveTo>
                  <a:pt x="3600" y="0"/>
                </a:moveTo>
                <a:arcTo wR="3600" hR="3600" stAng="16200000" swAng="-5400000"/>
                <a:lnTo>
                  <a:pt x="0" y="19146"/>
                </a:lnTo>
                <a:arcTo wR="3600" hR="3600" stAng="10800000" swAng="-5400000"/>
                <a:lnTo>
                  <a:pt x="18000" y="22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Правительство РФ должно разработать и </a:t>
            </a:r>
            <a:r>
              <a:rPr b="1" lang="ru-RU" sz="1400" spc="-1" strike="noStrike">
                <a:solidFill>
                  <a:srgbClr val="25714b"/>
                </a:solidFill>
                <a:latin typeface="Arial"/>
              </a:rPr>
              <a:t>реализовать комплекс мер, направленных на обучение кандидатов в водители приемам оказания доврачебной помощи лицам, пострадавшим в дорожно-транспортных происшествиях, а также рассмотреть вопрос о целесообразности внесения изменений в правила сдачи квалификационных экзаменов на получение права на управление транспортными средствами, предусматривающих введение обязательного практического экзамена по оказанию доврачебной помощи на месте дорожно-транспортного происше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1"/>
          <p:cNvSpPr/>
          <p:nvPr/>
        </p:nvSpPr>
        <p:spPr>
          <a:xfrm>
            <a:off x="762120" y="1052640"/>
            <a:ext cx="7842240" cy="41050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714b"/>
                </a:solidFill>
                <a:latin typeface="Arial"/>
              </a:rPr>
              <a:t>ОСНОВНАЯ ЗАДАЧА МИНЗДРАВСОЦРАЗВИТИЯ РОССИИ В ЧАСТИ ПОВЫШЕНИЯ БЕЗОПАСНОСТИ ДОРОЖНОГО ДВИЖЕНИЯ – СНИЖЕНИЕ СМЕРТНОСТИ, ИНВАЛИДНОСТИ, СРОКОВ ВРЕМЕННОЙ УТРАТЫ ТРУДО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ЕНСТВОВАНИЕ ОРГАНИЗАЦИИ ПОМОЩИ ПОСТРАДАВШИМ ПРИ ДОРОЖНО-ТРАНСПОРТНЫХ ПРОИСШЕСТ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116000" y="2276640"/>
            <a:ext cx="338472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Приорите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национальный про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«Здоровье»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я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9 декабря 2007 г., № 1013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12 августа 2008г., № 596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  <a:ea typeface="Gulim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4788000" y="2276640"/>
            <a:ext cx="3384360" cy="20890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ФЦП «Повышение безопасности дорожного движения в 2006-2012 годах»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остановление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авительства РФ </a:t>
            </a:r>
            <a:br>
              <a:rPr sz="1600"/>
            </a:b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от 20 февраля 2006 г.,</a:t>
            </a:r>
            <a:r>
              <a:rPr b="1" lang="en-US" sz="16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№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2916360" y="4656240"/>
            <a:ext cx="3384360" cy="1079280"/>
          </a:xfrm>
          <a:prstGeom prst="roundRect">
            <a:avLst>
              <a:gd name="adj" fmla="val 16667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Программы «Повышения безопасности дорожного движения» в субъектах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900000" y="1549440"/>
            <a:ext cx="7488360" cy="21132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БОЛЕЕ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0 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ГИБШИХ В РЕЗУЛЬТАТЕ ТРАВМ, ПОЛУЧЕННЫХ В ДТП СОСТАВЛЯЮТ УМЕРШИЕ В ДОГОСПИТАЛЬНОМ ПЕРИ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========================================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ANd9GcRR1xJ_XgmAPGYvzVudehjE9BrgAuzdjn7pD0kEjHZasbfbZzEJ"/>
          <p:cNvPicPr/>
          <p:nvPr/>
        </p:nvPicPr>
        <p:blipFill>
          <a:blip r:embed="rId1"/>
          <a:stretch/>
        </p:blipFill>
        <p:spPr>
          <a:xfrm>
            <a:off x="3348000" y="400536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logo.jpg"/>
          <p:cNvPicPr/>
          <p:nvPr/>
        </p:nvPicPr>
        <p:blipFill>
          <a:blip r:embed="rId2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0"/>
          <p:cNvSpPr/>
          <p:nvPr/>
        </p:nvSpPr>
        <p:spPr>
          <a:xfrm>
            <a:off x="457200" y="121932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 flipV="1" rot="10800000">
            <a:off x="753840" y="2166480"/>
            <a:ext cx="7202520" cy="15570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Первая помощь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– это комплекс простейших мероприятий, которые выполняются на месте происшествия непосредственно после получения пострадавшим травмы или возникновения у него какого-либ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2"/>
          <p:cNvSpPr/>
          <p:nvPr/>
        </p:nvSpPr>
        <p:spPr>
          <a:xfrm>
            <a:off x="380880" y="189000"/>
            <a:ext cx="8548920" cy="71892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ажный и самый первый вид помощи на месте происшествия является первая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611280" y="256536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611280" y="4176720"/>
            <a:ext cx="228600" cy="15228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 flipV="1" rot="10800000">
            <a:off x="822240" y="3859560"/>
            <a:ext cx="7354800" cy="128268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714b"/>
                </a:solidFill>
                <a:latin typeface="Arial"/>
              </a:rPr>
              <a:t>Цель оказания первой помощи</a:t>
            </a:r>
            <a:r>
              <a:rPr b="1" lang="ru-RU" sz="1800" spc="-1" strike="noStrike">
                <a:solidFill>
                  <a:srgbClr val="25714b"/>
                </a:solidFill>
                <a:latin typeface="Arial"/>
              </a:rPr>
              <a:t> заключается в устранении и предупреждении развития состояний, которые могут угрожать жизни и здоровью пострадавших и окружающих до прибытия медицинско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1124280"/>
            <a:ext cx="8496360" cy="9471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требуется не менее чем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65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пострадавших в</a:t>
            </a:r>
            <a:r>
              <a:rPr b="0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ДТП </a:t>
            </a:r>
            <a:r>
              <a:rPr b="0" lang="ru-RU" sz="3200" spc="-1" strike="noStrike">
                <a:solidFill>
                  <a:srgbClr val="1b6b40"/>
                </a:solidFill>
                <a:latin typeface="Arial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Применительно к 2009 г. у 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185 000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3073320" cy="190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024000" cy="19130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0" descr="logo.jpg"/>
          <p:cNvPicPr/>
          <p:nvPr/>
        </p:nvPicPr>
        <p:blipFill>
          <a:blip r:embed="rId3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2"/>
          <p:cNvSpPr/>
          <p:nvPr/>
        </p:nvSpPr>
        <p:spPr>
          <a:xfrm>
            <a:off x="395280" y="115920"/>
            <a:ext cx="8548560" cy="7920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ПОЛНЕНИЕ МЕРОПРИЯТИЙ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О ДАННЫМ РАЗНЫХ АВТОР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95280" y="2131560"/>
            <a:ext cx="8496360" cy="1557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Ы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сотрудниками ДПС 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2,0%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в порядке само- и взаимопомощи </a:t>
            </a:r>
            <a:r>
              <a:rPr b="1" lang="ru-RU" sz="2400" spc="-1" strike="noStrike">
                <a:solidFill>
                  <a:srgbClr val="1b6b4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870000"/>
                </a:solidFill>
                <a:latin typeface="Arial"/>
                <a:ea typeface="Arial"/>
              </a:rPr>
              <a:t>не более 8,0 %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468360" y="907920"/>
            <a:ext cx="8278920" cy="1873440"/>
          </a:xfrm>
          <a:prstGeom prst="roundRect">
            <a:avLst>
              <a:gd name="adj" fmla="val 856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ФЕДЕРАЛЬНЫЙ ЗАКОН РОССИЙСКОЙ ФЕДЕРАЦИИ ОТ 25 НОЯБРЯ 2009 Г. №267-ФЗ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ВНЕСЕНИИ ИЗМЕНЕНИЙ В ОСНОВЫ ЗАКОНОДАТЕЛЬСТВА РОССИЙСКОЙ ФЕДЕРАЦИИ ОБ ОХРАНЕ ЗДОРОВЬЯ ГРАЖДАН И ОТДЕЛЬНЫЕ ЗАКОНОДАТЕЛЬНЫЕ АКТЫ </a:t>
            </a:r>
            <a:r>
              <a:rPr b="1" lang="en-US" sz="1100" spc="-1" strike="noStrike">
                <a:solidFill>
                  <a:srgbClr val="25714b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РОССИЙСКОЙ ФЕДЕРАЦИ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5546880" y="155736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8 ДЕКАБРЯ 200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611280" y="1897200"/>
            <a:ext cx="7996320" cy="733320"/>
          </a:xfrm>
          <a:prstGeom prst="rect">
            <a:avLst/>
          </a:prstGeom>
          <a:solidFill>
            <a:srgbClr val="1b6b40"/>
          </a:solidFill>
          <a:ln w="9360">
            <a:solidFill>
              <a:srgbClr val="1b6b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«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Статья 19. Оказание первой помощи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Первая помощь оказывается гражданам Российской Федерации и иным лицам, находящимся на ее территории, до оказания медицинской помощи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f59e085591d835badd32a82dd9936ef"/>
          <p:cNvPicPr/>
          <p:nvPr/>
        </p:nvPicPr>
        <p:blipFill>
          <a:blip r:embed="rId1"/>
          <a:stretch/>
        </p:blipFill>
        <p:spPr>
          <a:xfrm>
            <a:off x="1332000" y="4437000"/>
            <a:ext cx="2124000" cy="159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niv_s"/>
          <p:cNvPicPr/>
          <p:nvPr/>
        </p:nvPicPr>
        <p:blipFill>
          <a:blip r:embed="rId2"/>
          <a:stretch/>
        </p:blipFill>
        <p:spPr>
          <a:xfrm>
            <a:off x="4067280" y="4473720"/>
            <a:ext cx="1904760" cy="149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257640123_4707"/>
          <p:cNvPicPr/>
          <p:nvPr/>
        </p:nvPicPr>
        <p:blipFill>
          <a:blip r:embed="rId3"/>
          <a:stretch/>
        </p:blipFill>
        <p:spPr>
          <a:xfrm>
            <a:off x="6516720" y="4459320"/>
            <a:ext cx="1908000" cy="15717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3"/>
          <p:cNvSpPr/>
          <p:nvPr/>
        </p:nvSpPr>
        <p:spPr>
          <a:xfrm>
            <a:off x="457200" y="141120"/>
            <a:ext cx="8229600" cy="63360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УЮЩАЯ НОМАТИВНО-ПРАВОВАЯ БАЗА В ЧАСТИ ОКАЗАНИЯ ПЕРВОЙ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468360" y="2924280"/>
            <a:ext cx="8278920" cy="504720"/>
          </a:xfrm>
          <a:prstGeom prst="roundRect">
            <a:avLst>
              <a:gd name="adj" fmla="val 24213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МИНИСТЕРСТВА ЗДРАВООХРАНЕНИЯ И СОЦИАЛЬНОГО РАЗВИТИЯ РОССИЙСКОЙ ФЕДЕРАЦИИ №353Н ОТ 17.05.2010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 ПЕРВОЙ ПОМОЩ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468360" y="3571920"/>
            <a:ext cx="8278920" cy="865080"/>
          </a:xfrm>
          <a:prstGeom prst="roundRect">
            <a:avLst>
              <a:gd name="adj" fmla="val 17250"/>
            </a:avLst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c0000"/>
                </a:solidFill>
                <a:latin typeface="Arial"/>
              </a:rPr>
              <a:t>ПРИКАЗ   МИНИСТЕРСТВА ЗДРАВООХРАНЕНИЯ И СОЦИАЛЬНОГО РАЗВИТИЯ РОССИЙСКОЙ ФЕДЕРАЦИИ ОТ 8 СЕНТЯБРЯ 2009 Г. N 697Н </a:t>
            </a:r>
            <a:r>
              <a:rPr b="1" lang="ru-RU" sz="1100" spc="-1" strike="noStrike">
                <a:solidFill>
                  <a:srgbClr val="25714b"/>
                </a:solidFill>
                <a:latin typeface="Arial"/>
              </a:rPr>
              <a:t>«ОБ ИЗМЕНЕНИИ СОСТАВА АПТЕЧКИ ПЕРВОЙ ПОМОЩИ (АВТОМОБИЛЬНОЙ)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543640" y="4076640"/>
            <a:ext cx="3060720" cy="274680"/>
          </a:xfrm>
          <a:prstGeom prst="rect">
            <a:avLst/>
          </a:prstGeom>
          <a:solidFill>
            <a:srgbClr val="8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СТУПИЛ В СИЛУ: 1 ИЮЛЯ 201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0" descr="logo.jpg"/>
          <p:cNvPicPr/>
          <p:nvPr/>
        </p:nvPicPr>
        <p:blipFill>
          <a:blip r:embed="rId1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2"/>
          <p:cNvSpPr/>
          <p:nvPr/>
        </p:nvSpPr>
        <p:spPr>
          <a:xfrm>
            <a:off x="380880" y="260280"/>
            <a:ext cx="8548920" cy="79236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ОДИЧЕСКОЕ ОБЕСПЕЧЕНИЕ ПРОЦЕССА ПОДГОТОВКИ ВОДИТЕЛЕЙ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71480" y="4292640"/>
            <a:ext cx="1496880" cy="187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8" name="Picture 11" descr=""/>
          <p:cNvPicPr/>
          <p:nvPr/>
        </p:nvPicPr>
        <p:blipFill>
          <a:blip r:embed="rId3"/>
          <a:stretch/>
        </p:blipFill>
        <p:spPr>
          <a:xfrm>
            <a:off x="3924360" y="4292640"/>
            <a:ext cx="1541520" cy="190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9" name="Picture 12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792080" cy="2216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AutoShape 50"/>
          <p:cNvSpPr/>
          <p:nvPr/>
        </p:nvSpPr>
        <p:spPr>
          <a:xfrm>
            <a:off x="395280" y="1197000"/>
            <a:ext cx="228600" cy="4802040"/>
          </a:xfrm>
          <a:custGeom>
            <a:avLst/>
            <a:gdLst>
              <a:gd name="textAreaLeft" fmla="*/ 22320 w 228600"/>
              <a:gd name="textAreaRight" fmla="*/ 206280 w 228600"/>
              <a:gd name="textAreaTop" fmla="*/ 22320 h 4802040"/>
              <a:gd name="textAreaBottom" fmla="*/ 4779720 h 4802040"/>
            </a:gdLst>
            <a:ahLst/>
            <a:rect l="textAreaLeft" t="textAreaTop" r="textAreaRight" b="textAreaBottom"/>
            <a:pathLst>
              <a:path w="21600" h="453057">
                <a:moveTo>
                  <a:pt x="7200" y="0"/>
                </a:moveTo>
                <a:arcTo wR="7200" hR="7200" stAng="16200000" swAng="-5400000"/>
                <a:lnTo>
                  <a:pt x="0" y="445857"/>
                </a:lnTo>
                <a:arcTo wR="7200" hR="7200" stAng="10800000" swAng="-5400000"/>
                <a:lnTo>
                  <a:pt x="14400" y="453057"/>
                </a:lnTo>
                <a:arcTo wR="7200" hR="7200" stAng="5400000" swAng="-5400000"/>
                <a:lnTo>
                  <a:pt x="21600" y="7200"/>
                </a:lnTo>
                <a:arcTo wR="7200" hR="7200" stAng="0" swAng="-5400000"/>
                <a:close/>
              </a:path>
            </a:pathLst>
          </a:cu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92000" y="1197000"/>
            <a:ext cx="8172720" cy="106740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5714b"/>
                </a:solidFill>
                <a:latin typeface="Arial"/>
              </a:rPr>
              <a:t>В 2009 году подготовлен и издан учебно-методический комплекс «Первая помощь» при ДТП для обучения водителей транспортных средств приёмам оказания первой помощи пострадавшим в результате дорожно-транспортных происшествий, включающ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536400" y="1271520"/>
            <a:ext cx="228600" cy="152640"/>
          </a:xfrm>
          <a:prstGeom prst="roundRect">
            <a:avLst>
              <a:gd name="adj" fmla="val 27083"/>
            </a:avLst>
          </a:prstGeom>
          <a:solidFill>
            <a:srgbClr val="25714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324000" y="666900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826920" y="2276640"/>
            <a:ext cx="8137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ую программу подготовки водителей транспортных средств, содержащую перечень знаний, практических навыков и манипуляций по первой помощ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-методическое пособие для преподавателей, обучающих водителей, приёмам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ик для водителей по  оказанию первой помощи пострадавшим при ДТ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Тестовые задания для водителей по  оказанию первой помощи пострадавшим при ДТП» с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Ситуационные задачи для водителей по оказанию первой медицинской помощи пострадавшим при ДТП» с примерными отве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57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714b"/>
                </a:solidFill>
                <a:latin typeface="Arial"/>
              </a:rPr>
              <a:t>Учебное пособие «Алгоритмы первой медицинской пострадавшим при ДТП для водител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3141720"/>
            <a:ext cx="7991280" cy="1364760"/>
          </a:xfrm>
          <a:prstGeom prst="rect">
            <a:avLst/>
          </a:prstGeom>
          <a:solidFill>
            <a:srgbClr val="dff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рамках ФЦП ПБДД в 2006-2012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В 2006-2009 гг. в соответствии с приказом от 19.03.2007 №178 «Об утверждении Табеля оснащения учебных центров приемам оказания первой помощи…» оснащено </a:t>
            </a:r>
            <a:r>
              <a:rPr b="1" lang="ru-RU" sz="2000" spc="-1" strike="noStrike">
                <a:solidFill>
                  <a:srgbClr val="870000"/>
                </a:solidFill>
                <a:latin typeface="Arial"/>
                <a:ea typeface="Arial"/>
              </a:rPr>
              <a:t>57</a:t>
            </a:r>
            <a:r>
              <a:rPr b="1" lang="ru-RU" sz="1800" spc="-1" strike="noStrike">
                <a:solidFill>
                  <a:srgbClr val="1b6b40"/>
                </a:solidFill>
                <a:latin typeface="Arial"/>
                <a:ea typeface="Arial"/>
              </a:rPr>
              <a:t> таки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first_aid2"/>
          <p:cNvPicPr/>
          <p:nvPr/>
        </p:nvPicPr>
        <p:blipFill>
          <a:blip r:embed="rId1"/>
          <a:stretch/>
        </p:blipFill>
        <p:spPr>
          <a:xfrm>
            <a:off x="684360" y="4581360"/>
            <a:ext cx="2016000" cy="147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Конечности с имитацией травм и ранений"/>
          <p:cNvPicPr/>
          <p:nvPr/>
        </p:nvPicPr>
        <p:blipFill>
          <a:blip r:embed="rId2"/>
          <a:stretch/>
        </p:blipFill>
        <p:spPr>
          <a:xfrm>
            <a:off x="5867280" y="4653000"/>
            <a:ext cx="237492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first_aid1"/>
          <p:cNvPicPr/>
          <p:nvPr/>
        </p:nvPicPr>
        <p:blipFill>
          <a:blip r:embed="rId3"/>
          <a:stretch/>
        </p:blipFill>
        <p:spPr>
          <a:xfrm>
            <a:off x="3492360" y="4610160"/>
            <a:ext cx="1619280" cy="160020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9"/>
          <p:cNvSpPr/>
          <p:nvPr/>
        </p:nvSpPr>
        <p:spPr>
          <a:xfrm flipH="1">
            <a:off x="926640" y="6286680"/>
            <a:ext cx="1800" cy="571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3"/>
          <p:cNvSpPr/>
          <p:nvPr/>
        </p:nvSpPr>
        <p:spPr>
          <a:xfrm>
            <a:off x="3071880" y="6286680"/>
            <a:ext cx="3571920" cy="571320"/>
          </a:xfrm>
          <a:prstGeom prst="rect">
            <a:avLst/>
          </a:prstGeom>
          <a:solidFill>
            <a:srgbClr val="1b6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6643800" y="6286680"/>
            <a:ext cx="71280" cy="571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10" descr="logo.jpg"/>
          <p:cNvPicPr/>
          <p:nvPr/>
        </p:nvPicPr>
        <p:blipFill>
          <a:blip r:embed="rId4"/>
          <a:stretch/>
        </p:blipFill>
        <p:spPr>
          <a:xfrm>
            <a:off x="1187280" y="6072120"/>
            <a:ext cx="1643400" cy="7416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2"/>
          <p:cNvSpPr/>
          <p:nvPr/>
        </p:nvSpPr>
        <p:spPr>
          <a:xfrm>
            <a:off x="250920" y="115920"/>
            <a:ext cx="8548560" cy="649080"/>
          </a:xfrm>
          <a:prstGeom prst="rect">
            <a:avLst/>
          </a:prstGeom>
          <a:solidFill>
            <a:srgbClr val="257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ЕНИЕ ПРИЕМАМ И НАВЫКАМ ОКАЗАНИЯ ПЕРВ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836640"/>
          <a:ext cx="8026200" cy="2193840"/>
        </p:xfrm>
        <a:graphic>
          <a:graphicData uri="http://schemas.openxmlformats.org/drawingml/2006/table">
            <a:tbl>
              <a:tblPr/>
              <a:tblGrid>
                <a:gridCol w="2463840"/>
                <a:gridCol w="2705040"/>
                <a:gridCol w="2857320"/>
              </a:tblGrid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Количество созданных учебных центров в субъектах 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1872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</a:t>
                      </a:r>
                      <a:r>
                        <a:rPr b="0" lang="ru-RU" sz="1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в ТЦМК на 01.01.10г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 Cyr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e7847"/>
                          </a:solidFill>
                          <a:latin typeface="Arial"/>
                          <a:ea typeface="Arial Cyr"/>
                        </a:rPr>
                        <a:t>созданных на базе ССМП, ОГУЗ ОКБ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5760">
                      <a:solidFill>
                        <a:srgbClr val="1b6b40"/>
                      </a:solidFill>
                    </a:lnB>
                    <a:solidFill>
                      <a:srgbClr val="dff1cb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576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70000"/>
                          </a:solidFill>
                          <a:latin typeface="Arial"/>
                          <a:ea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b6b40"/>
                      </a:solidFill>
                    </a:lnL>
                    <a:lnR w="18720">
                      <a:solidFill>
                        <a:srgbClr val="1b6b40"/>
                      </a:solidFill>
                    </a:lnR>
                    <a:lnT w="5760">
                      <a:solidFill>
                        <a:srgbClr val="1b6b40"/>
                      </a:solidFill>
                    </a:lnT>
                    <a:lnB w="18720">
                      <a:solidFill>
                        <a:srgbClr val="1b6b4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5:42:23Z</dcterms:created>
  <dc:creator>user</dc:creator>
  <dc:description/>
  <dc:language>en-US</dc:language>
  <cp:lastModifiedBy>LEGION</cp:lastModifiedBy>
  <dcterms:modified xsi:type="dcterms:W3CDTF">2015-05-12T08:45:22Z</dcterms:modified>
  <cp:revision>17</cp:revision>
  <dc:subject/>
  <dc:title>Слайд 1</dc:title>
</cp:coreProperties>
</file>