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54E3-F57E-437E-92F3-036EBD04A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3E09-6A01-4411-A03E-3675AAB0F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736E-B9D6-47F4-880C-134C9D95C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C7FA-6168-41BC-90CB-E2DC5889D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6E7F-EE8F-42F7-BCF1-F8E9F368C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3AA5-F9C5-4C6E-8A4F-074DB1C1F3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200"/>
            </a:b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75C8-ABAB-4E0F-A434-A0B8B2C41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Ы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ШЕНИЕ КАЧЕСТВА ПОДГОТОВКИ ВОДИТЕЛЕ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B6E0-560B-4C86-BCE0-C59B3544C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9E26-8EC9-4973-923D-511FA6425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о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29 декабря 2007 г., № 1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12 августа 2008г., № 596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8A5E-B4A4-4D12-99D0-857EB3C23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5FE-4D9F-47E5-B43E-926488E7B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2D65-76BC-4D87-AB76-59FE4B33A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0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27A9-251C-44EF-A1CC-673AA537A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606-E51A-4A14-BBF3-4ECD9083C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49F5-4F73-4A9B-ADC7-193331BD6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14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486C-883E-40EC-B5E1-A95AD72C2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28A-12E7-4587-9380-DD349B47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619-6B8F-4746-BE60-B4D0D2DC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A5D-F465-4292-A5FB-57BE8C94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070-3950-424F-9043-1F7921B1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786-F8C2-4E6B-95EF-906D1D6F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097-F524-4CDB-8485-EDFB0CD3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B42-8F34-4FE4-A7DE-A6462D8B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3D1-2FC3-4D49-893F-41E15DDF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A45-9521-45F6-AAA8-B57027F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776-5369-41B5-97ED-E0F03AF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B0D-5723-4AA4-97C9-7B3F5E2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2C9-2661-40C6-9BC2-16360DC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23AD-2A04-416A-9896-6E7C5F993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21region.org/uploads/posts/2009-07/1247496737_avariya-big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33440" y="2286000"/>
            <a:ext cx="7307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6443640" y="6357960"/>
            <a:ext cx="19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9"/>
          <p:cNvSpPr/>
          <p:nvPr/>
        </p:nvSpPr>
        <p:spPr>
          <a:xfrm flipH="1">
            <a:off x="456840" y="2286000"/>
            <a:ext cx="11160" cy="3860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5505480"/>
            <a:ext cx="84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А. Шув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50920" y="4998960"/>
            <a:ext cx="5329440" cy="107820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bab397a8dc3f"/>
          <p:cNvPicPr/>
          <p:nvPr/>
        </p:nvPicPr>
        <p:blipFill>
          <a:blip r:embed="rId1"/>
          <a:stretch/>
        </p:blipFill>
        <p:spPr>
          <a:xfrm>
            <a:off x="106200" y="4869000"/>
            <a:ext cx="1729080" cy="1296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49400"/>
          <a:ext cx="8569080" cy="385128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792000"/>
                <a:gridCol w="1081080"/>
                <a:gridCol w="1224000"/>
                <a:gridCol w="19447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Федеральные о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 во субъектов РФ в Федеральных окр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в ТЦМК на 01.01.10г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во учебных центров, получивших лиценз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Кавка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5516640"/>
            <a:ext cx="8424720" cy="337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мечание * -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от общего количества обученных лиц в учеб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2200" y="1042920"/>
          <a:ext cx="8642520" cy="4267440"/>
        </p:xfrm>
        <a:graphic>
          <a:graphicData uri="http://schemas.openxmlformats.org/drawingml/2006/table">
            <a:tbl>
              <a:tblPr/>
              <a:tblGrid>
                <a:gridCol w="2025720"/>
                <a:gridCol w="936720"/>
                <a:gridCol w="1150920"/>
                <a:gridCol w="1152360"/>
                <a:gridCol w="1152720"/>
                <a:gridCol w="1079280"/>
                <a:gridCol w="1144800"/>
              </a:tblGrid>
              <a:tr h="274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3%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амб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70280" y="36936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3498840"/>
            <a:ext cx="8497800" cy="576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2"/>
          <p:cNvSpPr/>
          <p:nvPr/>
        </p:nvSpPr>
        <p:spPr>
          <a:xfrm>
            <a:off x="380880" y="115920"/>
            <a:ext cx="8548920" cy="5047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765000"/>
          <a:ext cx="8497800" cy="2338560"/>
        </p:xfrm>
        <a:graphic>
          <a:graphicData uri="http://schemas.openxmlformats.org/drawingml/2006/table">
            <a:tbl>
              <a:tblPr/>
              <a:tblGrid>
                <a:gridCol w="1773360"/>
                <a:gridCol w="1233360"/>
                <a:gridCol w="717480"/>
                <a:gridCol w="700200"/>
                <a:gridCol w="1528560"/>
                <a:gridCol w="1311480"/>
                <a:gridCol w="1233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ичество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 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за</a:t>
                      </a:r>
                      <a:r>
                        <a:rPr b="1" lang="ru-RU" sz="10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9 месяце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 по катего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9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47 </a:t>
                      </a: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984 </a:t>
                      </a: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0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82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5280" y="4219560"/>
          <a:ext cx="8497800" cy="1463760"/>
        </p:xfrm>
        <a:graphic>
          <a:graphicData uri="http://schemas.openxmlformats.org/drawingml/2006/table">
            <a:tbl>
              <a:tblPr/>
              <a:tblGrid>
                <a:gridCol w="2173320"/>
                <a:gridCol w="1871640"/>
                <a:gridCol w="2044800"/>
                <a:gridCol w="1220760"/>
                <a:gridCol w="1187280"/>
              </a:tblGrid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7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5 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9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4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0 669</a:t>
                      </a: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8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юменская обл.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2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1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5 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2"/>
          <p:cNvSpPr/>
          <p:nvPr/>
        </p:nvSpPr>
        <p:spPr>
          <a:xfrm>
            <a:off x="380880" y="260280"/>
            <a:ext cx="8548920" cy="1297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138560" y="1989000"/>
            <a:ext cx="4105440" cy="2376720"/>
          </a:xfrm>
          <a:prstGeom prst="roundRect">
            <a:avLst>
              <a:gd name="adj" fmla="val 915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3"/>
          <a:stretch/>
        </p:blipFill>
        <p:spPr>
          <a:xfrm>
            <a:off x="4356000" y="4869000"/>
            <a:ext cx="3635640" cy="170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2089080" cy="17542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250920" y="1467000"/>
            <a:ext cx="8458200" cy="1310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600"/>
            </a:b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0920" y="3141720"/>
            <a:ext cx="8497800" cy="9781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588000" y="4562640"/>
            <a:ext cx="25210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 Чебоксарах произошла авария с маршруткой, пятеро человек пострадал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4570560"/>
            <a:ext cx="2304720" cy="133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4508640"/>
            <a:ext cx="2484360" cy="1474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logo.jpg"/>
          <p:cNvPicPr/>
          <p:nvPr/>
        </p:nvPicPr>
        <p:blipFill>
          <a:blip r:embed="rId5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2"/>
          <p:cNvSpPr/>
          <p:nvPr/>
        </p:nvSpPr>
        <p:spPr>
          <a:xfrm>
            <a:off x="179280" y="115920"/>
            <a:ext cx="854892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2"/>
          <p:cNvSpPr/>
          <p:nvPr/>
        </p:nvSpPr>
        <p:spPr>
          <a:xfrm>
            <a:off x="380880" y="260280"/>
            <a:ext cx="8548920" cy="1224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КАЧЕСТВА ПОДГОТОВКИ ВОДИТЕЛЕЙ ПО ОКАЗАНИЮ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84360" y="2276640"/>
            <a:ext cx="3816360" cy="230472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4716360" y="1628640"/>
            <a:ext cx="4103640" cy="432144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4321440"/>
              <a:gd name="textAreaBottom" fmla="*/ 4121280 h 4321440"/>
            </a:gdLst>
            <a:ahLst/>
            <a:rect l="textAreaLeft" t="textAreaTop" r="textAreaRight" b="textAreaBottom"/>
            <a:pathLst>
              <a:path w="21600" h="22746">
                <a:moveTo>
                  <a:pt x="3600" y="0"/>
                </a:moveTo>
                <a:arcTo wR="3600" hR="3600" stAng="16200000" swAng="-5400000"/>
                <a:lnTo>
                  <a:pt x="0" y="19146"/>
                </a:lnTo>
                <a:arcTo wR="3600" hR="3600" stAng="10800000" swAng="-5400000"/>
                <a:lnTo>
                  <a:pt x="18000" y="22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1"/>
          <p:cNvSpPr/>
          <p:nvPr/>
        </p:nvSpPr>
        <p:spPr>
          <a:xfrm>
            <a:off x="762120" y="1052640"/>
            <a:ext cx="7842240" cy="41050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116000" y="2276640"/>
            <a:ext cx="338472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я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9 декабря 2007 г., № 101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12 августа 2008г., № 596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88000" y="2276640"/>
            <a:ext cx="338436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916360" y="4656240"/>
            <a:ext cx="3384360" cy="10792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549440"/>
            <a:ext cx="7488360" cy="21132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Nd9GcRR1xJ_XgmAPGYvzVudehjE9BrgAuzdjn7pD0kEjHZasbfbZzEJ"/>
          <p:cNvPicPr/>
          <p:nvPr/>
        </p:nvPicPr>
        <p:blipFill>
          <a:blip r:embed="rId1"/>
          <a:stretch/>
        </p:blipFill>
        <p:spPr>
          <a:xfrm>
            <a:off x="3348000" y="400536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0"/>
          <p:cNvSpPr/>
          <p:nvPr/>
        </p:nvSpPr>
        <p:spPr>
          <a:xfrm>
            <a:off x="457200" y="121932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 flipV="1" rot="10800000">
            <a:off x="753840" y="2166480"/>
            <a:ext cx="7202520" cy="15570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380880" y="189000"/>
            <a:ext cx="8548920" cy="7189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611280" y="256536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611280" y="417672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 flipV="1" rot="10800000">
            <a:off x="822240" y="3859560"/>
            <a:ext cx="7354800" cy="12826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124280"/>
            <a:ext cx="8496360" cy="9471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3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07332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logo.jpg"/>
          <p:cNvPicPr/>
          <p:nvPr/>
        </p:nvPicPr>
        <p:blipFill>
          <a:blip r:embed="rId3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2"/>
          <p:cNvSpPr/>
          <p:nvPr/>
        </p:nvSpPr>
        <p:spPr>
          <a:xfrm>
            <a:off x="39528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31560"/>
            <a:ext cx="8496360" cy="155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68360" y="907920"/>
            <a:ext cx="8278920" cy="1873440"/>
          </a:xfrm>
          <a:prstGeom prst="roundRect">
            <a:avLst>
              <a:gd name="adj" fmla="val 856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46880" y="155736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897200"/>
            <a:ext cx="7996320" cy="733320"/>
          </a:xfrm>
          <a:prstGeom prst="rect">
            <a:avLst/>
          </a:prstGeom>
          <a:solidFill>
            <a:srgbClr val="1b6b40"/>
          </a:solidFill>
          <a:ln w="93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f59e085591d835badd32a82dd9936ef"/>
          <p:cNvPicPr/>
          <p:nvPr/>
        </p:nvPicPr>
        <p:blipFill>
          <a:blip r:embed="rId1"/>
          <a:stretch/>
        </p:blipFill>
        <p:spPr>
          <a:xfrm>
            <a:off x="1332000" y="443700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niv_s"/>
          <p:cNvPicPr/>
          <p:nvPr/>
        </p:nvPicPr>
        <p:blipFill>
          <a:blip r:embed="rId2"/>
          <a:stretch/>
        </p:blipFill>
        <p:spPr>
          <a:xfrm>
            <a:off x="4067280" y="44737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57640123_4707"/>
          <p:cNvPicPr/>
          <p:nvPr/>
        </p:nvPicPr>
        <p:blipFill>
          <a:blip r:embed="rId3"/>
          <a:stretch/>
        </p:blipFill>
        <p:spPr>
          <a:xfrm>
            <a:off x="6516720" y="4459320"/>
            <a:ext cx="190800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457200" y="141120"/>
            <a:ext cx="8229600" cy="6336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468360" y="2924280"/>
            <a:ext cx="8278920" cy="504720"/>
          </a:xfrm>
          <a:prstGeom prst="roundRect">
            <a:avLst>
              <a:gd name="adj" fmla="val 24213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468360" y="3571920"/>
            <a:ext cx="8278920" cy="865080"/>
          </a:xfrm>
          <a:prstGeom prst="roundRect">
            <a:avLst>
              <a:gd name="adj" fmla="val 1725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543640" y="407664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1 ИЮЛЯ 201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71480" y="4292640"/>
            <a:ext cx="149688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3924360" y="4292640"/>
            <a:ext cx="1541520" cy="19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792080" cy="221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AutoShape 50"/>
          <p:cNvSpPr/>
          <p:nvPr/>
        </p:nvSpPr>
        <p:spPr>
          <a:xfrm>
            <a:off x="395280" y="119700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92000" y="1197000"/>
            <a:ext cx="8172720" cy="10674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" y="1271520"/>
            <a:ext cx="228600" cy="15264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" y="666900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826920" y="2276640"/>
            <a:ext cx="8137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3141720"/>
            <a:ext cx="7991280" cy="1364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20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first_aid2"/>
          <p:cNvPicPr/>
          <p:nvPr/>
        </p:nvPicPr>
        <p:blipFill>
          <a:blip r:embed="rId1"/>
          <a:stretch/>
        </p:blipFill>
        <p:spPr>
          <a:xfrm>
            <a:off x="684360" y="4581360"/>
            <a:ext cx="2016000" cy="14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онечности с имитацией травм и ранений"/>
          <p:cNvPicPr/>
          <p:nvPr/>
        </p:nvPicPr>
        <p:blipFill>
          <a:blip r:embed="rId2"/>
          <a:stretch/>
        </p:blipFill>
        <p:spPr>
          <a:xfrm>
            <a:off x="5867280" y="4653000"/>
            <a:ext cx="237492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irst_aid1"/>
          <p:cNvPicPr/>
          <p:nvPr/>
        </p:nvPicPr>
        <p:blipFill>
          <a:blip r:embed="rId3"/>
          <a:stretch/>
        </p:blipFill>
        <p:spPr>
          <a:xfrm>
            <a:off x="3492360" y="4610160"/>
            <a:ext cx="161928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2"/>
          <p:cNvSpPr/>
          <p:nvPr/>
        </p:nvSpPr>
        <p:spPr>
          <a:xfrm>
            <a:off x="250920" y="115920"/>
            <a:ext cx="8548560" cy="649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836640"/>
          <a:ext cx="8026200" cy="2193840"/>
        </p:xfrm>
        <a:graphic>
          <a:graphicData uri="http://schemas.openxmlformats.org/drawingml/2006/table">
            <a:tbl>
              <a:tblPr/>
              <a:tblGrid>
                <a:gridCol w="2463840"/>
                <a:gridCol w="2705040"/>
                <a:gridCol w="285732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Количество созданных учебных центров в субъектах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1872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</a:t>
                      </a:r>
                      <a:r>
                        <a:rPr b="0" lang="ru-RU" sz="1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ЦМК на 01.01.10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2:23Z</dcterms:created>
  <dc:creator>user</dc:creator>
  <dc:description/>
  <dc:language>en-US</dc:language>
  <cp:lastModifiedBy>LEGION</cp:lastModifiedBy>
  <dcterms:modified xsi:type="dcterms:W3CDTF">2015-05-12T08:45:22Z</dcterms:modified>
  <cp:revision>17</cp:revision>
  <dc:subject/>
  <dc:title>Слайд 1</dc:title>
</cp:coreProperties>
</file>